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3.gif" ContentType="image/gif"/>
  <Override PartName="/ppt/media/image16.gif" ContentType="image/gif"/>
  <Override PartName="/ppt/media/image14.png" ContentType="image/png"/>
  <Override PartName="/ppt/media/image1.png" ContentType="image/png"/>
  <Override PartName="/ppt/media/image3.jpeg" ContentType="image/jpeg"/>
  <Override PartName="/ppt/media/image6.jpeg" ContentType="image/jpeg"/>
  <Override PartName="/ppt/media/image4.jpeg" ContentType="image/jpeg"/>
  <Override PartName="/ppt/media/suction.wav" ContentType="audio/x-wav"/>
  <Override PartName="/ppt/media/image2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9A9-8270-43AF-BA35-5F92718F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0553-5AB3-4787-BBA6-6F3DACC9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CFF-829B-42A2-8E91-F859E045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9B3-50B6-408F-9D0A-5A01A364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CA7B-13DA-4395-9D59-B1508EBB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8185-8C65-47F6-9193-A93A3E90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FB28-9AF3-48FF-89B6-F2CEDD76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FA47-B0AF-40FD-A9C4-A24E67DA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5036-5428-47FB-B9F2-8D55EBA9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2BE6-C03B-4233-832D-D199CCBF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C105-D0B4-4109-B9DB-D0A8608E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CC3-74E6-42B9-9D9A-793611D3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BE81-4650-4505-90D7-E7000EE3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3684-ED13-4A5E-9F6A-60FBB7EF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890F-C004-43FE-82E0-7A4242A6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174B-01D5-4ABE-A74F-D2DE3B2D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582A-04A2-450C-9A65-B85FB5EB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FC8-481A-490F-B3D4-FB03E9B5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8AC-0FF9-4865-9265-6B2ED203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DD1-F12E-46E8-8270-326569D5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5D5-901C-438A-8B75-A231C568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A30-20DD-442C-9E59-5D0DC16A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772-4BE7-4149-B47B-2F76AFF0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BB29-E764-488D-BE49-7BEA063E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CCDC-43CC-4EBD-A4AE-620BB9605418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6A3B-5BF5-4614-9B02-E2DBD7C68385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slide19.xml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" Target="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19280" y="4653000"/>
            <a:ext cx="782640" cy="151272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878040" y="-415800"/>
            <a:ext cx="4796640" cy="6581160"/>
            <a:chOff x="878040" y="-415800"/>
            <a:chExt cx="4796640" cy="6581160"/>
          </a:xfrm>
        </p:grpSpPr>
        <p:sp>
          <p:nvSpPr>
            <p:cNvPr id="87" name=""/>
            <p:cNvSpPr/>
            <p:nvPr/>
          </p:nvSpPr>
          <p:spPr>
            <a:xfrm rot="20886000">
              <a:off x="1115640" y="0"/>
              <a:ext cx="4321080" cy="2757240"/>
            </a:xfrm>
            <a:custGeom>
              <a:avLst/>
              <a:gdLst/>
              <a:ahLst/>
              <a:rect l="l" t="t" r="r" b="b"/>
              <a:pathLst>
                <a:path w="3385" h="1433">
                  <a:moveTo>
                    <a:pt x="9" y="569"/>
                  </a:moveTo>
                  <a:cubicBezTo>
                    <a:pt x="23" y="526"/>
                    <a:pt x="55" y="533"/>
                    <a:pt x="99" y="506"/>
                  </a:cubicBezTo>
                  <a:cubicBezTo>
                    <a:pt x="173" y="460"/>
                    <a:pt x="247" y="415"/>
                    <a:pt x="333" y="398"/>
                  </a:cubicBezTo>
                  <a:cubicBezTo>
                    <a:pt x="342" y="392"/>
                    <a:pt x="350" y="384"/>
                    <a:pt x="360" y="380"/>
                  </a:cubicBezTo>
                  <a:cubicBezTo>
                    <a:pt x="377" y="372"/>
                    <a:pt x="414" y="362"/>
                    <a:pt x="414" y="362"/>
                  </a:cubicBezTo>
                  <a:cubicBezTo>
                    <a:pt x="449" y="363"/>
                    <a:pt x="841" y="382"/>
                    <a:pt x="945" y="362"/>
                  </a:cubicBezTo>
                  <a:cubicBezTo>
                    <a:pt x="954" y="360"/>
                    <a:pt x="948" y="342"/>
                    <a:pt x="954" y="335"/>
                  </a:cubicBezTo>
                  <a:cubicBezTo>
                    <a:pt x="967" y="319"/>
                    <a:pt x="990" y="314"/>
                    <a:pt x="1008" y="308"/>
                  </a:cubicBezTo>
                  <a:cubicBezTo>
                    <a:pt x="1023" y="262"/>
                    <a:pt x="1046" y="264"/>
                    <a:pt x="1080" y="236"/>
                  </a:cubicBezTo>
                  <a:cubicBezTo>
                    <a:pt x="1121" y="202"/>
                    <a:pt x="1159" y="166"/>
                    <a:pt x="1197" y="128"/>
                  </a:cubicBezTo>
                  <a:cubicBezTo>
                    <a:pt x="1208" y="117"/>
                    <a:pt x="1213" y="102"/>
                    <a:pt x="1224" y="92"/>
                  </a:cubicBezTo>
                  <a:cubicBezTo>
                    <a:pt x="1240" y="78"/>
                    <a:pt x="1278" y="56"/>
                    <a:pt x="1278" y="56"/>
                  </a:cubicBezTo>
                  <a:cubicBezTo>
                    <a:pt x="1315" y="0"/>
                    <a:pt x="1369" y="23"/>
                    <a:pt x="1431" y="29"/>
                  </a:cubicBezTo>
                  <a:cubicBezTo>
                    <a:pt x="1522" y="66"/>
                    <a:pt x="1636" y="85"/>
                    <a:pt x="1719" y="137"/>
                  </a:cubicBezTo>
                  <a:cubicBezTo>
                    <a:pt x="1771" y="169"/>
                    <a:pt x="1814" y="222"/>
                    <a:pt x="1872" y="236"/>
                  </a:cubicBezTo>
                  <a:cubicBezTo>
                    <a:pt x="1924" y="288"/>
                    <a:pt x="1872" y="247"/>
                    <a:pt x="1971" y="272"/>
                  </a:cubicBezTo>
                  <a:cubicBezTo>
                    <a:pt x="2036" y="288"/>
                    <a:pt x="2085" y="323"/>
                    <a:pt x="2160" y="335"/>
                  </a:cubicBezTo>
                  <a:cubicBezTo>
                    <a:pt x="2223" y="366"/>
                    <a:pt x="2292" y="376"/>
                    <a:pt x="2358" y="398"/>
                  </a:cubicBezTo>
                  <a:cubicBezTo>
                    <a:pt x="2402" y="413"/>
                    <a:pt x="2439" y="425"/>
                    <a:pt x="2484" y="434"/>
                  </a:cubicBezTo>
                  <a:cubicBezTo>
                    <a:pt x="2540" y="462"/>
                    <a:pt x="2604" y="471"/>
                    <a:pt x="2655" y="497"/>
                  </a:cubicBezTo>
                  <a:cubicBezTo>
                    <a:pt x="2708" y="523"/>
                    <a:pt x="2750" y="563"/>
                    <a:pt x="2799" y="596"/>
                  </a:cubicBezTo>
                  <a:cubicBezTo>
                    <a:pt x="2834" y="649"/>
                    <a:pt x="2818" y="709"/>
                    <a:pt x="2799" y="767"/>
                  </a:cubicBezTo>
                  <a:cubicBezTo>
                    <a:pt x="2845" y="782"/>
                    <a:pt x="2887" y="794"/>
                    <a:pt x="2934" y="803"/>
                  </a:cubicBezTo>
                  <a:cubicBezTo>
                    <a:pt x="3011" y="849"/>
                    <a:pt x="3116" y="860"/>
                    <a:pt x="3204" y="866"/>
                  </a:cubicBezTo>
                  <a:cubicBezTo>
                    <a:pt x="3293" y="896"/>
                    <a:pt x="3240" y="878"/>
                    <a:pt x="3303" y="956"/>
                  </a:cubicBezTo>
                  <a:cubicBezTo>
                    <a:pt x="3315" y="992"/>
                    <a:pt x="3334" y="1016"/>
                    <a:pt x="3357" y="1046"/>
                  </a:cubicBezTo>
                  <a:cubicBezTo>
                    <a:pt x="3353" y="1143"/>
                    <a:pt x="3385" y="1319"/>
                    <a:pt x="3258" y="1361"/>
                  </a:cubicBezTo>
                  <a:cubicBezTo>
                    <a:pt x="3212" y="1407"/>
                    <a:pt x="3157" y="1418"/>
                    <a:pt x="3096" y="1433"/>
                  </a:cubicBezTo>
                  <a:cubicBezTo>
                    <a:pt x="3030" y="1430"/>
                    <a:pt x="2964" y="1429"/>
                    <a:pt x="2898" y="1424"/>
                  </a:cubicBezTo>
                  <a:cubicBezTo>
                    <a:pt x="2848" y="1420"/>
                    <a:pt x="2893" y="1410"/>
                    <a:pt x="2844" y="1388"/>
                  </a:cubicBezTo>
                  <a:cubicBezTo>
                    <a:pt x="2819" y="1377"/>
                    <a:pt x="2789" y="1379"/>
                    <a:pt x="2763" y="1370"/>
                  </a:cubicBezTo>
                  <a:cubicBezTo>
                    <a:pt x="2746" y="1353"/>
                    <a:pt x="2736" y="1331"/>
                    <a:pt x="2718" y="1316"/>
                  </a:cubicBezTo>
                  <a:cubicBezTo>
                    <a:pt x="2676" y="1279"/>
                    <a:pt x="2639" y="1276"/>
                    <a:pt x="2592" y="1253"/>
                  </a:cubicBezTo>
                  <a:cubicBezTo>
                    <a:pt x="2575" y="1244"/>
                    <a:pt x="2530" y="1209"/>
                    <a:pt x="2511" y="1208"/>
                  </a:cubicBezTo>
                  <a:cubicBezTo>
                    <a:pt x="2343" y="1199"/>
                    <a:pt x="2175" y="1202"/>
                    <a:pt x="2007" y="1199"/>
                  </a:cubicBezTo>
                  <a:cubicBezTo>
                    <a:pt x="1909" y="1179"/>
                    <a:pt x="1818" y="1130"/>
                    <a:pt x="1719" y="1118"/>
                  </a:cubicBezTo>
                  <a:cubicBezTo>
                    <a:pt x="1595" y="1103"/>
                    <a:pt x="1469" y="1095"/>
                    <a:pt x="1350" y="1055"/>
                  </a:cubicBezTo>
                  <a:cubicBezTo>
                    <a:pt x="1281" y="1067"/>
                    <a:pt x="1212" y="1081"/>
                    <a:pt x="1143" y="1091"/>
                  </a:cubicBezTo>
                  <a:cubicBezTo>
                    <a:pt x="1040" y="1125"/>
                    <a:pt x="924" y="1098"/>
                    <a:pt x="819" y="1091"/>
                  </a:cubicBezTo>
                  <a:cubicBezTo>
                    <a:pt x="756" y="1075"/>
                    <a:pt x="806" y="1096"/>
                    <a:pt x="756" y="1046"/>
                  </a:cubicBezTo>
                  <a:cubicBezTo>
                    <a:pt x="743" y="1033"/>
                    <a:pt x="675" y="989"/>
                    <a:pt x="666" y="983"/>
                  </a:cubicBezTo>
                  <a:cubicBezTo>
                    <a:pt x="657" y="977"/>
                    <a:pt x="648" y="971"/>
                    <a:pt x="639" y="965"/>
                  </a:cubicBezTo>
                  <a:cubicBezTo>
                    <a:pt x="630" y="959"/>
                    <a:pt x="612" y="947"/>
                    <a:pt x="612" y="947"/>
                  </a:cubicBezTo>
                  <a:cubicBezTo>
                    <a:pt x="550" y="854"/>
                    <a:pt x="400" y="820"/>
                    <a:pt x="297" y="803"/>
                  </a:cubicBezTo>
                  <a:cubicBezTo>
                    <a:pt x="251" y="772"/>
                    <a:pt x="201" y="773"/>
                    <a:pt x="153" y="749"/>
                  </a:cubicBezTo>
                  <a:cubicBezTo>
                    <a:pt x="109" y="727"/>
                    <a:pt x="144" y="733"/>
                    <a:pt x="99" y="722"/>
                  </a:cubicBezTo>
                  <a:cubicBezTo>
                    <a:pt x="58" y="712"/>
                    <a:pt x="35" y="709"/>
                    <a:pt x="0" y="686"/>
                  </a:cubicBezTo>
                  <a:cubicBezTo>
                    <a:pt x="0" y="685"/>
                    <a:pt x="14" y="610"/>
                    <a:pt x="18" y="605"/>
                  </a:cubicBezTo>
                  <a:cubicBezTo>
                    <a:pt x="34" y="582"/>
                    <a:pt x="108" y="570"/>
                    <a:pt x="108" y="551"/>
                  </a:cubicBezTo>
                  <a:lnTo>
                    <a:pt x="9" y="56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971640" y="2352960"/>
              <a:ext cx="1009440" cy="38124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618920" y="2270520"/>
              <a:ext cx="1009800" cy="38124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1908360" y="2190240"/>
              <a:ext cx="1009440" cy="381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332000" y="2270520"/>
              <a:ext cx="1009440" cy="38124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95640" y="2190240"/>
              <a:ext cx="1009440" cy="381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700000" y="2190240"/>
              <a:ext cx="1009800" cy="381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411640" y="2270520"/>
              <a:ext cx="1009440" cy="38124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986200" y="2190240"/>
              <a:ext cx="1009440" cy="381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347640" y="2109600"/>
              <a:ext cx="1009800" cy="38124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8964720" y="-1035000"/>
            <a:ext cx="5916600" cy="2748240"/>
            <a:chOff x="8964720" y="-1035000"/>
            <a:chExt cx="5916600" cy="2748240"/>
          </a:xfrm>
        </p:grpSpPr>
        <p:grpSp>
          <p:nvGrpSpPr>
            <p:cNvPr id="98" name=""/>
            <p:cNvGrpSpPr/>
            <p:nvPr/>
          </p:nvGrpSpPr>
          <p:grpSpPr>
            <a:xfrm>
              <a:off x="8964720" y="-1035000"/>
              <a:ext cx="5916600" cy="2748240"/>
              <a:chOff x="8964720" y="-1035000"/>
              <a:chExt cx="5916600" cy="2748240"/>
            </a:xfrm>
          </p:grpSpPr>
          <p:sp>
            <p:nvSpPr>
              <p:cNvPr id="99" name=""/>
              <p:cNvSpPr/>
              <p:nvPr/>
            </p:nvSpPr>
            <p:spPr>
              <a:xfrm>
                <a:off x="8964720" y="-1035000"/>
                <a:ext cx="5916600" cy="2160360"/>
              </a:xfrm>
              <a:custGeom>
                <a:avLst/>
                <a:gdLst/>
                <a:ahLst/>
                <a:rect l="l" t="t" r="r" b="b"/>
                <a:pathLst>
                  <a:path w="5012" h="1361">
                    <a:moveTo>
                      <a:pt x="151" y="772"/>
                    </a:moveTo>
                    <a:cubicBezTo>
                      <a:pt x="75" y="711"/>
                      <a:pt x="0" y="650"/>
                      <a:pt x="242" y="635"/>
                    </a:cubicBezTo>
                    <a:cubicBezTo>
                      <a:pt x="484" y="620"/>
                      <a:pt x="1029" y="658"/>
                      <a:pt x="1603" y="681"/>
                    </a:cubicBezTo>
                    <a:cubicBezTo>
                      <a:pt x="2177" y="704"/>
                      <a:pt x="3288" y="825"/>
                      <a:pt x="3689" y="772"/>
                    </a:cubicBezTo>
                    <a:cubicBezTo>
                      <a:pt x="4090" y="719"/>
                      <a:pt x="3924" y="476"/>
                      <a:pt x="4007" y="363"/>
                    </a:cubicBezTo>
                    <a:cubicBezTo>
                      <a:pt x="4090" y="250"/>
                      <a:pt x="4135" y="0"/>
                      <a:pt x="4188" y="91"/>
                    </a:cubicBezTo>
                    <a:cubicBezTo>
                      <a:pt x="4241" y="182"/>
                      <a:pt x="4271" y="764"/>
                      <a:pt x="4324" y="908"/>
                    </a:cubicBezTo>
                    <a:cubicBezTo>
                      <a:pt x="4377" y="1052"/>
                      <a:pt x="4476" y="916"/>
                      <a:pt x="4506" y="953"/>
                    </a:cubicBezTo>
                    <a:cubicBezTo>
                      <a:pt x="4536" y="990"/>
                      <a:pt x="5012" y="1066"/>
                      <a:pt x="4506" y="1134"/>
                    </a:cubicBezTo>
                    <a:cubicBezTo>
                      <a:pt x="4000" y="1202"/>
                      <a:pt x="1973" y="1323"/>
                      <a:pt x="1467" y="1361"/>
                    </a:cubicBezTo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fd032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92800">
                <a:off x="9107640" y="263160"/>
                <a:ext cx="1657440" cy="933120"/>
              </a:xfrm>
              <a:custGeom>
                <a:avLst/>
                <a:gdLst/>
                <a:ahLst/>
                <a:rect l="l" t="t" r="r" b="b"/>
                <a:pathLst>
                  <a:path w="998" h="741">
                    <a:moveTo>
                      <a:pt x="998" y="635"/>
                    </a:moveTo>
                    <a:cubicBezTo>
                      <a:pt x="809" y="688"/>
                      <a:pt x="620" y="741"/>
                      <a:pt x="454" y="635"/>
                    </a:cubicBezTo>
                    <a:cubicBezTo>
                      <a:pt x="288" y="529"/>
                      <a:pt x="76" y="106"/>
                      <a:pt x="0" y="0"/>
                    </a:cubicBezTo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fd032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10200">
                <a:off x="11988720" y="609480"/>
                <a:ext cx="1931760" cy="1018800"/>
              </a:xfrm>
              <a:custGeom>
                <a:avLst/>
                <a:gdLst/>
                <a:ahLst/>
                <a:rect l="l" t="t" r="r" b="b"/>
                <a:pathLst>
                  <a:path w="1217" h="642">
                    <a:moveTo>
                      <a:pt x="0" y="75"/>
                    </a:moveTo>
                    <a:cubicBezTo>
                      <a:pt x="400" y="290"/>
                      <a:pt x="801" y="506"/>
                      <a:pt x="998" y="574"/>
                    </a:cubicBezTo>
                    <a:cubicBezTo>
                      <a:pt x="1195" y="642"/>
                      <a:pt x="1217" y="566"/>
                      <a:pt x="1179" y="483"/>
                    </a:cubicBezTo>
                    <a:cubicBezTo>
                      <a:pt x="1141" y="400"/>
                      <a:pt x="847" y="150"/>
                      <a:pt x="771" y="75"/>
                    </a:cubicBezTo>
                    <a:cubicBezTo>
                      <a:pt x="695" y="0"/>
                      <a:pt x="710" y="15"/>
                      <a:pt x="725" y="30"/>
                    </a:cubicBezTo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fd032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253800" y="331560"/>
                <a:ext cx="4967280" cy="360000"/>
              </a:xfrm>
              <a:prstGeom prst="line">
                <a:avLst/>
              </a:prstGeom>
              <a:ln w="93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253800" y="404640"/>
                <a:ext cx="4967280" cy="360000"/>
              </a:xfrm>
              <a:prstGeom prst="line">
                <a:avLst/>
              </a:prstGeom>
              <a:ln w="93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188720" y="188640"/>
                <a:ext cx="360360" cy="144000"/>
              </a:xfrm>
              <a:prstGeom prst="rect">
                <a:avLst/>
              </a:prstGeom>
              <a:noFill/>
              <a:ln w="9360">
                <a:solidFill>
                  <a:srgbClr val="fd03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123640" y="188640"/>
                <a:ext cx="360360" cy="144000"/>
              </a:xfrm>
              <a:prstGeom prst="rect">
                <a:avLst/>
              </a:prstGeom>
              <a:noFill/>
              <a:ln w="9360">
                <a:solidFill>
                  <a:srgbClr val="fd03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692000" y="188640"/>
                <a:ext cx="360360" cy="144000"/>
              </a:xfrm>
              <a:prstGeom prst="rect">
                <a:avLst/>
              </a:prstGeom>
              <a:noFill/>
              <a:ln w="9360">
                <a:solidFill>
                  <a:srgbClr val="fd03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1555640" y="188640"/>
                <a:ext cx="360360" cy="144000"/>
              </a:xfrm>
              <a:prstGeom prst="rect">
                <a:avLst/>
              </a:prstGeom>
              <a:noFill/>
              <a:ln w="9360">
                <a:solidFill>
                  <a:srgbClr val="fd03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2276360" y="-171360"/>
                <a:ext cx="1079280" cy="360000"/>
              </a:xfrm>
              <a:custGeom>
                <a:avLst/>
                <a:gdLst/>
                <a:ahLst/>
                <a:rect l="l" t="t" r="r" b="b"/>
                <a:pathLst>
                  <a:path w="726" h="272">
                    <a:moveTo>
                      <a:pt x="0" y="272"/>
                    </a:moveTo>
                    <a:cubicBezTo>
                      <a:pt x="234" y="136"/>
                      <a:pt x="469" y="0"/>
                      <a:pt x="590" y="0"/>
                    </a:cubicBezTo>
                    <a:cubicBezTo>
                      <a:pt x="711" y="0"/>
                      <a:pt x="703" y="227"/>
                      <a:pt x="726" y="272"/>
                    </a:cubicBezTo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10260000" y="40464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纽约—北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animMotion origin="layout" path="M -0.35399 0.05764 C -0.39497 0.0787 -0.43507 0.10023 -0.48264 0.13402 C -0.53004 0.16782 -0.58559 0.18727 -0.63889 0.26018 C -0.69236 0.3331 -0.74201 0.4912 -0.8026 0.57106 C -0.8625 0.65092 -0.89896 0.70833 -1.00035 0.73981 C -1.10208 0.77176 -1.34167 0.75717 -1.41024 0.76018 E">
                                      <p:cBhvr>
                                        <p:cTn id="6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79360" y="460440"/>
            <a:ext cx="521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5050"/>
                </a:solidFill>
                <a:latin typeface="Times New Roman"/>
                <a:ea typeface="幼圆"/>
              </a:rPr>
              <a:t>阅读图</a:t>
            </a:r>
            <a:r>
              <a:rPr b="1" i="1" lang="zh-CN" sz="3600" spc="-1" strike="noStrike">
                <a:solidFill>
                  <a:srgbClr val="ff5050"/>
                </a:solidFill>
                <a:latin typeface="Times New Roman"/>
                <a:ea typeface="幼圆"/>
              </a:rPr>
              <a:t>2.13</a:t>
            </a:r>
            <a:r>
              <a:rPr b="1" i="1" lang="zh-CN" sz="3600" spc="-1" strike="noStrike">
                <a:solidFill>
                  <a:srgbClr val="ff5050"/>
                </a:solidFill>
                <a:latin typeface="Times New Roman"/>
                <a:ea typeface="幼圆"/>
              </a:rPr>
              <a:t>我国</a:t>
            </a:r>
            <a:r>
              <a:rPr b="1" i="1" lang="zh-CN" sz="3600" spc="-1" strike="noStrike">
                <a:solidFill>
                  <a:srgbClr val="ff5050"/>
                </a:solidFill>
                <a:latin typeface="Times New Roman"/>
                <a:ea typeface="幼圆"/>
              </a:rPr>
              <a:t>1</a:t>
            </a:r>
            <a:r>
              <a:rPr b="1" i="1" lang="zh-CN" sz="3600" spc="-1" strike="noStrike">
                <a:solidFill>
                  <a:srgbClr val="ff5050"/>
                </a:solidFill>
                <a:latin typeface="Times New Roman"/>
                <a:ea typeface="幼圆"/>
              </a:rPr>
              <a:t>月平均气温图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629400" y="4910040"/>
            <a:ext cx="2514600" cy="1947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907640" y="1254240"/>
            <a:ext cx="52268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图找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图中找出我国冬季气温最低的地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图中读出漠河与海口的一月平均气温各是多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计算两地温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图中找到并用笔描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度等温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Times New Roman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Times New Roman"/>
                <a:ea typeface="黑体"/>
              </a:rPr>
              <a:t>思考：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  <a:ea typeface="黑体"/>
              </a:rPr>
              <a:t>我国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  <a:ea typeface="黑体"/>
              </a:rPr>
              <a:t>月平均气温分布有何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Times New Roman"/>
                <a:ea typeface="黑体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Times New Roman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  <a:ea typeface="黑体"/>
              </a:rPr>
              <a:t>找出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  <a:ea typeface="黑体"/>
              </a:rPr>
              <a:t>月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  <a:ea typeface="黑体"/>
              </a:rPr>
              <a:t>0</a:t>
            </a:r>
            <a:r>
              <a:rPr b="1" lang="zh-CN" sz="2400" spc="-1" strike="noStrike">
                <a:solidFill>
                  <a:srgbClr val="006633"/>
                </a:solidFill>
                <a:latin typeface="Times New Roman"/>
              </a:rPr>
              <a:t>°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  <a:ea typeface="黑体"/>
              </a:rPr>
              <a:t>等温线经过哪些地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Times New Roman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  <a:ea typeface="黑体"/>
              </a:rPr>
              <a:t>对河流有什么影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1676520"/>
            <a:ext cx="73152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我国一月平均气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5486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ShockwaveFlash1"/>
          <p:cNvGraphicFramePr/>
          <p:nvPr/>
        </p:nvGraphicFramePr>
        <p:xfrm>
          <a:off x="914400" y="533520"/>
          <a:ext cx="729612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7296120" cy="5472000"/>
                  </a:xfrm>
                  <a:prstGeom prst="rect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4648320"/>
            <a:ext cx="114300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17680" y="8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600" y="457200"/>
            <a:ext cx="608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隶书"/>
                <a:ea typeface="隶书"/>
              </a:rPr>
              <a:t>阅读图</a:t>
            </a:r>
            <a:r>
              <a:rPr b="1" lang="zh-CN" sz="4400" spc="-1" strike="noStrike">
                <a:solidFill>
                  <a:srgbClr val="ff5050"/>
                </a:solidFill>
                <a:latin typeface="隶书"/>
                <a:ea typeface="隶书"/>
              </a:rPr>
              <a:t>2.14</a:t>
            </a:r>
            <a:r>
              <a:rPr b="1" lang="zh-CN" sz="4400" spc="-1" strike="noStrike">
                <a:solidFill>
                  <a:srgbClr val="ff5050"/>
                </a:solidFill>
                <a:latin typeface="隶书"/>
                <a:ea typeface="隶书"/>
              </a:rPr>
              <a:t>我国</a:t>
            </a:r>
            <a:r>
              <a:rPr b="1" lang="zh-CN" sz="4400" spc="-1" strike="noStrike">
                <a:solidFill>
                  <a:srgbClr val="ff5050"/>
                </a:solidFill>
                <a:latin typeface="隶书"/>
                <a:ea typeface="隶书"/>
              </a:rPr>
              <a:t>7</a:t>
            </a:r>
            <a:r>
              <a:rPr b="1" lang="zh-CN" sz="4400" spc="-1" strike="noStrike">
                <a:solidFill>
                  <a:srgbClr val="ff5050"/>
                </a:solidFill>
                <a:latin typeface="隶书"/>
                <a:ea typeface="隶书"/>
              </a:rPr>
              <a:t>月平均气温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18600" y="1676520"/>
            <a:ext cx="494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读图找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在图中找出漠河与海口的气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计算漠河与海口的气温差，并与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月温差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全国大多数地方（青藏高原除外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b812f"/>
                </a:solidFill>
                <a:latin typeface="Times New Roman"/>
              </a:rPr>
              <a:t>夏季气温普遍达到多少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6760" y="4203720"/>
            <a:ext cx="5610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找出我国夏季气温最低处在哪里？为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2 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阅读课本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2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页的“阅读材料”结合地图找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我国夏季气温最热的地方和冬季气温最冷的地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并分析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643880" y="0"/>
            <a:ext cx="1465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33360" y="1841040"/>
            <a:ext cx="510516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我国七月平均气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27" name="ShockwaveFlash1"/>
          <p:cNvGraphicFramePr/>
          <p:nvPr/>
        </p:nvGraphicFramePr>
        <p:xfrm>
          <a:off x="990720" y="304920"/>
          <a:ext cx="7542000" cy="56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920"/>
                    <a:ext cx="7542000" cy="5686200"/>
                  </a:xfrm>
                  <a:prstGeom prst="rect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43800" y="6019920"/>
            <a:ext cx="114300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0240" y="685800"/>
            <a:ext cx="59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阅读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33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页课文，找出我国温度带划分的依据和指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98920" y="1828800"/>
            <a:ext cx="54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812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3b812f"/>
                </a:solidFill>
                <a:latin typeface="Times New Roman"/>
              </a:rPr>
              <a:t>根据我国气温的南北差异，结合农业生产实际划分温度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2666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812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3b812f"/>
                </a:solidFill>
                <a:latin typeface="Times New Roman"/>
              </a:rPr>
              <a:t>活动积温是划分温度带的主要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06400" y="654120"/>
            <a:ext cx="54421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阅读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33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页图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2.15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我国温度带的划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温度带和高原气候区的名称，记住他们的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出暖温带和亚热带的分界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65720" y="36576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寒温带、中温带、暖温带、亚热带、热带和高原气候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10840" y="4842000"/>
            <a:ext cx="35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暖温带与亚热带的分界线是：秦岭—淮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8960" y="175212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中国温度带的划分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37" name="ShockwaveFlash1"/>
          <p:cNvGraphicFramePr/>
          <p:nvPr/>
        </p:nvGraphicFramePr>
        <p:xfrm>
          <a:off x="838080" y="304920"/>
          <a:ext cx="769644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7696440" cy="5790960"/>
                  </a:xfrm>
                  <a:prstGeom prst="rect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9" name="">
            <a:hlinkClick r:id="rId3" action="ppaction://hlinksldjump"/>
          </p:cNvPr>
          <p:cNvSpPr/>
          <p:nvPr/>
        </p:nvSpPr>
        <p:spPr>
          <a:xfrm>
            <a:off x="8229600" y="6248520"/>
            <a:ext cx="779400" cy="433440"/>
          </a:xfrm>
          <a:custGeom>
            <a:avLst/>
            <a:gdLst>
              <a:gd name="textAreaLeft" fmla="*/ 28080 w 779400"/>
              <a:gd name="textAreaRight" fmla="*/ 751320 w 7794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8826" h="21600">
                <a:moveTo>
                  <a:pt x="0" y="0"/>
                </a:moveTo>
                <a:lnTo>
                  <a:pt x="38826" y="0"/>
                </a:lnTo>
                <a:lnTo>
                  <a:pt x="38826" y="21600"/>
                </a:lnTo>
                <a:lnTo>
                  <a:pt x="0" y="21600"/>
                </a:lnTo>
                <a:close/>
              </a:path>
              <a:path fill="lightenLess" w="38826" h="21600">
                <a:moveTo>
                  <a:pt x="0" y="0"/>
                </a:moveTo>
                <a:lnTo>
                  <a:pt x="38826" y="0"/>
                </a:lnTo>
                <a:lnTo>
                  <a:pt x="37426" y="1400"/>
                </a:lnTo>
                <a:lnTo>
                  <a:pt x="1400" y="1400"/>
                </a:lnTo>
                <a:close/>
              </a:path>
              <a:path fill="darken" w="38826" h="21600">
                <a:moveTo>
                  <a:pt x="38826" y="0"/>
                </a:moveTo>
                <a:lnTo>
                  <a:pt x="38826" y="21600"/>
                </a:lnTo>
                <a:lnTo>
                  <a:pt x="37426" y="20200"/>
                </a:lnTo>
                <a:lnTo>
                  <a:pt x="37426" y="1400"/>
                </a:lnTo>
                <a:close/>
              </a:path>
              <a:path fill="darkenLess" w="38826" h="21600">
                <a:moveTo>
                  <a:pt x="38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26" y="20200"/>
                </a:lnTo>
                <a:close/>
              </a:path>
              <a:path fill="lighten" w="38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4700"/>
              </a:gs>
              <a:gs pos="50000">
                <a:srgbClr val="008000"/>
              </a:gs>
              <a:gs pos="100000">
                <a:srgbClr val="0047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7c2fb"/>
                </a:solidFill>
                <a:latin typeface="宋体"/>
              </a:rPr>
              <a:t>主 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495680" y="189000"/>
            <a:ext cx="4648320" cy="43718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971640" y="692280"/>
            <a:ext cx="1584360" cy="1081080"/>
          </a:xfrm>
          <a:prstGeom prst="cloudCallout">
            <a:avLst>
              <a:gd name="adj1" fmla="val 104009"/>
              <a:gd name="adj2" fmla="val 11681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59280" y="4581360"/>
            <a:ext cx="428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南北气温的差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对生活生产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50418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98560" y="1087560"/>
            <a:ext cx="6721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水果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作物熟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建筑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饮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服装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2876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82720" y="189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71560" y="47973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寒温带、中温带、暖温带、亚热带、热带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高原气候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86400" y="836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南北气温的差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66880" y="141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冬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33760" y="141300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303"/>
                </a:solidFill>
                <a:latin typeface="Arial"/>
              </a:rPr>
              <a:t>我国冬季南北温差大</a:t>
            </a:r>
            <a:r>
              <a:rPr b="1" lang="zh-CN" sz="2400" spc="-1" strike="noStrike">
                <a:solidFill>
                  <a:srgbClr val="fd0303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d0303"/>
                </a:solidFill>
                <a:latin typeface="Arial"/>
              </a:rPr>
              <a:t>越往北去气温越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6880" y="1989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夏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98680" y="299736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冬季最冷和夏季最热的地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63000" y="342900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冬季最冷的地方是黑龙江的漠河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夏季最热的地方是新疆的吐鲁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44880" y="4292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温度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41640" y="5661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划分依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2224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活动积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92960" y="4869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温度带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27280" y="19162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除了青藏高原等地区外，全国普遍高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58920" y="249228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Basemic Times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影响我国气温分布的主要因素是</a:t>
            </a:r>
            <a:r>
              <a:rPr b="1" lang="zh-CN" sz="2400" spc="-1" strike="noStrike">
                <a:solidFill>
                  <a:srgbClr val="fd032d"/>
                </a:solidFill>
                <a:latin typeface="Arial"/>
              </a:rPr>
              <a:t>纬度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V="1">
            <a:off x="6443640" y="3357720"/>
            <a:ext cx="7308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059280" y="764640"/>
            <a:ext cx="4608360" cy="5401080"/>
            <a:chOff x="3059280" y="764640"/>
            <a:chExt cx="4608360" cy="5401080"/>
          </a:xfrm>
        </p:grpSpPr>
        <p:sp>
          <p:nvSpPr>
            <p:cNvPr id="112" name=""/>
            <p:cNvSpPr/>
            <p:nvPr/>
          </p:nvSpPr>
          <p:spPr>
            <a:xfrm>
              <a:off x="3059280" y="765000"/>
              <a:ext cx="4608360" cy="1079640"/>
            </a:xfrm>
            <a:prstGeom prst="rect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16360" y="1125360"/>
              <a:ext cx="100800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4680360" y="1160640"/>
              <a:ext cx="1008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43640" y="1844640"/>
              <a:ext cx="1224000" cy="431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3059280" y="1844640"/>
              <a:ext cx="2089080" cy="4321080"/>
              <a:chOff x="3059280" y="1844640"/>
              <a:chExt cx="2089080" cy="4321080"/>
            </a:xfrm>
          </p:grpSpPr>
          <p:sp>
            <p:nvSpPr>
              <p:cNvPr id="117" name=""/>
              <p:cNvSpPr/>
              <p:nvPr/>
            </p:nvSpPr>
            <p:spPr>
              <a:xfrm>
                <a:off x="3059280" y="1844640"/>
                <a:ext cx="2089080" cy="4321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932360" y="3500280"/>
                <a:ext cx="216000" cy="578160"/>
                <a:chOff x="4932360" y="3500280"/>
                <a:chExt cx="216000" cy="578160"/>
              </a:xfrm>
            </p:grpSpPr>
            <p:sp>
              <p:nvSpPr>
                <p:cNvPr id="119" name=""/>
                <p:cNvSpPr/>
                <p:nvPr/>
              </p:nvSpPr>
              <p:spPr>
                <a:xfrm flipH="1">
                  <a:off x="4932360" y="3500280"/>
                  <a:ext cx="2160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932360" y="3500280"/>
                  <a:ext cx="0" cy="503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32360" y="4005360"/>
                  <a:ext cx="216000" cy="73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" name=""/>
            <p:cNvGrpSpPr/>
            <p:nvPr/>
          </p:nvGrpSpPr>
          <p:grpSpPr>
            <a:xfrm>
              <a:off x="6443280" y="3357720"/>
              <a:ext cx="144720" cy="431640"/>
              <a:chOff x="6443280" y="3357720"/>
              <a:chExt cx="144720" cy="431640"/>
            </a:xfrm>
          </p:grpSpPr>
          <p:sp>
            <p:nvSpPr>
              <p:cNvPr id="123" name=""/>
              <p:cNvSpPr/>
              <p:nvPr/>
            </p:nvSpPr>
            <p:spPr>
              <a:xfrm>
                <a:off x="6588000" y="3357720"/>
                <a:ext cx="0" cy="43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443280" y="3789360"/>
                <a:ext cx="142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43280" y="3357720"/>
                <a:ext cx="144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 rot="21435000">
            <a:off x="5292360" y="3716280"/>
            <a:ext cx="1042920" cy="2016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580000" y="2708280"/>
            <a:ext cx="1224000" cy="649440"/>
          </a:xfrm>
          <a:prstGeom prst="cloudCallout">
            <a:avLst>
              <a:gd name="adj1" fmla="val -41180"/>
              <a:gd name="adj2" fmla="val 98412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感冒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47640" y="4149720"/>
            <a:ext cx="10051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2484360" y="4221000"/>
            <a:ext cx="216000" cy="1296360"/>
            <a:chOff x="2484360" y="4221000"/>
            <a:chExt cx="216000" cy="1296360"/>
          </a:xfrm>
        </p:grpSpPr>
        <p:sp>
          <p:nvSpPr>
            <p:cNvPr id="130" name=""/>
            <p:cNvSpPr/>
            <p:nvPr/>
          </p:nvSpPr>
          <p:spPr>
            <a:xfrm>
              <a:off x="2484360" y="4221000"/>
              <a:ext cx="216000" cy="1008000"/>
            </a:xfrm>
            <a:prstGeom prst="triangle">
              <a:avLst>
                <a:gd name="adj" fmla="val 100000"/>
              </a:avLst>
            </a:prstGeom>
            <a:solidFill>
              <a:srgbClr val="808080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484360" y="4867920"/>
              <a:ext cx="142920" cy="649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003640" y="1197000"/>
            <a:ext cx="1297080" cy="136836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9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339440" y="5857560"/>
            <a:ext cx="1203840" cy="343800"/>
            <a:chOff x="4339440" y="5857560"/>
            <a:chExt cx="1203840" cy="343800"/>
          </a:xfrm>
        </p:grpSpPr>
        <p:sp>
          <p:nvSpPr>
            <p:cNvPr id="134" name=""/>
            <p:cNvSpPr/>
            <p:nvPr/>
          </p:nvSpPr>
          <p:spPr>
            <a:xfrm flipV="1" rot="4232400">
              <a:off x="4515840" y="5775840"/>
              <a:ext cx="185760" cy="50616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1640" y="6008400"/>
              <a:ext cx="971640" cy="157320"/>
            </a:xfrm>
            <a:custGeom>
              <a:avLst/>
              <a:gdLst/>
              <a:ahLst/>
              <a:rect l="l" t="t" r="r" b="b"/>
              <a:pathLst>
                <a:path w="476" h="106">
                  <a:moveTo>
                    <a:pt x="68" y="8"/>
                  </a:moveTo>
                  <a:cubicBezTo>
                    <a:pt x="0" y="16"/>
                    <a:pt x="0" y="92"/>
                    <a:pt x="68" y="99"/>
                  </a:cubicBezTo>
                  <a:cubicBezTo>
                    <a:pt x="136" y="106"/>
                    <a:pt x="476" y="68"/>
                    <a:pt x="476" y="53"/>
                  </a:cubicBezTo>
                  <a:cubicBezTo>
                    <a:pt x="476" y="38"/>
                    <a:pt x="136" y="0"/>
                    <a:pt x="68" y="8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8964720" y="-1035000"/>
            <a:ext cx="5916600" cy="2748240"/>
            <a:chOff x="8964720" y="-1035000"/>
            <a:chExt cx="5916600" cy="2748240"/>
          </a:xfrm>
        </p:grpSpPr>
        <p:grpSp>
          <p:nvGrpSpPr>
            <p:cNvPr id="137" name=""/>
            <p:cNvGrpSpPr/>
            <p:nvPr/>
          </p:nvGrpSpPr>
          <p:grpSpPr>
            <a:xfrm>
              <a:off x="8964720" y="-1035000"/>
              <a:ext cx="5916600" cy="2748240"/>
              <a:chOff x="8964720" y="-1035000"/>
              <a:chExt cx="5916600" cy="2748240"/>
            </a:xfrm>
          </p:grpSpPr>
          <p:sp>
            <p:nvSpPr>
              <p:cNvPr id="138" name=""/>
              <p:cNvSpPr/>
              <p:nvPr/>
            </p:nvSpPr>
            <p:spPr>
              <a:xfrm>
                <a:off x="8964720" y="-1035000"/>
                <a:ext cx="5916600" cy="2160360"/>
              </a:xfrm>
              <a:custGeom>
                <a:avLst/>
                <a:gdLst/>
                <a:ahLst/>
                <a:rect l="l" t="t" r="r" b="b"/>
                <a:pathLst>
                  <a:path w="5012" h="1361">
                    <a:moveTo>
                      <a:pt x="151" y="772"/>
                    </a:moveTo>
                    <a:cubicBezTo>
                      <a:pt x="75" y="711"/>
                      <a:pt x="0" y="650"/>
                      <a:pt x="242" y="635"/>
                    </a:cubicBezTo>
                    <a:cubicBezTo>
                      <a:pt x="484" y="620"/>
                      <a:pt x="1029" y="658"/>
                      <a:pt x="1603" y="681"/>
                    </a:cubicBezTo>
                    <a:cubicBezTo>
                      <a:pt x="2177" y="704"/>
                      <a:pt x="3288" y="825"/>
                      <a:pt x="3689" y="772"/>
                    </a:cubicBezTo>
                    <a:cubicBezTo>
                      <a:pt x="4090" y="719"/>
                      <a:pt x="3924" y="476"/>
                      <a:pt x="4007" y="363"/>
                    </a:cubicBezTo>
                    <a:cubicBezTo>
                      <a:pt x="4090" y="250"/>
                      <a:pt x="4135" y="0"/>
                      <a:pt x="4188" y="91"/>
                    </a:cubicBezTo>
                    <a:cubicBezTo>
                      <a:pt x="4241" y="182"/>
                      <a:pt x="4271" y="764"/>
                      <a:pt x="4324" y="908"/>
                    </a:cubicBezTo>
                    <a:cubicBezTo>
                      <a:pt x="4377" y="1052"/>
                      <a:pt x="4476" y="916"/>
                      <a:pt x="4506" y="953"/>
                    </a:cubicBezTo>
                    <a:cubicBezTo>
                      <a:pt x="4536" y="990"/>
                      <a:pt x="5012" y="1066"/>
                      <a:pt x="4506" y="1134"/>
                    </a:cubicBezTo>
                    <a:cubicBezTo>
                      <a:pt x="4000" y="1202"/>
                      <a:pt x="1973" y="1323"/>
                      <a:pt x="1467" y="1361"/>
                    </a:cubicBezTo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fd032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92800">
                <a:off x="9107640" y="263160"/>
                <a:ext cx="1657440" cy="933120"/>
              </a:xfrm>
              <a:custGeom>
                <a:avLst/>
                <a:gdLst/>
                <a:ahLst/>
                <a:rect l="l" t="t" r="r" b="b"/>
                <a:pathLst>
                  <a:path w="998" h="741">
                    <a:moveTo>
                      <a:pt x="998" y="635"/>
                    </a:moveTo>
                    <a:cubicBezTo>
                      <a:pt x="809" y="688"/>
                      <a:pt x="620" y="741"/>
                      <a:pt x="454" y="635"/>
                    </a:cubicBezTo>
                    <a:cubicBezTo>
                      <a:pt x="288" y="529"/>
                      <a:pt x="76" y="106"/>
                      <a:pt x="0" y="0"/>
                    </a:cubicBezTo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fd032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310200">
                <a:off x="11988720" y="609480"/>
                <a:ext cx="1931760" cy="1018800"/>
              </a:xfrm>
              <a:custGeom>
                <a:avLst/>
                <a:gdLst/>
                <a:ahLst/>
                <a:rect l="l" t="t" r="r" b="b"/>
                <a:pathLst>
                  <a:path w="1217" h="642">
                    <a:moveTo>
                      <a:pt x="0" y="75"/>
                    </a:moveTo>
                    <a:cubicBezTo>
                      <a:pt x="400" y="290"/>
                      <a:pt x="801" y="506"/>
                      <a:pt x="998" y="574"/>
                    </a:cubicBezTo>
                    <a:cubicBezTo>
                      <a:pt x="1195" y="642"/>
                      <a:pt x="1217" y="566"/>
                      <a:pt x="1179" y="483"/>
                    </a:cubicBezTo>
                    <a:cubicBezTo>
                      <a:pt x="1141" y="400"/>
                      <a:pt x="847" y="150"/>
                      <a:pt x="771" y="75"/>
                    </a:cubicBezTo>
                    <a:cubicBezTo>
                      <a:pt x="695" y="0"/>
                      <a:pt x="710" y="15"/>
                      <a:pt x="725" y="30"/>
                    </a:cubicBezTo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fd032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9253800" y="331560"/>
                <a:ext cx="4967280" cy="360000"/>
              </a:xfrm>
              <a:prstGeom prst="line">
                <a:avLst/>
              </a:prstGeom>
              <a:ln w="93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253800" y="404640"/>
                <a:ext cx="4967280" cy="360000"/>
              </a:xfrm>
              <a:prstGeom prst="line">
                <a:avLst/>
              </a:prstGeom>
              <a:ln w="93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0188720" y="188640"/>
                <a:ext cx="360360" cy="144000"/>
              </a:xfrm>
              <a:prstGeom prst="rect">
                <a:avLst/>
              </a:prstGeom>
              <a:noFill/>
              <a:ln w="9360">
                <a:solidFill>
                  <a:srgbClr val="fd03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23640" y="188640"/>
                <a:ext cx="360360" cy="144000"/>
              </a:xfrm>
              <a:prstGeom prst="rect">
                <a:avLst/>
              </a:prstGeom>
              <a:noFill/>
              <a:ln w="9360">
                <a:solidFill>
                  <a:srgbClr val="fd03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692000" y="188640"/>
                <a:ext cx="360360" cy="144000"/>
              </a:xfrm>
              <a:prstGeom prst="rect">
                <a:avLst/>
              </a:prstGeom>
              <a:noFill/>
              <a:ln w="9360">
                <a:solidFill>
                  <a:srgbClr val="fd03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555640" y="188640"/>
                <a:ext cx="360360" cy="144000"/>
              </a:xfrm>
              <a:prstGeom prst="rect">
                <a:avLst/>
              </a:prstGeom>
              <a:noFill/>
              <a:ln w="9360">
                <a:solidFill>
                  <a:srgbClr val="fd03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276360" y="-171360"/>
                <a:ext cx="1079280" cy="360000"/>
              </a:xfrm>
              <a:custGeom>
                <a:avLst/>
                <a:gdLst/>
                <a:ahLst/>
                <a:rect l="l" t="t" r="r" b="b"/>
                <a:pathLst>
                  <a:path w="726" h="272">
                    <a:moveTo>
                      <a:pt x="0" y="272"/>
                    </a:moveTo>
                    <a:cubicBezTo>
                      <a:pt x="234" y="136"/>
                      <a:pt x="469" y="0"/>
                      <a:pt x="590" y="0"/>
                    </a:cubicBezTo>
                    <a:cubicBezTo>
                      <a:pt x="711" y="0"/>
                      <a:pt x="703" y="227"/>
                      <a:pt x="726" y="272"/>
                    </a:cubicBezTo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10044000" y="54936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北京—新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195640" y="4795920"/>
            <a:ext cx="669960" cy="129708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8964720" y="-1035000"/>
            <a:ext cx="5916600" cy="2748240"/>
            <a:chOff x="8964720" y="-1035000"/>
            <a:chExt cx="5916600" cy="2748240"/>
          </a:xfrm>
        </p:grpSpPr>
        <p:grpSp>
          <p:nvGrpSpPr>
            <p:cNvPr id="151" name=""/>
            <p:cNvGrpSpPr/>
            <p:nvPr/>
          </p:nvGrpSpPr>
          <p:grpSpPr>
            <a:xfrm>
              <a:off x="8964720" y="-1035000"/>
              <a:ext cx="5916600" cy="2748240"/>
              <a:chOff x="8964720" y="-1035000"/>
              <a:chExt cx="5916600" cy="2748240"/>
            </a:xfrm>
          </p:grpSpPr>
          <p:sp>
            <p:nvSpPr>
              <p:cNvPr id="152" name=""/>
              <p:cNvSpPr/>
              <p:nvPr/>
            </p:nvSpPr>
            <p:spPr>
              <a:xfrm>
                <a:off x="8964720" y="-1035000"/>
                <a:ext cx="5916600" cy="2160360"/>
              </a:xfrm>
              <a:custGeom>
                <a:avLst/>
                <a:gdLst/>
                <a:ahLst/>
                <a:rect l="l" t="t" r="r" b="b"/>
                <a:pathLst>
                  <a:path w="5012" h="1361">
                    <a:moveTo>
                      <a:pt x="151" y="772"/>
                    </a:moveTo>
                    <a:cubicBezTo>
                      <a:pt x="75" y="711"/>
                      <a:pt x="0" y="650"/>
                      <a:pt x="242" y="635"/>
                    </a:cubicBezTo>
                    <a:cubicBezTo>
                      <a:pt x="484" y="620"/>
                      <a:pt x="1029" y="658"/>
                      <a:pt x="1603" y="681"/>
                    </a:cubicBezTo>
                    <a:cubicBezTo>
                      <a:pt x="2177" y="704"/>
                      <a:pt x="3288" y="825"/>
                      <a:pt x="3689" y="772"/>
                    </a:cubicBezTo>
                    <a:cubicBezTo>
                      <a:pt x="4090" y="719"/>
                      <a:pt x="3924" y="476"/>
                      <a:pt x="4007" y="363"/>
                    </a:cubicBezTo>
                    <a:cubicBezTo>
                      <a:pt x="4090" y="250"/>
                      <a:pt x="4135" y="0"/>
                      <a:pt x="4188" y="91"/>
                    </a:cubicBezTo>
                    <a:cubicBezTo>
                      <a:pt x="4241" y="182"/>
                      <a:pt x="4271" y="764"/>
                      <a:pt x="4324" y="908"/>
                    </a:cubicBezTo>
                    <a:cubicBezTo>
                      <a:pt x="4377" y="1052"/>
                      <a:pt x="4476" y="916"/>
                      <a:pt x="4506" y="953"/>
                    </a:cubicBezTo>
                    <a:cubicBezTo>
                      <a:pt x="4536" y="990"/>
                      <a:pt x="5012" y="1066"/>
                      <a:pt x="4506" y="1134"/>
                    </a:cubicBezTo>
                    <a:cubicBezTo>
                      <a:pt x="4000" y="1202"/>
                      <a:pt x="1973" y="1323"/>
                      <a:pt x="1467" y="1361"/>
                    </a:cubicBezTo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fd032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92800">
                <a:off x="9107640" y="263160"/>
                <a:ext cx="1657440" cy="933120"/>
              </a:xfrm>
              <a:custGeom>
                <a:avLst/>
                <a:gdLst/>
                <a:ahLst/>
                <a:rect l="l" t="t" r="r" b="b"/>
                <a:pathLst>
                  <a:path w="998" h="741">
                    <a:moveTo>
                      <a:pt x="998" y="635"/>
                    </a:moveTo>
                    <a:cubicBezTo>
                      <a:pt x="809" y="688"/>
                      <a:pt x="620" y="741"/>
                      <a:pt x="454" y="635"/>
                    </a:cubicBezTo>
                    <a:cubicBezTo>
                      <a:pt x="288" y="529"/>
                      <a:pt x="76" y="106"/>
                      <a:pt x="0" y="0"/>
                    </a:cubicBezTo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fd032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10200">
                <a:off x="11988720" y="609480"/>
                <a:ext cx="1931760" cy="1018800"/>
              </a:xfrm>
              <a:custGeom>
                <a:avLst/>
                <a:gdLst/>
                <a:ahLst/>
                <a:rect l="l" t="t" r="r" b="b"/>
                <a:pathLst>
                  <a:path w="1217" h="642">
                    <a:moveTo>
                      <a:pt x="0" y="75"/>
                    </a:moveTo>
                    <a:cubicBezTo>
                      <a:pt x="400" y="290"/>
                      <a:pt x="801" y="506"/>
                      <a:pt x="998" y="574"/>
                    </a:cubicBezTo>
                    <a:cubicBezTo>
                      <a:pt x="1195" y="642"/>
                      <a:pt x="1217" y="566"/>
                      <a:pt x="1179" y="483"/>
                    </a:cubicBezTo>
                    <a:cubicBezTo>
                      <a:pt x="1141" y="400"/>
                      <a:pt x="847" y="150"/>
                      <a:pt x="771" y="75"/>
                    </a:cubicBezTo>
                    <a:cubicBezTo>
                      <a:pt x="695" y="0"/>
                      <a:pt x="710" y="15"/>
                      <a:pt x="725" y="30"/>
                    </a:cubicBezTo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fd032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253800" y="331560"/>
                <a:ext cx="4967280" cy="360000"/>
              </a:xfrm>
              <a:prstGeom prst="line">
                <a:avLst/>
              </a:prstGeom>
              <a:ln w="93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253800" y="404640"/>
                <a:ext cx="4967280" cy="360000"/>
              </a:xfrm>
              <a:prstGeom prst="line">
                <a:avLst/>
              </a:prstGeom>
              <a:ln w="93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188720" y="188640"/>
                <a:ext cx="360360" cy="144000"/>
              </a:xfrm>
              <a:prstGeom prst="rect">
                <a:avLst/>
              </a:prstGeom>
              <a:noFill/>
              <a:ln w="9360">
                <a:solidFill>
                  <a:srgbClr val="fd03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123640" y="188640"/>
                <a:ext cx="360360" cy="144000"/>
              </a:xfrm>
              <a:prstGeom prst="rect">
                <a:avLst/>
              </a:prstGeom>
              <a:noFill/>
              <a:ln w="9360">
                <a:solidFill>
                  <a:srgbClr val="fd03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692000" y="188640"/>
                <a:ext cx="360360" cy="144000"/>
              </a:xfrm>
              <a:prstGeom prst="rect">
                <a:avLst/>
              </a:prstGeom>
              <a:noFill/>
              <a:ln w="9360">
                <a:solidFill>
                  <a:srgbClr val="fd03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555640" y="188640"/>
                <a:ext cx="360360" cy="144000"/>
              </a:xfrm>
              <a:prstGeom prst="rect">
                <a:avLst/>
              </a:prstGeom>
              <a:noFill/>
              <a:ln w="9360">
                <a:solidFill>
                  <a:srgbClr val="fd03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2276360" y="-171360"/>
                <a:ext cx="1079280" cy="360000"/>
              </a:xfrm>
              <a:custGeom>
                <a:avLst/>
                <a:gdLst/>
                <a:ahLst/>
                <a:rect l="l" t="t" r="r" b="b"/>
                <a:pathLst>
                  <a:path w="726" h="272">
                    <a:moveTo>
                      <a:pt x="0" y="272"/>
                    </a:moveTo>
                    <a:cubicBezTo>
                      <a:pt x="234" y="136"/>
                      <a:pt x="469" y="0"/>
                      <a:pt x="590" y="0"/>
                    </a:cubicBezTo>
                    <a:cubicBezTo>
                      <a:pt x="711" y="0"/>
                      <a:pt x="703" y="227"/>
                      <a:pt x="726" y="272"/>
                    </a:cubicBezTo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0044000" y="549360"/>
              <a:ext cx="18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新疆—广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04960" y="-415800"/>
            <a:ext cx="4796640" cy="6581160"/>
            <a:chOff x="804960" y="-415800"/>
            <a:chExt cx="4796640" cy="6581160"/>
          </a:xfrm>
        </p:grpSpPr>
        <p:sp>
          <p:nvSpPr>
            <p:cNvPr id="164" name=""/>
            <p:cNvSpPr/>
            <p:nvPr/>
          </p:nvSpPr>
          <p:spPr>
            <a:xfrm rot="20886000">
              <a:off x="1042560" y="0"/>
              <a:ext cx="4321080" cy="2757240"/>
            </a:xfrm>
            <a:custGeom>
              <a:avLst/>
              <a:gdLst/>
              <a:ahLst/>
              <a:rect l="l" t="t" r="r" b="b"/>
              <a:pathLst>
                <a:path w="3385" h="1433">
                  <a:moveTo>
                    <a:pt x="9" y="569"/>
                  </a:moveTo>
                  <a:cubicBezTo>
                    <a:pt x="23" y="526"/>
                    <a:pt x="55" y="533"/>
                    <a:pt x="99" y="506"/>
                  </a:cubicBezTo>
                  <a:cubicBezTo>
                    <a:pt x="173" y="460"/>
                    <a:pt x="247" y="415"/>
                    <a:pt x="333" y="398"/>
                  </a:cubicBezTo>
                  <a:cubicBezTo>
                    <a:pt x="342" y="392"/>
                    <a:pt x="350" y="384"/>
                    <a:pt x="360" y="380"/>
                  </a:cubicBezTo>
                  <a:cubicBezTo>
                    <a:pt x="377" y="372"/>
                    <a:pt x="414" y="362"/>
                    <a:pt x="414" y="362"/>
                  </a:cubicBezTo>
                  <a:cubicBezTo>
                    <a:pt x="449" y="363"/>
                    <a:pt x="841" y="382"/>
                    <a:pt x="945" y="362"/>
                  </a:cubicBezTo>
                  <a:cubicBezTo>
                    <a:pt x="954" y="360"/>
                    <a:pt x="948" y="342"/>
                    <a:pt x="954" y="335"/>
                  </a:cubicBezTo>
                  <a:cubicBezTo>
                    <a:pt x="967" y="319"/>
                    <a:pt x="990" y="314"/>
                    <a:pt x="1008" y="308"/>
                  </a:cubicBezTo>
                  <a:cubicBezTo>
                    <a:pt x="1023" y="262"/>
                    <a:pt x="1046" y="264"/>
                    <a:pt x="1080" y="236"/>
                  </a:cubicBezTo>
                  <a:cubicBezTo>
                    <a:pt x="1121" y="202"/>
                    <a:pt x="1159" y="166"/>
                    <a:pt x="1197" y="128"/>
                  </a:cubicBezTo>
                  <a:cubicBezTo>
                    <a:pt x="1208" y="117"/>
                    <a:pt x="1213" y="102"/>
                    <a:pt x="1224" y="92"/>
                  </a:cubicBezTo>
                  <a:cubicBezTo>
                    <a:pt x="1240" y="78"/>
                    <a:pt x="1278" y="56"/>
                    <a:pt x="1278" y="56"/>
                  </a:cubicBezTo>
                  <a:cubicBezTo>
                    <a:pt x="1315" y="0"/>
                    <a:pt x="1369" y="23"/>
                    <a:pt x="1431" y="29"/>
                  </a:cubicBezTo>
                  <a:cubicBezTo>
                    <a:pt x="1522" y="66"/>
                    <a:pt x="1636" y="85"/>
                    <a:pt x="1719" y="137"/>
                  </a:cubicBezTo>
                  <a:cubicBezTo>
                    <a:pt x="1771" y="169"/>
                    <a:pt x="1814" y="222"/>
                    <a:pt x="1872" y="236"/>
                  </a:cubicBezTo>
                  <a:cubicBezTo>
                    <a:pt x="1924" y="288"/>
                    <a:pt x="1872" y="247"/>
                    <a:pt x="1971" y="272"/>
                  </a:cubicBezTo>
                  <a:cubicBezTo>
                    <a:pt x="2036" y="288"/>
                    <a:pt x="2085" y="323"/>
                    <a:pt x="2160" y="335"/>
                  </a:cubicBezTo>
                  <a:cubicBezTo>
                    <a:pt x="2223" y="366"/>
                    <a:pt x="2292" y="376"/>
                    <a:pt x="2358" y="398"/>
                  </a:cubicBezTo>
                  <a:cubicBezTo>
                    <a:pt x="2402" y="413"/>
                    <a:pt x="2439" y="425"/>
                    <a:pt x="2484" y="434"/>
                  </a:cubicBezTo>
                  <a:cubicBezTo>
                    <a:pt x="2540" y="462"/>
                    <a:pt x="2604" y="471"/>
                    <a:pt x="2655" y="497"/>
                  </a:cubicBezTo>
                  <a:cubicBezTo>
                    <a:pt x="2708" y="523"/>
                    <a:pt x="2750" y="563"/>
                    <a:pt x="2799" y="596"/>
                  </a:cubicBezTo>
                  <a:cubicBezTo>
                    <a:pt x="2834" y="649"/>
                    <a:pt x="2818" y="709"/>
                    <a:pt x="2799" y="767"/>
                  </a:cubicBezTo>
                  <a:cubicBezTo>
                    <a:pt x="2845" y="782"/>
                    <a:pt x="2887" y="794"/>
                    <a:pt x="2934" y="803"/>
                  </a:cubicBezTo>
                  <a:cubicBezTo>
                    <a:pt x="3011" y="849"/>
                    <a:pt x="3116" y="860"/>
                    <a:pt x="3204" y="866"/>
                  </a:cubicBezTo>
                  <a:cubicBezTo>
                    <a:pt x="3293" y="896"/>
                    <a:pt x="3240" y="878"/>
                    <a:pt x="3303" y="956"/>
                  </a:cubicBezTo>
                  <a:cubicBezTo>
                    <a:pt x="3315" y="992"/>
                    <a:pt x="3334" y="1016"/>
                    <a:pt x="3357" y="1046"/>
                  </a:cubicBezTo>
                  <a:cubicBezTo>
                    <a:pt x="3353" y="1143"/>
                    <a:pt x="3385" y="1319"/>
                    <a:pt x="3258" y="1361"/>
                  </a:cubicBezTo>
                  <a:cubicBezTo>
                    <a:pt x="3212" y="1407"/>
                    <a:pt x="3157" y="1418"/>
                    <a:pt x="3096" y="1433"/>
                  </a:cubicBezTo>
                  <a:cubicBezTo>
                    <a:pt x="3030" y="1430"/>
                    <a:pt x="2964" y="1429"/>
                    <a:pt x="2898" y="1424"/>
                  </a:cubicBezTo>
                  <a:cubicBezTo>
                    <a:pt x="2848" y="1420"/>
                    <a:pt x="2893" y="1410"/>
                    <a:pt x="2844" y="1388"/>
                  </a:cubicBezTo>
                  <a:cubicBezTo>
                    <a:pt x="2819" y="1377"/>
                    <a:pt x="2789" y="1379"/>
                    <a:pt x="2763" y="1370"/>
                  </a:cubicBezTo>
                  <a:cubicBezTo>
                    <a:pt x="2746" y="1353"/>
                    <a:pt x="2736" y="1331"/>
                    <a:pt x="2718" y="1316"/>
                  </a:cubicBezTo>
                  <a:cubicBezTo>
                    <a:pt x="2676" y="1279"/>
                    <a:pt x="2639" y="1276"/>
                    <a:pt x="2592" y="1253"/>
                  </a:cubicBezTo>
                  <a:cubicBezTo>
                    <a:pt x="2575" y="1244"/>
                    <a:pt x="2530" y="1209"/>
                    <a:pt x="2511" y="1208"/>
                  </a:cubicBezTo>
                  <a:cubicBezTo>
                    <a:pt x="2343" y="1199"/>
                    <a:pt x="2175" y="1202"/>
                    <a:pt x="2007" y="1199"/>
                  </a:cubicBezTo>
                  <a:cubicBezTo>
                    <a:pt x="1909" y="1179"/>
                    <a:pt x="1818" y="1130"/>
                    <a:pt x="1719" y="1118"/>
                  </a:cubicBezTo>
                  <a:cubicBezTo>
                    <a:pt x="1595" y="1103"/>
                    <a:pt x="1469" y="1095"/>
                    <a:pt x="1350" y="1055"/>
                  </a:cubicBezTo>
                  <a:cubicBezTo>
                    <a:pt x="1281" y="1067"/>
                    <a:pt x="1212" y="1081"/>
                    <a:pt x="1143" y="1091"/>
                  </a:cubicBezTo>
                  <a:cubicBezTo>
                    <a:pt x="1040" y="1125"/>
                    <a:pt x="924" y="1098"/>
                    <a:pt x="819" y="1091"/>
                  </a:cubicBezTo>
                  <a:cubicBezTo>
                    <a:pt x="756" y="1075"/>
                    <a:pt x="806" y="1096"/>
                    <a:pt x="756" y="1046"/>
                  </a:cubicBezTo>
                  <a:cubicBezTo>
                    <a:pt x="743" y="1033"/>
                    <a:pt x="675" y="989"/>
                    <a:pt x="666" y="983"/>
                  </a:cubicBezTo>
                  <a:cubicBezTo>
                    <a:pt x="657" y="977"/>
                    <a:pt x="648" y="971"/>
                    <a:pt x="639" y="965"/>
                  </a:cubicBezTo>
                  <a:cubicBezTo>
                    <a:pt x="630" y="959"/>
                    <a:pt x="612" y="947"/>
                    <a:pt x="612" y="947"/>
                  </a:cubicBezTo>
                  <a:cubicBezTo>
                    <a:pt x="550" y="854"/>
                    <a:pt x="400" y="820"/>
                    <a:pt x="297" y="803"/>
                  </a:cubicBezTo>
                  <a:cubicBezTo>
                    <a:pt x="251" y="772"/>
                    <a:pt x="201" y="773"/>
                    <a:pt x="153" y="749"/>
                  </a:cubicBezTo>
                  <a:cubicBezTo>
                    <a:pt x="109" y="727"/>
                    <a:pt x="144" y="733"/>
                    <a:pt x="99" y="722"/>
                  </a:cubicBezTo>
                  <a:cubicBezTo>
                    <a:pt x="58" y="712"/>
                    <a:pt x="35" y="709"/>
                    <a:pt x="0" y="686"/>
                  </a:cubicBezTo>
                  <a:cubicBezTo>
                    <a:pt x="0" y="685"/>
                    <a:pt x="14" y="610"/>
                    <a:pt x="18" y="605"/>
                  </a:cubicBezTo>
                  <a:cubicBezTo>
                    <a:pt x="34" y="582"/>
                    <a:pt x="108" y="570"/>
                    <a:pt x="108" y="551"/>
                  </a:cubicBezTo>
                  <a:lnTo>
                    <a:pt x="9" y="56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898560" y="2352960"/>
              <a:ext cx="1009440" cy="38124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45840" y="2270520"/>
              <a:ext cx="1009800" cy="38124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835280" y="2190240"/>
              <a:ext cx="1009440" cy="381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258920" y="2270520"/>
              <a:ext cx="1009440" cy="38124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122560" y="2190240"/>
              <a:ext cx="1009440" cy="381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626920" y="2190240"/>
              <a:ext cx="1009800" cy="381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338560" y="2270520"/>
              <a:ext cx="1009440" cy="38124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913120" y="2190240"/>
              <a:ext cx="1009440" cy="381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274560" y="2109600"/>
              <a:ext cx="1009800" cy="38124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animMotion origin="layout" path="M -0.38056 -0.04329 C -0.55365 0.01157 -0.72552 0.06713 -0.89479 0.1956 C -1.06354 0.32338 -1.31163 0.63541 -1.39445 0.72315 E">
                                      <p:cBhvr>
                                        <p:cTn id="54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 flipV="1">
            <a:off x="6443640" y="3357720"/>
            <a:ext cx="7308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59280" y="764640"/>
            <a:ext cx="4608360" cy="5401080"/>
            <a:chOff x="3059280" y="764640"/>
            <a:chExt cx="4608360" cy="5401080"/>
          </a:xfrm>
        </p:grpSpPr>
        <p:sp>
          <p:nvSpPr>
            <p:cNvPr id="176" name=""/>
            <p:cNvSpPr/>
            <p:nvPr/>
          </p:nvSpPr>
          <p:spPr>
            <a:xfrm>
              <a:off x="3059280" y="765000"/>
              <a:ext cx="4608360" cy="1079640"/>
            </a:xfrm>
            <a:prstGeom prst="rect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16360" y="1125360"/>
              <a:ext cx="100800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4680360" y="1160640"/>
              <a:ext cx="1008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43640" y="1844640"/>
              <a:ext cx="1224000" cy="431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3059280" y="1844640"/>
              <a:ext cx="2089080" cy="4321080"/>
              <a:chOff x="3059280" y="1844640"/>
              <a:chExt cx="2089080" cy="4321080"/>
            </a:xfrm>
          </p:grpSpPr>
          <p:sp>
            <p:nvSpPr>
              <p:cNvPr id="181" name=""/>
              <p:cNvSpPr/>
              <p:nvPr/>
            </p:nvSpPr>
            <p:spPr>
              <a:xfrm>
                <a:off x="3059280" y="1844640"/>
                <a:ext cx="2089080" cy="4321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4932360" y="3500280"/>
                <a:ext cx="216000" cy="578160"/>
                <a:chOff x="4932360" y="3500280"/>
                <a:chExt cx="216000" cy="578160"/>
              </a:xfrm>
            </p:grpSpPr>
            <p:sp>
              <p:nvSpPr>
                <p:cNvPr id="183" name=""/>
                <p:cNvSpPr/>
                <p:nvPr/>
              </p:nvSpPr>
              <p:spPr>
                <a:xfrm flipH="1">
                  <a:off x="4932360" y="3500280"/>
                  <a:ext cx="2160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932360" y="3500280"/>
                  <a:ext cx="0" cy="503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932360" y="4005360"/>
                  <a:ext cx="216000" cy="73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"/>
            <p:cNvGrpSpPr/>
            <p:nvPr/>
          </p:nvGrpSpPr>
          <p:grpSpPr>
            <a:xfrm>
              <a:off x="6443280" y="3357720"/>
              <a:ext cx="144720" cy="431640"/>
              <a:chOff x="6443280" y="3357720"/>
              <a:chExt cx="144720" cy="431640"/>
            </a:xfrm>
          </p:grpSpPr>
          <p:sp>
            <p:nvSpPr>
              <p:cNvPr id="187" name=""/>
              <p:cNvSpPr/>
              <p:nvPr/>
            </p:nvSpPr>
            <p:spPr>
              <a:xfrm>
                <a:off x="6588000" y="3357720"/>
                <a:ext cx="0" cy="43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6443280" y="3789360"/>
                <a:ext cx="142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6443280" y="3357720"/>
                <a:ext cx="144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 rot="21435000">
            <a:off x="5292360" y="3716280"/>
            <a:ext cx="1042920" cy="2016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012000" y="2421000"/>
            <a:ext cx="2268360" cy="936720"/>
          </a:xfrm>
          <a:prstGeom prst="cloudCallout">
            <a:avLst>
              <a:gd name="adj1" fmla="val -57208"/>
              <a:gd name="adj2" fmla="val 78814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又感冒了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中国的天气真无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43280" y="378936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43280" y="20520"/>
            <a:ext cx="3918240" cy="2832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26960" y="3716280"/>
            <a:ext cx="4073760" cy="30542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852640"/>
            <a:ext cx="9144000" cy="916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第二节  气候多样  季风显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68360" y="98280"/>
            <a:ext cx="40338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333360"/>
            <a:ext cx="1511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438280" y="2057400"/>
            <a:ext cx="6426360" cy="4351320"/>
            <a:chOff x="2438280" y="2057400"/>
            <a:chExt cx="6426360" cy="435132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2438280" y="2057400"/>
              <a:ext cx="642636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659640" y="2133720"/>
              <a:ext cx="2158920" cy="3988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月的黑龙江漠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04920" y="228600"/>
            <a:ext cx="6350040" cy="4762440"/>
            <a:chOff x="304920" y="228600"/>
            <a:chExt cx="6350040" cy="476244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304920" y="228600"/>
              <a:ext cx="6350040" cy="47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95280" y="333360"/>
              <a:ext cx="19447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月的海南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971640" y="3068640"/>
            <a:ext cx="6248160" cy="70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为什么我国南北方的景观相差如此之大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784760" y="1994040"/>
            <a:ext cx="4359240" cy="4863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451680" y="476280"/>
            <a:ext cx="1277640" cy="5689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d0303"/>
                </a:solidFill>
                <a:latin typeface="Arial"/>
              </a:rPr>
              <a:t>寒假出游你选择哪件衣服</a:t>
            </a:r>
            <a:r>
              <a:rPr b="0" lang="zh-CN" sz="3600" spc="-1" strike="noStrike">
                <a:solidFill>
                  <a:srgbClr val="fd0303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41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676520" y="388620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2590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16360" y="3068640"/>
            <a:ext cx="3816360" cy="3100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68360" y="3092400"/>
            <a:ext cx="4248000" cy="3073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00000" y="1052640"/>
            <a:ext cx="7345440" cy="1312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d032d"/>
                </a:solidFill>
                <a:latin typeface="Arial"/>
                <a:ea typeface="隶书"/>
              </a:rPr>
              <a:t>南北气温的差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08:28:27Z</dcterms:created>
  <dc:creator>Administrator</dc:creator>
  <dc:description/>
  <dc:language>en-US</dc:language>
  <cp:lastModifiedBy>Administrator</cp:lastModifiedBy>
  <dcterms:modified xsi:type="dcterms:W3CDTF">2006-10-09T08:29:48Z</dcterms:modified>
  <cp:revision>2</cp:revision>
  <dc:subject/>
  <dc:title>幻灯片 1</dc:title>
</cp:coreProperties>
</file>