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7.gif" ContentType="image/gif"/>
  <Override PartName="/ppt/media/image5.jpeg" ContentType="image/jpeg"/>
  <Override PartName="/ppt/media/image26.jpeg" ContentType="image/jpeg"/>
  <Override PartName="/ppt/media/image6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image3.jpeg" ContentType="image/jpeg"/>
  <Override PartName="/ppt/media/image29.gif" ContentType="image/gif"/>
  <Override PartName="/ppt/media/image27.gif" ContentType="image/gif"/>
  <Override PartName="/ppt/media/image15.gif" ContentType="image/gif"/>
  <Override PartName="/ppt/media/image1.png" ContentType="image/png"/>
  <Override PartName="/ppt/media/image24.gif" ContentType="image/gif"/>
  <Override PartName="/ppt/media/image21.jpeg" ContentType="image/jpeg"/>
  <Override PartName="/ppt/media/image16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17.jpeg" ContentType="image/jpeg"/>
  <Override PartName="/ppt/media/image28.gif" ContentType="image/gif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B92C-DF13-4A8D-B161-8547DCBA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AEC1-6B05-4D5E-92C7-49CEA7BF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4D5E-6418-40CD-AEB1-E157BEA5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4F69-1CAF-4F55-994E-2F205681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F769-611D-4C20-A4C6-BAA5AE2E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EA00-E6F4-43C6-9E18-4875BE0A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7B01-3887-46DC-A634-7271C72B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9018-33CC-49D7-88CF-A13AD02D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4329-D6A0-49C8-8020-BA14A786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8177-123A-4797-A11F-627A38D0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CE31-683F-44B1-BB18-CBD35186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48DF-4350-4405-BD4E-892E2B74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56DB-5764-4C05-9EB3-8DA4BDCD344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3.xml"/><Relationship Id="rId3" Type="http://schemas.openxmlformats.org/officeDocument/2006/relationships/image" Target="../media/image15.gif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" Target="slide2.xml"/><Relationship Id="rId5" Type="http://schemas.openxmlformats.org/officeDocument/2006/relationships/image" Target="../media/image15.gif"/><Relationship Id="rId6" Type="http://schemas.openxmlformats.org/officeDocument/2006/relationships/slide" Target="slide13.xm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0.jpeg"/><Relationship Id="rId3" Type="http://schemas.openxmlformats.org/officeDocument/2006/relationships/slide" Target="slide2.xml"/><Relationship Id="rId4" Type="http://schemas.openxmlformats.org/officeDocument/2006/relationships/image" Target="../media/image15.gif"/><Relationship Id="rId5" Type="http://schemas.openxmlformats.org/officeDocument/2006/relationships/slide" Target="slide14.xml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11.xml"/><Relationship Id="rId3" Type="http://schemas.openxmlformats.org/officeDocument/2006/relationships/image" Target="../media/image15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12.xml"/><Relationship Id="rId3" Type="http://schemas.openxmlformats.org/officeDocument/2006/relationships/image" Target="../media/image15.gif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" Target="slide16.xml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4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2.xml"/><Relationship Id="rId6" Type="http://schemas.openxmlformats.org/officeDocument/2006/relationships/slide" Target="slide23.xml"/><Relationship Id="rId7" Type="http://schemas.openxmlformats.org/officeDocument/2006/relationships/slide" Target="slide21.xml"/><Relationship Id="rId8" Type="http://schemas.openxmlformats.org/officeDocument/2006/relationships/slide" Target="slide27.xml"/><Relationship Id="rId9" Type="http://schemas.openxmlformats.org/officeDocument/2006/relationships/slide" Target="slide26.xml"/><Relationship Id="rId10" Type="http://schemas.openxmlformats.org/officeDocument/2006/relationships/slide" Target="slide25.xml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" Target="slide16.xml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16.xml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7.xml"/><Relationship Id="rId8" Type="http://schemas.openxmlformats.org/officeDocument/2006/relationships/slide" Target="slide17.xml"/><Relationship Id="rId9" Type="http://schemas.openxmlformats.org/officeDocument/2006/relationships/slide" Target="slide17.xml"/><Relationship Id="rId10" Type="http://schemas.openxmlformats.org/officeDocument/2006/relationships/slide" Target="slide17.xml"/><Relationship Id="rId11" Type="http://schemas.openxmlformats.org/officeDocument/2006/relationships/slide" Target="slide17.xml"/><Relationship Id="rId12" Type="http://schemas.openxmlformats.org/officeDocument/2006/relationships/slide" Target="slide17.xml"/><Relationship Id="rId13" Type="http://schemas.openxmlformats.org/officeDocument/2006/relationships/slide" Target="slide17.xml"/><Relationship Id="rId14" Type="http://schemas.openxmlformats.org/officeDocument/2006/relationships/slide" Target="slide17.xml"/><Relationship Id="rId15" Type="http://schemas.openxmlformats.org/officeDocument/2006/relationships/slide" Target="slide17.xml"/><Relationship Id="rId16" Type="http://schemas.openxmlformats.org/officeDocument/2006/relationships/slide" Target="slide17.xml"/><Relationship Id="rId17" Type="http://schemas.openxmlformats.org/officeDocument/2006/relationships/slide" Target="slide17.xml"/><Relationship Id="rId18" Type="http://schemas.openxmlformats.org/officeDocument/2006/relationships/slide" Target="slide17.xm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image" Target="../media/image4.jpeg"/><Relationship Id="rId9" Type="http://schemas.openxmlformats.org/officeDocument/2006/relationships/slide" Target="slide3.xml"/><Relationship Id="rId10" Type="http://schemas.openxmlformats.org/officeDocument/2006/relationships/image" Target="../media/image2.gif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7.xml"/><Relationship Id="rId8" Type="http://schemas.openxmlformats.org/officeDocument/2006/relationships/slide" Target="slide17.xml"/><Relationship Id="rId9" Type="http://schemas.openxmlformats.org/officeDocument/2006/relationships/slide" Target="slide17.xml"/><Relationship Id="rId10" Type="http://schemas.openxmlformats.org/officeDocument/2006/relationships/slide" Target="slide17.xml"/><Relationship Id="rId11" Type="http://schemas.openxmlformats.org/officeDocument/2006/relationships/slide" Target="slide17.xml"/><Relationship Id="rId12" Type="http://schemas.openxmlformats.org/officeDocument/2006/relationships/slide" Target="slide17.xml"/><Relationship Id="rId13" Type="http://schemas.openxmlformats.org/officeDocument/2006/relationships/slide" Target="slide17.xml"/><Relationship Id="rId14" Type="http://schemas.openxmlformats.org/officeDocument/2006/relationships/slide" Target="slide17.xml"/><Relationship Id="rId15" Type="http://schemas.openxmlformats.org/officeDocument/2006/relationships/slide" Target="slide17.xml"/><Relationship Id="rId16" Type="http://schemas.openxmlformats.org/officeDocument/2006/relationships/slide" Target="slide17.xml"/><Relationship Id="rId17" Type="http://schemas.openxmlformats.org/officeDocument/2006/relationships/slide" Target="slide17.xml"/><Relationship Id="rId18" Type="http://schemas.openxmlformats.org/officeDocument/2006/relationships/slide" Target="slide17.xml"/><Relationship Id="rId1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7.xml"/><Relationship Id="rId8" Type="http://schemas.openxmlformats.org/officeDocument/2006/relationships/slide" Target="slide17.xml"/><Relationship Id="rId9" Type="http://schemas.openxmlformats.org/officeDocument/2006/relationships/slide" Target="slide17.xml"/><Relationship Id="rId10" Type="http://schemas.openxmlformats.org/officeDocument/2006/relationships/slide" Target="slide17.xml"/><Relationship Id="rId11" Type="http://schemas.openxmlformats.org/officeDocument/2006/relationships/slide" Target="slide17.xml"/><Relationship Id="rId12" Type="http://schemas.openxmlformats.org/officeDocument/2006/relationships/slide" Target="slide17.xml"/><Relationship Id="rId13" Type="http://schemas.openxmlformats.org/officeDocument/2006/relationships/slide" Target="slide17.xml"/><Relationship Id="rId14" Type="http://schemas.openxmlformats.org/officeDocument/2006/relationships/slide" Target="slide17.xml"/><Relationship Id="rId15" Type="http://schemas.openxmlformats.org/officeDocument/2006/relationships/slide" Target="slide17.xml"/><Relationship Id="rId16" Type="http://schemas.openxmlformats.org/officeDocument/2006/relationships/slide" Target="slide17.xml"/><Relationship Id="rId17" Type="http://schemas.openxmlformats.org/officeDocument/2006/relationships/slide" Target="slide17.xml"/><Relationship Id="rId18" Type="http://schemas.openxmlformats.org/officeDocument/2006/relationships/slide" Target="slide17.xml"/><Relationship Id="rId1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7.xml"/><Relationship Id="rId10" Type="http://schemas.openxmlformats.org/officeDocument/2006/relationships/slide" Target="slide17.xml"/><Relationship Id="rId11" Type="http://schemas.openxmlformats.org/officeDocument/2006/relationships/slide" Target="slide17.xml"/><Relationship Id="rId12" Type="http://schemas.openxmlformats.org/officeDocument/2006/relationships/slide" Target="slide17.xml"/><Relationship Id="rId13" Type="http://schemas.openxmlformats.org/officeDocument/2006/relationships/slide" Target="slide17.xml"/><Relationship Id="rId14" Type="http://schemas.openxmlformats.org/officeDocument/2006/relationships/slide" Target="slide17.xml"/><Relationship Id="rId15" Type="http://schemas.openxmlformats.org/officeDocument/2006/relationships/slide" Target="slide17.xml"/><Relationship Id="rId16" Type="http://schemas.openxmlformats.org/officeDocument/2006/relationships/slide" Target="slide17.xml"/><Relationship Id="rId17" Type="http://schemas.openxmlformats.org/officeDocument/2006/relationships/slide" Target="slide17.xml"/><Relationship Id="rId18" Type="http://schemas.openxmlformats.org/officeDocument/2006/relationships/slide" Target="slide17.xml"/><Relationship Id="rId1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7.xml"/><Relationship Id="rId8" Type="http://schemas.openxmlformats.org/officeDocument/2006/relationships/slide" Target="slide17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7.xml"/><Relationship Id="rId12" Type="http://schemas.openxmlformats.org/officeDocument/2006/relationships/slide" Target="slide17.xml"/><Relationship Id="rId13" Type="http://schemas.openxmlformats.org/officeDocument/2006/relationships/slide" Target="slide17.xml"/><Relationship Id="rId14" Type="http://schemas.openxmlformats.org/officeDocument/2006/relationships/slide" Target="slide17.xml"/><Relationship Id="rId15" Type="http://schemas.openxmlformats.org/officeDocument/2006/relationships/slide" Target="slide17.xml"/><Relationship Id="rId16" Type="http://schemas.openxmlformats.org/officeDocument/2006/relationships/slide" Target="slide17.xml"/><Relationship Id="rId17" Type="http://schemas.openxmlformats.org/officeDocument/2006/relationships/slide" Target="slide17.xml"/><Relationship Id="rId18" Type="http://schemas.openxmlformats.org/officeDocument/2006/relationships/slide" Target="slide17.xml"/><Relationship Id="rId1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0.xml"/><Relationship Id="rId3" Type="http://schemas.openxmlformats.org/officeDocument/2006/relationships/image" Target="../media/image6.jpeg"/><Relationship Id="rId4" Type="http://schemas.openxmlformats.org/officeDocument/2006/relationships/slide" Target="slide10.xml"/><Relationship Id="rId5" Type="http://schemas.openxmlformats.org/officeDocument/2006/relationships/image" Target="../media/image7.gif"/><Relationship Id="rId6" Type="http://schemas.openxmlformats.org/officeDocument/2006/relationships/slide" Target="slide8.xml"/><Relationship Id="rId7" Type="http://schemas.openxmlformats.org/officeDocument/2006/relationships/image" Target="../media/image8.jpeg"/><Relationship Id="rId8" Type="http://schemas.openxmlformats.org/officeDocument/2006/relationships/slide" Target="slide8.xml"/><Relationship Id="rId9" Type="http://schemas.openxmlformats.org/officeDocument/2006/relationships/image" Target="../media/image7.gif"/><Relationship Id="rId10" Type="http://schemas.openxmlformats.org/officeDocument/2006/relationships/slide" Target="slide9.xml"/><Relationship Id="rId11" Type="http://schemas.openxmlformats.org/officeDocument/2006/relationships/image" Target="../media/image9.jpeg"/><Relationship Id="rId12" Type="http://schemas.openxmlformats.org/officeDocument/2006/relationships/slide" Target="slide9.xml"/><Relationship Id="rId13" Type="http://schemas.openxmlformats.org/officeDocument/2006/relationships/image" Target="../media/image7.gif"/><Relationship Id="rId14" Type="http://schemas.openxmlformats.org/officeDocument/2006/relationships/slide" Target="slide7.xml"/><Relationship Id="rId15" Type="http://schemas.openxmlformats.org/officeDocument/2006/relationships/image" Target="../media/image10.jpeg"/><Relationship Id="rId16" Type="http://schemas.openxmlformats.org/officeDocument/2006/relationships/slide" Target="slide7.xml"/><Relationship Id="rId17" Type="http://schemas.openxmlformats.org/officeDocument/2006/relationships/image" Target="../media/image7.gif"/><Relationship Id="rId18" Type="http://schemas.openxmlformats.org/officeDocument/2006/relationships/slide" Target="slide4.xml"/><Relationship Id="rId19" Type="http://schemas.openxmlformats.org/officeDocument/2006/relationships/image" Target="../media/image2.gif"/><Relationship Id="rId2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" Target="slide5.xml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15.xm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3.xml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3.xml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3.xml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68360" y="98748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第一节  中国的疆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31840" y="2066760"/>
            <a:ext cx="52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8559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中国地大物博，历史悠久，上下五千年的文化使这片神奇的土地独具魅力，高速发展的现代文明又使它焕发出了勃勃生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40720" y="6165720"/>
            <a:ext cx="804960" cy="341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47640" y="62308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cc"/>
                </a:solidFill>
                <a:latin typeface="Arial"/>
                <a:ea typeface="宋体"/>
              </a:rPr>
              <a:t>制作：陕西延安永坪高级中学    解鹏辉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28000" y="6165720"/>
            <a:ext cx="905040" cy="476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547640" y="620640"/>
            <a:ext cx="604872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7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498760" cy="2736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68360" y="3213000"/>
            <a:ext cx="59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9999"/>
                </a:solidFill>
                <a:latin typeface="华文行楷"/>
                <a:ea typeface="华文行楷"/>
              </a:rPr>
              <a:t>说说中国位于东半球和北半球的依据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43280" y="191628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想一想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28000" y="6165720"/>
            <a:ext cx="905040" cy="476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515280" y="4581360"/>
            <a:ext cx="11523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华文行楷"/>
                <a:ea typeface="华文行楷"/>
                <a:hlinkClick r:id="rId6" action="ppaction://hlinksldjump"/>
              </a:rPr>
              <a:t>答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10200" y="4797360"/>
            <a:ext cx="505080" cy="144360"/>
          </a:xfrm>
          <a:prstGeom prst="rightArrow">
            <a:avLst>
              <a:gd name="adj1" fmla="val 50000"/>
              <a:gd name="adj2" fmla="val 874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498760" cy="2736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916360" y="321300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华文行楷"/>
                <a:ea typeface="华文行楷"/>
              </a:rPr>
              <a:t>除了中国以外，再说出几个位于太平洋西岸的亚洲国家的名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51640" y="6021360"/>
            <a:ext cx="905040" cy="476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3276720" y="1052640"/>
            <a:ext cx="1655640" cy="93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想一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1" name=""/>
          <p:cNvSpPr/>
          <p:nvPr/>
        </p:nvSpPr>
        <p:spPr>
          <a:xfrm>
            <a:off x="6515280" y="4581360"/>
            <a:ext cx="10094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华文行楷"/>
                <a:ea typeface="华文行楷"/>
                <a:hlinkClick r:id="rId5" action="ppaction://hlinksldjump"/>
              </a:rPr>
              <a:t>答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0200" y="4797360"/>
            <a:ext cx="505080" cy="144360"/>
          </a:xfrm>
          <a:prstGeom prst="rightArrow">
            <a:avLst>
              <a:gd name="adj1" fmla="val 50000"/>
              <a:gd name="adj2" fmla="val 874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76360" y="3933720"/>
            <a:ext cx="518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ff"/>
                </a:solidFill>
                <a:latin typeface="华文行楷"/>
                <a:ea typeface="华文行楷"/>
              </a:rPr>
              <a:t>依据：位于赤道以北，在西经</a:t>
            </a:r>
            <a:r>
              <a:rPr b="0" lang="zh-CN" sz="3200" spc="-1" strike="noStrike">
                <a:solidFill>
                  <a:srgbClr val="cc66ff"/>
                </a:solidFill>
                <a:latin typeface="华文行楷"/>
                <a:ea typeface="华文行楷"/>
              </a:rPr>
              <a:t>20</a:t>
            </a:r>
            <a:r>
              <a:rPr b="0" lang="zh-CN" sz="3200" spc="-1" strike="noStrike">
                <a:solidFill>
                  <a:srgbClr val="cc66ff"/>
                </a:solidFill>
                <a:latin typeface="华文行楷"/>
                <a:ea typeface="华文行楷"/>
              </a:rPr>
              <a:t>度和东经</a:t>
            </a:r>
            <a:r>
              <a:rPr b="0" lang="zh-CN" sz="3200" spc="-1" strike="noStrike">
                <a:solidFill>
                  <a:srgbClr val="cc66ff"/>
                </a:solidFill>
                <a:latin typeface="华文行楷"/>
                <a:ea typeface="华文行楷"/>
              </a:rPr>
              <a:t>160</a:t>
            </a:r>
            <a:r>
              <a:rPr b="0" lang="zh-CN" sz="3200" spc="-1" strike="noStrike">
                <a:solidFill>
                  <a:srgbClr val="cc66ff"/>
                </a:solidFill>
                <a:latin typeface="华文行楷"/>
                <a:ea typeface="华文行楷"/>
              </a:rPr>
              <a:t>度之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258920" y="3284640"/>
            <a:ext cx="144000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宋体"/>
              </a:rPr>
              <a:t>答案：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宋体"/>
              <a:ea typeface="宋体"/>
            </a:endParaRPr>
          </a:p>
        </p:txBody>
      </p:sp>
      <p:pic>
        <p:nvPicPr>
          <p:cNvPr id="12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51640" y="6021360"/>
            <a:ext cx="905040" cy="476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867280" y="404640"/>
            <a:ext cx="2283120" cy="18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835280" y="134136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幼圆"/>
              </a:rPr>
              <a:t>新加坡、朝鲜、日本、韩国、菲律宾、印度尼西亚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00000" y="836640"/>
            <a:ext cx="137160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答案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2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51640" y="6021360"/>
            <a:ext cx="905040" cy="476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3348000" y="3716280"/>
            <a:ext cx="2094120" cy="19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1611360" cy="1973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1403280" y="765000"/>
            <a:ext cx="1371600" cy="66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练一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3" name=""/>
          <p:cNvSpPr/>
          <p:nvPr/>
        </p:nvSpPr>
        <p:spPr>
          <a:xfrm>
            <a:off x="2916360" y="206064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66ff"/>
                </a:solidFill>
                <a:latin typeface="Arial"/>
                <a:ea typeface="华文行楷"/>
              </a:rPr>
              <a:t>看地图，选名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66ff"/>
                </a:solidFill>
                <a:latin typeface="Arial"/>
                <a:ea typeface="华文行楷"/>
              </a:rPr>
              <a:t>点击地图上的区域，选中相应的国家名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40720" y="6165720"/>
            <a:ext cx="804960" cy="34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2838600" y="4192560"/>
            <a:ext cx="2454120" cy="1036800"/>
          </a:xfrm>
          <a:custGeom>
            <a:avLst/>
            <a:gdLst/>
            <a:ahLst/>
            <a:rect l="l" t="t" r="r" b="b"/>
            <a:pathLst>
              <a:path w="1546" h="653">
                <a:moveTo>
                  <a:pt x="18" y="84"/>
                </a:moveTo>
                <a:cubicBezTo>
                  <a:pt x="101" y="85"/>
                  <a:pt x="183" y="85"/>
                  <a:pt x="266" y="88"/>
                </a:cubicBezTo>
                <a:cubicBezTo>
                  <a:pt x="280" y="88"/>
                  <a:pt x="288" y="102"/>
                  <a:pt x="302" y="104"/>
                </a:cubicBezTo>
                <a:cubicBezTo>
                  <a:pt x="322" y="106"/>
                  <a:pt x="342" y="107"/>
                  <a:pt x="362" y="108"/>
                </a:cubicBezTo>
                <a:cubicBezTo>
                  <a:pt x="370" y="133"/>
                  <a:pt x="360" y="114"/>
                  <a:pt x="398" y="124"/>
                </a:cubicBezTo>
                <a:cubicBezTo>
                  <a:pt x="403" y="125"/>
                  <a:pt x="405" y="132"/>
                  <a:pt x="410" y="132"/>
                </a:cubicBezTo>
                <a:cubicBezTo>
                  <a:pt x="465" y="136"/>
                  <a:pt x="519" y="135"/>
                  <a:pt x="574" y="136"/>
                </a:cubicBezTo>
                <a:cubicBezTo>
                  <a:pt x="619" y="151"/>
                  <a:pt x="617" y="148"/>
                  <a:pt x="678" y="152"/>
                </a:cubicBezTo>
                <a:cubicBezTo>
                  <a:pt x="685" y="153"/>
                  <a:pt x="692" y="153"/>
                  <a:pt x="698" y="156"/>
                </a:cubicBezTo>
                <a:cubicBezTo>
                  <a:pt x="702" y="158"/>
                  <a:pt x="704" y="164"/>
                  <a:pt x="706" y="168"/>
                </a:cubicBezTo>
                <a:cubicBezTo>
                  <a:pt x="708" y="172"/>
                  <a:pt x="707" y="178"/>
                  <a:pt x="710" y="180"/>
                </a:cubicBezTo>
                <a:cubicBezTo>
                  <a:pt x="715" y="184"/>
                  <a:pt x="741" y="190"/>
                  <a:pt x="750" y="192"/>
                </a:cubicBezTo>
                <a:cubicBezTo>
                  <a:pt x="772" y="207"/>
                  <a:pt x="778" y="224"/>
                  <a:pt x="786" y="248"/>
                </a:cubicBezTo>
                <a:cubicBezTo>
                  <a:pt x="789" y="257"/>
                  <a:pt x="802" y="259"/>
                  <a:pt x="810" y="264"/>
                </a:cubicBezTo>
                <a:cubicBezTo>
                  <a:pt x="852" y="292"/>
                  <a:pt x="854" y="284"/>
                  <a:pt x="922" y="288"/>
                </a:cubicBezTo>
                <a:cubicBezTo>
                  <a:pt x="944" y="295"/>
                  <a:pt x="962" y="303"/>
                  <a:pt x="982" y="312"/>
                </a:cubicBezTo>
                <a:cubicBezTo>
                  <a:pt x="990" y="315"/>
                  <a:pt x="998" y="317"/>
                  <a:pt x="1006" y="320"/>
                </a:cubicBezTo>
                <a:cubicBezTo>
                  <a:pt x="1010" y="321"/>
                  <a:pt x="1018" y="324"/>
                  <a:pt x="1018" y="324"/>
                </a:cubicBezTo>
                <a:cubicBezTo>
                  <a:pt x="1028" y="354"/>
                  <a:pt x="1013" y="318"/>
                  <a:pt x="1034" y="344"/>
                </a:cubicBezTo>
                <a:cubicBezTo>
                  <a:pt x="1047" y="360"/>
                  <a:pt x="1038" y="396"/>
                  <a:pt x="1058" y="408"/>
                </a:cubicBezTo>
                <a:cubicBezTo>
                  <a:pt x="1065" y="412"/>
                  <a:pt x="1074" y="413"/>
                  <a:pt x="1082" y="416"/>
                </a:cubicBezTo>
                <a:cubicBezTo>
                  <a:pt x="1086" y="417"/>
                  <a:pt x="1094" y="420"/>
                  <a:pt x="1094" y="420"/>
                </a:cubicBezTo>
                <a:cubicBezTo>
                  <a:pt x="1100" y="429"/>
                  <a:pt x="1122" y="464"/>
                  <a:pt x="1130" y="468"/>
                </a:cubicBezTo>
                <a:cubicBezTo>
                  <a:pt x="1149" y="477"/>
                  <a:pt x="1178" y="479"/>
                  <a:pt x="1198" y="484"/>
                </a:cubicBezTo>
                <a:cubicBezTo>
                  <a:pt x="1201" y="516"/>
                  <a:pt x="1196" y="535"/>
                  <a:pt x="1222" y="552"/>
                </a:cubicBezTo>
                <a:cubicBezTo>
                  <a:pt x="1227" y="566"/>
                  <a:pt x="1236" y="570"/>
                  <a:pt x="1250" y="576"/>
                </a:cubicBezTo>
                <a:cubicBezTo>
                  <a:pt x="1282" y="590"/>
                  <a:pt x="1317" y="600"/>
                  <a:pt x="1350" y="608"/>
                </a:cubicBezTo>
                <a:cubicBezTo>
                  <a:pt x="1333" y="625"/>
                  <a:pt x="1321" y="624"/>
                  <a:pt x="1298" y="628"/>
                </a:cubicBezTo>
                <a:cubicBezTo>
                  <a:pt x="1343" y="637"/>
                  <a:pt x="1388" y="626"/>
                  <a:pt x="1434" y="632"/>
                </a:cubicBezTo>
                <a:cubicBezTo>
                  <a:pt x="1453" y="635"/>
                  <a:pt x="1459" y="638"/>
                  <a:pt x="1478" y="644"/>
                </a:cubicBezTo>
                <a:cubicBezTo>
                  <a:pt x="1482" y="645"/>
                  <a:pt x="1490" y="648"/>
                  <a:pt x="1490" y="648"/>
                </a:cubicBezTo>
                <a:cubicBezTo>
                  <a:pt x="1506" y="647"/>
                  <a:pt x="1525" y="653"/>
                  <a:pt x="1538" y="644"/>
                </a:cubicBezTo>
                <a:cubicBezTo>
                  <a:pt x="1546" y="638"/>
                  <a:pt x="1536" y="625"/>
                  <a:pt x="1534" y="616"/>
                </a:cubicBezTo>
                <a:cubicBezTo>
                  <a:pt x="1529" y="595"/>
                  <a:pt x="1524" y="584"/>
                  <a:pt x="1506" y="572"/>
                </a:cubicBezTo>
                <a:cubicBezTo>
                  <a:pt x="1495" y="556"/>
                  <a:pt x="1465" y="545"/>
                  <a:pt x="1446" y="540"/>
                </a:cubicBezTo>
                <a:cubicBezTo>
                  <a:pt x="1429" y="529"/>
                  <a:pt x="1423" y="511"/>
                  <a:pt x="1402" y="504"/>
                </a:cubicBezTo>
                <a:cubicBezTo>
                  <a:pt x="1378" y="496"/>
                  <a:pt x="1351" y="486"/>
                  <a:pt x="1330" y="472"/>
                </a:cubicBezTo>
                <a:cubicBezTo>
                  <a:pt x="1322" y="460"/>
                  <a:pt x="1298" y="444"/>
                  <a:pt x="1298" y="444"/>
                </a:cubicBezTo>
                <a:cubicBezTo>
                  <a:pt x="1275" y="410"/>
                  <a:pt x="1306" y="450"/>
                  <a:pt x="1278" y="428"/>
                </a:cubicBezTo>
                <a:cubicBezTo>
                  <a:pt x="1274" y="425"/>
                  <a:pt x="1274" y="419"/>
                  <a:pt x="1270" y="416"/>
                </a:cubicBezTo>
                <a:cubicBezTo>
                  <a:pt x="1263" y="410"/>
                  <a:pt x="1254" y="405"/>
                  <a:pt x="1246" y="400"/>
                </a:cubicBezTo>
                <a:cubicBezTo>
                  <a:pt x="1242" y="397"/>
                  <a:pt x="1234" y="392"/>
                  <a:pt x="1234" y="392"/>
                </a:cubicBezTo>
                <a:cubicBezTo>
                  <a:pt x="1224" y="377"/>
                  <a:pt x="1209" y="362"/>
                  <a:pt x="1194" y="352"/>
                </a:cubicBezTo>
                <a:cubicBezTo>
                  <a:pt x="1186" y="340"/>
                  <a:pt x="1170" y="320"/>
                  <a:pt x="1158" y="316"/>
                </a:cubicBezTo>
                <a:cubicBezTo>
                  <a:pt x="1136" y="250"/>
                  <a:pt x="1172" y="249"/>
                  <a:pt x="1218" y="240"/>
                </a:cubicBezTo>
                <a:cubicBezTo>
                  <a:pt x="1233" y="217"/>
                  <a:pt x="1235" y="188"/>
                  <a:pt x="1210" y="172"/>
                </a:cubicBezTo>
                <a:cubicBezTo>
                  <a:pt x="1156" y="9"/>
                  <a:pt x="729" y="120"/>
                  <a:pt x="666" y="120"/>
                </a:cubicBezTo>
                <a:cubicBezTo>
                  <a:pt x="629" y="111"/>
                  <a:pt x="534" y="98"/>
                  <a:pt x="506" y="80"/>
                </a:cubicBezTo>
                <a:cubicBezTo>
                  <a:pt x="465" y="53"/>
                  <a:pt x="409" y="18"/>
                  <a:pt x="358" y="16"/>
                </a:cubicBezTo>
                <a:cubicBezTo>
                  <a:pt x="283" y="14"/>
                  <a:pt x="209" y="13"/>
                  <a:pt x="134" y="12"/>
                </a:cubicBezTo>
                <a:cubicBezTo>
                  <a:pt x="87" y="0"/>
                  <a:pt x="96" y="4"/>
                  <a:pt x="22" y="8"/>
                </a:cubicBezTo>
                <a:cubicBezTo>
                  <a:pt x="4" y="36"/>
                  <a:pt x="9" y="23"/>
                  <a:pt x="2" y="44"/>
                </a:cubicBezTo>
                <a:cubicBezTo>
                  <a:pt x="4" y="57"/>
                  <a:pt x="0" y="74"/>
                  <a:pt x="10" y="84"/>
                </a:cubicBezTo>
                <a:cubicBezTo>
                  <a:pt x="13" y="87"/>
                  <a:pt x="18" y="88"/>
                  <a:pt x="22" y="88"/>
                </a:cubicBezTo>
                <a:cubicBezTo>
                  <a:pt x="24" y="88"/>
                  <a:pt x="19" y="85"/>
                  <a:pt x="18" y="84"/>
                </a:cubicBezTo>
                <a:close/>
              </a:path>
            </a:pathLst>
          </a:cu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3" action="ppaction://hlinksldjump"/>
          </p:cNvPr>
          <p:cNvSpPr/>
          <p:nvPr/>
        </p:nvSpPr>
        <p:spPr>
          <a:xfrm>
            <a:off x="7194600" y="1866960"/>
            <a:ext cx="253800" cy="341280"/>
          </a:xfrm>
          <a:custGeom>
            <a:avLst/>
            <a:gdLst/>
            <a:ahLst/>
            <a:rect l="l" t="t" r="r" b="b"/>
            <a:pathLst>
              <a:path w="160" h="215">
                <a:moveTo>
                  <a:pt x="0" y="40"/>
                </a:moveTo>
                <a:cubicBezTo>
                  <a:pt x="5" y="89"/>
                  <a:pt x="22" y="104"/>
                  <a:pt x="28" y="148"/>
                </a:cubicBezTo>
                <a:cubicBezTo>
                  <a:pt x="33" y="180"/>
                  <a:pt x="23" y="173"/>
                  <a:pt x="44" y="180"/>
                </a:cubicBezTo>
                <a:cubicBezTo>
                  <a:pt x="56" y="215"/>
                  <a:pt x="84" y="198"/>
                  <a:pt x="120" y="196"/>
                </a:cubicBezTo>
                <a:cubicBezTo>
                  <a:pt x="160" y="156"/>
                  <a:pt x="136" y="96"/>
                  <a:pt x="120" y="48"/>
                </a:cubicBezTo>
                <a:cubicBezTo>
                  <a:pt x="113" y="27"/>
                  <a:pt x="120" y="38"/>
                  <a:pt x="92" y="20"/>
                </a:cubicBezTo>
                <a:cubicBezTo>
                  <a:pt x="88" y="17"/>
                  <a:pt x="80" y="12"/>
                  <a:pt x="80" y="12"/>
                </a:cubicBezTo>
                <a:cubicBezTo>
                  <a:pt x="51" y="14"/>
                  <a:pt x="0" y="0"/>
                  <a:pt x="0" y="40"/>
                </a:cubicBezTo>
                <a:close/>
              </a:path>
            </a:pathLst>
          </a:cu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4" action="ppaction://hlinksldjump"/>
          </p:cNvPr>
          <p:cNvSpPr/>
          <p:nvPr/>
        </p:nvSpPr>
        <p:spPr>
          <a:xfrm>
            <a:off x="3700440" y="144360"/>
            <a:ext cx="2452680" cy="1411560"/>
          </a:xfrm>
          <a:custGeom>
            <a:avLst/>
            <a:gdLst/>
            <a:ahLst/>
            <a:rect l="l" t="t" r="r" b="b"/>
            <a:pathLst>
              <a:path w="1545" h="889">
                <a:moveTo>
                  <a:pt x="46" y="192"/>
                </a:moveTo>
                <a:cubicBezTo>
                  <a:pt x="22" y="229"/>
                  <a:pt x="12" y="269"/>
                  <a:pt x="0" y="311"/>
                </a:cubicBezTo>
                <a:cubicBezTo>
                  <a:pt x="11" y="463"/>
                  <a:pt x="7" y="616"/>
                  <a:pt x="19" y="768"/>
                </a:cubicBezTo>
                <a:cubicBezTo>
                  <a:pt x="20" y="785"/>
                  <a:pt x="71" y="811"/>
                  <a:pt x="83" y="823"/>
                </a:cubicBezTo>
                <a:cubicBezTo>
                  <a:pt x="104" y="888"/>
                  <a:pt x="184" y="866"/>
                  <a:pt x="247" y="869"/>
                </a:cubicBezTo>
                <a:cubicBezTo>
                  <a:pt x="335" y="873"/>
                  <a:pt x="424" y="874"/>
                  <a:pt x="512" y="878"/>
                </a:cubicBezTo>
                <a:cubicBezTo>
                  <a:pt x="573" y="880"/>
                  <a:pt x="634" y="884"/>
                  <a:pt x="695" y="887"/>
                </a:cubicBezTo>
                <a:cubicBezTo>
                  <a:pt x="774" y="884"/>
                  <a:pt x="854" y="889"/>
                  <a:pt x="933" y="878"/>
                </a:cubicBezTo>
                <a:cubicBezTo>
                  <a:pt x="949" y="876"/>
                  <a:pt x="955" y="831"/>
                  <a:pt x="960" y="823"/>
                </a:cubicBezTo>
                <a:cubicBezTo>
                  <a:pt x="1002" y="754"/>
                  <a:pt x="1061" y="699"/>
                  <a:pt x="1116" y="640"/>
                </a:cubicBezTo>
                <a:cubicBezTo>
                  <a:pt x="1104" y="634"/>
                  <a:pt x="1087" y="633"/>
                  <a:pt x="1079" y="622"/>
                </a:cubicBezTo>
                <a:cubicBezTo>
                  <a:pt x="1067" y="607"/>
                  <a:pt x="1061" y="567"/>
                  <a:pt x="1061" y="567"/>
                </a:cubicBezTo>
                <a:cubicBezTo>
                  <a:pt x="1043" y="576"/>
                  <a:pt x="1026" y="588"/>
                  <a:pt x="1006" y="595"/>
                </a:cubicBezTo>
                <a:cubicBezTo>
                  <a:pt x="995" y="599"/>
                  <a:pt x="1024" y="581"/>
                  <a:pt x="1034" y="576"/>
                </a:cubicBezTo>
                <a:cubicBezTo>
                  <a:pt x="1041" y="573"/>
                  <a:pt x="1099" y="555"/>
                  <a:pt x="1116" y="549"/>
                </a:cubicBezTo>
                <a:cubicBezTo>
                  <a:pt x="1134" y="543"/>
                  <a:pt x="1171" y="531"/>
                  <a:pt x="1171" y="531"/>
                </a:cubicBezTo>
                <a:cubicBezTo>
                  <a:pt x="1200" y="501"/>
                  <a:pt x="1218" y="473"/>
                  <a:pt x="1253" y="448"/>
                </a:cubicBezTo>
                <a:cubicBezTo>
                  <a:pt x="1286" y="399"/>
                  <a:pt x="1337" y="367"/>
                  <a:pt x="1372" y="320"/>
                </a:cubicBezTo>
                <a:cubicBezTo>
                  <a:pt x="1394" y="290"/>
                  <a:pt x="1400" y="268"/>
                  <a:pt x="1427" y="247"/>
                </a:cubicBezTo>
                <a:cubicBezTo>
                  <a:pt x="1462" y="219"/>
                  <a:pt x="1493" y="194"/>
                  <a:pt x="1518" y="156"/>
                </a:cubicBezTo>
                <a:cubicBezTo>
                  <a:pt x="1538" y="73"/>
                  <a:pt x="1545" y="29"/>
                  <a:pt x="1463" y="0"/>
                </a:cubicBezTo>
                <a:cubicBezTo>
                  <a:pt x="1043" y="3"/>
                  <a:pt x="622" y="1"/>
                  <a:pt x="202" y="10"/>
                </a:cubicBezTo>
                <a:cubicBezTo>
                  <a:pt x="193" y="10"/>
                  <a:pt x="191" y="24"/>
                  <a:pt x="183" y="28"/>
                </a:cubicBezTo>
                <a:cubicBezTo>
                  <a:pt x="175" y="33"/>
                  <a:pt x="165" y="34"/>
                  <a:pt x="156" y="37"/>
                </a:cubicBezTo>
                <a:cubicBezTo>
                  <a:pt x="131" y="74"/>
                  <a:pt x="94" y="98"/>
                  <a:pt x="74" y="138"/>
                </a:cubicBezTo>
                <a:cubicBezTo>
                  <a:pt x="66" y="153"/>
                  <a:pt x="66" y="192"/>
                  <a:pt x="46" y="192"/>
                </a:cubicBezTo>
                <a:close/>
              </a:path>
            </a:pathLst>
          </a:cu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5" action="ppaction://hlinksldjump"/>
          </p:cNvPr>
          <p:cNvSpPr/>
          <p:nvPr/>
        </p:nvSpPr>
        <p:spPr>
          <a:xfrm>
            <a:off x="-36360" y="1841400"/>
            <a:ext cx="341280" cy="717480"/>
          </a:xfrm>
          <a:custGeom>
            <a:avLst/>
            <a:gdLst/>
            <a:ahLst/>
            <a:rect l="l" t="t" r="r" b="b"/>
            <a:pathLst>
              <a:path w="236" h="452">
                <a:moveTo>
                  <a:pt x="148" y="452"/>
                </a:moveTo>
                <a:cubicBezTo>
                  <a:pt x="153" y="438"/>
                  <a:pt x="151" y="438"/>
                  <a:pt x="164" y="428"/>
                </a:cubicBezTo>
                <a:cubicBezTo>
                  <a:pt x="172" y="422"/>
                  <a:pt x="188" y="412"/>
                  <a:pt x="188" y="412"/>
                </a:cubicBezTo>
                <a:cubicBezTo>
                  <a:pt x="199" y="396"/>
                  <a:pt x="222" y="371"/>
                  <a:pt x="228" y="352"/>
                </a:cubicBezTo>
                <a:cubicBezTo>
                  <a:pt x="231" y="344"/>
                  <a:pt x="236" y="328"/>
                  <a:pt x="236" y="328"/>
                </a:cubicBezTo>
                <a:cubicBezTo>
                  <a:pt x="234" y="248"/>
                  <a:pt x="233" y="179"/>
                  <a:pt x="208" y="104"/>
                </a:cubicBezTo>
                <a:cubicBezTo>
                  <a:pt x="204" y="51"/>
                  <a:pt x="210" y="18"/>
                  <a:pt x="156" y="0"/>
                </a:cubicBezTo>
                <a:cubicBezTo>
                  <a:pt x="134" y="4"/>
                  <a:pt x="122" y="6"/>
                  <a:pt x="112" y="28"/>
                </a:cubicBezTo>
                <a:cubicBezTo>
                  <a:pt x="109" y="36"/>
                  <a:pt x="104" y="52"/>
                  <a:pt x="104" y="52"/>
                </a:cubicBezTo>
                <a:cubicBezTo>
                  <a:pt x="105" y="183"/>
                  <a:pt x="0" y="403"/>
                  <a:pt x="124" y="444"/>
                </a:cubicBezTo>
                <a:cubicBezTo>
                  <a:pt x="166" y="439"/>
                  <a:pt x="169" y="431"/>
                  <a:pt x="148" y="452"/>
                </a:cubicBezTo>
                <a:close/>
              </a:path>
            </a:pathLst>
          </a:cu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6" action="ppaction://hlinksldjump"/>
          </p:cNvPr>
          <p:cNvSpPr/>
          <p:nvPr/>
        </p:nvSpPr>
        <p:spPr>
          <a:xfrm>
            <a:off x="317520" y="3073320"/>
            <a:ext cx="2676600" cy="1447920"/>
          </a:xfrm>
          <a:custGeom>
            <a:avLst/>
            <a:gdLst/>
            <a:ahLst/>
            <a:rect l="l" t="t" r="r" b="b"/>
            <a:pathLst>
              <a:path w="1686" h="912">
                <a:moveTo>
                  <a:pt x="1528" y="352"/>
                </a:moveTo>
                <a:cubicBezTo>
                  <a:pt x="1515" y="348"/>
                  <a:pt x="1505" y="340"/>
                  <a:pt x="1492" y="336"/>
                </a:cubicBezTo>
                <a:cubicBezTo>
                  <a:pt x="1485" y="329"/>
                  <a:pt x="1480" y="319"/>
                  <a:pt x="1472" y="312"/>
                </a:cubicBezTo>
                <a:cubicBezTo>
                  <a:pt x="1446" y="291"/>
                  <a:pt x="1400" y="290"/>
                  <a:pt x="1368" y="284"/>
                </a:cubicBezTo>
                <a:cubicBezTo>
                  <a:pt x="1243" y="289"/>
                  <a:pt x="1308" y="285"/>
                  <a:pt x="1240" y="308"/>
                </a:cubicBezTo>
                <a:cubicBezTo>
                  <a:pt x="1195" y="305"/>
                  <a:pt x="1179" y="312"/>
                  <a:pt x="1148" y="292"/>
                </a:cubicBezTo>
                <a:cubicBezTo>
                  <a:pt x="1134" y="271"/>
                  <a:pt x="1103" y="263"/>
                  <a:pt x="1080" y="252"/>
                </a:cubicBezTo>
                <a:cubicBezTo>
                  <a:pt x="1040" y="232"/>
                  <a:pt x="1001" y="213"/>
                  <a:pt x="960" y="196"/>
                </a:cubicBezTo>
                <a:cubicBezTo>
                  <a:pt x="935" y="185"/>
                  <a:pt x="908" y="188"/>
                  <a:pt x="884" y="172"/>
                </a:cubicBezTo>
                <a:cubicBezTo>
                  <a:pt x="868" y="147"/>
                  <a:pt x="809" y="119"/>
                  <a:pt x="780" y="100"/>
                </a:cubicBezTo>
                <a:cubicBezTo>
                  <a:pt x="776" y="97"/>
                  <a:pt x="773" y="94"/>
                  <a:pt x="768" y="92"/>
                </a:cubicBezTo>
                <a:cubicBezTo>
                  <a:pt x="764" y="91"/>
                  <a:pt x="760" y="90"/>
                  <a:pt x="756" y="88"/>
                </a:cubicBezTo>
                <a:cubicBezTo>
                  <a:pt x="748" y="83"/>
                  <a:pt x="732" y="72"/>
                  <a:pt x="732" y="72"/>
                </a:cubicBezTo>
                <a:cubicBezTo>
                  <a:pt x="713" y="43"/>
                  <a:pt x="740" y="79"/>
                  <a:pt x="700" y="52"/>
                </a:cubicBezTo>
                <a:cubicBezTo>
                  <a:pt x="678" y="37"/>
                  <a:pt x="652" y="27"/>
                  <a:pt x="628" y="16"/>
                </a:cubicBezTo>
                <a:cubicBezTo>
                  <a:pt x="616" y="11"/>
                  <a:pt x="604" y="8"/>
                  <a:pt x="592" y="4"/>
                </a:cubicBezTo>
                <a:cubicBezTo>
                  <a:pt x="588" y="3"/>
                  <a:pt x="580" y="0"/>
                  <a:pt x="580" y="0"/>
                </a:cubicBezTo>
                <a:cubicBezTo>
                  <a:pt x="517" y="1"/>
                  <a:pt x="455" y="2"/>
                  <a:pt x="392" y="4"/>
                </a:cubicBezTo>
                <a:cubicBezTo>
                  <a:pt x="360" y="5"/>
                  <a:pt x="356" y="19"/>
                  <a:pt x="332" y="32"/>
                </a:cubicBezTo>
                <a:cubicBezTo>
                  <a:pt x="299" y="50"/>
                  <a:pt x="244" y="46"/>
                  <a:pt x="212" y="48"/>
                </a:cubicBezTo>
                <a:cubicBezTo>
                  <a:pt x="199" y="52"/>
                  <a:pt x="189" y="60"/>
                  <a:pt x="176" y="64"/>
                </a:cubicBezTo>
                <a:cubicBezTo>
                  <a:pt x="161" y="75"/>
                  <a:pt x="149" y="79"/>
                  <a:pt x="136" y="92"/>
                </a:cubicBezTo>
                <a:cubicBezTo>
                  <a:pt x="132" y="105"/>
                  <a:pt x="108" y="120"/>
                  <a:pt x="108" y="120"/>
                </a:cubicBezTo>
                <a:cubicBezTo>
                  <a:pt x="93" y="142"/>
                  <a:pt x="84" y="145"/>
                  <a:pt x="68" y="164"/>
                </a:cubicBezTo>
                <a:cubicBezTo>
                  <a:pt x="55" y="180"/>
                  <a:pt x="43" y="197"/>
                  <a:pt x="28" y="212"/>
                </a:cubicBezTo>
                <a:cubicBezTo>
                  <a:pt x="21" y="232"/>
                  <a:pt x="19" y="252"/>
                  <a:pt x="12" y="272"/>
                </a:cubicBezTo>
                <a:cubicBezTo>
                  <a:pt x="13" y="407"/>
                  <a:pt x="14" y="541"/>
                  <a:pt x="16" y="676"/>
                </a:cubicBezTo>
                <a:cubicBezTo>
                  <a:pt x="16" y="684"/>
                  <a:pt x="0" y="784"/>
                  <a:pt x="36" y="796"/>
                </a:cubicBezTo>
                <a:cubicBezTo>
                  <a:pt x="53" y="813"/>
                  <a:pt x="79" y="818"/>
                  <a:pt x="100" y="832"/>
                </a:cubicBezTo>
                <a:cubicBezTo>
                  <a:pt x="110" y="847"/>
                  <a:pt x="116" y="864"/>
                  <a:pt x="124" y="880"/>
                </a:cubicBezTo>
                <a:cubicBezTo>
                  <a:pt x="128" y="889"/>
                  <a:pt x="126" y="900"/>
                  <a:pt x="132" y="908"/>
                </a:cubicBezTo>
                <a:cubicBezTo>
                  <a:pt x="135" y="911"/>
                  <a:pt x="140" y="911"/>
                  <a:pt x="144" y="912"/>
                </a:cubicBezTo>
                <a:cubicBezTo>
                  <a:pt x="211" y="911"/>
                  <a:pt x="277" y="912"/>
                  <a:pt x="344" y="908"/>
                </a:cubicBezTo>
                <a:cubicBezTo>
                  <a:pt x="385" y="906"/>
                  <a:pt x="417" y="864"/>
                  <a:pt x="452" y="852"/>
                </a:cubicBezTo>
                <a:cubicBezTo>
                  <a:pt x="473" y="820"/>
                  <a:pt x="445" y="859"/>
                  <a:pt x="472" y="832"/>
                </a:cubicBezTo>
                <a:cubicBezTo>
                  <a:pt x="493" y="811"/>
                  <a:pt x="507" y="781"/>
                  <a:pt x="532" y="764"/>
                </a:cubicBezTo>
                <a:cubicBezTo>
                  <a:pt x="543" y="732"/>
                  <a:pt x="597" y="684"/>
                  <a:pt x="628" y="676"/>
                </a:cubicBezTo>
                <a:cubicBezTo>
                  <a:pt x="655" y="656"/>
                  <a:pt x="687" y="647"/>
                  <a:pt x="716" y="632"/>
                </a:cubicBezTo>
                <a:cubicBezTo>
                  <a:pt x="752" y="614"/>
                  <a:pt x="778" y="585"/>
                  <a:pt x="816" y="572"/>
                </a:cubicBezTo>
                <a:cubicBezTo>
                  <a:pt x="828" y="536"/>
                  <a:pt x="798" y="541"/>
                  <a:pt x="772" y="532"/>
                </a:cubicBezTo>
                <a:cubicBezTo>
                  <a:pt x="787" y="522"/>
                  <a:pt x="827" y="494"/>
                  <a:pt x="844" y="488"/>
                </a:cubicBezTo>
                <a:cubicBezTo>
                  <a:pt x="852" y="485"/>
                  <a:pt x="861" y="485"/>
                  <a:pt x="868" y="480"/>
                </a:cubicBezTo>
                <a:cubicBezTo>
                  <a:pt x="893" y="463"/>
                  <a:pt x="920" y="446"/>
                  <a:pt x="948" y="436"/>
                </a:cubicBezTo>
                <a:cubicBezTo>
                  <a:pt x="963" y="430"/>
                  <a:pt x="984" y="428"/>
                  <a:pt x="1000" y="424"/>
                </a:cubicBezTo>
                <a:cubicBezTo>
                  <a:pt x="1011" y="422"/>
                  <a:pt x="1032" y="416"/>
                  <a:pt x="1032" y="416"/>
                </a:cubicBezTo>
                <a:cubicBezTo>
                  <a:pt x="1043" y="409"/>
                  <a:pt x="1068" y="400"/>
                  <a:pt x="1068" y="400"/>
                </a:cubicBezTo>
                <a:cubicBezTo>
                  <a:pt x="1148" y="403"/>
                  <a:pt x="1213" y="416"/>
                  <a:pt x="1292" y="420"/>
                </a:cubicBezTo>
                <a:cubicBezTo>
                  <a:pt x="1316" y="436"/>
                  <a:pt x="1292" y="423"/>
                  <a:pt x="1336" y="432"/>
                </a:cubicBezTo>
                <a:cubicBezTo>
                  <a:pt x="1344" y="434"/>
                  <a:pt x="1352" y="437"/>
                  <a:pt x="1360" y="440"/>
                </a:cubicBezTo>
                <a:cubicBezTo>
                  <a:pt x="1364" y="441"/>
                  <a:pt x="1372" y="444"/>
                  <a:pt x="1372" y="444"/>
                </a:cubicBezTo>
                <a:cubicBezTo>
                  <a:pt x="1402" y="474"/>
                  <a:pt x="1425" y="461"/>
                  <a:pt x="1476" y="464"/>
                </a:cubicBezTo>
                <a:cubicBezTo>
                  <a:pt x="1491" y="469"/>
                  <a:pt x="1493" y="479"/>
                  <a:pt x="1508" y="484"/>
                </a:cubicBezTo>
                <a:cubicBezTo>
                  <a:pt x="1564" y="483"/>
                  <a:pt x="1620" y="485"/>
                  <a:pt x="1676" y="480"/>
                </a:cubicBezTo>
                <a:cubicBezTo>
                  <a:pt x="1681" y="480"/>
                  <a:pt x="1686" y="428"/>
                  <a:pt x="1668" y="412"/>
                </a:cubicBezTo>
                <a:cubicBezTo>
                  <a:pt x="1625" y="374"/>
                  <a:pt x="1580" y="357"/>
                  <a:pt x="1524" y="352"/>
                </a:cubicBezTo>
                <a:cubicBezTo>
                  <a:pt x="1507" y="341"/>
                  <a:pt x="1508" y="342"/>
                  <a:pt x="1528" y="352"/>
                </a:cubicBezTo>
                <a:close/>
              </a:path>
            </a:pathLst>
          </a:cu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rId7" action="ppaction://hlinksldjump"/>
          </p:cNvPr>
          <p:cNvSpPr/>
          <p:nvPr/>
        </p:nvSpPr>
        <p:spPr>
          <a:xfrm>
            <a:off x="55440" y="538200"/>
            <a:ext cx="1855800" cy="1353960"/>
          </a:xfrm>
          <a:custGeom>
            <a:avLst/>
            <a:gdLst/>
            <a:ahLst/>
            <a:rect l="l" t="t" r="r" b="b"/>
            <a:pathLst>
              <a:path w="1169" h="853">
                <a:moveTo>
                  <a:pt x="1157" y="301"/>
                </a:moveTo>
                <a:cubicBezTo>
                  <a:pt x="1156" y="284"/>
                  <a:pt x="1156" y="266"/>
                  <a:pt x="1153" y="249"/>
                </a:cubicBezTo>
                <a:cubicBezTo>
                  <a:pt x="1150" y="231"/>
                  <a:pt x="1118" y="209"/>
                  <a:pt x="1105" y="201"/>
                </a:cubicBezTo>
                <a:cubicBezTo>
                  <a:pt x="1101" y="198"/>
                  <a:pt x="1097" y="196"/>
                  <a:pt x="1093" y="193"/>
                </a:cubicBezTo>
                <a:cubicBezTo>
                  <a:pt x="1089" y="189"/>
                  <a:pt x="1086" y="184"/>
                  <a:pt x="1081" y="181"/>
                </a:cubicBezTo>
                <a:cubicBezTo>
                  <a:pt x="1064" y="170"/>
                  <a:pt x="1042" y="168"/>
                  <a:pt x="1025" y="157"/>
                </a:cubicBezTo>
                <a:cubicBezTo>
                  <a:pt x="1002" y="142"/>
                  <a:pt x="975" y="128"/>
                  <a:pt x="949" y="121"/>
                </a:cubicBezTo>
                <a:cubicBezTo>
                  <a:pt x="910" y="95"/>
                  <a:pt x="858" y="94"/>
                  <a:pt x="813" y="81"/>
                </a:cubicBezTo>
                <a:cubicBezTo>
                  <a:pt x="730" y="57"/>
                  <a:pt x="644" y="33"/>
                  <a:pt x="557" y="25"/>
                </a:cubicBezTo>
                <a:cubicBezTo>
                  <a:pt x="455" y="0"/>
                  <a:pt x="533" y="18"/>
                  <a:pt x="273" y="25"/>
                </a:cubicBezTo>
                <a:cubicBezTo>
                  <a:pt x="258" y="25"/>
                  <a:pt x="234" y="37"/>
                  <a:pt x="221" y="41"/>
                </a:cubicBezTo>
                <a:cubicBezTo>
                  <a:pt x="217" y="42"/>
                  <a:pt x="209" y="45"/>
                  <a:pt x="209" y="45"/>
                </a:cubicBezTo>
                <a:cubicBezTo>
                  <a:pt x="203" y="54"/>
                  <a:pt x="194" y="60"/>
                  <a:pt x="189" y="69"/>
                </a:cubicBezTo>
                <a:cubicBezTo>
                  <a:pt x="172" y="103"/>
                  <a:pt x="180" y="179"/>
                  <a:pt x="177" y="209"/>
                </a:cubicBezTo>
                <a:cubicBezTo>
                  <a:pt x="170" y="274"/>
                  <a:pt x="133" y="328"/>
                  <a:pt x="105" y="385"/>
                </a:cubicBezTo>
                <a:cubicBezTo>
                  <a:pt x="90" y="414"/>
                  <a:pt x="89" y="450"/>
                  <a:pt x="61" y="469"/>
                </a:cubicBezTo>
                <a:cubicBezTo>
                  <a:pt x="58" y="477"/>
                  <a:pt x="56" y="485"/>
                  <a:pt x="53" y="493"/>
                </a:cubicBezTo>
                <a:cubicBezTo>
                  <a:pt x="52" y="497"/>
                  <a:pt x="49" y="505"/>
                  <a:pt x="49" y="505"/>
                </a:cubicBezTo>
                <a:cubicBezTo>
                  <a:pt x="44" y="548"/>
                  <a:pt x="33" y="549"/>
                  <a:pt x="21" y="585"/>
                </a:cubicBezTo>
                <a:cubicBezTo>
                  <a:pt x="18" y="611"/>
                  <a:pt x="17" y="633"/>
                  <a:pt x="9" y="657"/>
                </a:cubicBezTo>
                <a:cubicBezTo>
                  <a:pt x="8" y="670"/>
                  <a:pt x="0" y="780"/>
                  <a:pt x="9" y="793"/>
                </a:cubicBezTo>
                <a:cubicBezTo>
                  <a:pt x="16" y="803"/>
                  <a:pt x="33" y="796"/>
                  <a:pt x="45" y="797"/>
                </a:cubicBezTo>
                <a:cubicBezTo>
                  <a:pt x="87" y="811"/>
                  <a:pt x="128" y="811"/>
                  <a:pt x="173" y="813"/>
                </a:cubicBezTo>
                <a:cubicBezTo>
                  <a:pt x="181" y="816"/>
                  <a:pt x="189" y="818"/>
                  <a:pt x="197" y="821"/>
                </a:cubicBezTo>
                <a:cubicBezTo>
                  <a:pt x="201" y="822"/>
                  <a:pt x="198" y="830"/>
                  <a:pt x="201" y="833"/>
                </a:cubicBezTo>
                <a:cubicBezTo>
                  <a:pt x="207" y="839"/>
                  <a:pt x="216" y="844"/>
                  <a:pt x="225" y="845"/>
                </a:cubicBezTo>
                <a:cubicBezTo>
                  <a:pt x="261" y="850"/>
                  <a:pt x="297" y="849"/>
                  <a:pt x="333" y="853"/>
                </a:cubicBezTo>
                <a:cubicBezTo>
                  <a:pt x="366" y="846"/>
                  <a:pt x="383" y="809"/>
                  <a:pt x="389" y="777"/>
                </a:cubicBezTo>
                <a:cubicBezTo>
                  <a:pt x="390" y="770"/>
                  <a:pt x="389" y="762"/>
                  <a:pt x="393" y="757"/>
                </a:cubicBezTo>
                <a:cubicBezTo>
                  <a:pt x="397" y="753"/>
                  <a:pt x="404" y="755"/>
                  <a:pt x="409" y="753"/>
                </a:cubicBezTo>
                <a:cubicBezTo>
                  <a:pt x="447" y="742"/>
                  <a:pt x="385" y="751"/>
                  <a:pt x="481" y="745"/>
                </a:cubicBezTo>
                <a:cubicBezTo>
                  <a:pt x="565" y="689"/>
                  <a:pt x="683" y="727"/>
                  <a:pt x="785" y="725"/>
                </a:cubicBezTo>
                <a:cubicBezTo>
                  <a:pt x="804" y="719"/>
                  <a:pt x="827" y="726"/>
                  <a:pt x="845" y="717"/>
                </a:cubicBezTo>
                <a:cubicBezTo>
                  <a:pt x="853" y="713"/>
                  <a:pt x="850" y="701"/>
                  <a:pt x="853" y="693"/>
                </a:cubicBezTo>
                <a:cubicBezTo>
                  <a:pt x="857" y="682"/>
                  <a:pt x="864" y="679"/>
                  <a:pt x="873" y="673"/>
                </a:cubicBezTo>
                <a:cubicBezTo>
                  <a:pt x="884" y="657"/>
                  <a:pt x="897" y="640"/>
                  <a:pt x="913" y="629"/>
                </a:cubicBezTo>
                <a:cubicBezTo>
                  <a:pt x="922" y="616"/>
                  <a:pt x="932" y="610"/>
                  <a:pt x="941" y="597"/>
                </a:cubicBezTo>
                <a:cubicBezTo>
                  <a:pt x="943" y="559"/>
                  <a:pt x="941" y="481"/>
                  <a:pt x="961" y="437"/>
                </a:cubicBezTo>
                <a:cubicBezTo>
                  <a:pt x="972" y="413"/>
                  <a:pt x="993" y="400"/>
                  <a:pt x="1013" y="385"/>
                </a:cubicBezTo>
                <a:cubicBezTo>
                  <a:pt x="1021" y="379"/>
                  <a:pt x="1037" y="369"/>
                  <a:pt x="1037" y="369"/>
                </a:cubicBezTo>
                <a:cubicBezTo>
                  <a:pt x="1060" y="334"/>
                  <a:pt x="1036" y="379"/>
                  <a:pt x="1029" y="353"/>
                </a:cubicBezTo>
                <a:cubicBezTo>
                  <a:pt x="1028" y="348"/>
                  <a:pt x="1036" y="343"/>
                  <a:pt x="1041" y="341"/>
                </a:cubicBezTo>
                <a:cubicBezTo>
                  <a:pt x="1048" y="338"/>
                  <a:pt x="1057" y="339"/>
                  <a:pt x="1065" y="337"/>
                </a:cubicBezTo>
                <a:cubicBezTo>
                  <a:pt x="1073" y="335"/>
                  <a:pt x="1082" y="334"/>
                  <a:pt x="1089" y="329"/>
                </a:cubicBezTo>
                <a:cubicBezTo>
                  <a:pt x="1093" y="326"/>
                  <a:pt x="1096" y="323"/>
                  <a:pt x="1101" y="321"/>
                </a:cubicBezTo>
                <a:cubicBezTo>
                  <a:pt x="1112" y="317"/>
                  <a:pt x="1126" y="319"/>
                  <a:pt x="1137" y="313"/>
                </a:cubicBezTo>
                <a:cubicBezTo>
                  <a:pt x="1156" y="302"/>
                  <a:pt x="1169" y="289"/>
                  <a:pt x="1157" y="301"/>
                </a:cubicBezTo>
                <a:close/>
              </a:path>
            </a:pathLst>
          </a:cu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rId8" action="ppaction://hlinksldjump"/>
          </p:cNvPr>
          <p:cNvSpPr/>
          <p:nvPr/>
        </p:nvSpPr>
        <p:spPr>
          <a:xfrm>
            <a:off x="7397640" y="2193840"/>
            <a:ext cx="1365480" cy="390600"/>
          </a:xfrm>
          <a:custGeom>
            <a:avLst/>
            <a:gdLst/>
            <a:ahLst/>
            <a:rect l="l" t="t" r="r" b="b"/>
            <a:pathLst>
              <a:path w="860" h="246">
                <a:moveTo>
                  <a:pt x="845" y="4"/>
                </a:moveTo>
                <a:cubicBezTo>
                  <a:pt x="784" y="6"/>
                  <a:pt x="748" y="0"/>
                  <a:pt x="701" y="31"/>
                </a:cubicBezTo>
                <a:cubicBezTo>
                  <a:pt x="688" y="51"/>
                  <a:pt x="661" y="60"/>
                  <a:pt x="641" y="73"/>
                </a:cubicBezTo>
                <a:cubicBezTo>
                  <a:pt x="591" y="147"/>
                  <a:pt x="566" y="110"/>
                  <a:pt x="437" y="112"/>
                </a:cubicBezTo>
                <a:cubicBezTo>
                  <a:pt x="351" y="110"/>
                  <a:pt x="282" y="101"/>
                  <a:pt x="200" y="94"/>
                </a:cubicBezTo>
                <a:cubicBezTo>
                  <a:pt x="141" y="74"/>
                  <a:pt x="73" y="77"/>
                  <a:pt x="14" y="97"/>
                </a:cubicBezTo>
                <a:cubicBezTo>
                  <a:pt x="8" y="115"/>
                  <a:pt x="0" y="130"/>
                  <a:pt x="11" y="151"/>
                </a:cubicBezTo>
                <a:cubicBezTo>
                  <a:pt x="16" y="160"/>
                  <a:pt x="69" y="163"/>
                  <a:pt x="71" y="163"/>
                </a:cubicBezTo>
                <a:cubicBezTo>
                  <a:pt x="117" y="165"/>
                  <a:pt x="163" y="165"/>
                  <a:pt x="209" y="166"/>
                </a:cubicBezTo>
                <a:cubicBezTo>
                  <a:pt x="227" y="170"/>
                  <a:pt x="245" y="175"/>
                  <a:pt x="263" y="181"/>
                </a:cubicBezTo>
                <a:cubicBezTo>
                  <a:pt x="273" y="184"/>
                  <a:pt x="293" y="187"/>
                  <a:pt x="293" y="187"/>
                </a:cubicBezTo>
                <a:cubicBezTo>
                  <a:pt x="310" y="204"/>
                  <a:pt x="341" y="209"/>
                  <a:pt x="365" y="214"/>
                </a:cubicBezTo>
                <a:cubicBezTo>
                  <a:pt x="386" y="227"/>
                  <a:pt x="416" y="240"/>
                  <a:pt x="440" y="244"/>
                </a:cubicBezTo>
                <a:cubicBezTo>
                  <a:pt x="484" y="243"/>
                  <a:pt x="571" y="246"/>
                  <a:pt x="617" y="223"/>
                </a:cubicBezTo>
                <a:cubicBezTo>
                  <a:pt x="626" y="218"/>
                  <a:pt x="635" y="212"/>
                  <a:pt x="644" y="208"/>
                </a:cubicBezTo>
                <a:cubicBezTo>
                  <a:pt x="675" y="195"/>
                  <a:pt x="709" y="191"/>
                  <a:pt x="737" y="172"/>
                </a:cubicBezTo>
                <a:cubicBezTo>
                  <a:pt x="752" y="150"/>
                  <a:pt x="776" y="131"/>
                  <a:pt x="797" y="115"/>
                </a:cubicBezTo>
                <a:cubicBezTo>
                  <a:pt x="806" y="108"/>
                  <a:pt x="816" y="105"/>
                  <a:pt x="824" y="97"/>
                </a:cubicBezTo>
                <a:cubicBezTo>
                  <a:pt x="833" y="88"/>
                  <a:pt x="838" y="80"/>
                  <a:pt x="848" y="73"/>
                </a:cubicBezTo>
                <a:cubicBezTo>
                  <a:pt x="860" y="54"/>
                  <a:pt x="854" y="4"/>
                  <a:pt x="845" y="4"/>
                </a:cubicBezTo>
                <a:close/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9" action="ppaction://hlinksldjump"/>
          </p:cNvPr>
          <p:cNvSpPr/>
          <p:nvPr/>
        </p:nvSpPr>
        <p:spPr>
          <a:xfrm>
            <a:off x="7196040" y="4863960"/>
            <a:ext cx="738360" cy="720720"/>
          </a:xfrm>
          <a:custGeom>
            <a:avLst/>
            <a:gdLst/>
            <a:ahLst/>
            <a:rect l="l" t="t" r="r" b="b"/>
            <a:pathLst>
              <a:path w="465" h="454">
                <a:moveTo>
                  <a:pt x="9" y="38"/>
                </a:moveTo>
                <a:cubicBezTo>
                  <a:pt x="25" y="54"/>
                  <a:pt x="34" y="81"/>
                  <a:pt x="57" y="89"/>
                </a:cubicBezTo>
                <a:cubicBezTo>
                  <a:pt x="72" y="111"/>
                  <a:pt x="83" y="136"/>
                  <a:pt x="102" y="155"/>
                </a:cubicBezTo>
                <a:cubicBezTo>
                  <a:pt x="109" y="176"/>
                  <a:pt x="104" y="168"/>
                  <a:pt x="114" y="182"/>
                </a:cubicBezTo>
                <a:cubicBezTo>
                  <a:pt x="115" y="186"/>
                  <a:pt x="115" y="190"/>
                  <a:pt x="117" y="194"/>
                </a:cubicBezTo>
                <a:cubicBezTo>
                  <a:pt x="118" y="197"/>
                  <a:pt x="122" y="200"/>
                  <a:pt x="123" y="203"/>
                </a:cubicBezTo>
                <a:cubicBezTo>
                  <a:pt x="132" y="230"/>
                  <a:pt x="132" y="263"/>
                  <a:pt x="153" y="284"/>
                </a:cubicBezTo>
                <a:cubicBezTo>
                  <a:pt x="174" y="346"/>
                  <a:pt x="215" y="391"/>
                  <a:pt x="279" y="407"/>
                </a:cubicBezTo>
                <a:cubicBezTo>
                  <a:pt x="404" y="405"/>
                  <a:pt x="445" y="454"/>
                  <a:pt x="465" y="374"/>
                </a:cubicBezTo>
                <a:cubicBezTo>
                  <a:pt x="464" y="358"/>
                  <a:pt x="465" y="342"/>
                  <a:pt x="462" y="326"/>
                </a:cubicBezTo>
                <a:cubicBezTo>
                  <a:pt x="461" y="317"/>
                  <a:pt x="444" y="295"/>
                  <a:pt x="441" y="290"/>
                </a:cubicBezTo>
                <a:cubicBezTo>
                  <a:pt x="417" y="253"/>
                  <a:pt x="379" y="227"/>
                  <a:pt x="345" y="200"/>
                </a:cubicBezTo>
                <a:cubicBezTo>
                  <a:pt x="324" y="184"/>
                  <a:pt x="301" y="167"/>
                  <a:pt x="279" y="152"/>
                </a:cubicBezTo>
                <a:cubicBezTo>
                  <a:pt x="270" y="146"/>
                  <a:pt x="252" y="134"/>
                  <a:pt x="252" y="134"/>
                </a:cubicBezTo>
                <a:cubicBezTo>
                  <a:pt x="245" y="123"/>
                  <a:pt x="234" y="111"/>
                  <a:pt x="222" y="107"/>
                </a:cubicBezTo>
                <a:cubicBezTo>
                  <a:pt x="215" y="97"/>
                  <a:pt x="208" y="90"/>
                  <a:pt x="198" y="83"/>
                </a:cubicBezTo>
                <a:cubicBezTo>
                  <a:pt x="178" y="53"/>
                  <a:pt x="145" y="42"/>
                  <a:pt x="114" y="26"/>
                </a:cubicBezTo>
                <a:cubicBezTo>
                  <a:pt x="105" y="21"/>
                  <a:pt x="96" y="15"/>
                  <a:pt x="87" y="11"/>
                </a:cubicBezTo>
                <a:cubicBezTo>
                  <a:pt x="81" y="8"/>
                  <a:pt x="69" y="5"/>
                  <a:pt x="69" y="5"/>
                </a:cubicBezTo>
                <a:cubicBezTo>
                  <a:pt x="29" y="7"/>
                  <a:pt x="12" y="0"/>
                  <a:pt x="0" y="35"/>
                </a:cubicBezTo>
                <a:cubicBezTo>
                  <a:pt x="4" y="50"/>
                  <a:pt x="1" y="50"/>
                  <a:pt x="9" y="38"/>
                </a:cubicBezTo>
                <a:close/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10" action="ppaction://hlinksldjump"/>
          </p:cNvPr>
          <p:cNvSpPr/>
          <p:nvPr/>
        </p:nvSpPr>
        <p:spPr>
          <a:xfrm>
            <a:off x="2916360" y="6064200"/>
            <a:ext cx="4106880" cy="770040"/>
          </a:xfrm>
          <a:custGeom>
            <a:avLst/>
            <a:gdLst/>
            <a:ahLst/>
            <a:rect l="l" t="t" r="r" b="b"/>
            <a:pathLst>
              <a:path w="2587" h="485">
                <a:moveTo>
                  <a:pt x="35" y="132"/>
                </a:moveTo>
                <a:cubicBezTo>
                  <a:pt x="40" y="140"/>
                  <a:pt x="43" y="150"/>
                  <a:pt x="51" y="156"/>
                </a:cubicBezTo>
                <a:cubicBezTo>
                  <a:pt x="58" y="161"/>
                  <a:pt x="69" y="158"/>
                  <a:pt x="75" y="164"/>
                </a:cubicBezTo>
                <a:cubicBezTo>
                  <a:pt x="95" y="184"/>
                  <a:pt x="79" y="226"/>
                  <a:pt x="107" y="244"/>
                </a:cubicBezTo>
                <a:cubicBezTo>
                  <a:pt x="121" y="253"/>
                  <a:pt x="139" y="255"/>
                  <a:pt x="155" y="260"/>
                </a:cubicBezTo>
                <a:cubicBezTo>
                  <a:pt x="163" y="263"/>
                  <a:pt x="179" y="268"/>
                  <a:pt x="179" y="268"/>
                </a:cubicBezTo>
                <a:cubicBezTo>
                  <a:pt x="184" y="276"/>
                  <a:pt x="187" y="286"/>
                  <a:pt x="195" y="292"/>
                </a:cubicBezTo>
                <a:cubicBezTo>
                  <a:pt x="202" y="297"/>
                  <a:pt x="213" y="294"/>
                  <a:pt x="219" y="300"/>
                </a:cubicBezTo>
                <a:cubicBezTo>
                  <a:pt x="277" y="358"/>
                  <a:pt x="224" y="339"/>
                  <a:pt x="299" y="372"/>
                </a:cubicBezTo>
                <a:cubicBezTo>
                  <a:pt x="324" y="383"/>
                  <a:pt x="371" y="388"/>
                  <a:pt x="395" y="404"/>
                </a:cubicBezTo>
                <a:cubicBezTo>
                  <a:pt x="434" y="430"/>
                  <a:pt x="456" y="449"/>
                  <a:pt x="499" y="460"/>
                </a:cubicBezTo>
                <a:cubicBezTo>
                  <a:pt x="651" y="458"/>
                  <a:pt x="1170" y="388"/>
                  <a:pt x="1435" y="476"/>
                </a:cubicBezTo>
                <a:cubicBezTo>
                  <a:pt x="1656" y="472"/>
                  <a:pt x="1879" y="485"/>
                  <a:pt x="2099" y="460"/>
                </a:cubicBezTo>
                <a:cubicBezTo>
                  <a:pt x="2116" y="458"/>
                  <a:pt x="2130" y="446"/>
                  <a:pt x="2147" y="444"/>
                </a:cubicBezTo>
                <a:cubicBezTo>
                  <a:pt x="2174" y="441"/>
                  <a:pt x="2200" y="439"/>
                  <a:pt x="2227" y="436"/>
                </a:cubicBezTo>
                <a:cubicBezTo>
                  <a:pt x="2278" y="423"/>
                  <a:pt x="2250" y="434"/>
                  <a:pt x="2307" y="396"/>
                </a:cubicBezTo>
                <a:cubicBezTo>
                  <a:pt x="2315" y="391"/>
                  <a:pt x="2323" y="385"/>
                  <a:pt x="2331" y="380"/>
                </a:cubicBezTo>
                <a:cubicBezTo>
                  <a:pt x="2339" y="375"/>
                  <a:pt x="2364" y="362"/>
                  <a:pt x="2355" y="364"/>
                </a:cubicBezTo>
                <a:cubicBezTo>
                  <a:pt x="2344" y="367"/>
                  <a:pt x="2315" y="380"/>
                  <a:pt x="2323" y="372"/>
                </a:cubicBezTo>
                <a:cubicBezTo>
                  <a:pt x="2333" y="362"/>
                  <a:pt x="2350" y="362"/>
                  <a:pt x="2363" y="356"/>
                </a:cubicBezTo>
                <a:cubicBezTo>
                  <a:pt x="2430" y="323"/>
                  <a:pt x="2417" y="332"/>
                  <a:pt x="2523" y="324"/>
                </a:cubicBezTo>
                <a:cubicBezTo>
                  <a:pt x="2562" y="311"/>
                  <a:pt x="2553" y="298"/>
                  <a:pt x="2563" y="260"/>
                </a:cubicBezTo>
                <a:cubicBezTo>
                  <a:pt x="2495" y="237"/>
                  <a:pt x="2546" y="193"/>
                  <a:pt x="2483" y="172"/>
                </a:cubicBezTo>
                <a:cubicBezTo>
                  <a:pt x="2508" y="134"/>
                  <a:pt x="2545" y="132"/>
                  <a:pt x="2587" y="124"/>
                </a:cubicBezTo>
                <a:cubicBezTo>
                  <a:pt x="2573" y="81"/>
                  <a:pt x="2561" y="111"/>
                  <a:pt x="2547" y="68"/>
                </a:cubicBezTo>
                <a:cubicBezTo>
                  <a:pt x="2547" y="68"/>
                  <a:pt x="2563" y="52"/>
                  <a:pt x="2571" y="44"/>
                </a:cubicBezTo>
                <a:cubicBezTo>
                  <a:pt x="2556" y="0"/>
                  <a:pt x="2539" y="10"/>
                  <a:pt x="2499" y="20"/>
                </a:cubicBezTo>
                <a:cubicBezTo>
                  <a:pt x="2472" y="38"/>
                  <a:pt x="2444" y="56"/>
                  <a:pt x="2419" y="76"/>
                </a:cubicBezTo>
                <a:cubicBezTo>
                  <a:pt x="2410" y="83"/>
                  <a:pt x="2405" y="95"/>
                  <a:pt x="2395" y="100"/>
                </a:cubicBezTo>
                <a:cubicBezTo>
                  <a:pt x="2380" y="108"/>
                  <a:pt x="2347" y="116"/>
                  <a:pt x="2347" y="116"/>
                </a:cubicBezTo>
                <a:cubicBezTo>
                  <a:pt x="2293" y="98"/>
                  <a:pt x="2318" y="89"/>
                  <a:pt x="2251" y="100"/>
                </a:cubicBezTo>
                <a:cubicBezTo>
                  <a:pt x="2214" y="125"/>
                  <a:pt x="2196" y="159"/>
                  <a:pt x="2171" y="196"/>
                </a:cubicBezTo>
                <a:cubicBezTo>
                  <a:pt x="2166" y="203"/>
                  <a:pt x="2154" y="200"/>
                  <a:pt x="2147" y="204"/>
                </a:cubicBezTo>
                <a:cubicBezTo>
                  <a:pt x="2064" y="250"/>
                  <a:pt x="2129" y="226"/>
                  <a:pt x="2075" y="244"/>
                </a:cubicBezTo>
                <a:cubicBezTo>
                  <a:pt x="2067" y="252"/>
                  <a:pt x="2060" y="262"/>
                  <a:pt x="2051" y="268"/>
                </a:cubicBezTo>
                <a:cubicBezTo>
                  <a:pt x="2044" y="273"/>
                  <a:pt x="2034" y="271"/>
                  <a:pt x="2027" y="276"/>
                </a:cubicBezTo>
                <a:cubicBezTo>
                  <a:pt x="2019" y="282"/>
                  <a:pt x="2020" y="296"/>
                  <a:pt x="2011" y="300"/>
                </a:cubicBezTo>
                <a:cubicBezTo>
                  <a:pt x="1996" y="307"/>
                  <a:pt x="1979" y="305"/>
                  <a:pt x="1963" y="308"/>
                </a:cubicBezTo>
                <a:cubicBezTo>
                  <a:pt x="1918" y="317"/>
                  <a:pt x="1871" y="333"/>
                  <a:pt x="1827" y="348"/>
                </a:cubicBezTo>
                <a:cubicBezTo>
                  <a:pt x="1801" y="309"/>
                  <a:pt x="1820" y="304"/>
                  <a:pt x="1771" y="292"/>
                </a:cubicBezTo>
                <a:cubicBezTo>
                  <a:pt x="1705" y="314"/>
                  <a:pt x="1632" y="307"/>
                  <a:pt x="1563" y="324"/>
                </a:cubicBezTo>
                <a:cubicBezTo>
                  <a:pt x="1531" y="345"/>
                  <a:pt x="1500" y="358"/>
                  <a:pt x="1467" y="380"/>
                </a:cubicBezTo>
                <a:cubicBezTo>
                  <a:pt x="1459" y="385"/>
                  <a:pt x="1451" y="391"/>
                  <a:pt x="1443" y="396"/>
                </a:cubicBezTo>
                <a:cubicBezTo>
                  <a:pt x="1435" y="401"/>
                  <a:pt x="1419" y="412"/>
                  <a:pt x="1419" y="412"/>
                </a:cubicBezTo>
                <a:cubicBezTo>
                  <a:pt x="1370" y="396"/>
                  <a:pt x="1326" y="428"/>
                  <a:pt x="1307" y="372"/>
                </a:cubicBezTo>
                <a:cubicBezTo>
                  <a:pt x="1315" y="369"/>
                  <a:pt x="1363" y="359"/>
                  <a:pt x="1307" y="356"/>
                </a:cubicBezTo>
                <a:cubicBezTo>
                  <a:pt x="1206" y="351"/>
                  <a:pt x="1104" y="351"/>
                  <a:pt x="1003" y="348"/>
                </a:cubicBezTo>
                <a:cubicBezTo>
                  <a:pt x="968" y="336"/>
                  <a:pt x="941" y="319"/>
                  <a:pt x="907" y="308"/>
                </a:cubicBezTo>
                <a:cubicBezTo>
                  <a:pt x="902" y="300"/>
                  <a:pt x="899" y="290"/>
                  <a:pt x="891" y="284"/>
                </a:cubicBezTo>
                <a:cubicBezTo>
                  <a:pt x="884" y="279"/>
                  <a:pt x="873" y="282"/>
                  <a:pt x="867" y="276"/>
                </a:cubicBezTo>
                <a:cubicBezTo>
                  <a:pt x="861" y="270"/>
                  <a:pt x="864" y="259"/>
                  <a:pt x="859" y="252"/>
                </a:cubicBezTo>
                <a:cubicBezTo>
                  <a:pt x="853" y="244"/>
                  <a:pt x="843" y="241"/>
                  <a:pt x="835" y="236"/>
                </a:cubicBezTo>
                <a:cubicBezTo>
                  <a:pt x="823" y="219"/>
                  <a:pt x="807" y="205"/>
                  <a:pt x="795" y="188"/>
                </a:cubicBezTo>
                <a:cubicBezTo>
                  <a:pt x="790" y="181"/>
                  <a:pt x="793" y="170"/>
                  <a:pt x="787" y="164"/>
                </a:cubicBezTo>
                <a:cubicBezTo>
                  <a:pt x="773" y="150"/>
                  <a:pt x="739" y="132"/>
                  <a:pt x="739" y="132"/>
                </a:cubicBezTo>
                <a:cubicBezTo>
                  <a:pt x="709" y="88"/>
                  <a:pt x="740" y="123"/>
                  <a:pt x="699" y="100"/>
                </a:cubicBezTo>
                <a:cubicBezTo>
                  <a:pt x="682" y="91"/>
                  <a:pt x="651" y="68"/>
                  <a:pt x="651" y="68"/>
                </a:cubicBezTo>
                <a:cubicBezTo>
                  <a:pt x="648" y="60"/>
                  <a:pt x="650" y="49"/>
                  <a:pt x="643" y="44"/>
                </a:cubicBezTo>
                <a:cubicBezTo>
                  <a:pt x="629" y="34"/>
                  <a:pt x="595" y="28"/>
                  <a:pt x="595" y="28"/>
                </a:cubicBezTo>
                <a:cubicBezTo>
                  <a:pt x="578" y="34"/>
                  <a:pt x="565" y="49"/>
                  <a:pt x="547" y="52"/>
                </a:cubicBezTo>
                <a:cubicBezTo>
                  <a:pt x="476" y="62"/>
                  <a:pt x="403" y="60"/>
                  <a:pt x="331" y="68"/>
                </a:cubicBezTo>
                <a:cubicBezTo>
                  <a:pt x="271" y="48"/>
                  <a:pt x="331" y="75"/>
                  <a:pt x="331" y="44"/>
                </a:cubicBezTo>
                <a:cubicBezTo>
                  <a:pt x="331" y="36"/>
                  <a:pt x="315" y="50"/>
                  <a:pt x="307" y="52"/>
                </a:cubicBezTo>
                <a:cubicBezTo>
                  <a:pt x="289" y="56"/>
                  <a:pt x="270" y="58"/>
                  <a:pt x="251" y="60"/>
                </a:cubicBezTo>
                <a:cubicBezTo>
                  <a:pt x="211" y="64"/>
                  <a:pt x="171" y="65"/>
                  <a:pt x="131" y="68"/>
                </a:cubicBezTo>
                <a:cubicBezTo>
                  <a:pt x="74" y="87"/>
                  <a:pt x="97" y="75"/>
                  <a:pt x="59" y="100"/>
                </a:cubicBezTo>
                <a:cubicBezTo>
                  <a:pt x="54" y="108"/>
                  <a:pt x="51" y="118"/>
                  <a:pt x="43" y="124"/>
                </a:cubicBezTo>
                <a:cubicBezTo>
                  <a:pt x="31" y="134"/>
                  <a:pt x="0" y="132"/>
                  <a:pt x="35" y="132"/>
                </a:cubicBezTo>
                <a:close/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51640" y="4797360"/>
            <a:ext cx="31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84360" y="6093000"/>
            <a:ext cx="1079280" cy="504720"/>
            <a:chOff x="684360" y="6093000"/>
            <a:chExt cx="1079280" cy="504720"/>
          </a:xfrm>
        </p:grpSpPr>
        <p:sp>
          <p:nvSpPr>
            <p:cNvPr id="147" name=""/>
            <p:cNvSpPr txBox="1"/>
            <p:nvPr/>
          </p:nvSpPr>
          <p:spPr>
            <a:xfrm>
              <a:off x="787680" y="6148440"/>
              <a:ext cx="873720" cy="39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3366ff"/>
                    </a:solidFill>
                    <a:miter/>
                  </a:ln>
                  <a:solidFill>
                    <a:srgbClr val="3366ff"/>
                  </a:soli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点此结束练习</a:t>
              </a:r>
              <a:endParaRPr b="0" lang="en-US" sz="18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4360" y="6093000"/>
              <a:ext cx="1079280" cy="504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1822320" cy="16761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1835280" y="3357720"/>
            <a:ext cx="5943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8000"/>
                </a:solidFill>
                <a:latin typeface="宋体"/>
              </a:rPr>
              <a:t>对不起，答错了！继续努力哟！</a:t>
            </a:r>
            <a:endParaRPr b="0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8000"/>
              </a:solidFill>
              <a:latin typeface="宋体"/>
              <a:ea typeface="宋体"/>
            </a:endParaRPr>
          </a:p>
        </p:txBody>
      </p:sp>
      <p:pic>
        <p:nvPicPr>
          <p:cNvPr id="15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51640" y="6021360"/>
            <a:ext cx="905040" cy="4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1822320" cy="16761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2743200" y="3127320"/>
            <a:ext cx="3657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339966"/>
                </a:solidFill>
                <a:latin typeface="宋体"/>
              </a:rPr>
              <a:t>恭喜你！答对了！</a:t>
            </a:r>
            <a:endParaRPr b="0" lang="en-US" sz="1800" spc="1" strike="noStrike">
              <a:ln w="9360">
                <a:solidFill>
                  <a:srgbClr val="33cccc"/>
                </a:solidFill>
                <a:miter/>
              </a:ln>
              <a:solidFill>
                <a:srgbClr val="339966"/>
              </a:solidFill>
              <a:latin typeface="宋体"/>
              <a:ea typeface="宋体"/>
            </a:endParaRPr>
          </a:p>
        </p:txBody>
      </p:sp>
      <p:pic>
        <p:nvPicPr>
          <p:cNvPr id="15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51640" y="6021360"/>
            <a:ext cx="905040" cy="4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e2fee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835280" y="1989000"/>
            <a:ext cx="6697440" cy="43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" action="ppaction://hlinksldjump"/>
              </a:rPr>
              <a:t>1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2" action="ppaction://hlinksldjump"/>
              </a:rPr>
              <a:t>朝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3" action="ppaction://hlinksldjump"/>
              </a:rPr>
              <a:t>2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4" action="ppaction://hlinksldjump"/>
              </a:rPr>
              <a:t>俄罗斯、蒙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5" action="ppaction://hlinksldjump"/>
              </a:rPr>
              <a:t>3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6" action="ppaction://hlinksldjump"/>
              </a:rPr>
              <a:t>哈萨克斯坦、吉尔吉斯斯坦、塔吉克斯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7" action="ppaction://hlinksldjump"/>
              </a:rPr>
              <a:t>4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8" action="ppaction://hlinksldjump"/>
              </a:rPr>
              <a:t>阿富汗、巴基斯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9" action="ppaction://hlinksldjump"/>
              </a:rPr>
              <a:t>5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0" action="ppaction://hlinksldjump"/>
              </a:rPr>
              <a:t>印度、尼泊尔、锡金、不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1" action="ppaction://hlinksldjump"/>
              </a:rPr>
              <a:t>6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2" action="ppaction://hlinksldjump"/>
              </a:rPr>
              <a:t>缅甸、老挝、越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3" action="ppaction://hlinksldjump"/>
              </a:rPr>
              <a:t>7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4" action="ppaction://hlinksldjump"/>
              </a:rPr>
              <a:t>韩国、日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5" action="ppaction://hlinksldjump"/>
              </a:rPr>
              <a:t>8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6" action="ppaction://hlinksldjump"/>
              </a:rPr>
              <a:t>菲律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7" action="ppaction://hlinksldjump"/>
              </a:rPr>
              <a:t>9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8" action="ppaction://hlinksldjump"/>
              </a:rPr>
              <a:t>马来西亚、文莱、印度尼西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4360" y="620640"/>
            <a:ext cx="295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请选择点击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21240" y="692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从世界看中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1916280"/>
            <a:ext cx="338472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 action="ppaction://hlinksldjump"/>
              </a:rPr>
              <a:t>１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 action="ppaction://hlinksldjump"/>
              </a:rPr>
              <a:t>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 action="ppaction://hlinksldjump"/>
              </a:rPr>
              <a:t>从东西两半球看，中国位于东半球；从南北两半球看，中国位于北半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 action="ppaction://hlinksldjump"/>
              </a:rPr>
              <a:t>２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 action="ppaction://hlinksldjump"/>
              </a:rPr>
              <a:t>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 action="ppaction://hlinksldjump"/>
              </a:rPr>
              <a:t>从世界大洲和大洋的位置看，中国是亚洲东部、太平洋西岸的国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4356000" y="1557360"/>
            <a:ext cx="4319640" cy="4392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740720" y="6165720"/>
            <a:ext cx="804960" cy="34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ddfed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835280" y="1989000"/>
            <a:ext cx="6697440" cy="43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" action="ppaction://hlinksldjump"/>
              </a:rPr>
              <a:t>1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2" action="ppaction://hlinksldjump"/>
              </a:rPr>
              <a:t>朝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3" action="ppaction://hlinksldjump"/>
              </a:rPr>
              <a:t>2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4" action="ppaction://hlinksldjump"/>
              </a:rPr>
              <a:t>俄罗斯、蒙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5" action="ppaction://hlinksldjump"/>
              </a:rPr>
              <a:t>3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6" action="ppaction://hlinksldjump"/>
              </a:rPr>
              <a:t>哈萨克斯坦、吉尔吉斯斯坦、塔吉克斯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7" action="ppaction://hlinksldjump"/>
              </a:rPr>
              <a:t>4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8" action="ppaction://hlinksldjump"/>
              </a:rPr>
              <a:t>阿富汗、巴基斯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9" action="ppaction://hlinksldjump"/>
              </a:rPr>
              <a:t>5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0" action="ppaction://hlinksldjump"/>
              </a:rPr>
              <a:t>印度、尼泊尔、锡金、不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1" action="ppaction://hlinksldjump"/>
              </a:rPr>
              <a:t>6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2" action="ppaction://hlinksldjump"/>
              </a:rPr>
              <a:t>缅甸、老挝、越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3" action="ppaction://hlinksldjump"/>
              </a:rPr>
              <a:t>7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4" action="ppaction://hlinksldjump"/>
              </a:rPr>
              <a:t>韩国、日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5" action="ppaction://hlinksldjump"/>
              </a:rPr>
              <a:t>8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6" action="ppaction://hlinksldjump"/>
              </a:rPr>
              <a:t>菲律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7" action="ppaction://hlinksldjump"/>
              </a:rPr>
              <a:t>9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8" action="ppaction://hlinksldjump"/>
              </a:rPr>
              <a:t>马来西亚、文莱、印度尼西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4360" y="620640"/>
            <a:ext cx="295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请选择点击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dafe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835280" y="1989000"/>
            <a:ext cx="6697440" cy="43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" action="ppaction://hlinksldjump"/>
              </a:rPr>
              <a:t>1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2" action="ppaction://hlinksldjump"/>
              </a:rPr>
              <a:t>朝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3" action="ppaction://hlinksldjump"/>
              </a:rPr>
              <a:t>2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4" action="ppaction://hlinksldjump"/>
              </a:rPr>
              <a:t>俄罗斯、蒙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5" action="ppaction://hlinksldjump"/>
              </a:rPr>
              <a:t>3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6" action="ppaction://hlinksldjump"/>
              </a:rPr>
              <a:t>哈萨克斯坦、吉尔吉斯斯坦、塔吉克斯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7" action="ppaction://hlinksldjump"/>
              </a:rPr>
              <a:t>4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8" action="ppaction://hlinksldjump"/>
              </a:rPr>
              <a:t>阿富汗、巴基斯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9" action="ppaction://hlinksldjump"/>
              </a:rPr>
              <a:t>5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0" action="ppaction://hlinksldjump"/>
              </a:rPr>
              <a:t>印度、尼泊尔、锡金、不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1" action="ppaction://hlinksldjump"/>
              </a:rPr>
              <a:t>6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2" action="ppaction://hlinksldjump"/>
              </a:rPr>
              <a:t>缅甸、老挝、越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3" action="ppaction://hlinksldjump"/>
              </a:rPr>
              <a:t>7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4" action="ppaction://hlinksldjump"/>
              </a:rPr>
              <a:t>韩国、日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5" action="ppaction://hlinksldjump"/>
              </a:rPr>
              <a:t>8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6" action="ppaction://hlinksldjump"/>
              </a:rPr>
              <a:t>菲律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7" action="ppaction://hlinksldjump"/>
              </a:rPr>
              <a:t>9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8" action="ppaction://hlinksldjump"/>
              </a:rPr>
              <a:t>马来西亚、文莱、印度尼西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4360" y="620640"/>
            <a:ext cx="295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请选择点击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d8fe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835280" y="1989000"/>
            <a:ext cx="6697440" cy="43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" action="ppaction://hlinksldjump"/>
              </a:rPr>
              <a:t>1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2" action="ppaction://hlinksldjump"/>
              </a:rPr>
              <a:t>朝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3" action="ppaction://hlinksldjump"/>
              </a:rPr>
              <a:t>2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4" action="ppaction://hlinksldjump"/>
              </a:rPr>
              <a:t>俄罗斯、蒙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5" action="ppaction://hlinksldjump"/>
              </a:rPr>
              <a:t>3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6" action="ppaction://hlinksldjump"/>
              </a:rPr>
              <a:t>哈萨克斯坦、吉尔吉斯斯坦、塔吉克斯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7" action="ppaction://hlinksldjump"/>
              </a:rPr>
              <a:t>4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8" action="ppaction://hlinksldjump"/>
              </a:rPr>
              <a:t>阿富汗、巴基斯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9" action="ppaction://hlinksldjump"/>
              </a:rPr>
              <a:t>5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0" action="ppaction://hlinksldjump"/>
              </a:rPr>
              <a:t>印度、尼泊尔、锡金、不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1" action="ppaction://hlinksldjump"/>
              </a:rPr>
              <a:t>6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2" action="ppaction://hlinksldjump"/>
              </a:rPr>
              <a:t>缅甸、老挝、越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3" action="ppaction://hlinksldjump"/>
              </a:rPr>
              <a:t>7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4" action="ppaction://hlinksldjump"/>
              </a:rPr>
              <a:t>韩国、日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5" action="ppaction://hlinksldjump"/>
              </a:rPr>
              <a:t>8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6" action="ppaction://hlinksldjump"/>
              </a:rPr>
              <a:t>菲律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7" action="ppaction://hlinksldjump"/>
              </a:rPr>
              <a:t>9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8" action="ppaction://hlinksldjump"/>
              </a:rPr>
              <a:t>马来西亚、文莱、印度尼西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4360" y="620640"/>
            <a:ext cx="295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请选择点击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ddfed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835280" y="1989000"/>
            <a:ext cx="6697440" cy="43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" action="ppaction://hlinksldjump"/>
              </a:rPr>
              <a:t>1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2" action="ppaction://hlinksldjump"/>
              </a:rPr>
              <a:t>朝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3" action="ppaction://hlinksldjump"/>
              </a:rPr>
              <a:t>2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4" action="ppaction://hlinksldjump"/>
              </a:rPr>
              <a:t>俄罗斯、蒙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5" action="ppaction://hlinksldjump"/>
              </a:rPr>
              <a:t>3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6" action="ppaction://hlinksldjump"/>
              </a:rPr>
              <a:t>哈萨克斯坦、吉尔吉斯斯坦、塔吉克斯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7" action="ppaction://hlinksldjump"/>
              </a:rPr>
              <a:t>4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8" action="ppaction://hlinksldjump"/>
              </a:rPr>
              <a:t>阿富汗、巴基斯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9" action="ppaction://hlinksldjump"/>
              </a:rPr>
              <a:t>5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0" action="ppaction://hlinksldjump"/>
              </a:rPr>
              <a:t>印度、尼泊尔、锡金、不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1" action="ppaction://hlinksldjump"/>
              </a:rPr>
              <a:t>6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2" action="ppaction://hlinksldjump"/>
              </a:rPr>
              <a:t>缅甸、老挝、越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3" action="ppaction://hlinksldjump"/>
              </a:rPr>
              <a:t>7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4" action="ppaction://hlinksldjump"/>
              </a:rPr>
              <a:t>韩国、日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5" action="ppaction://hlinksldjump"/>
              </a:rPr>
              <a:t>8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6" action="ppaction://hlinksldjump"/>
              </a:rPr>
              <a:t>菲律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7" action="ppaction://hlinksldjump"/>
              </a:rPr>
              <a:t>9.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隶书"/>
                <a:ea typeface="华文隶书"/>
                <a:hlinkClick r:id="rId18" action="ppaction://hlinksldjump"/>
              </a:rPr>
              <a:t>马来西亚、文莱、印度尼西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4360" y="620640"/>
            <a:ext cx="295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请选择点击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ddfed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835280" y="1989000"/>
            <a:ext cx="669744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1.</a:t>
            </a: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朝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：俄罗斯、蒙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3</a:t>
            </a: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：哈萨克斯坦、吉尔吉斯斯坦、塔吉克斯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4</a:t>
            </a: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：阿富汗、巴基斯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5</a:t>
            </a: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：印度、尼泊尔、锡金、不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6</a:t>
            </a: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：缅甸、老挝、越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7</a:t>
            </a: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：韩国、日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8</a:t>
            </a: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：菲律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9</a:t>
            </a: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：马来西亚、文莱、印度尼西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360" y="620640"/>
            <a:ext cx="295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请选择点击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dafe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835280" y="1989000"/>
            <a:ext cx="669744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1.</a:t>
            </a: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朝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2.</a:t>
            </a: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俄罗斯、蒙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3.</a:t>
            </a: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哈萨克斯坦、吉尔吉斯斯坦、塔吉克斯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4.</a:t>
            </a: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阿富汗、巴基斯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5.</a:t>
            </a: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印度、尼泊尔、锡金、不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6.</a:t>
            </a: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缅甸、老挝、越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7.</a:t>
            </a: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韩国、日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8.</a:t>
            </a: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菲律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9.</a:t>
            </a: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马来西亚、文莱、印度尼西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4360" y="620640"/>
            <a:ext cx="295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请选择点击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dafe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835280" y="1989000"/>
            <a:ext cx="669744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1.</a:t>
            </a: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朝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2.</a:t>
            </a: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俄罗斯、蒙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3.</a:t>
            </a: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哈萨克斯坦、吉尔吉斯斯坦、塔吉克斯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4.</a:t>
            </a: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阿富汗、巴基斯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5.</a:t>
            </a: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印度、尼泊尔、锡金、不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6.</a:t>
            </a: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缅甸、老挝、越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7.</a:t>
            </a: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韩国、日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8.</a:t>
            </a: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菲律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9.</a:t>
            </a: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马来西亚、文莱、印度尼西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360" y="620640"/>
            <a:ext cx="295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请选择点击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dcfed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835280" y="1989000"/>
            <a:ext cx="669744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1.</a:t>
            </a: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朝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2.</a:t>
            </a: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俄罗斯、蒙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3.</a:t>
            </a: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哈萨克斯坦、吉尔吉斯斯坦、塔吉克斯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4.</a:t>
            </a: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阿富汗、巴基斯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5.</a:t>
            </a: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印度、尼泊尔、锡金、不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6.</a:t>
            </a: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缅甸、老挝、越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7.</a:t>
            </a: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韩国、日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8.</a:t>
            </a: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菲律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9.</a:t>
            </a:r>
            <a:r>
              <a:rPr b="0" lang="zh-CN" sz="2400" spc="-1" strike="noStrike">
                <a:solidFill>
                  <a:srgbClr val="009999"/>
                </a:solidFill>
                <a:latin typeface="华文隶书"/>
                <a:ea typeface="华文隶书"/>
              </a:rPr>
              <a:t>马来西亚、文莱、印度尼西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4360" y="620640"/>
            <a:ext cx="295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请选择点击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1965600" cy="2016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843280" y="907920"/>
            <a:ext cx="1655640" cy="863640"/>
          </a:xfrm>
          <a:prstGeom prst="wedgeRoundRectCallout">
            <a:avLst>
              <a:gd name="adj1" fmla="val -55083"/>
              <a:gd name="adj2" fmla="val 9191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66ff"/>
                </a:solidFill>
                <a:latin typeface="Arial"/>
                <a:ea typeface="华文新魏"/>
              </a:rPr>
              <a:t>谢谢观看</a:t>
            </a:r>
            <a:r>
              <a:rPr b="0" lang="zh-CN" sz="1800" spc="-1" strike="noStrike">
                <a:solidFill>
                  <a:srgbClr val="cc66ff"/>
                </a:solidFill>
                <a:latin typeface="Arial"/>
                <a:ea typeface="华文新魏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66ff"/>
                </a:solidFill>
                <a:latin typeface="Arial"/>
                <a:ea typeface="华文新魏"/>
              </a:rPr>
              <a:t>下次再见喽</a:t>
            </a:r>
            <a:r>
              <a:rPr b="0" lang="zh-CN" sz="1800" spc="-1" strike="noStrike">
                <a:solidFill>
                  <a:srgbClr val="cc66ff"/>
                </a:solidFill>
                <a:latin typeface="Arial"/>
                <a:ea typeface="华文新魏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80000" y="4941720"/>
            <a:ext cx="280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0" lang="zh-CN" sz="2400" spc="-1" strike="noStrike">
                <a:solidFill>
                  <a:srgbClr val="cc66ff"/>
                </a:solidFill>
                <a:latin typeface="华文行楷"/>
                <a:ea typeface="华文行楷"/>
              </a:rPr>
              <a:t>永坪高级中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66ff"/>
                </a:solidFill>
                <a:latin typeface="华文行楷"/>
                <a:ea typeface="华文行楷"/>
              </a:rPr>
              <a:t>作者：解鹏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66ff"/>
                </a:solidFill>
                <a:latin typeface="华文行楷"/>
                <a:ea typeface="华文行楷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257880" cy="5025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55160" y="3524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宋体"/>
              </a:rPr>
              <a:t>我国的疆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92360" y="1484280"/>
            <a:ext cx="2016000" cy="649440"/>
            <a:chOff x="1692360" y="1484280"/>
            <a:chExt cx="2016000" cy="649440"/>
          </a:xfrm>
        </p:grpSpPr>
        <p:pic>
          <p:nvPicPr>
            <p:cNvPr id="54" name="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1692360" y="1484280"/>
              <a:ext cx="2016000" cy="6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203640" y="1852560"/>
              <a:ext cx="288720" cy="2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"/>
          <p:cNvGrpSpPr/>
          <p:nvPr/>
        </p:nvGrpSpPr>
        <p:grpSpPr>
          <a:xfrm>
            <a:off x="5867280" y="3068640"/>
            <a:ext cx="1297080" cy="936720"/>
            <a:chOff x="5867280" y="3068640"/>
            <a:chExt cx="1297080" cy="936720"/>
          </a:xfrm>
        </p:grpSpPr>
        <p:pic>
          <p:nvPicPr>
            <p:cNvPr id="57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867280" y="3068640"/>
              <a:ext cx="1297080" cy="87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6754680" y="3726000"/>
              <a:ext cx="272520" cy="27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"/>
          <p:cNvGrpSpPr/>
          <p:nvPr/>
        </p:nvGrpSpPr>
        <p:grpSpPr>
          <a:xfrm>
            <a:off x="1258920" y="4149720"/>
            <a:ext cx="1009440" cy="711360"/>
            <a:chOff x="1258920" y="4149720"/>
            <a:chExt cx="1009440" cy="711360"/>
          </a:xfrm>
        </p:grpSpPr>
        <p:pic>
          <p:nvPicPr>
            <p:cNvPr id="60" name="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1258920" y="4149720"/>
              <a:ext cx="10094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1908000" y="4581360"/>
              <a:ext cx="287640" cy="27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"/>
          <p:cNvGrpSpPr/>
          <p:nvPr/>
        </p:nvGrpSpPr>
        <p:grpSpPr>
          <a:xfrm>
            <a:off x="6084720" y="5335560"/>
            <a:ext cx="1151280" cy="895320"/>
            <a:chOff x="6084720" y="5335560"/>
            <a:chExt cx="1151280" cy="895320"/>
          </a:xfrm>
        </p:grpSpPr>
        <p:pic>
          <p:nvPicPr>
            <p:cNvPr id="63" name="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6084720" y="5335560"/>
              <a:ext cx="115128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6515280" y="5950080"/>
              <a:ext cx="288720" cy="280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" name="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7740720" y="6165720"/>
            <a:ext cx="804960" cy="34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42920" y="2205000"/>
            <a:ext cx="7489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我国领土南北跨越的纬度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度，大部分在温带，小部分在热带，没有寒带。只有在高山地区，有终年冰雪带。我国所处的纬度位置和南北的气候差异，为我国发展多种农业经济提供了有利条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２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我国领土所跨的经度，从西到东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度。根据世界时区的划分，分属于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区到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区的五个区时。为了使用上的方便，目前我国各地都采用北京时间所在的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区的区时，这就是“北京时间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826920" y="1052640"/>
            <a:ext cx="136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意义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40720" y="6165720"/>
            <a:ext cx="804960" cy="34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6360" y="2700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6516720" y="549360"/>
            <a:ext cx="2592000" cy="4248000"/>
            <a:chOff x="6516720" y="549360"/>
            <a:chExt cx="2592000" cy="4248000"/>
          </a:xfrm>
        </p:grpSpPr>
        <p:sp>
          <p:nvSpPr>
            <p:cNvPr id="71" name=""/>
            <p:cNvSpPr/>
            <p:nvPr/>
          </p:nvSpPr>
          <p:spPr>
            <a:xfrm flipV="1">
              <a:off x="6577560" y="1125000"/>
              <a:ext cx="1808280" cy="1008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6879240" y="2133720"/>
              <a:ext cx="1506600" cy="358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241040" y="3213000"/>
              <a:ext cx="10839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16720" y="4797360"/>
              <a:ext cx="1808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386200" y="1557360"/>
              <a:ext cx="632160" cy="431640"/>
            </a:xfrm>
            <a:prstGeom prst="wedgeRoundRectCallout">
              <a:avLst>
                <a:gd name="adj1" fmla="val -43699"/>
                <a:gd name="adj2" fmla="val 86398"/>
                <a:gd name="adj3" fmla="val 16667"/>
              </a:avLst>
            </a:prstGeom>
            <a:solidFill>
              <a:srgbClr val="f6f7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黄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265240" y="2708280"/>
              <a:ext cx="782280" cy="433440"/>
            </a:xfrm>
            <a:prstGeom prst="wedgeEllipseCallout">
              <a:avLst>
                <a:gd name="adj1" fmla="val -40152"/>
                <a:gd name="adj2" fmla="val 63185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东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325000" y="4221000"/>
              <a:ext cx="783720" cy="503280"/>
            </a:xfrm>
            <a:prstGeom prst="cloudCallout">
              <a:avLst>
                <a:gd name="adj1" fmla="val -49152"/>
                <a:gd name="adj2" fmla="val 70504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南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25000" y="549360"/>
              <a:ext cx="783720" cy="503280"/>
            </a:xfrm>
            <a:prstGeom prst="cloudCallout">
              <a:avLst>
                <a:gd name="adj1" fmla="val -49152"/>
                <a:gd name="adj2" fmla="val 7050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渤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-36360" y="144360"/>
            <a:ext cx="7484760" cy="5085000"/>
            <a:chOff x="-36360" y="144360"/>
            <a:chExt cx="7484760" cy="5085000"/>
          </a:xfrm>
        </p:grpSpPr>
        <p:sp>
          <p:nvSpPr>
            <p:cNvPr id="80" name=""/>
            <p:cNvSpPr/>
            <p:nvPr/>
          </p:nvSpPr>
          <p:spPr>
            <a:xfrm>
              <a:off x="2838600" y="4192560"/>
              <a:ext cx="2454120" cy="1036800"/>
            </a:xfrm>
            <a:custGeom>
              <a:avLst/>
              <a:gdLst/>
              <a:ahLst/>
              <a:rect l="l" t="t" r="r" b="b"/>
              <a:pathLst>
                <a:path w="1546" h="653">
                  <a:moveTo>
                    <a:pt x="18" y="84"/>
                  </a:moveTo>
                  <a:cubicBezTo>
                    <a:pt x="101" y="85"/>
                    <a:pt x="183" y="85"/>
                    <a:pt x="266" y="88"/>
                  </a:cubicBezTo>
                  <a:cubicBezTo>
                    <a:pt x="280" y="88"/>
                    <a:pt x="288" y="102"/>
                    <a:pt x="302" y="104"/>
                  </a:cubicBezTo>
                  <a:cubicBezTo>
                    <a:pt x="322" y="106"/>
                    <a:pt x="342" y="107"/>
                    <a:pt x="362" y="108"/>
                  </a:cubicBezTo>
                  <a:cubicBezTo>
                    <a:pt x="370" y="133"/>
                    <a:pt x="360" y="114"/>
                    <a:pt x="398" y="124"/>
                  </a:cubicBezTo>
                  <a:cubicBezTo>
                    <a:pt x="403" y="125"/>
                    <a:pt x="405" y="132"/>
                    <a:pt x="410" y="132"/>
                  </a:cubicBezTo>
                  <a:cubicBezTo>
                    <a:pt x="465" y="136"/>
                    <a:pt x="519" y="135"/>
                    <a:pt x="574" y="136"/>
                  </a:cubicBezTo>
                  <a:cubicBezTo>
                    <a:pt x="619" y="151"/>
                    <a:pt x="617" y="148"/>
                    <a:pt x="678" y="152"/>
                  </a:cubicBezTo>
                  <a:cubicBezTo>
                    <a:pt x="685" y="153"/>
                    <a:pt x="692" y="153"/>
                    <a:pt x="698" y="156"/>
                  </a:cubicBezTo>
                  <a:cubicBezTo>
                    <a:pt x="702" y="158"/>
                    <a:pt x="704" y="164"/>
                    <a:pt x="706" y="168"/>
                  </a:cubicBezTo>
                  <a:cubicBezTo>
                    <a:pt x="708" y="172"/>
                    <a:pt x="707" y="178"/>
                    <a:pt x="710" y="180"/>
                  </a:cubicBezTo>
                  <a:cubicBezTo>
                    <a:pt x="715" y="184"/>
                    <a:pt x="741" y="190"/>
                    <a:pt x="750" y="192"/>
                  </a:cubicBezTo>
                  <a:cubicBezTo>
                    <a:pt x="772" y="207"/>
                    <a:pt x="778" y="224"/>
                    <a:pt x="786" y="248"/>
                  </a:cubicBezTo>
                  <a:cubicBezTo>
                    <a:pt x="789" y="257"/>
                    <a:pt x="802" y="259"/>
                    <a:pt x="810" y="264"/>
                  </a:cubicBezTo>
                  <a:cubicBezTo>
                    <a:pt x="852" y="292"/>
                    <a:pt x="854" y="284"/>
                    <a:pt x="922" y="288"/>
                  </a:cubicBezTo>
                  <a:cubicBezTo>
                    <a:pt x="944" y="295"/>
                    <a:pt x="962" y="303"/>
                    <a:pt x="982" y="312"/>
                  </a:cubicBezTo>
                  <a:cubicBezTo>
                    <a:pt x="990" y="315"/>
                    <a:pt x="998" y="317"/>
                    <a:pt x="1006" y="320"/>
                  </a:cubicBezTo>
                  <a:cubicBezTo>
                    <a:pt x="1010" y="321"/>
                    <a:pt x="1018" y="324"/>
                    <a:pt x="1018" y="324"/>
                  </a:cubicBezTo>
                  <a:cubicBezTo>
                    <a:pt x="1028" y="354"/>
                    <a:pt x="1013" y="318"/>
                    <a:pt x="1034" y="344"/>
                  </a:cubicBezTo>
                  <a:cubicBezTo>
                    <a:pt x="1047" y="360"/>
                    <a:pt x="1038" y="396"/>
                    <a:pt x="1058" y="408"/>
                  </a:cubicBezTo>
                  <a:cubicBezTo>
                    <a:pt x="1065" y="412"/>
                    <a:pt x="1074" y="413"/>
                    <a:pt x="1082" y="416"/>
                  </a:cubicBezTo>
                  <a:cubicBezTo>
                    <a:pt x="1086" y="417"/>
                    <a:pt x="1094" y="420"/>
                    <a:pt x="1094" y="420"/>
                  </a:cubicBezTo>
                  <a:cubicBezTo>
                    <a:pt x="1100" y="429"/>
                    <a:pt x="1122" y="464"/>
                    <a:pt x="1130" y="468"/>
                  </a:cubicBezTo>
                  <a:cubicBezTo>
                    <a:pt x="1149" y="477"/>
                    <a:pt x="1178" y="479"/>
                    <a:pt x="1198" y="484"/>
                  </a:cubicBezTo>
                  <a:cubicBezTo>
                    <a:pt x="1201" y="516"/>
                    <a:pt x="1196" y="535"/>
                    <a:pt x="1222" y="552"/>
                  </a:cubicBezTo>
                  <a:cubicBezTo>
                    <a:pt x="1227" y="566"/>
                    <a:pt x="1236" y="570"/>
                    <a:pt x="1250" y="576"/>
                  </a:cubicBezTo>
                  <a:cubicBezTo>
                    <a:pt x="1282" y="590"/>
                    <a:pt x="1317" y="600"/>
                    <a:pt x="1350" y="608"/>
                  </a:cubicBezTo>
                  <a:cubicBezTo>
                    <a:pt x="1333" y="625"/>
                    <a:pt x="1321" y="624"/>
                    <a:pt x="1298" y="628"/>
                  </a:cubicBezTo>
                  <a:cubicBezTo>
                    <a:pt x="1343" y="637"/>
                    <a:pt x="1388" y="626"/>
                    <a:pt x="1434" y="632"/>
                  </a:cubicBezTo>
                  <a:cubicBezTo>
                    <a:pt x="1453" y="635"/>
                    <a:pt x="1459" y="638"/>
                    <a:pt x="1478" y="644"/>
                  </a:cubicBezTo>
                  <a:cubicBezTo>
                    <a:pt x="1482" y="645"/>
                    <a:pt x="1490" y="648"/>
                    <a:pt x="1490" y="648"/>
                  </a:cubicBezTo>
                  <a:cubicBezTo>
                    <a:pt x="1506" y="647"/>
                    <a:pt x="1525" y="653"/>
                    <a:pt x="1538" y="644"/>
                  </a:cubicBezTo>
                  <a:cubicBezTo>
                    <a:pt x="1546" y="638"/>
                    <a:pt x="1536" y="625"/>
                    <a:pt x="1534" y="616"/>
                  </a:cubicBezTo>
                  <a:cubicBezTo>
                    <a:pt x="1529" y="595"/>
                    <a:pt x="1524" y="584"/>
                    <a:pt x="1506" y="572"/>
                  </a:cubicBezTo>
                  <a:cubicBezTo>
                    <a:pt x="1495" y="556"/>
                    <a:pt x="1465" y="545"/>
                    <a:pt x="1446" y="540"/>
                  </a:cubicBezTo>
                  <a:cubicBezTo>
                    <a:pt x="1429" y="529"/>
                    <a:pt x="1423" y="511"/>
                    <a:pt x="1402" y="504"/>
                  </a:cubicBezTo>
                  <a:cubicBezTo>
                    <a:pt x="1378" y="496"/>
                    <a:pt x="1351" y="486"/>
                    <a:pt x="1330" y="472"/>
                  </a:cubicBezTo>
                  <a:cubicBezTo>
                    <a:pt x="1322" y="460"/>
                    <a:pt x="1298" y="444"/>
                    <a:pt x="1298" y="444"/>
                  </a:cubicBezTo>
                  <a:cubicBezTo>
                    <a:pt x="1275" y="410"/>
                    <a:pt x="1306" y="450"/>
                    <a:pt x="1278" y="428"/>
                  </a:cubicBezTo>
                  <a:cubicBezTo>
                    <a:pt x="1274" y="425"/>
                    <a:pt x="1274" y="419"/>
                    <a:pt x="1270" y="416"/>
                  </a:cubicBezTo>
                  <a:cubicBezTo>
                    <a:pt x="1263" y="410"/>
                    <a:pt x="1254" y="405"/>
                    <a:pt x="1246" y="400"/>
                  </a:cubicBezTo>
                  <a:cubicBezTo>
                    <a:pt x="1242" y="397"/>
                    <a:pt x="1234" y="392"/>
                    <a:pt x="1234" y="392"/>
                  </a:cubicBezTo>
                  <a:cubicBezTo>
                    <a:pt x="1224" y="377"/>
                    <a:pt x="1209" y="362"/>
                    <a:pt x="1194" y="352"/>
                  </a:cubicBezTo>
                  <a:cubicBezTo>
                    <a:pt x="1186" y="340"/>
                    <a:pt x="1170" y="320"/>
                    <a:pt x="1158" y="316"/>
                  </a:cubicBezTo>
                  <a:cubicBezTo>
                    <a:pt x="1136" y="250"/>
                    <a:pt x="1172" y="249"/>
                    <a:pt x="1218" y="240"/>
                  </a:cubicBezTo>
                  <a:cubicBezTo>
                    <a:pt x="1233" y="217"/>
                    <a:pt x="1235" y="188"/>
                    <a:pt x="1210" y="172"/>
                  </a:cubicBezTo>
                  <a:cubicBezTo>
                    <a:pt x="1156" y="9"/>
                    <a:pt x="729" y="120"/>
                    <a:pt x="666" y="120"/>
                  </a:cubicBezTo>
                  <a:cubicBezTo>
                    <a:pt x="629" y="111"/>
                    <a:pt x="534" y="98"/>
                    <a:pt x="506" y="80"/>
                  </a:cubicBezTo>
                  <a:cubicBezTo>
                    <a:pt x="465" y="53"/>
                    <a:pt x="409" y="18"/>
                    <a:pt x="358" y="16"/>
                  </a:cubicBezTo>
                  <a:cubicBezTo>
                    <a:pt x="283" y="14"/>
                    <a:pt x="209" y="13"/>
                    <a:pt x="134" y="12"/>
                  </a:cubicBezTo>
                  <a:cubicBezTo>
                    <a:pt x="87" y="0"/>
                    <a:pt x="96" y="4"/>
                    <a:pt x="22" y="8"/>
                  </a:cubicBezTo>
                  <a:cubicBezTo>
                    <a:pt x="4" y="36"/>
                    <a:pt x="9" y="23"/>
                    <a:pt x="2" y="44"/>
                  </a:cubicBezTo>
                  <a:cubicBezTo>
                    <a:pt x="4" y="57"/>
                    <a:pt x="0" y="74"/>
                    <a:pt x="10" y="84"/>
                  </a:cubicBezTo>
                  <a:cubicBezTo>
                    <a:pt x="13" y="87"/>
                    <a:pt x="18" y="88"/>
                    <a:pt x="22" y="88"/>
                  </a:cubicBezTo>
                  <a:cubicBezTo>
                    <a:pt x="24" y="88"/>
                    <a:pt x="19" y="85"/>
                    <a:pt x="18" y="84"/>
                  </a:cubicBezTo>
                  <a:close/>
                </a:path>
              </a:pathLst>
            </a:custGeom>
            <a:noFill/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94600" y="1866960"/>
              <a:ext cx="253800" cy="341280"/>
            </a:xfrm>
            <a:custGeom>
              <a:avLst/>
              <a:gdLst/>
              <a:ahLst/>
              <a:rect l="l" t="t" r="r" b="b"/>
              <a:pathLst>
                <a:path w="160" h="215">
                  <a:moveTo>
                    <a:pt x="0" y="40"/>
                  </a:moveTo>
                  <a:cubicBezTo>
                    <a:pt x="5" y="89"/>
                    <a:pt x="22" y="104"/>
                    <a:pt x="28" y="148"/>
                  </a:cubicBezTo>
                  <a:cubicBezTo>
                    <a:pt x="33" y="180"/>
                    <a:pt x="23" y="173"/>
                    <a:pt x="44" y="180"/>
                  </a:cubicBezTo>
                  <a:cubicBezTo>
                    <a:pt x="56" y="215"/>
                    <a:pt x="84" y="198"/>
                    <a:pt x="120" y="196"/>
                  </a:cubicBezTo>
                  <a:cubicBezTo>
                    <a:pt x="160" y="156"/>
                    <a:pt x="136" y="96"/>
                    <a:pt x="120" y="48"/>
                  </a:cubicBezTo>
                  <a:cubicBezTo>
                    <a:pt x="113" y="27"/>
                    <a:pt x="120" y="38"/>
                    <a:pt x="92" y="20"/>
                  </a:cubicBezTo>
                  <a:cubicBezTo>
                    <a:pt x="88" y="17"/>
                    <a:pt x="80" y="12"/>
                    <a:pt x="80" y="12"/>
                  </a:cubicBezTo>
                  <a:cubicBezTo>
                    <a:pt x="51" y="14"/>
                    <a:pt x="0" y="0"/>
                    <a:pt x="0" y="40"/>
                  </a:cubicBezTo>
                  <a:close/>
                </a:path>
              </a:pathLst>
            </a:custGeom>
            <a:noFill/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00440" y="144360"/>
              <a:ext cx="2452680" cy="1411560"/>
            </a:xfrm>
            <a:custGeom>
              <a:avLst/>
              <a:gdLst/>
              <a:ahLst/>
              <a:rect l="l" t="t" r="r" b="b"/>
              <a:pathLst>
                <a:path w="1545" h="889">
                  <a:moveTo>
                    <a:pt x="46" y="192"/>
                  </a:moveTo>
                  <a:cubicBezTo>
                    <a:pt x="22" y="229"/>
                    <a:pt x="12" y="269"/>
                    <a:pt x="0" y="311"/>
                  </a:cubicBezTo>
                  <a:cubicBezTo>
                    <a:pt x="11" y="463"/>
                    <a:pt x="7" y="616"/>
                    <a:pt x="19" y="768"/>
                  </a:cubicBezTo>
                  <a:cubicBezTo>
                    <a:pt x="20" y="785"/>
                    <a:pt x="71" y="811"/>
                    <a:pt x="83" y="823"/>
                  </a:cubicBezTo>
                  <a:cubicBezTo>
                    <a:pt x="104" y="888"/>
                    <a:pt x="184" y="866"/>
                    <a:pt x="247" y="869"/>
                  </a:cubicBezTo>
                  <a:cubicBezTo>
                    <a:pt x="335" y="873"/>
                    <a:pt x="424" y="874"/>
                    <a:pt x="512" y="878"/>
                  </a:cubicBezTo>
                  <a:cubicBezTo>
                    <a:pt x="573" y="880"/>
                    <a:pt x="634" y="884"/>
                    <a:pt x="695" y="887"/>
                  </a:cubicBezTo>
                  <a:cubicBezTo>
                    <a:pt x="774" y="884"/>
                    <a:pt x="854" y="889"/>
                    <a:pt x="933" y="878"/>
                  </a:cubicBezTo>
                  <a:cubicBezTo>
                    <a:pt x="949" y="876"/>
                    <a:pt x="955" y="831"/>
                    <a:pt x="960" y="823"/>
                  </a:cubicBezTo>
                  <a:cubicBezTo>
                    <a:pt x="1002" y="754"/>
                    <a:pt x="1061" y="699"/>
                    <a:pt x="1116" y="640"/>
                  </a:cubicBezTo>
                  <a:cubicBezTo>
                    <a:pt x="1104" y="634"/>
                    <a:pt x="1087" y="633"/>
                    <a:pt x="1079" y="622"/>
                  </a:cubicBezTo>
                  <a:cubicBezTo>
                    <a:pt x="1067" y="607"/>
                    <a:pt x="1061" y="567"/>
                    <a:pt x="1061" y="567"/>
                  </a:cubicBezTo>
                  <a:cubicBezTo>
                    <a:pt x="1043" y="576"/>
                    <a:pt x="1026" y="588"/>
                    <a:pt x="1006" y="595"/>
                  </a:cubicBezTo>
                  <a:cubicBezTo>
                    <a:pt x="995" y="599"/>
                    <a:pt x="1024" y="581"/>
                    <a:pt x="1034" y="576"/>
                  </a:cubicBezTo>
                  <a:cubicBezTo>
                    <a:pt x="1041" y="573"/>
                    <a:pt x="1099" y="555"/>
                    <a:pt x="1116" y="549"/>
                  </a:cubicBezTo>
                  <a:cubicBezTo>
                    <a:pt x="1134" y="543"/>
                    <a:pt x="1171" y="531"/>
                    <a:pt x="1171" y="531"/>
                  </a:cubicBezTo>
                  <a:cubicBezTo>
                    <a:pt x="1200" y="501"/>
                    <a:pt x="1218" y="473"/>
                    <a:pt x="1253" y="448"/>
                  </a:cubicBezTo>
                  <a:cubicBezTo>
                    <a:pt x="1286" y="399"/>
                    <a:pt x="1337" y="367"/>
                    <a:pt x="1372" y="320"/>
                  </a:cubicBezTo>
                  <a:cubicBezTo>
                    <a:pt x="1394" y="290"/>
                    <a:pt x="1400" y="268"/>
                    <a:pt x="1427" y="247"/>
                  </a:cubicBezTo>
                  <a:cubicBezTo>
                    <a:pt x="1462" y="219"/>
                    <a:pt x="1493" y="194"/>
                    <a:pt x="1518" y="156"/>
                  </a:cubicBezTo>
                  <a:cubicBezTo>
                    <a:pt x="1538" y="73"/>
                    <a:pt x="1545" y="29"/>
                    <a:pt x="1463" y="0"/>
                  </a:cubicBezTo>
                  <a:cubicBezTo>
                    <a:pt x="1043" y="3"/>
                    <a:pt x="622" y="1"/>
                    <a:pt x="202" y="10"/>
                  </a:cubicBezTo>
                  <a:cubicBezTo>
                    <a:pt x="193" y="10"/>
                    <a:pt x="191" y="24"/>
                    <a:pt x="183" y="28"/>
                  </a:cubicBezTo>
                  <a:cubicBezTo>
                    <a:pt x="175" y="33"/>
                    <a:pt x="165" y="34"/>
                    <a:pt x="156" y="37"/>
                  </a:cubicBezTo>
                  <a:cubicBezTo>
                    <a:pt x="131" y="74"/>
                    <a:pt x="94" y="98"/>
                    <a:pt x="74" y="138"/>
                  </a:cubicBezTo>
                  <a:cubicBezTo>
                    <a:pt x="66" y="153"/>
                    <a:pt x="66" y="192"/>
                    <a:pt x="46" y="192"/>
                  </a:cubicBezTo>
                  <a:close/>
                </a:path>
              </a:pathLst>
            </a:custGeom>
            <a:noFill/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-36360" y="1841400"/>
              <a:ext cx="341280" cy="717480"/>
            </a:xfrm>
            <a:custGeom>
              <a:avLst/>
              <a:gdLst/>
              <a:ahLst/>
              <a:rect l="l" t="t" r="r" b="b"/>
              <a:pathLst>
                <a:path w="236" h="452">
                  <a:moveTo>
                    <a:pt x="148" y="452"/>
                  </a:moveTo>
                  <a:cubicBezTo>
                    <a:pt x="153" y="438"/>
                    <a:pt x="151" y="438"/>
                    <a:pt x="164" y="428"/>
                  </a:cubicBezTo>
                  <a:cubicBezTo>
                    <a:pt x="172" y="422"/>
                    <a:pt x="188" y="412"/>
                    <a:pt x="188" y="412"/>
                  </a:cubicBezTo>
                  <a:cubicBezTo>
                    <a:pt x="199" y="396"/>
                    <a:pt x="222" y="371"/>
                    <a:pt x="228" y="352"/>
                  </a:cubicBezTo>
                  <a:cubicBezTo>
                    <a:pt x="231" y="344"/>
                    <a:pt x="236" y="328"/>
                    <a:pt x="236" y="328"/>
                  </a:cubicBezTo>
                  <a:cubicBezTo>
                    <a:pt x="234" y="248"/>
                    <a:pt x="233" y="179"/>
                    <a:pt x="208" y="104"/>
                  </a:cubicBezTo>
                  <a:cubicBezTo>
                    <a:pt x="204" y="51"/>
                    <a:pt x="210" y="18"/>
                    <a:pt x="156" y="0"/>
                  </a:cubicBezTo>
                  <a:cubicBezTo>
                    <a:pt x="134" y="4"/>
                    <a:pt x="122" y="6"/>
                    <a:pt x="112" y="28"/>
                  </a:cubicBezTo>
                  <a:cubicBezTo>
                    <a:pt x="109" y="36"/>
                    <a:pt x="104" y="52"/>
                    <a:pt x="104" y="52"/>
                  </a:cubicBezTo>
                  <a:cubicBezTo>
                    <a:pt x="105" y="183"/>
                    <a:pt x="0" y="403"/>
                    <a:pt x="124" y="444"/>
                  </a:cubicBezTo>
                  <a:cubicBezTo>
                    <a:pt x="166" y="439"/>
                    <a:pt x="169" y="431"/>
                    <a:pt x="148" y="452"/>
                  </a:cubicBezTo>
                  <a:close/>
                </a:path>
              </a:pathLst>
            </a:custGeom>
            <a:noFill/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7520" y="3073320"/>
              <a:ext cx="2676600" cy="1447920"/>
            </a:xfrm>
            <a:custGeom>
              <a:avLst/>
              <a:gdLst/>
              <a:ahLst/>
              <a:rect l="l" t="t" r="r" b="b"/>
              <a:pathLst>
                <a:path w="1686" h="912">
                  <a:moveTo>
                    <a:pt x="1528" y="352"/>
                  </a:moveTo>
                  <a:cubicBezTo>
                    <a:pt x="1515" y="348"/>
                    <a:pt x="1505" y="340"/>
                    <a:pt x="1492" y="336"/>
                  </a:cubicBezTo>
                  <a:cubicBezTo>
                    <a:pt x="1485" y="329"/>
                    <a:pt x="1480" y="319"/>
                    <a:pt x="1472" y="312"/>
                  </a:cubicBezTo>
                  <a:cubicBezTo>
                    <a:pt x="1446" y="291"/>
                    <a:pt x="1400" y="290"/>
                    <a:pt x="1368" y="284"/>
                  </a:cubicBezTo>
                  <a:cubicBezTo>
                    <a:pt x="1243" y="289"/>
                    <a:pt x="1308" y="285"/>
                    <a:pt x="1240" y="308"/>
                  </a:cubicBezTo>
                  <a:cubicBezTo>
                    <a:pt x="1195" y="305"/>
                    <a:pt x="1179" y="312"/>
                    <a:pt x="1148" y="292"/>
                  </a:cubicBezTo>
                  <a:cubicBezTo>
                    <a:pt x="1134" y="271"/>
                    <a:pt x="1103" y="263"/>
                    <a:pt x="1080" y="252"/>
                  </a:cubicBezTo>
                  <a:cubicBezTo>
                    <a:pt x="1040" y="232"/>
                    <a:pt x="1001" y="213"/>
                    <a:pt x="960" y="196"/>
                  </a:cubicBezTo>
                  <a:cubicBezTo>
                    <a:pt x="935" y="185"/>
                    <a:pt x="908" y="188"/>
                    <a:pt x="884" y="172"/>
                  </a:cubicBezTo>
                  <a:cubicBezTo>
                    <a:pt x="868" y="147"/>
                    <a:pt x="809" y="119"/>
                    <a:pt x="780" y="100"/>
                  </a:cubicBezTo>
                  <a:cubicBezTo>
                    <a:pt x="776" y="97"/>
                    <a:pt x="773" y="94"/>
                    <a:pt x="768" y="92"/>
                  </a:cubicBezTo>
                  <a:cubicBezTo>
                    <a:pt x="764" y="91"/>
                    <a:pt x="760" y="90"/>
                    <a:pt x="756" y="88"/>
                  </a:cubicBezTo>
                  <a:cubicBezTo>
                    <a:pt x="748" y="83"/>
                    <a:pt x="732" y="72"/>
                    <a:pt x="732" y="72"/>
                  </a:cubicBezTo>
                  <a:cubicBezTo>
                    <a:pt x="713" y="43"/>
                    <a:pt x="740" y="79"/>
                    <a:pt x="700" y="52"/>
                  </a:cubicBezTo>
                  <a:cubicBezTo>
                    <a:pt x="678" y="37"/>
                    <a:pt x="652" y="27"/>
                    <a:pt x="628" y="16"/>
                  </a:cubicBezTo>
                  <a:cubicBezTo>
                    <a:pt x="616" y="11"/>
                    <a:pt x="604" y="8"/>
                    <a:pt x="592" y="4"/>
                  </a:cubicBezTo>
                  <a:cubicBezTo>
                    <a:pt x="588" y="3"/>
                    <a:pt x="580" y="0"/>
                    <a:pt x="580" y="0"/>
                  </a:cubicBezTo>
                  <a:cubicBezTo>
                    <a:pt x="517" y="1"/>
                    <a:pt x="455" y="2"/>
                    <a:pt x="392" y="4"/>
                  </a:cubicBezTo>
                  <a:cubicBezTo>
                    <a:pt x="360" y="5"/>
                    <a:pt x="356" y="19"/>
                    <a:pt x="332" y="32"/>
                  </a:cubicBezTo>
                  <a:cubicBezTo>
                    <a:pt x="299" y="50"/>
                    <a:pt x="244" y="46"/>
                    <a:pt x="212" y="48"/>
                  </a:cubicBezTo>
                  <a:cubicBezTo>
                    <a:pt x="199" y="52"/>
                    <a:pt x="189" y="60"/>
                    <a:pt x="176" y="64"/>
                  </a:cubicBezTo>
                  <a:cubicBezTo>
                    <a:pt x="161" y="75"/>
                    <a:pt x="149" y="79"/>
                    <a:pt x="136" y="92"/>
                  </a:cubicBezTo>
                  <a:cubicBezTo>
                    <a:pt x="132" y="105"/>
                    <a:pt x="108" y="120"/>
                    <a:pt x="108" y="120"/>
                  </a:cubicBezTo>
                  <a:cubicBezTo>
                    <a:pt x="93" y="142"/>
                    <a:pt x="84" y="145"/>
                    <a:pt x="68" y="164"/>
                  </a:cubicBezTo>
                  <a:cubicBezTo>
                    <a:pt x="55" y="180"/>
                    <a:pt x="43" y="197"/>
                    <a:pt x="28" y="212"/>
                  </a:cubicBezTo>
                  <a:cubicBezTo>
                    <a:pt x="21" y="232"/>
                    <a:pt x="19" y="252"/>
                    <a:pt x="12" y="272"/>
                  </a:cubicBezTo>
                  <a:cubicBezTo>
                    <a:pt x="13" y="407"/>
                    <a:pt x="14" y="541"/>
                    <a:pt x="16" y="676"/>
                  </a:cubicBezTo>
                  <a:cubicBezTo>
                    <a:pt x="16" y="684"/>
                    <a:pt x="0" y="784"/>
                    <a:pt x="36" y="796"/>
                  </a:cubicBezTo>
                  <a:cubicBezTo>
                    <a:pt x="53" y="813"/>
                    <a:pt x="79" y="818"/>
                    <a:pt x="100" y="832"/>
                  </a:cubicBezTo>
                  <a:cubicBezTo>
                    <a:pt x="110" y="847"/>
                    <a:pt x="116" y="864"/>
                    <a:pt x="124" y="880"/>
                  </a:cubicBezTo>
                  <a:cubicBezTo>
                    <a:pt x="128" y="889"/>
                    <a:pt x="126" y="900"/>
                    <a:pt x="132" y="908"/>
                  </a:cubicBezTo>
                  <a:cubicBezTo>
                    <a:pt x="135" y="911"/>
                    <a:pt x="140" y="911"/>
                    <a:pt x="144" y="912"/>
                  </a:cubicBezTo>
                  <a:cubicBezTo>
                    <a:pt x="211" y="911"/>
                    <a:pt x="277" y="912"/>
                    <a:pt x="344" y="908"/>
                  </a:cubicBezTo>
                  <a:cubicBezTo>
                    <a:pt x="385" y="906"/>
                    <a:pt x="417" y="864"/>
                    <a:pt x="452" y="852"/>
                  </a:cubicBezTo>
                  <a:cubicBezTo>
                    <a:pt x="473" y="820"/>
                    <a:pt x="445" y="859"/>
                    <a:pt x="472" y="832"/>
                  </a:cubicBezTo>
                  <a:cubicBezTo>
                    <a:pt x="493" y="811"/>
                    <a:pt x="507" y="781"/>
                    <a:pt x="532" y="764"/>
                  </a:cubicBezTo>
                  <a:cubicBezTo>
                    <a:pt x="543" y="732"/>
                    <a:pt x="597" y="684"/>
                    <a:pt x="628" y="676"/>
                  </a:cubicBezTo>
                  <a:cubicBezTo>
                    <a:pt x="655" y="656"/>
                    <a:pt x="687" y="647"/>
                    <a:pt x="716" y="632"/>
                  </a:cubicBezTo>
                  <a:cubicBezTo>
                    <a:pt x="752" y="614"/>
                    <a:pt x="778" y="585"/>
                    <a:pt x="816" y="572"/>
                  </a:cubicBezTo>
                  <a:cubicBezTo>
                    <a:pt x="828" y="536"/>
                    <a:pt x="798" y="541"/>
                    <a:pt x="772" y="532"/>
                  </a:cubicBezTo>
                  <a:cubicBezTo>
                    <a:pt x="787" y="522"/>
                    <a:pt x="827" y="494"/>
                    <a:pt x="844" y="488"/>
                  </a:cubicBezTo>
                  <a:cubicBezTo>
                    <a:pt x="852" y="485"/>
                    <a:pt x="861" y="485"/>
                    <a:pt x="868" y="480"/>
                  </a:cubicBezTo>
                  <a:cubicBezTo>
                    <a:pt x="893" y="463"/>
                    <a:pt x="920" y="446"/>
                    <a:pt x="948" y="436"/>
                  </a:cubicBezTo>
                  <a:cubicBezTo>
                    <a:pt x="963" y="430"/>
                    <a:pt x="984" y="428"/>
                    <a:pt x="1000" y="424"/>
                  </a:cubicBezTo>
                  <a:cubicBezTo>
                    <a:pt x="1011" y="422"/>
                    <a:pt x="1032" y="416"/>
                    <a:pt x="1032" y="416"/>
                  </a:cubicBezTo>
                  <a:cubicBezTo>
                    <a:pt x="1043" y="409"/>
                    <a:pt x="1068" y="400"/>
                    <a:pt x="1068" y="400"/>
                  </a:cubicBezTo>
                  <a:cubicBezTo>
                    <a:pt x="1148" y="403"/>
                    <a:pt x="1213" y="416"/>
                    <a:pt x="1292" y="420"/>
                  </a:cubicBezTo>
                  <a:cubicBezTo>
                    <a:pt x="1316" y="436"/>
                    <a:pt x="1292" y="423"/>
                    <a:pt x="1336" y="432"/>
                  </a:cubicBezTo>
                  <a:cubicBezTo>
                    <a:pt x="1344" y="434"/>
                    <a:pt x="1352" y="437"/>
                    <a:pt x="1360" y="440"/>
                  </a:cubicBezTo>
                  <a:cubicBezTo>
                    <a:pt x="1364" y="441"/>
                    <a:pt x="1372" y="444"/>
                    <a:pt x="1372" y="444"/>
                  </a:cubicBezTo>
                  <a:cubicBezTo>
                    <a:pt x="1402" y="474"/>
                    <a:pt x="1425" y="461"/>
                    <a:pt x="1476" y="464"/>
                  </a:cubicBezTo>
                  <a:cubicBezTo>
                    <a:pt x="1491" y="469"/>
                    <a:pt x="1493" y="479"/>
                    <a:pt x="1508" y="484"/>
                  </a:cubicBezTo>
                  <a:cubicBezTo>
                    <a:pt x="1564" y="483"/>
                    <a:pt x="1620" y="485"/>
                    <a:pt x="1676" y="480"/>
                  </a:cubicBezTo>
                  <a:cubicBezTo>
                    <a:pt x="1681" y="480"/>
                    <a:pt x="1686" y="428"/>
                    <a:pt x="1668" y="412"/>
                  </a:cubicBezTo>
                  <a:cubicBezTo>
                    <a:pt x="1625" y="374"/>
                    <a:pt x="1580" y="357"/>
                    <a:pt x="1524" y="352"/>
                  </a:cubicBezTo>
                  <a:cubicBezTo>
                    <a:pt x="1507" y="341"/>
                    <a:pt x="1508" y="342"/>
                    <a:pt x="1528" y="352"/>
                  </a:cubicBezTo>
                  <a:close/>
                </a:path>
              </a:pathLst>
            </a:custGeom>
            <a:noFill/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440" y="538200"/>
              <a:ext cx="1855800" cy="1353960"/>
            </a:xfrm>
            <a:custGeom>
              <a:avLst/>
              <a:gdLst/>
              <a:ahLst/>
              <a:rect l="l" t="t" r="r" b="b"/>
              <a:pathLst>
                <a:path w="1169" h="853">
                  <a:moveTo>
                    <a:pt x="1157" y="301"/>
                  </a:moveTo>
                  <a:cubicBezTo>
                    <a:pt x="1156" y="284"/>
                    <a:pt x="1156" y="266"/>
                    <a:pt x="1153" y="249"/>
                  </a:cubicBezTo>
                  <a:cubicBezTo>
                    <a:pt x="1150" y="231"/>
                    <a:pt x="1118" y="209"/>
                    <a:pt x="1105" y="201"/>
                  </a:cubicBezTo>
                  <a:cubicBezTo>
                    <a:pt x="1101" y="198"/>
                    <a:pt x="1097" y="196"/>
                    <a:pt x="1093" y="193"/>
                  </a:cubicBezTo>
                  <a:cubicBezTo>
                    <a:pt x="1089" y="189"/>
                    <a:pt x="1086" y="184"/>
                    <a:pt x="1081" y="181"/>
                  </a:cubicBezTo>
                  <a:cubicBezTo>
                    <a:pt x="1064" y="170"/>
                    <a:pt x="1042" y="168"/>
                    <a:pt x="1025" y="157"/>
                  </a:cubicBezTo>
                  <a:cubicBezTo>
                    <a:pt x="1002" y="142"/>
                    <a:pt x="975" y="128"/>
                    <a:pt x="949" y="121"/>
                  </a:cubicBezTo>
                  <a:cubicBezTo>
                    <a:pt x="910" y="95"/>
                    <a:pt x="858" y="94"/>
                    <a:pt x="813" y="81"/>
                  </a:cubicBezTo>
                  <a:cubicBezTo>
                    <a:pt x="730" y="57"/>
                    <a:pt x="644" y="33"/>
                    <a:pt x="557" y="25"/>
                  </a:cubicBezTo>
                  <a:cubicBezTo>
                    <a:pt x="455" y="0"/>
                    <a:pt x="533" y="18"/>
                    <a:pt x="273" y="25"/>
                  </a:cubicBezTo>
                  <a:cubicBezTo>
                    <a:pt x="258" y="25"/>
                    <a:pt x="234" y="37"/>
                    <a:pt x="221" y="41"/>
                  </a:cubicBezTo>
                  <a:cubicBezTo>
                    <a:pt x="217" y="42"/>
                    <a:pt x="209" y="45"/>
                    <a:pt x="209" y="45"/>
                  </a:cubicBezTo>
                  <a:cubicBezTo>
                    <a:pt x="203" y="54"/>
                    <a:pt x="194" y="60"/>
                    <a:pt x="189" y="69"/>
                  </a:cubicBezTo>
                  <a:cubicBezTo>
                    <a:pt x="172" y="103"/>
                    <a:pt x="180" y="179"/>
                    <a:pt x="177" y="209"/>
                  </a:cubicBezTo>
                  <a:cubicBezTo>
                    <a:pt x="170" y="274"/>
                    <a:pt x="133" y="328"/>
                    <a:pt x="105" y="385"/>
                  </a:cubicBezTo>
                  <a:cubicBezTo>
                    <a:pt x="90" y="414"/>
                    <a:pt x="89" y="450"/>
                    <a:pt x="61" y="469"/>
                  </a:cubicBezTo>
                  <a:cubicBezTo>
                    <a:pt x="58" y="477"/>
                    <a:pt x="56" y="485"/>
                    <a:pt x="53" y="493"/>
                  </a:cubicBezTo>
                  <a:cubicBezTo>
                    <a:pt x="52" y="497"/>
                    <a:pt x="49" y="505"/>
                    <a:pt x="49" y="505"/>
                  </a:cubicBezTo>
                  <a:cubicBezTo>
                    <a:pt x="44" y="548"/>
                    <a:pt x="33" y="549"/>
                    <a:pt x="21" y="585"/>
                  </a:cubicBezTo>
                  <a:cubicBezTo>
                    <a:pt x="18" y="611"/>
                    <a:pt x="17" y="633"/>
                    <a:pt x="9" y="657"/>
                  </a:cubicBezTo>
                  <a:cubicBezTo>
                    <a:pt x="8" y="670"/>
                    <a:pt x="0" y="780"/>
                    <a:pt x="9" y="793"/>
                  </a:cubicBezTo>
                  <a:cubicBezTo>
                    <a:pt x="16" y="803"/>
                    <a:pt x="33" y="796"/>
                    <a:pt x="45" y="797"/>
                  </a:cubicBezTo>
                  <a:cubicBezTo>
                    <a:pt x="87" y="811"/>
                    <a:pt x="128" y="811"/>
                    <a:pt x="173" y="813"/>
                  </a:cubicBezTo>
                  <a:cubicBezTo>
                    <a:pt x="181" y="816"/>
                    <a:pt x="189" y="818"/>
                    <a:pt x="197" y="821"/>
                  </a:cubicBezTo>
                  <a:cubicBezTo>
                    <a:pt x="201" y="822"/>
                    <a:pt x="198" y="830"/>
                    <a:pt x="201" y="833"/>
                  </a:cubicBezTo>
                  <a:cubicBezTo>
                    <a:pt x="207" y="839"/>
                    <a:pt x="216" y="844"/>
                    <a:pt x="225" y="845"/>
                  </a:cubicBezTo>
                  <a:cubicBezTo>
                    <a:pt x="261" y="850"/>
                    <a:pt x="297" y="849"/>
                    <a:pt x="333" y="853"/>
                  </a:cubicBezTo>
                  <a:cubicBezTo>
                    <a:pt x="366" y="846"/>
                    <a:pt x="383" y="809"/>
                    <a:pt x="389" y="777"/>
                  </a:cubicBezTo>
                  <a:cubicBezTo>
                    <a:pt x="390" y="770"/>
                    <a:pt x="389" y="762"/>
                    <a:pt x="393" y="757"/>
                  </a:cubicBezTo>
                  <a:cubicBezTo>
                    <a:pt x="397" y="753"/>
                    <a:pt x="404" y="755"/>
                    <a:pt x="409" y="753"/>
                  </a:cubicBezTo>
                  <a:cubicBezTo>
                    <a:pt x="447" y="742"/>
                    <a:pt x="385" y="751"/>
                    <a:pt x="481" y="745"/>
                  </a:cubicBezTo>
                  <a:cubicBezTo>
                    <a:pt x="565" y="689"/>
                    <a:pt x="683" y="727"/>
                    <a:pt x="785" y="725"/>
                  </a:cubicBezTo>
                  <a:cubicBezTo>
                    <a:pt x="804" y="719"/>
                    <a:pt x="827" y="726"/>
                    <a:pt x="845" y="717"/>
                  </a:cubicBezTo>
                  <a:cubicBezTo>
                    <a:pt x="853" y="713"/>
                    <a:pt x="850" y="701"/>
                    <a:pt x="853" y="693"/>
                  </a:cubicBezTo>
                  <a:cubicBezTo>
                    <a:pt x="857" y="682"/>
                    <a:pt x="864" y="679"/>
                    <a:pt x="873" y="673"/>
                  </a:cubicBezTo>
                  <a:cubicBezTo>
                    <a:pt x="884" y="657"/>
                    <a:pt x="897" y="640"/>
                    <a:pt x="913" y="629"/>
                  </a:cubicBezTo>
                  <a:cubicBezTo>
                    <a:pt x="922" y="616"/>
                    <a:pt x="932" y="610"/>
                    <a:pt x="941" y="597"/>
                  </a:cubicBezTo>
                  <a:cubicBezTo>
                    <a:pt x="943" y="559"/>
                    <a:pt x="941" y="481"/>
                    <a:pt x="961" y="437"/>
                  </a:cubicBezTo>
                  <a:cubicBezTo>
                    <a:pt x="972" y="413"/>
                    <a:pt x="993" y="400"/>
                    <a:pt x="1013" y="385"/>
                  </a:cubicBezTo>
                  <a:cubicBezTo>
                    <a:pt x="1021" y="379"/>
                    <a:pt x="1037" y="369"/>
                    <a:pt x="1037" y="369"/>
                  </a:cubicBezTo>
                  <a:cubicBezTo>
                    <a:pt x="1060" y="334"/>
                    <a:pt x="1036" y="379"/>
                    <a:pt x="1029" y="353"/>
                  </a:cubicBezTo>
                  <a:cubicBezTo>
                    <a:pt x="1028" y="348"/>
                    <a:pt x="1036" y="343"/>
                    <a:pt x="1041" y="341"/>
                  </a:cubicBezTo>
                  <a:cubicBezTo>
                    <a:pt x="1048" y="338"/>
                    <a:pt x="1057" y="339"/>
                    <a:pt x="1065" y="337"/>
                  </a:cubicBezTo>
                  <a:cubicBezTo>
                    <a:pt x="1073" y="335"/>
                    <a:pt x="1082" y="334"/>
                    <a:pt x="1089" y="329"/>
                  </a:cubicBezTo>
                  <a:cubicBezTo>
                    <a:pt x="1093" y="326"/>
                    <a:pt x="1096" y="323"/>
                    <a:pt x="1101" y="321"/>
                  </a:cubicBezTo>
                  <a:cubicBezTo>
                    <a:pt x="1112" y="317"/>
                    <a:pt x="1126" y="319"/>
                    <a:pt x="1137" y="313"/>
                  </a:cubicBezTo>
                  <a:cubicBezTo>
                    <a:pt x="1156" y="302"/>
                    <a:pt x="1169" y="289"/>
                    <a:pt x="1157" y="301"/>
                  </a:cubicBezTo>
                  <a:close/>
                </a:path>
              </a:pathLst>
            </a:custGeom>
            <a:noFill/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916360" y="2193840"/>
            <a:ext cx="5846760" cy="4640400"/>
            <a:chOff x="2916360" y="2193840"/>
            <a:chExt cx="5846760" cy="4640400"/>
          </a:xfrm>
        </p:grpSpPr>
        <p:sp>
          <p:nvSpPr>
            <p:cNvPr id="87" name=""/>
            <p:cNvSpPr/>
            <p:nvPr/>
          </p:nvSpPr>
          <p:spPr>
            <a:xfrm>
              <a:off x="7397640" y="2193840"/>
              <a:ext cx="1365480" cy="390600"/>
            </a:xfrm>
            <a:custGeom>
              <a:avLst/>
              <a:gdLst/>
              <a:ahLst/>
              <a:rect l="l" t="t" r="r" b="b"/>
              <a:pathLst>
                <a:path w="860" h="246">
                  <a:moveTo>
                    <a:pt x="845" y="4"/>
                  </a:moveTo>
                  <a:cubicBezTo>
                    <a:pt x="784" y="6"/>
                    <a:pt x="748" y="0"/>
                    <a:pt x="701" y="31"/>
                  </a:cubicBezTo>
                  <a:cubicBezTo>
                    <a:pt x="688" y="51"/>
                    <a:pt x="661" y="60"/>
                    <a:pt x="641" y="73"/>
                  </a:cubicBezTo>
                  <a:cubicBezTo>
                    <a:pt x="591" y="147"/>
                    <a:pt x="566" y="110"/>
                    <a:pt x="437" y="112"/>
                  </a:cubicBezTo>
                  <a:cubicBezTo>
                    <a:pt x="351" y="110"/>
                    <a:pt x="282" y="101"/>
                    <a:pt x="200" y="94"/>
                  </a:cubicBezTo>
                  <a:cubicBezTo>
                    <a:pt x="141" y="74"/>
                    <a:pt x="73" y="77"/>
                    <a:pt x="14" y="97"/>
                  </a:cubicBezTo>
                  <a:cubicBezTo>
                    <a:pt x="8" y="115"/>
                    <a:pt x="0" y="130"/>
                    <a:pt x="11" y="151"/>
                  </a:cubicBezTo>
                  <a:cubicBezTo>
                    <a:pt x="16" y="160"/>
                    <a:pt x="69" y="163"/>
                    <a:pt x="71" y="163"/>
                  </a:cubicBezTo>
                  <a:cubicBezTo>
                    <a:pt x="117" y="165"/>
                    <a:pt x="163" y="165"/>
                    <a:pt x="209" y="166"/>
                  </a:cubicBezTo>
                  <a:cubicBezTo>
                    <a:pt x="227" y="170"/>
                    <a:pt x="245" y="175"/>
                    <a:pt x="263" y="181"/>
                  </a:cubicBezTo>
                  <a:cubicBezTo>
                    <a:pt x="273" y="184"/>
                    <a:pt x="293" y="187"/>
                    <a:pt x="293" y="187"/>
                  </a:cubicBezTo>
                  <a:cubicBezTo>
                    <a:pt x="310" y="204"/>
                    <a:pt x="341" y="209"/>
                    <a:pt x="365" y="214"/>
                  </a:cubicBezTo>
                  <a:cubicBezTo>
                    <a:pt x="386" y="227"/>
                    <a:pt x="416" y="240"/>
                    <a:pt x="440" y="244"/>
                  </a:cubicBezTo>
                  <a:cubicBezTo>
                    <a:pt x="484" y="243"/>
                    <a:pt x="571" y="246"/>
                    <a:pt x="617" y="223"/>
                  </a:cubicBezTo>
                  <a:cubicBezTo>
                    <a:pt x="626" y="218"/>
                    <a:pt x="635" y="212"/>
                    <a:pt x="644" y="208"/>
                  </a:cubicBezTo>
                  <a:cubicBezTo>
                    <a:pt x="675" y="195"/>
                    <a:pt x="709" y="191"/>
                    <a:pt x="737" y="172"/>
                  </a:cubicBezTo>
                  <a:cubicBezTo>
                    <a:pt x="752" y="150"/>
                    <a:pt x="776" y="131"/>
                    <a:pt x="797" y="115"/>
                  </a:cubicBezTo>
                  <a:cubicBezTo>
                    <a:pt x="806" y="108"/>
                    <a:pt x="816" y="105"/>
                    <a:pt x="824" y="97"/>
                  </a:cubicBezTo>
                  <a:cubicBezTo>
                    <a:pt x="833" y="88"/>
                    <a:pt x="838" y="80"/>
                    <a:pt x="848" y="73"/>
                  </a:cubicBezTo>
                  <a:cubicBezTo>
                    <a:pt x="860" y="54"/>
                    <a:pt x="854" y="4"/>
                    <a:pt x="845" y="4"/>
                  </a:cubicBezTo>
                  <a:close/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196040" y="4863960"/>
              <a:ext cx="738360" cy="720720"/>
            </a:xfrm>
            <a:custGeom>
              <a:avLst/>
              <a:gdLst/>
              <a:ahLst/>
              <a:rect l="l" t="t" r="r" b="b"/>
              <a:pathLst>
                <a:path w="465" h="454">
                  <a:moveTo>
                    <a:pt x="9" y="38"/>
                  </a:moveTo>
                  <a:cubicBezTo>
                    <a:pt x="25" y="54"/>
                    <a:pt x="34" y="81"/>
                    <a:pt x="57" y="89"/>
                  </a:cubicBezTo>
                  <a:cubicBezTo>
                    <a:pt x="72" y="111"/>
                    <a:pt x="83" y="136"/>
                    <a:pt x="102" y="155"/>
                  </a:cubicBezTo>
                  <a:cubicBezTo>
                    <a:pt x="109" y="176"/>
                    <a:pt x="104" y="168"/>
                    <a:pt x="114" y="182"/>
                  </a:cubicBezTo>
                  <a:cubicBezTo>
                    <a:pt x="115" y="186"/>
                    <a:pt x="115" y="190"/>
                    <a:pt x="117" y="194"/>
                  </a:cubicBezTo>
                  <a:cubicBezTo>
                    <a:pt x="118" y="197"/>
                    <a:pt x="122" y="200"/>
                    <a:pt x="123" y="203"/>
                  </a:cubicBezTo>
                  <a:cubicBezTo>
                    <a:pt x="132" y="230"/>
                    <a:pt x="132" y="263"/>
                    <a:pt x="153" y="284"/>
                  </a:cubicBezTo>
                  <a:cubicBezTo>
                    <a:pt x="174" y="346"/>
                    <a:pt x="215" y="391"/>
                    <a:pt x="279" y="407"/>
                  </a:cubicBezTo>
                  <a:cubicBezTo>
                    <a:pt x="404" y="405"/>
                    <a:pt x="445" y="454"/>
                    <a:pt x="465" y="374"/>
                  </a:cubicBezTo>
                  <a:cubicBezTo>
                    <a:pt x="464" y="358"/>
                    <a:pt x="465" y="342"/>
                    <a:pt x="462" y="326"/>
                  </a:cubicBezTo>
                  <a:cubicBezTo>
                    <a:pt x="461" y="317"/>
                    <a:pt x="444" y="295"/>
                    <a:pt x="441" y="290"/>
                  </a:cubicBezTo>
                  <a:cubicBezTo>
                    <a:pt x="417" y="253"/>
                    <a:pt x="379" y="227"/>
                    <a:pt x="345" y="200"/>
                  </a:cubicBezTo>
                  <a:cubicBezTo>
                    <a:pt x="324" y="184"/>
                    <a:pt x="301" y="167"/>
                    <a:pt x="279" y="152"/>
                  </a:cubicBezTo>
                  <a:cubicBezTo>
                    <a:pt x="270" y="146"/>
                    <a:pt x="252" y="134"/>
                    <a:pt x="252" y="134"/>
                  </a:cubicBezTo>
                  <a:cubicBezTo>
                    <a:pt x="245" y="123"/>
                    <a:pt x="234" y="111"/>
                    <a:pt x="222" y="107"/>
                  </a:cubicBezTo>
                  <a:cubicBezTo>
                    <a:pt x="215" y="97"/>
                    <a:pt x="208" y="90"/>
                    <a:pt x="198" y="83"/>
                  </a:cubicBezTo>
                  <a:cubicBezTo>
                    <a:pt x="178" y="53"/>
                    <a:pt x="145" y="42"/>
                    <a:pt x="114" y="26"/>
                  </a:cubicBezTo>
                  <a:cubicBezTo>
                    <a:pt x="105" y="21"/>
                    <a:pt x="96" y="15"/>
                    <a:pt x="87" y="11"/>
                  </a:cubicBezTo>
                  <a:cubicBezTo>
                    <a:pt x="81" y="8"/>
                    <a:pt x="69" y="5"/>
                    <a:pt x="69" y="5"/>
                  </a:cubicBezTo>
                  <a:cubicBezTo>
                    <a:pt x="29" y="7"/>
                    <a:pt x="12" y="0"/>
                    <a:pt x="0" y="35"/>
                  </a:cubicBezTo>
                  <a:cubicBezTo>
                    <a:pt x="4" y="50"/>
                    <a:pt x="1" y="50"/>
                    <a:pt x="9" y="38"/>
                  </a:cubicBezTo>
                  <a:close/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16360" y="6064200"/>
              <a:ext cx="4106880" cy="770040"/>
            </a:xfrm>
            <a:custGeom>
              <a:avLst/>
              <a:gdLst/>
              <a:ahLst/>
              <a:rect l="l" t="t" r="r" b="b"/>
              <a:pathLst>
                <a:path w="2587" h="485">
                  <a:moveTo>
                    <a:pt x="35" y="132"/>
                  </a:moveTo>
                  <a:cubicBezTo>
                    <a:pt x="40" y="140"/>
                    <a:pt x="43" y="150"/>
                    <a:pt x="51" y="156"/>
                  </a:cubicBezTo>
                  <a:cubicBezTo>
                    <a:pt x="58" y="161"/>
                    <a:pt x="69" y="158"/>
                    <a:pt x="75" y="164"/>
                  </a:cubicBezTo>
                  <a:cubicBezTo>
                    <a:pt x="95" y="184"/>
                    <a:pt x="79" y="226"/>
                    <a:pt x="107" y="244"/>
                  </a:cubicBezTo>
                  <a:cubicBezTo>
                    <a:pt x="121" y="253"/>
                    <a:pt x="139" y="255"/>
                    <a:pt x="155" y="260"/>
                  </a:cubicBezTo>
                  <a:cubicBezTo>
                    <a:pt x="163" y="263"/>
                    <a:pt x="179" y="268"/>
                    <a:pt x="179" y="268"/>
                  </a:cubicBezTo>
                  <a:cubicBezTo>
                    <a:pt x="184" y="276"/>
                    <a:pt x="187" y="286"/>
                    <a:pt x="195" y="292"/>
                  </a:cubicBezTo>
                  <a:cubicBezTo>
                    <a:pt x="202" y="297"/>
                    <a:pt x="213" y="294"/>
                    <a:pt x="219" y="300"/>
                  </a:cubicBezTo>
                  <a:cubicBezTo>
                    <a:pt x="277" y="358"/>
                    <a:pt x="224" y="339"/>
                    <a:pt x="299" y="372"/>
                  </a:cubicBezTo>
                  <a:cubicBezTo>
                    <a:pt x="324" y="383"/>
                    <a:pt x="371" y="388"/>
                    <a:pt x="395" y="404"/>
                  </a:cubicBezTo>
                  <a:cubicBezTo>
                    <a:pt x="434" y="430"/>
                    <a:pt x="456" y="449"/>
                    <a:pt x="499" y="460"/>
                  </a:cubicBezTo>
                  <a:cubicBezTo>
                    <a:pt x="651" y="458"/>
                    <a:pt x="1170" y="388"/>
                    <a:pt x="1435" y="476"/>
                  </a:cubicBezTo>
                  <a:cubicBezTo>
                    <a:pt x="1656" y="472"/>
                    <a:pt x="1879" y="485"/>
                    <a:pt x="2099" y="460"/>
                  </a:cubicBezTo>
                  <a:cubicBezTo>
                    <a:pt x="2116" y="458"/>
                    <a:pt x="2130" y="446"/>
                    <a:pt x="2147" y="444"/>
                  </a:cubicBezTo>
                  <a:cubicBezTo>
                    <a:pt x="2174" y="441"/>
                    <a:pt x="2200" y="439"/>
                    <a:pt x="2227" y="436"/>
                  </a:cubicBezTo>
                  <a:cubicBezTo>
                    <a:pt x="2278" y="423"/>
                    <a:pt x="2250" y="434"/>
                    <a:pt x="2307" y="396"/>
                  </a:cubicBezTo>
                  <a:cubicBezTo>
                    <a:pt x="2315" y="391"/>
                    <a:pt x="2323" y="385"/>
                    <a:pt x="2331" y="380"/>
                  </a:cubicBezTo>
                  <a:cubicBezTo>
                    <a:pt x="2339" y="375"/>
                    <a:pt x="2364" y="362"/>
                    <a:pt x="2355" y="364"/>
                  </a:cubicBezTo>
                  <a:cubicBezTo>
                    <a:pt x="2344" y="367"/>
                    <a:pt x="2315" y="380"/>
                    <a:pt x="2323" y="372"/>
                  </a:cubicBezTo>
                  <a:cubicBezTo>
                    <a:pt x="2333" y="362"/>
                    <a:pt x="2350" y="362"/>
                    <a:pt x="2363" y="356"/>
                  </a:cubicBezTo>
                  <a:cubicBezTo>
                    <a:pt x="2430" y="323"/>
                    <a:pt x="2417" y="332"/>
                    <a:pt x="2523" y="324"/>
                  </a:cubicBezTo>
                  <a:cubicBezTo>
                    <a:pt x="2562" y="311"/>
                    <a:pt x="2553" y="298"/>
                    <a:pt x="2563" y="260"/>
                  </a:cubicBezTo>
                  <a:cubicBezTo>
                    <a:pt x="2495" y="237"/>
                    <a:pt x="2546" y="193"/>
                    <a:pt x="2483" y="172"/>
                  </a:cubicBezTo>
                  <a:cubicBezTo>
                    <a:pt x="2508" y="134"/>
                    <a:pt x="2545" y="132"/>
                    <a:pt x="2587" y="124"/>
                  </a:cubicBezTo>
                  <a:cubicBezTo>
                    <a:pt x="2573" y="81"/>
                    <a:pt x="2561" y="111"/>
                    <a:pt x="2547" y="68"/>
                  </a:cubicBezTo>
                  <a:cubicBezTo>
                    <a:pt x="2547" y="68"/>
                    <a:pt x="2563" y="52"/>
                    <a:pt x="2571" y="44"/>
                  </a:cubicBezTo>
                  <a:cubicBezTo>
                    <a:pt x="2556" y="0"/>
                    <a:pt x="2539" y="10"/>
                    <a:pt x="2499" y="20"/>
                  </a:cubicBezTo>
                  <a:cubicBezTo>
                    <a:pt x="2472" y="38"/>
                    <a:pt x="2444" y="56"/>
                    <a:pt x="2419" y="76"/>
                  </a:cubicBezTo>
                  <a:cubicBezTo>
                    <a:pt x="2410" y="83"/>
                    <a:pt x="2405" y="95"/>
                    <a:pt x="2395" y="100"/>
                  </a:cubicBezTo>
                  <a:cubicBezTo>
                    <a:pt x="2380" y="108"/>
                    <a:pt x="2347" y="116"/>
                    <a:pt x="2347" y="116"/>
                  </a:cubicBezTo>
                  <a:cubicBezTo>
                    <a:pt x="2293" y="98"/>
                    <a:pt x="2318" y="89"/>
                    <a:pt x="2251" y="100"/>
                  </a:cubicBezTo>
                  <a:cubicBezTo>
                    <a:pt x="2214" y="125"/>
                    <a:pt x="2196" y="159"/>
                    <a:pt x="2171" y="196"/>
                  </a:cubicBezTo>
                  <a:cubicBezTo>
                    <a:pt x="2166" y="203"/>
                    <a:pt x="2154" y="200"/>
                    <a:pt x="2147" y="204"/>
                  </a:cubicBezTo>
                  <a:cubicBezTo>
                    <a:pt x="2064" y="250"/>
                    <a:pt x="2129" y="226"/>
                    <a:pt x="2075" y="244"/>
                  </a:cubicBezTo>
                  <a:cubicBezTo>
                    <a:pt x="2067" y="252"/>
                    <a:pt x="2060" y="262"/>
                    <a:pt x="2051" y="268"/>
                  </a:cubicBezTo>
                  <a:cubicBezTo>
                    <a:pt x="2044" y="273"/>
                    <a:pt x="2034" y="271"/>
                    <a:pt x="2027" y="276"/>
                  </a:cubicBezTo>
                  <a:cubicBezTo>
                    <a:pt x="2019" y="282"/>
                    <a:pt x="2020" y="296"/>
                    <a:pt x="2011" y="300"/>
                  </a:cubicBezTo>
                  <a:cubicBezTo>
                    <a:pt x="1996" y="307"/>
                    <a:pt x="1979" y="305"/>
                    <a:pt x="1963" y="308"/>
                  </a:cubicBezTo>
                  <a:cubicBezTo>
                    <a:pt x="1918" y="317"/>
                    <a:pt x="1871" y="333"/>
                    <a:pt x="1827" y="348"/>
                  </a:cubicBezTo>
                  <a:cubicBezTo>
                    <a:pt x="1801" y="309"/>
                    <a:pt x="1820" y="304"/>
                    <a:pt x="1771" y="292"/>
                  </a:cubicBezTo>
                  <a:cubicBezTo>
                    <a:pt x="1705" y="314"/>
                    <a:pt x="1632" y="307"/>
                    <a:pt x="1563" y="324"/>
                  </a:cubicBezTo>
                  <a:cubicBezTo>
                    <a:pt x="1531" y="345"/>
                    <a:pt x="1500" y="358"/>
                    <a:pt x="1467" y="380"/>
                  </a:cubicBezTo>
                  <a:cubicBezTo>
                    <a:pt x="1459" y="385"/>
                    <a:pt x="1451" y="391"/>
                    <a:pt x="1443" y="396"/>
                  </a:cubicBezTo>
                  <a:cubicBezTo>
                    <a:pt x="1435" y="401"/>
                    <a:pt x="1419" y="412"/>
                    <a:pt x="1419" y="412"/>
                  </a:cubicBezTo>
                  <a:cubicBezTo>
                    <a:pt x="1370" y="396"/>
                    <a:pt x="1326" y="428"/>
                    <a:pt x="1307" y="372"/>
                  </a:cubicBezTo>
                  <a:cubicBezTo>
                    <a:pt x="1315" y="369"/>
                    <a:pt x="1363" y="359"/>
                    <a:pt x="1307" y="356"/>
                  </a:cubicBezTo>
                  <a:cubicBezTo>
                    <a:pt x="1206" y="351"/>
                    <a:pt x="1104" y="351"/>
                    <a:pt x="1003" y="348"/>
                  </a:cubicBezTo>
                  <a:cubicBezTo>
                    <a:pt x="968" y="336"/>
                    <a:pt x="941" y="319"/>
                    <a:pt x="907" y="308"/>
                  </a:cubicBezTo>
                  <a:cubicBezTo>
                    <a:pt x="902" y="300"/>
                    <a:pt x="899" y="290"/>
                    <a:pt x="891" y="284"/>
                  </a:cubicBezTo>
                  <a:cubicBezTo>
                    <a:pt x="884" y="279"/>
                    <a:pt x="873" y="282"/>
                    <a:pt x="867" y="276"/>
                  </a:cubicBezTo>
                  <a:cubicBezTo>
                    <a:pt x="861" y="270"/>
                    <a:pt x="864" y="259"/>
                    <a:pt x="859" y="252"/>
                  </a:cubicBezTo>
                  <a:cubicBezTo>
                    <a:pt x="853" y="244"/>
                    <a:pt x="843" y="241"/>
                    <a:pt x="835" y="236"/>
                  </a:cubicBezTo>
                  <a:cubicBezTo>
                    <a:pt x="823" y="219"/>
                    <a:pt x="807" y="205"/>
                    <a:pt x="795" y="188"/>
                  </a:cubicBezTo>
                  <a:cubicBezTo>
                    <a:pt x="790" y="181"/>
                    <a:pt x="793" y="170"/>
                    <a:pt x="787" y="164"/>
                  </a:cubicBezTo>
                  <a:cubicBezTo>
                    <a:pt x="773" y="150"/>
                    <a:pt x="739" y="132"/>
                    <a:pt x="739" y="132"/>
                  </a:cubicBezTo>
                  <a:cubicBezTo>
                    <a:pt x="709" y="88"/>
                    <a:pt x="740" y="123"/>
                    <a:pt x="699" y="100"/>
                  </a:cubicBezTo>
                  <a:cubicBezTo>
                    <a:pt x="682" y="91"/>
                    <a:pt x="651" y="68"/>
                    <a:pt x="651" y="68"/>
                  </a:cubicBezTo>
                  <a:cubicBezTo>
                    <a:pt x="648" y="60"/>
                    <a:pt x="650" y="49"/>
                    <a:pt x="643" y="44"/>
                  </a:cubicBezTo>
                  <a:cubicBezTo>
                    <a:pt x="629" y="34"/>
                    <a:pt x="595" y="28"/>
                    <a:pt x="595" y="28"/>
                  </a:cubicBezTo>
                  <a:cubicBezTo>
                    <a:pt x="578" y="34"/>
                    <a:pt x="565" y="49"/>
                    <a:pt x="547" y="52"/>
                  </a:cubicBezTo>
                  <a:cubicBezTo>
                    <a:pt x="476" y="62"/>
                    <a:pt x="403" y="60"/>
                    <a:pt x="331" y="68"/>
                  </a:cubicBezTo>
                  <a:cubicBezTo>
                    <a:pt x="271" y="48"/>
                    <a:pt x="331" y="75"/>
                    <a:pt x="331" y="44"/>
                  </a:cubicBezTo>
                  <a:cubicBezTo>
                    <a:pt x="331" y="36"/>
                    <a:pt x="315" y="50"/>
                    <a:pt x="307" y="52"/>
                  </a:cubicBezTo>
                  <a:cubicBezTo>
                    <a:pt x="289" y="56"/>
                    <a:pt x="270" y="58"/>
                    <a:pt x="251" y="60"/>
                  </a:cubicBezTo>
                  <a:cubicBezTo>
                    <a:pt x="211" y="64"/>
                    <a:pt x="171" y="65"/>
                    <a:pt x="131" y="68"/>
                  </a:cubicBezTo>
                  <a:cubicBezTo>
                    <a:pt x="74" y="87"/>
                    <a:pt x="97" y="75"/>
                    <a:pt x="59" y="100"/>
                  </a:cubicBezTo>
                  <a:cubicBezTo>
                    <a:pt x="54" y="108"/>
                    <a:pt x="51" y="118"/>
                    <a:pt x="43" y="124"/>
                  </a:cubicBezTo>
                  <a:cubicBezTo>
                    <a:pt x="31" y="134"/>
                    <a:pt x="0" y="132"/>
                    <a:pt x="35" y="132"/>
                  </a:cubicBezTo>
                  <a:close/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258920" y="494172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53737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我国濒临的海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573408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我国的陆上邻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51640" y="4797360"/>
            <a:ext cx="31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19640" y="5362560"/>
            <a:ext cx="3889440" cy="1390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东：朝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北：俄罗斯、蒙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西北：哈萨克斯坦、吉尔吉斯斯坦、塔吉克斯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西：阿富汗、巴基斯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西南：印度、尼泊尔、锡金、不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南：缅甸、老挝、越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8000" y="450864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同我国隔海相望的国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5157720"/>
            <a:ext cx="2952720" cy="684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东：韩国、日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东南：菲律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南：马来西亚、文莱、印度尼西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50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1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8" dur="1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9" dur="1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 rot="5400000">
            <a:off x="-87120" y="2758680"/>
            <a:ext cx="2438280" cy="609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快速记忆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1324080"/>
            <a:ext cx="5975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a82e"/>
                </a:solidFill>
                <a:latin typeface="Arial"/>
                <a:ea typeface="华文楷体"/>
              </a:rPr>
              <a:t>东临朝鲜，俄蒙北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a82e"/>
                </a:solidFill>
                <a:latin typeface="Arial"/>
                <a:ea typeface="华文楷体"/>
              </a:rPr>
              <a:t>西北哈吉塔，西临阿富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a82e"/>
                </a:solidFill>
                <a:latin typeface="Arial"/>
                <a:ea typeface="华文楷体"/>
              </a:rPr>
              <a:t>印尼不丹在西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a82e"/>
                </a:solidFill>
                <a:latin typeface="Arial"/>
                <a:ea typeface="华文楷体"/>
              </a:rPr>
              <a:t>缅甸老挝越在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a82e"/>
                </a:solidFill>
                <a:latin typeface="Arial"/>
                <a:ea typeface="华文楷体"/>
              </a:rPr>
              <a:t>（印尼再此指印度、尼泊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835280" y="59544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陆上邻国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-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35280" y="4437000"/>
            <a:ext cx="34160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隔海相望的国家</a:t>
            </a: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--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50925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fa82e"/>
                </a:solidFill>
                <a:latin typeface="Arial"/>
                <a:ea typeface="华文新魏"/>
              </a:rPr>
              <a:t>韩日菲马文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40720" y="6165720"/>
            <a:ext cx="804960" cy="34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28000" y="6408720"/>
            <a:ext cx="90504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6381720"/>
            <a:ext cx="90504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04040" y="6381720"/>
            <a:ext cx="905040" cy="476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9T15:39:44Z</dcterms:created>
  <dc:creator>Administrators</dc:creator>
  <dc:description/>
  <dc:language>en-US</dc:language>
  <cp:lastModifiedBy>y</cp:lastModifiedBy>
  <dcterms:modified xsi:type="dcterms:W3CDTF">2008-02-19T01:23:54Z</dcterms:modified>
  <cp:revision>23</cp:revision>
  <dc:subject/>
  <dc:title>幻灯片 1</dc:title>
</cp:coreProperties>
</file>