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0B3-D074-44FB-A740-95C47F5E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EC1-A38E-4726-B98A-343A232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496-F504-42CB-8C9E-50F5AB63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456-E220-483D-99F3-F10220C3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DC0-AFFD-4610-AC0B-39A693E8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FF7-F6EE-43C0-95C8-65C3830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23B-A6CF-4B52-803D-C75A446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B40-811E-4B7A-BE0C-4D6BEC40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9C1-BC8C-4DB4-835B-9D118E3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B7E-4585-45C1-9A07-F828E2AD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371-DE73-4F77-B813-8FD584B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27D-92AE-4EFB-B01F-EAC38E7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9527-E4EE-4126-B3A6-F65BC45952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八年级上册</a:t>
            </a:r>
            <a:br>
              <a:rPr sz="6000"/>
            </a:b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第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22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课　科学技术与思想文化（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62160" y="4419360"/>
            <a:ext cx="419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作课教师：于江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白山市江源区第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考生看榜图定稿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1625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考生看榜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251400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601956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829P138T3D32792F56DT20050414210928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ike4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01028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北京大学教学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46784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义勇军进行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黄河大合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0106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62120" y="1676520"/>
          <a:ext cx="7619760" cy="4114800"/>
        </p:xfrm>
        <a:graphic>
          <a:graphicData uri="http://schemas.openxmlformats.org/drawingml/2006/table">
            <a:tbl>
              <a:tblPr/>
              <a:tblGrid>
                <a:gridCol w="533160"/>
                <a:gridCol w="685800"/>
                <a:gridCol w="914400"/>
                <a:gridCol w="685800"/>
                <a:gridCol w="914400"/>
                <a:gridCol w="990360"/>
                <a:gridCol w="914400"/>
                <a:gridCol w="914400"/>
                <a:gridCol w="1067040"/>
              </a:tblGrid>
              <a:tr h="685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文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美术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音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戏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作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代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画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代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音乐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代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作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代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民国时期文艺成就表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1:10:39Z</dcterms:created>
  <dc:creator>xx</dc:creator>
  <dc:description/>
  <dc:language>en-US</dc:language>
  <cp:lastModifiedBy>a</cp:lastModifiedBy>
  <dcterms:modified xsi:type="dcterms:W3CDTF">2006-09-15T00:39:56Z</dcterms:modified>
  <cp:revision>7</cp:revision>
  <dc:subject/>
  <dc:title>PowerPoint 演示文稿</dc:title>
</cp:coreProperties>
</file>