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gif" ContentType="image/gif"/>
  <Override PartName="/ppt/media/image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AE1-A48E-410F-83DD-3355A678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C5E-FCA5-4CC5-BCDC-7F4A18C1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087-B26E-40A1-8F8B-BFDF0DC2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286-1EAA-4FF6-AD62-9743607D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B31-F0FC-4C17-92CC-F0D4CF88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4DC-6150-47C9-AF28-0C8181FB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CAA-8ACF-42C2-BF45-954E3932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78C-9226-4C3F-9E12-6643E755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9B8-E513-4F38-ADFC-3A664696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68C-BFF8-4CC2-88D8-EEC622EA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248-E235-4987-B78D-5625B84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DC7-0263-4636-BE38-68D9C70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A58A-BC3E-4B5B-96D3-4C1CD6399D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95280" y="333360"/>
            <a:ext cx="4175280" cy="6114600"/>
            <a:chOff x="395280" y="333360"/>
            <a:chExt cx="4175280" cy="61146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95280" y="333360"/>
              <a:ext cx="4175280" cy="52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26920" y="58053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早期的火车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4572000" y="476280"/>
            <a:ext cx="4427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据《申报》记载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的一天，中国上海发生了一件较为奇怪的事：一种新奇事物出现在中国大地上，田地里的老妇人看到后惊讶地张大嘴巴；青年人惊喜地两眼发亮；小孩子则吓得倚在大人身上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68360" y="907920"/>
            <a:ext cx="79912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用照片讲述我（我家）的历史！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89120" y="4581360"/>
            <a:ext cx="309744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11280" y="836640"/>
            <a:ext cx="7993080" cy="4824360"/>
            <a:chOff x="611280" y="836640"/>
            <a:chExt cx="7993080" cy="4824360"/>
          </a:xfrm>
        </p:grpSpPr>
        <p:sp>
          <p:nvSpPr>
            <p:cNvPr id="87" name=""/>
            <p:cNvSpPr txBox="1"/>
            <p:nvPr/>
          </p:nvSpPr>
          <p:spPr>
            <a:xfrm>
              <a:off x="611280" y="836640"/>
              <a:ext cx="7993080" cy="34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近代中国电影发展历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2627280" y="4653000"/>
              <a:ext cx="302436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学生作品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7451640" y="6380280"/>
            <a:ext cx="1150920" cy="28872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288720"/>
              <a:gd name="textAreaBottom" fmla="*/ 252720 h 288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3280" y="17640"/>
            <a:ext cx="4500720" cy="684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28680" y="3099600"/>
            <a:ext cx="7290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早期报纸－－《申报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61080" y="549360"/>
            <a:ext cx="3887640" cy="538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2200" y="549360"/>
            <a:ext cx="3673440" cy="5327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6000" y="29322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021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商务印书馆原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6021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日军炸后的商务印书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7640" y="189000"/>
            <a:ext cx="1150920" cy="28872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288720"/>
              <a:gd name="textAreaBottom" fmla="*/ 252720 h 288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16360" y="485640"/>
            <a:ext cx="3876840" cy="539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3809880" cy="534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59500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末代皇帝溥仪与皇后婉容的合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308640"/>
            <a:ext cx="1150920" cy="28908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289080"/>
              <a:gd name="textAreaBottom" fmla="*/ 253080 h 289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908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164360" y="5950080"/>
            <a:ext cx="1150920" cy="28872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288720"/>
              <a:gd name="textAreaBottom" fmla="*/ 252720 h 288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788000" cy="4005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58920" y="4437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山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1700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旗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6381720"/>
            <a:ext cx="1150920" cy="28908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289080"/>
              <a:gd name="textAreaBottom" fmla="*/ 253080 h 289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485928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762440" cy="23432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324000" y="3789360"/>
            <a:ext cx="4751280" cy="2303640"/>
            <a:chOff x="324000" y="3789360"/>
            <a:chExt cx="4751280" cy="230364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2700360" y="3789360"/>
              <a:ext cx="237492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24000" y="3789360"/>
              <a:ext cx="2376360" cy="230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148360" y="836640"/>
            <a:ext cx="3471840" cy="525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451640" y="6380280"/>
            <a:ext cx="1150920" cy="28872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288720"/>
              <a:gd name="textAreaBottom" fmla="*/ 252720 h 288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971640" y="476280"/>
            <a:ext cx="5029200" cy="1143000"/>
            <a:chOff x="971640" y="476280"/>
            <a:chExt cx="5029200" cy="11430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971640" y="476280"/>
              <a:ext cx="144756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419200" y="476280"/>
              <a:ext cx="3581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66"/>
                  </a:solidFill>
                  <a:latin typeface="Times New Roman"/>
                </a:rPr>
                <a:t>思考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1258920" y="2133720"/>
            <a:ext cx="6985080" cy="30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如何看待近代中国社会生活的变化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>
              <a:hlinkClick r:id="rId2" action="ppaction://hlinksldjump"/>
            </p:cNvPr>
            <p:cNvSpPr/>
            <p:nvPr/>
          </p:nvSpPr>
          <p:spPr>
            <a:xfrm>
              <a:off x="684360" y="476280"/>
              <a:ext cx="5759280" cy="2232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2673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853920" y="442800"/>
              <a:ext cx="5327640" cy="22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宋体"/>
                </a:rPr>
                <a:t>第</a:t>
              </a: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宋体"/>
                </a:rPr>
                <a:t>20</a:t>
              </a:r>
              <a:r>
                <a:rPr b="0" lang="zh-CN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宋体"/>
                </a:rPr>
                <a:t>课社会生活的变化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4716360" y="3213000"/>
            <a:ext cx="410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ff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吉林省第二实验学校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ff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ff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梁  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ff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6372360" y="977760"/>
            <a:ext cx="2160360" cy="10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近代交通通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6372360" y="2563920"/>
            <a:ext cx="216036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文化生活变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372360" y="4114800"/>
            <a:ext cx="216036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社会习俗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20635800">
            <a:off x="331560" y="1471320"/>
            <a:ext cx="5329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6366000"/>
                </a:gradFill>
                <a:latin typeface="宋体"/>
              </a:rPr>
              <a:t>近代社会生活的变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6366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6156360" y="1197000"/>
            <a:ext cx="24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火车、  轮船、有线电报、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6156360" y="2421000"/>
            <a:ext cx="24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照相、  电影、媒体、出版机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84520" y="341640"/>
            <a:ext cx="5200200" cy="5233680"/>
            <a:chOff x="884520" y="341640"/>
            <a:chExt cx="5200200" cy="5233680"/>
          </a:xfrm>
        </p:grpSpPr>
        <p:sp>
          <p:nvSpPr>
            <p:cNvPr id="60" name=""/>
            <p:cNvSpPr/>
            <p:nvPr/>
          </p:nvSpPr>
          <p:spPr>
            <a:xfrm>
              <a:off x="2265840" y="341640"/>
              <a:ext cx="591840" cy="28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333399"/>
                  </a:solidFill>
                  <a:latin typeface="Arial"/>
                  <a:ea typeface="隶书"/>
                </a:rPr>
                <a:t>近代交通通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51440" y="2683080"/>
              <a:ext cx="591840" cy="28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333399"/>
                  </a:solidFill>
                  <a:latin typeface="Arial"/>
                  <a:ea typeface="隶书"/>
                </a:rPr>
                <a:t>社会习俗变化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4520" y="1530720"/>
              <a:ext cx="591840" cy="28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333399"/>
                  </a:solidFill>
                  <a:latin typeface="Arial"/>
                  <a:ea typeface="隶书"/>
                </a:rPr>
                <a:t>文化生活变迁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03640" y="1413000"/>
              <a:ext cx="2881080" cy="503280"/>
            </a:xfrm>
            <a:prstGeom prst="rightArrow">
              <a:avLst>
                <a:gd name="adj1" fmla="val 50000"/>
                <a:gd name="adj2" fmla="val 1431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7880" y="2830680"/>
              <a:ext cx="4459320" cy="217440"/>
            </a:xfrm>
            <a:prstGeom prst="rightArrow">
              <a:avLst>
                <a:gd name="adj1" fmla="val 50000"/>
                <a:gd name="adj2" fmla="val 51270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32000" y="3860640"/>
              <a:ext cx="2881440" cy="503280"/>
            </a:xfrm>
            <a:prstGeom prst="rightArrow">
              <a:avLst>
                <a:gd name="adj1" fmla="val 50000"/>
                <a:gd name="adj2" fmla="val 1431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156360" y="3716280"/>
            <a:ext cx="24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剪辫、易服、废止缠足、改礼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6166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913800" cy="547200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8101080" y="6380280"/>
            <a:ext cx="1150920" cy="28872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288720"/>
              <a:gd name="textAreaBottom" fmla="*/ 252720 h 288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195640" y="333360"/>
              <a:ext cx="6192720" cy="61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9000" y="4149720"/>
              <a:ext cx="103356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旧式照相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395280" y="620640"/>
              <a:ext cx="813744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492360" y="602784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慈禧照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6:16:05Z</dcterms:created>
  <dc:creator>微软用户</dc:creator>
  <dc:description/>
  <dc:language>en-US</dc:language>
  <cp:lastModifiedBy>微软用户</cp:lastModifiedBy>
  <dcterms:modified xsi:type="dcterms:W3CDTF">2006-10-23T04:46:41Z</dcterms:modified>
  <cp:revision>13</cp:revision>
  <dc:subject/>
  <dc:title>幻灯片 1</dc:title>
</cp:coreProperties>
</file>