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6.jpeg" ContentType="image/jpeg"/>
  <Override PartName="/ppt/media/image47.jpeg" ContentType="image/jpeg"/>
  <Override PartName="/ppt/media/image50.gif" ContentType="image/gif"/>
  <Override PartName="/ppt/media/image48.gif" ContentType="image/gif"/>
  <Override PartName="/ppt/media/image49.jpeg" ContentType="image/jpeg"/>
  <Override PartName="/ppt/media/image51.png" ContentType="image/pn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F2D3-7C32-4941-9238-05DB3895DA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“加急”多半用于军事行动，凡加急的驿站递送，本身的动作就是 一场惊心动魄的电影镜头：驿马以四足高地的速度狂奔，铃声可传到一公里以外， 下一驿站听到后，日夜都在待命的驿率，立即上马飞驰。当后马追及前马，两马相 并时，马足不停，即在马上将公文书交递。驿马往往因狂奔过度而倒毙，如果五年 内幸运不死的，它就成为宝马退休，由政府饲养，不再作工，以酬庸它对国家的贡 献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渔光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一个渔民家庭的悲惨故事。故事发生在旧中国东海渔村一个贫苦善良的渔民家里。他叫徐福，被渔霸欺压剥削得一贫如洗。一个狂风暴雨的晚上，他的妻子生下了双胞胎一个男孩和一个女孩，为了养活一家老小，徐福到海上打鱼，不幸葬身大海。父亲早亡的小猫、小猴在母亲的拉扯下长大，租何家船以捕鱼为生。因军阀混战，生计无法维持。后来，小猴不幸受重伤，在姐姐凄婉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渔光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歌声中死去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渔光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在上海公映后，连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造成轰动效应。主题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渔光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十几万张唱片一抢而空。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渔光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莫斯科举行的国际电影节上获得“荣誉奖”，成为中国第一部在国际上获奖的影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而使本片编导蔡楚生一跃而成为世界性的电影艺术家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家有没看报纸的习惯？为什么要看报纸，从报纸中我们可以得到哪些信息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穿官服代表着什么意思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官服是地位和权力的象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，徐寿与其子科学家徐建寅在江南制造总局制造了第一号火轮“恬吉”号（载重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D7F-60C8-4C34-A052-92DEA029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06F-A05F-49FB-80E8-8D0840D4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416-AC93-4337-B94C-08C6B696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E80-ADAC-4248-AA18-6026AB54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6ABA-CB0F-4B58-B99B-4D0D6EB0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26F6-01A8-485C-8306-1C72BDE5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6751-1517-4E1E-880C-8BC8EB42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34A5-CC6B-4E39-BD49-49BB08E7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BF6E-11A9-4E75-9D18-67889ECD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4043-D0BE-462A-81EC-ADFBE9FF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0797-E373-40D3-B6A9-74A90D26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73A-98D8-4750-B382-00F70265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99DF-C3BB-4596-98F0-A5303AAB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8194-EB7B-46D4-9DFB-E149FA5B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E701-9554-4E72-920E-8E8242A7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A05F-79E8-4E1D-A067-7C58A1A2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D5DA-1684-4C05-82AD-72AAC9B5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F5A8-6E70-494D-B5B7-FD8FD51B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6265-76E6-48C6-8F32-E995C1A9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DD6D-048B-4798-A3A5-80D6974D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D75D-9AF8-4BE7-BBF2-3BDD6810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AAEF-C349-4D7F-ADFC-1CF73FD0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35B-89F1-42AE-A8B8-6FF56FAE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3067-BF77-42D2-94BB-A00F5EEE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74FF-229B-4A81-BA4B-C8AF5497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1F28-F247-4B42-806D-257E626C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DA32-8F24-4C05-8ADD-9B1AF751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A28C-48EB-44A4-983D-8FB36A50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B490-832B-4757-AFB5-6EF8020C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77A5-B436-4D05-A485-894E17FA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71A6F-347F-482B-BC6F-C795D551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7D957-8B35-4C4E-95E9-E0A1754A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9CF8C-160B-4F51-AE42-A41D8B6E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4A3-0B5F-4549-9166-5AF717B8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C133-84AA-4D92-8D0F-E991DC15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EC4F3-9157-4661-9F50-0BF1CFC9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3C3EA-981E-4B8A-B52D-4A4D68F8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7CBBC-A811-4538-B178-F502B011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E4F1B-BD00-4032-9F13-5D3B9601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7139-6088-4A00-AEC9-A435A51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7AE3B-DDA6-49AD-A0AD-2BB7052F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76C5F-B1F6-414F-8784-9FAFCD81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6571-DFC3-42E1-A31F-E7301DE8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A546D-C9EA-451B-BC91-AD329B3D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145-D60D-41C6-B7A0-4069ABA5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E4BD3-C7A3-4807-8C83-C3B58209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19AFE-A145-4FF5-A67D-F3656F98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D4D79-694F-4ACC-BE3C-261A488C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78AF0-1362-4EEA-863F-265E21AF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45DC-370A-4A0C-A8F5-79AEDBE1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33323-E43D-4261-8598-3B56F4FA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025B-50ED-47AF-97AA-B1A318AE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15C12-F11A-49E6-B9B2-A6A2163A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DF7D4-24F9-4F1C-BEB6-CED38727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8989C-1AB3-411D-A1B4-DE4C64F8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C71-006C-47A8-BDA2-98350D13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5094B-1008-4EB3-8A27-6F36BE0B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DA0-F8EC-4CDB-B596-51A241CD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C9F-A360-4CD3-8E29-9D2F0287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D95-9718-4046-B5BD-465395A2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7FDE-DFE7-43D0-91CD-A6B25B0E1C9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158A-6333-4210-AE50-0BA0F08D18F2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DADD-1CD8-48CD-A75D-7518860E05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5240-D1B5-4CDD-9C09-9613D1BFC6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72AF-7568-4023-89E1-A154F69FE1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0.jpeg"/><Relationship Id="rId10" Type="http://schemas.openxmlformats.org/officeDocument/2006/relationships/image" Target="../media/image28.png"/><Relationship Id="rId11" Type="http://schemas.openxmlformats.org/officeDocument/2006/relationships/image" Target="../media/image32.png"/><Relationship Id="rId12" Type="http://schemas.openxmlformats.org/officeDocument/2006/relationships/hyperlink" Target="http://www.cp.com.cn/zdtj/index_tj.asp" TargetMode="External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4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9.jpeg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9.jpe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679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54080" y="231840"/>
            <a:ext cx="57132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据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申报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记载，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876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年的一天，中国上海发生了一件较为奇怪的事：一种新奇的事物出现在中国大地上，田地里的老妇人看到后惊讶地张大嘴巴；青年人惊喜得两眼发亮；小孩子则吓得倚在大人身上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175200" cy="3809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莫尔斯发明电报.jpg (13658 bytes)"/>
          <p:cNvPicPr/>
          <p:nvPr/>
        </p:nvPicPr>
        <p:blipFill>
          <a:blip r:embed="rId3"/>
          <a:stretch/>
        </p:blipFill>
        <p:spPr>
          <a:xfrm>
            <a:off x="228600" y="1523880"/>
            <a:ext cx="4800600" cy="386568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257" name=""/>
          <p:cNvSpPr/>
          <p:nvPr/>
        </p:nvSpPr>
        <p:spPr>
          <a:xfrm>
            <a:off x="228600" y="1980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近代通讯在中国的出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5105520" y="3679920"/>
            <a:ext cx="4038480" cy="31017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38080" y="5638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早期电报机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99880" y="152280"/>
            <a:ext cx="6678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一八八零贝尔电话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04920" y="2733840"/>
            <a:ext cx="8534160" cy="13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文化生活的变迁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010280" cy="617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106040" y="1905120"/>
            <a:ext cx="1277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Verdana"/>
                <a:ea typeface="华文中宋"/>
              </a:rPr>
              <a:t>早期的照相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8763120" cy="5639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716360" y="485640"/>
            <a:ext cx="3876840" cy="5391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3809880" cy="53434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403280" y="59500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隶书"/>
              </a:rPr>
              <a:t>末代皇帝溥仪与皇后婉容的合影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57200" y="762120"/>
            <a:ext cx="8305920" cy="6102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3048120" y="152280"/>
            <a:ext cx="2819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电影传入中国</a:t>
            </a:r>
            <a:endParaRPr b="0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71400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69"/>
                </p:tgtEl>
              </p:cMediaNode>
            </p:audio>
            <p:seq>
              <p:cTn id="122" restart="whenNotActive" nodeType="interactiveSeq" fill="hold">
                <p:stCondLst>
                  <p:cond evt="onClick"/>
                </p:stCondLst>
                <p:childTnLst>
                  <p:par>
                    <p:cTn id="123" fill="hold">
                      <p:stCondLst>
                        <p:cond evt="onClick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749760" y="152280"/>
            <a:ext cx="4937040" cy="655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72" name=""/>
          <p:cNvSpPr/>
          <p:nvPr/>
        </p:nvSpPr>
        <p:spPr>
          <a:xfrm>
            <a:off x="380880" y="8380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第一部无声电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7480" y="1752480"/>
            <a:ext cx="850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定军山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334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905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年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334120" y="304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第一部有声电影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181840" cy="655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6251400" y="1066680"/>
            <a:ext cx="152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歌女红牡丹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5562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931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年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76320" y="142920"/>
            <a:ext cx="5105160" cy="3971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57200" y="4637160"/>
            <a:ext cx="4419720" cy="581400"/>
          </a:xfrm>
          <a:prstGeom prst="rect">
            <a:avLst/>
          </a:prstGeom>
          <a:solidFill>
            <a:srgbClr val="bbe0e3"/>
          </a:solidFill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中国第一部在国际电影节获奖的影片</a:t>
            </a:r>
            <a:r>
              <a:rPr b="1" lang="en-US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——《</a:t>
            </a: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渔光曲</a:t>
            </a:r>
            <a:r>
              <a:rPr b="1" lang="en-US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剧照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rcRect l="48751" t="8331" r="5002" b="6669"/>
          <a:stretch/>
        </p:blipFill>
        <p:spPr>
          <a:xfrm>
            <a:off x="5181480" y="1371600"/>
            <a:ext cx="387036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091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举出下列各时期创办的报纸名称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838080" y="1600200"/>
          <a:ext cx="7391520" cy="4838760"/>
        </p:xfrm>
        <a:graphic>
          <a:graphicData uri="http://schemas.openxmlformats.org/drawingml/2006/table">
            <a:tbl>
              <a:tblPr/>
              <a:tblGrid>
                <a:gridCol w="2819520"/>
                <a:gridCol w="4572000"/>
              </a:tblGrid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371600" y="29718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华文中宋"/>
              </a:rPr>
              <a:t>维新变法运动时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4419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华文中宋"/>
              </a:rPr>
              <a:t>辛亥革命时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55767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华文中宋"/>
              </a:rPr>
              <a:t>新文化运动时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29718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中外纪闻</a:t>
            </a:r>
            <a:r>
              <a:rPr b="1" lang="en-US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民报</a:t>
            </a:r>
            <a:r>
              <a:rPr b="1" lang="en-US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55767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新青年</a:t>
            </a:r>
            <a:r>
              <a:rPr b="1" lang="en-US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每周评论</a:t>
            </a:r>
            <a:r>
              <a:rPr b="1" lang="en-US" sz="2800" spc="-1" strike="noStrike">
                <a:solidFill>
                  <a:srgbClr val="003399"/>
                </a:solidFill>
                <a:latin typeface="Verdana"/>
                <a:ea typeface="华文中宋"/>
              </a:rPr>
              <a:t>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1905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时间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38480" y="18892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出版的报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90720" y="228600"/>
            <a:ext cx="7162560" cy="94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申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旧中国历史最长、影响最大的一份报纸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7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由</a:t>
            </a: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英国商人美查创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由中国人接办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上海解放时停刊。前后办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" descr="image/img181117_1.jpg"/>
          <p:cNvPicPr/>
          <p:nvPr/>
        </p:nvPicPr>
        <p:blipFill>
          <a:blip r:embed="rId2"/>
          <a:stretch/>
        </p:blipFill>
        <p:spPr>
          <a:xfrm>
            <a:off x="4800600" y="2286000"/>
            <a:ext cx="31640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1125360" y="2286000"/>
            <a:ext cx="3218040" cy="42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905120" y="990720"/>
            <a:ext cx="53337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</a:t>
            </a: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0</a:t>
            </a:r>
            <a:r>
              <a:rPr b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社会生活的变化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5029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宜昌市七星台一中    刘波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4724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商务印书馆出版的著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1908000" cy="265140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2022480" y="9360"/>
            <a:ext cx="5099040" cy="6840360"/>
            <a:chOff x="2022480" y="9360"/>
            <a:chExt cx="5099040" cy="6840360"/>
          </a:xfrm>
        </p:grpSpPr>
        <p:sp>
          <p:nvSpPr>
            <p:cNvPr id="298" name=""/>
            <p:cNvSpPr/>
            <p:nvPr/>
          </p:nvSpPr>
          <p:spPr>
            <a:xfrm>
              <a:off x="2022480" y="9360"/>
              <a:ext cx="5099040" cy="29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022480" y="9360"/>
              <a:ext cx="5099040" cy="6840360"/>
              <a:chOff x="2022480" y="9360"/>
              <a:chExt cx="5099040" cy="6840360"/>
            </a:xfrm>
          </p:grpSpPr>
          <p:sp>
            <p:nvSpPr>
              <p:cNvPr id="300" name=""/>
              <p:cNvSpPr/>
              <p:nvPr/>
            </p:nvSpPr>
            <p:spPr>
              <a:xfrm>
                <a:off x="2022480" y="9360"/>
                <a:ext cx="5099040" cy="68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2022480" y="9360"/>
                <a:ext cx="5000760" cy="6840360"/>
                <a:chOff x="2022480" y="9360"/>
                <a:chExt cx="5000760" cy="68403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022480" y="9360"/>
                  <a:ext cx="5000760" cy="68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480" y="9360"/>
                  <a:ext cx="5000760" cy="11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zh-CN" sz="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</a:t>
                  </a:r>
                  <a:endParaRPr b="0" lang="en-US" sz="9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04" name="" descr="新汉日词典"/>
          <p:cNvPicPr/>
          <p:nvPr/>
        </p:nvPicPr>
        <p:blipFill>
          <a:blip r:embed="rId3"/>
          <a:stretch/>
        </p:blipFill>
        <p:spPr>
          <a:xfrm>
            <a:off x="3124080" y="1981080"/>
            <a:ext cx="3048120" cy="266724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0" y="5257800"/>
            <a:ext cx="9144000" cy="1066680"/>
            <a:chOff x="0" y="5257800"/>
            <a:chExt cx="9144000" cy="1066680"/>
          </a:xfrm>
        </p:grpSpPr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3505320" y="5257800"/>
              <a:ext cx="273204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5"/>
            <a:stretch/>
          </p:blipFill>
          <p:spPr>
            <a:xfrm>
              <a:off x="152280" y="5257800"/>
              <a:ext cx="33530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6"/>
            <a:stretch/>
          </p:blipFill>
          <p:spPr>
            <a:xfrm>
              <a:off x="6259680" y="5257800"/>
              <a:ext cx="27320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0" y="5257800"/>
              <a:ext cx="91440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0" y="533520"/>
            <a:ext cx="9144000" cy="1066680"/>
            <a:chOff x="0" y="533520"/>
            <a:chExt cx="9144000" cy="1066680"/>
          </a:xfrm>
        </p:grpSpPr>
        <p:pic>
          <p:nvPicPr>
            <p:cNvPr id="311" name="" descr=""/>
            <p:cNvPicPr/>
            <p:nvPr/>
          </p:nvPicPr>
          <p:blipFill>
            <a:blip r:embed="rId7"/>
            <a:stretch/>
          </p:blipFill>
          <p:spPr>
            <a:xfrm>
              <a:off x="3505320" y="533520"/>
              <a:ext cx="273204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8"/>
            <a:stretch/>
          </p:blipFill>
          <p:spPr>
            <a:xfrm>
              <a:off x="152280" y="533520"/>
              <a:ext cx="33530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9"/>
            <a:stretch/>
          </p:blipFill>
          <p:spPr>
            <a:xfrm>
              <a:off x="6259680" y="533520"/>
              <a:ext cx="27320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533520"/>
              <a:ext cx="91440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0"/>
          <a:stretch/>
        </p:blipFill>
        <p:spPr>
          <a:xfrm>
            <a:off x="5410080" y="2057400"/>
            <a:ext cx="1908360" cy="2651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1"/>
          <a:stretch/>
        </p:blipFill>
        <p:spPr>
          <a:xfrm>
            <a:off x="6781680" y="2057400"/>
            <a:ext cx="1725840" cy="26668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133720" y="1905120"/>
            <a:ext cx="1969920" cy="2743200"/>
          </a:xfrm>
          <a:prstGeom prst="rect">
            <a:avLst/>
          </a:prstGeom>
          <a:ln w="0">
            <a:noFill/>
          </a:ln>
          <a:effectLst>
            <a:outerShdw dist="153009" dir="19106018" blurRad="0" rotWithShape="0">
              <a:srgbClr val="dddddd">
                <a:alpha val="50000"/>
              </a:srgbClr>
            </a:outerShdw>
          </a:effectLst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04920" y="2733840"/>
            <a:ext cx="8534160" cy="13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社会习俗的变化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Rounded MT Bold"/>
                <a:ea typeface="黑体"/>
              </a:rPr>
              <a:t>三、社会习俗的变化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rcRect l="18944" t="0" r="13517" b="0"/>
          <a:stretch/>
        </p:blipFill>
        <p:spPr>
          <a:xfrm>
            <a:off x="4952880" y="1066680"/>
            <a:ext cx="4015080" cy="4800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843520" y="6019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清末剃发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380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清朝梳辫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2"/>
          <a:srcRect l="0" t="0" r="32958" b="0"/>
          <a:stretch/>
        </p:blipFill>
        <p:spPr>
          <a:xfrm>
            <a:off x="380880" y="152280"/>
            <a:ext cx="4645080" cy="6096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25" name=""/>
          <p:cNvSpPr/>
          <p:nvPr/>
        </p:nvSpPr>
        <p:spPr>
          <a:xfrm>
            <a:off x="60948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辛亥革命后军警为行人剪辫子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溥仪剪辫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105520" y="1066680"/>
            <a:ext cx="5029200" cy="3505320"/>
            <a:chOff x="5105520" y="1066680"/>
            <a:chExt cx="5029200" cy="3505320"/>
          </a:xfrm>
        </p:grpSpPr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5124600" y="1066680"/>
              <a:ext cx="501012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105520" y="1066680"/>
              <a:ext cx="0" cy="350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144000" y="1066680"/>
              <a:ext cx="0" cy="3505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05520" y="1066680"/>
              <a:ext cx="403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05520" y="4572000"/>
              <a:ext cx="403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622760" y="76320"/>
            <a:ext cx="4464000" cy="60195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228600"/>
            <a:ext cx="4351320" cy="6324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143000" y="60958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清朝官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6095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孙中山和中山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7" name="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5200" y="3962520"/>
            <a:ext cx="22147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143000" y="152280"/>
            <a:ext cx="3397320" cy="62485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rcRect l="0" t="0" r="0" b="11250"/>
          <a:stretch/>
        </p:blipFill>
        <p:spPr>
          <a:xfrm>
            <a:off x="4697280" y="152280"/>
            <a:ext cx="3300480" cy="6248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28600" y="2362320"/>
            <a:ext cx="7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清末民女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2378160"/>
            <a:ext cx="45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民国少女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3887640" y="0"/>
            <a:ext cx="5256360" cy="380988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3887640" y="3886200"/>
            <a:ext cx="5256000" cy="2971440"/>
            <a:chOff x="3887640" y="3886200"/>
            <a:chExt cx="5256000" cy="2971440"/>
          </a:xfrm>
        </p:grpSpPr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516360" y="3886200"/>
              <a:ext cx="2627280" cy="29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5"/>
            <a:stretch/>
          </p:blipFill>
          <p:spPr>
            <a:xfrm>
              <a:off x="3887640" y="3886200"/>
              <a:ext cx="2628720" cy="297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9304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3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084680" y="609480"/>
            <a:ext cx="1277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Verdana"/>
                <a:ea typeface="黑体"/>
              </a:rPr>
              <a:t>社会习俗的变化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457200"/>
            <a:ext cx="914400" cy="3581280"/>
          </a:xfrm>
          <a:custGeom>
            <a:avLst/>
            <a:gdLst>
              <a:gd name="textAreaLeft" fmla="*/ 584280 w 914400"/>
              <a:gd name="textAreaRight" fmla="*/ 914760 w 9144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304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Verdana"/>
                <a:ea typeface="华文中宋"/>
              </a:rPr>
              <a:t>剪发辫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2819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Verdana"/>
                <a:ea typeface="华文中宋"/>
              </a:rPr>
              <a:t>变礼仪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1981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Verdana"/>
                <a:ea typeface="华文中宋"/>
              </a:rPr>
              <a:t>易服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1143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Verdana"/>
                <a:ea typeface="华文中宋"/>
              </a:rPr>
              <a:t>废缠足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3625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Verdana"/>
                <a:ea typeface="华文中宋"/>
              </a:rPr>
              <a:t>改称呼</a:t>
            </a:r>
            <a:r>
              <a:rPr b="0" lang="zh-CN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46483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华文中宋"/>
              </a:rPr>
              <a:t>这些变化体现民国初年的社会出现什么样的发展趋势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rId2" action="ppaction://hlinksldjump"/>
          </p:cNvPr>
          <p:cNvSpPr/>
          <p:nvPr/>
        </p:nvSpPr>
        <p:spPr>
          <a:xfrm>
            <a:off x="6113520" y="2484360"/>
            <a:ext cx="244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火车、  轮船、有线电报、电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>
            <a:hlinkClick r:id="rId3" action="ppaction://hlinksldjump"/>
          </p:cNvPr>
          <p:cNvSpPr/>
          <p:nvPr/>
        </p:nvSpPr>
        <p:spPr>
          <a:xfrm>
            <a:off x="6113520" y="3708360"/>
            <a:ext cx="244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照相、  电影、媒体、出版机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841680" y="1629000"/>
            <a:ext cx="5200200" cy="5233680"/>
            <a:chOff x="841680" y="1629000"/>
            <a:chExt cx="5200200" cy="5233680"/>
          </a:xfrm>
        </p:grpSpPr>
        <p:sp>
          <p:nvSpPr>
            <p:cNvPr id="359" name=""/>
            <p:cNvSpPr/>
            <p:nvPr/>
          </p:nvSpPr>
          <p:spPr>
            <a:xfrm>
              <a:off x="2222640" y="1629000"/>
              <a:ext cx="591840" cy="28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333399"/>
                  </a:solidFill>
                  <a:latin typeface="Arial"/>
                  <a:ea typeface="隶书"/>
                </a:rPr>
                <a:t>近代交通通讯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08240" y="3970440"/>
              <a:ext cx="591840" cy="28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333399"/>
                  </a:solidFill>
                  <a:latin typeface="Arial"/>
                  <a:ea typeface="隶书"/>
                </a:rPr>
                <a:t>社会习俗变化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1680" y="2818080"/>
              <a:ext cx="591840" cy="28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333399"/>
                  </a:solidFill>
                  <a:latin typeface="Arial"/>
                  <a:ea typeface="隶书"/>
                </a:rPr>
                <a:t>文化生活变迁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60440" y="2700360"/>
              <a:ext cx="2881440" cy="503280"/>
            </a:xfrm>
            <a:prstGeom prst="rightArrow">
              <a:avLst>
                <a:gd name="adj1" fmla="val 50000"/>
                <a:gd name="adj2" fmla="val 1431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35040" y="4118040"/>
              <a:ext cx="4459320" cy="217440"/>
            </a:xfrm>
            <a:prstGeom prst="rightArrow">
              <a:avLst>
                <a:gd name="adj1" fmla="val 50000"/>
                <a:gd name="adj2" fmla="val 51270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89160" y="5148360"/>
              <a:ext cx="2881440" cy="503280"/>
            </a:xfrm>
            <a:prstGeom prst="rightArrow">
              <a:avLst>
                <a:gd name="adj1" fmla="val 50000"/>
                <a:gd name="adj2" fmla="val 1431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5" name="">
            <a:hlinkClick r:id="rId4" action="ppaction://hlinksldjump"/>
          </p:cNvPr>
          <p:cNvSpPr/>
          <p:nvPr/>
        </p:nvSpPr>
        <p:spPr>
          <a:xfrm>
            <a:off x="6095880" y="5484240"/>
            <a:ext cx="2449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剪辫、易服、废止缠足、变礼仪、改称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1600200"/>
            <a:ext cx="8381880" cy="50292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828800" y="76320"/>
            <a:ext cx="5029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</a:t>
            </a: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0</a:t>
            </a:r>
            <a:r>
              <a:rPr b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社会生活的变化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5228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中国建造的第一艘轮船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 Rounded MT Bold"/>
                <a:ea typeface="黑体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中国出现的第一条正式运营的铁路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 Rounded MT Bold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我国拍摄的第一部无声电影是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我国拍摄的第一部有声电影是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中国第一部在国际电影节上获奖的影片是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中国近代最著名的报纸是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近代中国历史最长、规模最大的文化出版机构是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9" name=""/>
          <p:cNvSpPr/>
          <p:nvPr/>
        </p:nvSpPr>
        <p:spPr>
          <a:xfrm>
            <a:off x="5463720" y="114300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黄鹄”号轮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48040" y="17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淞沪铁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63920" y="2332080"/>
            <a:ext cx="12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定军山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87040" y="2909880"/>
            <a:ext cx="16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歌女红牡丹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5640" y="4084560"/>
            <a:ext cx="12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渔光曲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87760" y="469440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申报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47080" y="580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商务印书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33520" y="228600"/>
            <a:ext cx="2133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练一练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600200" y="380880"/>
            <a:ext cx="5029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</a:t>
            </a: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0</a:t>
            </a:r>
            <a:r>
              <a:rPr b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社会生活的变化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9" name=""/>
          <p:cNvSpPr/>
          <p:nvPr/>
        </p:nvSpPr>
        <p:spPr>
          <a:xfrm>
            <a:off x="2743200" y="3886200"/>
            <a:ext cx="480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文化生活的变迁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23623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近代交通通讯的出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334120"/>
            <a:ext cx="495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新魏"/>
              </a:rPr>
              <a:t>社会习俗的变化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666880"/>
            <a:ext cx="685800" cy="3200400"/>
          </a:xfrm>
          <a:custGeom>
            <a:avLst/>
            <a:gdLst>
              <a:gd name="textAreaLeft" fmla="*/ 438120 w 685800"/>
              <a:gd name="textAreaRight" fmla="*/ 686160 w 6858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6400" y="2362320"/>
            <a:ext cx="152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黑体"/>
              </a:rPr>
              <a:t>社会生活的变化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571400"/>
            <a:ext cx="685944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国曾经以四大发明傲立世界，为什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到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近代，诸多先进的科学技术成果却都是从西方传进来的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7086600" y="1523880"/>
            <a:ext cx="1646280" cy="20574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2362320" y="4191120"/>
            <a:ext cx="3354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原因何在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76320" y="8380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中国近代科学的落后有封建制度统治的原因，重农抑商、闭关锁国的政策，阻碍了科学技术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发展。</a:t>
            </a:r>
            <a:br>
              <a:rPr sz="3200"/>
            </a:b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　　从教育制度上看，科举制度要求读书人死记硬背四书五经，不注重发明制造。</a:t>
            </a:r>
            <a:br>
              <a:rPr sz="3200"/>
            </a:b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　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3526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      </a:t>
            </a:r>
            <a:br>
              <a:rPr sz="3200"/>
            </a:b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　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更重要的是我们是农业国，即使有科技发明也属于封建农业文明，局限性很大；而西方的科技发明以近代工业科学理论为基础的，因而更具先进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228600" y="304920"/>
            <a:ext cx="4952520" cy="971280"/>
            <a:chOff x="228600" y="304920"/>
            <a:chExt cx="4952520" cy="971280"/>
          </a:xfrm>
        </p:grpSpPr>
        <p:pic>
          <p:nvPicPr>
            <p:cNvPr id="384" name="" descr=""/>
            <p:cNvPicPr/>
            <p:nvPr/>
          </p:nvPicPr>
          <p:blipFill>
            <a:blip r:embed="rId3"/>
            <a:stretch/>
          </p:blipFill>
          <p:spPr>
            <a:xfrm>
              <a:off x="228600" y="304920"/>
              <a:ext cx="1425600" cy="9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654200" y="304920"/>
              <a:ext cx="352692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66"/>
                  </a:solidFill>
                  <a:latin typeface="Times New Roman"/>
                </a:rPr>
                <a:t>思考</a:t>
              </a:r>
              <a:endParaRPr b="0" lang="en-US" sz="7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990720" y="160020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近代西方科技发明的传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入，给中国社会生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带来了怎样的影响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2666880" y="2209680"/>
            <a:ext cx="285768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</a:t>
            </a:r>
            <a:r>
              <a:rPr b="0" lang="en-US" sz="9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!</a:t>
            </a:r>
            <a:endParaRPr b="0" lang="en-US" sz="96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260872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近代交通工具的产生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世纪后半期，以瓦特发明蒸汽机为标志，欧洲暴发工业革命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807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，美国人富尔顿制成蒸汽轮船“克莱蒙号”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81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，英国人史蒂芬孙制成火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旅行者号”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6320" y="2271600"/>
            <a:ext cx="4724280" cy="3886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941720" y="457200"/>
            <a:ext cx="4050000" cy="57913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52280" y="685800"/>
            <a:ext cx="4648320" cy="520560"/>
          </a:xfrm>
          <a:prstGeom prst="rect">
            <a:avLst/>
          </a:prstGeom>
          <a:solidFill>
            <a:srgbClr val="bbe0e3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80808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近代以前人们使用的交通工具有哪些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5256360"/>
            <a:ext cx="8153280" cy="520560"/>
          </a:xfrm>
          <a:prstGeom prst="rect">
            <a:avLst/>
          </a:prstGeom>
          <a:solidFill>
            <a:srgbClr val="0066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86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，徐寿和华蘅芳合作制成一艘木壳轮船“黄鹄”号，时速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余里，是中国自行设计的第一艘蒸汽轮船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rcRect l="0" t="0" r="0" b="10510"/>
          <a:stretch/>
        </p:blipFill>
        <p:spPr>
          <a:xfrm>
            <a:off x="76320" y="15228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28600" y="-360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905120" y="2835360"/>
            <a:ext cx="7238880" cy="4022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吴淞铁路示意图"/>
          <p:cNvPicPr/>
          <p:nvPr/>
        </p:nvPicPr>
        <p:blipFill>
          <a:blip r:embed="rId3"/>
          <a:stretch/>
        </p:blipFill>
        <p:spPr>
          <a:xfrm>
            <a:off x="0" y="0"/>
            <a:ext cx="3581280" cy="2819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809880" y="380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1876</a:t>
            </a: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年，英国商人在中国修筑的第一条正式投入运营的铁路</a:t>
            </a:r>
            <a:r>
              <a:rPr b="1" lang="en-US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华文中宋"/>
                <a:ea typeface="华文中宋"/>
              </a:rPr>
              <a:t>淞沪铁路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520" y="3429000"/>
            <a:ext cx="1277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华文中宋"/>
                <a:ea typeface="华文中宋"/>
              </a:rPr>
              <a:t>早期火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601992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676160" y="5486040"/>
            <a:ext cx="5715000" cy="10666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骡拉煤车行走的铁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政府最早修筑的铁路：唐胥铁路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666880" y="2181240"/>
            <a:ext cx="3810240" cy="2495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2666880" y="2181240"/>
            <a:ext cx="3810240" cy="24955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8458200" cy="497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YlmF</cp:lastModifiedBy>
  <dcterms:modified xsi:type="dcterms:W3CDTF">2009-04-25T13:33:0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