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909-E5CF-4377-8094-24ADA170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5E5-5A12-45C1-A6A9-21D3D1F3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85D-D0C5-4DAE-B4B6-3707DA52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D9B-80CA-44AA-BA97-D3993368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496F-77F9-4886-AD32-2ABECCEB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15E2-47F3-427F-A91D-FEC12B99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092F-3DCB-494E-ACB7-035DCBE4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5EBC-47DE-4099-BC05-C90F43C0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3C27-E54C-44FA-AFD6-3C4637F6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702C-8A31-45E7-B581-BF6B9980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1777-ED84-4134-9A33-44A81F34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62C-1F34-4C32-82D4-493D2605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143D-B8B1-4A96-8113-6CA32E44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F838-3CC1-446B-B8E8-B54C722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092F-2190-496C-BCB9-091D47AC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BAEA-1628-4CA0-A7D5-BAED3978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9EA4-6EC4-4628-9A57-D23EA4E6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5AE-3E31-403C-88F5-C22E70D2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075-5654-409E-9152-1EA44E16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FE7-EF6D-42F0-84A3-0B701F04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98D-7EE5-4212-82C2-46155782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675-6C8E-4C04-A73A-BF5C9B37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C36-4AD9-4A04-BFF6-50E8F852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C8C-4986-4312-9834-BAC08786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40BC-A744-4F1B-82C5-BC414E54274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14E5-3A96-47D4-AF5A-9543C80EA4A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900000" y="2133720"/>
            <a:ext cx="741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8b17"/>
                </a:solidFill>
                <a:latin typeface="黑体"/>
              </a:rPr>
              <a:t>中国近代民族工业的发展</a:t>
            </a:r>
            <a:endParaRPr b="1" lang="en-US" sz="5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8b17"/>
              </a:solidFill>
              <a:latin typeface="黑体"/>
              <a:ea typeface="黑体"/>
            </a:endParaRPr>
          </a:p>
        </p:txBody>
      </p:sp>
      <p:pic>
        <p:nvPicPr>
          <p:cNvPr id="350" name="diqiu" descr=""/>
          <p:cNvPicPr/>
          <p:nvPr/>
        </p:nvPicPr>
        <p:blipFill>
          <a:blip r:embed="rId1"/>
          <a:stretch/>
        </p:blipFill>
        <p:spPr>
          <a:xfrm>
            <a:off x="7740720" y="537372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340000" y="5084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章丘市官庄中学    马革林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0464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人教版实验教科书八年级上册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143760" cy="322884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  <p:sp>
        <p:nvSpPr>
          <p:cNvPr id="407" name=""/>
          <p:cNvSpPr/>
          <p:nvPr/>
        </p:nvSpPr>
        <p:spPr>
          <a:xfrm>
            <a:off x="3619080" y="765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 rot="5400000">
            <a:off x="2622600" y="3290040"/>
            <a:ext cx="43038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红色资本家荣毅仁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580000" y="1268280"/>
            <a:ext cx="3376800" cy="48974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graphicFrame>
        <p:nvGraphicFramePr>
          <p:cNvPr id="410" name=""/>
          <p:cNvGraphicFramePr/>
          <p:nvPr/>
        </p:nvGraphicFramePr>
        <p:xfrm>
          <a:off x="539640" y="1197000"/>
          <a:ext cx="3456000" cy="569916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1916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年，出生于江苏无锡荣氏家族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1949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年，决定留在大陆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1956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年，将自己的商业帝国上交给政府。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1979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年，创办中国国际信托投资公司。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1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1993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年－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1998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年，出任中华人民共和国国家副主席。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           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"/>
          <p:cNvSpPr/>
          <p:nvPr/>
        </p:nvSpPr>
        <p:spPr>
          <a:xfrm>
            <a:off x="3619080" y="189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1557360"/>
            <a:ext cx="5472000" cy="3456000"/>
          </a:xfrm>
          <a:prstGeom prst="cloudCallout">
            <a:avLst>
              <a:gd name="adj1" fmla="val 58615"/>
              <a:gd name="adj2" fmla="val 56662"/>
            </a:avLst>
          </a:prstGeom>
          <a:solidFill>
            <a:srgbClr val="3333ff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获得新生</a:t>
            </a:r>
            <a:r>
              <a:rPr b="0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04920" y="1371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萌芽出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3733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4920" y="3138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黄金时代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5029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再度受挫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981080"/>
            <a:ext cx="152640" cy="1143000"/>
          </a:xfrm>
          <a:prstGeom prst="downArrow">
            <a:avLst>
              <a:gd name="adj1" fmla="val 50000"/>
              <a:gd name="adj2" fmla="val 18720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38280" y="1371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洋务运动到清朝末年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31384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次世界大战期间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66880" y="4952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次世界大战后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41400" y="3524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900000" y="1628640"/>
            <a:ext cx="7182000" cy="5229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366720" y="26028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10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特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366720" y="26028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1341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特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26920" y="2421000"/>
            <a:ext cx="6769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楷体_GB2312"/>
              </a:rPr>
              <a:t>发展阶段：短暂且曲折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楷体_GB2312"/>
              </a:rPr>
              <a:t>发展程度：不平衡，集中于轻工业              和沿江沿海地区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楷体_GB2312"/>
              </a:rPr>
              <a:t>发展水平：受中国社会性质制约，整体水平落后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609480"/>
            <a:ext cx="8778960" cy="6248520"/>
          </a:xfrm>
          <a:prstGeom prst="horizontalScroll">
            <a:avLst>
              <a:gd name="adj" fmla="val 17231"/>
            </a:avLst>
          </a:prstGeom>
          <a:solidFill>
            <a:srgbClr val="ffe103"/>
          </a:solidFill>
          <a:ln cap="sq" w="1260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87280" y="184464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温家宝总理在十届全国人大三次会议上所作的政府报告中指出，促进区域协调发展，是我国现代化建设中的一个重大战略问题，要坚持推进西部大开发，振兴东北地区等老工业基地，促进中部地区崛起，鼓励东部地区加快发展，形成东中西互动，优势互补，相互促进，共同发展的新格局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404640"/>
            <a:ext cx="3060720" cy="719280"/>
          </a:xfrm>
          <a:custGeom>
            <a:avLst/>
            <a:gdLst>
              <a:gd name="textAreaLeft" fmla="*/ 765000 w 3060720"/>
              <a:gd name="textAreaRight" fmla="*/ 2295720 w 306072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e103"/>
          </a:solidFill>
          <a:ln w="38160">
            <a:solidFill>
              <a:srgbClr val="ff8b17"/>
            </a:solidFill>
            <a:miter/>
          </a:ln>
          <a:effectLst>
            <a:outerShdw dist="53966" dir="2700000" blurRad="0" rotWithShape="0">
              <a:srgbClr val="af27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材料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68360" y="206064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当今世界，科学技术是综合国力竞争的决定性因素，自主创新是支撑一个国家崛起的筋 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解决我国经济社会发展中的突出问题，根本要靠科技进步和创新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科技的灵魂在创新，科技的活力在改革，科技的根本在人才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549360"/>
            <a:ext cx="3060720" cy="718920"/>
          </a:xfrm>
          <a:custGeom>
            <a:avLst/>
            <a:gdLst>
              <a:gd name="textAreaLeft" fmla="*/ 765000 w 3060720"/>
              <a:gd name="textAreaRight" fmla="*/ 2295720 w 3060720"/>
              <a:gd name="textAreaTop" fmla="*/ 8964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e103"/>
          </a:solidFill>
          <a:ln w="38160">
            <a:solidFill>
              <a:srgbClr val="ff8b17"/>
            </a:solidFill>
            <a:miter/>
          </a:ln>
          <a:effectLst>
            <a:outerShdw dist="53966" dir="2700000" blurRad="0" rotWithShape="0">
              <a:srgbClr val="af27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材料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9640" y="407664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无产阶级队伍的壮大，为以后中国由旧民主主义革命向新民主主义革命的转化，为中国共产党的成立，提供了阶级基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263700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民族资产阶级进一步发展，为民主革命提供了物质基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41400" y="3524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1484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影响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7" name="">
            <a:hlinkClick r:id="rId1" action="ppaction://hlinksldjump"/>
          </p:cNvPr>
          <p:cNvSpPr/>
          <p:nvPr/>
        </p:nvSpPr>
        <p:spPr>
          <a:xfrm>
            <a:off x="7596360" y="5805360"/>
            <a:ext cx="936360" cy="648000"/>
          </a:xfrm>
          <a:custGeom>
            <a:avLst/>
            <a:gdLst>
              <a:gd name="textAreaLeft" fmla="*/ 41760 w 936360"/>
              <a:gd name="textAreaRight" fmla="*/ 894600 w 936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07" h="21600">
                <a:moveTo>
                  <a:pt x="0" y="0"/>
                </a:moveTo>
                <a:lnTo>
                  <a:pt x="31207" y="0"/>
                </a:lnTo>
                <a:lnTo>
                  <a:pt x="31207" y="21600"/>
                </a:lnTo>
                <a:lnTo>
                  <a:pt x="0" y="21600"/>
                </a:lnTo>
                <a:close/>
              </a:path>
              <a:path fill="lightenLess" w="31207" h="21600">
                <a:moveTo>
                  <a:pt x="0" y="0"/>
                </a:moveTo>
                <a:lnTo>
                  <a:pt x="31207" y="0"/>
                </a:lnTo>
                <a:lnTo>
                  <a:pt x="29807" y="1400"/>
                </a:lnTo>
                <a:lnTo>
                  <a:pt x="1400" y="1400"/>
                </a:lnTo>
                <a:close/>
              </a:path>
              <a:path fill="darken" w="31207" h="21600">
                <a:moveTo>
                  <a:pt x="31207" y="0"/>
                </a:moveTo>
                <a:lnTo>
                  <a:pt x="31207" y="21600"/>
                </a:lnTo>
                <a:lnTo>
                  <a:pt x="29807" y="20200"/>
                </a:lnTo>
                <a:lnTo>
                  <a:pt x="29807" y="1400"/>
                </a:lnTo>
                <a:close/>
              </a:path>
              <a:path fill="darkenLess" w="31207" h="21600">
                <a:moveTo>
                  <a:pt x="31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07" y="20200"/>
                </a:lnTo>
                <a:close/>
              </a:path>
              <a:path fill="lighten" w="31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07" h="21600">
                <a:moveTo>
                  <a:pt x="8597" y="3794"/>
                </a:moveTo>
                <a:lnTo>
                  <a:pt x="22610" y="10800"/>
                </a:lnTo>
                <a:lnTo>
                  <a:pt x="8597" y="17806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627280" y="1989000"/>
            <a:ext cx="3240000" cy="1727280"/>
          </a:xfrm>
          <a:prstGeom prst="ellipse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中国近代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民族工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40000" y="5084640"/>
            <a:ext cx="1008000" cy="863640"/>
          </a:xfrm>
          <a:prstGeom prst="ellipse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萌芽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出现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916360" y="3716280"/>
            <a:ext cx="3456000" cy="2232000"/>
            <a:chOff x="2916360" y="3716280"/>
            <a:chExt cx="3456000" cy="2232000"/>
          </a:xfrm>
        </p:grpSpPr>
        <p:grpSp>
          <p:nvGrpSpPr>
            <p:cNvPr id="441" name=""/>
            <p:cNvGrpSpPr/>
            <p:nvPr/>
          </p:nvGrpSpPr>
          <p:grpSpPr>
            <a:xfrm>
              <a:off x="2916360" y="3716280"/>
              <a:ext cx="3095640" cy="1297080"/>
              <a:chOff x="2916360" y="3716280"/>
              <a:chExt cx="3095640" cy="1297080"/>
            </a:xfrm>
          </p:grpSpPr>
          <p:sp>
            <p:nvSpPr>
              <p:cNvPr id="442" name=""/>
              <p:cNvSpPr/>
              <p:nvPr/>
            </p:nvSpPr>
            <p:spPr>
              <a:xfrm>
                <a:off x="2916360" y="4437000"/>
                <a:ext cx="3095640" cy="0"/>
              </a:xfrm>
              <a:prstGeom prst="line">
                <a:avLst/>
              </a:prstGeom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16360" y="4437000"/>
                <a:ext cx="0" cy="576360"/>
              </a:xfrm>
              <a:prstGeom prst="line">
                <a:avLst/>
              </a:prstGeom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356360" y="3716280"/>
                <a:ext cx="0" cy="1297080"/>
              </a:xfrm>
              <a:prstGeom prst="line">
                <a:avLst/>
              </a:prstGeom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12000" y="4437000"/>
                <a:ext cx="0" cy="576360"/>
              </a:xfrm>
              <a:prstGeom prst="line">
                <a:avLst/>
              </a:prstGeom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3565800" y="3860640"/>
              <a:ext cx="15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 Black"/>
                  <a:ea typeface="楷体_GB2312"/>
                </a:rPr>
                <a:t>曲折 发展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24360" y="5084640"/>
              <a:ext cx="938160" cy="863640"/>
            </a:xfrm>
            <a:prstGeom prst="ellipse">
              <a:avLst/>
            </a:prstGeom>
            <a:solidFill>
              <a:srgbClr val="ff8b17"/>
            </a:solidFill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黄金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时代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37440" y="5084640"/>
              <a:ext cx="934920" cy="863640"/>
            </a:xfrm>
            <a:prstGeom prst="ellipse">
              <a:avLst/>
            </a:prstGeom>
            <a:solidFill>
              <a:srgbClr val="ff8b17"/>
            </a:solidFill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再度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受挫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348360" y="5444280"/>
              <a:ext cx="504720" cy="71640"/>
            </a:xfrm>
            <a:prstGeom prst="rightArrow">
              <a:avLst>
                <a:gd name="adj1" fmla="val 50000"/>
                <a:gd name="adj2" fmla="val 176131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932360" y="5444280"/>
              <a:ext cx="432000" cy="73080"/>
            </a:xfrm>
            <a:prstGeom prst="rightArrow">
              <a:avLst>
                <a:gd name="adj1" fmla="val 50000"/>
                <a:gd name="adj2" fmla="val 147783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79280" y="2421000"/>
            <a:ext cx="1548000" cy="1152360"/>
          </a:xfrm>
          <a:prstGeom prst="rect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状元实业家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张謇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236000" y="2421000"/>
            <a:ext cx="1547640" cy="1152360"/>
          </a:xfrm>
          <a:prstGeom prst="rect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荣氏企业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63640" y="2924280"/>
            <a:ext cx="86364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40360" y="2852640"/>
            <a:ext cx="122400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79640" y="2205000"/>
            <a:ext cx="50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  <a:ea typeface="楷体_GB2312"/>
              </a:rPr>
              <a:t>缩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  <a:ea typeface="楷体_GB2312"/>
              </a:rPr>
              <a:t>影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72360" y="227664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  <a:ea typeface="楷体_GB2312"/>
              </a:rPr>
              <a:t>代 表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24000" y="260280"/>
            <a:ext cx="18493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114640" y="282240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1" lang="en-US" sz="96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4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57200" y="2286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状元实业家张謇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12952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1484280"/>
            <a:ext cx="3809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姓名——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职务——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张——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贡献——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局——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9280" y="1066680"/>
            <a:ext cx="3976920" cy="57913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graphicFrame>
        <p:nvGraphicFramePr>
          <p:cNvPr id="357" name=""/>
          <p:cNvGraphicFramePr/>
          <p:nvPr/>
        </p:nvGraphicFramePr>
        <p:xfrm>
          <a:off x="4572000" y="1096920"/>
          <a:ext cx="4103640" cy="5761080"/>
        </p:xfrm>
        <a:graphic>
          <a:graphicData uri="http://schemas.openxmlformats.org/drawingml/2006/table">
            <a:tbl>
              <a:tblPr/>
              <a:tblGrid>
                <a:gridCol w="3506760"/>
                <a:gridCol w="596880"/>
              </a:tblGrid>
              <a:tr h="159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姓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---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职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---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楷体_GB2312"/>
                        </a:rPr>
                        <a:t>主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---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楷体_GB2312"/>
                        </a:rPr>
                        <a:t>贡献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---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楷体_GB2312"/>
                        </a:rPr>
                        <a:t>结局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---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                     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历  史    人     物            档       案     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8b17"/>
                    </a:solidFill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2700360" y="1413000"/>
            <a:ext cx="5638680" cy="3733560"/>
          </a:xfrm>
          <a:prstGeom prst="cloudCallout">
            <a:avLst>
              <a:gd name="adj1" fmla="val -67287"/>
              <a:gd name="adj2" fmla="val 75384"/>
            </a:avLst>
          </a:prstGeom>
          <a:solidFill>
            <a:srgbClr val="3333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e103"/>
                </a:solidFill>
                <a:latin typeface="楷体_GB2312"/>
                <a:ea typeface="楷体_GB2312"/>
              </a:rPr>
              <a:t>旧中国民族工业发展的缩影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7956720" y="6021360"/>
            <a:ext cx="1187280" cy="836640"/>
          </a:xfrm>
          <a:custGeom>
            <a:avLst/>
            <a:gdLst>
              <a:gd name="textAreaLeft" fmla="*/ 54000 w 1187280"/>
              <a:gd name="textAreaRight" fmla="*/ 1133280 w 118728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0649" h="21600">
                <a:moveTo>
                  <a:pt x="0" y="0"/>
                </a:moveTo>
                <a:lnTo>
                  <a:pt x="30649" y="0"/>
                </a:lnTo>
                <a:lnTo>
                  <a:pt x="30649" y="21600"/>
                </a:lnTo>
                <a:lnTo>
                  <a:pt x="0" y="21600"/>
                </a:lnTo>
                <a:close/>
              </a:path>
              <a:path fill="lightenLess" w="30649" h="21600">
                <a:moveTo>
                  <a:pt x="0" y="0"/>
                </a:moveTo>
                <a:lnTo>
                  <a:pt x="30649" y="0"/>
                </a:lnTo>
                <a:lnTo>
                  <a:pt x="29249" y="1400"/>
                </a:lnTo>
                <a:lnTo>
                  <a:pt x="1400" y="1400"/>
                </a:lnTo>
                <a:close/>
              </a:path>
              <a:path fill="darken" w="30649" h="21600">
                <a:moveTo>
                  <a:pt x="30649" y="0"/>
                </a:moveTo>
                <a:lnTo>
                  <a:pt x="30649" y="21600"/>
                </a:lnTo>
                <a:lnTo>
                  <a:pt x="29249" y="20200"/>
                </a:lnTo>
                <a:lnTo>
                  <a:pt x="29249" y="1400"/>
                </a:lnTo>
                <a:close/>
              </a:path>
              <a:path fill="darkenLess" w="30649" h="21600">
                <a:moveTo>
                  <a:pt x="30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9" y="20200"/>
                </a:lnTo>
                <a:close/>
              </a:path>
              <a:path fill="lighten" w="30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9" h="21600">
                <a:moveTo>
                  <a:pt x="8318" y="3794"/>
                </a:moveTo>
                <a:lnTo>
                  <a:pt x="22331" y="10800"/>
                </a:lnTo>
                <a:lnTo>
                  <a:pt x="8318" y="17806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85080" cy="4319640"/>
          </a:xfrm>
          <a:prstGeom prst="rect">
            <a:avLst/>
          </a:prstGeom>
          <a:ln w="38160">
            <a:solidFill>
              <a:srgbClr val="ff8b17"/>
            </a:solidFill>
            <a:miter/>
          </a:ln>
        </p:spPr>
      </p:pic>
      <p:sp>
        <p:nvSpPr>
          <p:cNvPr id="460" name=""/>
          <p:cNvSpPr/>
          <p:nvPr/>
        </p:nvSpPr>
        <p:spPr>
          <a:xfrm>
            <a:off x="468360" y="5493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状元实业家张謇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71640" y="6165720"/>
            <a:ext cx="345600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张謇创办的大生纱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68360" y="62064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状元实业家张謇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58920" y="1916280"/>
            <a:ext cx="6192720" cy="4248000"/>
          </a:xfrm>
          <a:custGeom>
            <a:avLst/>
            <a:gdLst>
              <a:gd name="textAreaLeft" fmla="*/ 1647720 w 6192720"/>
              <a:gd name="textAreaRight" fmla="*/ 4545000 w 6192720"/>
              <a:gd name="textAreaTop" fmla="*/ 1130040 h 4248000"/>
              <a:gd name="textAreaBottom" fmla="*/ 311796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174" y="13477"/>
                </a:lnTo>
                <a:lnTo>
                  <a:pt x="3163" y="18437"/>
                </a:lnTo>
                <a:lnTo>
                  <a:pt x="8008" y="17378"/>
                </a:lnTo>
                <a:lnTo>
                  <a:pt x="10800" y="21600"/>
                </a:lnTo>
                <a:lnTo>
                  <a:pt x="13477" y="17426"/>
                </a:lnTo>
                <a:lnTo>
                  <a:pt x="18437" y="18437"/>
                </a:lnTo>
                <a:lnTo>
                  <a:pt x="17378" y="13592"/>
                </a:lnTo>
                <a:lnTo>
                  <a:pt x="21600" y="10800"/>
                </a:lnTo>
                <a:lnTo>
                  <a:pt x="17426" y="8123"/>
                </a:lnTo>
                <a:lnTo>
                  <a:pt x="18437" y="3163"/>
                </a:lnTo>
                <a:lnTo>
                  <a:pt x="13592" y="4222"/>
                </a:lnTo>
                <a:lnTo>
                  <a:pt x="10800" y="0"/>
                </a:lnTo>
                <a:lnTo>
                  <a:pt x="8123" y="4174"/>
                </a:lnTo>
                <a:lnTo>
                  <a:pt x="3163" y="3163"/>
                </a:lnTo>
                <a:lnTo>
                  <a:pt x="4222" y="8008"/>
                </a:lnTo>
                <a:lnTo>
                  <a:pt x="0" y="10800"/>
                </a:lnTo>
                <a:close/>
              </a:path>
            </a:pathLst>
          </a:cu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张謇放弃状元兴办实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业的目的是什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他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什么样的情怀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4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50920" y="260280"/>
            <a:ext cx="6411960" cy="4003920"/>
          </a:xfrm>
          <a:custGeom>
            <a:avLst/>
            <a:gdLst/>
            <a:ahLst/>
            <a:rect l="l" t="t" r="r" b="b"/>
            <a:pathLst>
              <a:path w="4039" h="2522">
                <a:moveTo>
                  <a:pt x="3684" y="2522"/>
                </a:moveTo>
                <a:lnTo>
                  <a:pt x="3473" y="1755"/>
                </a:lnTo>
                <a:lnTo>
                  <a:pt x="3406" y="1966"/>
                </a:lnTo>
                <a:cubicBezTo>
                  <a:pt x="3404" y="1946"/>
                  <a:pt x="3356" y="1703"/>
                  <a:pt x="3461" y="1633"/>
                </a:cubicBezTo>
                <a:cubicBezTo>
                  <a:pt x="3566" y="1563"/>
                  <a:pt x="3943" y="1816"/>
                  <a:pt x="4039" y="1544"/>
                </a:cubicBezTo>
                <a:lnTo>
                  <a:pt x="4039" y="0"/>
                </a:lnTo>
                <a:lnTo>
                  <a:pt x="0" y="1"/>
                </a:lnTo>
                <a:lnTo>
                  <a:pt x="0" y="2113"/>
                </a:lnTo>
                <a:lnTo>
                  <a:pt x="2217" y="2111"/>
                </a:lnTo>
                <a:cubicBezTo>
                  <a:pt x="2607" y="2094"/>
                  <a:pt x="2291" y="2041"/>
                  <a:pt x="2339" y="2011"/>
                </a:cubicBezTo>
                <a:cubicBezTo>
                  <a:pt x="2387" y="1981"/>
                  <a:pt x="2402" y="1918"/>
                  <a:pt x="2506" y="1933"/>
                </a:cubicBezTo>
                <a:cubicBezTo>
                  <a:pt x="2610" y="1948"/>
                  <a:pt x="2982" y="2080"/>
                  <a:pt x="2961" y="2099"/>
                </a:cubicBezTo>
                <a:lnTo>
                  <a:pt x="2383" y="2044"/>
                </a:lnTo>
                <a:lnTo>
                  <a:pt x="3684" y="2522"/>
                </a:lnTo>
                <a:close/>
              </a:path>
            </a:pathLst>
          </a:custGeom>
          <a:solidFill>
            <a:srgbClr val="ffcc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8360" y="4365720"/>
            <a:ext cx="487692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中国无产阶级的壮大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4360" y="54936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辛亥革命前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万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4360" y="148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战后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万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5640" y="2276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1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1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3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次罢工斗争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5181480"/>
            <a:ext cx="5410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向新民主主义革命的转化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5867280"/>
            <a:ext cx="5562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为中共的成立提供了阶级基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324000" y="6021360"/>
            <a:ext cx="1079280" cy="836640"/>
          </a:xfrm>
          <a:custGeom>
            <a:avLst/>
            <a:gdLst>
              <a:gd name="textAreaLeft" fmla="*/ 54000 w 1079280"/>
              <a:gd name="textAreaRight" fmla="*/ 1025280 w 107928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7862" h="21600">
                <a:moveTo>
                  <a:pt x="0" y="0"/>
                </a:moveTo>
                <a:lnTo>
                  <a:pt x="27862" y="0"/>
                </a:lnTo>
                <a:lnTo>
                  <a:pt x="27862" y="21600"/>
                </a:lnTo>
                <a:lnTo>
                  <a:pt x="0" y="21600"/>
                </a:lnTo>
                <a:close/>
              </a:path>
              <a:path fill="lightenLess" w="27862" h="21600">
                <a:moveTo>
                  <a:pt x="0" y="0"/>
                </a:moveTo>
                <a:lnTo>
                  <a:pt x="27862" y="0"/>
                </a:lnTo>
                <a:lnTo>
                  <a:pt x="26462" y="1400"/>
                </a:lnTo>
                <a:lnTo>
                  <a:pt x="1400" y="1400"/>
                </a:lnTo>
                <a:close/>
              </a:path>
              <a:path fill="darken" w="27862" h="21600">
                <a:moveTo>
                  <a:pt x="27862" y="0"/>
                </a:moveTo>
                <a:lnTo>
                  <a:pt x="27862" y="21600"/>
                </a:lnTo>
                <a:lnTo>
                  <a:pt x="26462" y="20200"/>
                </a:lnTo>
                <a:lnTo>
                  <a:pt x="26462" y="1400"/>
                </a:lnTo>
                <a:close/>
              </a:path>
              <a:path fill="darkenLess" w="27862" h="21600">
                <a:moveTo>
                  <a:pt x="27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2" y="20200"/>
                </a:lnTo>
                <a:close/>
              </a:path>
              <a:path fill="lighten" w="27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2" h="21600">
                <a:moveTo>
                  <a:pt x="6924" y="10800"/>
                </a:moveTo>
                <a:lnTo>
                  <a:pt x="20937" y="3794"/>
                </a:lnTo>
                <a:lnTo>
                  <a:pt x="20937" y="17806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641400" y="3524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9640" y="141300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曲折发展：萌芽出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50920" y="2708280"/>
            <a:ext cx="7705800" cy="2625120"/>
            <a:chOff x="250920" y="2708280"/>
            <a:chExt cx="7705800" cy="2625120"/>
          </a:xfrm>
        </p:grpSpPr>
        <p:sp>
          <p:nvSpPr>
            <p:cNvPr id="363" name=""/>
            <p:cNvSpPr/>
            <p:nvPr/>
          </p:nvSpPr>
          <p:spPr>
            <a:xfrm>
              <a:off x="1908000" y="2781360"/>
              <a:ext cx="6048720" cy="25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001"/>
                </a:spcBef>
                <a:buClr>
                  <a:srgbClr val="ffcc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cc00"/>
                  </a:solidFill>
                  <a:latin typeface="Arial Black"/>
                  <a:ea typeface="楷体_GB2312"/>
                </a:rPr>
                <a:t>洋务运动的作用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001"/>
                </a:spcBef>
                <a:buClr>
                  <a:srgbClr val="ffcc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cc00"/>
                  </a:solidFill>
                  <a:latin typeface="Arial Black"/>
                  <a:ea typeface="楷体_GB2312"/>
                </a:rPr>
                <a:t>甲午中日战争后提出“实       业救国的口号”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0920" y="270828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原因：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641400" y="3524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141300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曲折发展：黄金时代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2421000"/>
            <a:ext cx="4465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辛亥革命冲击了封建制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3573360"/>
            <a:ext cx="4608360" cy="1434600"/>
          </a:xfrm>
          <a:prstGeom prst="rect">
            <a:avLst/>
          </a:prstGeom>
          <a:solidFill>
            <a:srgbClr val="ff8b17"/>
          </a:solidFill>
          <a:ln cap="rnd" w="7632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“所谓产业革命者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今也其时矣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.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641400" y="3524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141300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曲折发展：黄金时代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421000"/>
            <a:ext cx="4465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辛亥革命冲击了封建制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068640"/>
            <a:ext cx="410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一战期间帝国主义战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时放松对中国的侵略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84680" y="5575320"/>
            <a:ext cx="4114800" cy="0"/>
          </a:xfrm>
          <a:prstGeom prst="line">
            <a:avLst/>
          </a:prstGeom>
          <a:ln cap="sq" w="1260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70640" y="2589120"/>
            <a:ext cx="551160" cy="2986200"/>
          </a:xfrm>
          <a:prstGeom prst="rect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51280" y="5665680"/>
            <a:ext cx="5688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  </a:t>
            </a:r>
            <a:r>
              <a:rPr b="0" lang="zh-CN" sz="16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　</a:t>
            </a:r>
            <a:r>
              <a:rPr b="1" lang="zh-CN" sz="1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914</a:t>
            </a:r>
            <a:r>
              <a:rPr b="1" lang="zh-CN" sz="1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　</a:t>
            </a:r>
            <a:r>
              <a:rPr b="1" lang="zh-CN" sz="1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915 1916 1917 1918 1919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第一次世界大战期间中国面粉出口增表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16360" y="2281320"/>
            <a:ext cx="0" cy="330192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48360" y="5089680"/>
            <a:ext cx="576000" cy="471240"/>
          </a:xfrm>
          <a:prstGeom prst="rect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51640" y="4944960"/>
            <a:ext cx="652320" cy="630360"/>
          </a:xfrm>
          <a:prstGeom prst="rect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73720" y="4554360"/>
            <a:ext cx="550800" cy="1020960"/>
          </a:xfrm>
          <a:prstGeom prst="rect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08680" y="3778200"/>
            <a:ext cx="550800" cy="1808280"/>
          </a:xfrm>
          <a:prstGeom prst="rect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1800" y="1989000"/>
            <a:ext cx="549000" cy="3586320"/>
          </a:xfrm>
          <a:prstGeom prst="rect">
            <a:avLst/>
          </a:prstGeom>
          <a:solidFill>
            <a:srgbClr val="ff8b17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95800" y="2038320"/>
            <a:ext cx="2770200" cy="3057480"/>
          </a:xfrm>
          <a:custGeom>
            <a:avLst/>
            <a:gdLst/>
            <a:ahLst/>
            <a:rect l="l" t="t" r="r" b="b"/>
            <a:pathLst>
              <a:path w="1527" h="1765">
                <a:moveTo>
                  <a:pt x="0" y="1765"/>
                </a:moveTo>
                <a:lnTo>
                  <a:pt x="365" y="1654"/>
                </a:lnTo>
                <a:cubicBezTo>
                  <a:pt x="475" y="1557"/>
                  <a:pt x="597" y="1546"/>
                  <a:pt x="658" y="1444"/>
                </a:cubicBezTo>
                <a:cubicBezTo>
                  <a:pt x="757" y="1301"/>
                  <a:pt x="873" y="1094"/>
                  <a:pt x="932" y="1024"/>
                </a:cubicBezTo>
                <a:cubicBezTo>
                  <a:pt x="1029" y="885"/>
                  <a:pt x="1173" y="432"/>
                  <a:pt x="1234" y="347"/>
                </a:cubicBezTo>
                <a:cubicBezTo>
                  <a:pt x="1332" y="221"/>
                  <a:pt x="1480" y="49"/>
                  <a:pt x="1527" y="0"/>
                </a:cubicBezTo>
              </a:path>
            </a:pathLst>
          </a:custGeom>
          <a:noFill/>
          <a:ln cap="sq"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641400" y="3524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141300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曲折发展：黄金时代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5280" y="2421000"/>
            <a:ext cx="4465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辛亥革命冲击了封建制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3068640"/>
            <a:ext cx="410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一战期间帝国主义战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时放松对中国的侵略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443700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提倡国货，抵制洋货”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运动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3933720"/>
            <a:ext cx="4248360" cy="1755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641400" y="3524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9640" y="141300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曲折发展：黄金时代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2421000"/>
            <a:ext cx="4465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辛亥革命冲击了封建制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5280" y="3068640"/>
            <a:ext cx="410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一战期间帝国主义战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时放松对中国的侵略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443700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提倡国货，抵制洋货”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楷体_GB2312"/>
              </a:rPr>
              <a:t>运动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92720" y="2997360"/>
            <a:ext cx="3529080" cy="150336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国今日若不知注重科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国工业有何希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?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──范旭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黄海化学工业研究社的缘起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280" y="5805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楷体_GB2312"/>
              </a:rPr>
              <a:t>注重科学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641400" y="3524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141300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曲折发展：再度受挫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32400" y="2637000"/>
            <a:ext cx="7311600" cy="2064600"/>
            <a:chOff x="932400" y="2637000"/>
            <a:chExt cx="7311600" cy="2064600"/>
          </a:xfrm>
        </p:grpSpPr>
        <p:sp>
          <p:nvSpPr>
            <p:cNvPr id="399" name=""/>
            <p:cNvSpPr/>
            <p:nvPr/>
          </p:nvSpPr>
          <p:spPr>
            <a:xfrm>
              <a:off x="2195640" y="2637000"/>
              <a:ext cx="604836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ffcc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cc00"/>
                  </a:solidFill>
                  <a:latin typeface="Arial Black"/>
                  <a:ea typeface="楷体_GB2312"/>
                </a:rPr>
                <a:t>帝</a:t>
              </a:r>
              <a:r>
                <a:rPr b="1" lang="zh-CN" sz="3200" spc="-1" strike="noStrike">
                  <a:solidFill>
                    <a:srgbClr val="ffcc00"/>
                  </a:solidFill>
                  <a:latin typeface="Arial Black"/>
                  <a:ea typeface="楷体_GB2312"/>
                </a:rPr>
                <a:t>国主义势力卷土重来．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ffcc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c00"/>
                  </a:solidFill>
                  <a:latin typeface="Arial Black"/>
                  <a:ea typeface="楷体_GB2312"/>
                </a:rPr>
                <a:t>国民党发动内战和官僚资本主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c00"/>
                  </a:solidFill>
                  <a:latin typeface="Arial Black"/>
                  <a:ea typeface="楷体_GB2312"/>
                </a:rPr>
                <a:t>义的压迫．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400" y="27082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原因：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2005200" cy="266688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2000520" cy="4762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619080" y="6206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中国近代民族工业的曲折发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92360" y="530064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荣宗敬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9600" y="3645000"/>
            <a:ext cx="48528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楷体_GB2312"/>
              </a:rPr>
              <a:t>荣德生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8:52:27Z</dcterms:created>
  <dc:creator>lan</dc:creator>
  <dc:description/>
  <dc:language>en-US</dc:language>
  <cp:lastModifiedBy>Jeff</cp:lastModifiedBy>
  <dcterms:modified xsi:type="dcterms:W3CDTF">2008-11-30T13:46:41Z</dcterms:modified>
  <cp:revision>23</cp:revision>
  <dc:subject/>
  <dc:title>PowerPoint 演示文稿</dc:title>
</cp:coreProperties>
</file>