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45.png" ContentType="image/png"/>
  <Override PartName="/ppt/media/image43.png" ContentType="image/png"/>
  <Override PartName="/ppt/media/TYPE.WAV" ContentType="audio/x-wav"/>
  <Override PartName="/ppt/media/image42.png" ContentType="image/png"/>
  <Override PartName="/ppt/media/wind.wav" ContentType="audio/x-wav"/>
  <Override PartName="/ppt/media/image41.png" ContentType="image/png"/>
  <Override PartName="/ppt/media/image3.jpeg" ContentType="image/jpeg"/>
  <Override PartName="/ppt/media/image40.png" ContentType="image/png"/>
  <Override PartName="/ppt/media/image37.png" ContentType="image/png"/>
  <Override PartName="/ppt/media/image36.png" ContentType="image/png"/>
  <Override PartName="/ppt/media/drumroll.wav" ContentType="audio/x-wav"/>
  <Override PartName="/ppt/media/click.wav" ContentType="audio/x-wav"/>
  <Override PartName="/ppt/media/image35.png" ContentType="image/png"/>
  <Override PartName="/ppt/media/image47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44.png" ContentType="image/png"/>
  <Override PartName="/ppt/media/image13.jpeg" ContentType="image/jpeg"/>
  <Override PartName="/ppt/media/image15.jpeg" ContentType="image/jpeg"/>
  <Override PartName="/ppt/media/image17.jpeg" ContentType="image/jpeg"/>
  <Override PartName="/ppt/media/image61.gif" ContentType="image/gif"/>
  <Override PartName="/ppt/media/image49.png" ContentType="image/png"/>
  <Override PartName="/ppt/media/image59.png" ContentType="image/png"/>
  <Override PartName="/ppt/media/projctor.wav" ContentType="audio/x-wav"/>
  <Override PartName="/ppt/media/image50.jpeg" ContentType="image/jpeg"/>
  <Override PartName="/ppt/media/image53.jpeg" ContentType="image/jpeg"/>
  <Override PartName="/ppt/media/image20.gif" ContentType="image/gif"/>
  <Override PartName="/ppt/media/image60.png" ContentType="image/png"/>
  <Override PartName="/ppt/media/image58.png" ContentType="image/png"/>
  <Override PartName="/ppt/media/image55.gif" ContentType="image/gif"/>
  <Override PartName="/ppt/media/image48.png" ContentType="image/png"/>
  <Override PartName="/ppt/media/camera.wav" ContentType="audio/x-wav"/>
  <Override PartName="/ppt/media/image46.png" ContentType="image/png"/>
  <Override PartName="/ppt/media/image57.jpeg" ContentType="image/jpeg"/>
  <Override PartName="/ppt/media/image18.jpeg" ContentType="image/jpeg"/>
  <Override PartName="/ppt/media/image52.gif" ContentType="image/gif"/>
  <Override PartName="/ppt/media/image27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CHIMES.WAV" ContentType="audio/x-wav"/>
  <Override PartName="/ppt/media/EXPLODE.WAV" ContentType="audio/x-wav"/>
  <Override PartName="/ppt/media/image51.png" ContentType="image/png"/>
  <Override PartName="/ppt/media/image19.jpeg" ContentType="image/jpeg"/>
  <Override PartName="/ppt/media/image25.png" ContentType="image/png"/>
  <Override PartName="/ppt/media/image5.jpeg" ContentType="image/jpeg"/>
  <Override PartName="/ppt/media/image7.gif" ContentType="image/gif"/>
  <Override PartName="/ppt/media/image12.jpeg" ContentType="image/jpeg"/>
  <Override PartName="/ppt/media/image29.jpeg" ContentType="image/jpeg"/>
  <Override PartName="/ppt/media/image38.png" ContentType="image/png"/>
  <Override PartName="/ppt/media/image23.jpeg" ContentType="image/jpeg"/>
  <Override PartName="/ppt/media/image8.png" ContentType="image/png"/>
  <Override PartName="/ppt/media/image11.png" ContentType="image/png"/>
  <Override PartName="/ppt/media/WHOOSH.WAV" ContentType="audio/x-wav"/>
  <Override PartName="/ppt/media/suction.wav" ContentType="audio/x-wav"/>
  <Override PartName="/ppt/media/image24.wmf" ContentType="image/x-wmf"/>
  <Override PartName="/ppt/media/bomb.wav" ContentType="audio/x-wav"/>
  <Override PartName="/ppt/media/image26.png" ContentType="image/png"/>
  <Override PartName="/ppt/media/image28.jpeg" ContentType="image/jpeg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4AB-61D0-463C-86BE-FC95B7E8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6A0-FFEF-46D0-AAE8-8DE88928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A2B-2777-4196-A30D-1B4FEFC7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FB2-B0A4-4A03-993E-2A3FE571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EC3-31CD-40D1-BE89-27F19A67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FE7-6D36-422E-AB71-54F09C75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E11-E6F7-4F78-868B-02B6D03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8F8-14F2-48DC-97C1-B5D5D882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6D7-2511-4605-AC70-1FF5C28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8AA-D905-4560-A510-41C33317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FAD-9ECB-4EE5-B73F-C7CACF5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8E9-88AD-43EA-9254-75F7250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A4FA-FF32-4901-8211-CEA263474A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image" Target="../media/image13.jpeg"/><Relationship Id="rId4" Type="http://schemas.openxmlformats.org/officeDocument/2006/relationships/slide" Target="slide12.xm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0.jpeg"/><Relationship Id="rId10" Type="http://schemas.openxmlformats.org/officeDocument/2006/relationships/slide" Target="slide14.xml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11.xml"/><Relationship Id="rId4" Type="http://schemas.openxmlformats.org/officeDocument/2006/relationships/image" Target="../media/image7.gif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11.xml"/><Relationship Id="rId4" Type="http://schemas.openxmlformats.org/officeDocument/2006/relationships/image" Target="../media/image7.gif"/><Relationship Id="rId5" Type="http://schemas.openxmlformats.org/officeDocument/2006/relationships/audio" Target="../media/CHIMES.WAV"/><Relationship Id="rId6" Type="http://schemas.openxmlformats.org/officeDocument/2006/relationships/audio" Target="../media/bomb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15.jpeg"/><Relationship Id="rId5" Type="http://schemas.openxmlformats.org/officeDocument/2006/relationships/slide" Target="slide16.xml"/><Relationship Id="rId6" Type="http://schemas.openxmlformats.org/officeDocument/2006/relationships/image" Target="../media/image22.jpeg"/><Relationship Id="rId7" Type="http://schemas.openxmlformats.org/officeDocument/2006/relationships/slide" Target="slide17.xml"/><Relationship Id="rId8" Type="http://schemas.openxmlformats.org/officeDocument/2006/relationships/image" Target="../media/image22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7.gif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15.xml"/><Relationship Id="rId4" Type="http://schemas.openxmlformats.org/officeDocument/2006/relationships/image" Target="../media/image7.gif"/><Relationship Id="rId5" Type="http://schemas.openxmlformats.org/officeDocument/2006/relationships/image" Target="../media/image22.jpeg"/><Relationship Id="rId6" Type="http://schemas.openxmlformats.org/officeDocument/2006/relationships/audio" Target="../media/CHIMES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" Target="slide19.xml"/><Relationship Id="rId5" Type="http://schemas.openxmlformats.org/officeDocument/2006/relationships/image" Target="../media/image22.jpeg"/><Relationship Id="rId6" Type="http://schemas.openxmlformats.org/officeDocument/2006/relationships/slide" Target="slide17.xml"/><Relationship Id="rId7" Type="http://schemas.openxmlformats.org/officeDocument/2006/relationships/image" Target="../media/image7.gif"/><Relationship Id="rId8" Type="http://schemas.openxmlformats.org/officeDocument/2006/relationships/image" Target="../media/image22.jpe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0.jpeg"/><Relationship Id="rId4" Type="http://schemas.openxmlformats.org/officeDocument/2006/relationships/slide" Target="slide21.xm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slide22.xml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png"/><Relationship Id="rId7" Type="http://schemas.openxmlformats.org/officeDocument/2006/relationships/image" Target="../media/image10.jpeg"/><Relationship Id="rId8" Type="http://schemas.openxmlformats.org/officeDocument/2006/relationships/audio" Target="../media/projctor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image" Target="../media/image22.jpeg"/><Relationship Id="rId4" Type="http://schemas.openxmlformats.org/officeDocument/2006/relationships/slide" Target="slide27.xml"/><Relationship Id="rId5" Type="http://schemas.openxmlformats.org/officeDocument/2006/relationships/image" Target="../media/image22.jpeg"/><Relationship Id="rId6" Type="http://schemas.openxmlformats.org/officeDocument/2006/relationships/slide" Target="slide35.xml"/><Relationship Id="rId7" Type="http://schemas.openxmlformats.org/officeDocument/2006/relationships/image" Target="../media/image22.jpeg"/><Relationship Id="rId8" Type="http://schemas.openxmlformats.org/officeDocument/2006/relationships/slide" Target="slide8.xml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7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" Target="slide12.xml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drumroll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slide" Target="slide12.xml"/><Relationship Id="rId18" Type="http://schemas.openxmlformats.org/officeDocument/2006/relationships/audio" Target="../media/wind.wav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" Target=""/><Relationship Id="rId7" Type="http://schemas.openxmlformats.org/officeDocument/2006/relationships/image" Target="../media/image52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33.xml"/><Relationship Id="rId3" Type="http://schemas.openxmlformats.org/officeDocument/2006/relationships/image" Target="../media/image54.gif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6.wmf"/><Relationship Id="rId3" Type="http://schemas.openxmlformats.org/officeDocument/2006/relationships/image" Target="../media/image55.gif"/><Relationship Id="rId4" Type="http://schemas.openxmlformats.org/officeDocument/2006/relationships/image" Target="../media/image54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image" Target="../media/image5.jpeg"/><Relationship Id="rId6" Type="http://schemas.openxmlformats.org/officeDocument/2006/relationships/slide" Target="slide7.xml"/><Relationship Id="rId7" Type="http://schemas.openxmlformats.org/officeDocument/2006/relationships/image" Target="../media/image5.jpeg"/><Relationship Id="rId8" Type="http://schemas.openxmlformats.org/officeDocument/2006/relationships/audio" Target="../media/bomb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5.xml"/><Relationship Id="rId5" Type="http://schemas.openxmlformats.org/officeDocument/2006/relationships/image" Target="../media/image7.gi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10.jpeg"/><Relationship Id="rId4" Type="http://schemas.openxmlformats.org/officeDocument/2006/relationships/slide" Target="slide15.xml"/><Relationship Id="rId5" Type="http://schemas.openxmlformats.org/officeDocument/2006/relationships/image" Target="../media/image10.jpeg"/><Relationship Id="rId6" Type="http://schemas.openxmlformats.org/officeDocument/2006/relationships/slide" Target="slide20.xml"/><Relationship Id="rId7" Type="http://schemas.openxmlformats.org/officeDocument/2006/relationships/image" Target="../media/image10.jpeg"/><Relationship Id="rId8" Type="http://schemas.openxmlformats.org/officeDocument/2006/relationships/slide" Target="slide9.xml"/><Relationship Id="rId9" Type="http://schemas.openxmlformats.org/officeDocument/2006/relationships/image" Target="../media/image10.jpeg"/><Relationship Id="rId10" Type="http://schemas.openxmlformats.org/officeDocument/2006/relationships/slide" Target="slide24.xml"/><Relationship Id="rId11" Type="http://schemas.openxmlformats.org/officeDocument/2006/relationships/image" Target="../media/image10.jpeg"/><Relationship Id="rId12" Type="http://schemas.openxmlformats.org/officeDocument/2006/relationships/slide" Target="slide25.xml"/><Relationship Id="rId13" Type="http://schemas.openxmlformats.org/officeDocument/2006/relationships/image" Target="../media/image10.jpeg"/><Relationship Id="rId14" Type="http://schemas.openxmlformats.org/officeDocument/2006/relationships/slide" Target="slide33.xml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2349360"/>
            <a:ext cx="8280360" cy="230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人民解放战争的胜利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92360" y="44280"/>
            <a:ext cx="5651280" cy="681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95640" y="907920"/>
            <a:ext cx="2736720" cy="3167280"/>
          </a:xfrm>
          <a:prstGeom prst="ellipse">
            <a:avLst/>
          </a:prstGeom>
          <a:solidFill>
            <a:srgbClr val="000000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933720"/>
            <a:ext cx="2737080" cy="3167280"/>
          </a:xfrm>
          <a:prstGeom prst="ellipse">
            <a:avLst/>
          </a:prstGeom>
          <a:solidFill>
            <a:srgbClr val="000000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-171360"/>
            <a:ext cx="2736720" cy="3166920"/>
          </a:xfrm>
          <a:prstGeom prst="ellipse">
            <a:avLst/>
          </a:prstGeom>
          <a:solidFill>
            <a:srgbClr val="000000">
              <a:alpha val="45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93080" y="1196640"/>
            <a:ext cx="12240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沈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2349360"/>
            <a:ext cx="136836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北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5445000"/>
            <a:ext cx="137808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徐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569440" y="6093000"/>
            <a:ext cx="574560" cy="576000"/>
          </a:xfrm>
          <a:prstGeom prst="left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496360" y="530064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8496360" y="472428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565360"/>
          <a:ext cx="7561080" cy="3830760"/>
        </p:xfrm>
        <a:graphic>
          <a:graphicData uri="http://schemas.openxmlformats.org/drawingml/2006/table">
            <a:tbl>
              <a:tblPr/>
              <a:tblGrid>
                <a:gridCol w="2519280"/>
                <a:gridCol w="5041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       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    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战部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  挥  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概        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       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 txBox="1"/>
          <p:nvPr/>
        </p:nvSpPr>
        <p:spPr>
          <a:xfrm>
            <a:off x="4140360" y="1413000"/>
            <a:ext cx="472896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楷体_GB2312"/>
              </a:rPr>
              <a:t>辽沈战役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楷体_GB2312"/>
              <a:ea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33360"/>
            <a:ext cx="4066920" cy="107964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三大战役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59280" y="2637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至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42680" y="44704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林彪、罗荣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55240" y="3822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东北解放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72920" y="580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解放长春、沈阳和东北全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36120" y="3174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东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44000" y="6281640"/>
            <a:ext cx="900000" cy="576360"/>
          </a:xfrm>
          <a:prstGeom prst="leftArrow">
            <a:avLst>
              <a:gd name="adj1" fmla="val 50000"/>
              <a:gd name="adj2" fmla="val 39038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0" action="ppaction://hlinksldjump"/>
          </p:cNvPr>
          <p:cNvSpPr/>
          <p:nvPr/>
        </p:nvSpPr>
        <p:spPr>
          <a:xfrm>
            <a:off x="8496360" y="602136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52713" t="39385" r="4319" b="12615"/>
          <a:stretch/>
        </p:blipFill>
        <p:spPr>
          <a:xfrm>
            <a:off x="1447920" y="1143000"/>
            <a:ext cx="6019560" cy="40384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523880" y="5302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辽沈战役指挥者林彪（中）、罗荣桓（右）等在作战前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79280" y="476280"/>
            <a:ext cx="208440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948360" y="189000"/>
            <a:ext cx="1905120" cy="256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2680" y="2781360"/>
            <a:ext cx="729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林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56120" y="2708280"/>
            <a:ext cx="100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罗荣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>
            <a:lum contrast="18000"/>
          </a:blip>
          <a:srcRect l="54930" t="0" r="0" b="50724"/>
          <a:stretch/>
        </p:blipFill>
        <p:spPr>
          <a:xfrm>
            <a:off x="1476360" y="-27000"/>
            <a:ext cx="6120000" cy="688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132000" y="1197000"/>
            <a:ext cx="4392720" cy="1191240"/>
          </a:xfrm>
          <a:prstGeom prst="rect">
            <a:avLst/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1948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月—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11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歼敌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47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万余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5480" y="692280"/>
            <a:ext cx="11552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辽沈战役为什么先攻打锦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59280" y="3573360"/>
            <a:ext cx="509400" cy="590760"/>
          </a:xfrm>
          <a:prstGeom prst="irregularSeal2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7280" y="2349360"/>
            <a:ext cx="77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349360"/>
            <a:ext cx="77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6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72360" y="6093000"/>
            <a:ext cx="719280" cy="576000"/>
          </a:xfrm>
          <a:prstGeom prst="leftArrow">
            <a:avLst>
              <a:gd name="adj1" fmla="val 50000"/>
              <a:gd name="adj2" fmla="val 3121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05200" y="836640"/>
            <a:ext cx="2363400" cy="1302120"/>
            <a:chOff x="1105200" y="836640"/>
            <a:chExt cx="2363400" cy="1302120"/>
          </a:xfrm>
        </p:grpSpPr>
        <p:sp>
          <p:nvSpPr>
            <p:cNvPr id="133" name=""/>
            <p:cNvSpPr/>
            <p:nvPr/>
          </p:nvSpPr>
          <p:spPr>
            <a:xfrm>
              <a:off x="1105200" y="8366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人民解放军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08240" y="1052640"/>
              <a:ext cx="360360" cy="288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05200" y="155736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国民党军队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08240" y="1701720"/>
              <a:ext cx="360360" cy="287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60520" y="3003480"/>
            <a:ext cx="711360" cy="2730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3147840"/>
            <a:ext cx="718920" cy="25894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1700280"/>
            <a:ext cx="4496040" cy="2209680"/>
          </a:xfrm>
          <a:prstGeom prst="cloudCallout">
            <a:avLst>
              <a:gd name="adj1" fmla="val -24680"/>
              <a:gd name="adj2" fmla="val 8081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辽沈战役的意义是什么</a:t>
            </a:r>
            <a:r>
              <a:rPr b="1" lang="zh-CN" sz="4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140360" y="501336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99040" y="5872320"/>
            <a:ext cx="146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辽沈战役结束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08000" y="2781360"/>
          <a:ext cx="8280360" cy="3481200"/>
        </p:xfrm>
        <a:graphic>
          <a:graphicData uri="http://schemas.openxmlformats.org/drawingml/2006/table">
            <a:tbl>
              <a:tblPr/>
              <a:tblGrid>
                <a:gridCol w="2376360"/>
                <a:gridCol w="5904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       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    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战部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  挥  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概        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意        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 txBox="1"/>
          <p:nvPr/>
        </p:nvSpPr>
        <p:spPr>
          <a:xfrm>
            <a:off x="4140360" y="1413000"/>
            <a:ext cx="472896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楷体_GB2312"/>
              </a:rPr>
              <a:t>淮海战役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楷体_GB2312"/>
              <a:ea typeface="楷体_GB2312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33360"/>
            <a:ext cx="4066920" cy="1079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三大战役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2781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至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97240" y="4581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刘伯承、陈毅、邓小平、粟裕、谭震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07960" y="3933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中原解放军和华东解放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1840" y="57340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奠定了解放长江以南各省的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07960" y="3357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以徐州为中心的广大地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8532720" y="472428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7" action="ppaction://hlinksldjump"/>
          </p:cNvPr>
          <p:cNvSpPr/>
          <p:nvPr/>
        </p:nvSpPr>
        <p:spPr>
          <a:xfrm>
            <a:off x="8532720" y="530064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44000" y="6281640"/>
            <a:ext cx="900000" cy="576360"/>
          </a:xfrm>
          <a:prstGeom prst="leftArrow">
            <a:avLst>
              <a:gd name="adj1" fmla="val 50000"/>
              <a:gd name="adj2" fmla="val 39038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rcRect l="1421" t="2600" r="30831" b="10989"/>
          <a:stretch/>
        </p:blipFill>
        <p:spPr>
          <a:xfrm>
            <a:off x="1143000" y="1101600"/>
            <a:ext cx="6858000" cy="461340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116440" y="58644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粟裕 邓小平 刘伯承 陈毅 谭震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>
            <a:lum contrast="18000"/>
          </a:blip>
          <a:srcRect l="0" t="50309" r="10591" b="0"/>
          <a:stretch/>
        </p:blipFill>
        <p:spPr>
          <a:xfrm>
            <a:off x="1979640" y="-17136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95640" y="1052640"/>
            <a:ext cx="3673440" cy="1008360"/>
          </a:xfrm>
          <a:prstGeom prst="rect">
            <a:avLst/>
          </a:prstGeom>
          <a:solidFill>
            <a:srgbClr val="f8f8f8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歼敌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55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万余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1948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月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00" y="515772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966200">
            <a:off x="3851280" y="4508280"/>
            <a:ext cx="1152360" cy="1726920"/>
          </a:xfrm>
          <a:prstGeom prst="downArrow">
            <a:avLst>
              <a:gd name="adj1" fmla="val 50000"/>
              <a:gd name="adj2" fmla="val 3746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3429000"/>
            <a:ext cx="1728720" cy="1297080"/>
          </a:xfrm>
          <a:prstGeom prst="ellipse">
            <a:avLst/>
          </a:prstGeom>
          <a:solidFill>
            <a:srgbClr val="333333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781360"/>
            <a:ext cx="1584360" cy="100800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60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42920" y="476280"/>
            <a:ext cx="7027920" cy="1892520"/>
            <a:chOff x="1042920" y="476280"/>
            <a:chExt cx="7027920" cy="1892520"/>
          </a:xfrm>
        </p:grpSpPr>
        <p:sp>
          <p:nvSpPr>
            <p:cNvPr id="164" name=""/>
            <p:cNvSpPr/>
            <p:nvPr/>
          </p:nvSpPr>
          <p:spPr>
            <a:xfrm>
              <a:off x="1042920" y="476280"/>
              <a:ext cx="481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幼圆"/>
                  <a:ea typeface="幼圆"/>
                </a:rPr>
                <a:t> </a:t>
              </a:r>
              <a:r>
                <a:rPr b="1" lang="zh-CN" sz="4000" spc="-1" strike="noStrike">
                  <a:solidFill>
                    <a:srgbClr val="a50021"/>
                  </a:solidFill>
                  <a:latin typeface="金桥简行楷"/>
                  <a:ea typeface="金桥简行楷"/>
                </a:rPr>
                <a:t>陈毅司令员说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82760" y="1055880"/>
              <a:ext cx="668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幼圆"/>
                  <a:ea typeface="幼圆"/>
                </a:rPr>
                <a:t>    </a:t>
              </a:r>
              <a:r>
                <a:rPr b="1" lang="zh-CN" sz="4000" spc="-1" strike="noStrike">
                  <a:solidFill>
                    <a:srgbClr val="a50021"/>
                  </a:solidFill>
                  <a:latin typeface="金桥简行楷"/>
                  <a:ea typeface="黑体"/>
                </a:rPr>
                <a:t>淮海战役的胜利是人民群众</a:t>
              </a:r>
              <a:r>
                <a:rPr b="1" lang="zh-CN" sz="4000" spc="-1" strike="noStrike" u="sng">
                  <a:solidFill>
                    <a:srgbClr val="a50021"/>
                  </a:solidFill>
                  <a:uFillTx/>
                  <a:latin typeface="金桥简行楷"/>
                  <a:ea typeface="黑体"/>
                </a:rPr>
                <a:t>用小车推出来的</a:t>
              </a:r>
              <a:r>
                <a:rPr b="1" lang="zh-CN" sz="4000" spc="-1" strike="noStrike">
                  <a:solidFill>
                    <a:srgbClr val="a50021"/>
                  </a:solidFill>
                  <a:latin typeface="金桥简行楷"/>
                  <a:ea typeface="黑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5280" y="2924280"/>
            <a:ext cx="7213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陈毅司令员为什么这样说？请结合课文，以具体史实说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放战争迅速取得胜利，是与人民群众对解放战争的全力支持分不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659640" y="4581360"/>
          <a:ext cx="1982880" cy="18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4581360"/>
                    <a:ext cx="19828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rId4" action="ppaction://hlinksldjump"/>
          </p:cNvPr>
          <p:cNvSpPr/>
          <p:nvPr/>
        </p:nvSpPr>
        <p:spPr>
          <a:xfrm>
            <a:off x="7596360" y="3284640"/>
            <a:ext cx="647640" cy="21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01080" y="1413000"/>
            <a:ext cx="647640" cy="21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  <p:sndAc>
      <p:stSnd>
        <p:snd r:embed="rId9" name="TYPE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淮海战役人民支前统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484280"/>
          <a:ext cx="8229600" cy="4900680"/>
        </p:xfrm>
        <a:graphic>
          <a:graphicData uri="http://schemas.openxmlformats.org/drawingml/2006/table">
            <a:tbl>
              <a:tblPr/>
              <a:tblGrid>
                <a:gridCol w="3827520"/>
                <a:gridCol w="440208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民  工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543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万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担  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30.5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万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大小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88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万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牲  畜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76.7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万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船  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8500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筹  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9.6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亿斤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挑  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20.6</a:t>
                      </a: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宋体"/>
                        </a:rPr>
                        <a:t>万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55640" y="2060640"/>
            <a:ext cx="77058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人民解放军占领南京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468360" y="2708280"/>
          <a:ext cx="7488360" cy="3551400"/>
        </p:xfrm>
        <a:graphic>
          <a:graphicData uri="http://schemas.openxmlformats.org/drawingml/2006/table">
            <a:tbl>
              <a:tblPr/>
              <a:tblGrid>
                <a:gridCol w="2232000"/>
                <a:gridCol w="5256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       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    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参战部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概        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        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 txBox="1"/>
          <p:nvPr/>
        </p:nvSpPr>
        <p:spPr>
          <a:xfrm>
            <a:off x="4140360" y="1413000"/>
            <a:ext cx="472896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楷体_GB2312"/>
              </a:rPr>
              <a:t>平津战役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楷体_GB2312"/>
              <a:ea typeface="楷体_GB2312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33360"/>
            <a:ext cx="4066920" cy="10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三大战役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2781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8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至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949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93480" y="39672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东北解放军和华北解放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52293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攻克张家口、天津等地，争取傅作义接受和平改编，华北全境基本解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21720" y="33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华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44000" y="6281640"/>
            <a:ext cx="900000" cy="576360"/>
          </a:xfrm>
          <a:prstGeom prst="leftArrow">
            <a:avLst>
              <a:gd name="adj1" fmla="val 50000"/>
              <a:gd name="adj2" fmla="val 3903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8496360" y="472428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091440" cy="685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14960" y="0"/>
            <a:ext cx="302904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平津战役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隶书"/>
              </a:rPr>
              <a:t>（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  <a:ea typeface="隶书"/>
              </a:rPr>
              <a:t>1948.11.29--1949.1.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1052640"/>
            <a:ext cx="97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张家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4960" y="4797360"/>
            <a:ext cx="72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天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0040" y="1389240"/>
            <a:ext cx="546120" cy="510840"/>
          </a:xfrm>
          <a:prstGeom prst="sun">
            <a:avLst>
              <a:gd name="adj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5240" y="3384720"/>
            <a:ext cx="546120" cy="510840"/>
          </a:xfrm>
          <a:prstGeom prst="sun">
            <a:avLst>
              <a:gd name="adj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8840" y="4913280"/>
            <a:ext cx="546120" cy="512640"/>
          </a:xfrm>
          <a:prstGeom prst="sun">
            <a:avLst>
              <a:gd name="adj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00560" y="2871720"/>
            <a:ext cx="833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北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1341360"/>
            <a:ext cx="509400" cy="590760"/>
          </a:xfrm>
          <a:prstGeom prst="irregularSeal2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97200" y="836640"/>
            <a:ext cx="77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97200" y="836640"/>
            <a:ext cx="77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5240" y="3886200"/>
            <a:ext cx="22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先打两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5240" y="333684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分割包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5051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443700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后取中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101080" y="5661000"/>
            <a:ext cx="647640" cy="289080"/>
          </a:xfrm>
          <a:prstGeom prst="rightArrowCallout">
            <a:avLst>
              <a:gd name="adj1" fmla="val 25002"/>
              <a:gd name="adj2" fmla="val 25000"/>
              <a:gd name="adj3" fmla="val 37339"/>
              <a:gd name="adj4" fmla="val 6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4437000"/>
            <a:ext cx="1729080" cy="1368360"/>
          </a:xfrm>
          <a:prstGeom prst="ellipse">
            <a:avLst/>
          </a:prstGeom>
          <a:noFill/>
          <a:ln w="28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765000"/>
            <a:ext cx="1728720" cy="1368720"/>
          </a:xfrm>
          <a:prstGeom prst="ellipse">
            <a:avLst/>
          </a:prstGeom>
          <a:noFill/>
          <a:ln w="28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2708280"/>
            <a:ext cx="1728720" cy="1368360"/>
          </a:xfrm>
          <a:prstGeom prst="ellipse">
            <a:avLst/>
          </a:prstGeom>
          <a:noFill/>
          <a:ln w="28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18240" y="4925880"/>
            <a:ext cx="509400" cy="590760"/>
          </a:xfrm>
          <a:prstGeom prst="irregularSeal2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916360" y="1484280"/>
          <a:ext cx="223200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1484280"/>
                    <a:ext cx="2232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643280" y="2060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北平和平解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01080" y="6165720"/>
            <a:ext cx="647640" cy="289080"/>
          </a:xfrm>
          <a:prstGeom prst="rightArrowCallout">
            <a:avLst>
              <a:gd name="adj1" fmla="val 25002"/>
              <a:gd name="adj2" fmla="val 25000"/>
              <a:gd name="adj3" fmla="val 37339"/>
              <a:gd name="adj4" fmla="val 6666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8" name="projctor.wav"/>
      </p:stSnd>
    </p:sndAc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476880" cy="3429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19640" y="0"/>
            <a:ext cx="392436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26920" y="3429000"/>
            <a:ext cx="349272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5219640" y="3429000"/>
            <a:ext cx="3924360" cy="3429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60" y="1557360"/>
            <a:ext cx="789840" cy="66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北京故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22120" y="954000"/>
            <a:ext cx="13993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遭战争洗礼的圆明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66960" y="61657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6" action="ppaction://hlinksldjump"/>
              </a:rPr>
              <a:t>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rcRect l="3132" t="3876" r="52314" b="32008"/>
          <a:stretch/>
        </p:blipFill>
        <p:spPr>
          <a:xfrm>
            <a:off x="1219320" y="1260360"/>
            <a:ext cx="5867280" cy="445464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6951960" y="990720"/>
            <a:ext cx="12776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人民解放军举行入城仪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893080" y="1446120"/>
            <a:ext cx="0" cy="4824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549360"/>
            <a:ext cx="46818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  大  战  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0" y="1700280"/>
          <a:ext cx="9036000" cy="4525920"/>
        </p:xfrm>
        <a:graphic>
          <a:graphicData uri="http://schemas.openxmlformats.org/drawingml/2006/table">
            <a:tbl>
              <a:tblPr/>
              <a:tblGrid>
                <a:gridCol w="1692360"/>
                <a:gridCol w="2808360"/>
                <a:gridCol w="2170080"/>
                <a:gridCol w="2365200"/>
              </a:tblGrid>
              <a:tr h="9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战役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起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计歼敌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历史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辽沈战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848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—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淮海战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948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—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949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津战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948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949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年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4788000" y="2781360"/>
            <a:ext cx="17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歼灭和改编敌人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150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多万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59640" y="263700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国民党军队的主力基本上被消灭，大大加速了人民解放战争在全国的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62064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二、百万雄师过大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2492280"/>
            <a:ext cx="6994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）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）渡江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）国民党残余势力逃亡台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7740720" y="2637000"/>
            <a:ext cx="647640" cy="21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7740720" y="342900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6" action="ppaction://hlinksldjump"/>
          </p:cNvPr>
          <p:cNvSpPr/>
          <p:nvPr/>
        </p:nvSpPr>
        <p:spPr>
          <a:xfrm>
            <a:off x="7740720" y="407664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蒋介石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1949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年元旦发表“求和”声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7236000" y="494172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71640" y="2997360"/>
            <a:ext cx="6480000" cy="1800000"/>
          </a:xfrm>
          <a:prstGeom prst="cloudCallout">
            <a:avLst>
              <a:gd name="adj1" fmla="val 45027"/>
              <a:gd name="adj2" fmla="val 11067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你认为蒋介石是真的希望和平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horizontalScroll">
            <a:avLst>
              <a:gd name="adj" fmla="val 125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96080" y="1343160"/>
            <a:ext cx="2448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奋勇前进，坚决、彻底、干净、全部地歼灭中国境内一切敢于抵抗的国民党反动派，解放全国人民，保卫中国领土主权的独立和完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----</a:t>
            </a:r>
            <a:r>
              <a:rPr b="1" lang="zh-CN" sz="4000" spc="-1" strike="noStrike">
                <a:solidFill>
                  <a:srgbClr val="a50021"/>
                </a:solidFill>
                <a:latin typeface="华文行楷"/>
                <a:ea typeface="华文行楷"/>
              </a:rPr>
              <a:t>毛泽东  朱德</a:t>
            </a:r>
            <a:r>
              <a:rPr b="1" lang="zh-CN" sz="4000" spc="-1" strike="noStrike">
                <a:solidFill>
                  <a:srgbClr val="a50021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73160" y="1363680"/>
            <a:ext cx="6858000" cy="4960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50080" y="35272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7080" y="2583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江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8160" y="5021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湖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95440" y="1515960"/>
            <a:ext cx="4683240" cy="3469680"/>
            <a:chOff x="1495440" y="1515960"/>
            <a:chExt cx="4683240" cy="3469680"/>
          </a:xfrm>
        </p:grpSpPr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3854520" y="1515960"/>
              <a:ext cx="2324160" cy="8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 rot="406200">
              <a:off x="2678040" y="2258280"/>
              <a:ext cx="126792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 rot="21408000">
              <a:off x="1530360" y="3646440"/>
              <a:ext cx="1514880" cy="129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4044960" y="2293920"/>
            <a:ext cx="314280" cy="28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3875040" y="24606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9760" y="486900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浙                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83080" y="23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90400" y="4264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8360" y="215568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江           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53880" y="5249880"/>
            <a:ext cx="12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江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68360" y="4869000"/>
            <a:ext cx="314280" cy="288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2446200"/>
            <a:ext cx="314280" cy="28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95360" y="593640"/>
            <a:ext cx="46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渡江战役示意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4292640"/>
            <a:ext cx="720720" cy="718920"/>
          </a:xfrm>
          <a:custGeom>
            <a:avLst/>
            <a:gdLst>
              <a:gd name="textAreaLeft" fmla="*/ 0 w 720720"/>
              <a:gd name="textAreaRight" fmla="*/ 721080 w 72072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00800" cy="45514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人民解放军占领南京国民政府总统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22096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00122 0.62659 E">
                                      <p:cBhvr>
                                        <p:cTn id="681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750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0"/>
            <a:ext cx="5796000" cy="42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人民解放军占领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毛  泽  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1279440"/>
            <a:ext cx="51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钟山风雨起苍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百万雄师过大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虎踞龙盘今胜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天翻地覆慨而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宜将剩勇追穷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不可沽名学霸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天若有情天亦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人间正道是沧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7504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68360" y="0"/>
            <a:ext cx="5796000" cy="42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人民解放军占领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毛  泽  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1279440"/>
            <a:ext cx="5185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钟山风雨起苍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百万雄师过大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虎踞龙盘今胜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天翻地覆慨而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宜将剩勇追穷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不可沽名学霸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天若有情天亦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人间正道是沧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143000" y="1287360"/>
            <a:ext cx="6858000" cy="4961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994360" y="1820880"/>
            <a:ext cx="33012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2354400"/>
            <a:ext cx="5257440" cy="3733200"/>
            <a:chOff x="2057400" y="2354400"/>
            <a:chExt cx="5257440" cy="373320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tretch/>
          </p:blipFill>
          <p:spPr>
            <a:xfrm>
              <a:off x="3712320" y="3526920"/>
              <a:ext cx="1571400" cy="4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6851520" y="2696760"/>
              <a:ext cx="121680" cy="55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"/>
            <p:cNvGrpSpPr/>
            <p:nvPr/>
          </p:nvGrpSpPr>
          <p:grpSpPr>
            <a:xfrm>
              <a:off x="2057400" y="2354400"/>
              <a:ext cx="5257440" cy="3733200"/>
              <a:chOff x="2057400" y="2354400"/>
              <a:chExt cx="5257440" cy="37332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978640" y="4078800"/>
                <a:ext cx="2547720" cy="149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7440" y="4632120"/>
                <a:ext cx="1625040" cy="66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7400" y="4576320"/>
                <a:ext cx="1788840" cy="151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58240" y="2354400"/>
                <a:ext cx="1392840" cy="155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551480" y="3130560"/>
                <a:ext cx="200520" cy="33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60160" y="3541320"/>
                <a:ext cx="1354680" cy="42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906160" y="2607840"/>
                <a:ext cx="921240" cy="7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12"/>
              <a:stretch/>
            </p:blipFill>
            <p:spPr>
              <a:xfrm rot="351600">
                <a:off x="4605120" y="5738040"/>
                <a:ext cx="924840" cy="26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254920" y="5184360"/>
                <a:ext cx="1247400" cy="70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9" name=""/>
          <p:cNvSpPr/>
          <p:nvPr/>
        </p:nvSpPr>
        <p:spPr>
          <a:xfrm>
            <a:off x="679320" y="5084640"/>
            <a:ext cx="29052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31924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99280" y="1820880"/>
            <a:ext cx="33012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506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江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84240" y="5229360"/>
            <a:ext cx="290520" cy="288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78000" y="49449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湖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65280" y="1440000"/>
            <a:ext cx="4683240" cy="3469680"/>
            <a:chOff x="1565280" y="1440000"/>
            <a:chExt cx="4683240" cy="3469680"/>
          </a:xfrm>
        </p:grpSpPr>
        <p:pic>
          <p:nvPicPr>
            <p:cNvPr id="286" name="" descr=""/>
            <p:cNvPicPr/>
            <p:nvPr/>
          </p:nvPicPr>
          <p:blipFill>
            <a:blip r:embed="rId14"/>
            <a:stretch/>
          </p:blipFill>
          <p:spPr>
            <a:xfrm>
              <a:off x="3924360" y="1440000"/>
              <a:ext cx="2324160" cy="8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5"/>
            <a:stretch/>
          </p:blipFill>
          <p:spPr>
            <a:xfrm rot="406200">
              <a:off x="2747880" y="2182320"/>
              <a:ext cx="126792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6"/>
            <a:stretch/>
          </p:blipFill>
          <p:spPr>
            <a:xfrm rot="21408000">
              <a:off x="1600200" y="3570480"/>
              <a:ext cx="1514880" cy="129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4114800" y="2217600"/>
            <a:ext cx="314280" cy="28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7" action="ppaction://hlinksldjump"/>
          </p:cNvPr>
          <p:cNvSpPr/>
          <p:nvPr/>
        </p:nvSpPr>
        <p:spPr>
          <a:xfrm>
            <a:off x="3809880" y="238428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25440" y="50515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浙                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52920" y="2316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82800" y="418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17040" y="2049480"/>
            <a:ext cx="16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江         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69480" y="5508720"/>
            <a:ext cx="14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江       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38200" y="4792680"/>
            <a:ext cx="314280" cy="289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2370240"/>
            <a:ext cx="314280" cy="288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95360" y="53352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渡江战役示意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830240" y="0"/>
            <a:ext cx="581364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88840" y="2548080"/>
            <a:ext cx="2284560" cy="293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2225520" cy="2862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84360" y="3294000"/>
            <a:ext cx="1692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基础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2637000"/>
            <a:ext cx="1420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问题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4320" y="5978520"/>
            <a:ext cx="1039680" cy="8794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5867280" y="544500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611280" y="1052640"/>
            <a:ext cx="259236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63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练习小超市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30360" y="4572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国民党政权垮台的标志是人民解放军攻占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仿宋_GB2312"/>
                <a:ea typeface="仿宋_GB2312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548640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北平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武汉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30160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平津战役中和平解放的城市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35053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上海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武汉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北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495680" y="4086360"/>
            <a:ext cx="53352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5533920"/>
            <a:ext cx="533520" cy="505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14922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下列战役中解放东北全境的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19810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辽沈战役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平津战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淮海战役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渡江战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0440" y="2057400"/>
            <a:ext cx="50976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4320" y="5978520"/>
            <a:ext cx="1039680" cy="879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755640" y="404640"/>
            <a:ext cx="244800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446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选一选吧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667640" y="189000"/>
            <a:ext cx="115236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4127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a50021"/>
                </a:solidFill>
                <a:latin typeface="Arial"/>
                <a:ea typeface="隶书"/>
              </a:rPr>
              <a:t>小讨论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隶书"/>
              </a:rPr>
              <a:t>阅读表格，了解解放战争开始时国共力量的对比情况。讨论：国共力量相差这样悬殊，为什么共产党能在短短三年内由弱变强，打败国民党呢？下面的原因你同意吗？能再说出其他原因吗？请举例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09480" y="4724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：解放军打仗勇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4724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：国民党指挥失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54100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：毛泽东懂军事，蒋介石不懂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29200" y="541008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：共产党得到人民的拥护和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1152360" cy="12034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8101080" y="1989000"/>
            <a:ext cx="718920" cy="576360"/>
          </a:xfrm>
          <a:custGeom>
            <a:avLst/>
            <a:gdLst>
              <a:gd name="textAreaLeft" fmla="*/ 164160 w 718920"/>
              <a:gd name="textAreaRight" fmla="*/ 554760 w 7189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8104320" y="5978520"/>
            <a:ext cx="10396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47920" y="3049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解放战争开始时的力量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28920" y="140184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8920" y="140184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457200" y="1295280"/>
          <a:ext cx="8305920" cy="4673880"/>
        </p:xfrm>
        <a:graphic>
          <a:graphicData uri="http://schemas.openxmlformats.org/drawingml/2006/table">
            <a:tbl>
              <a:tblPr/>
              <a:tblGrid>
                <a:gridCol w="1916280"/>
                <a:gridCol w="364644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国民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共产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拥有军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30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万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30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万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武器装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接收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00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万日军的装备，取得美国大量武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基本上是步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拥有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亿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亿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拥有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大城市、绝大部分铁路交通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小城镇、乡村、偏远地区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50920" y="782172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三年以来，在人民解放战争和人民革命中牺牲的人民英雄永垂不朽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就在此时此刻，让我们再次向这些为新中国的成立而牺牲的英雄们致敬！回首往事，我们深感责任重大，就让我们从自身作起，为国家、为民族的崛起去奋斗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380880"/>
            <a:ext cx="182880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88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展望未来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181632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11280" y="1413000"/>
            <a:ext cx="799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人民解放军占领南京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4360" y="693720"/>
            <a:ext cx="8439120" cy="5543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438280" y="6308640"/>
            <a:ext cx="6705720" cy="54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7391520" y="5630760"/>
            <a:ext cx="1752480" cy="12272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209680" y="182880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短短四十五分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你一定很有收获</a:t>
            </a:r>
            <a:r>
              <a:rPr b="1" lang="zh-CN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说出来与大家分享吧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-947160" y="0"/>
            <a:ext cx="2009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 而 不 思 则 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355640" y="4869000"/>
            <a:ext cx="4280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　浦东实验学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　　　　唐海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0000" y="2276640"/>
            <a:ext cx="7488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隶书"/>
              </a:rPr>
              <a:t>战略大决战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105264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第</a:t>
            </a:r>
            <a:r>
              <a:rPr b="1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8</a:t>
            </a:r>
            <a:r>
              <a:rPr b="1" lang="zh-CN" sz="4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34136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面内战什么时候爆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924280"/>
            <a:ext cx="9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人民解放军战略进攻开始于什么事件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946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6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月 国民党进攻中原解放区</a:t>
            </a:r>
            <a:r>
              <a:rPr b="0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789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947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年夏 刘邓大军挺进大别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300640"/>
            <a:ext cx="1944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战略防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11280" y="5300640"/>
            <a:ext cx="2592360" cy="581400"/>
            <a:chOff x="2411280" y="5300640"/>
            <a:chExt cx="2592360" cy="581400"/>
          </a:xfrm>
        </p:grpSpPr>
        <p:sp>
          <p:nvSpPr>
            <p:cNvPr id="55" name=""/>
            <p:cNvSpPr/>
            <p:nvPr/>
          </p:nvSpPr>
          <p:spPr>
            <a:xfrm>
              <a:off x="2411280" y="5445000"/>
              <a:ext cx="505080" cy="433440"/>
            </a:xfrm>
            <a:prstGeom prst="rightArrow">
              <a:avLst>
                <a:gd name="adj1" fmla="val 50000"/>
                <a:gd name="adj2" fmla="val 291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>
              <a:hlinkClick r:id="rId2" action="ppaction://hlinksldjump"/>
            </p:cNvPr>
            <p:cNvSpPr/>
            <p:nvPr/>
          </p:nvSpPr>
          <p:spPr>
            <a:xfrm>
              <a:off x="3059280" y="5300640"/>
              <a:ext cx="194436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战略进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5292720" y="537372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72360" y="4581360"/>
            <a:ext cx="2771640" cy="1727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战略大决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333360"/>
            <a:ext cx="3672000" cy="703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温故知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8244000" y="1628640"/>
            <a:ext cx="504720" cy="433440"/>
          </a:xfrm>
          <a:prstGeom prst="rightArrow">
            <a:avLst>
              <a:gd name="adj1" fmla="val 50000"/>
              <a:gd name="adj2" fmla="val 2911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8244000" y="3860640"/>
            <a:ext cx="504720" cy="433440"/>
          </a:xfrm>
          <a:prstGeom prst="rightArrow">
            <a:avLst>
              <a:gd name="adj1" fmla="val 50000"/>
              <a:gd name="adj2" fmla="val 2911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87280" y="476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黑体"/>
              </a:rPr>
              <a:t>解放战争开始时的力量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28920" y="140184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8920" y="140184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35280" y="4581360"/>
            <a:ext cx="998280" cy="12193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1628640"/>
            <a:ext cx="1130400" cy="4191120"/>
          </a:xfrm>
          <a:prstGeom prst="rect">
            <a:avLst/>
          </a:prstGeom>
          <a:solidFill>
            <a:srgbClr val="a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587700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1946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80000" y="2565360"/>
            <a:ext cx="3114720" cy="1401840"/>
            <a:chOff x="5580000" y="2565360"/>
            <a:chExt cx="3114720" cy="1401840"/>
          </a:xfrm>
        </p:grpSpPr>
        <p:sp>
          <p:nvSpPr>
            <p:cNvPr id="70" name=""/>
            <p:cNvSpPr/>
            <p:nvPr/>
          </p:nvSpPr>
          <p:spPr>
            <a:xfrm>
              <a:off x="5605560" y="2565360"/>
              <a:ext cx="30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人民解放军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80000" y="3385800"/>
              <a:ext cx="308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国民党军队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97920" y="2709720"/>
              <a:ext cx="358920" cy="2890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66240" y="3554280"/>
              <a:ext cx="360360" cy="288720"/>
            </a:xfrm>
            <a:prstGeom prst="rect">
              <a:avLst/>
            </a:prstGeom>
            <a:solidFill>
              <a:srgbClr val="a9cd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01720" y="69840"/>
            <a:ext cx="52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中国人民解放军挺进中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1052640"/>
            <a:ext cx="8010360" cy="5533920"/>
            <a:chOff x="684360" y="1052640"/>
            <a:chExt cx="8010360" cy="55339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684360" y="1052640"/>
              <a:ext cx="801036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4360" y="1052640"/>
              <a:ext cx="8010360" cy="5533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316560" y="4691160"/>
            <a:ext cx="66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南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41840" y="5972040"/>
            <a:ext cx="67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武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7840" y="2384640"/>
            <a:ext cx="879120" cy="151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陕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76800" y="2422800"/>
            <a:ext cx="879480" cy="151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山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98760" y="2998800"/>
            <a:ext cx="2720880" cy="69840"/>
          </a:xfrm>
          <a:prstGeom prst="rect">
            <a:avLst/>
          </a:prstGeom>
          <a:solidFill>
            <a:srgbClr val="ff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309840" y="4691160"/>
            <a:ext cx="4118040" cy="1714320"/>
            <a:chOff x="3309840" y="4691160"/>
            <a:chExt cx="4118040" cy="1714320"/>
          </a:xfrm>
        </p:grpSpPr>
        <p:sp>
          <p:nvSpPr>
            <p:cNvPr id="84" name=""/>
            <p:cNvSpPr/>
            <p:nvPr/>
          </p:nvSpPr>
          <p:spPr>
            <a:xfrm>
              <a:off x="5624640" y="4691160"/>
              <a:ext cx="1803240" cy="606240"/>
            </a:xfrm>
            <a:prstGeom prst="parallelogram">
              <a:avLst>
                <a:gd name="adj" fmla="val 74362"/>
              </a:avLst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309840" y="5799240"/>
              <a:ext cx="1803600" cy="606240"/>
            </a:xfrm>
            <a:prstGeom prst="parallelogram">
              <a:avLst>
                <a:gd name="adj" fmla="val 74376"/>
              </a:avLst>
            </a:prstGeom>
            <a:solidFill>
              <a:srgbClr val="0000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 flipV="1" rot="20171400">
            <a:off x="4009320" y="1358280"/>
            <a:ext cx="1598760" cy="4910040"/>
          </a:xfrm>
          <a:prstGeom prst="triangle">
            <a:avLst>
              <a:gd name="adj" fmla="val 50000"/>
            </a:avLst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挺进大别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34520" y="6265800"/>
            <a:ext cx="609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89000"/>
            <a:ext cx="75232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一、大决战的时机和条件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二、三大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）辽沈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）淮海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）平津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）三大战役的历史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三、百万雄师过大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5292720" y="2133720"/>
            <a:ext cx="647640" cy="21564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5292720" y="285264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5292720" y="350028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8" action="ppaction://hlinksldjump"/>
          </p:cNvPr>
          <p:cNvSpPr/>
          <p:nvPr/>
        </p:nvSpPr>
        <p:spPr>
          <a:xfrm>
            <a:off x="7596360" y="47628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308720" y="4005360"/>
            <a:ext cx="648000" cy="215640"/>
          </a:xfrm>
          <a:custGeom>
            <a:avLst/>
            <a:gdLst>
              <a:gd name="textAreaLeft" fmla="*/ 101160 w 648000"/>
              <a:gd name="textAreaRight" fmla="*/ 567000 w 648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5292720" y="5300640"/>
            <a:ext cx="647640" cy="21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4" action="ppaction://hlinksldjump"/>
          </p:cNvPr>
          <p:cNvSpPr/>
          <p:nvPr/>
        </p:nvSpPr>
        <p:spPr>
          <a:xfrm>
            <a:off x="8459640" y="6165720"/>
            <a:ext cx="505080" cy="433440"/>
          </a:xfrm>
          <a:prstGeom prst="rightArrow">
            <a:avLst>
              <a:gd name="adj1" fmla="val 50000"/>
              <a:gd name="adj2" fmla="val 29132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87280" y="1125360"/>
            <a:ext cx="70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人民解放军经过两年英勇奋战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共歼灭国民党军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多万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4:36:43Z</dcterms:created>
  <dc:creator>龙帝国技术社区</dc:creator>
  <dc:description/>
  <dc:language>en-US</dc:language>
  <cp:lastModifiedBy>zhujf</cp:lastModifiedBy>
  <dcterms:modified xsi:type="dcterms:W3CDTF">2007-12-16T13:37:37Z</dcterms:modified>
  <cp:revision>457</cp:revision>
  <dc:subject/>
  <dc:title>幻灯片 1</dc:title>
</cp:coreProperties>
</file>