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9.wmf" ContentType="image/x-wmf"/>
  <Override PartName="/ppt/media/image10.jpeg" ContentType="image/jpeg"/>
  <Override PartName="/ppt/media/image6.jpeg" ContentType="image/jpeg"/>
  <Override PartName="/ppt/media/chimes.wav" ContentType="audio/x-wav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4898-1EB7-473B-A34A-B92ADCC9B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0B3E-00F9-4673-8C21-8E7D94E6B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A5D7-805E-4FE2-A86C-35D2ED1B6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7006-F039-42BD-A404-2A10BCD1F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D8BFB-E3FE-4552-9F6A-2864E8D95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2EBB6-979C-44D7-8038-6B4B214CC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E3D8C-F2EE-4CE1-9724-9C374C4F5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BED89-8098-46D4-A956-022865DD9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060A5-D288-44CC-9236-DBEE1F7E7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86E70-C032-40A6-B365-3C51B8F81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75F7E-9A10-485A-B522-48C4DD39A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B1FF-0D03-4B1D-8C10-425891DBD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518B3-CB20-4482-9407-DD0FD9763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4CBB4-EDD4-41C1-A32D-61290CE64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D023D-386E-4845-97CD-81F32DC90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A1965-4C6B-4863-ACD1-35C65FCFF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34455-FADB-4B8D-92A0-EA479B838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E10C-6A19-492D-A8D0-D404D9397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9F29-7A77-439E-B39B-7F0E567ED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B16F-B2E0-4F1A-9E55-405E0696B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FC2D-A576-4675-8F5C-46318D383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CB30-6B1A-40C5-9A22-E559FE65F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273E-757C-4ADC-ABC5-548033304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8C05-1315-4892-9AB6-77262958E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DFDBB-ABF0-4F87-B18C-BCE41AFE0801}" type="datetime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E24E9-B062-4E4E-B891-028BD9A0020B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3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80A13-489E-4DFD-BFFF-BAF3C491C402}" type="datetime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B0F17-4655-4B4D-8A43-FB7C41E390AB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pptx"/><Relationship Id="rId3" Type="http://schemas.openxmlformats.org/officeDocument/2006/relationships/image" Target="../media/image9.wmf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5e1408"/>
                </a:solidFill>
                <a:latin typeface="Times New Roman"/>
                <a:ea typeface="方正舒体"/>
              </a:rPr>
              <a:t>    </a:t>
            </a:r>
            <a:r>
              <a:rPr b="0" lang="zh-CN" sz="8800" spc="-1" strike="noStrike">
                <a:solidFill>
                  <a:srgbClr val="5e1408"/>
                </a:solidFill>
                <a:latin typeface="Times New Roman"/>
                <a:ea typeface="方正舒体"/>
              </a:rPr>
              <a:t>内战烽火</a:t>
            </a:r>
            <a:endParaRPr b="0" lang="en-US" sz="8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057400" y="4800600"/>
            <a:ext cx="6400800" cy="17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00b5b"/>
                </a:solidFill>
                <a:latin typeface="Times New Roman"/>
              </a:rPr>
              <a:t>山东省五莲县汪湖初级中学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200b5b"/>
                </a:solidFill>
                <a:latin typeface="Times New Roman"/>
              </a:rPr>
              <a:t>崔维刚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00b5b"/>
                </a:solidFill>
                <a:latin typeface="Times New Roman"/>
              </a:rPr>
              <a:t>                </a:t>
            </a:r>
            <a:r>
              <a:rPr b="1" lang="zh-CN" sz="3200" spc="-1" strike="noStrike">
                <a:solidFill>
                  <a:srgbClr val="200b5b"/>
                </a:solidFill>
                <a:latin typeface="Times New Roman"/>
              </a:rPr>
              <a:t>邮编：</a:t>
            </a:r>
            <a:r>
              <a:rPr b="1" lang="zh-CN" sz="3200" spc="-1" strike="noStrike">
                <a:solidFill>
                  <a:srgbClr val="200b5b"/>
                </a:solidFill>
                <a:latin typeface="Times New Roman"/>
              </a:rPr>
              <a:t>262316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8077320" y="57913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C33E2-EF31-4586-851A-9AB6186E71B0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9C6BC73B-BFAD-45AD-AF2B-1EC9BB9BAD2A}" type="datetime1">
              <a:rPr lang="en-US"/>
              <a:t>07/31/26</a:t>
            </a:fld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240" y="3962160"/>
            <a:ext cx="762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方正舒体"/>
                <a:ea typeface="方正舒体"/>
              </a:rPr>
              <a:t>练习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320" y="762120"/>
            <a:ext cx="8153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、选择题：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蒋介石给毛泽东发三封邀请电报的用意是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欺骗人民，赢取备战时间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通过和平的方式解决战后的政权问题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做样子给美国看，展示他的手腕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借此来刺探中共的实力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毛泽东、周恩来等赴重庆谈判的最主要目的是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揭露蒋介石假和平的行径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尽最大努力争取国内和平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昭示天下中国共产党人过人的胆识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深入虎穴获取敌人的信息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标志全面内战爆发的事件是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蒋介石撕毁“双十协定”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国民党军队发动对中原解放区的进攻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国民党军队进攻陕甘宁解放区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国民党军队重点进攻山东解放区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733920" y="533520"/>
            <a:ext cx="541008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e1408"/>
                </a:solidFill>
                <a:latin typeface="黑体"/>
                <a:ea typeface="黑体"/>
              </a:rPr>
              <a:t>1</a:t>
            </a:r>
            <a:r>
              <a:rPr b="0" lang="zh-CN" sz="4800" spc="-1" strike="noStrike">
                <a:solidFill>
                  <a:srgbClr val="5e1408"/>
                </a:solidFill>
                <a:latin typeface="黑体"/>
                <a:ea typeface="黑体"/>
              </a:rPr>
              <a:t>、</a:t>
            </a:r>
            <a:r>
              <a:rPr b="0" lang="en-US" sz="4800" spc="-1" strike="noStrike">
                <a:solidFill>
                  <a:srgbClr val="5e1408"/>
                </a:solidFill>
                <a:latin typeface="黑体"/>
                <a:ea typeface="黑体"/>
              </a:rPr>
              <a:t>A  2</a:t>
            </a:r>
            <a:r>
              <a:rPr b="0" lang="zh-CN" sz="4800" spc="-1" strike="noStrike">
                <a:solidFill>
                  <a:srgbClr val="5e1408"/>
                </a:solidFill>
                <a:latin typeface="黑体"/>
                <a:ea typeface="黑体"/>
              </a:rPr>
              <a:t>、</a:t>
            </a:r>
            <a:r>
              <a:rPr b="0" lang="en-US" sz="4800" spc="-1" strike="noStrike">
                <a:solidFill>
                  <a:srgbClr val="5e1408"/>
                </a:solidFill>
                <a:latin typeface="黑体"/>
                <a:ea typeface="黑体"/>
              </a:rPr>
              <a:t>B  3</a:t>
            </a:r>
            <a:r>
              <a:rPr b="0" lang="zh-CN" sz="4800" spc="-1" strike="noStrike">
                <a:solidFill>
                  <a:srgbClr val="5e1408"/>
                </a:solidFill>
                <a:latin typeface="黑体"/>
                <a:ea typeface="黑体"/>
              </a:rPr>
              <a:t>、</a:t>
            </a:r>
            <a:r>
              <a:rPr b="0" lang="en-US" sz="4800" spc="-1" strike="noStrike">
                <a:solidFill>
                  <a:srgbClr val="5e1408"/>
                </a:solidFill>
                <a:latin typeface="黑体"/>
                <a:ea typeface="黑体"/>
              </a:rPr>
              <a:t>B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3656-B131-4191-9B0F-88A9FDE48935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44641A-D569-4600-8159-3BEFEA785B0F}" type="datetime1">
              <a:rPr lang="en-US"/>
              <a:t>07/31/26</a:t>
            </a:fld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295280" y="304920"/>
            <a:ext cx="7467840" cy="56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、下列对抗战胜利后国内局势的分析正确的是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(        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①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全国人民渴望和平、民主　②以蒋介石为首的国民党面对两种前途还举棋不定　③美国积极支持国民党发动内战　④中国共产党在尽一切可能争取和平　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．①②③  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．①③④ 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．②③④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二、材料题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识读下图，回答下列问题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5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25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图中的人物是</a:t>
            </a:r>
            <a:r>
              <a:rPr b="0" lang="zh-CN" sz="2000" spc="-1" strike="noStrike" u="sng">
                <a:solidFill>
                  <a:srgbClr val="000000"/>
                </a:solidFill>
                <a:uFillTx/>
                <a:latin typeface="Times New Roman"/>
              </a:rPr>
              <a:t>　　　　　　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。这是他在</a:t>
            </a:r>
            <a:r>
              <a:rPr b="0" lang="zh-CN" sz="2000" spc="-1" strike="noStrike" u="sng">
                <a:solidFill>
                  <a:srgbClr val="000000"/>
                </a:solidFill>
                <a:uFillTx/>
                <a:latin typeface="Times New Roman"/>
              </a:rPr>
              <a:t>　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年的摄影。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25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这张照片反映了他应</a:t>
            </a:r>
            <a:r>
              <a:rPr b="0" lang="zh-CN" sz="2000" spc="-1" strike="noStrike" u="sng">
                <a:solidFill>
                  <a:srgbClr val="000000"/>
                </a:solidFill>
                <a:uFillTx/>
                <a:latin typeface="Times New Roman"/>
              </a:rPr>
              <a:t>　　　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邀请，离开</a:t>
            </a:r>
            <a:r>
              <a:rPr b="0" lang="zh-CN" sz="2000" spc="-1" strike="noStrike" u="sng">
                <a:solidFill>
                  <a:srgbClr val="000000"/>
                </a:solidFill>
                <a:uFillTx/>
                <a:latin typeface="Times New Roman"/>
              </a:rPr>
              <a:t>　　　　　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飞赴</a:t>
            </a:r>
            <a:r>
              <a:rPr b="0" lang="zh-CN" sz="2000" spc="-1" strike="noStrike" u="sng">
                <a:solidFill>
                  <a:srgbClr val="000000"/>
                </a:solidFill>
                <a:uFillTx/>
                <a:latin typeface="Times New Roman"/>
              </a:rPr>
              <a:t>　　　　　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时的情景。他此行的目的是</a:t>
            </a:r>
            <a:r>
              <a:rPr b="0" lang="zh-CN" sz="2000" spc="-1" strike="noStrike" u="sng">
                <a:solidFill>
                  <a:srgbClr val="000000"/>
                </a:solidFill>
                <a:uFillTx/>
                <a:latin typeface="Times New Roman"/>
              </a:rPr>
              <a:t>　　　　　　　　　　　　　　　　　　　　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743200" y="2666880"/>
          <a:ext cx="3809880" cy="197172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43200" y="2666880"/>
                    <a:ext cx="3809880" cy="19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"/>
          <p:cNvSpPr/>
          <p:nvPr/>
        </p:nvSpPr>
        <p:spPr>
          <a:xfrm>
            <a:off x="6934320" y="228600"/>
            <a:ext cx="76176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e1408"/>
                </a:solidFill>
                <a:latin typeface="黑体"/>
                <a:ea typeface="黑体"/>
              </a:rPr>
              <a:t>B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403280" y="4149720"/>
            <a:ext cx="78850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黑体"/>
                <a:ea typeface="黑体"/>
              </a:rPr>
              <a:t>        </a:t>
            </a:r>
            <a:r>
              <a:rPr b="0" lang="zh-CN" sz="2000" spc="-1" strike="noStrike">
                <a:solidFill>
                  <a:srgbClr val="5e1408"/>
                </a:solidFill>
                <a:latin typeface="黑体"/>
                <a:ea typeface="黑体"/>
              </a:rPr>
              <a:t>毛泽东</a:t>
            </a:r>
            <a:r>
              <a:rPr b="0" lang="zh-CN" sz="2000" spc="-1" strike="noStrike">
                <a:solidFill>
                  <a:srgbClr val="eaeaea"/>
                </a:solidFill>
                <a:latin typeface="黑体"/>
                <a:ea typeface="黑体"/>
              </a:rPr>
              <a:t>               </a:t>
            </a:r>
            <a:r>
              <a:rPr b="0" lang="zh-CN" sz="2000" spc="-1" strike="noStrike">
                <a:solidFill>
                  <a:srgbClr val="5e1408"/>
                </a:solidFill>
                <a:latin typeface="黑体"/>
                <a:ea typeface="黑体"/>
              </a:rPr>
              <a:t>1945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e1408"/>
                </a:solidFill>
                <a:latin typeface="黑体"/>
                <a:ea typeface="黑体"/>
              </a:rPr>
              <a:t>                         </a:t>
            </a:r>
            <a:r>
              <a:rPr b="0" lang="zh-CN" sz="2000" spc="-1" strike="noStrike">
                <a:solidFill>
                  <a:srgbClr val="5e1408"/>
                </a:solidFill>
                <a:latin typeface="黑体"/>
                <a:ea typeface="黑体"/>
              </a:rPr>
              <a:t>蒋介石              延安                                                        重庆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e1408"/>
                </a:solidFill>
                <a:latin typeface="黑体"/>
                <a:ea typeface="黑体"/>
              </a:rPr>
              <a:t>          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484360" y="5516640"/>
            <a:ext cx="464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e1408"/>
                </a:solidFill>
                <a:latin typeface="黑体"/>
                <a:ea typeface="黑体"/>
              </a:rPr>
              <a:t>尽一切…</a:t>
            </a:r>
            <a:r>
              <a:rPr b="0" lang="zh-CN" sz="2000" spc="-1" strike="noStrike">
                <a:solidFill>
                  <a:srgbClr val="5e1408"/>
                </a:solidFill>
                <a:latin typeface="黑体"/>
                <a:ea typeface="黑体"/>
              </a:rPr>
              <a:t>..</a:t>
            </a:r>
            <a:r>
              <a:rPr b="0" lang="zh-CN" sz="2000" spc="-1" strike="noStrike">
                <a:solidFill>
                  <a:srgbClr val="5e1408"/>
                </a:solidFill>
                <a:latin typeface="黑体"/>
                <a:ea typeface="黑体"/>
              </a:rPr>
              <a:t>，戳穿……。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D418-9499-44DB-A72C-EB2442C9DFBD}" type="slidenum">
              <a:t>1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E4E4BE-A88A-4F1C-BA3E-88AF69921C6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447920" y="380880"/>
            <a:ext cx="7467480" cy="39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945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年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月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8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日，毛泽东、周恩来等由延安抵达重庆，震动了整个山城，重庆工人、学生、市民等各界人士称颂毛泽东的大智大勇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请回答：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上述史料反映了哪一历史事件？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国共两党举行这一历史事件的目的分别是什么？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通过本节课的学习，谈谈你对中国共产党的认识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BE7D-DA48-4192-B167-7F2FD4DF6F02}" type="slidenum">
              <a:t>1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21B43E-C0C7-4301-9365-FF7B5D4EAE2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2362320" y="1371600"/>
            <a:ext cx="579096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cap="sq" w="9360">
                  <a:solidFill>
                    <a:srgbClr val="ff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9999ff"/>
                  </a:outerShdw>
                </a:effectLst>
                <a:latin typeface="方正舒体"/>
              </a:rPr>
              <a:t>再见</a:t>
            </a:r>
            <a:endParaRPr b="1" lang="en-US" sz="9600" spc="1" strike="noStrike">
              <a:ln cap="sq" w="9360">
                <a:solidFill>
                  <a:srgbClr val="ff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9999ff"/>
                </a:outerShdw>
              </a:effectLst>
              <a:latin typeface="方正舒体"/>
              <a:ea typeface="方正舒体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34E4-F98B-48B0-A812-3CC9DD2FE9AF}" type="slidenum">
              <a:t>1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3C69D0-8B1B-4F3F-A9A6-989BE85804C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c66"/>
                </a:solidFill>
                <a:latin typeface="Times New Roman"/>
                <a:ea typeface="黑体"/>
              </a:rPr>
              <a:t>          </a:t>
            </a:r>
            <a:r>
              <a:rPr b="0" lang="zh-CN" sz="4800" spc="-1" strike="noStrike">
                <a:solidFill>
                  <a:srgbClr val="ff33cc"/>
                </a:solidFill>
                <a:latin typeface="Times New Roman"/>
                <a:ea typeface="黑体"/>
              </a:rPr>
              <a:t>欢庆抗战胜利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2209680" cy="4496040"/>
          </a:xfrm>
          <a:prstGeom prst="rect">
            <a:avLst/>
          </a:prstGeom>
          <a:noFill/>
          <a:ln cap="sq" w="12600">
            <a:solidFill>
              <a:srgbClr val="200b5b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想一想：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人们为什么这么高兴？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95" name="shengli" descr=""/>
          <p:cNvPicPr/>
          <p:nvPr/>
        </p:nvPicPr>
        <p:blipFill>
          <a:blip r:embed="rId2"/>
          <a:stretch/>
        </p:blipFill>
        <p:spPr>
          <a:xfrm>
            <a:off x="3276720" y="1523880"/>
            <a:ext cx="5867280" cy="4800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434D-BDD7-4A50-8E20-7040FD8ED5E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2F63D1-AE55-4AE0-BCE4-7FE93FD9DBA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9320" y="0"/>
            <a:ext cx="777240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5e1408"/>
                </a:solidFill>
                <a:latin typeface="Times New Roman"/>
                <a:ea typeface="黑体"/>
              </a:rPr>
              <a:t>   </a:t>
            </a:r>
            <a:r>
              <a:rPr b="1" lang="zh-CN" sz="5400" spc="-1" strike="noStrike">
                <a:solidFill>
                  <a:srgbClr val="5e1408"/>
                </a:solidFill>
                <a:latin typeface="Times New Roman"/>
                <a:ea typeface="黑体"/>
              </a:rPr>
              <a:t>走进历史，体会心情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837720"/>
            <a:ext cx="8077320" cy="5715000"/>
          </a:xfrm>
          <a:prstGeom prst="rect">
            <a:avLst/>
          </a:prstGeom>
          <a:noFill/>
          <a:ln cap="sq" w="5724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5e1408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e1408"/>
                </a:solidFill>
                <a:latin typeface="Times New Roman"/>
              </a:rPr>
              <a:t>万急，延安     毛泽东先生勋鉴：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e1408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5e1408"/>
                </a:solidFill>
                <a:latin typeface="Times New Roman"/>
              </a:rPr>
              <a:t>倭寇投降，世界永久和平局面，可期实现，举凡国际国内各种重要问题，亟待解决，特请先生克日惠临陪都，共同商讨，事关国家大计，幸勿吝驾，临电不胜迫切悬盼之至</a:t>
            </a:r>
            <a:r>
              <a:rPr b="1" lang="zh-CN" sz="3600" spc="-1" strike="noStrike">
                <a:solidFill>
                  <a:srgbClr val="5e1408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e1408"/>
                </a:solidFill>
                <a:latin typeface="Times New Roman"/>
              </a:rPr>
              <a:t>上面是抗战胜利后，蒋介石给毛泽东同志的一封电报，反映了蒋介石邀请毛泽东商谈和平的愿望，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</a:rPr>
              <a:t>如果你生活在当时，你对蒋介石的这一做法欢迎吗？你期盼毛泽东来重庆吗？如果毛泽东不来重庆，你对毛泽东会有什么看法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A988-58C5-40AB-A0EC-63875E76166B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CD85F8-5FDC-49A0-8C54-20791EA7056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33cc"/>
                </a:solidFill>
                <a:latin typeface="方正舒体"/>
                <a:ea typeface="方正舒体"/>
              </a:rPr>
              <a:t>当一回历史学家</a:t>
            </a:r>
            <a:endParaRPr b="0" lang="en-US" sz="6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回顾抗战爆发前，国共关系及国民党政府的性质，分析下面问题</a:t>
            </a:r>
            <a:r>
              <a:rPr b="0" lang="zh-CN" sz="4800" spc="-1" strike="noStrike">
                <a:solidFill>
                  <a:srgbClr val="eaeaea"/>
                </a:solidFill>
                <a:latin typeface="黑体"/>
                <a:ea typeface="黑体"/>
              </a:rPr>
              <a:t>：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黑体"/>
                <a:ea typeface="黑体"/>
              </a:rPr>
              <a:t>    </a:t>
            </a:r>
            <a:r>
              <a:rPr b="0" lang="zh-CN" sz="4800" spc="-1" strike="noStrike">
                <a:solidFill>
                  <a:srgbClr val="05615d"/>
                </a:solidFill>
                <a:latin typeface="黑体"/>
                <a:ea typeface="黑体"/>
              </a:rPr>
              <a:t>抗战胜利后，国共关系会怎样？是友好？ 还是敌对？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F392-E5C1-4D12-8E79-9E3730390B9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F27737-0EC1-4734-B32B-CC3516708A97}" type="datetime1">
              <a:rPr lang="en-US"/>
              <a:t>07/31/26</a:t>
            </a:fld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219320" y="3580920"/>
            <a:ext cx="50292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蒋介石不可能对共产党友好，国民党内战方针已定。那么蒋介石为什么还要电邀毛泽东到重庆谈判呢？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01" name="D170102" descr=""/>
          <p:cNvPicPr/>
          <p:nvPr/>
        </p:nvPicPr>
        <p:blipFill>
          <a:blip r:embed="rId2"/>
          <a:stretch/>
        </p:blipFill>
        <p:spPr>
          <a:xfrm>
            <a:off x="6400800" y="304920"/>
            <a:ext cx="2743200" cy="5790960"/>
          </a:xfrm>
          <a:prstGeom prst="rect">
            <a:avLst/>
          </a:prstGeom>
          <a:ln w="0">
            <a:noFill/>
          </a:ln>
        </p:spPr>
      </p:pic>
      <p:pic>
        <p:nvPicPr>
          <p:cNvPr id="102" name="D170108" descr=""/>
          <p:cNvPicPr/>
          <p:nvPr/>
        </p:nvPicPr>
        <p:blipFill>
          <a:blip r:embed="rId3"/>
          <a:stretch/>
        </p:blipFill>
        <p:spPr>
          <a:xfrm>
            <a:off x="1371600" y="228600"/>
            <a:ext cx="4952880" cy="2971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248A-3211-4045-81AE-2B8D38C83514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4E8ADE-26DD-4B9F-A5CC-CE8CBA3B2C8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219320" y="403812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既然阻挡不了内战的爆发，毛泽东还应不应该赴重庆谈判？谈谈你的看法。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04" name="tanpan" descr=""/>
          <p:cNvPicPr/>
          <p:nvPr/>
        </p:nvPicPr>
        <p:blipFill>
          <a:blip r:embed="rId2"/>
          <a:stretch/>
        </p:blipFill>
        <p:spPr>
          <a:xfrm>
            <a:off x="1447920" y="304920"/>
            <a:ext cx="7162560" cy="3504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547B-0045-448E-A0D3-F55AADD2F3FD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0920AA-3780-41CD-A994-92C2BFDC571C}" type="datetime1">
              <a:rPr lang="en-US"/>
              <a:t>07/31/26</a:t>
            </a:fld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066680" y="358092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上面是内战时国共双方力量对比，你认为战争的结果会怎样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谁会胜利？请说明理由？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295280" y="0"/>
          <a:ext cx="7467840" cy="4368960"/>
        </p:xfrm>
        <a:graphic>
          <a:graphicData uri="http://schemas.openxmlformats.org/drawingml/2006/table">
            <a:tbl>
              <a:tblPr/>
              <a:tblGrid>
                <a:gridCol w="3002040"/>
                <a:gridCol w="446580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国民党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共产党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06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正规军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00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多万人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27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万人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06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美式武器装备备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小米加步枪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55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占大城市，物资丰富，还有美国支持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在穷僻农村，解放区内的封建势力尚未肃清，没外援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9F55-3D1C-435C-B3FC-449C3D8CE4ED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116B80-D93C-42A9-8B48-6E35ED777865}" type="datetime1">
              <a:rPr lang="en-US"/>
              <a:t>07/31/26</a:t>
            </a:fld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467480" cy="1206360"/>
          </a:xfrm>
          <a:prstGeom prst="rect">
            <a:avLst/>
          </a:prstGeom>
          <a:solidFill>
            <a:srgbClr val="ffff99"/>
          </a:solidFill>
          <a:ln cap="sq" w="381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Times New Roman"/>
                <a:ea typeface="黑体"/>
              </a:rPr>
              <a:t>   </a:t>
            </a:r>
            <a:r>
              <a:rPr b="0" lang="zh-CN" sz="4400" spc="-1" strike="noStrike">
                <a:solidFill>
                  <a:srgbClr val="5e1408"/>
                </a:solidFill>
                <a:latin typeface="Times New Roman"/>
                <a:ea typeface="黑体"/>
              </a:rPr>
              <a:t>内战之初解放军的胜利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0" lang="zh-CN" sz="5400" spc="-1" strike="noStrike">
                <a:solidFill>
                  <a:srgbClr val="000000"/>
                </a:solidFill>
                <a:latin typeface="隶书"/>
                <a:ea typeface="隶书"/>
              </a:rPr>
              <a:t>、粉碎国民党军队对陕甘宁解放区的进攻。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0" lang="zh-CN" sz="5400" spc="-1" strike="noStrike">
                <a:solidFill>
                  <a:srgbClr val="000000"/>
                </a:solidFill>
                <a:latin typeface="隶书"/>
                <a:ea typeface="隶书"/>
              </a:rPr>
              <a:t>、刘邓大军挺进大别山，人民解放军转入战略进攻。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F7DF-2817-42C9-AFFB-FBDB06AC19C0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8ACAEC-FC6E-4C88-B3B7-67E4D8A2B03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B9167-B86C-40EA-8047-DE616AE962BF}" type="slidenum">
              <a:rPr b="0" lang="zh-CN" sz="1400" spc="-1" strike="noStrike">
                <a:solidFill>
                  <a:srgbClr val="39393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AE40E-4E3F-4598-828D-14BE45108B0E}" type="datetime">
              <a:rPr b="0" lang="zh-CN" sz="1400" spc="-1" strike="noStrike">
                <a:solidFill>
                  <a:srgbClr val="393939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761760" y="0"/>
            <a:ext cx="83818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抗战胜利后，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国积极支持蒋介石为首的国民党发动内战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中国共产党派毛泽东、周恩来等赴重庆谈判最后签订了“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协定”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标志全面内战爆发的事件是国民党军队发动对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进攻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946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年，国民党大举进攻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解放区，中共中央撤出延安，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和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率领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人民解放军粉碎了敌人的进攻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率部千里跃进，挺进大别山的领导人是刘伯承和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他们建立的根据地是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揭开人民解放军全国性战略进攻序幕的事件是刘邓大军挺进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419720" y="0"/>
            <a:ext cx="8380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d1b05"/>
                </a:solidFill>
                <a:latin typeface="隶书"/>
                <a:ea typeface="隶书"/>
              </a:rPr>
              <a:t>美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0" y="1371600"/>
            <a:ext cx="16002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d2505"/>
                </a:solidFill>
                <a:latin typeface="隶书"/>
                <a:ea typeface="隶书"/>
              </a:rPr>
              <a:t>双十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666880" y="2362320"/>
            <a:ext cx="25146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d1b05"/>
                </a:solidFill>
                <a:latin typeface="隶书"/>
                <a:ea typeface="隶书"/>
              </a:rPr>
              <a:t>中原解放区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324480" y="2819520"/>
            <a:ext cx="16765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d1b05"/>
                </a:solidFill>
                <a:latin typeface="隶书"/>
                <a:ea typeface="隶书"/>
              </a:rPr>
              <a:t>陕甘宁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257800" y="3352680"/>
            <a:ext cx="19810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d1b05"/>
                </a:solidFill>
                <a:latin typeface="隶书"/>
                <a:ea typeface="隶书"/>
              </a:rPr>
              <a:t>彭德怀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315200" y="3352680"/>
            <a:ext cx="13716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d2505"/>
                </a:solidFill>
                <a:latin typeface="隶书"/>
                <a:ea typeface="隶书"/>
              </a:rPr>
              <a:t>贺龙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828800" y="3809880"/>
            <a:ext cx="11430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d2505"/>
                </a:solidFill>
                <a:latin typeface="隶书"/>
                <a:ea typeface="隶书"/>
              </a:rPr>
              <a:t>西北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124080" y="4724280"/>
            <a:ext cx="16765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d2505"/>
                </a:solidFill>
                <a:latin typeface="隶书"/>
                <a:ea typeface="隶书"/>
              </a:rPr>
              <a:t>邓小平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5181480"/>
            <a:ext cx="29718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d2505"/>
                </a:solidFill>
                <a:latin typeface="隶书"/>
                <a:ea typeface="隶书"/>
              </a:rPr>
              <a:t>大别山根据地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105520" y="6272280"/>
            <a:ext cx="18288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d2505"/>
                </a:solidFill>
                <a:latin typeface="隶书"/>
                <a:ea typeface="隶书"/>
              </a:rPr>
              <a:t>大别山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hujf</cp:lastModifiedBy>
  <dcterms:modified xsi:type="dcterms:W3CDTF">2007-08-22T08:14:47Z</dcterms:modified>
  <cp:revision>47</cp:revision>
  <dc:subject/>
  <dc:title>PowerPoint 演示文稿</dc:title>
</cp:coreProperties>
</file>