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FC9-ABF5-4525-8F61-953B3D97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F75-2B1E-4A01-9126-FBD4284C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F8D-173C-477C-AC4B-9CB4702E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C26-B8F6-4E3E-9456-55A9A46F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E6E-3ABE-4E17-BCE1-51144EFD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661-0D48-4F4B-B466-1223E8F9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272-C57B-4080-B3C3-44526419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6B5-21EE-4517-8F2D-BDF949E2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BDB-DF7F-4610-8263-17E6204A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C60-3E61-4E26-98FD-E6749D1B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261-35A8-45A4-958F-2BC35382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CCF-DF2A-49EB-834A-3C3A9662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BE04-5976-4A5D-B2FB-4CDC15C31D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6494;&#33457;&#27743;&#19978;.MP3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hyperlink" Target="file:///&#20041;&#21191;&#20891;&#36827;&#34892;&#26354;3.mp3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hyperlink" Target="file:///&#24594;&#21564;&#21543;&#65292;&#40644;&#27827;3.mp3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2.jpeg"/><Relationship Id="rId6" Type="http://schemas.openxmlformats.org/officeDocument/2006/relationships/image" Target="../media/image3.png"/><Relationship Id="rId7" Type="http://schemas.openxmlformats.org/officeDocument/2006/relationships/hyperlink" Target="file:///&#22823;&#20992;&#36827;&#34892;&#26354;3.mp3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hyperlink" Target="file:///&#21021;&#38634;.mp3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6165720"/>
            <a:ext cx="579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64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行楷"/>
              </a:rPr>
              <a:t>延吉市第十二中学  滕海珍</a:t>
            </a:r>
            <a:endParaRPr b="0" lang="en-US" sz="2800" spc="1" strike="noStrike">
              <a:ln w="64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7696080" y="6248520"/>
            <a:ext cx="1143000" cy="307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《松花江上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8000" y="44280"/>
            <a:ext cx="4317840" cy="936720"/>
            <a:chOff x="108000" y="44280"/>
            <a:chExt cx="4317840" cy="936720"/>
          </a:xfrm>
        </p:grpSpPr>
        <p:sp>
          <p:nvSpPr>
            <p:cNvPr id="157" name=""/>
            <p:cNvSpPr/>
            <p:nvPr/>
          </p:nvSpPr>
          <p:spPr>
            <a:xfrm>
              <a:off x="226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59280" y="44280"/>
              <a:ext cx="136656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4764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800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66560" y="187200"/>
              <a:ext cx="360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5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584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方正超粗黑简体"/>
                </a:rPr>
                <a:t>血 肉 筑 长 城</a:t>
              </a:r>
              <a:endParaRPr b="1" lang="en-US" sz="24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方正超粗黑简体"/>
                <a:ea typeface="方正超粗黑简体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77840" y="1125360"/>
            <a:ext cx="51116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第三乐章：胜利之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7840" y="1773360"/>
            <a:ext cx="8785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284720" y="4437000"/>
            <a:ext cx="4392720" cy="201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6732720" y="260280"/>
            <a:ext cx="2160360" cy="133992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39640" y="4437000"/>
            <a:ext cx="3384720" cy="203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539640" y="2133720"/>
            <a:ext cx="8136000" cy="70380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</a:t>
            </a: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1944</a:t>
            </a: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年到</a:t>
            </a: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1945</a:t>
            </a: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年初，世界反法西斯战争节节胜利，德国在欧洲败局已定，日本在太平洋战争中遭到美国的沉重打击，陷入困境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中国共产党领导的抗日根据地军民开始局部反攻，取得一系列胜利。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1945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年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8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月，美国向日本的广岛、长崎投掷两枚原子弹；苏联发表对日宣战的声明，派遣苏联红军进攻驻中国东北的日军。与此同时，中国的抗日战争进入反攻。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8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月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15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日，日本天皇被迫宣布无条件投降。八年抗日战争，中国人民终于取得了伟大胜利，台湾也回到祖国的怀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050920" y="6165720"/>
            <a:ext cx="579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64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华文行楷"/>
              </a:rPr>
              <a:t>延吉市第十二中学    滕海珍</a:t>
            </a:r>
            <a:endParaRPr b="0" lang="en-US" sz="2800" spc="1" strike="noStrike">
              <a:ln w="64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987640" y="1413000"/>
            <a:ext cx="3095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方正综艺简体"/>
              </a:rPr>
              <a:t>谢    谢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方正综艺简体"/>
              <a:ea typeface="方正综艺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900000" y="2924280"/>
            <a:ext cx="1584360" cy="720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隶书"/>
              </a:rPr>
              <a:t>第一乐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3851280" y="2924280"/>
            <a:ext cx="1584360" cy="720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隶书"/>
              </a:rPr>
              <a:t>第二乐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6804000" y="2924280"/>
            <a:ext cx="1584360" cy="72072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隶书"/>
              </a:rPr>
              <a:t>第三乐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3" idx="3"/>
            <a:endCxn id="44" idx="2"/>
          </p:cNvCxnSpPr>
          <p:nvPr/>
        </p:nvCxnSpPr>
        <p:spPr>
          <a:xfrm>
            <a:off x="2494080" y="3284280"/>
            <a:ext cx="2149920" cy="370440"/>
          </a:xfrm>
          <a:prstGeom prst="bentConnector4">
            <a:avLst>
              <a:gd name="adj1" fmla="val 31301"/>
              <a:gd name="adj2" fmla="val 159143"/>
            </a:avLst>
          </a:prstGeom>
          <a:ln w="34920">
            <a:solidFill>
              <a:srgbClr val="800000"/>
            </a:solidFill>
            <a:miter/>
          </a:ln>
        </p:spPr>
      </p:cxnSp>
      <p:cxnSp>
        <p:nvCxnSpPr>
          <p:cNvPr id="47" name=""/>
          <p:cNvCxnSpPr>
            <a:stCxn id="44" idx="0"/>
            <a:endCxn id="45" idx="0"/>
          </p:cNvCxnSpPr>
          <p:nvPr/>
        </p:nvCxnSpPr>
        <p:spPr>
          <a:xfrm flipH="1" rot="16200000">
            <a:off x="6118560" y="1437840"/>
            <a:ext cx="2520" cy="2953800"/>
          </a:xfrm>
          <a:prstGeom prst="bentConnector3">
            <a:avLst>
              <a:gd name="adj1" fmla="val -13800000"/>
            </a:avLst>
          </a:prstGeom>
          <a:ln w="28440">
            <a:solidFill>
              <a:srgbClr val="800000"/>
            </a:solidFill>
            <a:miter/>
          </a:ln>
        </p:spPr>
      </p:cxnSp>
      <p:sp>
        <p:nvSpPr>
          <p:cNvPr id="48" name=""/>
          <p:cNvSpPr/>
          <p:nvPr/>
        </p:nvSpPr>
        <p:spPr>
          <a:xfrm rot="20047200">
            <a:off x="0" y="3860640"/>
            <a:ext cx="3600360" cy="1989360"/>
          </a:xfrm>
          <a:prstGeom prst="irregularSeal2">
            <a:avLst/>
          </a:prstGeom>
          <a:solidFill>
            <a:srgbClr val="00ccff">
              <a:alpha val="20000"/>
            </a:srgbClr>
          </a:solidFill>
          <a:ln cap="rnd" w="2844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怒吼吧，黄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849600">
            <a:off x="3436920" y="3897360"/>
            <a:ext cx="2664000" cy="2955960"/>
          </a:xfrm>
          <a:prstGeom prst="irregularSeal1">
            <a:avLst/>
          </a:prstGeom>
          <a:solidFill>
            <a:srgbClr val="99ccff">
              <a:alpha val="2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历史的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4314000">
            <a:off x="6362280" y="3823920"/>
            <a:ext cx="3259080" cy="2808360"/>
          </a:xfrm>
          <a:prstGeom prst="irregularSeal2">
            <a:avLst/>
          </a:prstGeom>
          <a:solidFill>
            <a:srgbClr val="99ccff">
              <a:alpha val="20000"/>
            </a:srgbClr>
          </a:solidFill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胜利之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5"/>
          </p:cNvPr>
          <p:cNvSpPr/>
          <p:nvPr/>
        </p:nvSpPr>
        <p:spPr>
          <a:xfrm>
            <a:off x="7620120" y="6458040"/>
            <a:ext cx="1447560" cy="307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《义勇军进行曲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2257560"/>
          <a:ext cx="2381400" cy="3152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2257560"/>
                    <a:ext cx="2381400" cy="31525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333440" y="4648320"/>
          <a:ext cx="2857680" cy="1952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3440" y="4648320"/>
                    <a:ext cx="2857680" cy="19526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095880" y="2266920"/>
          <a:ext cx="2781360" cy="329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5880" y="2266920"/>
                    <a:ext cx="2781360" cy="32958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324320" y="4648320"/>
          <a:ext cx="3143160" cy="1950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24320" y="4648320"/>
                    <a:ext cx="3143160" cy="1950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743200" y="2286000"/>
          <a:ext cx="3200400" cy="2133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43200" y="2286000"/>
                    <a:ext cx="3200400" cy="21337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6021360"/>
            <a:ext cx="259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【 平型关大捷 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08000" y="44280"/>
            <a:ext cx="4317840" cy="936720"/>
            <a:chOff x="108000" y="44280"/>
            <a:chExt cx="4317840" cy="936720"/>
          </a:xfrm>
        </p:grpSpPr>
        <p:sp>
          <p:nvSpPr>
            <p:cNvPr id="64" name=""/>
            <p:cNvSpPr/>
            <p:nvPr/>
          </p:nvSpPr>
          <p:spPr>
            <a:xfrm>
              <a:off x="226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59280" y="44280"/>
              <a:ext cx="136656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4764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800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66560" y="187200"/>
              <a:ext cx="360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5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584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方正超粗黑简体"/>
                </a:rPr>
                <a:t>血 肉 筑 长 城</a:t>
              </a:r>
              <a:endParaRPr b="1" lang="en-US" sz="24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方正超粗黑简体"/>
                <a:ea typeface="方正超粗黑简体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77840" y="1125360"/>
            <a:ext cx="51116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第一乐章：怒吼吧，黄河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773360"/>
            <a:ext cx="8785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rcRect l="0" t="0" r="0" b="9343"/>
          <a:stretch/>
        </p:blipFill>
        <p:spPr>
          <a:xfrm>
            <a:off x="6804000" y="333360"/>
            <a:ext cx="2016000" cy="1282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4000" y="4041720"/>
            <a:ext cx="2592360" cy="190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6"/>
          <a:srcRect l="28313" t="13509" r="17544" b="11084"/>
          <a:stretch/>
        </p:blipFill>
        <p:spPr>
          <a:xfrm>
            <a:off x="3276720" y="3446640"/>
            <a:ext cx="3024000" cy="207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654960" y="1917720"/>
            <a:ext cx="2309760" cy="32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3276720" y="5589720"/>
            <a:ext cx="3024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【 台 儿 庄 战 役 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5229360"/>
            <a:ext cx="23050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【 百团大战 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/>
          </p:cNvPr>
          <p:cNvSpPr/>
          <p:nvPr/>
        </p:nvSpPr>
        <p:spPr>
          <a:xfrm>
            <a:off x="7620120" y="6400800"/>
            <a:ext cx="1447560" cy="307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《怒吼吧，黄河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5905440" cy="41162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grpSp>
        <p:nvGrpSpPr>
          <p:cNvPr id="80" name=""/>
          <p:cNvGrpSpPr/>
          <p:nvPr/>
        </p:nvGrpSpPr>
        <p:grpSpPr>
          <a:xfrm>
            <a:off x="108000" y="44280"/>
            <a:ext cx="4317840" cy="936720"/>
            <a:chOff x="108000" y="44280"/>
            <a:chExt cx="4317840" cy="936720"/>
          </a:xfrm>
        </p:grpSpPr>
        <p:sp>
          <p:nvSpPr>
            <p:cNvPr id="81" name=""/>
            <p:cNvSpPr/>
            <p:nvPr/>
          </p:nvSpPr>
          <p:spPr>
            <a:xfrm>
              <a:off x="226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59280" y="44280"/>
              <a:ext cx="136656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2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4764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800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466560" y="187200"/>
              <a:ext cx="360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5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5840">
                    <a:solidFill>
                      <a:srgbClr val="ff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方正超粗黑简体"/>
                </a:rPr>
                <a:t>血 肉 筑 长 城</a:t>
              </a:r>
              <a:endParaRPr b="1" lang="en-US" sz="24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方正超粗黑简体"/>
                <a:ea typeface="方正超粗黑简体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11280" y="1125360"/>
            <a:ext cx="2736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平型关大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7840" y="1773360"/>
            <a:ext cx="87850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rcRect l="0" t="0" r="0" b="9343"/>
          <a:stretch/>
        </p:blipFill>
        <p:spPr>
          <a:xfrm>
            <a:off x="6804000" y="333360"/>
            <a:ext cx="2016000" cy="1282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6732720" y="1916280"/>
            <a:ext cx="2089080" cy="119124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1937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年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9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月，八路军一一五师在平型关东侧伏击，歼灭日军一千多人，缴获大批军用物资，史称“平型关大捷”。这是抗战以来第一次大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108000" y="5373720"/>
            <a:ext cx="1800000" cy="1351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08000" y="44280"/>
            <a:ext cx="4317840" cy="936720"/>
            <a:chOff x="108000" y="44280"/>
            <a:chExt cx="4317840" cy="936720"/>
          </a:xfrm>
        </p:grpSpPr>
        <p:sp>
          <p:nvSpPr>
            <p:cNvPr id="93" name=""/>
            <p:cNvSpPr/>
            <p:nvPr/>
          </p:nvSpPr>
          <p:spPr>
            <a:xfrm>
              <a:off x="226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59280" y="44280"/>
              <a:ext cx="136656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4764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800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466560" y="187200"/>
              <a:ext cx="360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5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584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方正超粗黑简体"/>
                </a:rPr>
                <a:t>血 肉 筑 长 城</a:t>
              </a:r>
              <a:endParaRPr b="1" lang="en-US" sz="24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方正超粗黑简体"/>
                <a:ea typeface="方正超粗黑简体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4"/>
          <a:srcRect l="0" t="0" r="0" b="9343"/>
          <a:stretch/>
        </p:blipFill>
        <p:spPr>
          <a:xfrm>
            <a:off x="6946920" y="345960"/>
            <a:ext cx="2016000" cy="1282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rcRect l="6027" t="0" r="2397" b="0"/>
          <a:stretch/>
        </p:blipFill>
        <p:spPr>
          <a:xfrm>
            <a:off x="611280" y="2276640"/>
            <a:ext cx="5473440" cy="36702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179280" y="5013360"/>
            <a:ext cx="1305000" cy="1728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611280" y="1125360"/>
            <a:ext cx="2736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台儿庄战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773360"/>
            <a:ext cx="87850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2276640"/>
            <a:ext cx="2664000" cy="39888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1938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年春，日军从山东分两路南下，进攻徐州，第五战区司令长官李宗仁，指挥中国军队，将日军一路阻止在山东临沂，另一路阻止在山东台儿庄。双方在台儿庄激战。而后日军被中国军队主力包围，腹背遭到打击，狼狈向北败退。中国军队共歼敌一万多人，取得抗战以来的重大胜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7"/>
          </p:cNvPr>
          <p:cNvSpPr/>
          <p:nvPr/>
        </p:nvSpPr>
        <p:spPr>
          <a:xfrm>
            <a:off x="7010280" y="6458040"/>
            <a:ext cx="2057400" cy="307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《大刀向鬼子头上砍去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08000" y="44280"/>
            <a:ext cx="4317840" cy="936720"/>
            <a:chOff x="108000" y="44280"/>
            <a:chExt cx="4317840" cy="936720"/>
          </a:xfrm>
        </p:grpSpPr>
        <p:sp>
          <p:nvSpPr>
            <p:cNvPr id="107" name=""/>
            <p:cNvSpPr/>
            <p:nvPr/>
          </p:nvSpPr>
          <p:spPr>
            <a:xfrm>
              <a:off x="226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9280" y="44280"/>
              <a:ext cx="136656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4764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800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466560" y="187200"/>
              <a:ext cx="360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5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584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方正超粗黑简体"/>
                </a:rPr>
                <a:t>血 肉 筑 长 城</a:t>
              </a:r>
              <a:endParaRPr b="1" lang="en-US" sz="24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方正超粗黑简体"/>
                <a:ea typeface="方正超粗黑简体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4"/>
          <a:srcRect l="0" t="0" r="0" b="9343"/>
          <a:stretch/>
        </p:blipFill>
        <p:spPr>
          <a:xfrm>
            <a:off x="6946920" y="345960"/>
            <a:ext cx="2016000" cy="1282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26920" y="2060640"/>
            <a:ext cx="5688360" cy="4321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611280" y="1125360"/>
            <a:ext cx="2736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【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百团大战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773360"/>
            <a:ext cx="87850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08000" y="4941720"/>
            <a:ext cx="1249200" cy="18021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6732720" y="2039760"/>
            <a:ext cx="2232000" cy="103896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为了粉碎敌人的“囚笼”政策，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1940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年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8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月，八路军在彭德怀指挥下，组织一百多个团，在华北两千多公里的战线上，向日军发动大规模攻击，主要目标是破坏敌人的交通线，摧毁日伪军的据点。百团大战是抗日战争中，中国军队主动出击日军的最大规模战役。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"/>
          </p:cNvPr>
          <p:cNvSpPr/>
          <p:nvPr/>
        </p:nvSpPr>
        <p:spPr>
          <a:xfrm>
            <a:off x="7543800" y="6458040"/>
            <a:ext cx="1523880" cy="307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班得瑞：《初雪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4920" y="44280"/>
            <a:ext cx="4317840" cy="936720"/>
            <a:chOff x="34920" y="44280"/>
            <a:chExt cx="4317840" cy="936720"/>
          </a:xfrm>
        </p:grpSpPr>
        <p:sp>
          <p:nvSpPr>
            <p:cNvPr id="121" name=""/>
            <p:cNvSpPr/>
            <p:nvPr/>
          </p:nvSpPr>
          <p:spPr>
            <a:xfrm>
              <a:off x="219384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6200" y="44280"/>
              <a:ext cx="136656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384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7456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93480" y="187200"/>
              <a:ext cx="360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5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584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方正超粗黑简体"/>
                </a:rPr>
                <a:t>血 肉 筑 长 城</a:t>
              </a:r>
              <a:endParaRPr b="1" lang="en-US" sz="24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方正超粗黑简体"/>
                <a:ea typeface="方正超粗黑简体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4"/>
          <a:srcRect l="0" t="0" r="0" b="9343"/>
          <a:stretch/>
        </p:blipFill>
        <p:spPr>
          <a:xfrm>
            <a:off x="6873840" y="345960"/>
            <a:ext cx="2016000" cy="1282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2195640" y="2492280"/>
            <a:ext cx="4394160" cy="520560"/>
          </a:xfrm>
          <a:prstGeom prst="rect">
            <a:avLst/>
          </a:prstGeom>
          <a:gradFill rotWithShape="0">
            <a:gsLst>
              <a:gs pos="0">
                <a:srgbClr val="00ff00">
                  <a:alpha val="70196"/>
                </a:srgbClr>
              </a:gs>
              <a:gs pos="50000">
                <a:srgbClr val="ffffff"/>
              </a:gs>
              <a:gs pos="100000">
                <a:srgbClr val="00ff00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华文中宋"/>
              </a:rPr>
              <a:t>【 百团大战 主要战绩表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7840" y="1773360"/>
            <a:ext cx="87850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3554280"/>
          <a:ext cx="8229600" cy="225108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2087640"/>
                <a:gridCol w="1584360"/>
                <a:gridCol w="153324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中宋"/>
                        </a:rPr>
                        <a:t>战役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中宋"/>
                        </a:rPr>
                        <a:t>战斗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中宋"/>
                        </a:rPr>
                        <a:t>毙伤俘日伪军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中宋"/>
                        </a:rPr>
                        <a:t>破坏交通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中宋"/>
                        </a:rPr>
                        <a:t>拔掉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隶书"/>
                          <a:ea typeface="隶书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隶书"/>
                          <a:ea typeface="隶书"/>
                        </a:rPr>
                        <a:t>个半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隶书"/>
                          <a:ea typeface="隶书"/>
                        </a:rPr>
                        <a:t>1800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隶书"/>
                          <a:ea typeface="隶书"/>
                        </a:rPr>
                        <a:t>多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隶书"/>
                          <a:ea typeface="隶书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隶书"/>
                          <a:ea typeface="隶书"/>
                        </a:rPr>
                        <a:t>万多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隶书"/>
                          <a:ea typeface="隶书"/>
                        </a:rPr>
                        <a:t>2000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隶书"/>
                          <a:ea typeface="隶书"/>
                        </a:rPr>
                        <a:t>多公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隶书"/>
                          <a:ea typeface="隶书"/>
                        </a:rPr>
                        <a:t>近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隶书"/>
                          <a:ea typeface="隶书"/>
                        </a:rPr>
                        <a:t>3000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隶书"/>
                          <a:ea typeface="隶书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77840" y="1125360"/>
            <a:ext cx="51116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第一乐章：怒吼吧，黄河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08000" y="44280"/>
            <a:ext cx="4317840" cy="936720"/>
            <a:chOff x="108000" y="44280"/>
            <a:chExt cx="4317840" cy="936720"/>
          </a:xfrm>
        </p:grpSpPr>
        <p:sp>
          <p:nvSpPr>
            <p:cNvPr id="133" name=""/>
            <p:cNvSpPr/>
            <p:nvPr/>
          </p:nvSpPr>
          <p:spPr>
            <a:xfrm>
              <a:off x="226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59280" y="44280"/>
              <a:ext cx="136656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4764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800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466560" y="187200"/>
              <a:ext cx="360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5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584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方正超粗黑简体"/>
                </a:rPr>
                <a:t>血 肉 筑 长 城</a:t>
              </a:r>
              <a:endParaRPr b="1" lang="en-US" sz="24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方正超粗黑简体"/>
                <a:ea typeface="方正超粗黑简体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4"/>
          <a:srcRect l="0" t="0" r="0" b="9343"/>
          <a:stretch/>
        </p:blipFill>
        <p:spPr>
          <a:xfrm>
            <a:off x="6946920" y="345960"/>
            <a:ext cx="2016000" cy="1282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2268360" y="2133720"/>
            <a:ext cx="4394520" cy="520560"/>
          </a:xfrm>
          <a:prstGeom prst="rect">
            <a:avLst/>
          </a:prstGeom>
          <a:gradFill rotWithShape="0">
            <a:gsLst>
              <a:gs pos="0">
                <a:srgbClr val="00ff00">
                  <a:alpha val="70196"/>
                </a:srgbClr>
              </a:gs>
              <a:gs pos="50000">
                <a:srgbClr val="ffffff"/>
              </a:gs>
              <a:gs pos="100000">
                <a:srgbClr val="00ff00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华文中宋"/>
              </a:rPr>
              <a:t>【 三次重要战役比较表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773360"/>
            <a:ext cx="87850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7840" y="1125360"/>
            <a:ext cx="51116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第一乐章：怒吼吧，黄河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2924280"/>
          <a:ext cx="8507160" cy="3316320"/>
        </p:xfrm>
        <a:graphic>
          <a:graphicData uri="http://schemas.openxmlformats.org/drawingml/2006/table">
            <a:tbl>
              <a:tblPr/>
              <a:tblGrid>
                <a:gridCol w="977400"/>
                <a:gridCol w="968400"/>
                <a:gridCol w="968400"/>
                <a:gridCol w="1200240"/>
                <a:gridCol w="2736720"/>
                <a:gridCol w="1656000"/>
              </a:tblGrid>
              <a:tr h="79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战  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名  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地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指挥者或部队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主要战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历史意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0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平型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大    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1937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9   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平型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八 路 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一一五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歼灭日军一千多人，缴获大批军用物资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抗战以来第一次大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台儿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战    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1938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台儿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李宗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歼灭日军一万多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抗战以来的重大胜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百  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华文中宋"/>
                        </a:rPr>
                        <a:t>大  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1940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8   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华  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彭德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破坏交通线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2000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多公里，拔掉据点近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3000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个，毙伤俘日伪军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万多人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ff3300"/>
                          </a:solidFill>
                          <a:latin typeface="仿宋_GB2312"/>
                          <a:ea typeface="仿宋_GB2312"/>
                        </a:rPr>
                        <a:t>中国军队主动出击日军的最大规模战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8000" y="44280"/>
            <a:ext cx="4317840" cy="936720"/>
            <a:chOff x="108000" y="44280"/>
            <a:chExt cx="4317840" cy="936720"/>
          </a:xfrm>
        </p:grpSpPr>
        <p:sp>
          <p:nvSpPr>
            <p:cNvPr id="145" name=""/>
            <p:cNvSpPr/>
            <p:nvPr/>
          </p:nvSpPr>
          <p:spPr>
            <a:xfrm>
              <a:off x="226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59280" y="44280"/>
              <a:ext cx="136656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692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4764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8000" y="44280"/>
              <a:ext cx="1366920" cy="936720"/>
            </a:xfrm>
            <a:prstGeom prst="flowChartDecision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ffcc00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66560" y="187200"/>
              <a:ext cx="36007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5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584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方正超粗黑简体"/>
                </a:rPr>
                <a:t>血 肉 筑 长 城</a:t>
              </a:r>
              <a:endParaRPr b="1" lang="en-US" sz="2400" spc="1" strike="noStrike">
                <a:ln w="1584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方正超粗黑简体"/>
                <a:ea typeface="方正超粗黑简体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77840" y="1125360"/>
            <a:ext cx="51116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第二乐章：历史的抉择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7840" y="1773360"/>
            <a:ext cx="8785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79960" y="2514600"/>
            <a:ext cx="4811760" cy="39888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</a:t>
            </a: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抗日战争胜利前夕，</a:t>
            </a: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1945</a:t>
            </a: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年</a:t>
            </a: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4</a:t>
            </a:r>
            <a:r>
              <a:rPr b="0" lang="zh-CN" sz="2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月，中国共产党在延安召开第七次全国代表大会。大会主要讨论夺取抗战胜利和胜利后中国将走什么道路的重要问题。大会制定了党的政治路线，那就是：放手发动群众，壮大人民力量，在中国共产党的领导下，打败日本侵略者，解放全国人民，建立一个新民主主义的中国。大会为抗日战争的胜利和实现中国的光明前途准备了条件</a:t>
            </a: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2514600"/>
          <a:ext cx="3733920" cy="282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514600"/>
                    <a:ext cx="3733920" cy="28256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9:46:33Z</dcterms:created>
  <dc:creator>刘永新</dc:creator>
  <dc:description/>
  <dc:language>en-US</dc:language>
  <cp:lastModifiedBy>kelong</cp:lastModifiedBy>
  <dcterms:modified xsi:type="dcterms:W3CDTF">2006-09-27T04:33:43Z</dcterms:modified>
  <cp:revision>99</cp:revision>
  <dc:subject/>
  <dc:title>幻灯片 1</dc:title>
</cp:coreProperties>
</file>