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0BD3-C64D-4512-B1E9-898CCC3DC1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片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强渡大渡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教学重点和难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感知历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遵义会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9704-5446-45FE-BC45-F2F19DAE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FD0-CBEF-4C48-AEF3-ACF25745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071-39CD-482B-AC3B-B2BC1A89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020-15DE-4CD2-9CA4-4E0F5108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879-C64F-40F3-B93E-088D44B4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F63-AE0E-4B10-A1BE-FD18CB23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125-EE4E-405B-BF2E-38AF6C9A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052-93F3-450D-B81B-35601C4D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668-7897-4D6F-9BF5-AA9F6FAE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633-ABC9-48B5-99D3-CC016CB5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866-4B27-4872-8350-9C1A0F6C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9BA-67B4-42E6-AC67-2EDC1C3A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3523-5A3C-4B31-957B-F2F540CCB6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" Target="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87280" y="1052640"/>
            <a:ext cx="6553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红军不怕远征难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58920" y="3284640"/>
            <a:ext cx="6562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720">
                  <a:solidFill>
                    <a:srgbClr val="008000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吉林省松原市前郭县教师进修学校</a:t>
            </a:r>
            <a:endParaRPr b="0" lang="en-US" sz="4000" spc="1" strike="noStrike">
              <a:ln w="720">
                <a:solidFill>
                  <a:srgbClr val="008000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472428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052d0"/>
                </a:solidFill>
                <a:latin typeface="Arial"/>
                <a:ea typeface="方正魏碑简体"/>
              </a:rPr>
              <a:t>韦广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580536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Wei_guangxin@126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4896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3880" y="56610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强渡大渡河红军战士雕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630360"/>
            <a:ext cx="7488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2919f5"/>
                </a:solidFill>
                <a:latin typeface="Arial"/>
                <a:ea typeface="华文新魏"/>
              </a:rPr>
              <a:t>       </a:t>
            </a:r>
            <a:r>
              <a:rPr b="0" lang="zh-CN" sz="3800" spc="-1" strike="noStrike">
                <a:solidFill>
                  <a:srgbClr val="2919f5"/>
                </a:solidFill>
                <a:latin typeface="Arial"/>
                <a:ea typeface="华文新魏"/>
              </a:rPr>
              <a:t>大渡河水不停地在咆哮，泸定桥的铁索还在悠悠摇荡，长征的脚步已离我们渐渐远去。它留给后人的是不尽的思索。有人说长征是一种精神，是一部史诗，它不仅影响着中国的命运，也是人类历史上的一个奇迹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2919f5"/>
                </a:solidFill>
                <a:latin typeface="Arial"/>
                <a:ea typeface="华文新魏"/>
              </a:rPr>
              <a:t>      </a:t>
            </a:r>
            <a:r>
              <a:rPr b="0" lang="zh-CN" sz="3800" spc="-1" strike="noStrike">
                <a:solidFill>
                  <a:srgbClr val="2919f5"/>
                </a:solidFill>
                <a:latin typeface="Arial"/>
                <a:ea typeface="华文新魏"/>
              </a:rPr>
              <a:t>长征对你的学习和生活有什么启示？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836640"/>
            <a:ext cx="8209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学习测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37f1b"/>
                </a:solidFill>
                <a:latin typeface="Arial"/>
                <a:ea typeface="华文新魏"/>
              </a:rPr>
              <a:t>       </a:t>
            </a:r>
            <a:r>
              <a:rPr b="0" lang="zh-CN" sz="5400" spc="-1" strike="noStrike">
                <a:solidFill>
                  <a:srgbClr val="137f1b"/>
                </a:solidFill>
                <a:latin typeface="Arial"/>
                <a:ea typeface="华文新魏"/>
              </a:rPr>
              <a:t>请用鼠标依次点击红军长征走过的省，看看红军走过的地方在祖国版图上所占的比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36360" y="404640"/>
            <a:ext cx="9144000" cy="602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76720" y="609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广     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5867280" y="4797360"/>
            <a:ext cx="1297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 action="ppaction://hlinksldjump"/>
              </a:rPr>
              <a:t>江     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福  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6165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广   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537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贵                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9500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云         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360" y="3357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四            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00" y="3357720"/>
            <a:ext cx="7290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西           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09280" y="981000"/>
            <a:ext cx="729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甘         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98640" y="404640"/>
            <a:ext cx="729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陕                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38280" y="4292640"/>
            <a:ext cx="729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湖          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74560" y="793800"/>
            <a:ext cx="799308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2919f5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2919f5"/>
                </a:solidFill>
                <a:latin typeface="华文新魏"/>
                <a:ea typeface="华文新魏"/>
              </a:rPr>
              <a:t>、学校开展“重走长征路”夏令营活动，请你设计一条行走路线，并指出重点要去的景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19f5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2919f5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2919f5"/>
                </a:solidFill>
                <a:latin typeface="华文新魏"/>
                <a:ea typeface="华文新魏"/>
              </a:rPr>
              <a:t>、课后搜集毛泽东在长征期间作的诗词，阅读魏巍的《地球的红飘带》斯诺的《西行漫记》等描写长征的书籍。写出读书笔记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4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5434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836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70f25"/>
                </a:solidFill>
                <a:latin typeface="Arial"/>
                <a:ea typeface="华文行楷"/>
              </a:rPr>
              <a:t>请各位老师不吝指教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行楷"/>
              </a:rPr>
              <a:t>吉林省松原市前郭县教师进修学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27280" y="260280"/>
            <a:ext cx="41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482cd4"/>
                </a:solidFill>
                <a:latin typeface="Arial"/>
                <a:ea typeface="华文行楷"/>
              </a:rPr>
              <a:t>韦广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76500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94958"/>
                </a:solidFill>
                <a:latin typeface="华文新魏"/>
                <a:ea typeface="华文新魏"/>
              </a:rPr>
              <a:t>2005</a:t>
            </a:r>
            <a:r>
              <a:rPr b="0" lang="zh-CN" sz="7200" spc="-1" strike="noStrike">
                <a:solidFill>
                  <a:srgbClr val="e94958"/>
                </a:solidFill>
                <a:latin typeface="华文新魏"/>
                <a:ea typeface="华文新魏"/>
              </a:rPr>
              <a:t>年</a:t>
            </a:r>
            <a:r>
              <a:rPr b="0" lang="zh-CN" sz="7200" spc="-1" strike="noStrike">
                <a:solidFill>
                  <a:srgbClr val="e94958"/>
                </a:solidFill>
                <a:latin typeface="华文新魏"/>
                <a:ea typeface="华文新魏"/>
              </a:rPr>
              <a:t>11</a:t>
            </a:r>
            <a:r>
              <a:rPr b="0" lang="zh-CN" sz="7200" spc="-1" strike="noStrike">
                <a:solidFill>
                  <a:srgbClr val="e94958"/>
                </a:solidFill>
                <a:latin typeface="华文新魏"/>
                <a:ea typeface="华文新魏"/>
              </a:rPr>
              <a:t>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628640"/>
            <a:ext cx="77756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e93e0f"/>
                </a:solidFill>
                <a:latin typeface="Arial"/>
                <a:ea typeface="华文行楷"/>
              </a:rPr>
              <a:t>再见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907920"/>
            <a:ext cx="756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94958"/>
                </a:solidFill>
                <a:latin typeface="华文新魏"/>
                <a:ea typeface="华文新魏"/>
              </a:rPr>
              <a:t>Wei_guangxin@126.c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3590" t="4920" r="46083" b="62366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848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358920"/>
            <a:ext cx="80647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103"/>
                </a:solidFill>
                <a:latin typeface="黑体"/>
                <a:ea typeface="黑体"/>
              </a:rPr>
              <a:t>知识与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d43cb"/>
                </a:solidFill>
                <a:latin typeface="黑体"/>
                <a:ea typeface="黑体"/>
              </a:rPr>
              <a:t>1</a:t>
            </a:r>
            <a:r>
              <a:rPr b="1" lang="zh-CN" sz="2200" spc="-1" strike="noStrike">
                <a:solidFill>
                  <a:srgbClr val="6d43cb"/>
                </a:solidFill>
                <a:latin typeface="黑体"/>
                <a:ea typeface="黑体"/>
              </a:rPr>
              <a:t>、能够说出党和中央红军被迫进行长征的原因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d43cb"/>
                </a:solidFill>
                <a:latin typeface="黑体"/>
                <a:ea typeface="黑体"/>
              </a:rPr>
              <a:t>2</a:t>
            </a:r>
            <a:r>
              <a:rPr b="1" lang="zh-CN" sz="2200" spc="-1" strike="noStrike">
                <a:solidFill>
                  <a:srgbClr val="6d43cb"/>
                </a:solidFill>
                <a:latin typeface="黑体"/>
                <a:ea typeface="黑体"/>
              </a:rPr>
              <a:t>、能够归纳出红军长征和遵义会议的伟大历史意义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d43cb"/>
                </a:solidFill>
                <a:latin typeface="黑体"/>
                <a:ea typeface="黑体"/>
              </a:rPr>
              <a:t>3</a:t>
            </a:r>
            <a:r>
              <a:rPr b="1" lang="zh-CN" sz="2200" spc="-1" strike="noStrike">
                <a:solidFill>
                  <a:srgbClr val="6d43cb"/>
                </a:solidFill>
                <a:latin typeface="黑体"/>
                <a:ea typeface="黑体"/>
              </a:rPr>
              <a:t>、能够在地图上简单描绘出红军长征的路线和经过的重要地点。并说出发生在那里的重要事件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103"/>
                </a:solidFill>
                <a:latin typeface="黑体"/>
                <a:ea typeface="黑体"/>
              </a:rPr>
              <a:t>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d43cb"/>
                </a:solidFill>
                <a:latin typeface="黑体"/>
                <a:ea typeface="黑体"/>
              </a:rPr>
              <a:t>学习用地图来描述历史事件的方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103"/>
                </a:solidFill>
                <a:latin typeface="黑体"/>
                <a:ea typeface="黑体"/>
              </a:rPr>
              <a:t>情感态度与价值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d43cb"/>
                </a:solidFill>
                <a:latin typeface="黑体"/>
                <a:ea typeface="黑体"/>
              </a:rPr>
              <a:t>在影视作品的宏大场面感染下，真切地体验长征精神的伟大，革命历程的艰辛，从而珍惜今天来之不易的幸福生活，继承和发扬革命优良传统。</a:t>
            </a:r>
            <a:r>
              <a:rPr b="1" lang="zh-CN" sz="2400" spc="-1" strike="noStrike">
                <a:solidFill>
                  <a:srgbClr val="6d43c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0"/>
            <a:ext cx="864216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教学重点和难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d43cb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6d43cb"/>
                </a:solidFill>
                <a:latin typeface="Arial"/>
                <a:ea typeface="黑体"/>
              </a:rPr>
              <a:t>中央红军的长征和遵义会议是本课的重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d43cb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6d43cb"/>
                </a:solidFill>
                <a:latin typeface="Arial"/>
                <a:ea typeface="黑体"/>
              </a:rPr>
              <a:t>长征这一历史事件的人物多（领导人多，参与长征的军队多），时间长，经历艰辛复杂，在一节课内学生很难理清其线索，这是本课的难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44640" y="1413000"/>
            <a:ext cx="7254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d72f4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第</a:t>
            </a: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d72f4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13</a:t>
            </a: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d72f4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课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d72f4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d72f4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红军不怕远征难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d72f4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2060640"/>
            <a:ext cx="8497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800" spc="-1" strike="noStrike">
                <a:solidFill>
                  <a:srgbClr val="ff3399"/>
                </a:solidFill>
                <a:latin typeface="华文新魏"/>
                <a:ea typeface="华文新魏"/>
              </a:rPr>
              <a:t>    </a:t>
            </a:r>
            <a:r>
              <a:rPr b="0" lang="zh-CN" sz="7200" spc="-1" strike="noStrike">
                <a:solidFill>
                  <a:srgbClr val="2919f5"/>
                </a:solidFill>
                <a:latin typeface="华文新魏"/>
                <a:ea typeface="华文新魏"/>
              </a:rPr>
              <a:t>红军为什么要历尽艰难去长征呢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105264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919f5"/>
                </a:solidFill>
                <a:latin typeface="华文新魏"/>
                <a:ea typeface="华文新魏"/>
              </a:rPr>
              <a:t>     </a:t>
            </a:r>
            <a:r>
              <a:rPr b="0" lang="zh-CN" sz="6000" spc="-1" strike="noStrike">
                <a:solidFill>
                  <a:srgbClr val="2919f5"/>
                </a:solidFill>
                <a:latin typeface="华文新魏"/>
                <a:ea typeface="华文新魏"/>
              </a:rPr>
              <a:t>红军在长征途中经历了哪些”“难”“险”“阻”？是什么力量使红军克服重重困难取得了长征的胜利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25640" y="1413000"/>
            <a:ext cx="70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919f5"/>
                </a:solidFill>
                <a:latin typeface="华文新魏"/>
                <a:ea typeface="华文新魏"/>
              </a:rPr>
              <a:t>      </a:t>
            </a:r>
            <a:r>
              <a:rPr b="0" lang="zh-CN" sz="7200" spc="-1" strike="noStrike">
                <a:solidFill>
                  <a:srgbClr val="2919f5"/>
                </a:solidFill>
                <a:latin typeface="华文新魏"/>
                <a:ea typeface="华文新魏"/>
              </a:rPr>
              <a:t>为什么说遵义会议“具有伟大历史意义”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093080" y="260280"/>
          <a:ext cx="1830240" cy="252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93080" y="260280"/>
                    <a:ext cx="183024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0880" y="106668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48000" y="5661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遵义会议会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12:18:40Z</dcterms:created>
  <dc:creator>zzj</dc:creator>
  <dc:description/>
  <dc:language>en-US</dc:language>
  <cp:lastModifiedBy>ip-zhujf</cp:lastModifiedBy>
  <dcterms:modified xsi:type="dcterms:W3CDTF">2006-10-26T04:40:19Z</dcterms:modified>
  <cp:revision>119</cp:revision>
  <dc:subject/>
  <dc:title>幻灯片 1</dc:title>
</cp:coreProperties>
</file>