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explode.wav" ContentType="audio/x-wav"/>
  <Override PartName="/ppt/media/image18.jpeg" ContentType="image/jpeg"/>
  <Override PartName="/ppt/media/image16.png" ContentType="image/png"/>
  <Override PartName="/ppt/media/drumroll.wav" ContentType="audio/x-wav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D99-F4A4-4C1C-A51C-F9FD2FE7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864-DE54-47E8-ADF3-93D44921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DE7-DCB8-4989-BD68-1B469226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534-8C2E-4218-A7CA-A913B5EC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6EC-114D-4DC3-87B2-20236468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603-4FB1-4304-84A4-B2721F75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D43-3CDF-4F7C-9870-2C255C10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59F-70AA-422D-931D-BA71E1E2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EDF-D328-4FEF-AC70-462AA703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A34-58DA-4395-A3E6-3DB20EE5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DD7-440C-4A0A-BBF5-76C3658D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C9C-0319-403E-89C4-D9B2F99A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32D3-755D-4487-9047-3825684770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hyperlink" Target="http://www.1-123.com/0junshi/zhangxueliang.asp" TargetMode="External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audio" Target="../media/explode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explode.wav"/><Relationship Id="rId20" Type="http://schemas.openxmlformats.org/officeDocument/2006/relationships/audio" Target="../media/explode.wav"/><Relationship Id="rId21" Type="http://schemas.openxmlformats.org/officeDocument/2006/relationships/audio" Target="../media/explode.wav"/><Relationship Id="rId22" Type="http://schemas.openxmlformats.org/officeDocument/2006/relationships/audio" Target="../media/explode.wav"/><Relationship Id="rId23" Type="http://schemas.openxmlformats.org/officeDocument/2006/relationships/audio" Target="../media/explode.wav"/><Relationship Id="rId24" Type="http://schemas.openxmlformats.org/officeDocument/2006/relationships/audio" Target="../media/explode.wav"/><Relationship Id="rId25" Type="http://schemas.openxmlformats.org/officeDocument/2006/relationships/audio" Target="../media/explode.wav"/><Relationship Id="rId26" Type="http://schemas.openxmlformats.org/officeDocument/2006/relationships/audio" Target="../media/explode.wav"/><Relationship Id="rId27" Type="http://schemas.openxmlformats.org/officeDocument/2006/relationships/audio" Target="../media/explode.wav"/><Relationship Id="rId28" Type="http://schemas.openxmlformats.org/officeDocument/2006/relationships/audio" Target="../media/explode.wav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59280" y="1341360"/>
            <a:ext cx="47433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第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11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0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北伐战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92360" y="548784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保山一中　魏　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340000" y="189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方正水柱简体"/>
                <a:ea typeface="黑体"/>
              </a:rPr>
              <a:t>五、南京国民政府的成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141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时间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51280" y="14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927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月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7080" y="220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性质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40000" y="2924280"/>
            <a:ext cx="6481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代表大地主、大资产阶级的利益，对外投靠帝国主义，对内镇压人民革命。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95640" y="4149720"/>
            <a:ext cx="32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统治全国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414972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第二次北伐与统一全国</a:t>
            </a: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19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580000" y="932040"/>
            <a:ext cx="280980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340000" y="8366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方正水柱简体"/>
                <a:ea typeface="黑体"/>
              </a:rPr>
              <a:t>一、国共第一次合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2205000"/>
            <a:ext cx="24498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方正水柱简体"/>
                <a:ea typeface="黑体"/>
              </a:rPr>
              <a:t>领导国民革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方正水柱简体"/>
                <a:ea typeface="黑体"/>
              </a:rPr>
              <a:t>推翻封建军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方正水柱简体"/>
                <a:ea typeface="黑体"/>
              </a:rPr>
              <a:t>完成中国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21178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合作的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68360" y="400536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合作的实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4075200"/>
            <a:ext cx="4105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1924</a:t>
            </a:r>
            <a:r>
              <a:rPr b="0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年，国民党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49440" y="1628640"/>
            <a:ext cx="6586560" cy="4940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95640" y="141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原因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7080" y="2205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时间、地点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32360" y="2205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924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月；广州黄埔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7080" y="2997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领导人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1413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创建革命军队，挽救中国危亡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189000"/>
            <a:ext cx="6624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方正水柱简体"/>
                <a:ea typeface="黑体"/>
              </a:rPr>
              <a:t>二、中国国民党陆军军官学校（黄埔军校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95640" y="3860640"/>
            <a:ext cx="18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功绩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68960" y="1628640"/>
            <a:ext cx="2975040" cy="3824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2952720" cy="3940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059280" y="115920"/>
            <a:ext cx="3036600" cy="4249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987640" y="4437000"/>
            <a:ext cx="31687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孙中山（创建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0" y="5516640"/>
            <a:ext cx="27352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蒋介石（校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5506920"/>
            <a:ext cx="273528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66"/>
                </a:solidFill>
                <a:latin typeface="黑体"/>
                <a:ea typeface="黑体"/>
              </a:rPr>
              <a:t>周恩来   （政治部主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95640" y="1413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原因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7080" y="220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时间、地点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2205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924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月；广州黄埔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7080" y="2997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领导人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30034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孙中山（创建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35575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蒋介石（校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4133880"/>
            <a:ext cx="43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周恩来（政治部主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4724280"/>
            <a:ext cx="18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功绩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0" y="4910040"/>
            <a:ext cx="525600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培养大批军事政治人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为建立国民革命军奠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1413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创建革命军队，挽救中国危亡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189000"/>
            <a:ext cx="6624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方正水柱简体"/>
                <a:ea typeface="黑体"/>
              </a:rPr>
              <a:t>二、中国国民党陆军军官学校（黄埔军校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411280" y="260280"/>
            <a:ext cx="4032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方正水柱简体"/>
                <a:ea typeface="黑体"/>
              </a:rPr>
              <a:t>三、北伐胜利进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1318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推翻北洋军阀，统一全中国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92720" y="18511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926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年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月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7080" y="2571840"/>
            <a:ext cx="32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北伐军总司令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2693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蒋介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7080" y="3414600"/>
            <a:ext cx="32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北伐对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342900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吴佩孚、孙传芳、张作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97080" y="1844640"/>
            <a:ext cx="36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开始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5640" y="11253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原因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396576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26" name=""/>
          <p:cNvGrpSpPr/>
          <p:nvPr/>
        </p:nvGrpSpPr>
        <p:grpSpPr>
          <a:xfrm>
            <a:off x="6156360" y="4581360"/>
            <a:ext cx="1800360" cy="2279160"/>
            <a:chOff x="6156360" y="4581360"/>
            <a:chExt cx="1800360" cy="227916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6156360" y="4581360"/>
              <a:ext cx="1800360" cy="20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156360" y="6400800"/>
              <a:ext cx="180036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Garamond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Garamond"/>
                  <a:ea typeface="黑体"/>
                </a:rPr>
                <a:t>蒋介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373560" y="5003640"/>
            <a:ext cx="2092320" cy="1881360"/>
          </a:xfrm>
          <a:custGeom>
            <a:avLst/>
            <a:gdLst/>
            <a:ahLst/>
            <a:rect l="l" t="t" r="r" b="b"/>
            <a:pathLst>
              <a:path w="1318" h="1185">
                <a:moveTo>
                  <a:pt x="440" y="0"/>
                </a:moveTo>
                <a:cubicBezTo>
                  <a:pt x="443" y="21"/>
                  <a:pt x="438" y="49"/>
                  <a:pt x="460" y="56"/>
                </a:cubicBezTo>
                <a:cubicBezTo>
                  <a:pt x="458" y="78"/>
                  <a:pt x="438" y="162"/>
                  <a:pt x="468" y="172"/>
                </a:cubicBezTo>
                <a:cubicBezTo>
                  <a:pt x="467" y="189"/>
                  <a:pt x="468" y="207"/>
                  <a:pt x="464" y="224"/>
                </a:cubicBezTo>
                <a:cubicBezTo>
                  <a:pt x="454" y="263"/>
                  <a:pt x="406" y="258"/>
                  <a:pt x="376" y="260"/>
                </a:cubicBezTo>
                <a:cubicBezTo>
                  <a:pt x="368" y="265"/>
                  <a:pt x="361" y="273"/>
                  <a:pt x="352" y="276"/>
                </a:cubicBezTo>
                <a:cubicBezTo>
                  <a:pt x="344" y="279"/>
                  <a:pt x="328" y="284"/>
                  <a:pt x="328" y="284"/>
                </a:cubicBezTo>
                <a:cubicBezTo>
                  <a:pt x="307" y="315"/>
                  <a:pt x="322" y="304"/>
                  <a:pt x="296" y="312"/>
                </a:cubicBezTo>
                <a:cubicBezTo>
                  <a:pt x="288" y="314"/>
                  <a:pt x="272" y="320"/>
                  <a:pt x="272" y="320"/>
                </a:cubicBezTo>
                <a:cubicBezTo>
                  <a:pt x="258" y="299"/>
                  <a:pt x="240" y="288"/>
                  <a:pt x="216" y="280"/>
                </a:cubicBezTo>
                <a:cubicBezTo>
                  <a:pt x="176" y="307"/>
                  <a:pt x="220" y="298"/>
                  <a:pt x="136" y="304"/>
                </a:cubicBezTo>
                <a:cubicBezTo>
                  <a:pt x="105" y="325"/>
                  <a:pt x="113" y="356"/>
                  <a:pt x="88" y="364"/>
                </a:cubicBezTo>
                <a:cubicBezTo>
                  <a:pt x="73" y="363"/>
                  <a:pt x="58" y="364"/>
                  <a:pt x="44" y="360"/>
                </a:cubicBezTo>
                <a:cubicBezTo>
                  <a:pt x="35" y="357"/>
                  <a:pt x="20" y="344"/>
                  <a:pt x="20" y="344"/>
                </a:cubicBezTo>
                <a:cubicBezTo>
                  <a:pt x="13" y="366"/>
                  <a:pt x="0" y="393"/>
                  <a:pt x="16" y="416"/>
                </a:cubicBezTo>
                <a:cubicBezTo>
                  <a:pt x="22" y="425"/>
                  <a:pt x="37" y="419"/>
                  <a:pt x="48" y="420"/>
                </a:cubicBezTo>
                <a:cubicBezTo>
                  <a:pt x="60" y="421"/>
                  <a:pt x="72" y="423"/>
                  <a:pt x="84" y="424"/>
                </a:cubicBezTo>
                <a:cubicBezTo>
                  <a:pt x="95" y="441"/>
                  <a:pt x="106" y="454"/>
                  <a:pt x="112" y="472"/>
                </a:cubicBezTo>
                <a:cubicBezTo>
                  <a:pt x="111" y="480"/>
                  <a:pt x="113" y="490"/>
                  <a:pt x="108" y="496"/>
                </a:cubicBezTo>
                <a:cubicBezTo>
                  <a:pt x="101" y="504"/>
                  <a:pt x="64" y="510"/>
                  <a:pt x="52" y="512"/>
                </a:cubicBezTo>
                <a:cubicBezTo>
                  <a:pt x="48" y="515"/>
                  <a:pt x="30" y="524"/>
                  <a:pt x="32" y="532"/>
                </a:cubicBezTo>
                <a:cubicBezTo>
                  <a:pt x="33" y="537"/>
                  <a:pt x="39" y="538"/>
                  <a:pt x="44" y="540"/>
                </a:cubicBezTo>
                <a:cubicBezTo>
                  <a:pt x="62" y="547"/>
                  <a:pt x="85" y="550"/>
                  <a:pt x="104" y="556"/>
                </a:cubicBezTo>
                <a:cubicBezTo>
                  <a:pt x="112" y="558"/>
                  <a:pt x="120" y="561"/>
                  <a:pt x="128" y="564"/>
                </a:cubicBezTo>
                <a:cubicBezTo>
                  <a:pt x="132" y="565"/>
                  <a:pt x="140" y="568"/>
                  <a:pt x="140" y="568"/>
                </a:cubicBezTo>
                <a:cubicBezTo>
                  <a:pt x="171" y="614"/>
                  <a:pt x="138" y="701"/>
                  <a:pt x="216" y="708"/>
                </a:cubicBezTo>
                <a:cubicBezTo>
                  <a:pt x="240" y="710"/>
                  <a:pt x="264" y="711"/>
                  <a:pt x="288" y="712"/>
                </a:cubicBezTo>
                <a:cubicBezTo>
                  <a:pt x="303" y="734"/>
                  <a:pt x="292" y="735"/>
                  <a:pt x="324" y="740"/>
                </a:cubicBezTo>
                <a:cubicBezTo>
                  <a:pt x="336" y="739"/>
                  <a:pt x="350" y="743"/>
                  <a:pt x="360" y="736"/>
                </a:cubicBezTo>
                <a:cubicBezTo>
                  <a:pt x="367" y="731"/>
                  <a:pt x="360" y="719"/>
                  <a:pt x="364" y="712"/>
                </a:cubicBezTo>
                <a:cubicBezTo>
                  <a:pt x="366" y="708"/>
                  <a:pt x="372" y="709"/>
                  <a:pt x="376" y="708"/>
                </a:cubicBezTo>
                <a:cubicBezTo>
                  <a:pt x="388" y="709"/>
                  <a:pt x="404" y="703"/>
                  <a:pt x="412" y="712"/>
                </a:cubicBezTo>
                <a:cubicBezTo>
                  <a:pt x="424" y="726"/>
                  <a:pt x="403" y="760"/>
                  <a:pt x="420" y="768"/>
                </a:cubicBezTo>
                <a:cubicBezTo>
                  <a:pt x="428" y="772"/>
                  <a:pt x="439" y="771"/>
                  <a:pt x="448" y="772"/>
                </a:cubicBezTo>
                <a:cubicBezTo>
                  <a:pt x="462" y="793"/>
                  <a:pt x="470" y="788"/>
                  <a:pt x="496" y="784"/>
                </a:cubicBezTo>
                <a:cubicBezTo>
                  <a:pt x="516" y="777"/>
                  <a:pt x="522" y="762"/>
                  <a:pt x="540" y="756"/>
                </a:cubicBezTo>
                <a:cubicBezTo>
                  <a:pt x="548" y="757"/>
                  <a:pt x="558" y="754"/>
                  <a:pt x="564" y="760"/>
                </a:cubicBezTo>
                <a:cubicBezTo>
                  <a:pt x="567" y="763"/>
                  <a:pt x="556" y="766"/>
                  <a:pt x="552" y="768"/>
                </a:cubicBezTo>
                <a:cubicBezTo>
                  <a:pt x="544" y="771"/>
                  <a:pt x="536" y="773"/>
                  <a:pt x="528" y="776"/>
                </a:cubicBezTo>
                <a:cubicBezTo>
                  <a:pt x="524" y="777"/>
                  <a:pt x="516" y="780"/>
                  <a:pt x="516" y="780"/>
                </a:cubicBezTo>
                <a:cubicBezTo>
                  <a:pt x="514" y="783"/>
                  <a:pt x="531" y="777"/>
                  <a:pt x="536" y="796"/>
                </a:cubicBezTo>
                <a:cubicBezTo>
                  <a:pt x="537" y="804"/>
                  <a:pt x="522" y="812"/>
                  <a:pt x="524" y="828"/>
                </a:cubicBezTo>
                <a:cubicBezTo>
                  <a:pt x="526" y="844"/>
                  <a:pt x="551" y="871"/>
                  <a:pt x="548" y="892"/>
                </a:cubicBezTo>
                <a:cubicBezTo>
                  <a:pt x="590" y="955"/>
                  <a:pt x="546" y="948"/>
                  <a:pt x="504" y="952"/>
                </a:cubicBezTo>
                <a:cubicBezTo>
                  <a:pt x="467" y="964"/>
                  <a:pt x="457" y="1017"/>
                  <a:pt x="424" y="1028"/>
                </a:cubicBezTo>
                <a:cubicBezTo>
                  <a:pt x="405" y="1056"/>
                  <a:pt x="398" y="1075"/>
                  <a:pt x="420" y="1108"/>
                </a:cubicBezTo>
                <a:cubicBezTo>
                  <a:pt x="421" y="1120"/>
                  <a:pt x="418" y="1134"/>
                  <a:pt x="424" y="1144"/>
                </a:cubicBezTo>
                <a:cubicBezTo>
                  <a:pt x="431" y="1155"/>
                  <a:pt x="460" y="1156"/>
                  <a:pt x="460" y="1156"/>
                </a:cubicBezTo>
                <a:cubicBezTo>
                  <a:pt x="480" y="1185"/>
                  <a:pt x="487" y="1175"/>
                  <a:pt x="528" y="1172"/>
                </a:cubicBezTo>
                <a:cubicBezTo>
                  <a:pt x="536" y="1167"/>
                  <a:pt x="544" y="1161"/>
                  <a:pt x="552" y="1156"/>
                </a:cubicBezTo>
                <a:cubicBezTo>
                  <a:pt x="556" y="1153"/>
                  <a:pt x="564" y="1148"/>
                  <a:pt x="564" y="1148"/>
                </a:cubicBezTo>
                <a:cubicBezTo>
                  <a:pt x="573" y="1120"/>
                  <a:pt x="595" y="1120"/>
                  <a:pt x="620" y="1116"/>
                </a:cubicBezTo>
                <a:cubicBezTo>
                  <a:pt x="631" y="1084"/>
                  <a:pt x="633" y="1051"/>
                  <a:pt x="648" y="1020"/>
                </a:cubicBezTo>
                <a:cubicBezTo>
                  <a:pt x="648" y="1020"/>
                  <a:pt x="668" y="990"/>
                  <a:pt x="672" y="984"/>
                </a:cubicBezTo>
                <a:cubicBezTo>
                  <a:pt x="675" y="980"/>
                  <a:pt x="680" y="972"/>
                  <a:pt x="680" y="972"/>
                </a:cubicBezTo>
                <a:cubicBezTo>
                  <a:pt x="675" y="943"/>
                  <a:pt x="670" y="949"/>
                  <a:pt x="656" y="928"/>
                </a:cubicBezTo>
                <a:cubicBezTo>
                  <a:pt x="653" y="928"/>
                  <a:pt x="585" y="935"/>
                  <a:pt x="580" y="936"/>
                </a:cubicBezTo>
                <a:cubicBezTo>
                  <a:pt x="572" y="938"/>
                  <a:pt x="556" y="944"/>
                  <a:pt x="556" y="944"/>
                </a:cubicBezTo>
                <a:cubicBezTo>
                  <a:pt x="563" y="909"/>
                  <a:pt x="574" y="916"/>
                  <a:pt x="612" y="912"/>
                </a:cubicBezTo>
                <a:cubicBezTo>
                  <a:pt x="648" y="888"/>
                  <a:pt x="623" y="889"/>
                  <a:pt x="604" y="876"/>
                </a:cubicBezTo>
                <a:cubicBezTo>
                  <a:pt x="591" y="857"/>
                  <a:pt x="599" y="871"/>
                  <a:pt x="592" y="848"/>
                </a:cubicBezTo>
                <a:cubicBezTo>
                  <a:pt x="590" y="840"/>
                  <a:pt x="584" y="824"/>
                  <a:pt x="584" y="824"/>
                </a:cubicBezTo>
                <a:cubicBezTo>
                  <a:pt x="599" y="802"/>
                  <a:pt x="612" y="807"/>
                  <a:pt x="640" y="804"/>
                </a:cubicBezTo>
                <a:cubicBezTo>
                  <a:pt x="651" y="759"/>
                  <a:pt x="677" y="771"/>
                  <a:pt x="724" y="768"/>
                </a:cubicBezTo>
                <a:cubicBezTo>
                  <a:pt x="755" y="747"/>
                  <a:pt x="739" y="755"/>
                  <a:pt x="772" y="744"/>
                </a:cubicBezTo>
                <a:cubicBezTo>
                  <a:pt x="776" y="743"/>
                  <a:pt x="784" y="740"/>
                  <a:pt x="784" y="740"/>
                </a:cubicBezTo>
                <a:cubicBezTo>
                  <a:pt x="802" y="713"/>
                  <a:pt x="792" y="715"/>
                  <a:pt x="828" y="708"/>
                </a:cubicBezTo>
                <a:cubicBezTo>
                  <a:pt x="839" y="691"/>
                  <a:pt x="846" y="694"/>
                  <a:pt x="852" y="712"/>
                </a:cubicBezTo>
                <a:cubicBezTo>
                  <a:pt x="876" y="704"/>
                  <a:pt x="875" y="678"/>
                  <a:pt x="896" y="664"/>
                </a:cubicBezTo>
                <a:cubicBezTo>
                  <a:pt x="908" y="629"/>
                  <a:pt x="916" y="645"/>
                  <a:pt x="924" y="668"/>
                </a:cubicBezTo>
                <a:cubicBezTo>
                  <a:pt x="933" y="667"/>
                  <a:pt x="947" y="672"/>
                  <a:pt x="952" y="664"/>
                </a:cubicBezTo>
                <a:cubicBezTo>
                  <a:pt x="958" y="656"/>
                  <a:pt x="943" y="617"/>
                  <a:pt x="940" y="608"/>
                </a:cubicBezTo>
                <a:cubicBezTo>
                  <a:pt x="937" y="600"/>
                  <a:pt x="932" y="584"/>
                  <a:pt x="932" y="584"/>
                </a:cubicBezTo>
                <a:cubicBezTo>
                  <a:pt x="943" y="541"/>
                  <a:pt x="961" y="582"/>
                  <a:pt x="980" y="588"/>
                </a:cubicBezTo>
                <a:cubicBezTo>
                  <a:pt x="989" y="602"/>
                  <a:pt x="1000" y="609"/>
                  <a:pt x="980" y="616"/>
                </a:cubicBezTo>
                <a:cubicBezTo>
                  <a:pt x="975" y="631"/>
                  <a:pt x="972" y="643"/>
                  <a:pt x="992" y="636"/>
                </a:cubicBezTo>
                <a:cubicBezTo>
                  <a:pt x="993" y="632"/>
                  <a:pt x="994" y="628"/>
                  <a:pt x="996" y="624"/>
                </a:cubicBezTo>
                <a:cubicBezTo>
                  <a:pt x="1010" y="595"/>
                  <a:pt x="1008" y="628"/>
                  <a:pt x="1016" y="636"/>
                </a:cubicBezTo>
                <a:cubicBezTo>
                  <a:pt x="1019" y="639"/>
                  <a:pt x="1024" y="639"/>
                  <a:pt x="1028" y="640"/>
                </a:cubicBezTo>
                <a:cubicBezTo>
                  <a:pt x="1037" y="639"/>
                  <a:pt x="1051" y="644"/>
                  <a:pt x="1056" y="636"/>
                </a:cubicBezTo>
                <a:cubicBezTo>
                  <a:pt x="1061" y="629"/>
                  <a:pt x="1048" y="612"/>
                  <a:pt x="1048" y="612"/>
                </a:cubicBezTo>
                <a:cubicBezTo>
                  <a:pt x="1052" y="609"/>
                  <a:pt x="1055" y="603"/>
                  <a:pt x="1060" y="604"/>
                </a:cubicBezTo>
                <a:cubicBezTo>
                  <a:pt x="1083" y="608"/>
                  <a:pt x="1062" y="631"/>
                  <a:pt x="1080" y="604"/>
                </a:cubicBezTo>
                <a:cubicBezTo>
                  <a:pt x="1081" y="595"/>
                  <a:pt x="1075" y="580"/>
                  <a:pt x="1084" y="576"/>
                </a:cubicBezTo>
                <a:cubicBezTo>
                  <a:pt x="1093" y="572"/>
                  <a:pt x="1108" y="592"/>
                  <a:pt x="1108" y="592"/>
                </a:cubicBezTo>
                <a:cubicBezTo>
                  <a:pt x="1140" y="571"/>
                  <a:pt x="1122" y="577"/>
                  <a:pt x="1160" y="572"/>
                </a:cubicBezTo>
                <a:cubicBezTo>
                  <a:pt x="1175" y="562"/>
                  <a:pt x="1186" y="558"/>
                  <a:pt x="1204" y="564"/>
                </a:cubicBezTo>
                <a:cubicBezTo>
                  <a:pt x="1221" y="563"/>
                  <a:pt x="1239" y="563"/>
                  <a:pt x="1256" y="560"/>
                </a:cubicBezTo>
                <a:cubicBezTo>
                  <a:pt x="1264" y="558"/>
                  <a:pt x="1273" y="547"/>
                  <a:pt x="1276" y="540"/>
                </a:cubicBezTo>
                <a:cubicBezTo>
                  <a:pt x="1286" y="517"/>
                  <a:pt x="1300" y="492"/>
                  <a:pt x="1308" y="468"/>
                </a:cubicBezTo>
                <a:cubicBezTo>
                  <a:pt x="1310" y="455"/>
                  <a:pt x="1318" y="442"/>
                  <a:pt x="1316" y="428"/>
                </a:cubicBezTo>
                <a:cubicBezTo>
                  <a:pt x="1313" y="404"/>
                  <a:pt x="1296" y="384"/>
                  <a:pt x="1280" y="368"/>
                </a:cubicBezTo>
                <a:cubicBezTo>
                  <a:pt x="1262" y="351"/>
                  <a:pt x="1235" y="304"/>
                  <a:pt x="1220" y="296"/>
                </a:cubicBezTo>
                <a:cubicBezTo>
                  <a:pt x="1205" y="288"/>
                  <a:pt x="1215" y="315"/>
                  <a:pt x="1192" y="320"/>
                </a:cubicBezTo>
                <a:cubicBezTo>
                  <a:pt x="1155" y="321"/>
                  <a:pt x="1116" y="316"/>
                  <a:pt x="1080" y="324"/>
                </a:cubicBezTo>
                <a:cubicBezTo>
                  <a:pt x="1067" y="327"/>
                  <a:pt x="1065" y="348"/>
                  <a:pt x="1052" y="352"/>
                </a:cubicBezTo>
                <a:cubicBezTo>
                  <a:pt x="1036" y="351"/>
                  <a:pt x="1019" y="353"/>
                  <a:pt x="1004" y="348"/>
                </a:cubicBezTo>
                <a:cubicBezTo>
                  <a:pt x="984" y="342"/>
                  <a:pt x="1016" y="305"/>
                  <a:pt x="1024" y="300"/>
                </a:cubicBezTo>
                <a:cubicBezTo>
                  <a:pt x="1021" y="268"/>
                  <a:pt x="1030" y="246"/>
                  <a:pt x="1000" y="236"/>
                </a:cubicBezTo>
                <a:cubicBezTo>
                  <a:pt x="968" y="247"/>
                  <a:pt x="984" y="245"/>
                  <a:pt x="952" y="240"/>
                </a:cubicBezTo>
                <a:cubicBezTo>
                  <a:pt x="939" y="221"/>
                  <a:pt x="931" y="197"/>
                  <a:pt x="912" y="184"/>
                </a:cubicBezTo>
                <a:cubicBezTo>
                  <a:pt x="904" y="169"/>
                  <a:pt x="925" y="162"/>
                  <a:pt x="924" y="148"/>
                </a:cubicBezTo>
                <a:cubicBezTo>
                  <a:pt x="923" y="134"/>
                  <a:pt x="909" y="114"/>
                  <a:pt x="908" y="100"/>
                </a:cubicBezTo>
                <a:cubicBezTo>
                  <a:pt x="905" y="87"/>
                  <a:pt x="955" y="73"/>
                  <a:pt x="920" y="64"/>
                </a:cubicBezTo>
                <a:cubicBezTo>
                  <a:pt x="921" y="55"/>
                  <a:pt x="953" y="47"/>
                  <a:pt x="916" y="44"/>
                </a:cubicBezTo>
                <a:cubicBezTo>
                  <a:pt x="879" y="41"/>
                  <a:pt x="763" y="46"/>
                  <a:pt x="700" y="44"/>
                </a:cubicBezTo>
                <a:cubicBezTo>
                  <a:pt x="627" y="26"/>
                  <a:pt x="679" y="36"/>
                  <a:pt x="540" y="32"/>
                </a:cubicBezTo>
                <a:cubicBezTo>
                  <a:pt x="507" y="21"/>
                  <a:pt x="471" y="16"/>
                  <a:pt x="440" y="0"/>
                </a:cubicBezTo>
                <a:close/>
              </a:path>
            </a:pathLst>
          </a:custGeom>
          <a:solidFill>
            <a:srgbClr val="0000ff">
              <a:alpha val="70000"/>
            </a:srgbClr>
          </a:solidFill>
          <a:ln w="38160">
            <a:solidFill>
              <a:srgbClr val="ff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06720" y="2577960"/>
            <a:ext cx="1297080" cy="2506680"/>
          </a:xfrm>
          <a:custGeom>
            <a:avLst/>
            <a:gdLst/>
            <a:ahLst/>
            <a:rect l="l" t="t" r="r" b="b"/>
            <a:pathLst>
              <a:path w="817" h="1579">
                <a:moveTo>
                  <a:pt x="696" y="0"/>
                </a:moveTo>
                <a:cubicBezTo>
                  <a:pt x="673" y="6"/>
                  <a:pt x="665" y="10"/>
                  <a:pt x="644" y="24"/>
                </a:cubicBezTo>
                <a:cubicBezTo>
                  <a:pt x="640" y="27"/>
                  <a:pt x="632" y="32"/>
                  <a:pt x="632" y="32"/>
                </a:cubicBezTo>
                <a:cubicBezTo>
                  <a:pt x="629" y="36"/>
                  <a:pt x="627" y="41"/>
                  <a:pt x="624" y="44"/>
                </a:cubicBezTo>
                <a:cubicBezTo>
                  <a:pt x="621" y="47"/>
                  <a:pt x="615" y="48"/>
                  <a:pt x="612" y="52"/>
                </a:cubicBezTo>
                <a:cubicBezTo>
                  <a:pt x="600" y="67"/>
                  <a:pt x="601" y="85"/>
                  <a:pt x="580" y="92"/>
                </a:cubicBezTo>
                <a:cubicBezTo>
                  <a:pt x="577" y="96"/>
                  <a:pt x="576" y="101"/>
                  <a:pt x="572" y="104"/>
                </a:cubicBezTo>
                <a:cubicBezTo>
                  <a:pt x="565" y="108"/>
                  <a:pt x="548" y="112"/>
                  <a:pt x="548" y="112"/>
                </a:cubicBezTo>
                <a:cubicBezTo>
                  <a:pt x="525" y="146"/>
                  <a:pt x="556" y="106"/>
                  <a:pt x="528" y="128"/>
                </a:cubicBezTo>
                <a:cubicBezTo>
                  <a:pt x="524" y="131"/>
                  <a:pt x="523" y="137"/>
                  <a:pt x="520" y="140"/>
                </a:cubicBezTo>
                <a:cubicBezTo>
                  <a:pt x="517" y="143"/>
                  <a:pt x="512" y="145"/>
                  <a:pt x="508" y="148"/>
                </a:cubicBezTo>
                <a:cubicBezTo>
                  <a:pt x="492" y="172"/>
                  <a:pt x="485" y="182"/>
                  <a:pt x="476" y="208"/>
                </a:cubicBezTo>
                <a:cubicBezTo>
                  <a:pt x="473" y="216"/>
                  <a:pt x="471" y="224"/>
                  <a:pt x="468" y="232"/>
                </a:cubicBezTo>
                <a:cubicBezTo>
                  <a:pt x="467" y="236"/>
                  <a:pt x="464" y="244"/>
                  <a:pt x="464" y="244"/>
                </a:cubicBezTo>
                <a:cubicBezTo>
                  <a:pt x="466" y="257"/>
                  <a:pt x="461" y="276"/>
                  <a:pt x="472" y="284"/>
                </a:cubicBezTo>
                <a:cubicBezTo>
                  <a:pt x="479" y="289"/>
                  <a:pt x="511" y="301"/>
                  <a:pt x="520" y="304"/>
                </a:cubicBezTo>
                <a:cubicBezTo>
                  <a:pt x="528" y="327"/>
                  <a:pt x="515" y="339"/>
                  <a:pt x="508" y="360"/>
                </a:cubicBezTo>
                <a:cubicBezTo>
                  <a:pt x="513" y="398"/>
                  <a:pt x="531" y="446"/>
                  <a:pt x="492" y="472"/>
                </a:cubicBezTo>
                <a:cubicBezTo>
                  <a:pt x="487" y="487"/>
                  <a:pt x="484" y="489"/>
                  <a:pt x="492" y="508"/>
                </a:cubicBezTo>
                <a:cubicBezTo>
                  <a:pt x="496" y="517"/>
                  <a:pt x="508" y="532"/>
                  <a:pt x="508" y="532"/>
                </a:cubicBezTo>
                <a:cubicBezTo>
                  <a:pt x="503" y="552"/>
                  <a:pt x="499" y="554"/>
                  <a:pt x="480" y="560"/>
                </a:cubicBezTo>
                <a:cubicBezTo>
                  <a:pt x="474" y="577"/>
                  <a:pt x="476" y="596"/>
                  <a:pt x="468" y="612"/>
                </a:cubicBezTo>
                <a:cubicBezTo>
                  <a:pt x="466" y="616"/>
                  <a:pt x="460" y="615"/>
                  <a:pt x="456" y="616"/>
                </a:cubicBezTo>
                <a:cubicBezTo>
                  <a:pt x="440" y="618"/>
                  <a:pt x="424" y="619"/>
                  <a:pt x="408" y="620"/>
                </a:cubicBezTo>
                <a:cubicBezTo>
                  <a:pt x="392" y="645"/>
                  <a:pt x="382" y="631"/>
                  <a:pt x="360" y="624"/>
                </a:cubicBezTo>
                <a:cubicBezTo>
                  <a:pt x="347" y="643"/>
                  <a:pt x="354" y="631"/>
                  <a:pt x="344" y="660"/>
                </a:cubicBezTo>
                <a:cubicBezTo>
                  <a:pt x="343" y="663"/>
                  <a:pt x="316" y="667"/>
                  <a:pt x="308" y="668"/>
                </a:cubicBezTo>
                <a:cubicBezTo>
                  <a:pt x="289" y="670"/>
                  <a:pt x="271" y="671"/>
                  <a:pt x="252" y="672"/>
                </a:cubicBezTo>
                <a:cubicBezTo>
                  <a:pt x="248" y="675"/>
                  <a:pt x="245" y="679"/>
                  <a:pt x="240" y="680"/>
                </a:cubicBezTo>
                <a:cubicBezTo>
                  <a:pt x="220" y="683"/>
                  <a:pt x="199" y="677"/>
                  <a:pt x="180" y="684"/>
                </a:cubicBezTo>
                <a:cubicBezTo>
                  <a:pt x="170" y="688"/>
                  <a:pt x="156" y="719"/>
                  <a:pt x="152" y="732"/>
                </a:cubicBezTo>
                <a:cubicBezTo>
                  <a:pt x="158" y="775"/>
                  <a:pt x="187" y="804"/>
                  <a:pt x="200" y="844"/>
                </a:cubicBezTo>
                <a:cubicBezTo>
                  <a:pt x="190" y="896"/>
                  <a:pt x="209" y="833"/>
                  <a:pt x="124" y="868"/>
                </a:cubicBezTo>
                <a:cubicBezTo>
                  <a:pt x="117" y="871"/>
                  <a:pt x="124" y="885"/>
                  <a:pt x="128" y="892"/>
                </a:cubicBezTo>
                <a:cubicBezTo>
                  <a:pt x="135" y="907"/>
                  <a:pt x="156" y="912"/>
                  <a:pt x="164" y="936"/>
                </a:cubicBezTo>
                <a:cubicBezTo>
                  <a:pt x="159" y="980"/>
                  <a:pt x="163" y="974"/>
                  <a:pt x="124" y="980"/>
                </a:cubicBezTo>
                <a:cubicBezTo>
                  <a:pt x="113" y="997"/>
                  <a:pt x="117" y="1000"/>
                  <a:pt x="128" y="1016"/>
                </a:cubicBezTo>
                <a:cubicBezTo>
                  <a:pt x="129" y="1025"/>
                  <a:pt x="128" y="1036"/>
                  <a:pt x="132" y="1044"/>
                </a:cubicBezTo>
                <a:cubicBezTo>
                  <a:pt x="134" y="1048"/>
                  <a:pt x="141" y="1045"/>
                  <a:pt x="144" y="1048"/>
                </a:cubicBezTo>
                <a:cubicBezTo>
                  <a:pt x="155" y="1057"/>
                  <a:pt x="167" y="1093"/>
                  <a:pt x="172" y="1108"/>
                </a:cubicBezTo>
                <a:cubicBezTo>
                  <a:pt x="171" y="1121"/>
                  <a:pt x="172" y="1135"/>
                  <a:pt x="168" y="1148"/>
                </a:cubicBezTo>
                <a:cubicBezTo>
                  <a:pt x="166" y="1153"/>
                  <a:pt x="159" y="1153"/>
                  <a:pt x="156" y="1156"/>
                </a:cubicBezTo>
                <a:cubicBezTo>
                  <a:pt x="99" y="1213"/>
                  <a:pt x="113" y="1203"/>
                  <a:pt x="24" y="1208"/>
                </a:cubicBezTo>
                <a:cubicBezTo>
                  <a:pt x="1" y="1216"/>
                  <a:pt x="7" y="1239"/>
                  <a:pt x="0" y="1260"/>
                </a:cubicBezTo>
                <a:cubicBezTo>
                  <a:pt x="5" y="1281"/>
                  <a:pt x="11" y="1297"/>
                  <a:pt x="32" y="1304"/>
                </a:cubicBezTo>
                <a:cubicBezTo>
                  <a:pt x="53" y="1335"/>
                  <a:pt x="32" y="1379"/>
                  <a:pt x="64" y="1400"/>
                </a:cubicBezTo>
                <a:cubicBezTo>
                  <a:pt x="46" y="1405"/>
                  <a:pt x="38" y="1406"/>
                  <a:pt x="32" y="1424"/>
                </a:cubicBezTo>
                <a:cubicBezTo>
                  <a:pt x="42" y="1437"/>
                  <a:pt x="97" y="1540"/>
                  <a:pt x="140" y="1548"/>
                </a:cubicBezTo>
                <a:cubicBezTo>
                  <a:pt x="187" y="1571"/>
                  <a:pt x="268" y="1556"/>
                  <a:pt x="312" y="1560"/>
                </a:cubicBezTo>
                <a:cubicBezTo>
                  <a:pt x="356" y="1560"/>
                  <a:pt x="376" y="1569"/>
                  <a:pt x="404" y="1572"/>
                </a:cubicBezTo>
                <a:cubicBezTo>
                  <a:pt x="432" y="1575"/>
                  <a:pt x="453" y="1576"/>
                  <a:pt x="480" y="1576"/>
                </a:cubicBezTo>
                <a:cubicBezTo>
                  <a:pt x="494" y="1579"/>
                  <a:pt x="564" y="1572"/>
                  <a:pt x="564" y="1572"/>
                </a:cubicBezTo>
                <a:cubicBezTo>
                  <a:pt x="591" y="1571"/>
                  <a:pt x="578" y="1489"/>
                  <a:pt x="604" y="1484"/>
                </a:cubicBezTo>
                <a:cubicBezTo>
                  <a:pt x="608" y="1483"/>
                  <a:pt x="608" y="1476"/>
                  <a:pt x="608" y="1472"/>
                </a:cubicBezTo>
                <a:cubicBezTo>
                  <a:pt x="608" y="1413"/>
                  <a:pt x="605" y="1418"/>
                  <a:pt x="580" y="1380"/>
                </a:cubicBezTo>
                <a:cubicBezTo>
                  <a:pt x="587" y="1360"/>
                  <a:pt x="613" y="1354"/>
                  <a:pt x="632" y="1348"/>
                </a:cubicBezTo>
                <a:cubicBezTo>
                  <a:pt x="641" y="1345"/>
                  <a:pt x="656" y="1332"/>
                  <a:pt x="656" y="1332"/>
                </a:cubicBezTo>
                <a:cubicBezTo>
                  <a:pt x="666" y="1317"/>
                  <a:pt x="680" y="1266"/>
                  <a:pt x="696" y="1264"/>
                </a:cubicBezTo>
                <a:cubicBezTo>
                  <a:pt x="733" y="1260"/>
                  <a:pt x="771" y="1261"/>
                  <a:pt x="808" y="1260"/>
                </a:cubicBezTo>
                <a:cubicBezTo>
                  <a:pt x="811" y="1252"/>
                  <a:pt x="817" y="1240"/>
                  <a:pt x="808" y="1232"/>
                </a:cubicBezTo>
                <a:cubicBezTo>
                  <a:pt x="802" y="1227"/>
                  <a:pt x="784" y="1224"/>
                  <a:pt x="784" y="1224"/>
                </a:cubicBezTo>
                <a:cubicBezTo>
                  <a:pt x="763" y="1162"/>
                  <a:pt x="808" y="1103"/>
                  <a:pt x="740" y="1080"/>
                </a:cubicBezTo>
                <a:cubicBezTo>
                  <a:pt x="728" y="1068"/>
                  <a:pt x="721" y="1060"/>
                  <a:pt x="716" y="1044"/>
                </a:cubicBezTo>
                <a:cubicBezTo>
                  <a:pt x="726" y="1030"/>
                  <a:pt x="734" y="1030"/>
                  <a:pt x="744" y="1016"/>
                </a:cubicBezTo>
                <a:cubicBezTo>
                  <a:pt x="745" y="1011"/>
                  <a:pt x="748" y="1005"/>
                  <a:pt x="748" y="1000"/>
                </a:cubicBezTo>
                <a:cubicBezTo>
                  <a:pt x="748" y="926"/>
                  <a:pt x="737" y="929"/>
                  <a:pt x="668" y="924"/>
                </a:cubicBezTo>
                <a:cubicBezTo>
                  <a:pt x="654" y="915"/>
                  <a:pt x="648" y="904"/>
                  <a:pt x="636" y="892"/>
                </a:cubicBezTo>
                <a:cubicBezTo>
                  <a:pt x="626" y="862"/>
                  <a:pt x="641" y="867"/>
                  <a:pt x="672" y="864"/>
                </a:cubicBezTo>
                <a:cubicBezTo>
                  <a:pt x="675" y="846"/>
                  <a:pt x="682" y="778"/>
                  <a:pt x="688" y="772"/>
                </a:cubicBezTo>
                <a:cubicBezTo>
                  <a:pt x="694" y="766"/>
                  <a:pt x="705" y="765"/>
                  <a:pt x="712" y="760"/>
                </a:cubicBezTo>
                <a:cubicBezTo>
                  <a:pt x="744" y="765"/>
                  <a:pt x="733" y="766"/>
                  <a:pt x="748" y="788"/>
                </a:cubicBezTo>
                <a:cubicBezTo>
                  <a:pt x="756" y="787"/>
                  <a:pt x="777" y="786"/>
                  <a:pt x="784" y="776"/>
                </a:cubicBezTo>
                <a:cubicBezTo>
                  <a:pt x="788" y="769"/>
                  <a:pt x="789" y="760"/>
                  <a:pt x="792" y="752"/>
                </a:cubicBezTo>
                <a:cubicBezTo>
                  <a:pt x="793" y="748"/>
                  <a:pt x="796" y="740"/>
                  <a:pt x="796" y="740"/>
                </a:cubicBezTo>
                <a:cubicBezTo>
                  <a:pt x="787" y="713"/>
                  <a:pt x="799" y="742"/>
                  <a:pt x="780" y="720"/>
                </a:cubicBezTo>
                <a:cubicBezTo>
                  <a:pt x="751" y="687"/>
                  <a:pt x="759" y="686"/>
                  <a:pt x="708" y="680"/>
                </a:cubicBezTo>
                <a:cubicBezTo>
                  <a:pt x="696" y="676"/>
                  <a:pt x="684" y="668"/>
                  <a:pt x="672" y="664"/>
                </a:cubicBezTo>
                <a:cubicBezTo>
                  <a:pt x="660" y="660"/>
                  <a:pt x="648" y="660"/>
                  <a:pt x="636" y="656"/>
                </a:cubicBezTo>
                <a:cubicBezTo>
                  <a:pt x="639" y="642"/>
                  <a:pt x="648" y="616"/>
                  <a:pt x="648" y="616"/>
                </a:cubicBezTo>
                <a:cubicBezTo>
                  <a:pt x="650" y="596"/>
                  <a:pt x="656" y="576"/>
                  <a:pt x="656" y="556"/>
                </a:cubicBezTo>
                <a:cubicBezTo>
                  <a:pt x="656" y="532"/>
                  <a:pt x="639" y="513"/>
                  <a:pt x="632" y="492"/>
                </a:cubicBezTo>
                <a:cubicBezTo>
                  <a:pt x="633" y="481"/>
                  <a:pt x="632" y="470"/>
                  <a:pt x="636" y="460"/>
                </a:cubicBezTo>
                <a:cubicBezTo>
                  <a:pt x="640" y="451"/>
                  <a:pt x="652" y="449"/>
                  <a:pt x="656" y="440"/>
                </a:cubicBezTo>
                <a:cubicBezTo>
                  <a:pt x="661" y="430"/>
                  <a:pt x="683" y="413"/>
                  <a:pt x="688" y="404"/>
                </a:cubicBezTo>
                <a:cubicBezTo>
                  <a:pt x="693" y="395"/>
                  <a:pt x="674" y="396"/>
                  <a:pt x="684" y="384"/>
                </a:cubicBezTo>
                <a:cubicBezTo>
                  <a:pt x="692" y="351"/>
                  <a:pt x="722" y="349"/>
                  <a:pt x="748" y="332"/>
                </a:cubicBezTo>
                <a:cubicBezTo>
                  <a:pt x="761" y="319"/>
                  <a:pt x="764" y="317"/>
                  <a:pt x="768" y="308"/>
                </a:cubicBezTo>
                <a:cubicBezTo>
                  <a:pt x="772" y="299"/>
                  <a:pt x="768" y="290"/>
                  <a:pt x="772" y="280"/>
                </a:cubicBezTo>
                <a:cubicBezTo>
                  <a:pt x="774" y="272"/>
                  <a:pt x="792" y="248"/>
                  <a:pt x="792" y="248"/>
                </a:cubicBezTo>
                <a:cubicBezTo>
                  <a:pt x="793" y="237"/>
                  <a:pt x="785" y="226"/>
                  <a:pt x="784" y="212"/>
                </a:cubicBezTo>
                <a:cubicBezTo>
                  <a:pt x="783" y="198"/>
                  <a:pt x="782" y="176"/>
                  <a:pt x="784" y="164"/>
                </a:cubicBezTo>
                <a:cubicBezTo>
                  <a:pt x="785" y="159"/>
                  <a:pt x="796" y="145"/>
                  <a:pt x="796" y="140"/>
                </a:cubicBezTo>
                <a:cubicBezTo>
                  <a:pt x="796" y="137"/>
                  <a:pt x="775" y="62"/>
                  <a:pt x="772" y="56"/>
                </a:cubicBezTo>
                <a:cubicBezTo>
                  <a:pt x="769" y="48"/>
                  <a:pt x="754" y="47"/>
                  <a:pt x="748" y="44"/>
                </a:cubicBezTo>
                <a:cubicBezTo>
                  <a:pt x="735" y="37"/>
                  <a:pt x="712" y="20"/>
                  <a:pt x="712" y="20"/>
                </a:cubicBezTo>
                <a:cubicBezTo>
                  <a:pt x="709" y="16"/>
                  <a:pt x="708" y="11"/>
                  <a:pt x="704" y="8"/>
                </a:cubicBezTo>
                <a:cubicBezTo>
                  <a:pt x="694" y="0"/>
                  <a:pt x="687" y="9"/>
                  <a:pt x="696" y="0"/>
                </a:cubicBezTo>
                <a:close/>
              </a:path>
            </a:pathLst>
          </a:custGeom>
          <a:solidFill>
            <a:srgbClr val="808000">
              <a:alpha val="6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565360"/>
            <a:ext cx="1297080" cy="2506680"/>
          </a:xfrm>
          <a:custGeom>
            <a:avLst/>
            <a:gdLst/>
            <a:ahLst/>
            <a:rect l="l" t="t" r="r" b="b"/>
            <a:pathLst>
              <a:path w="817" h="1579">
                <a:moveTo>
                  <a:pt x="696" y="0"/>
                </a:moveTo>
                <a:cubicBezTo>
                  <a:pt x="673" y="6"/>
                  <a:pt x="665" y="10"/>
                  <a:pt x="644" y="24"/>
                </a:cubicBezTo>
                <a:cubicBezTo>
                  <a:pt x="640" y="27"/>
                  <a:pt x="632" y="32"/>
                  <a:pt x="632" y="32"/>
                </a:cubicBezTo>
                <a:cubicBezTo>
                  <a:pt x="629" y="36"/>
                  <a:pt x="627" y="41"/>
                  <a:pt x="624" y="44"/>
                </a:cubicBezTo>
                <a:cubicBezTo>
                  <a:pt x="621" y="47"/>
                  <a:pt x="615" y="48"/>
                  <a:pt x="612" y="52"/>
                </a:cubicBezTo>
                <a:cubicBezTo>
                  <a:pt x="600" y="67"/>
                  <a:pt x="601" y="85"/>
                  <a:pt x="580" y="92"/>
                </a:cubicBezTo>
                <a:cubicBezTo>
                  <a:pt x="577" y="96"/>
                  <a:pt x="576" y="101"/>
                  <a:pt x="572" y="104"/>
                </a:cubicBezTo>
                <a:cubicBezTo>
                  <a:pt x="565" y="108"/>
                  <a:pt x="548" y="112"/>
                  <a:pt x="548" y="112"/>
                </a:cubicBezTo>
                <a:cubicBezTo>
                  <a:pt x="525" y="146"/>
                  <a:pt x="556" y="106"/>
                  <a:pt x="528" y="128"/>
                </a:cubicBezTo>
                <a:cubicBezTo>
                  <a:pt x="524" y="131"/>
                  <a:pt x="523" y="137"/>
                  <a:pt x="520" y="140"/>
                </a:cubicBezTo>
                <a:cubicBezTo>
                  <a:pt x="517" y="143"/>
                  <a:pt x="512" y="145"/>
                  <a:pt x="508" y="148"/>
                </a:cubicBezTo>
                <a:cubicBezTo>
                  <a:pt x="492" y="172"/>
                  <a:pt x="485" y="182"/>
                  <a:pt x="476" y="208"/>
                </a:cubicBezTo>
                <a:cubicBezTo>
                  <a:pt x="473" y="216"/>
                  <a:pt x="471" y="224"/>
                  <a:pt x="468" y="232"/>
                </a:cubicBezTo>
                <a:cubicBezTo>
                  <a:pt x="467" y="236"/>
                  <a:pt x="464" y="244"/>
                  <a:pt x="464" y="244"/>
                </a:cubicBezTo>
                <a:cubicBezTo>
                  <a:pt x="466" y="257"/>
                  <a:pt x="461" y="276"/>
                  <a:pt x="472" y="284"/>
                </a:cubicBezTo>
                <a:cubicBezTo>
                  <a:pt x="479" y="289"/>
                  <a:pt x="511" y="301"/>
                  <a:pt x="520" y="304"/>
                </a:cubicBezTo>
                <a:cubicBezTo>
                  <a:pt x="528" y="327"/>
                  <a:pt x="515" y="339"/>
                  <a:pt x="508" y="360"/>
                </a:cubicBezTo>
                <a:cubicBezTo>
                  <a:pt x="513" y="398"/>
                  <a:pt x="531" y="446"/>
                  <a:pt x="492" y="472"/>
                </a:cubicBezTo>
                <a:cubicBezTo>
                  <a:pt x="487" y="487"/>
                  <a:pt x="484" y="489"/>
                  <a:pt x="492" y="508"/>
                </a:cubicBezTo>
                <a:cubicBezTo>
                  <a:pt x="496" y="517"/>
                  <a:pt x="508" y="532"/>
                  <a:pt x="508" y="532"/>
                </a:cubicBezTo>
                <a:cubicBezTo>
                  <a:pt x="503" y="552"/>
                  <a:pt x="499" y="554"/>
                  <a:pt x="480" y="560"/>
                </a:cubicBezTo>
                <a:cubicBezTo>
                  <a:pt x="474" y="577"/>
                  <a:pt x="476" y="596"/>
                  <a:pt x="468" y="612"/>
                </a:cubicBezTo>
                <a:cubicBezTo>
                  <a:pt x="466" y="616"/>
                  <a:pt x="460" y="615"/>
                  <a:pt x="456" y="616"/>
                </a:cubicBezTo>
                <a:cubicBezTo>
                  <a:pt x="440" y="618"/>
                  <a:pt x="424" y="619"/>
                  <a:pt x="408" y="620"/>
                </a:cubicBezTo>
                <a:cubicBezTo>
                  <a:pt x="392" y="645"/>
                  <a:pt x="382" y="631"/>
                  <a:pt x="360" y="624"/>
                </a:cubicBezTo>
                <a:cubicBezTo>
                  <a:pt x="347" y="643"/>
                  <a:pt x="354" y="631"/>
                  <a:pt x="344" y="660"/>
                </a:cubicBezTo>
                <a:cubicBezTo>
                  <a:pt x="343" y="663"/>
                  <a:pt x="316" y="667"/>
                  <a:pt x="308" y="668"/>
                </a:cubicBezTo>
                <a:cubicBezTo>
                  <a:pt x="289" y="670"/>
                  <a:pt x="271" y="671"/>
                  <a:pt x="252" y="672"/>
                </a:cubicBezTo>
                <a:cubicBezTo>
                  <a:pt x="248" y="675"/>
                  <a:pt x="245" y="679"/>
                  <a:pt x="240" y="680"/>
                </a:cubicBezTo>
                <a:cubicBezTo>
                  <a:pt x="220" y="683"/>
                  <a:pt x="199" y="677"/>
                  <a:pt x="180" y="684"/>
                </a:cubicBezTo>
                <a:cubicBezTo>
                  <a:pt x="170" y="688"/>
                  <a:pt x="156" y="719"/>
                  <a:pt x="152" y="732"/>
                </a:cubicBezTo>
                <a:cubicBezTo>
                  <a:pt x="158" y="775"/>
                  <a:pt x="187" y="804"/>
                  <a:pt x="200" y="844"/>
                </a:cubicBezTo>
                <a:cubicBezTo>
                  <a:pt x="190" y="896"/>
                  <a:pt x="209" y="833"/>
                  <a:pt x="124" y="868"/>
                </a:cubicBezTo>
                <a:cubicBezTo>
                  <a:pt x="117" y="871"/>
                  <a:pt x="124" y="885"/>
                  <a:pt x="128" y="892"/>
                </a:cubicBezTo>
                <a:cubicBezTo>
                  <a:pt x="135" y="907"/>
                  <a:pt x="156" y="912"/>
                  <a:pt x="164" y="936"/>
                </a:cubicBezTo>
                <a:cubicBezTo>
                  <a:pt x="159" y="980"/>
                  <a:pt x="163" y="974"/>
                  <a:pt x="124" y="980"/>
                </a:cubicBezTo>
                <a:cubicBezTo>
                  <a:pt x="113" y="997"/>
                  <a:pt x="117" y="1000"/>
                  <a:pt x="128" y="1016"/>
                </a:cubicBezTo>
                <a:cubicBezTo>
                  <a:pt x="129" y="1025"/>
                  <a:pt x="128" y="1036"/>
                  <a:pt x="132" y="1044"/>
                </a:cubicBezTo>
                <a:cubicBezTo>
                  <a:pt x="134" y="1048"/>
                  <a:pt x="141" y="1045"/>
                  <a:pt x="144" y="1048"/>
                </a:cubicBezTo>
                <a:cubicBezTo>
                  <a:pt x="155" y="1057"/>
                  <a:pt x="167" y="1093"/>
                  <a:pt x="172" y="1108"/>
                </a:cubicBezTo>
                <a:cubicBezTo>
                  <a:pt x="171" y="1121"/>
                  <a:pt x="172" y="1135"/>
                  <a:pt x="168" y="1148"/>
                </a:cubicBezTo>
                <a:cubicBezTo>
                  <a:pt x="166" y="1153"/>
                  <a:pt x="159" y="1153"/>
                  <a:pt x="156" y="1156"/>
                </a:cubicBezTo>
                <a:cubicBezTo>
                  <a:pt x="99" y="1213"/>
                  <a:pt x="113" y="1203"/>
                  <a:pt x="24" y="1208"/>
                </a:cubicBezTo>
                <a:cubicBezTo>
                  <a:pt x="1" y="1216"/>
                  <a:pt x="7" y="1239"/>
                  <a:pt x="0" y="1260"/>
                </a:cubicBezTo>
                <a:cubicBezTo>
                  <a:pt x="5" y="1281"/>
                  <a:pt x="11" y="1297"/>
                  <a:pt x="32" y="1304"/>
                </a:cubicBezTo>
                <a:cubicBezTo>
                  <a:pt x="53" y="1335"/>
                  <a:pt x="32" y="1379"/>
                  <a:pt x="64" y="1400"/>
                </a:cubicBezTo>
                <a:cubicBezTo>
                  <a:pt x="46" y="1405"/>
                  <a:pt x="38" y="1406"/>
                  <a:pt x="32" y="1424"/>
                </a:cubicBezTo>
                <a:cubicBezTo>
                  <a:pt x="42" y="1437"/>
                  <a:pt x="97" y="1540"/>
                  <a:pt x="140" y="1548"/>
                </a:cubicBezTo>
                <a:cubicBezTo>
                  <a:pt x="187" y="1571"/>
                  <a:pt x="268" y="1556"/>
                  <a:pt x="312" y="1560"/>
                </a:cubicBezTo>
                <a:cubicBezTo>
                  <a:pt x="356" y="1560"/>
                  <a:pt x="376" y="1569"/>
                  <a:pt x="404" y="1572"/>
                </a:cubicBezTo>
                <a:cubicBezTo>
                  <a:pt x="432" y="1575"/>
                  <a:pt x="453" y="1576"/>
                  <a:pt x="480" y="1576"/>
                </a:cubicBezTo>
                <a:cubicBezTo>
                  <a:pt x="494" y="1579"/>
                  <a:pt x="564" y="1572"/>
                  <a:pt x="564" y="1572"/>
                </a:cubicBezTo>
                <a:cubicBezTo>
                  <a:pt x="591" y="1571"/>
                  <a:pt x="578" y="1489"/>
                  <a:pt x="604" y="1484"/>
                </a:cubicBezTo>
                <a:cubicBezTo>
                  <a:pt x="608" y="1483"/>
                  <a:pt x="608" y="1476"/>
                  <a:pt x="608" y="1472"/>
                </a:cubicBezTo>
                <a:cubicBezTo>
                  <a:pt x="608" y="1413"/>
                  <a:pt x="605" y="1418"/>
                  <a:pt x="580" y="1380"/>
                </a:cubicBezTo>
                <a:cubicBezTo>
                  <a:pt x="587" y="1360"/>
                  <a:pt x="613" y="1354"/>
                  <a:pt x="632" y="1348"/>
                </a:cubicBezTo>
                <a:cubicBezTo>
                  <a:pt x="641" y="1345"/>
                  <a:pt x="656" y="1332"/>
                  <a:pt x="656" y="1332"/>
                </a:cubicBezTo>
                <a:cubicBezTo>
                  <a:pt x="666" y="1317"/>
                  <a:pt x="680" y="1266"/>
                  <a:pt x="696" y="1264"/>
                </a:cubicBezTo>
                <a:cubicBezTo>
                  <a:pt x="733" y="1260"/>
                  <a:pt x="771" y="1261"/>
                  <a:pt x="808" y="1260"/>
                </a:cubicBezTo>
                <a:cubicBezTo>
                  <a:pt x="811" y="1252"/>
                  <a:pt x="817" y="1240"/>
                  <a:pt x="808" y="1232"/>
                </a:cubicBezTo>
                <a:cubicBezTo>
                  <a:pt x="802" y="1227"/>
                  <a:pt x="784" y="1224"/>
                  <a:pt x="784" y="1224"/>
                </a:cubicBezTo>
                <a:cubicBezTo>
                  <a:pt x="763" y="1162"/>
                  <a:pt x="808" y="1103"/>
                  <a:pt x="740" y="1080"/>
                </a:cubicBezTo>
                <a:cubicBezTo>
                  <a:pt x="728" y="1068"/>
                  <a:pt x="721" y="1060"/>
                  <a:pt x="716" y="1044"/>
                </a:cubicBezTo>
                <a:cubicBezTo>
                  <a:pt x="726" y="1030"/>
                  <a:pt x="734" y="1030"/>
                  <a:pt x="744" y="1016"/>
                </a:cubicBezTo>
                <a:cubicBezTo>
                  <a:pt x="745" y="1011"/>
                  <a:pt x="748" y="1005"/>
                  <a:pt x="748" y="1000"/>
                </a:cubicBezTo>
                <a:cubicBezTo>
                  <a:pt x="748" y="926"/>
                  <a:pt x="737" y="929"/>
                  <a:pt x="668" y="924"/>
                </a:cubicBezTo>
                <a:cubicBezTo>
                  <a:pt x="654" y="915"/>
                  <a:pt x="648" y="904"/>
                  <a:pt x="636" y="892"/>
                </a:cubicBezTo>
                <a:cubicBezTo>
                  <a:pt x="626" y="862"/>
                  <a:pt x="641" y="867"/>
                  <a:pt x="672" y="864"/>
                </a:cubicBezTo>
                <a:cubicBezTo>
                  <a:pt x="675" y="846"/>
                  <a:pt x="682" y="778"/>
                  <a:pt x="688" y="772"/>
                </a:cubicBezTo>
                <a:cubicBezTo>
                  <a:pt x="694" y="766"/>
                  <a:pt x="705" y="765"/>
                  <a:pt x="712" y="760"/>
                </a:cubicBezTo>
                <a:cubicBezTo>
                  <a:pt x="744" y="765"/>
                  <a:pt x="733" y="766"/>
                  <a:pt x="748" y="788"/>
                </a:cubicBezTo>
                <a:cubicBezTo>
                  <a:pt x="756" y="787"/>
                  <a:pt x="777" y="786"/>
                  <a:pt x="784" y="776"/>
                </a:cubicBezTo>
                <a:cubicBezTo>
                  <a:pt x="788" y="769"/>
                  <a:pt x="789" y="760"/>
                  <a:pt x="792" y="752"/>
                </a:cubicBezTo>
                <a:cubicBezTo>
                  <a:pt x="793" y="748"/>
                  <a:pt x="796" y="740"/>
                  <a:pt x="796" y="740"/>
                </a:cubicBezTo>
                <a:cubicBezTo>
                  <a:pt x="787" y="713"/>
                  <a:pt x="799" y="742"/>
                  <a:pt x="780" y="720"/>
                </a:cubicBezTo>
                <a:cubicBezTo>
                  <a:pt x="751" y="687"/>
                  <a:pt x="759" y="686"/>
                  <a:pt x="708" y="680"/>
                </a:cubicBezTo>
                <a:cubicBezTo>
                  <a:pt x="696" y="676"/>
                  <a:pt x="684" y="668"/>
                  <a:pt x="672" y="664"/>
                </a:cubicBezTo>
                <a:cubicBezTo>
                  <a:pt x="660" y="660"/>
                  <a:pt x="648" y="660"/>
                  <a:pt x="636" y="656"/>
                </a:cubicBezTo>
                <a:cubicBezTo>
                  <a:pt x="639" y="642"/>
                  <a:pt x="648" y="616"/>
                  <a:pt x="648" y="616"/>
                </a:cubicBezTo>
                <a:cubicBezTo>
                  <a:pt x="650" y="596"/>
                  <a:pt x="656" y="576"/>
                  <a:pt x="656" y="556"/>
                </a:cubicBezTo>
                <a:cubicBezTo>
                  <a:pt x="656" y="532"/>
                  <a:pt x="639" y="513"/>
                  <a:pt x="632" y="492"/>
                </a:cubicBezTo>
                <a:cubicBezTo>
                  <a:pt x="633" y="481"/>
                  <a:pt x="632" y="470"/>
                  <a:pt x="636" y="460"/>
                </a:cubicBezTo>
                <a:cubicBezTo>
                  <a:pt x="640" y="451"/>
                  <a:pt x="652" y="449"/>
                  <a:pt x="656" y="440"/>
                </a:cubicBezTo>
                <a:cubicBezTo>
                  <a:pt x="661" y="430"/>
                  <a:pt x="683" y="413"/>
                  <a:pt x="688" y="404"/>
                </a:cubicBezTo>
                <a:cubicBezTo>
                  <a:pt x="693" y="395"/>
                  <a:pt x="674" y="396"/>
                  <a:pt x="684" y="384"/>
                </a:cubicBezTo>
                <a:cubicBezTo>
                  <a:pt x="692" y="351"/>
                  <a:pt x="722" y="349"/>
                  <a:pt x="748" y="332"/>
                </a:cubicBezTo>
                <a:cubicBezTo>
                  <a:pt x="761" y="319"/>
                  <a:pt x="764" y="317"/>
                  <a:pt x="768" y="308"/>
                </a:cubicBezTo>
                <a:cubicBezTo>
                  <a:pt x="772" y="299"/>
                  <a:pt x="768" y="290"/>
                  <a:pt x="772" y="280"/>
                </a:cubicBezTo>
                <a:cubicBezTo>
                  <a:pt x="774" y="272"/>
                  <a:pt x="792" y="248"/>
                  <a:pt x="792" y="248"/>
                </a:cubicBezTo>
                <a:cubicBezTo>
                  <a:pt x="793" y="237"/>
                  <a:pt x="785" y="226"/>
                  <a:pt x="784" y="212"/>
                </a:cubicBezTo>
                <a:cubicBezTo>
                  <a:pt x="783" y="198"/>
                  <a:pt x="782" y="176"/>
                  <a:pt x="784" y="164"/>
                </a:cubicBezTo>
                <a:cubicBezTo>
                  <a:pt x="785" y="159"/>
                  <a:pt x="796" y="145"/>
                  <a:pt x="796" y="140"/>
                </a:cubicBezTo>
                <a:cubicBezTo>
                  <a:pt x="796" y="137"/>
                  <a:pt x="775" y="62"/>
                  <a:pt x="772" y="56"/>
                </a:cubicBezTo>
                <a:cubicBezTo>
                  <a:pt x="769" y="48"/>
                  <a:pt x="754" y="47"/>
                  <a:pt x="748" y="44"/>
                </a:cubicBezTo>
                <a:cubicBezTo>
                  <a:pt x="735" y="37"/>
                  <a:pt x="712" y="20"/>
                  <a:pt x="712" y="20"/>
                </a:cubicBezTo>
                <a:cubicBezTo>
                  <a:pt x="709" y="16"/>
                  <a:pt x="708" y="11"/>
                  <a:pt x="704" y="8"/>
                </a:cubicBezTo>
                <a:cubicBezTo>
                  <a:pt x="694" y="0"/>
                  <a:pt x="687" y="9"/>
                  <a:pt x="696" y="0"/>
                </a:cubicBezTo>
                <a:close/>
              </a:path>
            </a:pathLst>
          </a:custGeom>
          <a:solidFill>
            <a:srgbClr val="0000ff">
              <a:alpha val="70000"/>
            </a:srgbClr>
          </a:solidFill>
          <a:ln w="25560">
            <a:solidFill>
              <a:srgbClr val="0000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979640" y="2567160"/>
            <a:ext cx="1368360" cy="1944000"/>
            <a:chOff x="1979640" y="2567160"/>
            <a:chExt cx="1368360" cy="1944000"/>
          </a:xfrm>
        </p:grpSpPr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1979640" y="2567160"/>
              <a:ext cx="136836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979640" y="4051440"/>
              <a:ext cx="136836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Garamond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ffffff"/>
                  </a:solidFill>
                  <a:latin typeface="Garamond"/>
                  <a:ea typeface="黑体"/>
                </a:rPr>
                <a:t>吴佩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372360" y="2637000"/>
            <a:ext cx="1368360" cy="1899360"/>
            <a:chOff x="6372360" y="2637000"/>
            <a:chExt cx="1368360" cy="189936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6373800" y="2637000"/>
              <a:ext cx="13669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372360" y="4076640"/>
              <a:ext cx="136836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Garamond"/>
                  <a:ea typeface="黑体"/>
                </a:rPr>
                <a:t>孙传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91440" y="0"/>
            <a:ext cx="1384200" cy="2044080"/>
            <a:chOff x="7291440" y="0"/>
            <a:chExt cx="1384200" cy="2044080"/>
          </a:xfrm>
        </p:grpSpPr>
        <p:pic>
          <p:nvPicPr>
            <p:cNvPr id="139" name="" descr=""/>
            <p:cNvPicPr/>
            <p:nvPr/>
          </p:nvPicPr>
          <p:blipFill>
            <a:blip r:embed="rId5"/>
            <a:stretch/>
          </p:blipFill>
          <p:spPr>
            <a:xfrm>
              <a:off x="7291440" y="0"/>
              <a:ext cx="13842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308720" y="1584360"/>
              <a:ext cx="136692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Garamond"/>
                  <a:ea typeface="黑体"/>
                </a:rPr>
                <a:t>张作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807080" y="3510000"/>
            <a:ext cx="1392120" cy="2185920"/>
          </a:xfrm>
          <a:custGeom>
            <a:avLst/>
            <a:gdLst/>
            <a:ahLst/>
            <a:rect l="l" t="t" r="r" b="b"/>
            <a:pathLst>
              <a:path w="877" h="1377">
                <a:moveTo>
                  <a:pt x="493" y="1"/>
                </a:moveTo>
                <a:cubicBezTo>
                  <a:pt x="486" y="6"/>
                  <a:pt x="476" y="7"/>
                  <a:pt x="469" y="13"/>
                </a:cubicBezTo>
                <a:cubicBezTo>
                  <a:pt x="465" y="16"/>
                  <a:pt x="464" y="22"/>
                  <a:pt x="461" y="25"/>
                </a:cubicBezTo>
                <a:cubicBezTo>
                  <a:pt x="458" y="28"/>
                  <a:pt x="453" y="30"/>
                  <a:pt x="449" y="33"/>
                </a:cubicBezTo>
                <a:cubicBezTo>
                  <a:pt x="440" y="46"/>
                  <a:pt x="428" y="51"/>
                  <a:pt x="421" y="65"/>
                </a:cubicBezTo>
                <a:cubicBezTo>
                  <a:pt x="419" y="69"/>
                  <a:pt x="420" y="75"/>
                  <a:pt x="417" y="77"/>
                </a:cubicBezTo>
                <a:cubicBezTo>
                  <a:pt x="410" y="82"/>
                  <a:pt x="393" y="85"/>
                  <a:pt x="393" y="85"/>
                </a:cubicBezTo>
                <a:cubicBezTo>
                  <a:pt x="356" y="82"/>
                  <a:pt x="336" y="69"/>
                  <a:pt x="301" y="81"/>
                </a:cubicBezTo>
                <a:cubicBezTo>
                  <a:pt x="278" y="76"/>
                  <a:pt x="253" y="62"/>
                  <a:pt x="233" y="49"/>
                </a:cubicBezTo>
                <a:cubicBezTo>
                  <a:pt x="213" y="56"/>
                  <a:pt x="222" y="49"/>
                  <a:pt x="213" y="77"/>
                </a:cubicBezTo>
                <a:cubicBezTo>
                  <a:pt x="210" y="87"/>
                  <a:pt x="191" y="82"/>
                  <a:pt x="181" y="85"/>
                </a:cubicBezTo>
                <a:cubicBezTo>
                  <a:pt x="186" y="106"/>
                  <a:pt x="192" y="102"/>
                  <a:pt x="209" y="113"/>
                </a:cubicBezTo>
                <a:cubicBezTo>
                  <a:pt x="214" y="121"/>
                  <a:pt x="220" y="129"/>
                  <a:pt x="225" y="137"/>
                </a:cubicBezTo>
                <a:cubicBezTo>
                  <a:pt x="228" y="141"/>
                  <a:pt x="233" y="149"/>
                  <a:pt x="233" y="149"/>
                </a:cubicBezTo>
                <a:cubicBezTo>
                  <a:pt x="228" y="183"/>
                  <a:pt x="228" y="183"/>
                  <a:pt x="197" y="189"/>
                </a:cubicBezTo>
                <a:cubicBezTo>
                  <a:pt x="164" y="211"/>
                  <a:pt x="153" y="178"/>
                  <a:pt x="125" y="169"/>
                </a:cubicBezTo>
                <a:cubicBezTo>
                  <a:pt x="109" y="193"/>
                  <a:pt x="109" y="220"/>
                  <a:pt x="93" y="245"/>
                </a:cubicBezTo>
                <a:cubicBezTo>
                  <a:pt x="84" y="281"/>
                  <a:pt x="95" y="274"/>
                  <a:pt x="73" y="281"/>
                </a:cubicBezTo>
                <a:cubicBezTo>
                  <a:pt x="40" y="330"/>
                  <a:pt x="112" y="334"/>
                  <a:pt x="145" y="337"/>
                </a:cubicBezTo>
                <a:cubicBezTo>
                  <a:pt x="173" y="356"/>
                  <a:pt x="164" y="345"/>
                  <a:pt x="177" y="365"/>
                </a:cubicBezTo>
                <a:cubicBezTo>
                  <a:pt x="174" y="408"/>
                  <a:pt x="183" y="421"/>
                  <a:pt x="153" y="441"/>
                </a:cubicBezTo>
                <a:cubicBezTo>
                  <a:pt x="149" y="452"/>
                  <a:pt x="143" y="465"/>
                  <a:pt x="153" y="477"/>
                </a:cubicBezTo>
                <a:cubicBezTo>
                  <a:pt x="159" y="483"/>
                  <a:pt x="170" y="480"/>
                  <a:pt x="177" y="485"/>
                </a:cubicBezTo>
                <a:cubicBezTo>
                  <a:pt x="185" y="490"/>
                  <a:pt x="201" y="501"/>
                  <a:pt x="201" y="501"/>
                </a:cubicBezTo>
                <a:cubicBezTo>
                  <a:pt x="228" y="541"/>
                  <a:pt x="193" y="620"/>
                  <a:pt x="217" y="641"/>
                </a:cubicBezTo>
                <a:cubicBezTo>
                  <a:pt x="227" y="650"/>
                  <a:pt x="242" y="650"/>
                  <a:pt x="253" y="657"/>
                </a:cubicBezTo>
                <a:cubicBezTo>
                  <a:pt x="213" y="684"/>
                  <a:pt x="161" y="654"/>
                  <a:pt x="121" y="681"/>
                </a:cubicBezTo>
                <a:cubicBezTo>
                  <a:pt x="108" y="700"/>
                  <a:pt x="100" y="724"/>
                  <a:pt x="81" y="737"/>
                </a:cubicBezTo>
                <a:cubicBezTo>
                  <a:pt x="80" y="741"/>
                  <a:pt x="80" y="747"/>
                  <a:pt x="77" y="749"/>
                </a:cubicBezTo>
                <a:cubicBezTo>
                  <a:pt x="69" y="755"/>
                  <a:pt x="35" y="766"/>
                  <a:pt x="25" y="769"/>
                </a:cubicBezTo>
                <a:cubicBezTo>
                  <a:pt x="0" y="807"/>
                  <a:pt x="9" y="829"/>
                  <a:pt x="33" y="865"/>
                </a:cubicBezTo>
                <a:cubicBezTo>
                  <a:pt x="30" y="906"/>
                  <a:pt x="36" y="920"/>
                  <a:pt x="17" y="949"/>
                </a:cubicBezTo>
                <a:cubicBezTo>
                  <a:pt x="14" y="1024"/>
                  <a:pt x="9" y="1055"/>
                  <a:pt x="17" y="1121"/>
                </a:cubicBezTo>
                <a:cubicBezTo>
                  <a:pt x="18" y="1127"/>
                  <a:pt x="24" y="1142"/>
                  <a:pt x="29" y="1145"/>
                </a:cubicBezTo>
                <a:cubicBezTo>
                  <a:pt x="37" y="1152"/>
                  <a:pt x="49" y="1192"/>
                  <a:pt x="61" y="1197"/>
                </a:cubicBezTo>
                <a:cubicBezTo>
                  <a:pt x="73" y="1202"/>
                  <a:pt x="92" y="1174"/>
                  <a:pt x="101" y="1177"/>
                </a:cubicBezTo>
                <a:cubicBezTo>
                  <a:pt x="114" y="1196"/>
                  <a:pt x="107" y="1184"/>
                  <a:pt x="117" y="1213"/>
                </a:cubicBezTo>
                <a:cubicBezTo>
                  <a:pt x="118" y="1217"/>
                  <a:pt x="121" y="1225"/>
                  <a:pt x="121" y="1225"/>
                </a:cubicBezTo>
                <a:cubicBezTo>
                  <a:pt x="116" y="1244"/>
                  <a:pt x="113" y="1250"/>
                  <a:pt x="97" y="1261"/>
                </a:cubicBezTo>
                <a:cubicBezTo>
                  <a:pt x="104" y="1300"/>
                  <a:pt x="98" y="1293"/>
                  <a:pt x="133" y="1305"/>
                </a:cubicBezTo>
                <a:cubicBezTo>
                  <a:pt x="161" y="1301"/>
                  <a:pt x="162" y="1281"/>
                  <a:pt x="185" y="1273"/>
                </a:cubicBezTo>
                <a:cubicBezTo>
                  <a:pt x="197" y="1237"/>
                  <a:pt x="237" y="1267"/>
                  <a:pt x="273" y="1265"/>
                </a:cubicBezTo>
                <a:cubicBezTo>
                  <a:pt x="295" y="1250"/>
                  <a:pt x="299" y="1253"/>
                  <a:pt x="329" y="1257"/>
                </a:cubicBezTo>
                <a:cubicBezTo>
                  <a:pt x="333" y="1260"/>
                  <a:pt x="338" y="1261"/>
                  <a:pt x="341" y="1265"/>
                </a:cubicBezTo>
                <a:cubicBezTo>
                  <a:pt x="344" y="1268"/>
                  <a:pt x="342" y="1275"/>
                  <a:pt x="345" y="1277"/>
                </a:cubicBezTo>
                <a:cubicBezTo>
                  <a:pt x="356" y="1285"/>
                  <a:pt x="370" y="1286"/>
                  <a:pt x="381" y="1293"/>
                </a:cubicBezTo>
                <a:cubicBezTo>
                  <a:pt x="388" y="1313"/>
                  <a:pt x="397" y="1327"/>
                  <a:pt x="409" y="1345"/>
                </a:cubicBezTo>
                <a:cubicBezTo>
                  <a:pt x="430" y="1377"/>
                  <a:pt x="403" y="1364"/>
                  <a:pt x="429" y="1373"/>
                </a:cubicBezTo>
                <a:cubicBezTo>
                  <a:pt x="445" y="1372"/>
                  <a:pt x="461" y="1372"/>
                  <a:pt x="477" y="1369"/>
                </a:cubicBezTo>
                <a:cubicBezTo>
                  <a:pt x="485" y="1368"/>
                  <a:pt x="501" y="1361"/>
                  <a:pt x="501" y="1361"/>
                </a:cubicBezTo>
                <a:cubicBezTo>
                  <a:pt x="532" y="1330"/>
                  <a:pt x="510" y="1319"/>
                  <a:pt x="521" y="1265"/>
                </a:cubicBezTo>
                <a:cubicBezTo>
                  <a:pt x="522" y="1260"/>
                  <a:pt x="560" y="1259"/>
                  <a:pt x="577" y="1257"/>
                </a:cubicBezTo>
                <a:cubicBezTo>
                  <a:pt x="592" y="1235"/>
                  <a:pt x="599" y="1216"/>
                  <a:pt x="621" y="1201"/>
                </a:cubicBezTo>
                <a:cubicBezTo>
                  <a:pt x="629" y="1178"/>
                  <a:pt x="614" y="1150"/>
                  <a:pt x="641" y="1141"/>
                </a:cubicBezTo>
                <a:cubicBezTo>
                  <a:pt x="643" y="1141"/>
                  <a:pt x="684" y="1150"/>
                  <a:pt x="689" y="1141"/>
                </a:cubicBezTo>
                <a:cubicBezTo>
                  <a:pt x="697" y="1127"/>
                  <a:pt x="677" y="1093"/>
                  <a:pt x="677" y="1093"/>
                </a:cubicBezTo>
                <a:cubicBezTo>
                  <a:pt x="680" y="1072"/>
                  <a:pt x="682" y="1050"/>
                  <a:pt x="685" y="1029"/>
                </a:cubicBezTo>
                <a:cubicBezTo>
                  <a:pt x="686" y="1021"/>
                  <a:pt x="693" y="1005"/>
                  <a:pt x="693" y="1005"/>
                </a:cubicBezTo>
                <a:cubicBezTo>
                  <a:pt x="695" y="987"/>
                  <a:pt x="695" y="958"/>
                  <a:pt x="705" y="941"/>
                </a:cubicBezTo>
                <a:cubicBezTo>
                  <a:pt x="710" y="933"/>
                  <a:pt x="718" y="926"/>
                  <a:pt x="721" y="917"/>
                </a:cubicBezTo>
                <a:cubicBezTo>
                  <a:pt x="722" y="913"/>
                  <a:pt x="722" y="907"/>
                  <a:pt x="725" y="905"/>
                </a:cubicBezTo>
                <a:cubicBezTo>
                  <a:pt x="732" y="900"/>
                  <a:pt x="749" y="897"/>
                  <a:pt x="749" y="897"/>
                </a:cubicBezTo>
                <a:cubicBezTo>
                  <a:pt x="752" y="893"/>
                  <a:pt x="760" y="889"/>
                  <a:pt x="757" y="885"/>
                </a:cubicBezTo>
                <a:cubicBezTo>
                  <a:pt x="752" y="878"/>
                  <a:pt x="740" y="882"/>
                  <a:pt x="733" y="877"/>
                </a:cubicBezTo>
                <a:cubicBezTo>
                  <a:pt x="725" y="872"/>
                  <a:pt x="709" y="861"/>
                  <a:pt x="709" y="861"/>
                </a:cubicBezTo>
                <a:cubicBezTo>
                  <a:pt x="700" y="848"/>
                  <a:pt x="690" y="842"/>
                  <a:pt x="681" y="829"/>
                </a:cubicBezTo>
                <a:cubicBezTo>
                  <a:pt x="681" y="823"/>
                  <a:pt x="702" y="830"/>
                  <a:pt x="709" y="833"/>
                </a:cubicBezTo>
                <a:cubicBezTo>
                  <a:pt x="716" y="836"/>
                  <a:pt x="719" y="847"/>
                  <a:pt x="725" y="849"/>
                </a:cubicBezTo>
                <a:cubicBezTo>
                  <a:pt x="732" y="848"/>
                  <a:pt x="740" y="850"/>
                  <a:pt x="745" y="845"/>
                </a:cubicBezTo>
                <a:cubicBezTo>
                  <a:pt x="761" y="829"/>
                  <a:pt x="736" y="820"/>
                  <a:pt x="769" y="809"/>
                </a:cubicBezTo>
                <a:cubicBezTo>
                  <a:pt x="778" y="795"/>
                  <a:pt x="781" y="785"/>
                  <a:pt x="793" y="773"/>
                </a:cubicBezTo>
                <a:cubicBezTo>
                  <a:pt x="806" y="777"/>
                  <a:pt x="816" y="785"/>
                  <a:pt x="829" y="789"/>
                </a:cubicBezTo>
                <a:cubicBezTo>
                  <a:pt x="824" y="721"/>
                  <a:pt x="833" y="745"/>
                  <a:pt x="801" y="713"/>
                </a:cubicBezTo>
                <a:cubicBezTo>
                  <a:pt x="814" y="709"/>
                  <a:pt x="832" y="715"/>
                  <a:pt x="841" y="705"/>
                </a:cubicBezTo>
                <a:cubicBezTo>
                  <a:pt x="855" y="689"/>
                  <a:pt x="827" y="668"/>
                  <a:pt x="817" y="665"/>
                </a:cubicBezTo>
                <a:cubicBezTo>
                  <a:pt x="845" y="623"/>
                  <a:pt x="867" y="684"/>
                  <a:pt x="849" y="621"/>
                </a:cubicBezTo>
                <a:cubicBezTo>
                  <a:pt x="831" y="627"/>
                  <a:pt x="830" y="637"/>
                  <a:pt x="813" y="625"/>
                </a:cubicBezTo>
                <a:cubicBezTo>
                  <a:pt x="800" y="587"/>
                  <a:pt x="849" y="599"/>
                  <a:pt x="877" y="597"/>
                </a:cubicBezTo>
                <a:cubicBezTo>
                  <a:pt x="871" y="547"/>
                  <a:pt x="872" y="558"/>
                  <a:pt x="821" y="553"/>
                </a:cubicBezTo>
                <a:cubicBezTo>
                  <a:pt x="807" y="544"/>
                  <a:pt x="799" y="543"/>
                  <a:pt x="789" y="529"/>
                </a:cubicBezTo>
                <a:cubicBezTo>
                  <a:pt x="768" y="532"/>
                  <a:pt x="758" y="534"/>
                  <a:pt x="741" y="545"/>
                </a:cubicBezTo>
                <a:cubicBezTo>
                  <a:pt x="722" y="574"/>
                  <a:pt x="699" y="560"/>
                  <a:pt x="661" y="557"/>
                </a:cubicBezTo>
                <a:cubicBezTo>
                  <a:pt x="668" y="537"/>
                  <a:pt x="680" y="540"/>
                  <a:pt x="701" y="537"/>
                </a:cubicBezTo>
                <a:cubicBezTo>
                  <a:pt x="712" y="527"/>
                  <a:pt x="720" y="516"/>
                  <a:pt x="729" y="509"/>
                </a:cubicBezTo>
                <a:cubicBezTo>
                  <a:pt x="738" y="502"/>
                  <a:pt x="745" y="501"/>
                  <a:pt x="757" y="493"/>
                </a:cubicBezTo>
                <a:cubicBezTo>
                  <a:pt x="779" y="486"/>
                  <a:pt x="784" y="466"/>
                  <a:pt x="801" y="461"/>
                </a:cubicBezTo>
                <a:cubicBezTo>
                  <a:pt x="810" y="458"/>
                  <a:pt x="820" y="458"/>
                  <a:pt x="829" y="457"/>
                </a:cubicBezTo>
                <a:cubicBezTo>
                  <a:pt x="820" y="443"/>
                  <a:pt x="821" y="434"/>
                  <a:pt x="805" y="429"/>
                </a:cubicBezTo>
                <a:cubicBezTo>
                  <a:pt x="765" y="389"/>
                  <a:pt x="739" y="367"/>
                  <a:pt x="681" y="361"/>
                </a:cubicBezTo>
                <a:cubicBezTo>
                  <a:pt x="655" y="344"/>
                  <a:pt x="613" y="357"/>
                  <a:pt x="581" y="353"/>
                </a:cubicBezTo>
                <a:cubicBezTo>
                  <a:pt x="578" y="349"/>
                  <a:pt x="572" y="346"/>
                  <a:pt x="573" y="341"/>
                </a:cubicBezTo>
                <a:cubicBezTo>
                  <a:pt x="576" y="329"/>
                  <a:pt x="597" y="340"/>
                  <a:pt x="609" y="341"/>
                </a:cubicBezTo>
                <a:cubicBezTo>
                  <a:pt x="628" y="343"/>
                  <a:pt x="646" y="344"/>
                  <a:pt x="665" y="345"/>
                </a:cubicBezTo>
                <a:cubicBezTo>
                  <a:pt x="702" y="357"/>
                  <a:pt x="681" y="352"/>
                  <a:pt x="729" y="357"/>
                </a:cubicBezTo>
                <a:cubicBezTo>
                  <a:pt x="745" y="362"/>
                  <a:pt x="744" y="371"/>
                  <a:pt x="753" y="385"/>
                </a:cubicBezTo>
                <a:cubicBezTo>
                  <a:pt x="754" y="390"/>
                  <a:pt x="762" y="401"/>
                  <a:pt x="757" y="401"/>
                </a:cubicBezTo>
                <a:cubicBezTo>
                  <a:pt x="747" y="401"/>
                  <a:pt x="733" y="385"/>
                  <a:pt x="733" y="385"/>
                </a:cubicBezTo>
                <a:cubicBezTo>
                  <a:pt x="756" y="377"/>
                  <a:pt x="795" y="362"/>
                  <a:pt x="805" y="393"/>
                </a:cubicBezTo>
                <a:cubicBezTo>
                  <a:pt x="817" y="392"/>
                  <a:pt x="831" y="395"/>
                  <a:pt x="841" y="389"/>
                </a:cubicBezTo>
                <a:cubicBezTo>
                  <a:pt x="853" y="382"/>
                  <a:pt x="818" y="353"/>
                  <a:pt x="813" y="349"/>
                </a:cubicBezTo>
                <a:cubicBezTo>
                  <a:pt x="806" y="327"/>
                  <a:pt x="787" y="308"/>
                  <a:pt x="765" y="301"/>
                </a:cubicBezTo>
                <a:cubicBezTo>
                  <a:pt x="732" y="268"/>
                  <a:pt x="738" y="274"/>
                  <a:pt x="685" y="269"/>
                </a:cubicBezTo>
                <a:cubicBezTo>
                  <a:pt x="675" y="238"/>
                  <a:pt x="682" y="204"/>
                  <a:pt x="653" y="185"/>
                </a:cubicBezTo>
                <a:cubicBezTo>
                  <a:pt x="639" y="164"/>
                  <a:pt x="651" y="167"/>
                  <a:pt x="633" y="149"/>
                </a:cubicBezTo>
                <a:cubicBezTo>
                  <a:pt x="637" y="146"/>
                  <a:pt x="628" y="130"/>
                  <a:pt x="633" y="129"/>
                </a:cubicBezTo>
                <a:cubicBezTo>
                  <a:pt x="637" y="128"/>
                  <a:pt x="619" y="137"/>
                  <a:pt x="621" y="133"/>
                </a:cubicBezTo>
                <a:cubicBezTo>
                  <a:pt x="632" y="104"/>
                  <a:pt x="593" y="84"/>
                  <a:pt x="573" y="77"/>
                </a:cubicBezTo>
                <a:cubicBezTo>
                  <a:pt x="543" y="81"/>
                  <a:pt x="539" y="84"/>
                  <a:pt x="517" y="69"/>
                </a:cubicBezTo>
                <a:cubicBezTo>
                  <a:pt x="485" y="21"/>
                  <a:pt x="513" y="71"/>
                  <a:pt x="497" y="17"/>
                </a:cubicBezTo>
                <a:cubicBezTo>
                  <a:pt x="492" y="0"/>
                  <a:pt x="484" y="10"/>
                  <a:pt x="493" y="1"/>
                </a:cubicBezTo>
                <a:close/>
              </a:path>
            </a:pathLst>
          </a:custGeom>
          <a:solidFill>
            <a:srgbClr val="993300">
              <a:alpha val="6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97280" y="12600"/>
            <a:ext cx="2584440" cy="3646440"/>
          </a:xfrm>
          <a:custGeom>
            <a:avLst/>
            <a:gdLst/>
            <a:ahLst/>
            <a:rect l="l" t="t" r="r" b="b"/>
            <a:pathLst>
              <a:path w="1628" h="2297">
                <a:moveTo>
                  <a:pt x="350" y="84"/>
                </a:moveTo>
                <a:cubicBezTo>
                  <a:pt x="358" y="79"/>
                  <a:pt x="362" y="69"/>
                  <a:pt x="370" y="64"/>
                </a:cubicBezTo>
                <a:cubicBezTo>
                  <a:pt x="377" y="60"/>
                  <a:pt x="394" y="56"/>
                  <a:pt x="394" y="56"/>
                </a:cubicBezTo>
                <a:cubicBezTo>
                  <a:pt x="413" y="27"/>
                  <a:pt x="455" y="22"/>
                  <a:pt x="486" y="12"/>
                </a:cubicBezTo>
                <a:cubicBezTo>
                  <a:pt x="494" y="9"/>
                  <a:pt x="502" y="3"/>
                  <a:pt x="510" y="0"/>
                </a:cubicBezTo>
                <a:cubicBezTo>
                  <a:pt x="595" y="1"/>
                  <a:pt x="681" y="1"/>
                  <a:pt x="766" y="4"/>
                </a:cubicBezTo>
                <a:cubicBezTo>
                  <a:pt x="783" y="5"/>
                  <a:pt x="806" y="36"/>
                  <a:pt x="806" y="36"/>
                </a:cubicBezTo>
                <a:cubicBezTo>
                  <a:pt x="814" y="48"/>
                  <a:pt x="815" y="66"/>
                  <a:pt x="826" y="76"/>
                </a:cubicBezTo>
                <a:cubicBezTo>
                  <a:pt x="833" y="82"/>
                  <a:pt x="850" y="92"/>
                  <a:pt x="850" y="92"/>
                </a:cubicBezTo>
                <a:cubicBezTo>
                  <a:pt x="856" y="101"/>
                  <a:pt x="864" y="107"/>
                  <a:pt x="870" y="116"/>
                </a:cubicBezTo>
                <a:cubicBezTo>
                  <a:pt x="884" y="137"/>
                  <a:pt x="870" y="167"/>
                  <a:pt x="898" y="176"/>
                </a:cubicBezTo>
                <a:cubicBezTo>
                  <a:pt x="907" y="190"/>
                  <a:pt x="922" y="207"/>
                  <a:pt x="938" y="212"/>
                </a:cubicBezTo>
                <a:cubicBezTo>
                  <a:pt x="958" y="273"/>
                  <a:pt x="920" y="279"/>
                  <a:pt x="986" y="288"/>
                </a:cubicBezTo>
                <a:cubicBezTo>
                  <a:pt x="1026" y="301"/>
                  <a:pt x="993" y="382"/>
                  <a:pt x="1014" y="384"/>
                </a:cubicBezTo>
                <a:cubicBezTo>
                  <a:pt x="1031" y="401"/>
                  <a:pt x="1059" y="371"/>
                  <a:pt x="1086" y="372"/>
                </a:cubicBezTo>
                <a:cubicBezTo>
                  <a:pt x="1113" y="373"/>
                  <a:pt x="1151" y="386"/>
                  <a:pt x="1174" y="392"/>
                </a:cubicBezTo>
                <a:cubicBezTo>
                  <a:pt x="1190" y="397"/>
                  <a:pt x="1206" y="403"/>
                  <a:pt x="1222" y="408"/>
                </a:cubicBezTo>
                <a:cubicBezTo>
                  <a:pt x="1230" y="411"/>
                  <a:pt x="1246" y="416"/>
                  <a:pt x="1246" y="416"/>
                </a:cubicBezTo>
                <a:cubicBezTo>
                  <a:pt x="1251" y="424"/>
                  <a:pt x="1261" y="430"/>
                  <a:pt x="1262" y="440"/>
                </a:cubicBezTo>
                <a:cubicBezTo>
                  <a:pt x="1266" y="513"/>
                  <a:pt x="1247" y="495"/>
                  <a:pt x="1278" y="516"/>
                </a:cubicBezTo>
                <a:cubicBezTo>
                  <a:pt x="1451" y="510"/>
                  <a:pt x="1365" y="530"/>
                  <a:pt x="1434" y="484"/>
                </a:cubicBezTo>
                <a:cubicBezTo>
                  <a:pt x="1442" y="472"/>
                  <a:pt x="1466" y="456"/>
                  <a:pt x="1466" y="456"/>
                </a:cubicBezTo>
                <a:cubicBezTo>
                  <a:pt x="1471" y="440"/>
                  <a:pt x="1488" y="425"/>
                  <a:pt x="1502" y="416"/>
                </a:cubicBezTo>
                <a:cubicBezTo>
                  <a:pt x="1514" y="398"/>
                  <a:pt x="1507" y="390"/>
                  <a:pt x="1498" y="372"/>
                </a:cubicBezTo>
                <a:cubicBezTo>
                  <a:pt x="1518" y="365"/>
                  <a:pt x="1518" y="378"/>
                  <a:pt x="1522" y="396"/>
                </a:cubicBezTo>
                <a:cubicBezTo>
                  <a:pt x="1539" y="395"/>
                  <a:pt x="1558" y="399"/>
                  <a:pt x="1574" y="392"/>
                </a:cubicBezTo>
                <a:cubicBezTo>
                  <a:pt x="1580" y="389"/>
                  <a:pt x="1572" y="370"/>
                  <a:pt x="1578" y="372"/>
                </a:cubicBezTo>
                <a:cubicBezTo>
                  <a:pt x="1586" y="375"/>
                  <a:pt x="1586" y="396"/>
                  <a:pt x="1586" y="396"/>
                </a:cubicBezTo>
                <a:cubicBezTo>
                  <a:pt x="1590" y="439"/>
                  <a:pt x="1596" y="474"/>
                  <a:pt x="1582" y="516"/>
                </a:cubicBezTo>
                <a:cubicBezTo>
                  <a:pt x="1580" y="620"/>
                  <a:pt x="1628" y="679"/>
                  <a:pt x="1554" y="704"/>
                </a:cubicBezTo>
                <a:cubicBezTo>
                  <a:pt x="1544" y="723"/>
                  <a:pt x="1547" y="732"/>
                  <a:pt x="1554" y="752"/>
                </a:cubicBezTo>
                <a:cubicBezTo>
                  <a:pt x="1549" y="823"/>
                  <a:pt x="1554" y="811"/>
                  <a:pt x="1482" y="816"/>
                </a:cubicBezTo>
                <a:cubicBezTo>
                  <a:pt x="1465" y="822"/>
                  <a:pt x="1447" y="824"/>
                  <a:pt x="1430" y="828"/>
                </a:cubicBezTo>
                <a:cubicBezTo>
                  <a:pt x="1421" y="842"/>
                  <a:pt x="1409" y="840"/>
                  <a:pt x="1402" y="856"/>
                </a:cubicBezTo>
                <a:cubicBezTo>
                  <a:pt x="1399" y="864"/>
                  <a:pt x="1397" y="872"/>
                  <a:pt x="1394" y="880"/>
                </a:cubicBezTo>
                <a:cubicBezTo>
                  <a:pt x="1393" y="884"/>
                  <a:pt x="1390" y="892"/>
                  <a:pt x="1390" y="892"/>
                </a:cubicBezTo>
                <a:cubicBezTo>
                  <a:pt x="1394" y="918"/>
                  <a:pt x="1408" y="947"/>
                  <a:pt x="1434" y="956"/>
                </a:cubicBezTo>
                <a:cubicBezTo>
                  <a:pt x="1452" y="1009"/>
                  <a:pt x="1477" y="1107"/>
                  <a:pt x="1414" y="1128"/>
                </a:cubicBezTo>
                <a:cubicBezTo>
                  <a:pt x="1402" y="1163"/>
                  <a:pt x="1400" y="1152"/>
                  <a:pt x="1354" y="1148"/>
                </a:cubicBezTo>
                <a:cubicBezTo>
                  <a:pt x="1316" y="1135"/>
                  <a:pt x="1326" y="1184"/>
                  <a:pt x="1302" y="1200"/>
                </a:cubicBezTo>
                <a:cubicBezTo>
                  <a:pt x="1279" y="1234"/>
                  <a:pt x="1310" y="1194"/>
                  <a:pt x="1282" y="1216"/>
                </a:cubicBezTo>
                <a:cubicBezTo>
                  <a:pt x="1269" y="1227"/>
                  <a:pt x="1273" y="1238"/>
                  <a:pt x="1258" y="1248"/>
                </a:cubicBezTo>
                <a:cubicBezTo>
                  <a:pt x="1253" y="1256"/>
                  <a:pt x="1240" y="1259"/>
                  <a:pt x="1238" y="1268"/>
                </a:cubicBezTo>
                <a:cubicBezTo>
                  <a:pt x="1233" y="1286"/>
                  <a:pt x="1243" y="1307"/>
                  <a:pt x="1234" y="1324"/>
                </a:cubicBezTo>
                <a:cubicBezTo>
                  <a:pt x="1226" y="1338"/>
                  <a:pt x="1198" y="1336"/>
                  <a:pt x="1182" y="1340"/>
                </a:cubicBezTo>
                <a:cubicBezTo>
                  <a:pt x="1178" y="1341"/>
                  <a:pt x="1178" y="1336"/>
                  <a:pt x="1174" y="1336"/>
                </a:cubicBezTo>
                <a:cubicBezTo>
                  <a:pt x="1149" y="1338"/>
                  <a:pt x="1123" y="1339"/>
                  <a:pt x="1098" y="1340"/>
                </a:cubicBezTo>
                <a:cubicBezTo>
                  <a:pt x="1076" y="1354"/>
                  <a:pt x="1076" y="1378"/>
                  <a:pt x="1054" y="1392"/>
                </a:cubicBezTo>
                <a:cubicBezTo>
                  <a:pt x="1051" y="1396"/>
                  <a:pt x="1047" y="1399"/>
                  <a:pt x="1046" y="1404"/>
                </a:cubicBezTo>
                <a:cubicBezTo>
                  <a:pt x="1043" y="1416"/>
                  <a:pt x="1048" y="1430"/>
                  <a:pt x="1042" y="1440"/>
                </a:cubicBezTo>
                <a:cubicBezTo>
                  <a:pt x="1035" y="1451"/>
                  <a:pt x="1018" y="1448"/>
                  <a:pt x="1006" y="1452"/>
                </a:cubicBezTo>
                <a:cubicBezTo>
                  <a:pt x="1002" y="1453"/>
                  <a:pt x="994" y="1456"/>
                  <a:pt x="994" y="1456"/>
                </a:cubicBezTo>
                <a:cubicBezTo>
                  <a:pt x="988" y="1475"/>
                  <a:pt x="987" y="1493"/>
                  <a:pt x="970" y="1504"/>
                </a:cubicBezTo>
                <a:cubicBezTo>
                  <a:pt x="967" y="1508"/>
                  <a:pt x="966" y="1513"/>
                  <a:pt x="962" y="1516"/>
                </a:cubicBezTo>
                <a:cubicBezTo>
                  <a:pt x="959" y="1519"/>
                  <a:pt x="953" y="1517"/>
                  <a:pt x="950" y="1520"/>
                </a:cubicBezTo>
                <a:cubicBezTo>
                  <a:pt x="947" y="1523"/>
                  <a:pt x="948" y="1528"/>
                  <a:pt x="946" y="1532"/>
                </a:cubicBezTo>
                <a:cubicBezTo>
                  <a:pt x="941" y="1540"/>
                  <a:pt x="935" y="1548"/>
                  <a:pt x="930" y="1556"/>
                </a:cubicBezTo>
                <a:cubicBezTo>
                  <a:pt x="925" y="1564"/>
                  <a:pt x="906" y="1572"/>
                  <a:pt x="906" y="1572"/>
                </a:cubicBezTo>
                <a:cubicBezTo>
                  <a:pt x="895" y="1588"/>
                  <a:pt x="909" y="1590"/>
                  <a:pt x="890" y="1596"/>
                </a:cubicBezTo>
                <a:cubicBezTo>
                  <a:pt x="882" y="1598"/>
                  <a:pt x="854" y="1601"/>
                  <a:pt x="846" y="1604"/>
                </a:cubicBezTo>
                <a:cubicBezTo>
                  <a:pt x="842" y="1605"/>
                  <a:pt x="834" y="1608"/>
                  <a:pt x="834" y="1608"/>
                </a:cubicBezTo>
                <a:cubicBezTo>
                  <a:pt x="822" y="1645"/>
                  <a:pt x="822" y="1630"/>
                  <a:pt x="790" y="1648"/>
                </a:cubicBezTo>
                <a:cubicBezTo>
                  <a:pt x="782" y="1653"/>
                  <a:pt x="774" y="1659"/>
                  <a:pt x="766" y="1664"/>
                </a:cubicBezTo>
                <a:cubicBezTo>
                  <a:pt x="762" y="1667"/>
                  <a:pt x="754" y="1672"/>
                  <a:pt x="754" y="1672"/>
                </a:cubicBezTo>
                <a:cubicBezTo>
                  <a:pt x="749" y="1710"/>
                  <a:pt x="744" y="1708"/>
                  <a:pt x="714" y="1728"/>
                </a:cubicBezTo>
                <a:cubicBezTo>
                  <a:pt x="707" y="1739"/>
                  <a:pt x="707" y="1742"/>
                  <a:pt x="694" y="1748"/>
                </a:cubicBezTo>
                <a:cubicBezTo>
                  <a:pt x="686" y="1751"/>
                  <a:pt x="670" y="1756"/>
                  <a:pt x="670" y="1756"/>
                </a:cubicBezTo>
                <a:cubicBezTo>
                  <a:pt x="622" y="1748"/>
                  <a:pt x="661" y="1747"/>
                  <a:pt x="678" y="1744"/>
                </a:cubicBezTo>
                <a:cubicBezTo>
                  <a:pt x="698" y="1731"/>
                  <a:pt x="695" y="1710"/>
                  <a:pt x="702" y="1688"/>
                </a:cubicBezTo>
                <a:cubicBezTo>
                  <a:pt x="701" y="1683"/>
                  <a:pt x="702" y="1676"/>
                  <a:pt x="698" y="1672"/>
                </a:cubicBezTo>
                <a:cubicBezTo>
                  <a:pt x="692" y="1667"/>
                  <a:pt x="674" y="1664"/>
                  <a:pt x="674" y="1664"/>
                </a:cubicBezTo>
                <a:cubicBezTo>
                  <a:pt x="675" y="1652"/>
                  <a:pt x="674" y="1639"/>
                  <a:pt x="678" y="1628"/>
                </a:cubicBezTo>
                <a:cubicBezTo>
                  <a:pt x="680" y="1624"/>
                  <a:pt x="687" y="1627"/>
                  <a:pt x="690" y="1624"/>
                </a:cubicBezTo>
                <a:cubicBezTo>
                  <a:pt x="694" y="1621"/>
                  <a:pt x="696" y="1616"/>
                  <a:pt x="698" y="1612"/>
                </a:cubicBezTo>
                <a:cubicBezTo>
                  <a:pt x="707" y="1592"/>
                  <a:pt x="719" y="1573"/>
                  <a:pt x="726" y="1552"/>
                </a:cubicBezTo>
                <a:cubicBezTo>
                  <a:pt x="718" y="1505"/>
                  <a:pt x="733" y="1545"/>
                  <a:pt x="694" y="1524"/>
                </a:cubicBezTo>
                <a:cubicBezTo>
                  <a:pt x="684" y="1519"/>
                  <a:pt x="681" y="1504"/>
                  <a:pt x="670" y="1500"/>
                </a:cubicBezTo>
                <a:cubicBezTo>
                  <a:pt x="666" y="1499"/>
                  <a:pt x="662" y="1497"/>
                  <a:pt x="658" y="1496"/>
                </a:cubicBezTo>
                <a:cubicBezTo>
                  <a:pt x="667" y="1523"/>
                  <a:pt x="633" y="1518"/>
                  <a:pt x="614" y="1524"/>
                </a:cubicBezTo>
                <a:cubicBezTo>
                  <a:pt x="609" y="1532"/>
                  <a:pt x="599" y="1536"/>
                  <a:pt x="594" y="1544"/>
                </a:cubicBezTo>
                <a:cubicBezTo>
                  <a:pt x="590" y="1551"/>
                  <a:pt x="586" y="1568"/>
                  <a:pt x="586" y="1568"/>
                </a:cubicBezTo>
                <a:cubicBezTo>
                  <a:pt x="582" y="1601"/>
                  <a:pt x="576" y="1613"/>
                  <a:pt x="542" y="1620"/>
                </a:cubicBezTo>
                <a:cubicBezTo>
                  <a:pt x="533" y="1626"/>
                  <a:pt x="527" y="1639"/>
                  <a:pt x="518" y="1644"/>
                </a:cubicBezTo>
                <a:cubicBezTo>
                  <a:pt x="511" y="1648"/>
                  <a:pt x="502" y="1645"/>
                  <a:pt x="494" y="1648"/>
                </a:cubicBezTo>
                <a:cubicBezTo>
                  <a:pt x="490" y="1649"/>
                  <a:pt x="498" y="1664"/>
                  <a:pt x="498" y="1664"/>
                </a:cubicBezTo>
                <a:cubicBezTo>
                  <a:pt x="497" y="1668"/>
                  <a:pt x="478" y="1660"/>
                  <a:pt x="478" y="1664"/>
                </a:cubicBezTo>
                <a:cubicBezTo>
                  <a:pt x="476" y="1691"/>
                  <a:pt x="479" y="1718"/>
                  <a:pt x="474" y="1744"/>
                </a:cubicBezTo>
                <a:cubicBezTo>
                  <a:pt x="471" y="1759"/>
                  <a:pt x="395" y="1767"/>
                  <a:pt x="386" y="1768"/>
                </a:cubicBezTo>
                <a:cubicBezTo>
                  <a:pt x="347" y="1794"/>
                  <a:pt x="413" y="1754"/>
                  <a:pt x="350" y="1772"/>
                </a:cubicBezTo>
                <a:cubicBezTo>
                  <a:pt x="346" y="1773"/>
                  <a:pt x="347" y="1780"/>
                  <a:pt x="346" y="1784"/>
                </a:cubicBezTo>
                <a:cubicBezTo>
                  <a:pt x="339" y="1806"/>
                  <a:pt x="351" y="1817"/>
                  <a:pt x="338" y="1836"/>
                </a:cubicBezTo>
                <a:cubicBezTo>
                  <a:pt x="350" y="1848"/>
                  <a:pt x="351" y="1853"/>
                  <a:pt x="362" y="1864"/>
                </a:cubicBezTo>
                <a:cubicBezTo>
                  <a:pt x="371" y="1873"/>
                  <a:pt x="382" y="1892"/>
                  <a:pt x="382" y="1892"/>
                </a:cubicBezTo>
                <a:cubicBezTo>
                  <a:pt x="410" y="1883"/>
                  <a:pt x="429" y="1887"/>
                  <a:pt x="458" y="1892"/>
                </a:cubicBezTo>
                <a:cubicBezTo>
                  <a:pt x="463" y="1900"/>
                  <a:pt x="472" y="1907"/>
                  <a:pt x="474" y="1916"/>
                </a:cubicBezTo>
                <a:cubicBezTo>
                  <a:pt x="482" y="1947"/>
                  <a:pt x="481" y="1973"/>
                  <a:pt x="514" y="1984"/>
                </a:cubicBezTo>
                <a:cubicBezTo>
                  <a:pt x="533" y="1983"/>
                  <a:pt x="552" y="1985"/>
                  <a:pt x="570" y="1980"/>
                </a:cubicBezTo>
                <a:cubicBezTo>
                  <a:pt x="575" y="1979"/>
                  <a:pt x="574" y="1955"/>
                  <a:pt x="578" y="1944"/>
                </a:cubicBezTo>
                <a:cubicBezTo>
                  <a:pt x="583" y="1929"/>
                  <a:pt x="608" y="1921"/>
                  <a:pt x="622" y="1916"/>
                </a:cubicBezTo>
                <a:cubicBezTo>
                  <a:pt x="642" y="1887"/>
                  <a:pt x="649" y="1897"/>
                  <a:pt x="690" y="1900"/>
                </a:cubicBezTo>
                <a:cubicBezTo>
                  <a:pt x="707" y="1925"/>
                  <a:pt x="721" y="1915"/>
                  <a:pt x="754" y="1912"/>
                </a:cubicBezTo>
                <a:cubicBezTo>
                  <a:pt x="755" y="1908"/>
                  <a:pt x="755" y="1903"/>
                  <a:pt x="758" y="1900"/>
                </a:cubicBezTo>
                <a:cubicBezTo>
                  <a:pt x="761" y="1897"/>
                  <a:pt x="766" y="1896"/>
                  <a:pt x="770" y="1896"/>
                </a:cubicBezTo>
                <a:cubicBezTo>
                  <a:pt x="778" y="1897"/>
                  <a:pt x="786" y="1903"/>
                  <a:pt x="794" y="1904"/>
                </a:cubicBezTo>
                <a:cubicBezTo>
                  <a:pt x="809" y="1905"/>
                  <a:pt x="823" y="1907"/>
                  <a:pt x="838" y="1908"/>
                </a:cubicBezTo>
                <a:cubicBezTo>
                  <a:pt x="848" y="1924"/>
                  <a:pt x="848" y="1930"/>
                  <a:pt x="830" y="1936"/>
                </a:cubicBezTo>
                <a:cubicBezTo>
                  <a:pt x="824" y="1989"/>
                  <a:pt x="828" y="1982"/>
                  <a:pt x="774" y="1964"/>
                </a:cubicBezTo>
                <a:cubicBezTo>
                  <a:pt x="771" y="1968"/>
                  <a:pt x="770" y="1973"/>
                  <a:pt x="766" y="1976"/>
                </a:cubicBezTo>
                <a:cubicBezTo>
                  <a:pt x="759" y="1980"/>
                  <a:pt x="742" y="1984"/>
                  <a:pt x="742" y="1984"/>
                </a:cubicBezTo>
                <a:cubicBezTo>
                  <a:pt x="728" y="1998"/>
                  <a:pt x="711" y="2001"/>
                  <a:pt x="694" y="2012"/>
                </a:cubicBezTo>
                <a:cubicBezTo>
                  <a:pt x="691" y="2020"/>
                  <a:pt x="694" y="2033"/>
                  <a:pt x="686" y="2036"/>
                </a:cubicBezTo>
                <a:cubicBezTo>
                  <a:pt x="678" y="2039"/>
                  <a:pt x="662" y="2044"/>
                  <a:pt x="662" y="2044"/>
                </a:cubicBezTo>
                <a:cubicBezTo>
                  <a:pt x="659" y="2052"/>
                  <a:pt x="657" y="2060"/>
                  <a:pt x="654" y="2068"/>
                </a:cubicBezTo>
                <a:cubicBezTo>
                  <a:pt x="651" y="2076"/>
                  <a:pt x="656" y="2086"/>
                  <a:pt x="650" y="2092"/>
                </a:cubicBezTo>
                <a:cubicBezTo>
                  <a:pt x="644" y="2098"/>
                  <a:pt x="634" y="2095"/>
                  <a:pt x="626" y="2096"/>
                </a:cubicBezTo>
                <a:cubicBezTo>
                  <a:pt x="618" y="2102"/>
                  <a:pt x="609" y="2105"/>
                  <a:pt x="606" y="2116"/>
                </a:cubicBezTo>
                <a:cubicBezTo>
                  <a:pt x="603" y="2126"/>
                  <a:pt x="609" y="2140"/>
                  <a:pt x="602" y="2148"/>
                </a:cubicBezTo>
                <a:cubicBezTo>
                  <a:pt x="596" y="2155"/>
                  <a:pt x="583" y="2151"/>
                  <a:pt x="574" y="2152"/>
                </a:cubicBezTo>
                <a:cubicBezTo>
                  <a:pt x="571" y="2160"/>
                  <a:pt x="569" y="2168"/>
                  <a:pt x="566" y="2176"/>
                </a:cubicBezTo>
                <a:cubicBezTo>
                  <a:pt x="562" y="2187"/>
                  <a:pt x="568" y="2202"/>
                  <a:pt x="562" y="2212"/>
                </a:cubicBezTo>
                <a:cubicBezTo>
                  <a:pt x="557" y="2219"/>
                  <a:pt x="546" y="2217"/>
                  <a:pt x="538" y="2220"/>
                </a:cubicBezTo>
                <a:cubicBezTo>
                  <a:pt x="519" y="2226"/>
                  <a:pt x="510" y="2249"/>
                  <a:pt x="494" y="2260"/>
                </a:cubicBezTo>
                <a:cubicBezTo>
                  <a:pt x="489" y="2267"/>
                  <a:pt x="489" y="2279"/>
                  <a:pt x="482" y="2284"/>
                </a:cubicBezTo>
                <a:cubicBezTo>
                  <a:pt x="475" y="2289"/>
                  <a:pt x="458" y="2292"/>
                  <a:pt x="458" y="2292"/>
                </a:cubicBezTo>
                <a:cubicBezTo>
                  <a:pt x="365" y="2284"/>
                  <a:pt x="457" y="2292"/>
                  <a:pt x="398" y="2272"/>
                </a:cubicBezTo>
                <a:cubicBezTo>
                  <a:pt x="384" y="2293"/>
                  <a:pt x="380" y="2292"/>
                  <a:pt x="354" y="2288"/>
                </a:cubicBezTo>
                <a:cubicBezTo>
                  <a:pt x="337" y="2277"/>
                  <a:pt x="339" y="2259"/>
                  <a:pt x="318" y="2252"/>
                </a:cubicBezTo>
                <a:cubicBezTo>
                  <a:pt x="294" y="2258"/>
                  <a:pt x="304" y="2251"/>
                  <a:pt x="294" y="2280"/>
                </a:cubicBezTo>
                <a:lnTo>
                  <a:pt x="294" y="2280"/>
                </a:lnTo>
                <a:cubicBezTo>
                  <a:pt x="281" y="2284"/>
                  <a:pt x="271" y="2292"/>
                  <a:pt x="258" y="2296"/>
                </a:cubicBezTo>
                <a:cubicBezTo>
                  <a:pt x="231" y="2295"/>
                  <a:pt x="204" y="2297"/>
                  <a:pt x="178" y="2292"/>
                </a:cubicBezTo>
                <a:cubicBezTo>
                  <a:pt x="174" y="2291"/>
                  <a:pt x="177" y="2283"/>
                  <a:pt x="174" y="2280"/>
                </a:cubicBezTo>
                <a:cubicBezTo>
                  <a:pt x="166" y="2272"/>
                  <a:pt x="153" y="2274"/>
                  <a:pt x="142" y="2272"/>
                </a:cubicBezTo>
                <a:cubicBezTo>
                  <a:pt x="143" y="2260"/>
                  <a:pt x="144" y="2248"/>
                  <a:pt x="146" y="2236"/>
                </a:cubicBezTo>
                <a:cubicBezTo>
                  <a:pt x="148" y="2228"/>
                  <a:pt x="154" y="2212"/>
                  <a:pt x="154" y="2212"/>
                </a:cubicBezTo>
                <a:cubicBezTo>
                  <a:pt x="141" y="2193"/>
                  <a:pt x="147" y="2177"/>
                  <a:pt x="154" y="2156"/>
                </a:cubicBezTo>
                <a:cubicBezTo>
                  <a:pt x="150" y="2132"/>
                  <a:pt x="150" y="2125"/>
                  <a:pt x="130" y="2112"/>
                </a:cubicBezTo>
                <a:cubicBezTo>
                  <a:pt x="121" y="2084"/>
                  <a:pt x="134" y="2072"/>
                  <a:pt x="158" y="2064"/>
                </a:cubicBezTo>
                <a:cubicBezTo>
                  <a:pt x="172" y="2043"/>
                  <a:pt x="177" y="2018"/>
                  <a:pt x="198" y="2004"/>
                </a:cubicBezTo>
                <a:cubicBezTo>
                  <a:pt x="205" y="1967"/>
                  <a:pt x="238" y="1950"/>
                  <a:pt x="274" y="1944"/>
                </a:cubicBezTo>
                <a:cubicBezTo>
                  <a:pt x="278" y="1926"/>
                  <a:pt x="284" y="1917"/>
                  <a:pt x="290" y="1900"/>
                </a:cubicBezTo>
                <a:cubicBezTo>
                  <a:pt x="291" y="1863"/>
                  <a:pt x="291" y="1825"/>
                  <a:pt x="294" y="1788"/>
                </a:cubicBezTo>
                <a:cubicBezTo>
                  <a:pt x="295" y="1780"/>
                  <a:pt x="302" y="1764"/>
                  <a:pt x="302" y="1764"/>
                </a:cubicBezTo>
                <a:cubicBezTo>
                  <a:pt x="301" y="1727"/>
                  <a:pt x="291" y="1721"/>
                  <a:pt x="286" y="1684"/>
                </a:cubicBezTo>
                <a:cubicBezTo>
                  <a:pt x="285" y="1680"/>
                  <a:pt x="278" y="1686"/>
                  <a:pt x="274" y="1684"/>
                </a:cubicBezTo>
                <a:cubicBezTo>
                  <a:pt x="266" y="1679"/>
                  <a:pt x="250" y="1672"/>
                  <a:pt x="250" y="1672"/>
                </a:cubicBezTo>
                <a:cubicBezTo>
                  <a:pt x="241" y="1658"/>
                  <a:pt x="212" y="1633"/>
                  <a:pt x="202" y="1620"/>
                </a:cubicBezTo>
                <a:cubicBezTo>
                  <a:pt x="183" y="1620"/>
                  <a:pt x="167" y="1647"/>
                  <a:pt x="142" y="1668"/>
                </a:cubicBezTo>
                <a:cubicBezTo>
                  <a:pt x="117" y="1689"/>
                  <a:pt x="71" y="1739"/>
                  <a:pt x="50" y="1744"/>
                </a:cubicBezTo>
                <a:cubicBezTo>
                  <a:pt x="12" y="1761"/>
                  <a:pt x="26" y="1721"/>
                  <a:pt x="18" y="1696"/>
                </a:cubicBezTo>
                <a:cubicBezTo>
                  <a:pt x="10" y="1671"/>
                  <a:pt x="3" y="1621"/>
                  <a:pt x="2" y="1596"/>
                </a:cubicBezTo>
                <a:cubicBezTo>
                  <a:pt x="1" y="1571"/>
                  <a:pt x="0" y="1549"/>
                  <a:pt x="10" y="1544"/>
                </a:cubicBezTo>
                <a:cubicBezTo>
                  <a:pt x="18" y="1533"/>
                  <a:pt x="49" y="1567"/>
                  <a:pt x="62" y="1564"/>
                </a:cubicBezTo>
                <a:cubicBezTo>
                  <a:pt x="75" y="1561"/>
                  <a:pt x="76" y="1521"/>
                  <a:pt x="90" y="1524"/>
                </a:cubicBezTo>
                <a:cubicBezTo>
                  <a:pt x="104" y="1527"/>
                  <a:pt x="131" y="1580"/>
                  <a:pt x="146" y="1580"/>
                </a:cubicBezTo>
                <a:cubicBezTo>
                  <a:pt x="161" y="1580"/>
                  <a:pt x="179" y="1537"/>
                  <a:pt x="182" y="1524"/>
                </a:cubicBezTo>
                <a:cubicBezTo>
                  <a:pt x="177" y="1516"/>
                  <a:pt x="171" y="1508"/>
                  <a:pt x="166" y="1500"/>
                </a:cubicBezTo>
                <a:cubicBezTo>
                  <a:pt x="163" y="1496"/>
                  <a:pt x="158" y="1488"/>
                  <a:pt x="158" y="1488"/>
                </a:cubicBezTo>
                <a:cubicBezTo>
                  <a:pt x="165" y="1466"/>
                  <a:pt x="183" y="1450"/>
                  <a:pt x="190" y="1428"/>
                </a:cubicBezTo>
                <a:cubicBezTo>
                  <a:pt x="195" y="1409"/>
                  <a:pt x="211" y="1398"/>
                  <a:pt x="210" y="1376"/>
                </a:cubicBezTo>
                <a:cubicBezTo>
                  <a:pt x="209" y="1354"/>
                  <a:pt x="191" y="1311"/>
                  <a:pt x="186" y="1296"/>
                </a:cubicBezTo>
                <a:cubicBezTo>
                  <a:pt x="186" y="1291"/>
                  <a:pt x="178" y="1289"/>
                  <a:pt x="178" y="1284"/>
                </a:cubicBezTo>
                <a:cubicBezTo>
                  <a:pt x="172" y="1215"/>
                  <a:pt x="244" y="1206"/>
                  <a:pt x="294" y="1196"/>
                </a:cubicBezTo>
                <a:cubicBezTo>
                  <a:pt x="298" y="1192"/>
                  <a:pt x="301" y="1187"/>
                  <a:pt x="306" y="1184"/>
                </a:cubicBezTo>
                <a:cubicBezTo>
                  <a:pt x="310" y="1182"/>
                  <a:pt x="316" y="1183"/>
                  <a:pt x="318" y="1180"/>
                </a:cubicBezTo>
                <a:cubicBezTo>
                  <a:pt x="323" y="1173"/>
                  <a:pt x="319" y="1161"/>
                  <a:pt x="326" y="1156"/>
                </a:cubicBezTo>
                <a:cubicBezTo>
                  <a:pt x="334" y="1151"/>
                  <a:pt x="350" y="1140"/>
                  <a:pt x="350" y="1140"/>
                </a:cubicBezTo>
                <a:cubicBezTo>
                  <a:pt x="361" y="1106"/>
                  <a:pt x="338" y="1066"/>
                  <a:pt x="370" y="1044"/>
                </a:cubicBezTo>
                <a:cubicBezTo>
                  <a:pt x="380" y="1029"/>
                  <a:pt x="392" y="1029"/>
                  <a:pt x="398" y="1012"/>
                </a:cubicBezTo>
                <a:cubicBezTo>
                  <a:pt x="403" y="940"/>
                  <a:pt x="395" y="968"/>
                  <a:pt x="410" y="924"/>
                </a:cubicBezTo>
                <a:cubicBezTo>
                  <a:pt x="414" y="911"/>
                  <a:pt x="430" y="888"/>
                  <a:pt x="430" y="888"/>
                </a:cubicBezTo>
                <a:cubicBezTo>
                  <a:pt x="432" y="877"/>
                  <a:pt x="438" y="867"/>
                  <a:pt x="438" y="856"/>
                </a:cubicBezTo>
                <a:cubicBezTo>
                  <a:pt x="438" y="802"/>
                  <a:pt x="412" y="809"/>
                  <a:pt x="366" y="804"/>
                </a:cubicBezTo>
                <a:cubicBezTo>
                  <a:pt x="351" y="781"/>
                  <a:pt x="325" y="759"/>
                  <a:pt x="302" y="744"/>
                </a:cubicBezTo>
                <a:cubicBezTo>
                  <a:pt x="263" y="745"/>
                  <a:pt x="225" y="769"/>
                  <a:pt x="186" y="772"/>
                </a:cubicBezTo>
                <a:cubicBezTo>
                  <a:pt x="169" y="773"/>
                  <a:pt x="130" y="764"/>
                  <a:pt x="130" y="764"/>
                </a:cubicBezTo>
                <a:cubicBezTo>
                  <a:pt x="106" y="763"/>
                  <a:pt x="90" y="765"/>
                  <a:pt x="66" y="760"/>
                </a:cubicBezTo>
                <a:cubicBezTo>
                  <a:pt x="53" y="757"/>
                  <a:pt x="50" y="724"/>
                  <a:pt x="50" y="724"/>
                </a:cubicBezTo>
                <a:cubicBezTo>
                  <a:pt x="56" y="695"/>
                  <a:pt x="79" y="657"/>
                  <a:pt x="86" y="628"/>
                </a:cubicBezTo>
                <a:cubicBezTo>
                  <a:pt x="87" y="595"/>
                  <a:pt x="66" y="569"/>
                  <a:pt x="70" y="536"/>
                </a:cubicBezTo>
                <a:cubicBezTo>
                  <a:pt x="71" y="523"/>
                  <a:pt x="102" y="516"/>
                  <a:pt x="102" y="516"/>
                </a:cubicBezTo>
                <a:cubicBezTo>
                  <a:pt x="122" y="486"/>
                  <a:pt x="101" y="491"/>
                  <a:pt x="154" y="496"/>
                </a:cubicBezTo>
                <a:cubicBezTo>
                  <a:pt x="171" y="502"/>
                  <a:pt x="184" y="510"/>
                  <a:pt x="202" y="516"/>
                </a:cubicBezTo>
                <a:cubicBezTo>
                  <a:pt x="206" y="517"/>
                  <a:pt x="214" y="520"/>
                  <a:pt x="214" y="520"/>
                </a:cubicBezTo>
                <a:cubicBezTo>
                  <a:pt x="226" y="519"/>
                  <a:pt x="239" y="520"/>
                  <a:pt x="250" y="516"/>
                </a:cubicBezTo>
                <a:cubicBezTo>
                  <a:pt x="254" y="514"/>
                  <a:pt x="252" y="508"/>
                  <a:pt x="254" y="504"/>
                </a:cubicBezTo>
                <a:cubicBezTo>
                  <a:pt x="261" y="491"/>
                  <a:pt x="262" y="492"/>
                  <a:pt x="274" y="484"/>
                </a:cubicBezTo>
                <a:cubicBezTo>
                  <a:pt x="281" y="463"/>
                  <a:pt x="282" y="449"/>
                  <a:pt x="302" y="436"/>
                </a:cubicBezTo>
                <a:cubicBezTo>
                  <a:pt x="313" y="402"/>
                  <a:pt x="303" y="366"/>
                  <a:pt x="314" y="332"/>
                </a:cubicBezTo>
                <a:cubicBezTo>
                  <a:pt x="320" y="265"/>
                  <a:pt x="317" y="269"/>
                  <a:pt x="366" y="236"/>
                </a:cubicBezTo>
                <a:cubicBezTo>
                  <a:pt x="371" y="220"/>
                  <a:pt x="383" y="219"/>
                  <a:pt x="390" y="204"/>
                </a:cubicBezTo>
                <a:cubicBezTo>
                  <a:pt x="409" y="161"/>
                  <a:pt x="388" y="195"/>
                  <a:pt x="406" y="168"/>
                </a:cubicBezTo>
                <a:cubicBezTo>
                  <a:pt x="397" y="133"/>
                  <a:pt x="396" y="140"/>
                  <a:pt x="354" y="144"/>
                </a:cubicBezTo>
                <a:cubicBezTo>
                  <a:pt x="305" y="134"/>
                  <a:pt x="332" y="98"/>
                  <a:pt x="362" y="88"/>
                </a:cubicBezTo>
                <a:cubicBezTo>
                  <a:pt x="367" y="72"/>
                  <a:pt x="363" y="79"/>
                  <a:pt x="374" y="68"/>
                </a:cubicBezTo>
              </a:path>
            </a:pathLst>
          </a:cu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9800" y="1314360"/>
            <a:ext cx="2052360" cy="3070440"/>
          </a:xfrm>
          <a:custGeom>
            <a:avLst/>
            <a:gdLst/>
            <a:ahLst/>
            <a:rect l="l" t="t" r="r" b="b"/>
            <a:pathLst>
              <a:path w="1293" h="1934">
                <a:moveTo>
                  <a:pt x="0" y="594"/>
                </a:moveTo>
                <a:cubicBezTo>
                  <a:pt x="82" y="592"/>
                  <a:pt x="164" y="565"/>
                  <a:pt x="246" y="561"/>
                </a:cubicBezTo>
                <a:cubicBezTo>
                  <a:pt x="297" y="559"/>
                  <a:pt x="324" y="535"/>
                  <a:pt x="384" y="528"/>
                </a:cubicBezTo>
                <a:cubicBezTo>
                  <a:pt x="404" y="521"/>
                  <a:pt x="418" y="511"/>
                  <a:pt x="438" y="504"/>
                </a:cubicBezTo>
                <a:cubicBezTo>
                  <a:pt x="442" y="498"/>
                  <a:pt x="445" y="491"/>
                  <a:pt x="450" y="486"/>
                </a:cubicBezTo>
                <a:cubicBezTo>
                  <a:pt x="455" y="481"/>
                  <a:pt x="463" y="480"/>
                  <a:pt x="468" y="474"/>
                </a:cubicBezTo>
                <a:cubicBezTo>
                  <a:pt x="481" y="457"/>
                  <a:pt x="484" y="416"/>
                  <a:pt x="498" y="402"/>
                </a:cubicBezTo>
                <a:cubicBezTo>
                  <a:pt x="521" y="379"/>
                  <a:pt x="511" y="391"/>
                  <a:pt x="528" y="366"/>
                </a:cubicBezTo>
                <a:cubicBezTo>
                  <a:pt x="531" y="344"/>
                  <a:pt x="533" y="286"/>
                  <a:pt x="558" y="270"/>
                </a:cubicBezTo>
                <a:cubicBezTo>
                  <a:pt x="568" y="252"/>
                  <a:pt x="577" y="276"/>
                  <a:pt x="588" y="273"/>
                </a:cubicBezTo>
                <a:cubicBezTo>
                  <a:pt x="599" y="270"/>
                  <a:pt x="619" y="265"/>
                  <a:pt x="624" y="252"/>
                </a:cubicBezTo>
                <a:cubicBezTo>
                  <a:pt x="622" y="232"/>
                  <a:pt x="624" y="211"/>
                  <a:pt x="618" y="192"/>
                </a:cubicBezTo>
                <a:cubicBezTo>
                  <a:pt x="612" y="172"/>
                  <a:pt x="595" y="158"/>
                  <a:pt x="588" y="138"/>
                </a:cubicBezTo>
                <a:cubicBezTo>
                  <a:pt x="585" y="125"/>
                  <a:pt x="585" y="128"/>
                  <a:pt x="597" y="117"/>
                </a:cubicBezTo>
                <a:cubicBezTo>
                  <a:pt x="609" y="106"/>
                  <a:pt x="644" y="84"/>
                  <a:pt x="660" y="72"/>
                </a:cubicBezTo>
                <a:cubicBezTo>
                  <a:pt x="682" y="50"/>
                  <a:pt x="670" y="57"/>
                  <a:pt x="696" y="48"/>
                </a:cubicBezTo>
                <a:cubicBezTo>
                  <a:pt x="720" y="50"/>
                  <a:pt x="744" y="49"/>
                  <a:pt x="768" y="54"/>
                </a:cubicBezTo>
                <a:cubicBezTo>
                  <a:pt x="786" y="58"/>
                  <a:pt x="788" y="72"/>
                  <a:pt x="798" y="84"/>
                </a:cubicBezTo>
                <a:cubicBezTo>
                  <a:pt x="814" y="103"/>
                  <a:pt x="829" y="112"/>
                  <a:pt x="852" y="120"/>
                </a:cubicBezTo>
                <a:cubicBezTo>
                  <a:pt x="870" y="118"/>
                  <a:pt x="888" y="118"/>
                  <a:pt x="906" y="114"/>
                </a:cubicBezTo>
                <a:cubicBezTo>
                  <a:pt x="932" y="107"/>
                  <a:pt x="923" y="83"/>
                  <a:pt x="948" y="72"/>
                </a:cubicBezTo>
                <a:cubicBezTo>
                  <a:pt x="960" y="67"/>
                  <a:pt x="972" y="64"/>
                  <a:pt x="984" y="60"/>
                </a:cubicBezTo>
                <a:cubicBezTo>
                  <a:pt x="990" y="58"/>
                  <a:pt x="1002" y="54"/>
                  <a:pt x="1002" y="54"/>
                </a:cubicBezTo>
                <a:cubicBezTo>
                  <a:pt x="1019" y="52"/>
                  <a:pt x="1065" y="66"/>
                  <a:pt x="1086" y="66"/>
                </a:cubicBezTo>
                <a:cubicBezTo>
                  <a:pt x="1107" y="66"/>
                  <a:pt x="1116" y="50"/>
                  <a:pt x="1131" y="51"/>
                </a:cubicBezTo>
                <a:cubicBezTo>
                  <a:pt x="1146" y="52"/>
                  <a:pt x="1159" y="73"/>
                  <a:pt x="1176" y="72"/>
                </a:cubicBezTo>
                <a:cubicBezTo>
                  <a:pt x="1196" y="70"/>
                  <a:pt x="1219" y="56"/>
                  <a:pt x="1236" y="45"/>
                </a:cubicBezTo>
                <a:cubicBezTo>
                  <a:pt x="1246" y="38"/>
                  <a:pt x="1239" y="42"/>
                  <a:pt x="1242" y="30"/>
                </a:cubicBezTo>
                <a:cubicBezTo>
                  <a:pt x="1247" y="7"/>
                  <a:pt x="1246" y="13"/>
                  <a:pt x="1266" y="0"/>
                </a:cubicBezTo>
                <a:cubicBezTo>
                  <a:pt x="1282" y="48"/>
                  <a:pt x="1293" y="108"/>
                  <a:pt x="1248" y="138"/>
                </a:cubicBezTo>
                <a:cubicBezTo>
                  <a:pt x="1241" y="174"/>
                  <a:pt x="1237" y="195"/>
                  <a:pt x="1206" y="216"/>
                </a:cubicBezTo>
                <a:cubicBezTo>
                  <a:pt x="1201" y="258"/>
                  <a:pt x="1218" y="299"/>
                  <a:pt x="1185" y="321"/>
                </a:cubicBezTo>
                <a:cubicBezTo>
                  <a:pt x="1155" y="367"/>
                  <a:pt x="1167" y="350"/>
                  <a:pt x="1116" y="372"/>
                </a:cubicBezTo>
                <a:cubicBezTo>
                  <a:pt x="1116" y="372"/>
                  <a:pt x="1071" y="387"/>
                  <a:pt x="1062" y="390"/>
                </a:cubicBezTo>
                <a:cubicBezTo>
                  <a:pt x="1050" y="394"/>
                  <a:pt x="1047" y="417"/>
                  <a:pt x="1047" y="417"/>
                </a:cubicBezTo>
                <a:cubicBezTo>
                  <a:pt x="1010" y="454"/>
                  <a:pt x="1025" y="430"/>
                  <a:pt x="1041" y="477"/>
                </a:cubicBezTo>
                <a:cubicBezTo>
                  <a:pt x="1037" y="492"/>
                  <a:pt x="1048" y="498"/>
                  <a:pt x="1047" y="507"/>
                </a:cubicBezTo>
                <a:cubicBezTo>
                  <a:pt x="1046" y="516"/>
                  <a:pt x="1030" y="521"/>
                  <a:pt x="1032" y="528"/>
                </a:cubicBezTo>
                <a:cubicBezTo>
                  <a:pt x="1033" y="537"/>
                  <a:pt x="1063" y="542"/>
                  <a:pt x="1062" y="549"/>
                </a:cubicBezTo>
                <a:cubicBezTo>
                  <a:pt x="1065" y="560"/>
                  <a:pt x="1057" y="583"/>
                  <a:pt x="1050" y="597"/>
                </a:cubicBezTo>
                <a:cubicBezTo>
                  <a:pt x="1048" y="604"/>
                  <a:pt x="1019" y="629"/>
                  <a:pt x="1017" y="636"/>
                </a:cubicBezTo>
                <a:cubicBezTo>
                  <a:pt x="1011" y="651"/>
                  <a:pt x="1002" y="636"/>
                  <a:pt x="1002" y="636"/>
                </a:cubicBezTo>
                <a:cubicBezTo>
                  <a:pt x="1001" y="648"/>
                  <a:pt x="1025" y="688"/>
                  <a:pt x="1026" y="708"/>
                </a:cubicBezTo>
                <a:cubicBezTo>
                  <a:pt x="1027" y="728"/>
                  <a:pt x="1023" y="755"/>
                  <a:pt x="1008" y="756"/>
                </a:cubicBezTo>
                <a:cubicBezTo>
                  <a:pt x="965" y="745"/>
                  <a:pt x="969" y="725"/>
                  <a:pt x="936" y="714"/>
                </a:cubicBezTo>
                <a:cubicBezTo>
                  <a:pt x="913" y="722"/>
                  <a:pt x="911" y="736"/>
                  <a:pt x="888" y="744"/>
                </a:cubicBezTo>
                <a:cubicBezTo>
                  <a:pt x="874" y="735"/>
                  <a:pt x="859" y="719"/>
                  <a:pt x="840" y="738"/>
                </a:cubicBezTo>
                <a:cubicBezTo>
                  <a:pt x="831" y="747"/>
                  <a:pt x="849" y="786"/>
                  <a:pt x="849" y="786"/>
                </a:cubicBezTo>
                <a:cubicBezTo>
                  <a:pt x="847" y="800"/>
                  <a:pt x="829" y="804"/>
                  <a:pt x="822" y="816"/>
                </a:cubicBezTo>
                <a:cubicBezTo>
                  <a:pt x="818" y="823"/>
                  <a:pt x="806" y="820"/>
                  <a:pt x="798" y="822"/>
                </a:cubicBezTo>
                <a:cubicBezTo>
                  <a:pt x="730" y="842"/>
                  <a:pt x="792" y="832"/>
                  <a:pt x="690" y="840"/>
                </a:cubicBezTo>
                <a:cubicBezTo>
                  <a:pt x="679" y="847"/>
                  <a:pt x="687" y="867"/>
                  <a:pt x="678" y="876"/>
                </a:cubicBezTo>
                <a:cubicBezTo>
                  <a:pt x="674" y="880"/>
                  <a:pt x="652" y="910"/>
                  <a:pt x="648" y="915"/>
                </a:cubicBezTo>
                <a:cubicBezTo>
                  <a:pt x="643" y="921"/>
                  <a:pt x="636" y="884"/>
                  <a:pt x="630" y="888"/>
                </a:cubicBezTo>
                <a:cubicBezTo>
                  <a:pt x="628" y="896"/>
                  <a:pt x="629" y="906"/>
                  <a:pt x="624" y="912"/>
                </a:cubicBezTo>
                <a:cubicBezTo>
                  <a:pt x="616" y="916"/>
                  <a:pt x="597" y="906"/>
                  <a:pt x="585" y="903"/>
                </a:cubicBezTo>
                <a:cubicBezTo>
                  <a:pt x="573" y="900"/>
                  <a:pt x="568" y="887"/>
                  <a:pt x="552" y="894"/>
                </a:cubicBezTo>
                <a:cubicBezTo>
                  <a:pt x="512" y="902"/>
                  <a:pt x="523" y="920"/>
                  <a:pt x="486" y="945"/>
                </a:cubicBezTo>
                <a:cubicBezTo>
                  <a:pt x="475" y="952"/>
                  <a:pt x="483" y="999"/>
                  <a:pt x="483" y="999"/>
                </a:cubicBezTo>
                <a:cubicBezTo>
                  <a:pt x="516" y="1010"/>
                  <a:pt x="462" y="997"/>
                  <a:pt x="447" y="1020"/>
                </a:cubicBezTo>
                <a:cubicBezTo>
                  <a:pt x="445" y="1034"/>
                  <a:pt x="441" y="1027"/>
                  <a:pt x="432" y="1038"/>
                </a:cubicBezTo>
                <a:cubicBezTo>
                  <a:pt x="420" y="1054"/>
                  <a:pt x="394" y="1051"/>
                  <a:pt x="378" y="1062"/>
                </a:cubicBezTo>
                <a:cubicBezTo>
                  <a:pt x="374" y="1074"/>
                  <a:pt x="394" y="1101"/>
                  <a:pt x="390" y="1113"/>
                </a:cubicBezTo>
                <a:cubicBezTo>
                  <a:pt x="387" y="1120"/>
                  <a:pt x="379" y="1120"/>
                  <a:pt x="372" y="1119"/>
                </a:cubicBezTo>
                <a:cubicBezTo>
                  <a:pt x="367" y="1122"/>
                  <a:pt x="365" y="1129"/>
                  <a:pt x="357" y="1134"/>
                </a:cubicBezTo>
                <a:cubicBezTo>
                  <a:pt x="349" y="1134"/>
                  <a:pt x="347" y="1149"/>
                  <a:pt x="327" y="1149"/>
                </a:cubicBezTo>
                <a:cubicBezTo>
                  <a:pt x="307" y="1149"/>
                  <a:pt x="252" y="1135"/>
                  <a:pt x="234" y="1134"/>
                </a:cubicBezTo>
                <a:cubicBezTo>
                  <a:pt x="228" y="1136"/>
                  <a:pt x="219" y="1134"/>
                  <a:pt x="216" y="1140"/>
                </a:cubicBezTo>
                <a:cubicBezTo>
                  <a:pt x="213" y="1146"/>
                  <a:pt x="221" y="1152"/>
                  <a:pt x="222" y="1158"/>
                </a:cubicBezTo>
                <a:cubicBezTo>
                  <a:pt x="223" y="1163"/>
                  <a:pt x="242" y="1162"/>
                  <a:pt x="243" y="1176"/>
                </a:cubicBezTo>
                <a:cubicBezTo>
                  <a:pt x="248" y="1187"/>
                  <a:pt x="225" y="1227"/>
                  <a:pt x="252" y="1227"/>
                </a:cubicBezTo>
                <a:cubicBezTo>
                  <a:pt x="260" y="1241"/>
                  <a:pt x="260" y="1246"/>
                  <a:pt x="276" y="1248"/>
                </a:cubicBezTo>
                <a:cubicBezTo>
                  <a:pt x="283" y="1252"/>
                  <a:pt x="288" y="1235"/>
                  <a:pt x="294" y="1236"/>
                </a:cubicBezTo>
                <a:cubicBezTo>
                  <a:pt x="300" y="1237"/>
                  <a:pt x="304" y="1246"/>
                  <a:pt x="312" y="1254"/>
                </a:cubicBezTo>
                <a:cubicBezTo>
                  <a:pt x="319" y="1260"/>
                  <a:pt x="339" y="1260"/>
                  <a:pt x="345" y="1287"/>
                </a:cubicBezTo>
                <a:cubicBezTo>
                  <a:pt x="348" y="1307"/>
                  <a:pt x="330" y="1356"/>
                  <a:pt x="330" y="1377"/>
                </a:cubicBezTo>
                <a:cubicBezTo>
                  <a:pt x="330" y="1398"/>
                  <a:pt x="346" y="1402"/>
                  <a:pt x="348" y="1416"/>
                </a:cubicBezTo>
                <a:cubicBezTo>
                  <a:pt x="346" y="1432"/>
                  <a:pt x="355" y="1455"/>
                  <a:pt x="342" y="1464"/>
                </a:cubicBezTo>
                <a:cubicBezTo>
                  <a:pt x="327" y="1474"/>
                  <a:pt x="306" y="1462"/>
                  <a:pt x="288" y="1458"/>
                </a:cubicBezTo>
                <a:cubicBezTo>
                  <a:pt x="276" y="1456"/>
                  <a:pt x="255" y="1494"/>
                  <a:pt x="255" y="1494"/>
                </a:cubicBezTo>
                <a:cubicBezTo>
                  <a:pt x="249" y="1498"/>
                  <a:pt x="237" y="1452"/>
                  <a:pt x="234" y="1458"/>
                </a:cubicBezTo>
                <a:cubicBezTo>
                  <a:pt x="229" y="1469"/>
                  <a:pt x="218" y="1461"/>
                  <a:pt x="210" y="1470"/>
                </a:cubicBezTo>
                <a:cubicBezTo>
                  <a:pt x="206" y="1475"/>
                  <a:pt x="205" y="1485"/>
                  <a:pt x="192" y="1476"/>
                </a:cubicBezTo>
                <a:cubicBezTo>
                  <a:pt x="162" y="1486"/>
                  <a:pt x="176" y="1476"/>
                  <a:pt x="162" y="1518"/>
                </a:cubicBezTo>
                <a:cubicBezTo>
                  <a:pt x="160" y="1524"/>
                  <a:pt x="156" y="1536"/>
                  <a:pt x="156" y="1536"/>
                </a:cubicBezTo>
                <a:cubicBezTo>
                  <a:pt x="154" y="1556"/>
                  <a:pt x="164" y="1581"/>
                  <a:pt x="150" y="1596"/>
                </a:cubicBezTo>
                <a:cubicBezTo>
                  <a:pt x="146" y="1607"/>
                  <a:pt x="153" y="1637"/>
                  <a:pt x="144" y="1638"/>
                </a:cubicBezTo>
                <a:cubicBezTo>
                  <a:pt x="135" y="1648"/>
                  <a:pt x="106" y="1648"/>
                  <a:pt x="96" y="1653"/>
                </a:cubicBezTo>
                <a:cubicBezTo>
                  <a:pt x="89" y="1655"/>
                  <a:pt x="85" y="1662"/>
                  <a:pt x="81" y="1668"/>
                </a:cubicBezTo>
                <a:cubicBezTo>
                  <a:pt x="76" y="1754"/>
                  <a:pt x="101" y="1718"/>
                  <a:pt x="36" y="1734"/>
                </a:cubicBezTo>
                <a:cubicBezTo>
                  <a:pt x="24" y="1760"/>
                  <a:pt x="26" y="1744"/>
                  <a:pt x="21" y="1746"/>
                </a:cubicBezTo>
                <a:cubicBezTo>
                  <a:pt x="17" y="1747"/>
                  <a:pt x="15" y="1746"/>
                  <a:pt x="12" y="1743"/>
                </a:cubicBezTo>
                <a:cubicBezTo>
                  <a:pt x="9" y="1740"/>
                  <a:pt x="4" y="1731"/>
                  <a:pt x="3" y="1728"/>
                </a:cubicBezTo>
                <a:cubicBezTo>
                  <a:pt x="2" y="1725"/>
                  <a:pt x="6" y="1722"/>
                  <a:pt x="6" y="1725"/>
                </a:cubicBezTo>
                <a:cubicBezTo>
                  <a:pt x="6" y="1728"/>
                  <a:pt x="4" y="1934"/>
                  <a:pt x="3" y="1746"/>
                </a:cubicBezTo>
                <a:cubicBezTo>
                  <a:pt x="2" y="1558"/>
                  <a:pt x="1" y="834"/>
                  <a:pt x="0" y="594"/>
                </a:cubicBezTo>
                <a:close/>
              </a:path>
            </a:pathLst>
          </a:custGeom>
          <a:solidFill>
            <a:srgbClr val="cc6600">
              <a:alpha val="6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37080" y="6362640"/>
            <a:ext cx="2519280" cy="3682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926.7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北伐开始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292640"/>
            <a:ext cx="144360" cy="144360"/>
          </a:xfrm>
          <a:prstGeom prst="ellipse">
            <a:avLst/>
          </a:prstGeom>
          <a:solidFill>
            <a:srgbClr val="ffffff">
              <a:alpha val="9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4869000"/>
            <a:ext cx="144360" cy="144360"/>
          </a:xfrm>
          <a:prstGeom prst="ellipse">
            <a:avLst/>
          </a:prstGeom>
          <a:solidFill>
            <a:srgbClr val="ffffff">
              <a:alpha val="9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57720" y="4724280"/>
            <a:ext cx="144360" cy="144720"/>
          </a:xfrm>
          <a:prstGeom prst="ellipse">
            <a:avLst/>
          </a:prstGeom>
          <a:solidFill>
            <a:srgbClr val="ffffff">
              <a:alpha val="9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573360"/>
            <a:ext cx="144360" cy="144720"/>
          </a:xfrm>
          <a:prstGeom prst="ellipse">
            <a:avLst/>
          </a:prstGeom>
          <a:solidFill>
            <a:srgbClr val="ffffff">
              <a:alpha val="9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76720" y="2708280"/>
            <a:ext cx="144720" cy="144360"/>
          </a:xfrm>
          <a:prstGeom prst="ellipse">
            <a:avLst/>
          </a:prstGeom>
          <a:solidFill>
            <a:srgbClr val="ffffff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50080" y="4149720"/>
            <a:ext cx="144360" cy="144360"/>
          </a:xfrm>
          <a:prstGeom prst="ellipse">
            <a:avLst/>
          </a:prstGeom>
          <a:solidFill>
            <a:srgbClr val="ffffff">
              <a:alpha val="9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34080" y="4292640"/>
            <a:ext cx="144360" cy="144360"/>
          </a:xfrm>
          <a:prstGeom prst="ellipse">
            <a:avLst/>
          </a:prstGeom>
          <a:solidFill>
            <a:srgbClr val="ffffff">
              <a:alpha val="9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4005360"/>
            <a:ext cx="144360" cy="144360"/>
          </a:xfrm>
          <a:prstGeom prst="ellipse">
            <a:avLst/>
          </a:prstGeom>
          <a:solidFill>
            <a:srgbClr val="ffffff">
              <a:alpha val="9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0360" y="2276640"/>
            <a:ext cx="144360" cy="144360"/>
          </a:xfrm>
          <a:prstGeom prst="ellipse">
            <a:avLst/>
          </a:prstGeom>
          <a:solidFill>
            <a:srgbClr val="ffffff">
              <a:alpha val="9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5732640"/>
            <a:ext cx="144360" cy="144360"/>
          </a:xfrm>
          <a:prstGeom prst="ellipse">
            <a:avLst/>
          </a:prstGeom>
          <a:solidFill>
            <a:srgbClr val="ffffff">
              <a:alpha val="9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877000"/>
            <a:ext cx="720720" cy="368280"/>
          </a:xfrm>
          <a:prstGeom prst="rect">
            <a:avLst/>
          </a:prstGeom>
          <a:noFill/>
          <a:ln w="1908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广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2421000"/>
            <a:ext cx="144360" cy="144360"/>
          </a:xfrm>
          <a:prstGeom prst="ellipse">
            <a:avLst/>
          </a:prstGeom>
          <a:solidFill>
            <a:srgbClr val="ffffff">
              <a:alpha val="9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724280"/>
            <a:ext cx="360360" cy="36036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4148280"/>
            <a:ext cx="360360" cy="36036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979640" y="0"/>
            <a:ext cx="1368360" cy="2063160"/>
            <a:chOff x="1979640" y="0"/>
            <a:chExt cx="1368360" cy="2063160"/>
          </a:xfrm>
        </p:grpSpPr>
        <p:pic>
          <p:nvPicPr>
            <p:cNvPr id="160" name="" descr=""/>
            <p:cNvPicPr/>
            <p:nvPr/>
          </p:nvPicPr>
          <p:blipFill>
            <a:blip r:embed="rId6"/>
            <a:srcRect l="9361" t="0" r="14710" b="24062"/>
            <a:stretch/>
          </p:blipFill>
          <p:spPr>
            <a:xfrm>
              <a:off x="1979640" y="0"/>
              <a:ext cx="136836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979640" y="1603440"/>
              <a:ext cx="136836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Garamond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ffffff"/>
                  </a:solidFill>
                  <a:latin typeface="Garamond"/>
                  <a:ea typeface="黑体"/>
                </a:rPr>
                <a:t>冯玉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24000" y="1008000"/>
            <a:ext cx="1368360" cy="2253600"/>
            <a:chOff x="324000" y="1008000"/>
            <a:chExt cx="1368360" cy="2253600"/>
          </a:xfrm>
        </p:grpSpPr>
        <p:pic>
          <p:nvPicPr>
            <p:cNvPr id="163" name="" descr=""/>
            <p:cNvPicPr/>
            <p:nvPr/>
          </p:nvPicPr>
          <p:blipFill>
            <a:blip r:embed="rId7"/>
            <a:stretch/>
          </p:blipFill>
          <p:spPr>
            <a:xfrm>
              <a:off x="324000" y="1008000"/>
              <a:ext cx="13604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24000" y="2801880"/>
              <a:ext cx="1368360" cy="459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Garamond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ffff00"/>
                  </a:solidFill>
                  <a:latin typeface="Garamond"/>
                  <a:ea typeface="黑体"/>
                </a:rPr>
                <a:t>叶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889440" y="3933720"/>
            <a:ext cx="1330200" cy="1195560"/>
          </a:xfrm>
          <a:custGeom>
            <a:avLst/>
            <a:gdLst/>
            <a:ahLst/>
            <a:rect l="l" t="t" r="r" b="b"/>
            <a:pathLst>
              <a:path w="838" h="753">
                <a:moveTo>
                  <a:pt x="216" y="0"/>
                </a:moveTo>
                <a:cubicBezTo>
                  <a:pt x="229" y="8"/>
                  <a:pt x="230" y="24"/>
                  <a:pt x="243" y="33"/>
                </a:cubicBezTo>
                <a:cubicBezTo>
                  <a:pt x="250" y="44"/>
                  <a:pt x="256" y="44"/>
                  <a:pt x="267" y="51"/>
                </a:cubicBezTo>
                <a:cubicBezTo>
                  <a:pt x="278" y="67"/>
                  <a:pt x="294" y="68"/>
                  <a:pt x="309" y="78"/>
                </a:cubicBezTo>
                <a:cubicBezTo>
                  <a:pt x="352" y="142"/>
                  <a:pt x="493" y="131"/>
                  <a:pt x="549" y="132"/>
                </a:cubicBezTo>
                <a:cubicBezTo>
                  <a:pt x="553" y="145"/>
                  <a:pt x="550" y="151"/>
                  <a:pt x="543" y="162"/>
                </a:cubicBezTo>
                <a:cubicBezTo>
                  <a:pt x="555" y="166"/>
                  <a:pt x="567" y="164"/>
                  <a:pt x="579" y="168"/>
                </a:cubicBezTo>
                <a:cubicBezTo>
                  <a:pt x="602" y="176"/>
                  <a:pt x="631" y="200"/>
                  <a:pt x="651" y="213"/>
                </a:cubicBezTo>
                <a:cubicBezTo>
                  <a:pt x="670" y="226"/>
                  <a:pt x="697" y="215"/>
                  <a:pt x="720" y="216"/>
                </a:cubicBezTo>
                <a:cubicBezTo>
                  <a:pt x="744" y="232"/>
                  <a:pt x="776" y="241"/>
                  <a:pt x="786" y="270"/>
                </a:cubicBezTo>
                <a:cubicBezTo>
                  <a:pt x="790" y="391"/>
                  <a:pt x="767" y="353"/>
                  <a:pt x="822" y="390"/>
                </a:cubicBezTo>
                <a:cubicBezTo>
                  <a:pt x="838" y="414"/>
                  <a:pt x="777" y="410"/>
                  <a:pt x="765" y="411"/>
                </a:cubicBezTo>
                <a:cubicBezTo>
                  <a:pt x="761" y="412"/>
                  <a:pt x="757" y="413"/>
                  <a:pt x="753" y="414"/>
                </a:cubicBezTo>
                <a:cubicBezTo>
                  <a:pt x="742" y="415"/>
                  <a:pt x="731" y="415"/>
                  <a:pt x="720" y="417"/>
                </a:cubicBezTo>
                <a:cubicBezTo>
                  <a:pt x="714" y="418"/>
                  <a:pt x="702" y="423"/>
                  <a:pt x="702" y="423"/>
                </a:cubicBezTo>
                <a:cubicBezTo>
                  <a:pt x="698" y="435"/>
                  <a:pt x="693" y="441"/>
                  <a:pt x="684" y="450"/>
                </a:cubicBezTo>
                <a:cubicBezTo>
                  <a:pt x="678" y="467"/>
                  <a:pt x="667" y="480"/>
                  <a:pt x="657" y="495"/>
                </a:cubicBezTo>
                <a:cubicBezTo>
                  <a:pt x="652" y="502"/>
                  <a:pt x="641" y="499"/>
                  <a:pt x="633" y="501"/>
                </a:cubicBezTo>
                <a:cubicBezTo>
                  <a:pt x="621" y="504"/>
                  <a:pt x="607" y="512"/>
                  <a:pt x="597" y="519"/>
                </a:cubicBezTo>
                <a:cubicBezTo>
                  <a:pt x="592" y="534"/>
                  <a:pt x="595" y="545"/>
                  <a:pt x="603" y="558"/>
                </a:cubicBezTo>
                <a:cubicBezTo>
                  <a:pt x="605" y="570"/>
                  <a:pt x="606" y="577"/>
                  <a:pt x="609" y="588"/>
                </a:cubicBezTo>
                <a:cubicBezTo>
                  <a:pt x="611" y="594"/>
                  <a:pt x="615" y="606"/>
                  <a:pt x="615" y="606"/>
                </a:cubicBezTo>
                <a:cubicBezTo>
                  <a:pt x="613" y="646"/>
                  <a:pt x="613" y="681"/>
                  <a:pt x="591" y="714"/>
                </a:cubicBezTo>
                <a:cubicBezTo>
                  <a:pt x="590" y="719"/>
                  <a:pt x="592" y="726"/>
                  <a:pt x="588" y="729"/>
                </a:cubicBezTo>
                <a:cubicBezTo>
                  <a:pt x="580" y="736"/>
                  <a:pt x="488" y="738"/>
                  <a:pt x="480" y="738"/>
                </a:cubicBezTo>
                <a:cubicBezTo>
                  <a:pt x="435" y="753"/>
                  <a:pt x="412" y="728"/>
                  <a:pt x="378" y="726"/>
                </a:cubicBezTo>
                <a:cubicBezTo>
                  <a:pt x="330" y="723"/>
                  <a:pt x="282" y="724"/>
                  <a:pt x="234" y="723"/>
                </a:cubicBezTo>
                <a:cubicBezTo>
                  <a:pt x="186" y="711"/>
                  <a:pt x="201" y="708"/>
                  <a:pt x="135" y="705"/>
                </a:cubicBezTo>
                <a:cubicBezTo>
                  <a:pt x="125" y="702"/>
                  <a:pt x="108" y="690"/>
                  <a:pt x="108" y="690"/>
                </a:cubicBezTo>
                <a:cubicBezTo>
                  <a:pt x="104" y="678"/>
                  <a:pt x="100" y="673"/>
                  <a:pt x="90" y="666"/>
                </a:cubicBezTo>
                <a:cubicBezTo>
                  <a:pt x="76" y="644"/>
                  <a:pt x="83" y="653"/>
                  <a:pt x="69" y="639"/>
                </a:cubicBezTo>
                <a:cubicBezTo>
                  <a:pt x="62" y="618"/>
                  <a:pt x="68" y="625"/>
                  <a:pt x="54" y="615"/>
                </a:cubicBezTo>
                <a:cubicBezTo>
                  <a:pt x="47" y="605"/>
                  <a:pt x="40" y="602"/>
                  <a:pt x="36" y="591"/>
                </a:cubicBezTo>
                <a:cubicBezTo>
                  <a:pt x="42" y="569"/>
                  <a:pt x="46" y="585"/>
                  <a:pt x="54" y="567"/>
                </a:cubicBezTo>
                <a:cubicBezTo>
                  <a:pt x="57" y="561"/>
                  <a:pt x="60" y="549"/>
                  <a:pt x="60" y="549"/>
                </a:cubicBezTo>
                <a:cubicBezTo>
                  <a:pt x="63" y="520"/>
                  <a:pt x="62" y="499"/>
                  <a:pt x="54" y="468"/>
                </a:cubicBezTo>
                <a:cubicBezTo>
                  <a:pt x="53" y="465"/>
                  <a:pt x="57" y="463"/>
                  <a:pt x="54" y="462"/>
                </a:cubicBezTo>
                <a:cubicBezTo>
                  <a:pt x="38" y="455"/>
                  <a:pt x="29" y="444"/>
                  <a:pt x="15" y="435"/>
                </a:cubicBezTo>
                <a:cubicBezTo>
                  <a:pt x="9" y="426"/>
                  <a:pt x="6" y="417"/>
                  <a:pt x="0" y="408"/>
                </a:cubicBezTo>
                <a:cubicBezTo>
                  <a:pt x="14" y="350"/>
                  <a:pt x="67" y="368"/>
                  <a:pt x="120" y="366"/>
                </a:cubicBezTo>
                <a:cubicBezTo>
                  <a:pt x="130" y="363"/>
                  <a:pt x="147" y="351"/>
                  <a:pt x="147" y="351"/>
                </a:cubicBezTo>
                <a:cubicBezTo>
                  <a:pt x="151" y="335"/>
                  <a:pt x="157" y="324"/>
                  <a:pt x="171" y="315"/>
                </a:cubicBezTo>
                <a:cubicBezTo>
                  <a:pt x="173" y="309"/>
                  <a:pt x="175" y="303"/>
                  <a:pt x="177" y="297"/>
                </a:cubicBezTo>
                <a:cubicBezTo>
                  <a:pt x="178" y="294"/>
                  <a:pt x="180" y="288"/>
                  <a:pt x="180" y="288"/>
                </a:cubicBezTo>
                <a:cubicBezTo>
                  <a:pt x="179" y="272"/>
                  <a:pt x="179" y="256"/>
                  <a:pt x="177" y="240"/>
                </a:cubicBezTo>
                <a:cubicBezTo>
                  <a:pt x="175" y="219"/>
                  <a:pt x="146" y="209"/>
                  <a:pt x="135" y="192"/>
                </a:cubicBezTo>
                <a:cubicBezTo>
                  <a:pt x="141" y="174"/>
                  <a:pt x="135" y="163"/>
                  <a:pt x="120" y="153"/>
                </a:cubicBezTo>
                <a:cubicBezTo>
                  <a:pt x="127" y="133"/>
                  <a:pt x="145" y="132"/>
                  <a:pt x="162" y="126"/>
                </a:cubicBezTo>
                <a:cubicBezTo>
                  <a:pt x="175" y="106"/>
                  <a:pt x="177" y="77"/>
                  <a:pt x="156" y="63"/>
                </a:cubicBezTo>
                <a:cubicBezTo>
                  <a:pt x="142" y="41"/>
                  <a:pt x="149" y="50"/>
                  <a:pt x="135" y="36"/>
                </a:cubicBezTo>
                <a:cubicBezTo>
                  <a:pt x="142" y="3"/>
                  <a:pt x="167" y="26"/>
                  <a:pt x="192" y="9"/>
                </a:cubicBezTo>
                <a:cubicBezTo>
                  <a:pt x="215" y="17"/>
                  <a:pt x="205" y="22"/>
                  <a:pt x="216" y="0"/>
                </a:cubicBez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75280" y="4581360"/>
            <a:ext cx="360360" cy="36036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4724280"/>
            <a:ext cx="720720" cy="368280"/>
          </a:xfrm>
          <a:prstGeom prst="rect">
            <a:avLst/>
          </a:prstGeom>
          <a:noFill/>
          <a:ln w="1908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长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97360" y="3500280"/>
            <a:ext cx="1392480" cy="2186280"/>
          </a:xfrm>
          <a:custGeom>
            <a:avLst/>
            <a:gdLst/>
            <a:ahLst/>
            <a:rect l="l" t="t" r="r" b="b"/>
            <a:pathLst>
              <a:path w="877" h="1377">
                <a:moveTo>
                  <a:pt x="493" y="1"/>
                </a:moveTo>
                <a:cubicBezTo>
                  <a:pt x="486" y="6"/>
                  <a:pt x="476" y="7"/>
                  <a:pt x="469" y="13"/>
                </a:cubicBezTo>
                <a:cubicBezTo>
                  <a:pt x="465" y="16"/>
                  <a:pt x="464" y="22"/>
                  <a:pt x="461" y="25"/>
                </a:cubicBezTo>
                <a:cubicBezTo>
                  <a:pt x="458" y="28"/>
                  <a:pt x="453" y="30"/>
                  <a:pt x="449" y="33"/>
                </a:cubicBezTo>
                <a:cubicBezTo>
                  <a:pt x="440" y="46"/>
                  <a:pt x="428" y="51"/>
                  <a:pt x="421" y="65"/>
                </a:cubicBezTo>
                <a:cubicBezTo>
                  <a:pt x="419" y="69"/>
                  <a:pt x="420" y="75"/>
                  <a:pt x="417" y="77"/>
                </a:cubicBezTo>
                <a:cubicBezTo>
                  <a:pt x="410" y="82"/>
                  <a:pt x="393" y="85"/>
                  <a:pt x="393" y="85"/>
                </a:cubicBezTo>
                <a:cubicBezTo>
                  <a:pt x="356" y="82"/>
                  <a:pt x="336" y="69"/>
                  <a:pt x="301" y="81"/>
                </a:cubicBezTo>
                <a:cubicBezTo>
                  <a:pt x="278" y="76"/>
                  <a:pt x="253" y="62"/>
                  <a:pt x="233" y="49"/>
                </a:cubicBezTo>
                <a:cubicBezTo>
                  <a:pt x="213" y="56"/>
                  <a:pt x="222" y="49"/>
                  <a:pt x="213" y="77"/>
                </a:cubicBezTo>
                <a:cubicBezTo>
                  <a:pt x="210" y="87"/>
                  <a:pt x="191" y="82"/>
                  <a:pt x="181" y="85"/>
                </a:cubicBezTo>
                <a:cubicBezTo>
                  <a:pt x="186" y="106"/>
                  <a:pt x="192" y="102"/>
                  <a:pt x="209" y="113"/>
                </a:cubicBezTo>
                <a:cubicBezTo>
                  <a:pt x="214" y="121"/>
                  <a:pt x="220" y="129"/>
                  <a:pt x="225" y="137"/>
                </a:cubicBezTo>
                <a:cubicBezTo>
                  <a:pt x="228" y="141"/>
                  <a:pt x="233" y="149"/>
                  <a:pt x="233" y="149"/>
                </a:cubicBezTo>
                <a:cubicBezTo>
                  <a:pt x="228" y="183"/>
                  <a:pt x="228" y="183"/>
                  <a:pt x="197" y="189"/>
                </a:cubicBezTo>
                <a:cubicBezTo>
                  <a:pt x="164" y="211"/>
                  <a:pt x="153" y="178"/>
                  <a:pt x="125" y="169"/>
                </a:cubicBezTo>
                <a:cubicBezTo>
                  <a:pt x="109" y="193"/>
                  <a:pt x="109" y="220"/>
                  <a:pt x="93" y="245"/>
                </a:cubicBezTo>
                <a:cubicBezTo>
                  <a:pt x="84" y="281"/>
                  <a:pt x="95" y="274"/>
                  <a:pt x="73" y="281"/>
                </a:cubicBezTo>
                <a:cubicBezTo>
                  <a:pt x="40" y="330"/>
                  <a:pt x="112" y="334"/>
                  <a:pt x="145" y="337"/>
                </a:cubicBezTo>
                <a:cubicBezTo>
                  <a:pt x="173" y="356"/>
                  <a:pt x="164" y="345"/>
                  <a:pt x="177" y="365"/>
                </a:cubicBezTo>
                <a:cubicBezTo>
                  <a:pt x="174" y="408"/>
                  <a:pt x="183" y="421"/>
                  <a:pt x="153" y="441"/>
                </a:cubicBezTo>
                <a:cubicBezTo>
                  <a:pt x="149" y="452"/>
                  <a:pt x="143" y="465"/>
                  <a:pt x="153" y="477"/>
                </a:cubicBezTo>
                <a:cubicBezTo>
                  <a:pt x="159" y="483"/>
                  <a:pt x="170" y="480"/>
                  <a:pt x="177" y="485"/>
                </a:cubicBezTo>
                <a:cubicBezTo>
                  <a:pt x="185" y="490"/>
                  <a:pt x="201" y="501"/>
                  <a:pt x="201" y="501"/>
                </a:cubicBezTo>
                <a:cubicBezTo>
                  <a:pt x="228" y="541"/>
                  <a:pt x="193" y="620"/>
                  <a:pt x="217" y="641"/>
                </a:cubicBezTo>
                <a:cubicBezTo>
                  <a:pt x="227" y="650"/>
                  <a:pt x="242" y="650"/>
                  <a:pt x="253" y="657"/>
                </a:cubicBezTo>
                <a:cubicBezTo>
                  <a:pt x="213" y="684"/>
                  <a:pt x="161" y="654"/>
                  <a:pt x="121" y="681"/>
                </a:cubicBezTo>
                <a:cubicBezTo>
                  <a:pt x="108" y="700"/>
                  <a:pt x="100" y="724"/>
                  <a:pt x="81" y="737"/>
                </a:cubicBezTo>
                <a:cubicBezTo>
                  <a:pt x="80" y="741"/>
                  <a:pt x="80" y="747"/>
                  <a:pt x="77" y="749"/>
                </a:cubicBezTo>
                <a:cubicBezTo>
                  <a:pt x="69" y="755"/>
                  <a:pt x="35" y="766"/>
                  <a:pt x="25" y="769"/>
                </a:cubicBezTo>
                <a:cubicBezTo>
                  <a:pt x="0" y="807"/>
                  <a:pt x="9" y="829"/>
                  <a:pt x="33" y="865"/>
                </a:cubicBezTo>
                <a:cubicBezTo>
                  <a:pt x="30" y="906"/>
                  <a:pt x="36" y="920"/>
                  <a:pt x="17" y="949"/>
                </a:cubicBezTo>
                <a:cubicBezTo>
                  <a:pt x="14" y="1024"/>
                  <a:pt x="9" y="1055"/>
                  <a:pt x="17" y="1121"/>
                </a:cubicBezTo>
                <a:cubicBezTo>
                  <a:pt x="18" y="1127"/>
                  <a:pt x="24" y="1142"/>
                  <a:pt x="29" y="1145"/>
                </a:cubicBezTo>
                <a:cubicBezTo>
                  <a:pt x="37" y="1152"/>
                  <a:pt x="49" y="1192"/>
                  <a:pt x="61" y="1197"/>
                </a:cubicBezTo>
                <a:cubicBezTo>
                  <a:pt x="73" y="1202"/>
                  <a:pt x="92" y="1174"/>
                  <a:pt x="101" y="1177"/>
                </a:cubicBezTo>
                <a:cubicBezTo>
                  <a:pt x="114" y="1196"/>
                  <a:pt x="107" y="1184"/>
                  <a:pt x="117" y="1213"/>
                </a:cubicBezTo>
                <a:cubicBezTo>
                  <a:pt x="118" y="1217"/>
                  <a:pt x="121" y="1225"/>
                  <a:pt x="121" y="1225"/>
                </a:cubicBezTo>
                <a:cubicBezTo>
                  <a:pt x="116" y="1244"/>
                  <a:pt x="113" y="1250"/>
                  <a:pt x="97" y="1261"/>
                </a:cubicBezTo>
                <a:cubicBezTo>
                  <a:pt x="104" y="1300"/>
                  <a:pt x="98" y="1293"/>
                  <a:pt x="133" y="1305"/>
                </a:cubicBezTo>
                <a:cubicBezTo>
                  <a:pt x="161" y="1301"/>
                  <a:pt x="162" y="1281"/>
                  <a:pt x="185" y="1273"/>
                </a:cubicBezTo>
                <a:cubicBezTo>
                  <a:pt x="197" y="1237"/>
                  <a:pt x="237" y="1267"/>
                  <a:pt x="273" y="1265"/>
                </a:cubicBezTo>
                <a:cubicBezTo>
                  <a:pt x="295" y="1250"/>
                  <a:pt x="299" y="1253"/>
                  <a:pt x="329" y="1257"/>
                </a:cubicBezTo>
                <a:cubicBezTo>
                  <a:pt x="333" y="1260"/>
                  <a:pt x="338" y="1261"/>
                  <a:pt x="341" y="1265"/>
                </a:cubicBezTo>
                <a:cubicBezTo>
                  <a:pt x="344" y="1268"/>
                  <a:pt x="342" y="1275"/>
                  <a:pt x="345" y="1277"/>
                </a:cubicBezTo>
                <a:cubicBezTo>
                  <a:pt x="356" y="1285"/>
                  <a:pt x="370" y="1286"/>
                  <a:pt x="381" y="1293"/>
                </a:cubicBezTo>
                <a:cubicBezTo>
                  <a:pt x="388" y="1313"/>
                  <a:pt x="397" y="1327"/>
                  <a:pt x="409" y="1345"/>
                </a:cubicBezTo>
                <a:cubicBezTo>
                  <a:pt x="430" y="1377"/>
                  <a:pt x="403" y="1364"/>
                  <a:pt x="429" y="1373"/>
                </a:cubicBezTo>
                <a:cubicBezTo>
                  <a:pt x="445" y="1372"/>
                  <a:pt x="461" y="1372"/>
                  <a:pt x="477" y="1369"/>
                </a:cubicBezTo>
                <a:cubicBezTo>
                  <a:pt x="485" y="1368"/>
                  <a:pt x="501" y="1361"/>
                  <a:pt x="501" y="1361"/>
                </a:cubicBezTo>
                <a:cubicBezTo>
                  <a:pt x="532" y="1330"/>
                  <a:pt x="510" y="1319"/>
                  <a:pt x="521" y="1265"/>
                </a:cubicBezTo>
                <a:cubicBezTo>
                  <a:pt x="522" y="1260"/>
                  <a:pt x="560" y="1259"/>
                  <a:pt x="577" y="1257"/>
                </a:cubicBezTo>
                <a:cubicBezTo>
                  <a:pt x="592" y="1235"/>
                  <a:pt x="599" y="1216"/>
                  <a:pt x="621" y="1201"/>
                </a:cubicBezTo>
                <a:cubicBezTo>
                  <a:pt x="629" y="1178"/>
                  <a:pt x="614" y="1150"/>
                  <a:pt x="641" y="1141"/>
                </a:cubicBezTo>
                <a:cubicBezTo>
                  <a:pt x="643" y="1141"/>
                  <a:pt x="684" y="1150"/>
                  <a:pt x="689" y="1141"/>
                </a:cubicBezTo>
                <a:cubicBezTo>
                  <a:pt x="697" y="1127"/>
                  <a:pt x="677" y="1093"/>
                  <a:pt x="677" y="1093"/>
                </a:cubicBezTo>
                <a:cubicBezTo>
                  <a:pt x="680" y="1072"/>
                  <a:pt x="682" y="1050"/>
                  <a:pt x="685" y="1029"/>
                </a:cubicBezTo>
                <a:cubicBezTo>
                  <a:pt x="686" y="1021"/>
                  <a:pt x="693" y="1005"/>
                  <a:pt x="693" y="1005"/>
                </a:cubicBezTo>
                <a:cubicBezTo>
                  <a:pt x="695" y="987"/>
                  <a:pt x="695" y="958"/>
                  <a:pt x="705" y="941"/>
                </a:cubicBezTo>
                <a:cubicBezTo>
                  <a:pt x="710" y="933"/>
                  <a:pt x="718" y="926"/>
                  <a:pt x="721" y="917"/>
                </a:cubicBezTo>
                <a:cubicBezTo>
                  <a:pt x="722" y="913"/>
                  <a:pt x="722" y="907"/>
                  <a:pt x="725" y="905"/>
                </a:cubicBezTo>
                <a:cubicBezTo>
                  <a:pt x="732" y="900"/>
                  <a:pt x="749" y="897"/>
                  <a:pt x="749" y="897"/>
                </a:cubicBezTo>
                <a:cubicBezTo>
                  <a:pt x="752" y="893"/>
                  <a:pt x="760" y="889"/>
                  <a:pt x="757" y="885"/>
                </a:cubicBezTo>
                <a:cubicBezTo>
                  <a:pt x="752" y="878"/>
                  <a:pt x="740" y="882"/>
                  <a:pt x="733" y="877"/>
                </a:cubicBezTo>
                <a:cubicBezTo>
                  <a:pt x="725" y="872"/>
                  <a:pt x="709" y="861"/>
                  <a:pt x="709" y="861"/>
                </a:cubicBezTo>
                <a:cubicBezTo>
                  <a:pt x="700" y="848"/>
                  <a:pt x="690" y="842"/>
                  <a:pt x="681" y="829"/>
                </a:cubicBezTo>
                <a:cubicBezTo>
                  <a:pt x="681" y="823"/>
                  <a:pt x="702" y="830"/>
                  <a:pt x="709" y="833"/>
                </a:cubicBezTo>
                <a:cubicBezTo>
                  <a:pt x="716" y="836"/>
                  <a:pt x="719" y="847"/>
                  <a:pt x="725" y="849"/>
                </a:cubicBezTo>
                <a:cubicBezTo>
                  <a:pt x="732" y="848"/>
                  <a:pt x="740" y="850"/>
                  <a:pt x="745" y="845"/>
                </a:cubicBezTo>
                <a:cubicBezTo>
                  <a:pt x="761" y="829"/>
                  <a:pt x="736" y="820"/>
                  <a:pt x="769" y="809"/>
                </a:cubicBezTo>
                <a:cubicBezTo>
                  <a:pt x="778" y="795"/>
                  <a:pt x="781" y="785"/>
                  <a:pt x="793" y="773"/>
                </a:cubicBezTo>
                <a:cubicBezTo>
                  <a:pt x="806" y="777"/>
                  <a:pt x="816" y="785"/>
                  <a:pt x="829" y="789"/>
                </a:cubicBezTo>
                <a:cubicBezTo>
                  <a:pt x="824" y="721"/>
                  <a:pt x="833" y="745"/>
                  <a:pt x="801" y="713"/>
                </a:cubicBezTo>
                <a:cubicBezTo>
                  <a:pt x="814" y="709"/>
                  <a:pt x="832" y="715"/>
                  <a:pt x="841" y="705"/>
                </a:cubicBezTo>
                <a:cubicBezTo>
                  <a:pt x="855" y="689"/>
                  <a:pt x="827" y="668"/>
                  <a:pt x="817" y="665"/>
                </a:cubicBezTo>
                <a:cubicBezTo>
                  <a:pt x="845" y="623"/>
                  <a:pt x="867" y="684"/>
                  <a:pt x="849" y="621"/>
                </a:cubicBezTo>
                <a:cubicBezTo>
                  <a:pt x="831" y="627"/>
                  <a:pt x="830" y="637"/>
                  <a:pt x="813" y="625"/>
                </a:cubicBezTo>
                <a:cubicBezTo>
                  <a:pt x="800" y="587"/>
                  <a:pt x="849" y="599"/>
                  <a:pt x="877" y="597"/>
                </a:cubicBezTo>
                <a:cubicBezTo>
                  <a:pt x="871" y="547"/>
                  <a:pt x="872" y="558"/>
                  <a:pt x="821" y="553"/>
                </a:cubicBezTo>
                <a:cubicBezTo>
                  <a:pt x="807" y="544"/>
                  <a:pt x="799" y="543"/>
                  <a:pt x="789" y="529"/>
                </a:cubicBezTo>
                <a:cubicBezTo>
                  <a:pt x="768" y="532"/>
                  <a:pt x="758" y="534"/>
                  <a:pt x="741" y="545"/>
                </a:cubicBezTo>
                <a:cubicBezTo>
                  <a:pt x="722" y="574"/>
                  <a:pt x="699" y="560"/>
                  <a:pt x="661" y="557"/>
                </a:cubicBezTo>
                <a:cubicBezTo>
                  <a:pt x="668" y="537"/>
                  <a:pt x="680" y="540"/>
                  <a:pt x="701" y="537"/>
                </a:cubicBezTo>
                <a:cubicBezTo>
                  <a:pt x="712" y="527"/>
                  <a:pt x="720" y="516"/>
                  <a:pt x="729" y="509"/>
                </a:cubicBezTo>
                <a:cubicBezTo>
                  <a:pt x="738" y="502"/>
                  <a:pt x="745" y="501"/>
                  <a:pt x="757" y="493"/>
                </a:cubicBezTo>
                <a:cubicBezTo>
                  <a:pt x="779" y="486"/>
                  <a:pt x="784" y="466"/>
                  <a:pt x="801" y="461"/>
                </a:cubicBezTo>
                <a:cubicBezTo>
                  <a:pt x="810" y="458"/>
                  <a:pt x="820" y="458"/>
                  <a:pt x="829" y="457"/>
                </a:cubicBezTo>
                <a:cubicBezTo>
                  <a:pt x="820" y="443"/>
                  <a:pt x="821" y="434"/>
                  <a:pt x="805" y="429"/>
                </a:cubicBezTo>
                <a:cubicBezTo>
                  <a:pt x="765" y="389"/>
                  <a:pt x="739" y="367"/>
                  <a:pt x="681" y="361"/>
                </a:cubicBezTo>
                <a:cubicBezTo>
                  <a:pt x="655" y="344"/>
                  <a:pt x="613" y="357"/>
                  <a:pt x="581" y="353"/>
                </a:cubicBezTo>
                <a:cubicBezTo>
                  <a:pt x="578" y="349"/>
                  <a:pt x="572" y="346"/>
                  <a:pt x="573" y="341"/>
                </a:cubicBezTo>
                <a:cubicBezTo>
                  <a:pt x="576" y="329"/>
                  <a:pt x="597" y="340"/>
                  <a:pt x="609" y="341"/>
                </a:cubicBezTo>
                <a:cubicBezTo>
                  <a:pt x="628" y="343"/>
                  <a:pt x="646" y="344"/>
                  <a:pt x="665" y="345"/>
                </a:cubicBezTo>
                <a:cubicBezTo>
                  <a:pt x="702" y="357"/>
                  <a:pt x="681" y="352"/>
                  <a:pt x="729" y="357"/>
                </a:cubicBezTo>
                <a:cubicBezTo>
                  <a:pt x="745" y="362"/>
                  <a:pt x="744" y="371"/>
                  <a:pt x="753" y="385"/>
                </a:cubicBezTo>
                <a:cubicBezTo>
                  <a:pt x="754" y="390"/>
                  <a:pt x="762" y="401"/>
                  <a:pt x="757" y="401"/>
                </a:cubicBezTo>
                <a:cubicBezTo>
                  <a:pt x="747" y="401"/>
                  <a:pt x="733" y="385"/>
                  <a:pt x="733" y="385"/>
                </a:cubicBezTo>
                <a:cubicBezTo>
                  <a:pt x="756" y="377"/>
                  <a:pt x="795" y="362"/>
                  <a:pt x="805" y="393"/>
                </a:cubicBezTo>
                <a:cubicBezTo>
                  <a:pt x="817" y="392"/>
                  <a:pt x="831" y="395"/>
                  <a:pt x="841" y="389"/>
                </a:cubicBezTo>
                <a:cubicBezTo>
                  <a:pt x="853" y="382"/>
                  <a:pt x="818" y="353"/>
                  <a:pt x="813" y="349"/>
                </a:cubicBezTo>
                <a:cubicBezTo>
                  <a:pt x="806" y="327"/>
                  <a:pt x="787" y="308"/>
                  <a:pt x="765" y="301"/>
                </a:cubicBezTo>
                <a:cubicBezTo>
                  <a:pt x="732" y="268"/>
                  <a:pt x="738" y="274"/>
                  <a:pt x="685" y="269"/>
                </a:cubicBezTo>
                <a:cubicBezTo>
                  <a:pt x="675" y="238"/>
                  <a:pt x="682" y="204"/>
                  <a:pt x="653" y="185"/>
                </a:cubicBezTo>
                <a:cubicBezTo>
                  <a:pt x="639" y="164"/>
                  <a:pt x="651" y="167"/>
                  <a:pt x="633" y="149"/>
                </a:cubicBezTo>
                <a:cubicBezTo>
                  <a:pt x="637" y="146"/>
                  <a:pt x="628" y="130"/>
                  <a:pt x="633" y="129"/>
                </a:cubicBezTo>
                <a:cubicBezTo>
                  <a:pt x="637" y="128"/>
                  <a:pt x="619" y="137"/>
                  <a:pt x="621" y="133"/>
                </a:cubicBezTo>
                <a:cubicBezTo>
                  <a:pt x="632" y="104"/>
                  <a:pt x="593" y="84"/>
                  <a:pt x="573" y="77"/>
                </a:cubicBezTo>
                <a:cubicBezTo>
                  <a:pt x="543" y="81"/>
                  <a:pt x="539" y="84"/>
                  <a:pt x="517" y="69"/>
                </a:cubicBezTo>
                <a:cubicBezTo>
                  <a:pt x="485" y="21"/>
                  <a:pt x="513" y="71"/>
                  <a:pt x="497" y="17"/>
                </a:cubicBezTo>
                <a:cubicBezTo>
                  <a:pt x="492" y="0"/>
                  <a:pt x="484" y="10"/>
                  <a:pt x="493" y="1"/>
                </a:cubicBezTo>
                <a:close/>
              </a:path>
            </a:pathLst>
          </a:custGeom>
          <a:solidFill>
            <a:srgbClr val="0000ff">
              <a:alpha val="60000"/>
            </a:srgbClr>
          </a:solidFill>
          <a:ln w="25560">
            <a:solidFill>
              <a:srgbClr val="0000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51640" y="5013360"/>
            <a:ext cx="360360" cy="36036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51280" y="3500280"/>
            <a:ext cx="360360" cy="36036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1295280"/>
            <a:ext cx="2035080" cy="3070440"/>
          </a:xfrm>
          <a:custGeom>
            <a:avLst/>
            <a:gdLst/>
            <a:ahLst/>
            <a:rect l="l" t="t" r="r" b="b"/>
            <a:pathLst>
              <a:path w="1282" h="1934">
                <a:moveTo>
                  <a:pt x="0" y="594"/>
                </a:moveTo>
                <a:cubicBezTo>
                  <a:pt x="82" y="592"/>
                  <a:pt x="164" y="565"/>
                  <a:pt x="246" y="561"/>
                </a:cubicBezTo>
                <a:cubicBezTo>
                  <a:pt x="297" y="559"/>
                  <a:pt x="324" y="535"/>
                  <a:pt x="384" y="528"/>
                </a:cubicBezTo>
                <a:cubicBezTo>
                  <a:pt x="404" y="521"/>
                  <a:pt x="418" y="511"/>
                  <a:pt x="438" y="504"/>
                </a:cubicBezTo>
                <a:cubicBezTo>
                  <a:pt x="442" y="498"/>
                  <a:pt x="445" y="491"/>
                  <a:pt x="450" y="486"/>
                </a:cubicBezTo>
                <a:cubicBezTo>
                  <a:pt x="455" y="481"/>
                  <a:pt x="463" y="480"/>
                  <a:pt x="468" y="474"/>
                </a:cubicBezTo>
                <a:cubicBezTo>
                  <a:pt x="481" y="457"/>
                  <a:pt x="484" y="416"/>
                  <a:pt x="498" y="402"/>
                </a:cubicBezTo>
                <a:cubicBezTo>
                  <a:pt x="521" y="379"/>
                  <a:pt x="511" y="391"/>
                  <a:pt x="528" y="366"/>
                </a:cubicBezTo>
                <a:cubicBezTo>
                  <a:pt x="531" y="344"/>
                  <a:pt x="533" y="286"/>
                  <a:pt x="558" y="270"/>
                </a:cubicBezTo>
                <a:cubicBezTo>
                  <a:pt x="568" y="252"/>
                  <a:pt x="577" y="276"/>
                  <a:pt x="588" y="273"/>
                </a:cubicBezTo>
                <a:cubicBezTo>
                  <a:pt x="599" y="270"/>
                  <a:pt x="622" y="268"/>
                  <a:pt x="624" y="252"/>
                </a:cubicBezTo>
                <a:cubicBezTo>
                  <a:pt x="622" y="232"/>
                  <a:pt x="609" y="193"/>
                  <a:pt x="603" y="174"/>
                </a:cubicBezTo>
                <a:cubicBezTo>
                  <a:pt x="597" y="154"/>
                  <a:pt x="595" y="158"/>
                  <a:pt x="588" y="138"/>
                </a:cubicBezTo>
                <a:cubicBezTo>
                  <a:pt x="585" y="125"/>
                  <a:pt x="585" y="128"/>
                  <a:pt x="597" y="117"/>
                </a:cubicBezTo>
                <a:cubicBezTo>
                  <a:pt x="609" y="106"/>
                  <a:pt x="644" y="84"/>
                  <a:pt x="660" y="72"/>
                </a:cubicBezTo>
                <a:cubicBezTo>
                  <a:pt x="682" y="50"/>
                  <a:pt x="670" y="57"/>
                  <a:pt x="696" y="48"/>
                </a:cubicBezTo>
                <a:cubicBezTo>
                  <a:pt x="720" y="50"/>
                  <a:pt x="744" y="49"/>
                  <a:pt x="768" y="54"/>
                </a:cubicBezTo>
                <a:cubicBezTo>
                  <a:pt x="786" y="58"/>
                  <a:pt x="788" y="72"/>
                  <a:pt x="798" y="84"/>
                </a:cubicBezTo>
                <a:cubicBezTo>
                  <a:pt x="814" y="103"/>
                  <a:pt x="829" y="112"/>
                  <a:pt x="852" y="120"/>
                </a:cubicBezTo>
                <a:cubicBezTo>
                  <a:pt x="870" y="118"/>
                  <a:pt x="888" y="118"/>
                  <a:pt x="906" y="114"/>
                </a:cubicBezTo>
                <a:cubicBezTo>
                  <a:pt x="932" y="107"/>
                  <a:pt x="923" y="83"/>
                  <a:pt x="948" y="72"/>
                </a:cubicBezTo>
                <a:cubicBezTo>
                  <a:pt x="960" y="67"/>
                  <a:pt x="972" y="64"/>
                  <a:pt x="984" y="60"/>
                </a:cubicBezTo>
                <a:cubicBezTo>
                  <a:pt x="990" y="58"/>
                  <a:pt x="1002" y="54"/>
                  <a:pt x="1002" y="54"/>
                </a:cubicBezTo>
                <a:cubicBezTo>
                  <a:pt x="1019" y="52"/>
                  <a:pt x="1065" y="66"/>
                  <a:pt x="1086" y="66"/>
                </a:cubicBezTo>
                <a:cubicBezTo>
                  <a:pt x="1107" y="66"/>
                  <a:pt x="1116" y="50"/>
                  <a:pt x="1131" y="51"/>
                </a:cubicBezTo>
                <a:cubicBezTo>
                  <a:pt x="1146" y="52"/>
                  <a:pt x="1159" y="73"/>
                  <a:pt x="1176" y="72"/>
                </a:cubicBezTo>
                <a:cubicBezTo>
                  <a:pt x="1196" y="70"/>
                  <a:pt x="1219" y="56"/>
                  <a:pt x="1236" y="45"/>
                </a:cubicBezTo>
                <a:cubicBezTo>
                  <a:pt x="1246" y="38"/>
                  <a:pt x="1239" y="42"/>
                  <a:pt x="1242" y="30"/>
                </a:cubicBezTo>
                <a:cubicBezTo>
                  <a:pt x="1247" y="7"/>
                  <a:pt x="1246" y="13"/>
                  <a:pt x="1266" y="0"/>
                </a:cubicBezTo>
                <a:cubicBezTo>
                  <a:pt x="1271" y="0"/>
                  <a:pt x="1282" y="11"/>
                  <a:pt x="1279" y="34"/>
                </a:cubicBezTo>
                <a:cubicBezTo>
                  <a:pt x="1279" y="55"/>
                  <a:pt x="1272" y="111"/>
                  <a:pt x="1267" y="128"/>
                </a:cubicBezTo>
                <a:cubicBezTo>
                  <a:pt x="1262" y="145"/>
                  <a:pt x="1254" y="122"/>
                  <a:pt x="1248" y="138"/>
                </a:cubicBezTo>
                <a:cubicBezTo>
                  <a:pt x="1241" y="150"/>
                  <a:pt x="1238" y="213"/>
                  <a:pt x="1231" y="226"/>
                </a:cubicBezTo>
                <a:cubicBezTo>
                  <a:pt x="1223" y="241"/>
                  <a:pt x="1209" y="214"/>
                  <a:pt x="1201" y="230"/>
                </a:cubicBezTo>
                <a:cubicBezTo>
                  <a:pt x="1196" y="272"/>
                  <a:pt x="1218" y="299"/>
                  <a:pt x="1185" y="321"/>
                </a:cubicBezTo>
                <a:cubicBezTo>
                  <a:pt x="1155" y="367"/>
                  <a:pt x="1178" y="362"/>
                  <a:pt x="1127" y="384"/>
                </a:cubicBezTo>
                <a:cubicBezTo>
                  <a:pt x="1127" y="384"/>
                  <a:pt x="1092" y="387"/>
                  <a:pt x="1083" y="390"/>
                </a:cubicBezTo>
                <a:cubicBezTo>
                  <a:pt x="1071" y="394"/>
                  <a:pt x="1047" y="417"/>
                  <a:pt x="1047" y="417"/>
                </a:cubicBezTo>
                <a:cubicBezTo>
                  <a:pt x="1010" y="454"/>
                  <a:pt x="1025" y="430"/>
                  <a:pt x="1041" y="477"/>
                </a:cubicBezTo>
                <a:cubicBezTo>
                  <a:pt x="1037" y="492"/>
                  <a:pt x="1048" y="498"/>
                  <a:pt x="1047" y="507"/>
                </a:cubicBezTo>
                <a:cubicBezTo>
                  <a:pt x="1046" y="516"/>
                  <a:pt x="1030" y="521"/>
                  <a:pt x="1032" y="528"/>
                </a:cubicBezTo>
                <a:cubicBezTo>
                  <a:pt x="1033" y="537"/>
                  <a:pt x="1063" y="542"/>
                  <a:pt x="1062" y="549"/>
                </a:cubicBezTo>
                <a:cubicBezTo>
                  <a:pt x="1065" y="560"/>
                  <a:pt x="1057" y="583"/>
                  <a:pt x="1050" y="597"/>
                </a:cubicBezTo>
                <a:cubicBezTo>
                  <a:pt x="1048" y="604"/>
                  <a:pt x="1019" y="629"/>
                  <a:pt x="1017" y="636"/>
                </a:cubicBezTo>
                <a:cubicBezTo>
                  <a:pt x="1011" y="651"/>
                  <a:pt x="1002" y="636"/>
                  <a:pt x="1002" y="636"/>
                </a:cubicBezTo>
                <a:cubicBezTo>
                  <a:pt x="1001" y="648"/>
                  <a:pt x="1025" y="688"/>
                  <a:pt x="1026" y="708"/>
                </a:cubicBezTo>
                <a:cubicBezTo>
                  <a:pt x="1025" y="729"/>
                  <a:pt x="1009" y="753"/>
                  <a:pt x="999" y="760"/>
                </a:cubicBezTo>
                <a:cubicBezTo>
                  <a:pt x="990" y="765"/>
                  <a:pt x="978" y="756"/>
                  <a:pt x="967" y="750"/>
                </a:cubicBezTo>
                <a:cubicBezTo>
                  <a:pt x="956" y="744"/>
                  <a:pt x="945" y="721"/>
                  <a:pt x="933" y="722"/>
                </a:cubicBezTo>
                <a:cubicBezTo>
                  <a:pt x="910" y="730"/>
                  <a:pt x="916" y="746"/>
                  <a:pt x="893" y="754"/>
                </a:cubicBezTo>
                <a:cubicBezTo>
                  <a:pt x="883" y="756"/>
                  <a:pt x="880" y="749"/>
                  <a:pt x="871" y="746"/>
                </a:cubicBezTo>
                <a:cubicBezTo>
                  <a:pt x="863" y="744"/>
                  <a:pt x="849" y="735"/>
                  <a:pt x="845" y="742"/>
                </a:cubicBezTo>
                <a:cubicBezTo>
                  <a:pt x="836" y="751"/>
                  <a:pt x="849" y="786"/>
                  <a:pt x="849" y="786"/>
                </a:cubicBezTo>
                <a:cubicBezTo>
                  <a:pt x="847" y="800"/>
                  <a:pt x="829" y="804"/>
                  <a:pt x="822" y="816"/>
                </a:cubicBezTo>
                <a:cubicBezTo>
                  <a:pt x="818" y="823"/>
                  <a:pt x="806" y="820"/>
                  <a:pt x="798" y="822"/>
                </a:cubicBezTo>
                <a:cubicBezTo>
                  <a:pt x="730" y="842"/>
                  <a:pt x="792" y="832"/>
                  <a:pt x="690" y="840"/>
                </a:cubicBezTo>
                <a:cubicBezTo>
                  <a:pt x="679" y="847"/>
                  <a:pt x="687" y="867"/>
                  <a:pt x="678" y="876"/>
                </a:cubicBezTo>
                <a:cubicBezTo>
                  <a:pt x="674" y="880"/>
                  <a:pt x="652" y="910"/>
                  <a:pt x="648" y="915"/>
                </a:cubicBezTo>
                <a:cubicBezTo>
                  <a:pt x="643" y="921"/>
                  <a:pt x="636" y="884"/>
                  <a:pt x="630" y="888"/>
                </a:cubicBezTo>
                <a:cubicBezTo>
                  <a:pt x="628" y="896"/>
                  <a:pt x="629" y="906"/>
                  <a:pt x="624" y="912"/>
                </a:cubicBezTo>
                <a:cubicBezTo>
                  <a:pt x="616" y="916"/>
                  <a:pt x="597" y="906"/>
                  <a:pt x="585" y="903"/>
                </a:cubicBezTo>
                <a:cubicBezTo>
                  <a:pt x="573" y="900"/>
                  <a:pt x="568" y="887"/>
                  <a:pt x="552" y="894"/>
                </a:cubicBezTo>
                <a:cubicBezTo>
                  <a:pt x="512" y="902"/>
                  <a:pt x="523" y="920"/>
                  <a:pt x="486" y="945"/>
                </a:cubicBezTo>
                <a:cubicBezTo>
                  <a:pt x="475" y="952"/>
                  <a:pt x="483" y="999"/>
                  <a:pt x="483" y="999"/>
                </a:cubicBezTo>
                <a:cubicBezTo>
                  <a:pt x="516" y="1010"/>
                  <a:pt x="462" y="997"/>
                  <a:pt x="447" y="1020"/>
                </a:cubicBezTo>
                <a:cubicBezTo>
                  <a:pt x="445" y="1034"/>
                  <a:pt x="441" y="1027"/>
                  <a:pt x="432" y="1038"/>
                </a:cubicBezTo>
                <a:cubicBezTo>
                  <a:pt x="420" y="1054"/>
                  <a:pt x="394" y="1051"/>
                  <a:pt x="378" y="1062"/>
                </a:cubicBezTo>
                <a:cubicBezTo>
                  <a:pt x="374" y="1074"/>
                  <a:pt x="394" y="1101"/>
                  <a:pt x="390" y="1113"/>
                </a:cubicBezTo>
                <a:cubicBezTo>
                  <a:pt x="387" y="1120"/>
                  <a:pt x="379" y="1120"/>
                  <a:pt x="372" y="1119"/>
                </a:cubicBezTo>
                <a:cubicBezTo>
                  <a:pt x="367" y="1122"/>
                  <a:pt x="365" y="1129"/>
                  <a:pt x="357" y="1134"/>
                </a:cubicBezTo>
                <a:cubicBezTo>
                  <a:pt x="349" y="1134"/>
                  <a:pt x="347" y="1149"/>
                  <a:pt x="327" y="1149"/>
                </a:cubicBezTo>
                <a:cubicBezTo>
                  <a:pt x="307" y="1149"/>
                  <a:pt x="252" y="1135"/>
                  <a:pt x="234" y="1134"/>
                </a:cubicBezTo>
                <a:cubicBezTo>
                  <a:pt x="228" y="1136"/>
                  <a:pt x="219" y="1134"/>
                  <a:pt x="216" y="1140"/>
                </a:cubicBezTo>
                <a:cubicBezTo>
                  <a:pt x="213" y="1146"/>
                  <a:pt x="221" y="1152"/>
                  <a:pt x="222" y="1158"/>
                </a:cubicBezTo>
                <a:cubicBezTo>
                  <a:pt x="223" y="1163"/>
                  <a:pt x="242" y="1162"/>
                  <a:pt x="243" y="1176"/>
                </a:cubicBezTo>
                <a:cubicBezTo>
                  <a:pt x="248" y="1187"/>
                  <a:pt x="225" y="1227"/>
                  <a:pt x="252" y="1227"/>
                </a:cubicBezTo>
                <a:cubicBezTo>
                  <a:pt x="260" y="1241"/>
                  <a:pt x="260" y="1246"/>
                  <a:pt x="276" y="1248"/>
                </a:cubicBezTo>
                <a:cubicBezTo>
                  <a:pt x="283" y="1252"/>
                  <a:pt x="288" y="1235"/>
                  <a:pt x="294" y="1236"/>
                </a:cubicBezTo>
                <a:cubicBezTo>
                  <a:pt x="300" y="1237"/>
                  <a:pt x="304" y="1246"/>
                  <a:pt x="312" y="1254"/>
                </a:cubicBezTo>
                <a:cubicBezTo>
                  <a:pt x="319" y="1260"/>
                  <a:pt x="339" y="1260"/>
                  <a:pt x="345" y="1287"/>
                </a:cubicBezTo>
                <a:cubicBezTo>
                  <a:pt x="348" y="1307"/>
                  <a:pt x="330" y="1356"/>
                  <a:pt x="330" y="1377"/>
                </a:cubicBezTo>
                <a:cubicBezTo>
                  <a:pt x="330" y="1398"/>
                  <a:pt x="346" y="1402"/>
                  <a:pt x="348" y="1416"/>
                </a:cubicBezTo>
                <a:cubicBezTo>
                  <a:pt x="346" y="1432"/>
                  <a:pt x="355" y="1455"/>
                  <a:pt x="342" y="1464"/>
                </a:cubicBezTo>
                <a:cubicBezTo>
                  <a:pt x="327" y="1474"/>
                  <a:pt x="306" y="1462"/>
                  <a:pt x="288" y="1458"/>
                </a:cubicBezTo>
                <a:cubicBezTo>
                  <a:pt x="276" y="1456"/>
                  <a:pt x="255" y="1494"/>
                  <a:pt x="255" y="1494"/>
                </a:cubicBezTo>
                <a:cubicBezTo>
                  <a:pt x="249" y="1498"/>
                  <a:pt x="237" y="1452"/>
                  <a:pt x="234" y="1458"/>
                </a:cubicBezTo>
                <a:cubicBezTo>
                  <a:pt x="229" y="1469"/>
                  <a:pt x="218" y="1461"/>
                  <a:pt x="210" y="1470"/>
                </a:cubicBezTo>
                <a:cubicBezTo>
                  <a:pt x="206" y="1475"/>
                  <a:pt x="205" y="1485"/>
                  <a:pt x="192" y="1476"/>
                </a:cubicBezTo>
                <a:cubicBezTo>
                  <a:pt x="162" y="1486"/>
                  <a:pt x="176" y="1476"/>
                  <a:pt x="162" y="1518"/>
                </a:cubicBezTo>
                <a:cubicBezTo>
                  <a:pt x="160" y="1524"/>
                  <a:pt x="156" y="1536"/>
                  <a:pt x="156" y="1536"/>
                </a:cubicBezTo>
                <a:cubicBezTo>
                  <a:pt x="154" y="1556"/>
                  <a:pt x="164" y="1581"/>
                  <a:pt x="150" y="1596"/>
                </a:cubicBezTo>
                <a:cubicBezTo>
                  <a:pt x="146" y="1607"/>
                  <a:pt x="153" y="1637"/>
                  <a:pt x="144" y="1638"/>
                </a:cubicBezTo>
                <a:cubicBezTo>
                  <a:pt x="135" y="1648"/>
                  <a:pt x="106" y="1648"/>
                  <a:pt x="96" y="1653"/>
                </a:cubicBezTo>
                <a:cubicBezTo>
                  <a:pt x="89" y="1655"/>
                  <a:pt x="85" y="1662"/>
                  <a:pt x="81" y="1668"/>
                </a:cubicBezTo>
                <a:cubicBezTo>
                  <a:pt x="76" y="1754"/>
                  <a:pt x="101" y="1718"/>
                  <a:pt x="36" y="1734"/>
                </a:cubicBezTo>
                <a:cubicBezTo>
                  <a:pt x="24" y="1760"/>
                  <a:pt x="26" y="1744"/>
                  <a:pt x="21" y="1746"/>
                </a:cubicBezTo>
                <a:cubicBezTo>
                  <a:pt x="17" y="1747"/>
                  <a:pt x="15" y="1746"/>
                  <a:pt x="12" y="1743"/>
                </a:cubicBezTo>
                <a:cubicBezTo>
                  <a:pt x="9" y="1740"/>
                  <a:pt x="4" y="1731"/>
                  <a:pt x="3" y="1728"/>
                </a:cubicBezTo>
                <a:cubicBezTo>
                  <a:pt x="2" y="1725"/>
                  <a:pt x="6" y="1722"/>
                  <a:pt x="6" y="1725"/>
                </a:cubicBezTo>
                <a:cubicBezTo>
                  <a:pt x="6" y="1728"/>
                  <a:pt x="4" y="1934"/>
                  <a:pt x="3" y="1746"/>
                </a:cubicBezTo>
                <a:cubicBezTo>
                  <a:pt x="2" y="1558"/>
                  <a:pt x="1" y="834"/>
                  <a:pt x="0" y="594"/>
                </a:cubicBezTo>
                <a:close/>
              </a:path>
            </a:pathLst>
          </a:custGeom>
          <a:solidFill>
            <a:srgbClr val="0000ff">
              <a:alpha val="60000"/>
            </a:srgbClr>
          </a:solidFill>
          <a:ln w="25560">
            <a:solidFill>
              <a:srgbClr val="0000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60680" y="2708280"/>
            <a:ext cx="824040" cy="1531800"/>
          </a:xfrm>
          <a:custGeom>
            <a:avLst/>
            <a:gdLst/>
            <a:ahLst/>
            <a:rect l="l" t="t" r="r" b="b"/>
            <a:pathLst>
              <a:path w="519" h="965">
                <a:moveTo>
                  <a:pt x="510" y="1"/>
                </a:moveTo>
                <a:cubicBezTo>
                  <a:pt x="512" y="9"/>
                  <a:pt x="509" y="30"/>
                  <a:pt x="510" y="52"/>
                </a:cubicBezTo>
                <a:cubicBezTo>
                  <a:pt x="511" y="74"/>
                  <a:pt x="519" y="120"/>
                  <a:pt x="516" y="136"/>
                </a:cubicBezTo>
                <a:cubicBezTo>
                  <a:pt x="516" y="140"/>
                  <a:pt x="492" y="149"/>
                  <a:pt x="489" y="151"/>
                </a:cubicBezTo>
                <a:cubicBezTo>
                  <a:pt x="472" y="202"/>
                  <a:pt x="475" y="131"/>
                  <a:pt x="483" y="262"/>
                </a:cubicBezTo>
                <a:cubicBezTo>
                  <a:pt x="484" y="272"/>
                  <a:pt x="498" y="289"/>
                  <a:pt x="498" y="289"/>
                </a:cubicBezTo>
                <a:cubicBezTo>
                  <a:pt x="497" y="297"/>
                  <a:pt x="498" y="319"/>
                  <a:pt x="492" y="331"/>
                </a:cubicBezTo>
                <a:cubicBezTo>
                  <a:pt x="488" y="340"/>
                  <a:pt x="480" y="358"/>
                  <a:pt x="480" y="358"/>
                </a:cubicBezTo>
                <a:cubicBezTo>
                  <a:pt x="479" y="376"/>
                  <a:pt x="478" y="394"/>
                  <a:pt x="477" y="412"/>
                </a:cubicBezTo>
                <a:cubicBezTo>
                  <a:pt x="476" y="450"/>
                  <a:pt x="476" y="488"/>
                  <a:pt x="474" y="526"/>
                </a:cubicBezTo>
                <a:cubicBezTo>
                  <a:pt x="473" y="544"/>
                  <a:pt x="456" y="557"/>
                  <a:pt x="450" y="574"/>
                </a:cubicBezTo>
                <a:cubicBezTo>
                  <a:pt x="445" y="625"/>
                  <a:pt x="445" y="588"/>
                  <a:pt x="435" y="619"/>
                </a:cubicBezTo>
                <a:cubicBezTo>
                  <a:pt x="438" y="651"/>
                  <a:pt x="436" y="666"/>
                  <a:pt x="453" y="691"/>
                </a:cubicBezTo>
                <a:cubicBezTo>
                  <a:pt x="453" y="691"/>
                  <a:pt x="460" y="713"/>
                  <a:pt x="462" y="718"/>
                </a:cubicBezTo>
                <a:cubicBezTo>
                  <a:pt x="463" y="721"/>
                  <a:pt x="465" y="727"/>
                  <a:pt x="465" y="727"/>
                </a:cubicBezTo>
                <a:cubicBezTo>
                  <a:pt x="464" y="737"/>
                  <a:pt x="468" y="749"/>
                  <a:pt x="462" y="757"/>
                </a:cubicBezTo>
                <a:cubicBezTo>
                  <a:pt x="462" y="757"/>
                  <a:pt x="415" y="765"/>
                  <a:pt x="411" y="766"/>
                </a:cubicBezTo>
                <a:cubicBezTo>
                  <a:pt x="391" y="786"/>
                  <a:pt x="404" y="792"/>
                  <a:pt x="420" y="808"/>
                </a:cubicBezTo>
                <a:cubicBezTo>
                  <a:pt x="425" y="823"/>
                  <a:pt x="431" y="815"/>
                  <a:pt x="435" y="832"/>
                </a:cubicBezTo>
                <a:cubicBezTo>
                  <a:pt x="430" y="901"/>
                  <a:pt x="442" y="851"/>
                  <a:pt x="399" y="880"/>
                </a:cubicBezTo>
                <a:cubicBezTo>
                  <a:pt x="400" y="896"/>
                  <a:pt x="400" y="912"/>
                  <a:pt x="402" y="928"/>
                </a:cubicBezTo>
                <a:cubicBezTo>
                  <a:pt x="403" y="934"/>
                  <a:pt x="408" y="946"/>
                  <a:pt x="408" y="946"/>
                </a:cubicBezTo>
                <a:cubicBezTo>
                  <a:pt x="403" y="965"/>
                  <a:pt x="394" y="959"/>
                  <a:pt x="378" y="964"/>
                </a:cubicBezTo>
                <a:cubicBezTo>
                  <a:pt x="360" y="960"/>
                  <a:pt x="355" y="939"/>
                  <a:pt x="339" y="928"/>
                </a:cubicBezTo>
                <a:cubicBezTo>
                  <a:pt x="325" y="906"/>
                  <a:pt x="332" y="915"/>
                  <a:pt x="318" y="901"/>
                </a:cubicBezTo>
                <a:cubicBezTo>
                  <a:pt x="317" y="898"/>
                  <a:pt x="318" y="894"/>
                  <a:pt x="315" y="892"/>
                </a:cubicBezTo>
                <a:cubicBezTo>
                  <a:pt x="310" y="888"/>
                  <a:pt x="297" y="886"/>
                  <a:pt x="297" y="886"/>
                </a:cubicBezTo>
                <a:cubicBezTo>
                  <a:pt x="293" y="887"/>
                  <a:pt x="289" y="888"/>
                  <a:pt x="285" y="889"/>
                </a:cubicBezTo>
                <a:cubicBezTo>
                  <a:pt x="275" y="890"/>
                  <a:pt x="265" y="890"/>
                  <a:pt x="255" y="892"/>
                </a:cubicBezTo>
                <a:cubicBezTo>
                  <a:pt x="249" y="893"/>
                  <a:pt x="237" y="898"/>
                  <a:pt x="237" y="898"/>
                </a:cubicBezTo>
                <a:cubicBezTo>
                  <a:pt x="228" y="889"/>
                  <a:pt x="223" y="881"/>
                  <a:pt x="213" y="874"/>
                </a:cubicBezTo>
                <a:cubicBezTo>
                  <a:pt x="205" y="849"/>
                  <a:pt x="194" y="850"/>
                  <a:pt x="168" y="847"/>
                </a:cubicBezTo>
                <a:cubicBezTo>
                  <a:pt x="160" y="847"/>
                  <a:pt x="95" y="854"/>
                  <a:pt x="75" y="847"/>
                </a:cubicBezTo>
                <a:cubicBezTo>
                  <a:pt x="72" y="846"/>
                  <a:pt x="72" y="840"/>
                  <a:pt x="69" y="838"/>
                </a:cubicBezTo>
                <a:cubicBezTo>
                  <a:pt x="53" y="824"/>
                  <a:pt x="39" y="818"/>
                  <a:pt x="18" y="814"/>
                </a:cubicBezTo>
                <a:cubicBezTo>
                  <a:pt x="7" y="807"/>
                  <a:pt x="7" y="801"/>
                  <a:pt x="0" y="790"/>
                </a:cubicBezTo>
                <a:cubicBezTo>
                  <a:pt x="8" y="766"/>
                  <a:pt x="42" y="765"/>
                  <a:pt x="63" y="751"/>
                </a:cubicBezTo>
                <a:cubicBezTo>
                  <a:pt x="69" y="742"/>
                  <a:pt x="72" y="733"/>
                  <a:pt x="78" y="724"/>
                </a:cubicBezTo>
                <a:cubicBezTo>
                  <a:pt x="82" y="685"/>
                  <a:pt x="74" y="638"/>
                  <a:pt x="87" y="601"/>
                </a:cubicBezTo>
                <a:cubicBezTo>
                  <a:pt x="91" y="590"/>
                  <a:pt x="109" y="593"/>
                  <a:pt x="120" y="592"/>
                </a:cubicBezTo>
                <a:cubicBezTo>
                  <a:pt x="130" y="590"/>
                  <a:pt x="143" y="574"/>
                  <a:pt x="150" y="574"/>
                </a:cubicBezTo>
                <a:cubicBezTo>
                  <a:pt x="157" y="574"/>
                  <a:pt x="156" y="597"/>
                  <a:pt x="165" y="595"/>
                </a:cubicBezTo>
                <a:cubicBezTo>
                  <a:pt x="207" y="591"/>
                  <a:pt x="197" y="593"/>
                  <a:pt x="207" y="562"/>
                </a:cubicBezTo>
                <a:cubicBezTo>
                  <a:pt x="220" y="557"/>
                  <a:pt x="234" y="580"/>
                  <a:pt x="246" y="580"/>
                </a:cubicBezTo>
                <a:cubicBezTo>
                  <a:pt x="258" y="580"/>
                  <a:pt x="277" y="576"/>
                  <a:pt x="282" y="565"/>
                </a:cubicBezTo>
                <a:cubicBezTo>
                  <a:pt x="281" y="548"/>
                  <a:pt x="282" y="531"/>
                  <a:pt x="279" y="514"/>
                </a:cubicBezTo>
                <a:cubicBezTo>
                  <a:pt x="277" y="503"/>
                  <a:pt x="255" y="493"/>
                  <a:pt x="255" y="493"/>
                </a:cubicBezTo>
                <a:cubicBezTo>
                  <a:pt x="248" y="472"/>
                  <a:pt x="261" y="442"/>
                  <a:pt x="273" y="424"/>
                </a:cubicBezTo>
                <a:cubicBezTo>
                  <a:pt x="272" y="409"/>
                  <a:pt x="273" y="394"/>
                  <a:pt x="270" y="379"/>
                </a:cubicBezTo>
                <a:cubicBezTo>
                  <a:pt x="269" y="375"/>
                  <a:pt x="264" y="376"/>
                  <a:pt x="261" y="373"/>
                </a:cubicBezTo>
                <a:cubicBezTo>
                  <a:pt x="254" y="370"/>
                  <a:pt x="235" y="346"/>
                  <a:pt x="225" y="343"/>
                </a:cubicBezTo>
                <a:cubicBezTo>
                  <a:pt x="215" y="340"/>
                  <a:pt x="209" y="356"/>
                  <a:pt x="201" y="355"/>
                </a:cubicBezTo>
                <a:cubicBezTo>
                  <a:pt x="193" y="354"/>
                  <a:pt x="180" y="347"/>
                  <a:pt x="174" y="337"/>
                </a:cubicBezTo>
                <a:cubicBezTo>
                  <a:pt x="156" y="325"/>
                  <a:pt x="162" y="318"/>
                  <a:pt x="165" y="295"/>
                </a:cubicBezTo>
                <a:cubicBezTo>
                  <a:pt x="163" y="281"/>
                  <a:pt x="157" y="264"/>
                  <a:pt x="162" y="250"/>
                </a:cubicBezTo>
                <a:cubicBezTo>
                  <a:pt x="196" y="251"/>
                  <a:pt x="260" y="266"/>
                  <a:pt x="297" y="241"/>
                </a:cubicBezTo>
                <a:cubicBezTo>
                  <a:pt x="300" y="231"/>
                  <a:pt x="318" y="224"/>
                  <a:pt x="321" y="214"/>
                </a:cubicBezTo>
                <a:cubicBezTo>
                  <a:pt x="317" y="201"/>
                  <a:pt x="307" y="191"/>
                  <a:pt x="303" y="178"/>
                </a:cubicBezTo>
                <a:cubicBezTo>
                  <a:pt x="309" y="160"/>
                  <a:pt x="328" y="160"/>
                  <a:pt x="345" y="154"/>
                </a:cubicBezTo>
                <a:cubicBezTo>
                  <a:pt x="354" y="151"/>
                  <a:pt x="372" y="145"/>
                  <a:pt x="372" y="145"/>
                </a:cubicBezTo>
                <a:cubicBezTo>
                  <a:pt x="382" y="135"/>
                  <a:pt x="395" y="124"/>
                  <a:pt x="408" y="118"/>
                </a:cubicBezTo>
                <a:cubicBezTo>
                  <a:pt x="410" y="112"/>
                  <a:pt x="414" y="106"/>
                  <a:pt x="414" y="100"/>
                </a:cubicBezTo>
                <a:cubicBezTo>
                  <a:pt x="415" y="81"/>
                  <a:pt x="412" y="61"/>
                  <a:pt x="417" y="43"/>
                </a:cubicBezTo>
                <a:cubicBezTo>
                  <a:pt x="419" y="36"/>
                  <a:pt x="431" y="39"/>
                  <a:pt x="438" y="37"/>
                </a:cubicBezTo>
                <a:cubicBezTo>
                  <a:pt x="449" y="20"/>
                  <a:pt x="445" y="20"/>
                  <a:pt x="465" y="7"/>
                </a:cubicBezTo>
                <a:cubicBezTo>
                  <a:pt x="470" y="3"/>
                  <a:pt x="483" y="1"/>
                  <a:pt x="483" y="1"/>
                </a:cubicBezTo>
                <a:cubicBezTo>
                  <a:pt x="492" y="2"/>
                  <a:pt x="502" y="0"/>
                  <a:pt x="510" y="4"/>
                </a:cubicBezTo>
                <a:cubicBezTo>
                  <a:pt x="511" y="4"/>
                  <a:pt x="518" y="40"/>
                  <a:pt x="510" y="1"/>
                </a:cubicBezTo>
                <a:close/>
              </a:path>
            </a:pathLst>
          </a:custGeom>
          <a:solidFill>
            <a:srgbClr val="0000ff">
              <a:alpha val="60000"/>
            </a:srgbClr>
          </a:solidFill>
          <a:ln w="25560">
            <a:solidFill>
              <a:srgbClr val="0000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112000">
            <a:off x="4425480" y="5231880"/>
            <a:ext cx="792360" cy="211320"/>
          </a:xfrm>
          <a:custGeom>
            <a:avLst/>
            <a:gdLst/>
            <a:ahLst/>
            <a:rect l="l" t="t" r="r" b="b"/>
            <a:pathLst>
              <a:path w="862" h="408">
                <a:moveTo>
                  <a:pt x="816" y="0"/>
                </a:moveTo>
                <a:lnTo>
                  <a:pt x="227" y="181"/>
                </a:lnTo>
                <a:lnTo>
                  <a:pt x="272" y="0"/>
                </a:lnTo>
                <a:lnTo>
                  <a:pt x="0" y="317"/>
                </a:lnTo>
                <a:lnTo>
                  <a:pt x="317" y="408"/>
                </a:lnTo>
                <a:lnTo>
                  <a:pt x="227" y="317"/>
                </a:lnTo>
                <a:lnTo>
                  <a:pt x="862" y="317"/>
                </a:lnTo>
                <a:lnTo>
                  <a:pt x="816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7819200">
            <a:off x="3949200" y="5263920"/>
            <a:ext cx="947520" cy="135000"/>
          </a:xfrm>
          <a:custGeom>
            <a:avLst/>
            <a:gdLst/>
            <a:ahLst/>
            <a:rect l="l" t="t" r="r" b="b"/>
            <a:pathLst>
              <a:path w="862" h="408">
                <a:moveTo>
                  <a:pt x="816" y="0"/>
                </a:moveTo>
                <a:lnTo>
                  <a:pt x="227" y="181"/>
                </a:lnTo>
                <a:lnTo>
                  <a:pt x="272" y="0"/>
                </a:lnTo>
                <a:lnTo>
                  <a:pt x="0" y="317"/>
                </a:lnTo>
                <a:lnTo>
                  <a:pt x="317" y="408"/>
                </a:lnTo>
                <a:lnTo>
                  <a:pt x="227" y="317"/>
                </a:lnTo>
                <a:lnTo>
                  <a:pt x="862" y="317"/>
                </a:lnTo>
                <a:lnTo>
                  <a:pt x="816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500720" y="5589720"/>
            <a:ext cx="792000" cy="611640"/>
            <a:chOff x="4500720" y="5589720"/>
            <a:chExt cx="792000" cy="611640"/>
          </a:xfrm>
        </p:grpSpPr>
        <p:pic>
          <p:nvPicPr>
            <p:cNvPr id="176" name="" descr=""/>
            <p:cNvPicPr/>
            <p:nvPr/>
          </p:nvPicPr>
          <p:blipFill>
            <a:blip r:embed="rId8"/>
            <a:stretch/>
          </p:blipFill>
          <p:spPr>
            <a:xfrm>
              <a:off x="4718160" y="558972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500720" y="5878800"/>
              <a:ext cx="792000" cy="322560"/>
            </a:xfrm>
            <a:prstGeom prst="rect">
              <a:avLst/>
            </a:prstGeom>
            <a:solidFill>
              <a:srgbClr val="0000ff">
                <a:alpha val="93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Garamond"/>
                </a:rPr>
                <a:t>广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rot="6552000">
            <a:off x="4763880" y="5149800"/>
            <a:ext cx="808200" cy="102960"/>
          </a:xfrm>
          <a:custGeom>
            <a:avLst/>
            <a:gdLst/>
            <a:ahLst/>
            <a:rect l="l" t="t" r="r" b="b"/>
            <a:pathLst>
              <a:path w="862" h="408">
                <a:moveTo>
                  <a:pt x="816" y="0"/>
                </a:moveTo>
                <a:lnTo>
                  <a:pt x="227" y="181"/>
                </a:lnTo>
                <a:lnTo>
                  <a:pt x="272" y="0"/>
                </a:lnTo>
                <a:lnTo>
                  <a:pt x="0" y="317"/>
                </a:lnTo>
                <a:lnTo>
                  <a:pt x="317" y="408"/>
                </a:lnTo>
                <a:lnTo>
                  <a:pt x="227" y="317"/>
                </a:lnTo>
                <a:lnTo>
                  <a:pt x="862" y="317"/>
                </a:lnTo>
                <a:lnTo>
                  <a:pt x="816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9397200">
            <a:off x="5059440" y="5373360"/>
            <a:ext cx="807840" cy="103320"/>
          </a:xfrm>
          <a:custGeom>
            <a:avLst/>
            <a:gdLst/>
            <a:ahLst/>
            <a:rect l="l" t="t" r="r" b="b"/>
            <a:pathLst>
              <a:path w="862" h="408">
                <a:moveTo>
                  <a:pt x="816" y="0"/>
                </a:moveTo>
                <a:lnTo>
                  <a:pt x="227" y="181"/>
                </a:lnTo>
                <a:lnTo>
                  <a:pt x="272" y="0"/>
                </a:lnTo>
                <a:lnTo>
                  <a:pt x="0" y="317"/>
                </a:lnTo>
                <a:lnTo>
                  <a:pt x="317" y="408"/>
                </a:lnTo>
                <a:lnTo>
                  <a:pt x="227" y="317"/>
                </a:lnTo>
                <a:lnTo>
                  <a:pt x="862" y="317"/>
                </a:lnTo>
                <a:lnTo>
                  <a:pt x="816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155600">
            <a:off x="4858920" y="4870440"/>
            <a:ext cx="360360" cy="71280"/>
          </a:xfrm>
          <a:custGeom>
            <a:avLst/>
            <a:gdLst/>
            <a:ahLst/>
            <a:rect l="l" t="t" r="r" b="b"/>
            <a:pathLst>
              <a:path w="862" h="408">
                <a:moveTo>
                  <a:pt x="816" y="0"/>
                </a:moveTo>
                <a:lnTo>
                  <a:pt x="227" y="181"/>
                </a:lnTo>
                <a:lnTo>
                  <a:pt x="272" y="0"/>
                </a:lnTo>
                <a:lnTo>
                  <a:pt x="0" y="317"/>
                </a:lnTo>
                <a:lnTo>
                  <a:pt x="317" y="408"/>
                </a:lnTo>
                <a:lnTo>
                  <a:pt x="227" y="317"/>
                </a:lnTo>
                <a:lnTo>
                  <a:pt x="862" y="317"/>
                </a:lnTo>
                <a:lnTo>
                  <a:pt x="816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6680400">
            <a:off x="4658040" y="4580280"/>
            <a:ext cx="287280" cy="142920"/>
          </a:xfrm>
          <a:custGeom>
            <a:avLst/>
            <a:gdLst/>
            <a:ahLst/>
            <a:rect l="l" t="t" r="r" b="b"/>
            <a:pathLst>
              <a:path w="862" h="408">
                <a:moveTo>
                  <a:pt x="816" y="0"/>
                </a:moveTo>
                <a:lnTo>
                  <a:pt x="227" y="181"/>
                </a:lnTo>
                <a:lnTo>
                  <a:pt x="272" y="0"/>
                </a:lnTo>
                <a:lnTo>
                  <a:pt x="0" y="317"/>
                </a:lnTo>
                <a:lnTo>
                  <a:pt x="317" y="408"/>
                </a:lnTo>
                <a:lnTo>
                  <a:pt x="227" y="317"/>
                </a:lnTo>
                <a:lnTo>
                  <a:pt x="862" y="317"/>
                </a:lnTo>
                <a:lnTo>
                  <a:pt x="816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 rot="12715200">
            <a:off x="4931640" y="4615920"/>
            <a:ext cx="306360" cy="108360"/>
          </a:xfrm>
          <a:custGeom>
            <a:avLst/>
            <a:gdLst/>
            <a:ahLst/>
            <a:rect l="l" t="t" r="r" b="b"/>
            <a:pathLst>
              <a:path w="862" h="408">
                <a:moveTo>
                  <a:pt x="816" y="0"/>
                </a:moveTo>
                <a:lnTo>
                  <a:pt x="227" y="181"/>
                </a:lnTo>
                <a:lnTo>
                  <a:pt x="272" y="0"/>
                </a:lnTo>
                <a:lnTo>
                  <a:pt x="0" y="317"/>
                </a:lnTo>
                <a:lnTo>
                  <a:pt x="317" y="408"/>
                </a:lnTo>
                <a:lnTo>
                  <a:pt x="227" y="317"/>
                </a:lnTo>
                <a:lnTo>
                  <a:pt x="862" y="317"/>
                </a:lnTo>
                <a:lnTo>
                  <a:pt x="816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485200">
            <a:off x="4643280" y="4437000"/>
            <a:ext cx="216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485200">
            <a:off x="4792320" y="4365360"/>
            <a:ext cx="21600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4149720"/>
            <a:ext cx="360360" cy="36036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8421600">
            <a:off x="5225760" y="4510080"/>
            <a:ext cx="565200" cy="101520"/>
          </a:xfrm>
          <a:custGeom>
            <a:avLst/>
            <a:gdLst/>
            <a:ahLst/>
            <a:rect l="l" t="t" r="r" b="b"/>
            <a:pathLst>
              <a:path w="862" h="408">
                <a:moveTo>
                  <a:pt x="816" y="0"/>
                </a:moveTo>
                <a:lnTo>
                  <a:pt x="227" y="181"/>
                </a:lnTo>
                <a:lnTo>
                  <a:pt x="272" y="0"/>
                </a:lnTo>
                <a:lnTo>
                  <a:pt x="0" y="317"/>
                </a:lnTo>
                <a:lnTo>
                  <a:pt x="317" y="408"/>
                </a:lnTo>
                <a:lnTo>
                  <a:pt x="227" y="317"/>
                </a:lnTo>
                <a:lnTo>
                  <a:pt x="862" y="317"/>
                </a:lnTo>
                <a:lnTo>
                  <a:pt x="816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630400">
            <a:off x="5491440" y="4745520"/>
            <a:ext cx="720720" cy="103320"/>
          </a:xfrm>
          <a:custGeom>
            <a:avLst/>
            <a:gdLst/>
            <a:ahLst/>
            <a:rect l="l" t="t" r="r" b="b"/>
            <a:pathLst>
              <a:path w="862" h="408">
                <a:moveTo>
                  <a:pt x="816" y="0"/>
                </a:moveTo>
                <a:lnTo>
                  <a:pt x="227" y="181"/>
                </a:lnTo>
                <a:lnTo>
                  <a:pt x="272" y="0"/>
                </a:lnTo>
                <a:lnTo>
                  <a:pt x="0" y="317"/>
                </a:lnTo>
                <a:lnTo>
                  <a:pt x="317" y="408"/>
                </a:lnTo>
                <a:lnTo>
                  <a:pt x="227" y="317"/>
                </a:lnTo>
                <a:lnTo>
                  <a:pt x="862" y="317"/>
                </a:lnTo>
                <a:lnTo>
                  <a:pt x="816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4076640"/>
            <a:ext cx="360360" cy="36036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920" y="3835440"/>
            <a:ext cx="720720" cy="368280"/>
          </a:xfrm>
          <a:prstGeom prst="rect">
            <a:avLst/>
          </a:prstGeom>
          <a:noFill/>
          <a:ln w="1908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上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30920" y="4843440"/>
            <a:ext cx="720720" cy="368280"/>
          </a:xfrm>
          <a:prstGeom prst="rect">
            <a:avLst/>
          </a:prstGeom>
          <a:noFill/>
          <a:ln w="1908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南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553400">
            <a:off x="4138560" y="3645000"/>
            <a:ext cx="720720" cy="102960"/>
          </a:xfrm>
          <a:custGeom>
            <a:avLst/>
            <a:gdLst/>
            <a:ahLst/>
            <a:rect l="l" t="t" r="r" b="b"/>
            <a:pathLst>
              <a:path w="862" h="408">
                <a:moveTo>
                  <a:pt x="816" y="0"/>
                </a:moveTo>
                <a:lnTo>
                  <a:pt x="227" y="181"/>
                </a:lnTo>
                <a:lnTo>
                  <a:pt x="272" y="0"/>
                </a:lnTo>
                <a:lnTo>
                  <a:pt x="0" y="317"/>
                </a:lnTo>
                <a:lnTo>
                  <a:pt x="317" y="408"/>
                </a:lnTo>
                <a:lnTo>
                  <a:pt x="227" y="317"/>
                </a:lnTo>
                <a:lnTo>
                  <a:pt x="862" y="317"/>
                </a:lnTo>
                <a:lnTo>
                  <a:pt x="816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08720" y="3860640"/>
            <a:ext cx="360360" cy="36036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9859200">
            <a:off x="5076000" y="4149720"/>
            <a:ext cx="574920" cy="71280"/>
          </a:xfrm>
          <a:custGeom>
            <a:avLst/>
            <a:gdLst/>
            <a:ahLst/>
            <a:rect l="l" t="t" r="r" b="b"/>
            <a:pathLst>
              <a:path w="862" h="408">
                <a:moveTo>
                  <a:pt x="816" y="0"/>
                </a:moveTo>
                <a:lnTo>
                  <a:pt x="227" y="181"/>
                </a:lnTo>
                <a:lnTo>
                  <a:pt x="272" y="0"/>
                </a:lnTo>
                <a:lnTo>
                  <a:pt x="0" y="317"/>
                </a:lnTo>
                <a:lnTo>
                  <a:pt x="317" y="408"/>
                </a:lnTo>
                <a:lnTo>
                  <a:pt x="227" y="317"/>
                </a:lnTo>
                <a:lnTo>
                  <a:pt x="862" y="317"/>
                </a:lnTo>
                <a:lnTo>
                  <a:pt x="816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3933000">
            <a:off x="5722560" y="4149720"/>
            <a:ext cx="289080" cy="142920"/>
          </a:xfrm>
          <a:custGeom>
            <a:avLst/>
            <a:gdLst/>
            <a:ahLst/>
            <a:rect l="l" t="t" r="r" b="b"/>
            <a:pathLst>
              <a:path w="862" h="408">
                <a:moveTo>
                  <a:pt x="816" y="0"/>
                </a:moveTo>
                <a:lnTo>
                  <a:pt x="227" y="181"/>
                </a:lnTo>
                <a:lnTo>
                  <a:pt x="272" y="0"/>
                </a:lnTo>
                <a:lnTo>
                  <a:pt x="0" y="317"/>
                </a:lnTo>
                <a:lnTo>
                  <a:pt x="317" y="408"/>
                </a:lnTo>
                <a:lnTo>
                  <a:pt x="227" y="317"/>
                </a:lnTo>
                <a:lnTo>
                  <a:pt x="862" y="317"/>
                </a:lnTo>
                <a:lnTo>
                  <a:pt x="816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4005360"/>
            <a:ext cx="863640" cy="1871640"/>
          </a:xfrm>
          <a:custGeom>
            <a:avLst/>
            <a:gdLst/>
            <a:ahLst/>
            <a:rect l="l" t="t" r="r" b="b"/>
            <a:pathLst>
              <a:path w="528" h="1159">
                <a:moveTo>
                  <a:pt x="0" y="43"/>
                </a:moveTo>
                <a:cubicBezTo>
                  <a:pt x="23" y="37"/>
                  <a:pt x="42" y="26"/>
                  <a:pt x="64" y="19"/>
                </a:cubicBezTo>
                <a:cubicBezTo>
                  <a:pt x="76" y="0"/>
                  <a:pt x="68" y="6"/>
                  <a:pt x="96" y="11"/>
                </a:cubicBezTo>
                <a:cubicBezTo>
                  <a:pt x="195" y="29"/>
                  <a:pt x="135" y="30"/>
                  <a:pt x="276" y="35"/>
                </a:cubicBezTo>
                <a:cubicBezTo>
                  <a:pt x="284" y="38"/>
                  <a:pt x="292" y="40"/>
                  <a:pt x="300" y="43"/>
                </a:cubicBezTo>
                <a:cubicBezTo>
                  <a:pt x="316" y="48"/>
                  <a:pt x="303" y="72"/>
                  <a:pt x="324" y="75"/>
                </a:cubicBezTo>
                <a:cubicBezTo>
                  <a:pt x="345" y="78"/>
                  <a:pt x="367" y="78"/>
                  <a:pt x="388" y="79"/>
                </a:cubicBezTo>
                <a:cubicBezTo>
                  <a:pt x="401" y="88"/>
                  <a:pt x="405" y="98"/>
                  <a:pt x="420" y="103"/>
                </a:cubicBezTo>
                <a:cubicBezTo>
                  <a:pt x="425" y="111"/>
                  <a:pt x="435" y="115"/>
                  <a:pt x="440" y="123"/>
                </a:cubicBezTo>
                <a:cubicBezTo>
                  <a:pt x="444" y="130"/>
                  <a:pt x="448" y="147"/>
                  <a:pt x="448" y="147"/>
                </a:cubicBezTo>
                <a:cubicBezTo>
                  <a:pt x="470" y="145"/>
                  <a:pt x="496" y="132"/>
                  <a:pt x="512" y="143"/>
                </a:cubicBezTo>
                <a:cubicBezTo>
                  <a:pt x="515" y="151"/>
                  <a:pt x="517" y="159"/>
                  <a:pt x="520" y="167"/>
                </a:cubicBezTo>
                <a:cubicBezTo>
                  <a:pt x="521" y="171"/>
                  <a:pt x="524" y="179"/>
                  <a:pt x="524" y="179"/>
                </a:cubicBezTo>
                <a:cubicBezTo>
                  <a:pt x="523" y="200"/>
                  <a:pt x="528" y="223"/>
                  <a:pt x="520" y="243"/>
                </a:cubicBezTo>
                <a:cubicBezTo>
                  <a:pt x="517" y="251"/>
                  <a:pt x="494" y="263"/>
                  <a:pt x="494" y="263"/>
                </a:cubicBezTo>
                <a:cubicBezTo>
                  <a:pt x="476" y="318"/>
                  <a:pt x="405" y="289"/>
                  <a:pt x="360" y="291"/>
                </a:cubicBezTo>
                <a:cubicBezTo>
                  <a:pt x="350" y="321"/>
                  <a:pt x="345" y="325"/>
                  <a:pt x="356" y="363"/>
                </a:cubicBezTo>
                <a:cubicBezTo>
                  <a:pt x="358" y="369"/>
                  <a:pt x="387" y="379"/>
                  <a:pt x="392" y="383"/>
                </a:cubicBezTo>
                <a:cubicBezTo>
                  <a:pt x="399" y="394"/>
                  <a:pt x="408" y="419"/>
                  <a:pt x="408" y="419"/>
                </a:cubicBezTo>
                <a:cubicBezTo>
                  <a:pt x="412" y="467"/>
                  <a:pt x="404" y="473"/>
                  <a:pt x="448" y="479"/>
                </a:cubicBezTo>
                <a:cubicBezTo>
                  <a:pt x="457" y="507"/>
                  <a:pt x="457" y="538"/>
                  <a:pt x="440" y="563"/>
                </a:cubicBezTo>
                <a:cubicBezTo>
                  <a:pt x="444" y="591"/>
                  <a:pt x="449" y="607"/>
                  <a:pt x="460" y="631"/>
                </a:cubicBezTo>
                <a:cubicBezTo>
                  <a:pt x="463" y="639"/>
                  <a:pt x="465" y="647"/>
                  <a:pt x="468" y="655"/>
                </a:cubicBezTo>
                <a:cubicBezTo>
                  <a:pt x="469" y="659"/>
                  <a:pt x="480" y="671"/>
                  <a:pt x="480" y="671"/>
                </a:cubicBezTo>
                <a:cubicBezTo>
                  <a:pt x="482" y="713"/>
                  <a:pt x="492" y="802"/>
                  <a:pt x="480" y="843"/>
                </a:cubicBezTo>
                <a:cubicBezTo>
                  <a:pt x="478" y="850"/>
                  <a:pt x="452" y="905"/>
                  <a:pt x="428" y="879"/>
                </a:cubicBezTo>
                <a:cubicBezTo>
                  <a:pt x="417" y="912"/>
                  <a:pt x="391" y="887"/>
                  <a:pt x="360" y="891"/>
                </a:cubicBezTo>
                <a:cubicBezTo>
                  <a:pt x="352" y="894"/>
                  <a:pt x="344" y="896"/>
                  <a:pt x="336" y="899"/>
                </a:cubicBezTo>
                <a:cubicBezTo>
                  <a:pt x="332" y="900"/>
                  <a:pt x="332" y="927"/>
                  <a:pt x="332" y="927"/>
                </a:cubicBezTo>
                <a:cubicBezTo>
                  <a:pt x="324" y="939"/>
                  <a:pt x="292" y="931"/>
                  <a:pt x="292" y="931"/>
                </a:cubicBezTo>
                <a:cubicBezTo>
                  <a:pt x="267" y="925"/>
                  <a:pt x="281" y="930"/>
                  <a:pt x="252" y="911"/>
                </a:cubicBezTo>
                <a:cubicBezTo>
                  <a:pt x="244" y="906"/>
                  <a:pt x="216" y="913"/>
                  <a:pt x="216" y="913"/>
                </a:cubicBezTo>
                <a:cubicBezTo>
                  <a:pt x="194" y="920"/>
                  <a:pt x="186" y="912"/>
                  <a:pt x="164" y="919"/>
                </a:cubicBezTo>
                <a:cubicBezTo>
                  <a:pt x="143" y="950"/>
                  <a:pt x="151" y="934"/>
                  <a:pt x="140" y="967"/>
                </a:cubicBezTo>
                <a:cubicBezTo>
                  <a:pt x="136" y="978"/>
                  <a:pt x="116" y="970"/>
                  <a:pt x="104" y="971"/>
                </a:cubicBezTo>
                <a:cubicBezTo>
                  <a:pt x="89" y="994"/>
                  <a:pt x="64" y="983"/>
                  <a:pt x="40" y="991"/>
                </a:cubicBezTo>
                <a:cubicBezTo>
                  <a:pt x="32" y="1016"/>
                  <a:pt x="61" y="1015"/>
                  <a:pt x="80" y="1019"/>
                </a:cubicBezTo>
                <a:cubicBezTo>
                  <a:pt x="95" y="1042"/>
                  <a:pt x="108" y="1022"/>
                  <a:pt x="118" y="1053"/>
                </a:cubicBezTo>
                <a:cubicBezTo>
                  <a:pt x="121" y="1061"/>
                  <a:pt x="144" y="1089"/>
                  <a:pt x="144" y="1089"/>
                </a:cubicBezTo>
                <a:cubicBezTo>
                  <a:pt x="143" y="1097"/>
                  <a:pt x="117" y="1121"/>
                  <a:pt x="112" y="1127"/>
                </a:cubicBezTo>
                <a:cubicBezTo>
                  <a:pt x="112" y="1127"/>
                  <a:pt x="82" y="1121"/>
                  <a:pt x="76" y="1123"/>
                </a:cubicBezTo>
                <a:cubicBezTo>
                  <a:pt x="72" y="1124"/>
                  <a:pt x="64" y="1127"/>
                  <a:pt x="64" y="1127"/>
                </a:cubicBezTo>
                <a:cubicBezTo>
                  <a:pt x="61" y="1131"/>
                  <a:pt x="60" y="1136"/>
                  <a:pt x="56" y="1139"/>
                </a:cubicBezTo>
                <a:cubicBezTo>
                  <a:pt x="53" y="1142"/>
                  <a:pt x="47" y="1140"/>
                  <a:pt x="44" y="1143"/>
                </a:cubicBezTo>
                <a:cubicBezTo>
                  <a:pt x="41" y="1146"/>
                  <a:pt x="44" y="1153"/>
                  <a:pt x="40" y="1155"/>
                </a:cubicBezTo>
                <a:cubicBezTo>
                  <a:pt x="34" y="1159"/>
                  <a:pt x="27" y="1158"/>
                  <a:pt x="20" y="1159"/>
                </a:cubicBezTo>
                <a:cubicBezTo>
                  <a:pt x="17" y="1154"/>
                  <a:pt x="14" y="294"/>
                  <a:pt x="0" y="43"/>
                </a:cubicBez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64000" y="3548160"/>
            <a:ext cx="720720" cy="368280"/>
          </a:xfrm>
          <a:prstGeom prst="rect">
            <a:avLst/>
          </a:prstGeom>
          <a:noFill/>
          <a:ln w="1908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南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3429000"/>
            <a:ext cx="2771640" cy="1224000"/>
          </a:xfrm>
          <a:prstGeom prst="borderCallout2">
            <a:avLst>
              <a:gd name="adj1" fmla="val 18750"/>
              <a:gd name="adj2" fmla="val -8333"/>
              <a:gd name="adj3" fmla="val 9337"/>
              <a:gd name="adj4" fmla="val -5439"/>
              <a:gd name="adj5" fmla="val 42412"/>
              <a:gd name="adj6" fmla="val -796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27.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蒋介石在上海发动“四一二反革命政变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979640" y="5084640"/>
            <a:ext cx="1366920" cy="1775880"/>
            <a:chOff x="1979640" y="5084640"/>
            <a:chExt cx="1366920" cy="1775880"/>
          </a:xfrm>
        </p:grpSpPr>
        <p:pic>
          <p:nvPicPr>
            <p:cNvPr id="199" name="" descr=""/>
            <p:cNvPicPr/>
            <p:nvPr/>
          </p:nvPicPr>
          <p:blipFill>
            <a:blip r:embed="rId9"/>
            <a:stretch/>
          </p:blipFill>
          <p:spPr>
            <a:xfrm>
              <a:off x="1979640" y="5084640"/>
              <a:ext cx="13352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979640" y="6400800"/>
              <a:ext cx="136692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Garamond"/>
                  <a:ea typeface="黑体"/>
                </a:rPr>
                <a:t>汪精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667640" y="4653000"/>
            <a:ext cx="1476360" cy="2205000"/>
          </a:xfrm>
          <a:prstGeom prst="borderCallout2">
            <a:avLst>
              <a:gd name="adj1" fmla="val 18750"/>
              <a:gd name="adj2" fmla="val -8333"/>
              <a:gd name="adj3" fmla="val 5185"/>
              <a:gd name="adj4" fmla="val -71291"/>
              <a:gd name="adj5" fmla="val -26564"/>
              <a:gd name="adj6" fmla="val -13300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27.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蒋介石在南京另立“国民政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084640"/>
            <a:ext cx="2124000" cy="1773360"/>
          </a:xfrm>
          <a:prstGeom prst="borderCallout2">
            <a:avLst>
              <a:gd name="adj1" fmla="val 18750"/>
              <a:gd name="adj2" fmla="val -8333"/>
              <a:gd name="adj3" fmla="val 6444"/>
              <a:gd name="adj4" fmla="val 165842"/>
              <a:gd name="adj5" fmla="val -38944"/>
              <a:gd name="adj6" fmla="val 22406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27.7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汪精卫在武汉发动“七一五反革命政变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80" y="4508640"/>
            <a:ext cx="2627280" cy="504720"/>
          </a:xfrm>
          <a:prstGeom prst="borderCallout2">
            <a:avLst>
              <a:gd name="adj1" fmla="val 18750"/>
              <a:gd name="adj2" fmla="val -8333"/>
              <a:gd name="adj3" fmla="val 22643"/>
              <a:gd name="adj4" fmla="val 143263"/>
              <a:gd name="adj5" fmla="val -46226"/>
              <a:gd name="adj6" fmla="val 181449"/>
            </a:avLst>
          </a:prstGeom>
          <a:solidFill>
            <a:srgbClr val="0000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1927.1.</a:t>
            </a:r>
            <a:r>
              <a:rPr b="0" lang="zh-CN" sz="2400" spc="-1" strike="noStrike">
                <a:solidFill>
                  <a:srgbClr val="ffff66"/>
                </a:solidFill>
                <a:latin typeface="黑体"/>
                <a:ea typeface="黑体"/>
              </a:rPr>
              <a:t>迁都武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3500280"/>
            <a:ext cx="360360" cy="36036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96000" y="4221000"/>
            <a:ext cx="720720" cy="368280"/>
          </a:xfrm>
          <a:prstGeom prst="rect">
            <a:avLst/>
          </a:prstGeom>
          <a:noFill/>
          <a:ln w="1908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杭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6000" y="2133720"/>
            <a:ext cx="360360" cy="36036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308720" y="0"/>
            <a:ext cx="1332000" cy="2017080"/>
            <a:chOff x="7308720" y="0"/>
            <a:chExt cx="1332000" cy="2017080"/>
          </a:xfrm>
        </p:grpSpPr>
        <p:pic>
          <p:nvPicPr>
            <p:cNvPr id="208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7308720" y="0"/>
              <a:ext cx="133200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308720" y="1557360"/>
              <a:ext cx="1332000" cy="45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Garamond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ffffff"/>
                  </a:solidFill>
                  <a:latin typeface="Garamond"/>
                  <a:ea typeface="黑体"/>
                </a:rPr>
                <a:t>张学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12"/>
          <a:stretch/>
        </p:blipFill>
        <p:spPr>
          <a:xfrm>
            <a:off x="5580000" y="1341360"/>
            <a:ext cx="863640" cy="573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149720" y="2565360"/>
            <a:ext cx="606600" cy="1103400"/>
          </a:xfrm>
          <a:custGeom>
            <a:avLst/>
            <a:gdLst/>
            <a:ahLst/>
            <a:rect l="l" t="t" r="r" b="b"/>
            <a:pathLst>
              <a:path w="382" h="695">
                <a:moveTo>
                  <a:pt x="59" y="85"/>
                </a:moveTo>
                <a:cubicBezTo>
                  <a:pt x="64" y="63"/>
                  <a:pt x="71" y="92"/>
                  <a:pt x="83" y="97"/>
                </a:cubicBezTo>
                <a:cubicBezTo>
                  <a:pt x="95" y="102"/>
                  <a:pt x="117" y="120"/>
                  <a:pt x="131" y="115"/>
                </a:cubicBezTo>
                <a:cubicBezTo>
                  <a:pt x="139" y="91"/>
                  <a:pt x="146" y="81"/>
                  <a:pt x="167" y="67"/>
                </a:cubicBezTo>
                <a:cubicBezTo>
                  <a:pt x="179" y="56"/>
                  <a:pt x="179" y="45"/>
                  <a:pt x="191" y="40"/>
                </a:cubicBezTo>
                <a:cubicBezTo>
                  <a:pt x="203" y="35"/>
                  <a:pt x="221" y="39"/>
                  <a:pt x="239" y="37"/>
                </a:cubicBezTo>
                <a:cubicBezTo>
                  <a:pt x="257" y="35"/>
                  <a:pt x="282" y="35"/>
                  <a:pt x="299" y="31"/>
                </a:cubicBezTo>
                <a:cubicBezTo>
                  <a:pt x="341" y="17"/>
                  <a:pt x="301" y="0"/>
                  <a:pt x="341" y="13"/>
                </a:cubicBezTo>
                <a:cubicBezTo>
                  <a:pt x="348" y="21"/>
                  <a:pt x="360" y="63"/>
                  <a:pt x="359" y="88"/>
                </a:cubicBezTo>
                <a:cubicBezTo>
                  <a:pt x="363" y="109"/>
                  <a:pt x="369" y="125"/>
                  <a:pt x="368" y="139"/>
                </a:cubicBezTo>
                <a:cubicBezTo>
                  <a:pt x="367" y="153"/>
                  <a:pt x="358" y="164"/>
                  <a:pt x="354" y="174"/>
                </a:cubicBezTo>
                <a:cubicBezTo>
                  <a:pt x="353" y="180"/>
                  <a:pt x="346" y="197"/>
                  <a:pt x="342" y="202"/>
                </a:cubicBezTo>
                <a:cubicBezTo>
                  <a:pt x="331" y="217"/>
                  <a:pt x="330" y="210"/>
                  <a:pt x="324" y="228"/>
                </a:cubicBezTo>
                <a:cubicBezTo>
                  <a:pt x="322" y="234"/>
                  <a:pt x="328" y="246"/>
                  <a:pt x="328" y="246"/>
                </a:cubicBezTo>
                <a:cubicBezTo>
                  <a:pt x="336" y="271"/>
                  <a:pt x="319" y="260"/>
                  <a:pt x="334" y="282"/>
                </a:cubicBezTo>
                <a:cubicBezTo>
                  <a:pt x="336" y="292"/>
                  <a:pt x="329" y="305"/>
                  <a:pt x="335" y="313"/>
                </a:cubicBezTo>
                <a:cubicBezTo>
                  <a:pt x="339" y="318"/>
                  <a:pt x="377" y="316"/>
                  <a:pt x="378" y="322"/>
                </a:cubicBezTo>
                <a:cubicBezTo>
                  <a:pt x="381" y="330"/>
                  <a:pt x="375" y="361"/>
                  <a:pt x="370" y="376"/>
                </a:cubicBezTo>
                <a:cubicBezTo>
                  <a:pt x="370" y="394"/>
                  <a:pt x="382" y="413"/>
                  <a:pt x="380" y="430"/>
                </a:cubicBezTo>
                <a:cubicBezTo>
                  <a:pt x="380" y="430"/>
                  <a:pt x="359" y="469"/>
                  <a:pt x="356" y="478"/>
                </a:cubicBezTo>
                <a:cubicBezTo>
                  <a:pt x="354" y="484"/>
                  <a:pt x="346" y="518"/>
                  <a:pt x="346" y="518"/>
                </a:cubicBezTo>
                <a:cubicBezTo>
                  <a:pt x="354" y="557"/>
                  <a:pt x="357" y="590"/>
                  <a:pt x="308" y="602"/>
                </a:cubicBezTo>
                <a:cubicBezTo>
                  <a:pt x="302" y="620"/>
                  <a:pt x="306" y="602"/>
                  <a:pt x="299" y="604"/>
                </a:cubicBezTo>
                <a:cubicBezTo>
                  <a:pt x="292" y="606"/>
                  <a:pt x="275" y="610"/>
                  <a:pt x="266" y="616"/>
                </a:cubicBezTo>
                <a:cubicBezTo>
                  <a:pt x="257" y="622"/>
                  <a:pt x="257" y="640"/>
                  <a:pt x="246" y="642"/>
                </a:cubicBezTo>
                <a:cubicBezTo>
                  <a:pt x="235" y="644"/>
                  <a:pt x="210" y="624"/>
                  <a:pt x="197" y="628"/>
                </a:cubicBezTo>
                <a:cubicBezTo>
                  <a:pt x="184" y="632"/>
                  <a:pt x="185" y="658"/>
                  <a:pt x="170" y="667"/>
                </a:cubicBezTo>
                <a:cubicBezTo>
                  <a:pt x="155" y="676"/>
                  <a:pt x="124" y="680"/>
                  <a:pt x="104" y="682"/>
                </a:cubicBezTo>
                <a:cubicBezTo>
                  <a:pt x="81" y="690"/>
                  <a:pt x="73" y="674"/>
                  <a:pt x="50" y="682"/>
                </a:cubicBezTo>
                <a:cubicBezTo>
                  <a:pt x="32" y="680"/>
                  <a:pt x="18" y="695"/>
                  <a:pt x="5" y="682"/>
                </a:cubicBezTo>
                <a:cubicBezTo>
                  <a:pt x="0" y="672"/>
                  <a:pt x="22" y="640"/>
                  <a:pt x="26" y="625"/>
                </a:cubicBezTo>
                <a:cubicBezTo>
                  <a:pt x="30" y="610"/>
                  <a:pt x="27" y="626"/>
                  <a:pt x="29" y="589"/>
                </a:cubicBezTo>
                <a:cubicBezTo>
                  <a:pt x="31" y="527"/>
                  <a:pt x="30" y="465"/>
                  <a:pt x="35" y="403"/>
                </a:cubicBezTo>
                <a:cubicBezTo>
                  <a:pt x="40" y="346"/>
                  <a:pt x="41" y="382"/>
                  <a:pt x="38" y="358"/>
                </a:cubicBezTo>
                <a:cubicBezTo>
                  <a:pt x="34" y="345"/>
                  <a:pt x="27" y="326"/>
                  <a:pt x="23" y="313"/>
                </a:cubicBezTo>
                <a:cubicBezTo>
                  <a:pt x="25" y="297"/>
                  <a:pt x="23" y="280"/>
                  <a:pt x="29" y="265"/>
                </a:cubicBezTo>
                <a:cubicBezTo>
                  <a:pt x="32" y="258"/>
                  <a:pt x="44" y="259"/>
                  <a:pt x="47" y="253"/>
                </a:cubicBezTo>
                <a:cubicBezTo>
                  <a:pt x="66" y="215"/>
                  <a:pt x="59" y="102"/>
                  <a:pt x="59" y="85"/>
                </a:cubicBezTo>
                <a:close/>
              </a:path>
            </a:pathLst>
          </a:custGeom>
          <a:solidFill>
            <a:srgbClr val="0000ff">
              <a:alpha val="70000"/>
            </a:srgbClr>
          </a:solidFill>
          <a:ln w="25560">
            <a:solidFill>
              <a:srgbClr val="0000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8360" y="3213000"/>
            <a:ext cx="144360" cy="144720"/>
          </a:xfrm>
          <a:prstGeom prst="ellipse">
            <a:avLst/>
          </a:prstGeom>
          <a:solidFill>
            <a:srgbClr val="ffffff">
              <a:alpha val="9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0"/>
            <a:ext cx="2584440" cy="3646440"/>
          </a:xfrm>
          <a:custGeom>
            <a:avLst/>
            <a:gdLst/>
            <a:ahLst/>
            <a:rect l="l" t="t" r="r" b="b"/>
            <a:pathLst>
              <a:path w="1628" h="2297">
                <a:moveTo>
                  <a:pt x="350" y="84"/>
                </a:moveTo>
                <a:cubicBezTo>
                  <a:pt x="358" y="79"/>
                  <a:pt x="362" y="69"/>
                  <a:pt x="370" y="64"/>
                </a:cubicBezTo>
                <a:cubicBezTo>
                  <a:pt x="377" y="60"/>
                  <a:pt x="394" y="56"/>
                  <a:pt x="394" y="56"/>
                </a:cubicBezTo>
                <a:cubicBezTo>
                  <a:pt x="413" y="27"/>
                  <a:pt x="455" y="22"/>
                  <a:pt x="486" y="12"/>
                </a:cubicBezTo>
                <a:cubicBezTo>
                  <a:pt x="494" y="9"/>
                  <a:pt x="502" y="3"/>
                  <a:pt x="510" y="0"/>
                </a:cubicBezTo>
                <a:cubicBezTo>
                  <a:pt x="595" y="1"/>
                  <a:pt x="681" y="1"/>
                  <a:pt x="766" y="4"/>
                </a:cubicBezTo>
                <a:cubicBezTo>
                  <a:pt x="783" y="5"/>
                  <a:pt x="806" y="36"/>
                  <a:pt x="806" y="36"/>
                </a:cubicBezTo>
                <a:cubicBezTo>
                  <a:pt x="814" y="48"/>
                  <a:pt x="815" y="66"/>
                  <a:pt x="826" y="76"/>
                </a:cubicBezTo>
                <a:cubicBezTo>
                  <a:pt x="833" y="82"/>
                  <a:pt x="850" y="92"/>
                  <a:pt x="850" y="92"/>
                </a:cubicBezTo>
                <a:cubicBezTo>
                  <a:pt x="856" y="101"/>
                  <a:pt x="864" y="107"/>
                  <a:pt x="870" y="116"/>
                </a:cubicBezTo>
                <a:cubicBezTo>
                  <a:pt x="884" y="137"/>
                  <a:pt x="870" y="167"/>
                  <a:pt x="898" y="176"/>
                </a:cubicBezTo>
                <a:cubicBezTo>
                  <a:pt x="907" y="190"/>
                  <a:pt x="922" y="207"/>
                  <a:pt x="938" y="212"/>
                </a:cubicBezTo>
                <a:cubicBezTo>
                  <a:pt x="958" y="273"/>
                  <a:pt x="920" y="279"/>
                  <a:pt x="986" y="288"/>
                </a:cubicBezTo>
                <a:cubicBezTo>
                  <a:pt x="1026" y="301"/>
                  <a:pt x="993" y="382"/>
                  <a:pt x="1014" y="384"/>
                </a:cubicBezTo>
                <a:cubicBezTo>
                  <a:pt x="1031" y="401"/>
                  <a:pt x="1059" y="371"/>
                  <a:pt x="1086" y="372"/>
                </a:cubicBezTo>
                <a:cubicBezTo>
                  <a:pt x="1113" y="373"/>
                  <a:pt x="1151" y="386"/>
                  <a:pt x="1174" y="392"/>
                </a:cubicBezTo>
                <a:cubicBezTo>
                  <a:pt x="1190" y="397"/>
                  <a:pt x="1206" y="403"/>
                  <a:pt x="1222" y="408"/>
                </a:cubicBezTo>
                <a:cubicBezTo>
                  <a:pt x="1230" y="411"/>
                  <a:pt x="1246" y="416"/>
                  <a:pt x="1246" y="416"/>
                </a:cubicBezTo>
                <a:cubicBezTo>
                  <a:pt x="1251" y="424"/>
                  <a:pt x="1261" y="430"/>
                  <a:pt x="1262" y="440"/>
                </a:cubicBezTo>
                <a:cubicBezTo>
                  <a:pt x="1266" y="513"/>
                  <a:pt x="1247" y="495"/>
                  <a:pt x="1278" y="516"/>
                </a:cubicBezTo>
                <a:cubicBezTo>
                  <a:pt x="1451" y="510"/>
                  <a:pt x="1365" y="530"/>
                  <a:pt x="1434" y="484"/>
                </a:cubicBezTo>
                <a:cubicBezTo>
                  <a:pt x="1442" y="472"/>
                  <a:pt x="1466" y="456"/>
                  <a:pt x="1466" y="456"/>
                </a:cubicBezTo>
                <a:cubicBezTo>
                  <a:pt x="1471" y="440"/>
                  <a:pt x="1488" y="425"/>
                  <a:pt x="1502" y="416"/>
                </a:cubicBezTo>
                <a:cubicBezTo>
                  <a:pt x="1514" y="398"/>
                  <a:pt x="1507" y="390"/>
                  <a:pt x="1498" y="372"/>
                </a:cubicBezTo>
                <a:cubicBezTo>
                  <a:pt x="1518" y="365"/>
                  <a:pt x="1518" y="378"/>
                  <a:pt x="1522" y="396"/>
                </a:cubicBezTo>
                <a:cubicBezTo>
                  <a:pt x="1539" y="395"/>
                  <a:pt x="1558" y="399"/>
                  <a:pt x="1574" y="392"/>
                </a:cubicBezTo>
                <a:cubicBezTo>
                  <a:pt x="1580" y="389"/>
                  <a:pt x="1572" y="370"/>
                  <a:pt x="1578" y="372"/>
                </a:cubicBezTo>
                <a:cubicBezTo>
                  <a:pt x="1586" y="375"/>
                  <a:pt x="1586" y="396"/>
                  <a:pt x="1586" y="396"/>
                </a:cubicBezTo>
                <a:cubicBezTo>
                  <a:pt x="1590" y="439"/>
                  <a:pt x="1596" y="474"/>
                  <a:pt x="1582" y="516"/>
                </a:cubicBezTo>
                <a:cubicBezTo>
                  <a:pt x="1580" y="620"/>
                  <a:pt x="1628" y="679"/>
                  <a:pt x="1554" y="704"/>
                </a:cubicBezTo>
                <a:cubicBezTo>
                  <a:pt x="1544" y="723"/>
                  <a:pt x="1547" y="732"/>
                  <a:pt x="1554" y="752"/>
                </a:cubicBezTo>
                <a:cubicBezTo>
                  <a:pt x="1549" y="823"/>
                  <a:pt x="1554" y="811"/>
                  <a:pt x="1482" y="816"/>
                </a:cubicBezTo>
                <a:cubicBezTo>
                  <a:pt x="1465" y="822"/>
                  <a:pt x="1447" y="824"/>
                  <a:pt x="1430" y="828"/>
                </a:cubicBezTo>
                <a:cubicBezTo>
                  <a:pt x="1421" y="842"/>
                  <a:pt x="1409" y="840"/>
                  <a:pt x="1402" y="856"/>
                </a:cubicBezTo>
                <a:cubicBezTo>
                  <a:pt x="1399" y="864"/>
                  <a:pt x="1397" y="872"/>
                  <a:pt x="1394" y="880"/>
                </a:cubicBezTo>
                <a:cubicBezTo>
                  <a:pt x="1393" y="884"/>
                  <a:pt x="1390" y="892"/>
                  <a:pt x="1390" y="892"/>
                </a:cubicBezTo>
                <a:cubicBezTo>
                  <a:pt x="1394" y="918"/>
                  <a:pt x="1408" y="947"/>
                  <a:pt x="1434" y="956"/>
                </a:cubicBezTo>
                <a:cubicBezTo>
                  <a:pt x="1452" y="1009"/>
                  <a:pt x="1477" y="1107"/>
                  <a:pt x="1414" y="1128"/>
                </a:cubicBezTo>
                <a:cubicBezTo>
                  <a:pt x="1402" y="1163"/>
                  <a:pt x="1400" y="1152"/>
                  <a:pt x="1354" y="1148"/>
                </a:cubicBezTo>
                <a:cubicBezTo>
                  <a:pt x="1316" y="1135"/>
                  <a:pt x="1326" y="1184"/>
                  <a:pt x="1302" y="1200"/>
                </a:cubicBezTo>
                <a:cubicBezTo>
                  <a:pt x="1279" y="1234"/>
                  <a:pt x="1310" y="1194"/>
                  <a:pt x="1282" y="1216"/>
                </a:cubicBezTo>
                <a:cubicBezTo>
                  <a:pt x="1269" y="1227"/>
                  <a:pt x="1273" y="1238"/>
                  <a:pt x="1258" y="1248"/>
                </a:cubicBezTo>
                <a:cubicBezTo>
                  <a:pt x="1253" y="1256"/>
                  <a:pt x="1240" y="1259"/>
                  <a:pt x="1238" y="1268"/>
                </a:cubicBezTo>
                <a:cubicBezTo>
                  <a:pt x="1233" y="1286"/>
                  <a:pt x="1243" y="1307"/>
                  <a:pt x="1234" y="1324"/>
                </a:cubicBezTo>
                <a:cubicBezTo>
                  <a:pt x="1226" y="1338"/>
                  <a:pt x="1198" y="1336"/>
                  <a:pt x="1182" y="1340"/>
                </a:cubicBezTo>
                <a:cubicBezTo>
                  <a:pt x="1178" y="1341"/>
                  <a:pt x="1178" y="1336"/>
                  <a:pt x="1174" y="1336"/>
                </a:cubicBezTo>
                <a:cubicBezTo>
                  <a:pt x="1149" y="1338"/>
                  <a:pt x="1123" y="1339"/>
                  <a:pt x="1098" y="1340"/>
                </a:cubicBezTo>
                <a:cubicBezTo>
                  <a:pt x="1076" y="1354"/>
                  <a:pt x="1076" y="1378"/>
                  <a:pt x="1054" y="1392"/>
                </a:cubicBezTo>
                <a:cubicBezTo>
                  <a:pt x="1051" y="1396"/>
                  <a:pt x="1047" y="1399"/>
                  <a:pt x="1046" y="1404"/>
                </a:cubicBezTo>
                <a:cubicBezTo>
                  <a:pt x="1043" y="1416"/>
                  <a:pt x="1048" y="1430"/>
                  <a:pt x="1042" y="1440"/>
                </a:cubicBezTo>
                <a:cubicBezTo>
                  <a:pt x="1035" y="1451"/>
                  <a:pt x="1018" y="1448"/>
                  <a:pt x="1006" y="1452"/>
                </a:cubicBezTo>
                <a:cubicBezTo>
                  <a:pt x="1002" y="1453"/>
                  <a:pt x="994" y="1456"/>
                  <a:pt x="994" y="1456"/>
                </a:cubicBezTo>
                <a:cubicBezTo>
                  <a:pt x="988" y="1475"/>
                  <a:pt x="987" y="1493"/>
                  <a:pt x="970" y="1504"/>
                </a:cubicBezTo>
                <a:cubicBezTo>
                  <a:pt x="967" y="1508"/>
                  <a:pt x="966" y="1513"/>
                  <a:pt x="962" y="1516"/>
                </a:cubicBezTo>
                <a:cubicBezTo>
                  <a:pt x="959" y="1519"/>
                  <a:pt x="953" y="1517"/>
                  <a:pt x="950" y="1520"/>
                </a:cubicBezTo>
                <a:cubicBezTo>
                  <a:pt x="947" y="1523"/>
                  <a:pt x="948" y="1528"/>
                  <a:pt x="946" y="1532"/>
                </a:cubicBezTo>
                <a:cubicBezTo>
                  <a:pt x="941" y="1540"/>
                  <a:pt x="935" y="1548"/>
                  <a:pt x="930" y="1556"/>
                </a:cubicBezTo>
                <a:cubicBezTo>
                  <a:pt x="925" y="1564"/>
                  <a:pt x="906" y="1572"/>
                  <a:pt x="906" y="1572"/>
                </a:cubicBezTo>
                <a:cubicBezTo>
                  <a:pt x="895" y="1588"/>
                  <a:pt x="909" y="1590"/>
                  <a:pt x="890" y="1596"/>
                </a:cubicBezTo>
                <a:cubicBezTo>
                  <a:pt x="882" y="1598"/>
                  <a:pt x="854" y="1601"/>
                  <a:pt x="846" y="1604"/>
                </a:cubicBezTo>
                <a:cubicBezTo>
                  <a:pt x="842" y="1605"/>
                  <a:pt x="834" y="1608"/>
                  <a:pt x="834" y="1608"/>
                </a:cubicBezTo>
                <a:cubicBezTo>
                  <a:pt x="822" y="1645"/>
                  <a:pt x="822" y="1630"/>
                  <a:pt x="790" y="1648"/>
                </a:cubicBezTo>
                <a:cubicBezTo>
                  <a:pt x="782" y="1653"/>
                  <a:pt x="774" y="1659"/>
                  <a:pt x="766" y="1664"/>
                </a:cubicBezTo>
                <a:cubicBezTo>
                  <a:pt x="762" y="1667"/>
                  <a:pt x="754" y="1672"/>
                  <a:pt x="754" y="1672"/>
                </a:cubicBezTo>
                <a:cubicBezTo>
                  <a:pt x="749" y="1710"/>
                  <a:pt x="744" y="1708"/>
                  <a:pt x="714" y="1728"/>
                </a:cubicBezTo>
                <a:cubicBezTo>
                  <a:pt x="707" y="1739"/>
                  <a:pt x="707" y="1742"/>
                  <a:pt x="694" y="1748"/>
                </a:cubicBezTo>
                <a:cubicBezTo>
                  <a:pt x="686" y="1751"/>
                  <a:pt x="670" y="1756"/>
                  <a:pt x="670" y="1756"/>
                </a:cubicBezTo>
                <a:cubicBezTo>
                  <a:pt x="622" y="1748"/>
                  <a:pt x="661" y="1747"/>
                  <a:pt x="678" y="1744"/>
                </a:cubicBezTo>
                <a:cubicBezTo>
                  <a:pt x="698" y="1731"/>
                  <a:pt x="695" y="1710"/>
                  <a:pt x="702" y="1688"/>
                </a:cubicBezTo>
                <a:cubicBezTo>
                  <a:pt x="701" y="1683"/>
                  <a:pt x="702" y="1676"/>
                  <a:pt x="698" y="1672"/>
                </a:cubicBezTo>
                <a:cubicBezTo>
                  <a:pt x="692" y="1667"/>
                  <a:pt x="674" y="1664"/>
                  <a:pt x="674" y="1664"/>
                </a:cubicBezTo>
                <a:cubicBezTo>
                  <a:pt x="675" y="1652"/>
                  <a:pt x="674" y="1639"/>
                  <a:pt x="678" y="1628"/>
                </a:cubicBezTo>
                <a:cubicBezTo>
                  <a:pt x="680" y="1624"/>
                  <a:pt x="687" y="1627"/>
                  <a:pt x="690" y="1624"/>
                </a:cubicBezTo>
                <a:cubicBezTo>
                  <a:pt x="694" y="1621"/>
                  <a:pt x="696" y="1616"/>
                  <a:pt x="698" y="1612"/>
                </a:cubicBezTo>
                <a:cubicBezTo>
                  <a:pt x="707" y="1592"/>
                  <a:pt x="719" y="1573"/>
                  <a:pt x="726" y="1552"/>
                </a:cubicBezTo>
                <a:cubicBezTo>
                  <a:pt x="718" y="1505"/>
                  <a:pt x="733" y="1545"/>
                  <a:pt x="694" y="1524"/>
                </a:cubicBezTo>
                <a:cubicBezTo>
                  <a:pt x="684" y="1519"/>
                  <a:pt x="681" y="1504"/>
                  <a:pt x="670" y="1500"/>
                </a:cubicBezTo>
                <a:cubicBezTo>
                  <a:pt x="666" y="1499"/>
                  <a:pt x="662" y="1497"/>
                  <a:pt x="658" y="1496"/>
                </a:cubicBezTo>
                <a:cubicBezTo>
                  <a:pt x="667" y="1523"/>
                  <a:pt x="633" y="1518"/>
                  <a:pt x="614" y="1524"/>
                </a:cubicBezTo>
                <a:cubicBezTo>
                  <a:pt x="609" y="1532"/>
                  <a:pt x="599" y="1536"/>
                  <a:pt x="594" y="1544"/>
                </a:cubicBezTo>
                <a:cubicBezTo>
                  <a:pt x="590" y="1551"/>
                  <a:pt x="586" y="1568"/>
                  <a:pt x="586" y="1568"/>
                </a:cubicBezTo>
                <a:cubicBezTo>
                  <a:pt x="582" y="1601"/>
                  <a:pt x="576" y="1613"/>
                  <a:pt x="542" y="1620"/>
                </a:cubicBezTo>
                <a:cubicBezTo>
                  <a:pt x="533" y="1626"/>
                  <a:pt x="527" y="1639"/>
                  <a:pt x="518" y="1644"/>
                </a:cubicBezTo>
                <a:cubicBezTo>
                  <a:pt x="511" y="1648"/>
                  <a:pt x="502" y="1645"/>
                  <a:pt x="494" y="1648"/>
                </a:cubicBezTo>
                <a:cubicBezTo>
                  <a:pt x="490" y="1649"/>
                  <a:pt x="498" y="1664"/>
                  <a:pt x="498" y="1664"/>
                </a:cubicBezTo>
                <a:cubicBezTo>
                  <a:pt x="497" y="1668"/>
                  <a:pt x="478" y="1660"/>
                  <a:pt x="478" y="1664"/>
                </a:cubicBezTo>
                <a:cubicBezTo>
                  <a:pt x="476" y="1691"/>
                  <a:pt x="479" y="1718"/>
                  <a:pt x="474" y="1744"/>
                </a:cubicBezTo>
                <a:cubicBezTo>
                  <a:pt x="471" y="1759"/>
                  <a:pt x="395" y="1767"/>
                  <a:pt x="386" y="1768"/>
                </a:cubicBezTo>
                <a:cubicBezTo>
                  <a:pt x="347" y="1794"/>
                  <a:pt x="413" y="1754"/>
                  <a:pt x="350" y="1772"/>
                </a:cubicBezTo>
                <a:cubicBezTo>
                  <a:pt x="346" y="1773"/>
                  <a:pt x="347" y="1780"/>
                  <a:pt x="346" y="1784"/>
                </a:cubicBezTo>
                <a:cubicBezTo>
                  <a:pt x="339" y="1806"/>
                  <a:pt x="351" y="1817"/>
                  <a:pt x="338" y="1836"/>
                </a:cubicBezTo>
                <a:cubicBezTo>
                  <a:pt x="350" y="1848"/>
                  <a:pt x="351" y="1853"/>
                  <a:pt x="362" y="1864"/>
                </a:cubicBezTo>
                <a:cubicBezTo>
                  <a:pt x="371" y="1873"/>
                  <a:pt x="382" y="1892"/>
                  <a:pt x="382" y="1892"/>
                </a:cubicBezTo>
                <a:cubicBezTo>
                  <a:pt x="410" y="1883"/>
                  <a:pt x="429" y="1887"/>
                  <a:pt x="458" y="1892"/>
                </a:cubicBezTo>
                <a:cubicBezTo>
                  <a:pt x="463" y="1900"/>
                  <a:pt x="472" y="1907"/>
                  <a:pt x="474" y="1916"/>
                </a:cubicBezTo>
                <a:cubicBezTo>
                  <a:pt x="482" y="1947"/>
                  <a:pt x="481" y="1973"/>
                  <a:pt x="514" y="1984"/>
                </a:cubicBezTo>
                <a:cubicBezTo>
                  <a:pt x="533" y="1983"/>
                  <a:pt x="552" y="1985"/>
                  <a:pt x="570" y="1980"/>
                </a:cubicBezTo>
                <a:cubicBezTo>
                  <a:pt x="575" y="1979"/>
                  <a:pt x="574" y="1955"/>
                  <a:pt x="578" y="1944"/>
                </a:cubicBezTo>
                <a:cubicBezTo>
                  <a:pt x="583" y="1929"/>
                  <a:pt x="608" y="1921"/>
                  <a:pt x="622" y="1916"/>
                </a:cubicBezTo>
                <a:cubicBezTo>
                  <a:pt x="642" y="1887"/>
                  <a:pt x="649" y="1897"/>
                  <a:pt x="690" y="1900"/>
                </a:cubicBezTo>
                <a:cubicBezTo>
                  <a:pt x="707" y="1925"/>
                  <a:pt x="721" y="1915"/>
                  <a:pt x="754" y="1912"/>
                </a:cubicBezTo>
                <a:cubicBezTo>
                  <a:pt x="755" y="1908"/>
                  <a:pt x="755" y="1903"/>
                  <a:pt x="758" y="1900"/>
                </a:cubicBezTo>
                <a:cubicBezTo>
                  <a:pt x="761" y="1897"/>
                  <a:pt x="766" y="1896"/>
                  <a:pt x="770" y="1896"/>
                </a:cubicBezTo>
                <a:cubicBezTo>
                  <a:pt x="778" y="1897"/>
                  <a:pt x="786" y="1903"/>
                  <a:pt x="794" y="1904"/>
                </a:cubicBezTo>
                <a:cubicBezTo>
                  <a:pt x="809" y="1905"/>
                  <a:pt x="823" y="1907"/>
                  <a:pt x="838" y="1908"/>
                </a:cubicBezTo>
                <a:cubicBezTo>
                  <a:pt x="848" y="1924"/>
                  <a:pt x="848" y="1930"/>
                  <a:pt x="830" y="1936"/>
                </a:cubicBezTo>
                <a:cubicBezTo>
                  <a:pt x="824" y="1989"/>
                  <a:pt x="828" y="1982"/>
                  <a:pt x="774" y="1964"/>
                </a:cubicBezTo>
                <a:cubicBezTo>
                  <a:pt x="771" y="1968"/>
                  <a:pt x="770" y="1973"/>
                  <a:pt x="766" y="1976"/>
                </a:cubicBezTo>
                <a:cubicBezTo>
                  <a:pt x="759" y="1980"/>
                  <a:pt x="742" y="1984"/>
                  <a:pt x="742" y="1984"/>
                </a:cubicBezTo>
                <a:cubicBezTo>
                  <a:pt x="728" y="1998"/>
                  <a:pt x="711" y="2001"/>
                  <a:pt x="694" y="2012"/>
                </a:cubicBezTo>
                <a:cubicBezTo>
                  <a:pt x="691" y="2020"/>
                  <a:pt x="694" y="2033"/>
                  <a:pt x="686" y="2036"/>
                </a:cubicBezTo>
                <a:cubicBezTo>
                  <a:pt x="678" y="2039"/>
                  <a:pt x="662" y="2044"/>
                  <a:pt x="662" y="2044"/>
                </a:cubicBezTo>
                <a:cubicBezTo>
                  <a:pt x="659" y="2052"/>
                  <a:pt x="657" y="2060"/>
                  <a:pt x="654" y="2068"/>
                </a:cubicBezTo>
                <a:cubicBezTo>
                  <a:pt x="651" y="2076"/>
                  <a:pt x="656" y="2086"/>
                  <a:pt x="650" y="2092"/>
                </a:cubicBezTo>
                <a:cubicBezTo>
                  <a:pt x="644" y="2098"/>
                  <a:pt x="634" y="2095"/>
                  <a:pt x="626" y="2096"/>
                </a:cubicBezTo>
                <a:cubicBezTo>
                  <a:pt x="618" y="2102"/>
                  <a:pt x="609" y="2105"/>
                  <a:pt x="606" y="2116"/>
                </a:cubicBezTo>
                <a:cubicBezTo>
                  <a:pt x="603" y="2126"/>
                  <a:pt x="609" y="2140"/>
                  <a:pt x="602" y="2148"/>
                </a:cubicBezTo>
                <a:cubicBezTo>
                  <a:pt x="596" y="2155"/>
                  <a:pt x="583" y="2151"/>
                  <a:pt x="574" y="2152"/>
                </a:cubicBezTo>
                <a:cubicBezTo>
                  <a:pt x="571" y="2160"/>
                  <a:pt x="569" y="2168"/>
                  <a:pt x="566" y="2176"/>
                </a:cubicBezTo>
                <a:cubicBezTo>
                  <a:pt x="562" y="2187"/>
                  <a:pt x="568" y="2202"/>
                  <a:pt x="562" y="2212"/>
                </a:cubicBezTo>
                <a:cubicBezTo>
                  <a:pt x="557" y="2219"/>
                  <a:pt x="546" y="2217"/>
                  <a:pt x="538" y="2220"/>
                </a:cubicBezTo>
                <a:cubicBezTo>
                  <a:pt x="519" y="2226"/>
                  <a:pt x="510" y="2249"/>
                  <a:pt x="494" y="2260"/>
                </a:cubicBezTo>
                <a:cubicBezTo>
                  <a:pt x="489" y="2267"/>
                  <a:pt x="489" y="2279"/>
                  <a:pt x="482" y="2284"/>
                </a:cubicBezTo>
                <a:cubicBezTo>
                  <a:pt x="475" y="2289"/>
                  <a:pt x="458" y="2292"/>
                  <a:pt x="458" y="2292"/>
                </a:cubicBezTo>
                <a:cubicBezTo>
                  <a:pt x="365" y="2284"/>
                  <a:pt x="457" y="2292"/>
                  <a:pt x="398" y="2272"/>
                </a:cubicBezTo>
                <a:cubicBezTo>
                  <a:pt x="384" y="2293"/>
                  <a:pt x="380" y="2292"/>
                  <a:pt x="354" y="2288"/>
                </a:cubicBezTo>
                <a:cubicBezTo>
                  <a:pt x="337" y="2277"/>
                  <a:pt x="339" y="2259"/>
                  <a:pt x="318" y="2252"/>
                </a:cubicBezTo>
                <a:cubicBezTo>
                  <a:pt x="294" y="2258"/>
                  <a:pt x="304" y="2251"/>
                  <a:pt x="294" y="2280"/>
                </a:cubicBezTo>
                <a:lnTo>
                  <a:pt x="294" y="2280"/>
                </a:lnTo>
                <a:cubicBezTo>
                  <a:pt x="281" y="2284"/>
                  <a:pt x="271" y="2292"/>
                  <a:pt x="258" y="2296"/>
                </a:cubicBezTo>
                <a:cubicBezTo>
                  <a:pt x="231" y="2295"/>
                  <a:pt x="204" y="2297"/>
                  <a:pt x="178" y="2292"/>
                </a:cubicBezTo>
                <a:cubicBezTo>
                  <a:pt x="174" y="2291"/>
                  <a:pt x="177" y="2283"/>
                  <a:pt x="174" y="2280"/>
                </a:cubicBezTo>
                <a:cubicBezTo>
                  <a:pt x="166" y="2272"/>
                  <a:pt x="153" y="2274"/>
                  <a:pt x="142" y="2272"/>
                </a:cubicBezTo>
                <a:cubicBezTo>
                  <a:pt x="143" y="2260"/>
                  <a:pt x="144" y="2248"/>
                  <a:pt x="146" y="2236"/>
                </a:cubicBezTo>
                <a:cubicBezTo>
                  <a:pt x="148" y="2228"/>
                  <a:pt x="154" y="2212"/>
                  <a:pt x="154" y="2212"/>
                </a:cubicBezTo>
                <a:cubicBezTo>
                  <a:pt x="141" y="2193"/>
                  <a:pt x="147" y="2177"/>
                  <a:pt x="154" y="2156"/>
                </a:cubicBezTo>
                <a:cubicBezTo>
                  <a:pt x="150" y="2132"/>
                  <a:pt x="150" y="2125"/>
                  <a:pt x="130" y="2112"/>
                </a:cubicBezTo>
                <a:cubicBezTo>
                  <a:pt x="121" y="2084"/>
                  <a:pt x="134" y="2072"/>
                  <a:pt x="158" y="2064"/>
                </a:cubicBezTo>
                <a:cubicBezTo>
                  <a:pt x="172" y="2043"/>
                  <a:pt x="177" y="2018"/>
                  <a:pt x="198" y="2004"/>
                </a:cubicBezTo>
                <a:cubicBezTo>
                  <a:pt x="205" y="1967"/>
                  <a:pt x="238" y="1950"/>
                  <a:pt x="274" y="1944"/>
                </a:cubicBezTo>
                <a:cubicBezTo>
                  <a:pt x="278" y="1926"/>
                  <a:pt x="284" y="1917"/>
                  <a:pt x="290" y="1900"/>
                </a:cubicBezTo>
                <a:cubicBezTo>
                  <a:pt x="291" y="1863"/>
                  <a:pt x="291" y="1825"/>
                  <a:pt x="294" y="1788"/>
                </a:cubicBezTo>
                <a:cubicBezTo>
                  <a:pt x="295" y="1780"/>
                  <a:pt x="302" y="1764"/>
                  <a:pt x="302" y="1764"/>
                </a:cubicBezTo>
                <a:cubicBezTo>
                  <a:pt x="301" y="1727"/>
                  <a:pt x="291" y="1721"/>
                  <a:pt x="286" y="1684"/>
                </a:cubicBezTo>
                <a:cubicBezTo>
                  <a:pt x="285" y="1680"/>
                  <a:pt x="278" y="1686"/>
                  <a:pt x="274" y="1684"/>
                </a:cubicBezTo>
                <a:cubicBezTo>
                  <a:pt x="266" y="1679"/>
                  <a:pt x="250" y="1672"/>
                  <a:pt x="250" y="1672"/>
                </a:cubicBezTo>
                <a:cubicBezTo>
                  <a:pt x="241" y="1658"/>
                  <a:pt x="212" y="1633"/>
                  <a:pt x="202" y="1620"/>
                </a:cubicBezTo>
                <a:cubicBezTo>
                  <a:pt x="183" y="1620"/>
                  <a:pt x="167" y="1647"/>
                  <a:pt x="142" y="1668"/>
                </a:cubicBezTo>
                <a:cubicBezTo>
                  <a:pt x="117" y="1689"/>
                  <a:pt x="71" y="1739"/>
                  <a:pt x="50" y="1744"/>
                </a:cubicBezTo>
                <a:cubicBezTo>
                  <a:pt x="12" y="1761"/>
                  <a:pt x="26" y="1721"/>
                  <a:pt x="18" y="1696"/>
                </a:cubicBezTo>
                <a:cubicBezTo>
                  <a:pt x="10" y="1671"/>
                  <a:pt x="3" y="1621"/>
                  <a:pt x="2" y="1596"/>
                </a:cubicBezTo>
                <a:cubicBezTo>
                  <a:pt x="1" y="1571"/>
                  <a:pt x="0" y="1549"/>
                  <a:pt x="10" y="1544"/>
                </a:cubicBezTo>
                <a:cubicBezTo>
                  <a:pt x="18" y="1533"/>
                  <a:pt x="49" y="1567"/>
                  <a:pt x="62" y="1564"/>
                </a:cubicBezTo>
                <a:cubicBezTo>
                  <a:pt x="75" y="1561"/>
                  <a:pt x="76" y="1521"/>
                  <a:pt x="90" y="1524"/>
                </a:cubicBezTo>
                <a:cubicBezTo>
                  <a:pt x="104" y="1527"/>
                  <a:pt x="131" y="1580"/>
                  <a:pt x="146" y="1580"/>
                </a:cubicBezTo>
                <a:cubicBezTo>
                  <a:pt x="161" y="1580"/>
                  <a:pt x="179" y="1537"/>
                  <a:pt x="182" y="1524"/>
                </a:cubicBezTo>
                <a:cubicBezTo>
                  <a:pt x="177" y="1516"/>
                  <a:pt x="171" y="1508"/>
                  <a:pt x="166" y="1500"/>
                </a:cubicBezTo>
                <a:cubicBezTo>
                  <a:pt x="163" y="1496"/>
                  <a:pt x="158" y="1488"/>
                  <a:pt x="158" y="1488"/>
                </a:cubicBezTo>
                <a:cubicBezTo>
                  <a:pt x="165" y="1466"/>
                  <a:pt x="183" y="1450"/>
                  <a:pt x="190" y="1428"/>
                </a:cubicBezTo>
                <a:cubicBezTo>
                  <a:pt x="195" y="1409"/>
                  <a:pt x="211" y="1398"/>
                  <a:pt x="210" y="1376"/>
                </a:cubicBezTo>
                <a:cubicBezTo>
                  <a:pt x="209" y="1354"/>
                  <a:pt x="191" y="1311"/>
                  <a:pt x="186" y="1296"/>
                </a:cubicBezTo>
                <a:cubicBezTo>
                  <a:pt x="186" y="1291"/>
                  <a:pt x="178" y="1289"/>
                  <a:pt x="178" y="1284"/>
                </a:cubicBezTo>
                <a:cubicBezTo>
                  <a:pt x="172" y="1215"/>
                  <a:pt x="244" y="1206"/>
                  <a:pt x="294" y="1196"/>
                </a:cubicBezTo>
                <a:cubicBezTo>
                  <a:pt x="298" y="1192"/>
                  <a:pt x="301" y="1187"/>
                  <a:pt x="306" y="1184"/>
                </a:cubicBezTo>
                <a:cubicBezTo>
                  <a:pt x="310" y="1182"/>
                  <a:pt x="316" y="1183"/>
                  <a:pt x="318" y="1180"/>
                </a:cubicBezTo>
                <a:cubicBezTo>
                  <a:pt x="323" y="1173"/>
                  <a:pt x="319" y="1161"/>
                  <a:pt x="326" y="1156"/>
                </a:cubicBezTo>
                <a:cubicBezTo>
                  <a:pt x="334" y="1151"/>
                  <a:pt x="350" y="1140"/>
                  <a:pt x="350" y="1140"/>
                </a:cubicBezTo>
                <a:cubicBezTo>
                  <a:pt x="361" y="1106"/>
                  <a:pt x="338" y="1066"/>
                  <a:pt x="370" y="1044"/>
                </a:cubicBezTo>
                <a:cubicBezTo>
                  <a:pt x="380" y="1029"/>
                  <a:pt x="392" y="1029"/>
                  <a:pt x="398" y="1012"/>
                </a:cubicBezTo>
                <a:cubicBezTo>
                  <a:pt x="403" y="940"/>
                  <a:pt x="395" y="968"/>
                  <a:pt x="410" y="924"/>
                </a:cubicBezTo>
                <a:cubicBezTo>
                  <a:pt x="414" y="911"/>
                  <a:pt x="430" y="888"/>
                  <a:pt x="430" y="888"/>
                </a:cubicBezTo>
                <a:cubicBezTo>
                  <a:pt x="432" y="877"/>
                  <a:pt x="438" y="867"/>
                  <a:pt x="438" y="856"/>
                </a:cubicBezTo>
                <a:cubicBezTo>
                  <a:pt x="438" y="802"/>
                  <a:pt x="412" y="809"/>
                  <a:pt x="366" y="804"/>
                </a:cubicBezTo>
                <a:cubicBezTo>
                  <a:pt x="351" y="781"/>
                  <a:pt x="325" y="759"/>
                  <a:pt x="302" y="744"/>
                </a:cubicBezTo>
                <a:cubicBezTo>
                  <a:pt x="263" y="745"/>
                  <a:pt x="225" y="769"/>
                  <a:pt x="186" y="772"/>
                </a:cubicBezTo>
                <a:cubicBezTo>
                  <a:pt x="169" y="773"/>
                  <a:pt x="130" y="764"/>
                  <a:pt x="130" y="764"/>
                </a:cubicBezTo>
                <a:cubicBezTo>
                  <a:pt x="106" y="763"/>
                  <a:pt x="90" y="765"/>
                  <a:pt x="66" y="760"/>
                </a:cubicBezTo>
                <a:cubicBezTo>
                  <a:pt x="53" y="757"/>
                  <a:pt x="50" y="724"/>
                  <a:pt x="50" y="724"/>
                </a:cubicBezTo>
                <a:cubicBezTo>
                  <a:pt x="56" y="695"/>
                  <a:pt x="79" y="657"/>
                  <a:pt x="86" y="628"/>
                </a:cubicBezTo>
                <a:cubicBezTo>
                  <a:pt x="87" y="595"/>
                  <a:pt x="66" y="569"/>
                  <a:pt x="70" y="536"/>
                </a:cubicBezTo>
                <a:cubicBezTo>
                  <a:pt x="71" y="523"/>
                  <a:pt x="102" y="516"/>
                  <a:pt x="102" y="516"/>
                </a:cubicBezTo>
                <a:cubicBezTo>
                  <a:pt x="122" y="486"/>
                  <a:pt x="101" y="491"/>
                  <a:pt x="154" y="496"/>
                </a:cubicBezTo>
                <a:cubicBezTo>
                  <a:pt x="171" y="502"/>
                  <a:pt x="184" y="510"/>
                  <a:pt x="202" y="516"/>
                </a:cubicBezTo>
                <a:cubicBezTo>
                  <a:pt x="206" y="517"/>
                  <a:pt x="214" y="520"/>
                  <a:pt x="214" y="520"/>
                </a:cubicBezTo>
                <a:cubicBezTo>
                  <a:pt x="226" y="519"/>
                  <a:pt x="239" y="520"/>
                  <a:pt x="250" y="516"/>
                </a:cubicBezTo>
                <a:cubicBezTo>
                  <a:pt x="254" y="514"/>
                  <a:pt x="252" y="508"/>
                  <a:pt x="254" y="504"/>
                </a:cubicBezTo>
                <a:cubicBezTo>
                  <a:pt x="261" y="491"/>
                  <a:pt x="262" y="492"/>
                  <a:pt x="274" y="484"/>
                </a:cubicBezTo>
                <a:cubicBezTo>
                  <a:pt x="281" y="463"/>
                  <a:pt x="282" y="449"/>
                  <a:pt x="302" y="436"/>
                </a:cubicBezTo>
                <a:cubicBezTo>
                  <a:pt x="313" y="402"/>
                  <a:pt x="303" y="366"/>
                  <a:pt x="314" y="332"/>
                </a:cubicBezTo>
                <a:cubicBezTo>
                  <a:pt x="320" y="265"/>
                  <a:pt x="317" y="269"/>
                  <a:pt x="366" y="236"/>
                </a:cubicBezTo>
                <a:cubicBezTo>
                  <a:pt x="371" y="220"/>
                  <a:pt x="383" y="219"/>
                  <a:pt x="390" y="204"/>
                </a:cubicBezTo>
                <a:cubicBezTo>
                  <a:pt x="409" y="161"/>
                  <a:pt x="388" y="195"/>
                  <a:pt x="406" y="168"/>
                </a:cubicBezTo>
                <a:cubicBezTo>
                  <a:pt x="397" y="133"/>
                  <a:pt x="396" y="140"/>
                  <a:pt x="354" y="144"/>
                </a:cubicBezTo>
                <a:cubicBezTo>
                  <a:pt x="305" y="134"/>
                  <a:pt x="332" y="98"/>
                  <a:pt x="362" y="88"/>
                </a:cubicBezTo>
                <a:cubicBezTo>
                  <a:pt x="367" y="72"/>
                  <a:pt x="363" y="79"/>
                  <a:pt x="374" y="68"/>
                </a:cubicBezTo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98920" y="3213000"/>
            <a:ext cx="720720" cy="368280"/>
          </a:xfrm>
          <a:prstGeom prst="rect">
            <a:avLst/>
          </a:prstGeom>
          <a:noFill/>
          <a:ln w="1908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郑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3068640"/>
            <a:ext cx="720720" cy="368280"/>
          </a:xfrm>
          <a:prstGeom prst="rect">
            <a:avLst/>
          </a:prstGeom>
          <a:noFill/>
          <a:ln w="1908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济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8000" y="2349360"/>
            <a:ext cx="720720" cy="368280"/>
          </a:xfrm>
          <a:prstGeom prst="rect">
            <a:avLst/>
          </a:prstGeom>
          <a:noFill/>
          <a:ln w="1908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北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1916280"/>
            <a:ext cx="720720" cy="368280"/>
          </a:xfrm>
          <a:prstGeom prst="rect">
            <a:avLst/>
          </a:prstGeom>
          <a:noFill/>
          <a:ln w="1908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沈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3"/>
          <a:stretch/>
        </p:blipFill>
        <p:spPr>
          <a:xfrm>
            <a:off x="5580000" y="1341360"/>
            <a:ext cx="865080" cy="573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861080" y="476280"/>
            <a:ext cx="2447640" cy="82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928.1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张学良“东北易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5650400">
            <a:off x="3406680" y="3068640"/>
            <a:ext cx="1008000" cy="144360"/>
          </a:xfrm>
          <a:custGeom>
            <a:avLst/>
            <a:gdLst/>
            <a:ahLst/>
            <a:rect l="l" t="t" r="r" b="b"/>
            <a:pathLst>
              <a:path w="862" h="408">
                <a:moveTo>
                  <a:pt x="816" y="0"/>
                </a:moveTo>
                <a:lnTo>
                  <a:pt x="227" y="181"/>
                </a:lnTo>
                <a:lnTo>
                  <a:pt x="272" y="0"/>
                </a:lnTo>
                <a:lnTo>
                  <a:pt x="0" y="317"/>
                </a:lnTo>
                <a:lnTo>
                  <a:pt x="317" y="408"/>
                </a:lnTo>
                <a:lnTo>
                  <a:pt x="227" y="317"/>
                </a:lnTo>
                <a:lnTo>
                  <a:pt x="862" y="317"/>
                </a:lnTo>
                <a:lnTo>
                  <a:pt x="816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92720" y="3537000"/>
            <a:ext cx="719280" cy="307080"/>
          </a:xfrm>
          <a:prstGeom prst="rect">
            <a:avLst/>
          </a:prstGeom>
          <a:solidFill>
            <a:srgbClr val="0000ff">
              <a:alpha val="93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</a:rPr>
              <a:t>南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5508720" y="38606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572000" y="3933720"/>
            <a:ext cx="720720" cy="368280"/>
          </a:xfrm>
          <a:prstGeom prst="rect">
            <a:avLst/>
          </a:prstGeom>
          <a:noFill/>
          <a:ln w="1908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武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27640" y="3933720"/>
            <a:ext cx="718920" cy="285840"/>
          </a:xfrm>
          <a:prstGeom prst="rect">
            <a:avLst/>
          </a:prstGeom>
          <a:solidFill>
            <a:srgbClr val="0000ff">
              <a:alpha val="93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武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3966600">
            <a:off x="4752000" y="3825000"/>
            <a:ext cx="431640" cy="71280"/>
          </a:xfrm>
          <a:custGeom>
            <a:avLst/>
            <a:gdLst/>
            <a:ahLst/>
            <a:rect l="l" t="t" r="r" b="b"/>
            <a:pathLst>
              <a:path w="862" h="408">
                <a:moveTo>
                  <a:pt x="816" y="0"/>
                </a:moveTo>
                <a:lnTo>
                  <a:pt x="227" y="181"/>
                </a:lnTo>
                <a:lnTo>
                  <a:pt x="272" y="0"/>
                </a:lnTo>
                <a:lnTo>
                  <a:pt x="0" y="317"/>
                </a:lnTo>
                <a:lnTo>
                  <a:pt x="317" y="408"/>
                </a:lnTo>
                <a:lnTo>
                  <a:pt x="227" y="317"/>
                </a:lnTo>
                <a:lnTo>
                  <a:pt x="862" y="317"/>
                </a:lnTo>
                <a:lnTo>
                  <a:pt x="816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5"/>
          <a:stretch/>
        </p:blipFill>
        <p:spPr>
          <a:xfrm>
            <a:off x="4716360" y="5589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979640" y="2087640"/>
            <a:ext cx="1368360" cy="1917720"/>
          </a:xfrm>
          <a:prstGeom prst="borderCallout2">
            <a:avLst>
              <a:gd name="adj1" fmla="val 18750"/>
              <a:gd name="adj2" fmla="val -8333"/>
              <a:gd name="adj3" fmla="val 5958"/>
              <a:gd name="adj4" fmla="val 201393"/>
              <a:gd name="adj5" fmla="val 13907"/>
              <a:gd name="adj6" fmla="val 291300"/>
            </a:avLst>
          </a:prstGeom>
          <a:solidFill>
            <a:srgbClr val="ffffff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28.6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本军在皇姑屯炸死张作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080" y="3357720"/>
            <a:ext cx="1834920" cy="504720"/>
          </a:xfrm>
          <a:prstGeom prst="borderCallout2">
            <a:avLst>
              <a:gd name="adj1" fmla="val 18750"/>
              <a:gd name="adj2" fmla="val -8333"/>
              <a:gd name="adj3" fmla="val 22643"/>
              <a:gd name="adj4" fmla="val 172578"/>
              <a:gd name="adj5" fmla="val 211949"/>
              <a:gd name="adj6" fmla="val 257870"/>
            </a:avLst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贺胜桥战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080" y="3933720"/>
            <a:ext cx="1834920" cy="505080"/>
          </a:xfrm>
          <a:prstGeom prst="borderCallout2">
            <a:avLst>
              <a:gd name="adj1" fmla="val 18750"/>
              <a:gd name="adj2" fmla="val -8333"/>
              <a:gd name="adj3" fmla="val 22643"/>
              <a:gd name="adj4" fmla="val 179064"/>
              <a:gd name="adj5" fmla="val 128930"/>
              <a:gd name="adj6" fmla="val 249828"/>
            </a:avLst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汀泗桥战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2060640"/>
            <a:ext cx="720720" cy="368280"/>
          </a:xfrm>
          <a:prstGeom prst="rect">
            <a:avLst/>
          </a:prstGeom>
          <a:noFill/>
          <a:ln w="1908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Garamond"/>
              </a:rPr>
              <a:t>五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72360" y="2205000"/>
            <a:ext cx="2771640" cy="1224000"/>
          </a:xfrm>
          <a:prstGeom prst="borderCallout2">
            <a:avLst>
              <a:gd name="adj1" fmla="val 18750"/>
              <a:gd name="adj2" fmla="val -8333"/>
              <a:gd name="adj3" fmla="val 9337"/>
              <a:gd name="adj4" fmla="val -7388"/>
              <a:gd name="adj5" fmla="val 145782"/>
              <a:gd name="adj6" fmla="val -11796"/>
            </a:avLst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1927.3. 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中共领导上海工人起义，占领上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５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. 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经过：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7 C 0.00296 -0.08843 0.00625 -0.17593 0.00764 -0.20995 E">
                                      <p:cBhvr>
                                        <p:cTn id="25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92320" y="1125720"/>
            <a:ext cx="3327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攻占湘鄂，打败吴佩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叶挺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独立团，汀泗桥、贺胜桥战役取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攻占江西，打败孙传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迁都武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挺进沪宁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北上中原，打退张作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40000" y="404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５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经过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340000" y="62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方正水柱简体"/>
                <a:ea typeface="黑体"/>
              </a:rPr>
              <a:t>四、国民党右派的叛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5640" y="1413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罪行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1280" y="2205000"/>
            <a:ext cx="6481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国民党右派蒋介石、汪精卫叛变革命，发动政变，屠杀共产党和国民党左派。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3508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危害：</a:t>
            </a:r>
            <a:r>
              <a:rPr b="0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1280" y="363060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国民革命失败，国共合作破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2:57:39Z</dcterms:created>
  <dc:creator>魏伟</dc:creator>
  <dc:description/>
  <dc:language>en-US</dc:language>
  <cp:lastModifiedBy>zhujf</cp:lastModifiedBy>
  <dcterms:modified xsi:type="dcterms:W3CDTF">2009-07-07T07:06:23Z</dcterms:modified>
  <cp:revision>20</cp:revision>
  <dc:subject/>
  <dc:title>北伐战争</dc:title>
</cp:coreProperties>
</file>