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FAA-84C9-4F6F-9C9A-400F5A84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2D1-D8FA-4F9D-92A8-33F52AA3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F77-7C34-4E0D-873A-6D411BF4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2D4-AC6A-4B03-93EA-D870C5E2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54EF-C0F5-4544-8CF5-2793C8EA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7D5E-51F6-47AE-98E6-A3D1D163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CB0E-AB40-421A-87B7-DD887934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AD69-1CF4-46BF-A081-C27D5174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C3BF-43AD-4E37-BB89-CBC3DBF8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CE29-84F2-459E-BDD9-0683702E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3AEE-C085-4051-B8D9-5307CE23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32F-1F7D-4234-B71E-C57A96BE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8A72-3782-469E-B8BB-4984B331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8D7A-F8B9-42B4-8A3F-CFBEC3C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DACF-64DC-4FA6-AD73-B4B8274F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55C1-BA15-4265-8CEC-DC2563DC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558A-359B-4823-B8DC-26B86A90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70F-C69E-4129-97DE-90506C50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E53-88E5-41DB-89E1-D9FF422E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FBB-0B0F-4AC9-9C47-584AF2A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707-D960-4889-ACE8-C2FFEA77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B8B-DD96-4239-AB9D-5B6D7001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B8E-C198-4313-A9C7-EE9F2417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10D-FCDB-4F50-8403-DB2DA79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A007-91E6-487E-843C-118E829CF1B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2E5F-09A7-4E8B-9384-0F252B7AC2D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slide" Target="slide11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71600" y="2590920"/>
            <a:ext cx="6553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五四爱国运动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66680" y="685800"/>
            <a:ext cx="2819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</a:t>
            </a:r>
            <a:r>
              <a:rPr b="1" lang="en-US" sz="40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0</a:t>
            </a:r>
            <a:r>
              <a:rPr b="1" lang="zh-CN" sz="40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课</a:t>
            </a:r>
            <a:endParaRPr b="1" lang="en-US" sz="40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2" descr=""/>
          <p:cNvPicPr/>
          <p:nvPr/>
        </p:nvPicPr>
        <p:blipFill>
          <a:blip r:embed="rId1"/>
          <a:srcRect l="1051" t="0" r="0" b="7018"/>
          <a:stretch/>
        </p:blipFill>
        <p:spPr>
          <a:xfrm>
            <a:off x="380880" y="609480"/>
            <a:ext cx="8153640" cy="518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43200" y="5867280"/>
            <a:ext cx="37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被捕的学生获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3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375240"/>
            <a:ext cx="68580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52280" y="4648320"/>
            <a:ext cx="3048120" cy="131292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月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日五四运动的中心转移到</a:t>
            </a:r>
            <a:r>
              <a:rPr b="1" lang="zh-CN" sz="4000" spc="-1" strike="noStrike">
                <a:solidFill>
                  <a:srgbClr val="ff0033"/>
                </a:solidFill>
                <a:latin typeface="华文中宋"/>
                <a:ea typeface="华文中宋"/>
              </a:rPr>
              <a:t>上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3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172200"/>
            <a:ext cx="9144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564160" y="24382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6280" y="24382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9040" y="24382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3280" y="1981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5040" y="2057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4465800" y="-961200"/>
            <a:ext cx="287280" cy="61722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6480 h 6172200"/>
              <a:gd name="textAreaBottom" fmla="*/ 5985720 h 61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5"/>
                  <a:pt x="10800" y="2089"/>
                </a:cubicBezTo>
                <a:lnTo>
                  <a:pt x="10800" y="8867"/>
                </a:lnTo>
                <a:cubicBezTo>
                  <a:pt x="10800" y="9912"/>
                  <a:pt x="5400" y="10956"/>
                  <a:pt x="0" y="10956"/>
                </a:cubicBezTo>
                <a:cubicBezTo>
                  <a:pt x="5400" y="10956"/>
                  <a:pt x="10800" y="12001"/>
                  <a:pt x="10800" y="13045"/>
                </a:cubicBezTo>
                <a:lnTo>
                  <a:pt x="10800" y="19511"/>
                </a:lnTo>
                <a:cubicBezTo>
                  <a:pt x="10800" y="2055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05320"/>
            <a:ext cx="6553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32767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62120" y="750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近代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1440" y="2470320"/>
            <a:ext cx="162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84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42000" y="2470320"/>
            <a:ext cx="162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919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28000" y="2470320"/>
            <a:ext cx="162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949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3324960" y="2008440"/>
            <a:ext cx="360360" cy="36576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9"/>
                </a:lnTo>
                <a:cubicBezTo>
                  <a:pt x="10800" y="9489"/>
                  <a:pt x="5400" y="10389"/>
                  <a:pt x="0" y="10389"/>
                </a:cubicBezTo>
                <a:cubicBezTo>
                  <a:pt x="5400" y="10389"/>
                  <a:pt x="10800" y="11289"/>
                  <a:pt x="10800" y="121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6292800" y="2698200"/>
            <a:ext cx="291960" cy="2209680"/>
          </a:xfrm>
          <a:custGeom>
            <a:avLst/>
            <a:gdLst>
              <a:gd name="textAreaLeft" fmla="*/ 186480 w 291960"/>
              <a:gd name="textAreaRight" fmla="*/ 292320 w 29196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9"/>
                </a:lnTo>
                <a:cubicBezTo>
                  <a:pt x="10800" y="9489"/>
                  <a:pt x="5400" y="10389"/>
                  <a:pt x="0" y="10389"/>
                </a:cubicBezTo>
                <a:cubicBezTo>
                  <a:pt x="5400" y="10389"/>
                  <a:pt x="10800" y="11289"/>
                  <a:pt x="10800" y="121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114800"/>
            <a:ext cx="176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旧民主主义革命时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4114800"/>
            <a:ext cx="176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新民主主义革命时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95280" y="2133720"/>
            <a:ext cx="2210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00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爱国</a:t>
            </a:r>
            <a:endParaRPr b="1" lang="en-US" sz="4800" spc="1" strike="noStrike">
              <a:ln w="0">
                <a:noFill/>
              </a:ln>
              <a:solidFill>
                <a:srgbClr val="ff00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2880" y="2057400"/>
            <a:ext cx="221004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进步</a:t>
            </a:r>
            <a:endParaRPr b="1" lang="en-US" sz="2400" spc="1" strike="noStrike">
              <a:ln w="0">
                <a:noFill/>
              </a:ln>
              <a:solidFill>
                <a:srgbClr val="ff00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1600" y="4191120"/>
            <a:ext cx="22860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民主</a:t>
            </a:r>
            <a:endParaRPr b="1" lang="en-US" sz="2400" spc="1" strike="noStrike">
              <a:ln w="0">
                <a:noFill/>
              </a:ln>
              <a:solidFill>
                <a:srgbClr val="ff00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29200" y="4267080"/>
            <a:ext cx="2209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科学</a:t>
            </a:r>
            <a:endParaRPr b="1" lang="en-US" sz="2400" spc="1" strike="noStrike">
              <a:ln w="0">
                <a:noFill/>
              </a:ln>
              <a:solidFill>
                <a:srgbClr val="ff00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68580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五四精神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1066680"/>
            <a:ext cx="80769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“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历史上的事件与人物，是只过一趟的，是只演一回的”，但“此一回的演行，乃永久存在”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64960" y="525780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——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李大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54yd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71080" y="304920"/>
            <a:ext cx="5325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光荣啊！中国共青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我们是五月的花海，用青春拥抱时代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我们是初升的太阳，用生命点燃未来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五四”的火炬，唤醒了民族的觉醒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壮丽的事业，激励着我们继往开来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光荣啊！中国共青团，光荣啊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中国共青团。母亲用共产主义为我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命名，我们开创新的世界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3808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Garamond"/>
                <a:ea typeface="华文新魏"/>
              </a:rPr>
              <a:t>一、五四爱国运动爆发的背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5181480"/>
            <a:ext cx="762012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导火线：巴黎和会上中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外交的 失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和会会场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6477120" cy="380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3200" y="1752480"/>
            <a:ext cx="115524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巴黎和会会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58200" y="64008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7301"/>
                </a:moveTo>
                <a:lnTo>
                  <a:pt x="12795" y="7301"/>
                </a:lnTo>
                <a:lnTo>
                  <a:pt x="13178" y="7667"/>
                </a:lnTo>
                <a:lnTo>
                  <a:pt x="22386" y="7667"/>
                </a:lnTo>
                <a:lnTo>
                  <a:pt x="22943" y="8224"/>
                </a:lnTo>
                <a:lnTo>
                  <a:pt x="22943" y="8772"/>
                </a:lnTo>
                <a:lnTo>
                  <a:pt x="24788" y="8772"/>
                </a:lnTo>
                <a:lnTo>
                  <a:pt x="25154" y="8224"/>
                </a:lnTo>
                <a:lnTo>
                  <a:pt x="25894" y="8224"/>
                </a:lnTo>
                <a:lnTo>
                  <a:pt x="25894" y="13376"/>
                </a:lnTo>
                <a:lnTo>
                  <a:pt x="25154" y="13376"/>
                </a:lnTo>
                <a:lnTo>
                  <a:pt x="24788" y="12828"/>
                </a:lnTo>
                <a:lnTo>
                  <a:pt x="22943" y="12828"/>
                </a:lnTo>
                <a:lnTo>
                  <a:pt x="22943" y="14107"/>
                </a:lnTo>
                <a:lnTo>
                  <a:pt x="13360" y="14107"/>
                </a:lnTo>
                <a:lnTo>
                  <a:pt x="13360" y="9877"/>
                </a:lnTo>
                <a:lnTo>
                  <a:pt x="13178" y="9877"/>
                </a:lnTo>
                <a:lnTo>
                  <a:pt x="12795" y="10243"/>
                </a:lnTo>
                <a:lnTo>
                  <a:pt x="11881" y="10243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936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808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Garamond"/>
                <a:ea typeface="华文新魏"/>
              </a:rPr>
              <a:t>二、五四爱国运动的经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523880"/>
            <a:ext cx="6476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前期：中心  北京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主力  青年学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733920"/>
            <a:ext cx="6476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．后期：中心  上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主力   无产阶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1828800"/>
            <a:ext cx="1067040" cy="239760"/>
          </a:xfrm>
          <a:prstGeom prst="rect">
            <a:avLst/>
          </a:prstGeom>
          <a:ln w="0">
            <a:noFill/>
          </a:ln>
        </p:spPr>
      </p:pic>
      <p:pic>
        <p:nvPicPr>
          <p:cNvPr id="100" name="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72400" y="4114800"/>
            <a:ext cx="106668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Garamond"/>
                <a:ea typeface="华文新魏"/>
              </a:rPr>
              <a:t>三、五四爱国运动的结果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5909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2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．罢免了曹汝霖等卖国贼的职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733920"/>
            <a:ext cx="620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3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．拒绝在“和约”上签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26600" y="49528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五四爱国运动取得初步胜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600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．释放了被捕的学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301"/>
                </a:moveTo>
                <a:lnTo>
                  <a:pt x="7788" y="7301"/>
                </a:lnTo>
                <a:lnTo>
                  <a:pt x="8171" y="7667"/>
                </a:lnTo>
                <a:lnTo>
                  <a:pt x="17379" y="7667"/>
                </a:lnTo>
                <a:lnTo>
                  <a:pt x="17936" y="8224"/>
                </a:lnTo>
                <a:lnTo>
                  <a:pt x="17936" y="8772"/>
                </a:lnTo>
                <a:lnTo>
                  <a:pt x="19782" y="8772"/>
                </a:lnTo>
                <a:lnTo>
                  <a:pt x="20147" y="8224"/>
                </a:lnTo>
                <a:lnTo>
                  <a:pt x="20887" y="8224"/>
                </a:lnTo>
                <a:lnTo>
                  <a:pt x="20887" y="13376"/>
                </a:lnTo>
                <a:lnTo>
                  <a:pt x="20147" y="13376"/>
                </a:lnTo>
                <a:lnTo>
                  <a:pt x="19782" y="12828"/>
                </a:lnTo>
                <a:lnTo>
                  <a:pt x="17936" y="12828"/>
                </a:lnTo>
                <a:lnTo>
                  <a:pt x="17936" y="14107"/>
                </a:lnTo>
                <a:lnTo>
                  <a:pt x="8354" y="14107"/>
                </a:lnTo>
                <a:lnTo>
                  <a:pt x="8354" y="9877"/>
                </a:lnTo>
                <a:lnTo>
                  <a:pt x="8171" y="9877"/>
                </a:lnTo>
                <a:lnTo>
                  <a:pt x="7788" y="10243"/>
                </a:lnTo>
                <a:lnTo>
                  <a:pt x="6874" y="10243"/>
                </a:lnTo>
                <a:close/>
              </a:path>
            </a:pathLst>
          </a:cu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Garamond"/>
                <a:ea typeface="华文新魏"/>
              </a:rPr>
              <a:t>四、五四爱国运动的意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523880"/>
            <a:ext cx="739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五四爱国运动，是一次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彻底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地反对帝国主义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彻底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地反对封建主义的爱国运动，是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中国新民主主义革命的开端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6172200"/>
            <a:ext cx="106668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380880"/>
            <a:ext cx="792504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月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日晚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时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在北大召开全体学生大会，北京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13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个中等以上学校学生代表参加，提出四条办法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联合各界一致力争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二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通电巴黎专使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坚决不在和约上签字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三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通电全国各省市于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月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日国耻纪念日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举行群众游行示威运动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四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定于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月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日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星期日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齐集天安门举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华文中宋"/>
                <a:ea typeface="华文中宋"/>
              </a:rPr>
              <a:t>学界大示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p-0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东郊民巷讲演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学生当日冲向赵家楼情景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5638680"/>
          </a:xfrm>
          <a:prstGeom prst="rect">
            <a:avLst/>
          </a:prstGeom>
          <a:ln w="0">
            <a:noFill/>
          </a:ln>
        </p:spPr>
      </p:pic>
      <p:pic>
        <p:nvPicPr>
          <p:cNvPr id="114" name="赵家楼" descr=""/>
          <p:cNvPicPr/>
          <p:nvPr/>
        </p:nvPicPr>
        <p:blipFill>
          <a:blip r:embed="rId2"/>
          <a:stretch/>
        </p:blipFill>
        <p:spPr>
          <a:xfrm>
            <a:off x="4495680" y="3200400"/>
            <a:ext cx="4496040" cy="2743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080" y="601992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生冲向赵家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601992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赵家楼的大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rcRect l="0" t="6939" r="32292" b="22726"/>
          <a:stretch/>
        </p:blipFill>
        <p:spPr>
          <a:xfrm>
            <a:off x="4495680" y="304920"/>
            <a:ext cx="4473720" cy="2743200"/>
          </a:xfrm>
          <a:prstGeom prst="rect">
            <a:avLst/>
          </a:prstGeom>
          <a:ln w="475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12:31:06Z</dcterms:created>
  <dc:creator>zj</dc:creator>
  <dc:description/>
  <dc:language>en-US</dc:language>
  <cp:lastModifiedBy>Lenovo User</cp:lastModifiedBy>
  <dcterms:modified xsi:type="dcterms:W3CDTF">2004-10-22T01:00:56Z</dcterms:modified>
  <cp:revision>136</cp:revision>
  <dc:subject/>
  <dc:title>PowerPoint 演示文稿</dc:title>
</cp:coreProperties>
</file>