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1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08A-F96A-4423-AE0F-A16CA551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F4C-D8C6-497C-A684-539155AD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817-4482-45AD-B145-385424C4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A8E-3673-4B99-B699-C5487822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694-1845-48DE-B98B-0C91BB68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13E-F00F-4337-B5D4-B78F92F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567-1FFE-4F0D-B823-29777BE1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9E2-3C1E-4218-A759-9666958E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B03-F7CC-4530-83AF-FF4C3CC7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188-C518-4B38-859C-C8AD381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A65-156F-4564-85CD-30D2C1FB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CE8-A430-45F0-918B-B150AA9A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9777-2CDE-4596-AE2F-77B6C2E57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1557360"/>
            <a:ext cx="83818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ff0000">
                    <a:alpha val="9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小标宋简体"/>
              </a:rPr>
              <a:t> </a:t>
            </a:r>
            <a:endParaRPr b="1" lang="en-US" sz="6600" spc="1" strike="noStrike">
              <a:ln w="12600">
                <a:solidFill>
                  <a:srgbClr val="c0c0c0"/>
                </a:solidFill>
                <a:miter/>
              </a:ln>
              <a:solidFill>
                <a:srgbClr val="ff0000">
                  <a:alpha val="9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小标宋简体"/>
              <a:ea typeface="方正小标宋简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ff0000">
                    <a:alpha val="9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小标宋简体"/>
              </a:rPr>
              <a:t>初中历史课堂</a:t>
            </a:r>
            <a:endParaRPr b="1" lang="en-US" sz="6600" spc="1" strike="noStrike">
              <a:ln w="12600">
                <a:solidFill>
                  <a:srgbClr val="c0c0c0"/>
                </a:solidFill>
                <a:miter/>
              </a:ln>
              <a:solidFill>
                <a:srgbClr val="ff0000">
                  <a:alpha val="9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小标宋简体"/>
              <a:ea typeface="方正小标宋简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4681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47640" y="90792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提倡民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简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黑体简体"/>
              </a:rPr>
              <a:t>反对独裁专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198900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提倡科学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黑体简体"/>
              </a:rPr>
              <a:t>反对迷信盲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3141720"/>
            <a:ext cx="4897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方正小标宋简体"/>
              </a:rPr>
              <a:t>提倡新道德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方正黑体简体"/>
              </a:rPr>
              <a:t>反对旧道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443700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提倡新文学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黑体简体"/>
              </a:rPr>
              <a:t>反对旧文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2276640"/>
            <a:ext cx="8610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981000"/>
            <a:ext cx="75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旧道德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小标宋简体"/>
              </a:rPr>
              <a:t>指孔子学说为代表的儒家传统道德。其核心内容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小标宋简体"/>
              </a:rPr>
              <a:t>三纲五常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小标宋简体"/>
              </a:rPr>
              <a:t>（三纲指君为臣纲、父为子纲、夫为妻纲。五常通常指仁、义、礼、智、信）。历代统治者以此来束缚人们的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414972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新道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指男女平等、个性解放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80960" y="4056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科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752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新文化运动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88920" y="215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积极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18760" y="2455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提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90360" y="2455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反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79440" y="3276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民主</a:t>
            </a: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14400" y="3294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专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99120" y="3218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动摇封建思想统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4400" y="4056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愚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75440" y="4056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弘扬民主科学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27680" y="489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新道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2960" y="489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旧道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94080" y="4967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为五四运动作了思想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27680" y="573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新文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81560" y="573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旧文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29200" y="5732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有利于文化的普及繁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71280" y="215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局限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380988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创艺简标宋"/>
                <a:ea typeface="创艺简标宋"/>
              </a:rPr>
              <a:t>对东西方文化存在绝对肯定或绝对否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1773360"/>
            <a:ext cx="7620120" cy="4647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75248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812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3623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175248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362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8862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5562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bbe0e3"/>
                </a:solidFill>
                <a:latin typeface="Arial"/>
              </a:rPr>
              <a:t>4</a:t>
            </a:r>
            <a:r>
              <a:rPr b="1" i="1" lang="zh-CN" sz="2800" spc="-1" strike="noStrike">
                <a:solidFill>
                  <a:srgbClr val="bbe0e3"/>
                </a:solidFill>
                <a:latin typeface="Arial"/>
              </a:rPr>
              <a:t>．前期新文化运动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001000" y="6477120"/>
            <a:ext cx="91440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52480" y="1316160"/>
            <a:ext cx="5562720" cy="4170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1280" y="422100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方正楷体简体"/>
                <a:ea typeface="方正楷体简体"/>
              </a:rPr>
              <a:t>实验中学   张永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84360" y="1700280"/>
            <a:ext cx="44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ff00"/>
                  </a:solidFill>
                  <a:prstDash val="sysDot"/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小标宋简体"/>
              </a:rPr>
              <a:t>新文化运动</a:t>
            </a:r>
            <a:endParaRPr b="1" lang="en-US" sz="6600" spc="1" strike="noStrike">
              <a:ln w="9360">
                <a:solidFill>
                  <a:srgbClr val="ffff00"/>
                </a:solidFill>
                <a:prstDash val="sysDot"/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小标宋简体"/>
              <a:ea typeface="方正小标宋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61360" y="49536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新文化运动背景</a:t>
            </a:r>
            <a:r>
              <a:rPr b="1" lang="zh-CN" sz="24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3384720" cy="26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0" y="2276640"/>
            <a:ext cx="3456000" cy="266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1144440"/>
            <a:ext cx="74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华民国建立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西方传入的民主、自由、平等、博爱等思想观念受到知识阶层特别是青年学生的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0760" y="2440080"/>
            <a:ext cx="67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袁世凯为实现独裁专制，颁布《中华民国约法》，规定“国民教育，以孔子之道为修身大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1916280"/>
            <a:ext cx="287280" cy="431640"/>
          </a:xfrm>
          <a:prstGeom prst="upDownArrow">
            <a:avLst>
              <a:gd name="adj1" fmla="val 50000"/>
              <a:gd name="adj2" fmla="val 2991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8360" y="476280"/>
            <a:ext cx="30859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你说我说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206064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方正楷体简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新文化运动“是几个青年凭空造出来的。”这种说法对不对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39760" y="162864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标志</a:t>
            </a:r>
            <a:r>
              <a:rPr b="1" lang="zh-CN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31120" y="4437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小标宋简体"/>
              </a:rPr>
              <a:t>内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小标宋简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35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小标宋简体"/>
              </a:rPr>
              <a:t>代表人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小标宋简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31120" y="2637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小标宋简体"/>
              </a:rPr>
              <a:t>口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小标宋简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0"/>
            <a:ext cx="28573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ff00"/>
                  </a:solidFill>
                  <a:prstDash val="sysDot"/>
                  <a:miter/>
                </a:ln>
                <a:solidFill>
                  <a:srgbClr val="ff0000"/>
                </a:solidFill>
                <a:latin typeface="方正楷体简体"/>
              </a:rPr>
              <a:t>新文化运动</a:t>
            </a:r>
            <a:endParaRPr b="1" lang="en-US" sz="4400" spc="1" strike="noStrike">
              <a:ln w="9360">
                <a:solidFill>
                  <a:srgbClr val="ffff00"/>
                </a:solidFill>
                <a:prstDash val="sysDot"/>
                <a:miter/>
              </a:ln>
              <a:solidFill>
                <a:srgbClr val="ff0000"/>
              </a:solidFill>
              <a:latin typeface="方正楷体简体"/>
              <a:ea typeface="方正楷体简体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1628640"/>
            <a:ext cx="549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1915</a:t>
            </a:r>
            <a:r>
              <a:rPr b="1" lang="zh-CN" sz="24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年  陈独秀在上海创办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方正小标宋简体"/>
                <a:ea typeface="方正小标宋简体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方正小标宋简体"/>
                <a:ea typeface="方正小标宋简体"/>
              </a:rPr>
              <a:t>新青年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方正小标宋简体"/>
                <a:ea typeface="方正小标宋简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2637000"/>
            <a:ext cx="181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方正小标宋简体"/>
              </a:rPr>
              <a:t>民主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方正小标宋简体"/>
              </a:rPr>
              <a:t>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方正小标宋简体"/>
              </a:rPr>
              <a:t>科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3500280"/>
            <a:ext cx="40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方正小标宋简体"/>
              </a:rPr>
              <a:t>陈独秀  李大钊   鲁迅  胡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68360" y="4484520"/>
            <a:ext cx="295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方正小标宋简体"/>
              </a:rPr>
              <a:t>四个提倡  四个反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9640" y="333360"/>
            <a:ext cx="18288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楷体简体"/>
              </a:rPr>
              <a:t>帮你记忆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楷体简体"/>
              <a:ea typeface="方正楷体简体"/>
            </a:endParaRPr>
          </a:p>
        </p:txBody>
      </p:sp>
      <p:sp>
        <p:nvSpPr>
          <p:cNvPr id="69" name=""/>
          <p:cNvSpPr/>
          <p:nvPr/>
        </p:nvSpPr>
        <p:spPr>
          <a:xfrm>
            <a:off x="3545640" y="1557360"/>
            <a:ext cx="264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新旧思潮起冲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《青年杂志》运动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小标宋简体"/>
              </a:rPr>
              <a:t>民主科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摇大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陈李胡鲁做代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十月革命送曙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马克思主义响中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新文化运动载史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人们思想大解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1552680" cy="50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895480" cy="39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932360" y="1413000"/>
            <a:ext cx="289548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093080" y="1413000"/>
            <a:ext cx="1944720" cy="280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2089080" cy="2790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411280" y="1413000"/>
            <a:ext cx="201636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08000" y="1413000"/>
            <a:ext cx="2016000" cy="280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591320" y="6354720"/>
            <a:ext cx="1552680" cy="50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4365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陈独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43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李大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4365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44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胡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360"/>
                            </p:stCondLst>
                            <p:childTnLst>
                              <p:par>
                                <p:cTn id="1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36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860"/>
                            </p:stCondLst>
                            <p:childTnLst>
                              <p:par>
                                <p:cTn id="1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86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86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990720" y="762120"/>
            <a:ext cx="2730240" cy="1492200"/>
          </a:xfrm>
          <a:custGeom>
            <a:avLst/>
            <a:gdLst>
              <a:gd name="textAreaLeft" fmla="*/ 0 w 2730240"/>
              <a:gd name="textAreaRight" fmla="*/ 2730600 w 2730240"/>
              <a:gd name="textAreaTop" fmla="*/ 193320 h 1492200"/>
              <a:gd name="textAreaBottom" fmla="*/ 129888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692280"/>
            <a:ext cx="2730240" cy="1492200"/>
          </a:xfrm>
          <a:custGeom>
            <a:avLst/>
            <a:gdLst>
              <a:gd name="textAreaLeft" fmla="*/ 0 w 2730240"/>
              <a:gd name="textAreaRight" fmla="*/ 2730600 w 2730240"/>
              <a:gd name="textAreaTop" fmla="*/ 193320 h 1492200"/>
              <a:gd name="textAreaBottom" fmla="*/ 129888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105264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民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2748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05264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科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16000" y="2421000"/>
            <a:ext cx="27432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507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Democracy</a:t>
            </a:r>
            <a:endParaRPr b="0" lang="en-US" sz="3200" spc="1" strike="noStrike">
              <a:ln w="507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64000" y="2492280"/>
            <a:ext cx="19814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507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cience</a:t>
            </a:r>
            <a:endParaRPr b="0" lang="en-US" sz="3200" spc="1" strike="noStrike">
              <a:ln w="507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33577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小标宋简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小标宋简体"/>
              </a:rPr>
              <a:t>德先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小标宋简体"/>
              </a:rPr>
              <a:t>)                  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小标宋简体"/>
              </a:rPr>
              <a:t>赛先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小标宋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076640"/>
            <a:ext cx="819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现在认定，只有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位先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救治中国政治上、道德上、学术上、思想上一切黑暗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独秀《新青年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1552680" cy="503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586560" y="-171360"/>
            <a:ext cx="2557440" cy="1197000"/>
          </a:xfrm>
          <a:prstGeom prst="wedgeRoundRectCallout">
            <a:avLst>
              <a:gd name="adj1" fmla="val -35287"/>
              <a:gd name="adj2" fmla="val 72944"/>
              <a:gd name="adj3" fmla="val 1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自然科学和看待客观事物的科学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-100080"/>
            <a:ext cx="2449800" cy="1197000"/>
          </a:xfrm>
          <a:prstGeom prst="wedgeRoundRectCallout">
            <a:avLst>
              <a:gd name="adj1" fmla="val -42416"/>
              <a:gd name="adj2" fmla="val 63791"/>
              <a:gd name="adj3" fmla="val 1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西方的资产阶级民主政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06:45:56Z</dcterms:created>
  <dc:creator>fxzm</dc:creator>
  <dc:description/>
  <dc:language>en-US</dc:language>
  <cp:lastModifiedBy>fxzm</cp:lastModifiedBy>
  <dcterms:modified xsi:type="dcterms:W3CDTF">2006-09-25T15:35:42Z</dcterms:modified>
  <cp:revision>26</cp:revision>
  <dc:subject/>
  <dc:title>幻灯片 1</dc:title>
</cp:coreProperties>
</file>