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explode.wav" ContentType="audio/x-wav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671-AD4E-4DB1-9B3D-6BE27F94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E36-B0BF-4BEF-829F-CC8A8ED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B1E-5569-49EA-B1F6-8B2452F3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BAB-6351-4108-8A72-0BE8ED36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C21-34CB-4A53-9E3E-DAD4AA4B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B8B-8C86-4372-BF18-9344765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A0A-472D-4CF3-925C-6081646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670-9CE1-458C-A15D-A2703DA1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FFC1-C409-41D9-9954-C5FDF55C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6B85-B7D7-47FF-B518-96D825F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7B53-D11E-4EC3-BFBC-4BA703D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6DE-4BFE-419B-81C9-BC9CCA4B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D7A4-FA96-42C3-8C02-A3881F9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AAD1-E1C7-40CA-80D4-B8AFD7EA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8B4-7458-4E1B-B1EE-1B488F0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3B1E-AC5F-4CE9-9D6A-A56026D7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A6FA-3D6B-4D96-B83C-714FABBF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DA3C-3F01-4CAC-B0D5-31BF25BB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658E-A1F8-4221-97CC-84FCDFC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B072-586D-4D62-A802-DE127D7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B62D-AB11-4E65-8089-966B25A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885F-E1F4-4856-A4E0-D309B06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02E-18F1-4354-9157-90D189F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8873-1FDF-489E-A905-AF4AD57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1716-538D-405C-A25C-8E186CD5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D9C0-9060-4F38-BF9C-B312D7B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A945-1067-4BA1-BD7B-438981C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C694-34E6-4161-A39A-69890C3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4C29-D75A-461E-B831-31CA1D15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3AB1-6DE1-4767-B30E-736143B6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8032-8BEE-45EB-825F-16D51F4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8138A-3549-4D42-866E-D9C081C9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737E-4DBD-467B-A077-12A7E0C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0FB-737D-4F9F-89A9-59750775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C2DA-BAFE-4766-8E6B-4A0C14F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B2E6-9518-4360-89C9-6CF51FB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E74D-C3A0-459C-AE23-8F92B61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1004-D7C9-42B4-815D-8A911C4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0DED-5370-42E2-8040-76DF11E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0A1F-7603-4FE3-B135-9AEB81A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91C6-AE99-4E86-A25E-40DECE22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B840-BA88-4428-AFA3-AFA1D2A3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740A-A436-4624-9278-95CDBA72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8D7-D084-481D-8699-760E607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637-06C5-44E3-8193-EFD503E3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9C3-A47D-4BE5-BB9D-40316D9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37C-62DC-409C-945F-D4422AFE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C8D-E022-4028-BF2E-88D9039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EE1A-F668-4DF5-A37B-FD94D60A32D9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8EC0-390B-422E-BDA8-F82A946B314D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2E2C-2CF0-4D3F-BE58-FD7D5A582F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225-0CE7-48F6-BDCF-7AE3E07A9D8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bbs.66163.com/viewthread.php?tid=23657&amp;extra=page%3D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hszhuyuan.pudong-edu.sh.cn/old/teacherweb/jiaoyanzu/lishi/web/xszp/ZP_35/TP.htm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www.hoodong.com/gethisfile.do?doc_his_id=2000000000169817&amp;dochis_edit_id=15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hyperlink" Target="http://www.hoodong.com/gethisfile.do?doc_his_id=2000000000169817&amp;dochis_edit_id=15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://bbs.66163.com/viewthread.php?tid=23657&amp;extra=page%3D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bs.66163.com/viewthread.php?tid=23657&amp;extra=page%3D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dz.dyedu.net/lsz/zrcx/Article/Print.asp?ArticleID=155&amp;Page=3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news.21cn.com/social/wenhua/2005/05/27/2143321_1.shtml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hyperlink" Target="http://www.hoodong.com/gethisfile.do?doc_his_id=2000000000169817&amp;dochis_edit_id=15" TargetMode="Externa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hyperlink" Target="http://www.hszhuyuan.pudong-edu.sh.cn/old/teacherweb/jiaoyanzu/lishi/web/xszp/ZP_35/TP.htm" TargetMode="External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bs.66163.com/viewthread.php?tid=23657&amp;extra=page%3D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http://www.hszhuyuan.pudong-edu.sh.cn/old/teacherweb/jiaoyanzu/lishi/web/xszp/ZP_35/TP.htm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9.png"/><Relationship Id="rId10" Type="http://schemas.openxmlformats.org/officeDocument/2006/relationships/hyperlink" Target="http://www.hoodong.com/gethisfile.do?doc_his_id=2000000000169817&amp;dochis_edit_id=15" TargetMode="External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7.png"/><Relationship Id="rId12" Type="http://schemas.openxmlformats.org/officeDocument/2006/relationships/image" Target="../media/image15.jpe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17.jpeg"/><Relationship Id="rId17" Type="http://schemas.openxmlformats.org/officeDocument/2006/relationships/image" Target="../media/image2.png"/><Relationship Id="rId18" Type="http://schemas.openxmlformats.org/officeDocument/2006/relationships/image" Target="../media/image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6.png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4.png"/><Relationship Id="rId14" Type="http://schemas.openxmlformats.org/officeDocument/2006/relationships/image" Target="../media/image7.png"/><Relationship Id="rId15" Type="http://schemas.openxmlformats.org/officeDocument/2006/relationships/image" Target="../media/image15.jpeg"/><Relationship Id="rId16" Type="http://schemas.openxmlformats.org/officeDocument/2006/relationships/image" Target="../media/image20.jpeg"/><Relationship Id="rId17" Type="http://schemas.openxmlformats.org/officeDocument/2006/relationships/image" Target="../media/image7.png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2276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课 甲午中日战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4365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保山一中　魏　伟　制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3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51280" y="1413000"/>
            <a:ext cx="936720" cy="86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780000" y="1915920"/>
            <a:ext cx="1008000" cy="43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780000" y="1484280"/>
            <a:ext cx="1008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63640" y="1916280"/>
            <a:ext cx="57636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763640" y="1915920"/>
            <a:ext cx="64764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3640" y="14130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462040"/>
            <a:ext cx="5832720" cy="4395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6381720"/>
            <a:ext cx="360360" cy="219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118200" y="2546280"/>
            <a:ext cx="819000" cy="1497240"/>
          </a:xfrm>
          <a:custGeom>
            <a:avLst/>
            <a:gdLst/>
            <a:ahLst/>
            <a:rect l="l" t="t" r="r" b="b"/>
            <a:pathLst>
              <a:path w="516" h="943">
                <a:moveTo>
                  <a:pt x="278" y="150"/>
                </a:moveTo>
                <a:cubicBezTo>
                  <a:pt x="271" y="149"/>
                  <a:pt x="264" y="151"/>
                  <a:pt x="258" y="148"/>
                </a:cubicBezTo>
                <a:cubicBezTo>
                  <a:pt x="254" y="146"/>
                  <a:pt x="258" y="137"/>
                  <a:pt x="254" y="136"/>
                </a:cubicBezTo>
                <a:cubicBezTo>
                  <a:pt x="252" y="135"/>
                  <a:pt x="250" y="135"/>
                  <a:pt x="248" y="134"/>
                </a:cubicBezTo>
                <a:cubicBezTo>
                  <a:pt x="243" y="127"/>
                  <a:pt x="235" y="123"/>
                  <a:pt x="226" y="120"/>
                </a:cubicBezTo>
                <a:cubicBezTo>
                  <a:pt x="222" y="120"/>
                  <a:pt x="159" y="121"/>
                  <a:pt x="194" y="138"/>
                </a:cubicBezTo>
                <a:cubicBezTo>
                  <a:pt x="197" y="150"/>
                  <a:pt x="198" y="157"/>
                  <a:pt x="210" y="160"/>
                </a:cubicBezTo>
                <a:cubicBezTo>
                  <a:pt x="213" y="170"/>
                  <a:pt x="212" y="178"/>
                  <a:pt x="220" y="186"/>
                </a:cubicBezTo>
                <a:cubicBezTo>
                  <a:pt x="224" y="197"/>
                  <a:pt x="224" y="207"/>
                  <a:pt x="214" y="214"/>
                </a:cubicBezTo>
                <a:cubicBezTo>
                  <a:pt x="206" y="226"/>
                  <a:pt x="190" y="242"/>
                  <a:pt x="178" y="250"/>
                </a:cubicBezTo>
                <a:cubicBezTo>
                  <a:pt x="175" y="260"/>
                  <a:pt x="172" y="267"/>
                  <a:pt x="162" y="270"/>
                </a:cubicBezTo>
                <a:cubicBezTo>
                  <a:pt x="158" y="277"/>
                  <a:pt x="153" y="278"/>
                  <a:pt x="150" y="286"/>
                </a:cubicBezTo>
                <a:cubicBezTo>
                  <a:pt x="148" y="307"/>
                  <a:pt x="148" y="310"/>
                  <a:pt x="132" y="320"/>
                </a:cubicBezTo>
                <a:cubicBezTo>
                  <a:pt x="125" y="340"/>
                  <a:pt x="123" y="363"/>
                  <a:pt x="138" y="378"/>
                </a:cubicBezTo>
                <a:cubicBezTo>
                  <a:pt x="137" y="400"/>
                  <a:pt x="136" y="443"/>
                  <a:pt x="108" y="452"/>
                </a:cubicBezTo>
                <a:cubicBezTo>
                  <a:pt x="96" y="470"/>
                  <a:pt x="100" y="459"/>
                  <a:pt x="102" y="484"/>
                </a:cubicBezTo>
                <a:cubicBezTo>
                  <a:pt x="101" y="491"/>
                  <a:pt x="102" y="498"/>
                  <a:pt x="100" y="504"/>
                </a:cubicBezTo>
                <a:cubicBezTo>
                  <a:pt x="99" y="506"/>
                  <a:pt x="94" y="504"/>
                  <a:pt x="94" y="506"/>
                </a:cubicBezTo>
                <a:cubicBezTo>
                  <a:pt x="90" y="529"/>
                  <a:pt x="97" y="547"/>
                  <a:pt x="84" y="566"/>
                </a:cubicBezTo>
                <a:cubicBezTo>
                  <a:pt x="86" y="607"/>
                  <a:pt x="88" y="616"/>
                  <a:pt x="86" y="658"/>
                </a:cubicBezTo>
                <a:cubicBezTo>
                  <a:pt x="87" y="686"/>
                  <a:pt x="106" y="726"/>
                  <a:pt x="76" y="732"/>
                </a:cubicBezTo>
                <a:cubicBezTo>
                  <a:pt x="72" y="744"/>
                  <a:pt x="66" y="730"/>
                  <a:pt x="58" y="730"/>
                </a:cubicBezTo>
                <a:cubicBezTo>
                  <a:pt x="50" y="730"/>
                  <a:pt x="35" y="728"/>
                  <a:pt x="28" y="730"/>
                </a:cubicBezTo>
                <a:cubicBezTo>
                  <a:pt x="20" y="733"/>
                  <a:pt x="19" y="736"/>
                  <a:pt x="16" y="744"/>
                </a:cubicBezTo>
                <a:cubicBezTo>
                  <a:pt x="12" y="772"/>
                  <a:pt x="12" y="748"/>
                  <a:pt x="0" y="766"/>
                </a:cubicBezTo>
                <a:cubicBezTo>
                  <a:pt x="2" y="776"/>
                  <a:pt x="8" y="783"/>
                  <a:pt x="18" y="786"/>
                </a:cubicBezTo>
                <a:cubicBezTo>
                  <a:pt x="22" y="799"/>
                  <a:pt x="17" y="814"/>
                  <a:pt x="24" y="826"/>
                </a:cubicBezTo>
                <a:cubicBezTo>
                  <a:pt x="37" y="849"/>
                  <a:pt x="28" y="827"/>
                  <a:pt x="36" y="850"/>
                </a:cubicBezTo>
                <a:cubicBezTo>
                  <a:pt x="37" y="852"/>
                  <a:pt x="38" y="856"/>
                  <a:pt x="38" y="856"/>
                </a:cubicBezTo>
                <a:cubicBezTo>
                  <a:pt x="36" y="887"/>
                  <a:pt x="33" y="880"/>
                  <a:pt x="26" y="902"/>
                </a:cubicBezTo>
                <a:cubicBezTo>
                  <a:pt x="27" y="914"/>
                  <a:pt x="22" y="927"/>
                  <a:pt x="28" y="938"/>
                </a:cubicBezTo>
                <a:cubicBezTo>
                  <a:pt x="31" y="943"/>
                  <a:pt x="40" y="940"/>
                  <a:pt x="44" y="936"/>
                </a:cubicBezTo>
                <a:cubicBezTo>
                  <a:pt x="49" y="931"/>
                  <a:pt x="43" y="919"/>
                  <a:pt x="48" y="914"/>
                </a:cubicBezTo>
                <a:cubicBezTo>
                  <a:pt x="51" y="911"/>
                  <a:pt x="60" y="906"/>
                  <a:pt x="60" y="906"/>
                </a:cubicBezTo>
                <a:cubicBezTo>
                  <a:pt x="61" y="897"/>
                  <a:pt x="60" y="887"/>
                  <a:pt x="62" y="878"/>
                </a:cubicBezTo>
                <a:cubicBezTo>
                  <a:pt x="63" y="871"/>
                  <a:pt x="78" y="864"/>
                  <a:pt x="78" y="864"/>
                </a:cubicBezTo>
                <a:cubicBezTo>
                  <a:pt x="91" y="861"/>
                  <a:pt x="125" y="871"/>
                  <a:pt x="140" y="870"/>
                </a:cubicBezTo>
                <a:cubicBezTo>
                  <a:pt x="155" y="869"/>
                  <a:pt x="159" y="863"/>
                  <a:pt x="166" y="860"/>
                </a:cubicBezTo>
                <a:cubicBezTo>
                  <a:pt x="166" y="844"/>
                  <a:pt x="184" y="850"/>
                  <a:pt x="184" y="850"/>
                </a:cubicBezTo>
                <a:cubicBezTo>
                  <a:pt x="178" y="848"/>
                  <a:pt x="166" y="844"/>
                  <a:pt x="166" y="844"/>
                </a:cubicBezTo>
                <a:cubicBezTo>
                  <a:pt x="174" y="841"/>
                  <a:pt x="180" y="845"/>
                  <a:pt x="188" y="842"/>
                </a:cubicBezTo>
                <a:cubicBezTo>
                  <a:pt x="191" y="838"/>
                  <a:pt x="193" y="834"/>
                  <a:pt x="196" y="830"/>
                </a:cubicBezTo>
                <a:cubicBezTo>
                  <a:pt x="199" y="826"/>
                  <a:pt x="208" y="822"/>
                  <a:pt x="208" y="822"/>
                </a:cubicBezTo>
                <a:cubicBezTo>
                  <a:pt x="213" y="807"/>
                  <a:pt x="215" y="789"/>
                  <a:pt x="224" y="776"/>
                </a:cubicBezTo>
                <a:cubicBezTo>
                  <a:pt x="230" y="750"/>
                  <a:pt x="227" y="724"/>
                  <a:pt x="236" y="698"/>
                </a:cubicBezTo>
                <a:cubicBezTo>
                  <a:pt x="238" y="679"/>
                  <a:pt x="243" y="673"/>
                  <a:pt x="246" y="664"/>
                </a:cubicBezTo>
                <a:cubicBezTo>
                  <a:pt x="249" y="655"/>
                  <a:pt x="255" y="646"/>
                  <a:pt x="256" y="644"/>
                </a:cubicBezTo>
                <a:cubicBezTo>
                  <a:pt x="258" y="643"/>
                  <a:pt x="252" y="650"/>
                  <a:pt x="252" y="650"/>
                </a:cubicBezTo>
                <a:cubicBezTo>
                  <a:pt x="254" y="652"/>
                  <a:pt x="253" y="652"/>
                  <a:pt x="256" y="652"/>
                </a:cubicBezTo>
                <a:cubicBezTo>
                  <a:pt x="261" y="652"/>
                  <a:pt x="259" y="643"/>
                  <a:pt x="260" y="638"/>
                </a:cubicBezTo>
                <a:cubicBezTo>
                  <a:pt x="262" y="632"/>
                  <a:pt x="266" y="620"/>
                  <a:pt x="266" y="620"/>
                </a:cubicBezTo>
                <a:cubicBezTo>
                  <a:pt x="267" y="609"/>
                  <a:pt x="268" y="598"/>
                  <a:pt x="276" y="590"/>
                </a:cubicBezTo>
                <a:cubicBezTo>
                  <a:pt x="279" y="587"/>
                  <a:pt x="282" y="578"/>
                  <a:pt x="282" y="578"/>
                </a:cubicBezTo>
                <a:cubicBezTo>
                  <a:pt x="288" y="559"/>
                  <a:pt x="283" y="578"/>
                  <a:pt x="286" y="534"/>
                </a:cubicBezTo>
                <a:cubicBezTo>
                  <a:pt x="287" y="525"/>
                  <a:pt x="292" y="508"/>
                  <a:pt x="292" y="508"/>
                </a:cubicBezTo>
                <a:cubicBezTo>
                  <a:pt x="291" y="481"/>
                  <a:pt x="292" y="463"/>
                  <a:pt x="290" y="438"/>
                </a:cubicBezTo>
                <a:cubicBezTo>
                  <a:pt x="314" y="430"/>
                  <a:pt x="300" y="415"/>
                  <a:pt x="306" y="392"/>
                </a:cubicBezTo>
                <a:cubicBezTo>
                  <a:pt x="305" y="369"/>
                  <a:pt x="312" y="325"/>
                  <a:pt x="290" y="310"/>
                </a:cubicBezTo>
                <a:cubicBezTo>
                  <a:pt x="281" y="296"/>
                  <a:pt x="296" y="316"/>
                  <a:pt x="284" y="306"/>
                </a:cubicBezTo>
                <a:cubicBezTo>
                  <a:pt x="283" y="294"/>
                  <a:pt x="277" y="272"/>
                  <a:pt x="276" y="250"/>
                </a:cubicBezTo>
                <a:cubicBezTo>
                  <a:pt x="274" y="236"/>
                  <a:pt x="275" y="228"/>
                  <a:pt x="274" y="222"/>
                </a:cubicBezTo>
                <a:cubicBezTo>
                  <a:pt x="273" y="216"/>
                  <a:pt x="269" y="215"/>
                  <a:pt x="268" y="212"/>
                </a:cubicBezTo>
                <a:cubicBezTo>
                  <a:pt x="267" y="209"/>
                  <a:pt x="266" y="211"/>
                  <a:pt x="268" y="204"/>
                </a:cubicBezTo>
                <a:cubicBezTo>
                  <a:pt x="270" y="197"/>
                  <a:pt x="275" y="179"/>
                  <a:pt x="278" y="172"/>
                </a:cubicBezTo>
                <a:cubicBezTo>
                  <a:pt x="279" y="168"/>
                  <a:pt x="284" y="160"/>
                  <a:pt x="288" y="162"/>
                </a:cubicBezTo>
                <a:cubicBezTo>
                  <a:pt x="294" y="165"/>
                  <a:pt x="302" y="184"/>
                  <a:pt x="308" y="188"/>
                </a:cubicBezTo>
                <a:cubicBezTo>
                  <a:pt x="316" y="199"/>
                  <a:pt x="326" y="198"/>
                  <a:pt x="330" y="214"/>
                </a:cubicBezTo>
                <a:cubicBezTo>
                  <a:pt x="332" y="246"/>
                  <a:pt x="317" y="239"/>
                  <a:pt x="338" y="244"/>
                </a:cubicBezTo>
                <a:cubicBezTo>
                  <a:pt x="346" y="257"/>
                  <a:pt x="343" y="271"/>
                  <a:pt x="354" y="282"/>
                </a:cubicBezTo>
                <a:cubicBezTo>
                  <a:pt x="356" y="289"/>
                  <a:pt x="358" y="295"/>
                  <a:pt x="362" y="302"/>
                </a:cubicBezTo>
                <a:cubicBezTo>
                  <a:pt x="363" y="309"/>
                  <a:pt x="366" y="320"/>
                  <a:pt x="368" y="328"/>
                </a:cubicBezTo>
                <a:cubicBezTo>
                  <a:pt x="370" y="336"/>
                  <a:pt x="371" y="345"/>
                  <a:pt x="374" y="352"/>
                </a:cubicBezTo>
                <a:cubicBezTo>
                  <a:pt x="379" y="366"/>
                  <a:pt x="374" y="362"/>
                  <a:pt x="384" y="368"/>
                </a:cubicBezTo>
                <a:cubicBezTo>
                  <a:pt x="387" y="380"/>
                  <a:pt x="395" y="377"/>
                  <a:pt x="400" y="392"/>
                </a:cubicBezTo>
                <a:cubicBezTo>
                  <a:pt x="401" y="396"/>
                  <a:pt x="394" y="400"/>
                  <a:pt x="394" y="400"/>
                </a:cubicBezTo>
                <a:cubicBezTo>
                  <a:pt x="395" y="405"/>
                  <a:pt x="393" y="410"/>
                  <a:pt x="396" y="414"/>
                </a:cubicBezTo>
                <a:cubicBezTo>
                  <a:pt x="399" y="418"/>
                  <a:pt x="408" y="422"/>
                  <a:pt x="408" y="422"/>
                </a:cubicBezTo>
                <a:cubicBezTo>
                  <a:pt x="416" y="434"/>
                  <a:pt x="408" y="451"/>
                  <a:pt x="422" y="456"/>
                </a:cubicBezTo>
                <a:cubicBezTo>
                  <a:pt x="425" y="466"/>
                  <a:pt x="425" y="476"/>
                  <a:pt x="428" y="486"/>
                </a:cubicBezTo>
                <a:cubicBezTo>
                  <a:pt x="430" y="507"/>
                  <a:pt x="434" y="507"/>
                  <a:pt x="444" y="522"/>
                </a:cubicBezTo>
                <a:cubicBezTo>
                  <a:pt x="450" y="521"/>
                  <a:pt x="458" y="525"/>
                  <a:pt x="462" y="520"/>
                </a:cubicBezTo>
                <a:cubicBezTo>
                  <a:pt x="464" y="515"/>
                  <a:pt x="457" y="498"/>
                  <a:pt x="454" y="492"/>
                </a:cubicBezTo>
                <a:cubicBezTo>
                  <a:pt x="451" y="486"/>
                  <a:pt x="446" y="484"/>
                  <a:pt x="444" y="482"/>
                </a:cubicBezTo>
                <a:cubicBezTo>
                  <a:pt x="459" y="477"/>
                  <a:pt x="445" y="483"/>
                  <a:pt x="444" y="478"/>
                </a:cubicBezTo>
                <a:cubicBezTo>
                  <a:pt x="442" y="472"/>
                  <a:pt x="454" y="471"/>
                  <a:pt x="456" y="470"/>
                </a:cubicBezTo>
                <a:cubicBezTo>
                  <a:pt x="460" y="470"/>
                  <a:pt x="462" y="462"/>
                  <a:pt x="466" y="462"/>
                </a:cubicBezTo>
                <a:cubicBezTo>
                  <a:pt x="470" y="462"/>
                  <a:pt x="478" y="471"/>
                  <a:pt x="482" y="472"/>
                </a:cubicBezTo>
                <a:cubicBezTo>
                  <a:pt x="486" y="474"/>
                  <a:pt x="486" y="463"/>
                  <a:pt x="490" y="466"/>
                </a:cubicBezTo>
                <a:cubicBezTo>
                  <a:pt x="494" y="467"/>
                  <a:pt x="502" y="474"/>
                  <a:pt x="504" y="478"/>
                </a:cubicBezTo>
                <a:cubicBezTo>
                  <a:pt x="506" y="482"/>
                  <a:pt x="502" y="489"/>
                  <a:pt x="504" y="492"/>
                </a:cubicBezTo>
                <a:cubicBezTo>
                  <a:pt x="506" y="496"/>
                  <a:pt x="512" y="496"/>
                  <a:pt x="516" y="498"/>
                </a:cubicBezTo>
                <a:cubicBezTo>
                  <a:pt x="515" y="487"/>
                  <a:pt x="516" y="477"/>
                  <a:pt x="514" y="466"/>
                </a:cubicBezTo>
                <a:cubicBezTo>
                  <a:pt x="512" y="455"/>
                  <a:pt x="483" y="453"/>
                  <a:pt x="474" y="448"/>
                </a:cubicBezTo>
                <a:cubicBezTo>
                  <a:pt x="466" y="444"/>
                  <a:pt x="460" y="430"/>
                  <a:pt x="452" y="426"/>
                </a:cubicBezTo>
                <a:cubicBezTo>
                  <a:pt x="446" y="422"/>
                  <a:pt x="432" y="422"/>
                  <a:pt x="432" y="422"/>
                </a:cubicBezTo>
                <a:cubicBezTo>
                  <a:pt x="431" y="420"/>
                  <a:pt x="435" y="403"/>
                  <a:pt x="434" y="402"/>
                </a:cubicBezTo>
                <a:cubicBezTo>
                  <a:pt x="433" y="401"/>
                  <a:pt x="425" y="416"/>
                  <a:pt x="424" y="414"/>
                </a:cubicBezTo>
                <a:cubicBezTo>
                  <a:pt x="422" y="411"/>
                  <a:pt x="420" y="402"/>
                  <a:pt x="420" y="402"/>
                </a:cubicBezTo>
                <a:cubicBezTo>
                  <a:pt x="421" y="365"/>
                  <a:pt x="409" y="318"/>
                  <a:pt x="452" y="304"/>
                </a:cubicBezTo>
                <a:cubicBezTo>
                  <a:pt x="459" y="288"/>
                  <a:pt x="460" y="308"/>
                  <a:pt x="466" y="310"/>
                </a:cubicBezTo>
                <a:cubicBezTo>
                  <a:pt x="472" y="312"/>
                  <a:pt x="486" y="318"/>
                  <a:pt x="486" y="314"/>
                </a:cubicBezTo>
                <a:cubicBezTo>
                  <a:pt x="499" y="295"/>
                  <a:pt x="483" y="286"/>
                  <a:pt x="468" y="284"/>
                </a:cubicBezTo>
                <a:cubicBezTo>
                  <a:pt x="458" y="281"/>
                  <a:pt x="453" y="284"/>
                  <a:pt x="448" y="276"/>
                </a:cubicBezTo>
                <a:cubicBezTo>
                  <a:pt x="446" y="272"/>
                  <a:pt x="436" y="272"/>
                  <a:pt x="436" y="272"/>
                </a:cubicBezTo>
                <a:cubicBezTo>
                  <a:pt x="432" y="269"/>
                  <a:pt x="437" y="255"/>
                  <a:pt x="432" y="250"/>
                </a:cubicBezTo>
                <a:cubicBezTo>
                  <a:pt x="428" y="243"/>
                  <a:pt x="421" y="237"/>
                  <a:pt x="414" y="230"/>
                </a:cubicBezTo>
                <a:cubicBezTo>
                  <a:pt x="410" y="218"/>
                  <a:pt x="395" y="218"/>
                  <a:pt x="392" y="206"/>
                </a:cubicBezTo>
                <a:cubicBezTo>
                  <a:pt x="390" y="199"/>
                  <a:pt x="391" y="187"/>
                  <a:pt x="384" y="182"/>
                </a:cubicBezTo>
                <a:cubicBezTo>
                  <a:pt x="381" y="179"/>
                  <a:pt x="376" y="178"/>
                  <a:pt x="372" y="176"/>
                </a:cubicBezTo>
                <a:cubicBezTo>
                  <a:pt x="369" y="166"/>
                  <a:pt x="360" y="161"/>
                  <a:pt x="356" y="152"/>
                </a:cubicBezTo>
                <a:cubicBezTo>
                  <a:pt x="354" y="148"/>
                  <a:pt x="352" y="140"/>
                  <a:pt x="352" y="140"/>
                </a:cubicBezTo>
                <a:cubicBezTo>
                  <a:pt x="349" y="120"/>
                  <a:pt x="341" y="107"/>
                  <a:pt x="330" y="90"/>
                </a:cubicBezTo>
                <a:cubicBezTo>
                  <a:pt x="325" y="82"/>
                  <a:pt x="321" y="67"/>
                  <a:pt x="314" y="60"/>
                </a:cubicBezTo>
                <a:cubicBezTo>
                  <a:pt x="311" y="57"/>
                  <a:pt x="300" y="53"/>
                  <a:pt x="296" y="52"/>
                </a:cubicBezTo>
                <a:cubicBezTo>
                  <a:pt x="291" y="49"/>
                  <a:pt x="299" y="24"/>
                  <a:pt x="290" y="18"/>
                </a:cubicBezTo>
                <a:cubicBezTo>
                  <a:pt x="287" y="10"/>
                  <a:pt x="282" y="4"/>
                  <a:pt x="278" y="2"/>
                </a:cubicBezTo>
                <a:cubicBezTo>
                  <a:pt x="274" y="0"/>
                  <a:pt x="268" y="5"/>
                  <a:pt x="266" y="8"/>
                </a:cubicBezTo>
                <a:cubicBezTo>
                  <a:pt x="260" y="11"/>
                  <a:pt x="266" y="16"/>
                  <a:pt x="266" y="20"/>
                </a:cubicBezTo>
                <a:cubicBezTo>
                  <a:pt x="266" y="24"/>
                  <a:pt x="264" y="30"/>
                  <a:pt x="266" y="34"/>
                </a:cubicBezTo>
                <a:cubicBezTo>
                  <a:pt x="268" y="40"/>
                  <a:pt x="280" y="46"/>
                  <a:pt x="280" y="46"/>
                </a:cubicBezTo>
                <a:cubicBezTo>
                  <a:pt x="278" y="62"/>
                  <a:pt x="270" y="77"/>
                  <a:pt x="254" y="82"/>
                </a:cubicBezTo>
                <a:cubicBezTo>
                  <a:pt x="250" y="93"/>
                  <a:pt x="256" y="97"/>
                  <a:pt x="266" y="100"/>
                </a:cubicBezTo>
                <a:cubicBezTo>
                  <a:pt x="272" y="110"/>
                  <a:pt x="269" y="104"/>
                  <a:pt x="274" y="118"/>
                </a:cubicBezTo>
                <a:cubicBezTo>
                  <a:pt x="275" y="120"/>
                  <a:pt x="276" y="124"/>
                  <a:pt x="276" y="124"/>
                </a:cubicBezTo>
                <a:cubicBezTo>
                  <a:pt x="275" y="138"/>
                  <a:pt x="278" y="174"/>
                  <a:pt x="268" y="164"/>
                </a:cubicBezTo>
                <a:cubicBezTo>
                  <a:pt x="257" y="153"/>
                  <a:pt x="276" y="161"/>
                  <a:pt x="260" y="156"/>
                </a:cubicBezTo>
                <a:cubicBezTo>
                  <a:pt x="256" y="149"/>
                  <a:pt x="254" y="150"/>
                  <a:pt x="258" y="15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4240" y="4092480"/>
            <a:ext cx="459000" cy="486000"/>
          </a:xfrm>
          <a:custGeom>
            <a:avLst/>
            <a:gdLst/>
            <a:ahLst/>
            <a:rect l="l" t="t" r="r" b="b"/>
            <a:pathLst>
              <a:path w="289" h="306">
                <a:moveTo>
                  <a:pt x="162" y="0"/>
                </a:moveTo>
                <a:cubicBezTo>
                  <a:pt x="160" y="1"/>
                  <a:pt x="157" y="2"/>
                  <a:pt x="156" y="4"/>
                </a:cubicBezTo>
                <a:cubicBezTo>
                  <a:pt x="154" y="8"/>
                  <a:pt x="156" y="14"/>
                  <a:pt x="152" y="16"/>
                </a:cubicBezTo>
                <a:cubicBezTo>
                  <a:pt x="148" y="19"/>
                  <a:pt x="140" y="24"/>
                  <a:pt x="140" y="24"/>
                </a:cubicBezTo>
                <a:cubicBezTo>
                  <a:pt x="137" y="32"/>
                  <a:pt x="136" y="35"/>
                  <a:pt x="128" y="38"/>
                </a:cubicBezTo>
                <a:cubicBezTo>
                  <a:pt x="107" y="37"/>
                  <a:pt x="100" y="40"/>
                  <a:pt x="86" y="30"/>
                </a:cubicBezTo>
                <a:cubicBezTo>
                  <a:pt x="78" y="33"/>
                  <a:pt x="77" y="36"/>
                  <a:pt x="74" y="44"/>
                </a:cubicBezTo>
                <a:cubicBezTo>
                  <a:pt x="77" y="69"/>
                  <a:pt x="78" y="58"/>
                  <a:pt x="94" y="68"/>
                </a:cubicBezTo>
                <a:cubicBezTo>
                  <a:pt x="103" y="94"/>
                  <a:pt x="80" y="92"/>
                  <a:pt x="64" y="102"/>
                </a:cubicBezTo>
                <a:cubicBezTo>
                  <a:pt x="58" y="111"/>
                  <a:pt x="55" y="118"/>
                  <a:pt x="46" y="124"/>
                </a:cubicBezTo>
                <a:cubicBezTo>
                  <a:pt x="41" y="131"/>
                  <a:pt x="40" y="136"/>
                  <a:pt x="34" y="142"/>
                </a:cubicBezTo>
                <a:cubicBezTo>
                  <a:pt x="32" y="148"/>
                  <a:pt x="24" y="156"/>
                  <a:pt x="18" y="158"/>
                </a:cubicBezTo>
                <a:cubicBezTo>
                  <a:pt x="14" y="164"/>
                  <a:pt x="8" y="169"/>
                  <a:pt x="6" y="176"/>
                </a:cubicBezTo>
                <a:cubicBezTo>
                  <a:pt x="4" y="182"/>
                  <a:pt x="0" y="194"/>
                  <a:pt x="0" y="194"/>
                </a:cubicBezTo>
                <a:cubicBezTo>
                  <a:pt x="1" y="214"/>
                  <a:pt x="2" y="220"/>
                  <a:pt x="6" y="236"/>
                </a:cubicBezTo>
                <a:cubicBezTo>
                  <a:pt x="37" y="232"/>
                  <a:pt x="13" y="228"/>
                  <a:pt x="32" y="216"/>
                </a:cubicBezTo>
                <a:cubicBezTo>
                  <a:pt x="43" y="200"/>
                  <a:pt x="53" y="188"/>
                  <a:pt x="62" y="170"/>
                </a:cubicBezTo>
                <a:cubicBezTo>
                  <a:pt x="65" y="164"/>
                  <a:pt x="78" y="156"/>
                  <a:pt x="78" y="156"/>
                </a:cubicBezTo>
                <a:cubicBezTo>
                  <a:pt x="83" y="149"/>
                  <a:pt x="87" y="153"/>
                  <a:pt x="96" y="150"/>
                </a:cubicBezTo>
                <a:cubicBezTo>
                  <a:pt x="102" y="159"/>
                  <a:pt x="110" y="161"/>
                  <a:pt x="116" y="170"/>
                </a:cubicBezTo>
                <a:cubicBezTo>
                  <a:pt x="117" y="172"/>
                  <a:pt x="122" y="176"/>
                  <a:pt x="122" y="176"/>
                </a:cubicBezTo>
                <a:cubicBezTo>
                  <a:pt x="123" y="189"/>
                  <a:pt x="129" y="200"/>
                  <a:pt x="116" y="208"/>
                </a:cubicBezTo>
                <a:cubicBezTo>
                  <a:pt x="112" y="214"/>
                  <a:pt x="106" y="219"/>
                  <a:pt x="104" y="226"/>
                </a:cubicBezTo>
                <a:cubicBezTo>
                  <a:pt x="102" y="232"/>
                  <a:pt x="98" y="244"/>
                  <a:pt x="98" y="244"/>
                </a:cubicBezTo>
                <a:cubicBezTo>
                  <a:pt x="100" y="261"/>
                  <a:pt x="104" y="266"/>
                  <a:pt x="118" y="256"/>
                </a:cubicBezTo>
                <a:cubicBezTo>
                  <a:pt x="121" y="248"/>
                  <a:pt x="125" y="244"/>
                  <a:pt x="128" y="254"/>
                </a:cubicBezTo>
                <a:cubicBezTo>
                  <a:pt x="120" y="257"/>
                  <a:pt x="117" y="258"/>
                  <a:pt x="114" y="266"/>
                </a:cubicBezTo>
                <a:cubicBezTo>
                  <a:pt x="111" y="294"/>
                  <a:pt x="110" y="278"/>
                  <a:pt x="92" y="290"/>
                </a:cubicBezTo>
                <a:cubicBezTo>
                  <a:pt x="95" y="306"/>
                  <a:pt x="98" y="302"/>
                  <a:pt x="114" y="300"/>
                </a:cubicBezTo>
                <a:cubicBezTo>
                  <a:pt x="120" y="291"/>
                  <a:pt x="127" y="290"/>
                  <a:pt x="136" y="284"/>
                </a:cubicBezTo>
                <a:cubicBezTo>
                  <a:pt x="138" y="277"/>
                  <a:pt x="136" y="260"/>
                  <a:pt x="142" y="256"/>
                </a:cubicBezTo>
                <a:cubicBezTo>
                  <a:pt x="147" y="252"/>
                  <a:pt x="155" y="252"/>
                  <a:pt x="160" y="248"/>
                </a:cubicBezTo>
                <a:cubicBezTo>
                  <a:pt x="163" y="244"/>
                  <a:pt x="168" y="242"/>
                  <a:pt x="170" y="238"/>
                </a:cubicBezTo>
                <a:cubicBezTo>
                  <a:pt x="180" y="222"/>
                  <a:pt x="171" y="225"/>
                  <a:pt x="192" y="218"/>
                </a:cubicBezTo>
                <a:cubicBezTo>
                  <a:pt x="198" y="216"/>
                  <a:pt x="204" y="214"/>
                  <a:pt x="210" y="212"/>
                </a:cubicBezTo>
                <a:cubicBezTo>
                  <a:pt x="212" y="211"/>
                  <a:pt x="216" y="210"/>
                  <a:pt x="216" y="210"/>
                </a:cubicBezTo>
                <a:cubicBezTo>
                  <a:pt x="225" y="196"/>
                  <a:pt x="236" y="185"/>
                  <a:pt x="252" y="180"/>
                </a:cubicBezTo>
                <a:cubicBezTo>
                  <a:pt x="257" y="173"/>
                  <a:pt x="261" y="162"/>
                  <a:pt x="270" y="158"/>
                </a:cubicBezTo>
                <a:cubicBezTo>
                  <a:pt x="274" y="156"/>
                  <a:pt x="282" y="154"/>
                  <a:pt x="282" y="154"/>
                </a:cubicBezTo>
                <a:cubicBezTo>
                  <a:pt x="289" y="133"/>
                  <a:pt x="264" y="124"/>
                  <a:pt x="248" y="120"/>
                </a:cubicBezTo>
                <a:cubicBezTo>
                  <a:pt x="243" y="105"/>
                  <a:pt x="252" y="89"/>
                  <a:pt x="238" y="80"/>
                </a:cubicBezTo>
                <a:cubicBezTo>
                  <a:pt x="232" y="63"/>
                  <a:pt x="244" y="39"/>
                  <a:pt x="224" y="32"/>
                </a:cubicBezTo>
                <a:cubicBezTo>
                  <a:pt x="207" y="15"/>
                  <a:pt x="200" y="16"/>
                  <a:pt x="176" y="14"/>
                </a:cubicBezTo>
                <a:cubicBezTo>
                  <a:pt x="170" y="10"/>
                  <a:pt x="167" y="5"/>
                  <a:pt x="162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51360" y="5952960"/>
            <a:ext cx="152640" cy="376560"/>
          </a:xfrm>
          <a:custGeom>
            <a:avLst/>
            <a:gdLst/>
            <a:ahLst/>
            <a:rect l="l" t="t" r="r" b="b"/>
            <a:pathLst>
              <a:path w="96" h="237">
                <a:moveTo>
                  <a:pt x="65" y="4"/>
                </a:moveTo>
                <a:cubicBezTo>
                  <a:pt x="57" y="7"/>
                  <a:pt x="60" y="12"/>
                  <a:pt x="53" y="16"/>
                </a:cubicBezTo>
                <a:cubicBezTo>
                  <a:pt x="47" y="26"/>
                  <a:pt x="51" y="26"/>
                  <a:pt x="41" y="32"/>
                </a:cubicBezTo>
                <a:cubicBezTo>
                  <a:pt x="36" y="46"/>
                  <a:pt x="29" y="54"/>
                  <a:pt x="19" y="60"/>
                </a:cubicBezTo>
                <a:cubicBezTo>
                  <a:pt x="16" y="65"/>
                  <a:pt x="18" y="59"/>
                  <a:pt x="17" y="72"/>
                </a:cubicBezTo>
                <a:cubicBezTo>
                  <a:pt x="15" y="81"/>
                  <a:pt x="8" y="106"/>
                  <a:pt x="7" y="116"/>
                </a:cubicBezTo>
                <a:cubicBezTo>
                  <a:pt x="6" y="126"/>
                  <a:pt x="7" y="123"/>
                  <a:pt x="9" y="134"/>
                </a:cubicBezTo>
                <a:cubicBezTo>
                  <a:pt x="11" y="161"/>
                  <a:pt x="0" y="175"/>
                  <a:pt x="21" y="180"/>
                </a:cubicBezTo>
                <a:cubicBezTo>
                  <a:pt x="28" y="187"/>
                  <a:pt x="31" y="197"/>
                  <a:pt x="41" y="200"/>
                </a:cubicBezTo>
                <a:cubicBezTo>
                  <a:pt x="47" y="206"/>
                  <a:pt x="52" y="208"/>
                  <a:pt x="55" y="216"/>
                </a:cubicBezTo>
                <a:cubicBezTo>
                  <a:pt x="57" y="230"/>
                  <a:pt x="55" y="237"/>
                  <a:pt x="69" y="232"/>
                </a:cubicBezTo>
                <a:cubicBezTo>
                  <a:pt x="67" y="216"/>
                  <a:pt x="59" y="193"/>
                  <a:pt x="75" y="182"/>
                </a:cubicBezTo>
                <a:cubicBezTo>
                  <a:pt x="77" y="172"/>
                  <a:pt x="77" y="183"/>
                  <a:pt x="79" y="172"/>
                </a:cubicBezTo>
                <a:cubicBezTo>
                  <a:pt x="81" y="161"/>
                  <a:pt x="83" y="137"/>
                  <a:pt x="85" y="118"/>
                </a:cubicBezTo>
                <a:cubicBezTo>
                  <a:pt x="87" y="97"/>
                  <a:pt x="88" y="71"/>
                  <a:pt x="89" y="56"/>
                </a:cubicBezTo>
                <a:cubicBezTo>
                  <a:pt x="90" y="41"/>
                  <a:pt x="96" y="36"/>
                  <a:pt x="93" y="28"/>
                </a:cubicBezTo>
                <a:cubicBezTo>
                  <a:pt x="91" y="16"/>
                  <a:pt x="86" y="9"/>
                  <a:pt x="73" y="6"/>
                </a:cubicBezTo>
                <a:cubicBezTo>
                  <a:pt x="66" y="1"/>
                  <a:pt x="69" y="0"/>
                  <a:pt x="65" y="4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83280" y="638172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>
            <a:hlinkClick r:id="rId6"/>
          </p:cNvPr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5508720" y="4270320"/>
            <a:ext cx="287280" cy="192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6443640" y="30686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9"/>
          </p:cNvPr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5730840" y="6021360"/>
            <a:ext cx="28116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885080" cy="766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4920" y="2176560"/>
            <a:ext cx="8929800" cy="6778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1280" y="2997360"/>
            <a:ext cx="2268720" cy="273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英《南京条约》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割让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香港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赔银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二千万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口通商           （广州、厦门、福州、宁波、上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协定关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13080" y="2997360"/>
            <a:ext cx="2303280" cy="2454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日《马关条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割让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辽东半岛、     台湾、澎湖列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赔银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二亿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增开口岸            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庆、沙市、苏州、杭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华设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32360" y="551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济侵略加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54640" y="60786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控制程度加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32360" y="39178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割地面积增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2360" y="44226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赔款数额倍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32360" y="5013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侵略深入内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700360" y="0"/>
            <a:ext cx="6443280" cy="4941360"/>
            <a:chOff x="2700360" y="0"/>
            <a:chExt cx="6443280" cy="4941360"/>
          </a:xfrm>
        </p:grpSpPr>
        <p:grpSp>
          <p:nvGrpSpPr>
            <p:cNvPr id="337" name=""/>
            <p:cNvGrpSpPr/>
            <p:nvPr/>
          </p:nvGrpSpPr>
          <p:grpSpPr>
            <a:xfrm>
              <a:off x="2700360" y="0"/>
              <a:ext cx="6443280" cy="4941360"/>
              <a:chOff x="2700360" y="0"/>
              <a:chExt cx="6443280" cy="49413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700360" y="0"/>
                <a:ext cx="6443280" cy="4941360"/>
                <a:chOff x="2700360" y="0"/>
                <a:chExt cx="6443280" cy="4941360"/>
              </a:xfrm>
            </p:grpSpPr>
            <p:pic>
              <p:nvPicPr>
                <p:cNvPr id="339" name="" descr="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0"/>
                  <a:ext cx="6443280" cy="494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653360" y="727200"/>
                  <a:ext cx="2130840" cy="144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6770880" y="92160"/>
                  <a:ext cx="2042280" cy="1667520"/>
                </a:xfrm>
                <a:custGeom>
                  <a:avLst/>
                  <a:gdLst/>
                  <a:ahLst/>
                  <a:rect l="l" t="t" r="r" b="b"/>
                  <a:pathLst>
                    <a:path w="1826" h="1465">
                      <a:moveTo>
                        <a:pt x="148" y="512"/>
                      </a:moveTo>
                      <a:lnTo>
                        <a:pt x="210" y="486"/>
                      </a:lnTo>
                      <a:lnTo>
                        <a:pt x="239" y="467"/>
                      </a:lnTo>
                      <a:lnTo>
                        <a:pt x="284" y="467"/>
                      </a:lnTo>
                      <a:lnTo>
                        <a:pt x="426" y="498"/>
                      </a:lnTo>
                      <a:lnTo>
                        <a:pt x="483" y="540"/>
                      </a:lnTo>
                      <a:lnTo>
                        <a:pt x="534" y="609"/>
                      </a:lnTo>
                      <a:lnTo>
                        <a:pt x="588" y="660"/>
                      </a:lnTo>
                      <a:lnTo>
                        <a:pt x="647" y="785"/>
                      </a:lnTo>
                      <a:lnTo>
                        <a:pt x="822" y="804"/>
                      </a:lnTo>
                      <a:lnTo>
                        <a:pt x="906" y="894"/>
                      </a:lnTo>
                      <a:lnTo>
                        <a:pt x="965" y="921"/>
                      </a:lnTo>
                      <a:lnTo>
                        <a:pt x="1062" y="834"/>
                      </a:lnTo>
                      <a:lnTo>
                        <a:pt x="1146" y="785"/>
                      </a:lnTo>
                      <a:lnTo>
                        <a:pt x="1191" y="739"/>
                      </a:lnTo>
                      <a:lnTo>
                        <a:pt x="1173" y="780"/>
                      </a:lnTo>
                      <a:lnTo>
                        <a:pt x="1164" y="846"/>
                      </a:lnTo>
                      <a:lnTo>
                        <a:pt x="1146" y="1147"/>
                      </a:lnTo>
                      <a:lnTo>
                        <a:pt x="1110" y="1128"/>
                      </a:lnTo>
                      <a:lnTo>
                        <a:pt x="1055" y="1147"/>
                      </a:lnTo>
                      <a:lnTo>
                        <a:pt x="1026" y="1209"/>
                      </a:lnTo>
                      <a:lnTo>
                        <a:pt x="1035" y="1230"/>
                      </a:lnTo>
                      <a:lnTo>
                        <a:pt x="1056" y="1254"/>
                      </a:lnTo>
                      <a:lnTo>
                        <a:pt x="1101" y="1374"/>
                      </a:lnTo>
                      <a:lnTo>
                        <a:pt x="1053" y="1410"/>
                      </a:lnTo>
                      <a:lnTo>
                        <a:pt x="1050" y="1431"/>
                      </a:lnTo>
                      <a:lnTo>
                        <a:pt x="1055" y="1465"/>
                      </a:lnTo>
                      <a:lnTo>
                        <a:pt x="1101" y="1420"/>
                      </a:lnTo>
                      <a:lnTo>
                        <a:pt x="1116" y="1362"/>
                      </a:lnTo>
                      <a:lnTo>
                        <a:pt x="1146" y="1329"/>
                      </a:lnTo>
                      <a:lnTo>
                        <a:pt x="1152" y="1350"/>
                      </a:lnTo>
                      <a:lnTo>
                        <a:pt x="1237" y="1374"/>
                      </a:lnTo>
                      <a:lnTo>
                        <a:pt x="1308" y="1317"/>
                      </a:lnTo>
                      <a:lnTo>
                        <a:pt x="1350" y="1260"/>
                      </a:lnTo>
                      <a:lnTo>
                        <a:pt x="1373" y="1238"/>
                      </a:lnTo>
                      <a:lnTo>
                        <a:pt x="1374" y="1167"/>
                      </a:lnTo>
                      <a:lnTo>
                        <a:pt x="1383" y="1098"/>
                      </a:lnTo>
                      <a:lnTo>
                        <a:pt x="1407" y="1050"/>
                      </a:lnTo>
                      <a:lnTo>
                        <a:pt x="1464" y="897"/>
                      </a:lnTo>
                      <a:lnTo>
                        <a:pt x="1473" y="819"/>
                      </a:lnTo>
                      <a:lnTo>
                        <a:pt x="1467" y="741"/>
                      </a:lnTo>
                      <a:lnTo>
                        <a:pt x="1497" y="696"/>
                      </a:lnTo>
                      <a:lnTo>
                        <a:pt x="1494" y="558"/>
                      </a:lnTo>
                      <a:lnTo>
                        <a:pt x="1497" y="525"/>
                      </a:lnTo>
                      <a:lnTo>
                        <a:pt x="1485" y="504"/>
                      </a:lnTo>
                      <a:lnTo>
                        <a:pt x="1437" y="393"/>
                      </a:lnTo>
                      <a:lnTo>
                        <a:pt x="1437" y="375"/>
                      </a:lnTo>
                      <a:lnTo>
                        <a:pt x="1440" y="363"/>
                      </a:lnTo>
                      <a:lnTo>
                        <a:pt x="1443" y="312"/>
                      </a:lnTo>
                      <a:lnTo>
                        <a:pt x="1443" y="267"/>
                      </a:lnTo>
                      <a:lnTo>
                        <a:pt x="1446" y="249"/>
                      </a:lnTo>
                      <a:lnTo>
                        <a:pt x="1530" y="342"/>
                      </a:lnTo>
                      <a:lnTo>
                        <a:pt x="1521" y="336"/>
                      </a:lnTo>
                      <a:lnTo>
                        <a:pt x="1600" y="467"/>
                      </a:lnTo>
                      <a:lnTo>
                        <a:pt x="1605" y="537"/>
                      </a:lnTo>
                      <a:lnTo>
                        <a:pt x="1620" y="576"/>
                      </a:lnTo>
                      <a:lnTo>
                        <a:pt x="1645" y="603"/>
                      </a:lnTo>
                      <a:lnTo>
                        <a:pt x="1647" y="669"/>
                      </a:lnTo>
                      <a:lnTo>
                        <a:pt x="1683" y="717"/>
                      </a:lnTo>
                      <a:lnTo>
                        <a:pt x="1707" y="813"/>
                      </a:lnTo>
                      <a:lnTo>
                        <a:pt x="1736" y="830"/>
                      </a:lnTo>
                      <a:lnTo>
                        <a:pt x="1736" y="739"/>
                      </a:lnTo>
                      <a:lnTo>
                        <a:pt x="1781" y="739"/>
                      </a:lnTo>
                      <a:lnTo>
                        <a:pt x="1806" y="747"/>
                      </a:lnTo>
                      <a:lnTo>
                        <a:pt x="1826" y="785"/>
                      </a:lnTo>
                      <a:lnTo>
                        <a:pt x="1826" y="739"/>
                      </a:lnTo>
                      <a:lnTo>
                        <a:pt x="1821" y="720"/>
                      </a:lnTo>
                      <a:lnTo>
                        <a:pt x="1781" y="694"/>
                      </a:lnTo>
                      <a:lnTo>
                        <a:pt x="1690" y="649"/>
                      </a:lnTo>
                      <a:lnTo>
                        <a:pt x="1683" y="558"/>
                      </a:lnTo>
                      <a:lnTo>
                        <a:pt x="1690" y="512"/>
                      </a:lnTo>
                      <a:lnTo>
                        <a:pt x="1690" y="467"/>
                      </a:lnTo>
                      <a:lnTo>
                        <a:pt x="1737" y="465"/>
                      </a:lnTo>
                      <a:lnTo>
                        <a:pt x="1800" y="489"/>
                      </a:lnTo>
                      <a:lnTo>
                        <a:pt x="1719" y="426"/>
                      </a:lnTo>
                      <a:lnTo>
                        <a:pt x="1690" y="376"/>
                      </a:lnTo>
                      <a:lnTo>
                        <a:pt x="1641" y="333"/>
                      </a:lnTo>
                      <a:lnTo>
                        <a:pt x="1602" y="270"/>
                      </a:lnTo>
                      <a:lnTo>
                        <a:pt x="1563" y="192"/>
                      </a:lnTo>
                      <a:lnTo>
                        <a:pt x="1548" y="153"/>
                      </a:lnTo>
                      <a:lnTo>
                        <a:pt x="1485" y="69"/>
                      </a:lnTo>
                      <a:lnTo>
                        <a:pt x="1461" y="21"/>
                      </a:lnTo>
                      <a:lnTo>
                        <a:pt x="1446" y="0"/>
                      </a:lnTo>
                      <a:lnTo>
                        <a:pt x="1428" y="18"/>
                      </a:lnTo>
                      <a:lnTo>
                        <a:pt x="1464" y="104"/>
                      </a:lnTo>
                      <a:lnTo>
                        <a:pt x="1449" y="90"/>
                      </a:lnTo>
                      <a:lnTo>
                        <a:pt x="1418" y="150"/>
                      </a:lnTo>
                      <a:lnTo>
                        <a:pt x="1449" y="186"/>
                      </a:lnTo>
                      <a:lnTo>
                        <a:pt x="1464" y="240"/>
                      </a:lnTo>
                      <a:lnTo>
                        <a:pt x="1373" y="195"/>
                      </a:lnTo>
                      <a:lnTo>
                        <a:pt x="1418" y="150"/>
                      </a:lnTo>
                      <a:lnTo>
                        <a:pt x="1344" y="135"/>
                      </a:lnTo>
                      <a:lnTo>
                        <a:pt x="1287" y="102"/>
                      </a:lnTo>
                      <a:lnTo>
                        <a:pt x="1237" y="104"/>
                      </a:lnTo>
                      <a:lnTo>
                        <a:pt x="1203" y="111"/>
                      </a:lnTo>
                      <a:lnTo>
                        <a:pt x="1212" y="150"/>
                      </a:lnTo>
                      <a:lnTo>
                        <a:pt x="1215" y="174"/>
                      </a:lnTo>
                      <a:lnTo>
                        <a:pt x="1191" y="195"/>
                      </a:lnTo>
                      <a:lnTo>
                        <a:pt x="1152" y="207"/>
                      </a:lnTo>
                      <a:lnTo>
                        <a:pt x="1140" y="186"/>
                      </a:lnTo>
                      <a:lnTo>
                        <a:pt x="1104" y="207"/>
                      </a:lnTo>
                      <a:lnTo>
                        <a:pt x="1101" y="195"/>
                      </a:lnTo>
                      <a:lnTo>
                        <a:pt x="1086" y="159"/>
                      </a:lnTo>
                      <a:lnTo>
                        <a:pt x="1055" y="150"/>
                      </a:lnTo>
                      <a:lnTo>
                        <a:pt x="1010" y="150"/>
                      </a:lnTo>
                      <a:lnTo>
                        <a:pt x="864" y="234"/>
                      </a:lnTo>
                      <a:lnTo>
                        <a:pt x="738" y="286"/>
                      </a:lnTo>
                      <a:lnTo>
                        <a:pt x="738" y="195"/>
                      </a:lnTo>
                      <a:lnTo>
                        <a:pt x="693" y="150"/>
                      </a:lnTo>
                      <a:lnTo>
                        <a:pt x="602" y="150"/>
                      </a:lnTo>
                      <a:lnTo>
                        <a:pt x="564" y="195"/>
                      </a:lnTo>
                      <a:lnTo>
                        <a:pt x="528" y="183"/>
                      </a:lnTo>
                      <a:lnTo>
                        <a:pt x="511" y="195"/>
                      </a:lnTo>
                      <a:lnTo>
                        <a:pt x="480" y="201"/>
                      </a:lnTo>
                      <a:lnTo>
                        <a:pt x="444" y="207"/>
                      </a:lnTo>
                      <a:lnTo>
                        <a:pt x="420" y="240"/>
                      </a:lnTo>
                      <a:lnTo>
                        <a:pt x="330" y="195"/>
                      </a:lnTo>
                      <a:lnTo>
                        <a:pt x="285" y="219"/>
                      </a:lnTo>
                      <a:lnTo>
                        <a:pt x="246" y="234"/>
                      </a:lnTo>
                      <a:lnTo>
                        <a:pt x="279" y="285"/>
                      </a:lnTo>
                      <a:lnTo>
                        <a:pt x="239" y="331"/>
                      </a:lnTo>
                      <a:lnTo>
                        <a:pt x="222" y="351"/>
                      </a:lnTo>
                      <a:lnTo>
                        <a:pt x="194" y="376"/>
                      </a:lnTo>
                      <a:lnTo>
                        <a:pt x="165" y="402"/>
                      </a:lnTo>
                      <a:lnTo>
                        <a:pt x="105" y="429"/>
                      </a:lnTo>
                      <a:lnTo>
                        <a:pt x="57" y="467"/>
                      </a:lnTo>
                      <a:lnTo>
                        <a:pt x="30" y="474"/>
                      </a:lnTo>
                      <a:lnTo>
                        <a:pt x="0" y="534"/>
                      </a:lnTo>
                      <a:lnTo>
                        <a:pt x="12" y="558"/>
                      </a:lnTo>
                      <a:lnTo>
                        <a:pt x="103" y="512"/>
                      </a:lnTo>
                      <a:lnTo>
                        <a:pt x="148" y="512"/>
                      </a:lnTo>
                      <a:close/>
                    </a:path>
                  </a:pathLst>
                </a:custGeom>
                <a:solidFill>
                  <a:srgbClr val="000000">
                    <a:alpha val="7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54800" y="753480"/>
                  <a:ext cx="1784880" cy="1649160"/>
                </a:xfrm>
                <a:custGeom>
                  <a:avLst/>
                  <a:gdLst/>
                  <a:ahLst/>
                  <a:rect l="l" t="t" r="r" b="b"/>
                  <a:pathLst>
                    <a:path w="1596" h="1449">
                      <a:moveTo>
                        <a:pt x="0" y="1433"/>
                      </a:moveTo>
                      <a:lnTo>
                        <a:pt x="16" y="1411"/>
                      </a:lnTo>
                      <a:lnTo>
                        <a:pt x="40" y="1389"/>
                      </a:lnTo>
                      <a:lnTo>
                        <a:pt x="54" y="1353"/>
                      </a:lnTo>
                      <a:lnTo>
                        <a:pt x="66" y="1292"/>
                      </a:lnTo>
                      <a:lnTo>
                        <a:pt x="94" y="1287"/>
                      </a:lnTo>
                      <a:lnTo>
                        <a:pt x="90" y="1273"/>
                      </a:lnTo>
                      <a:lnTo>
                        <a:pt x="76" y="1249"/>
                      </a:lnTo>
                      <a:lnTo>
                        <a:pt x="80" y="1211"/>
                      </a:lnTo>
                      <a:lnTo>
                        <a:pt x="124" y="1201"/>
                      </a:lnTo>
                      <a:lnTo>
                        <a:pt x="164" y="1191"/>
                      </a:lnTo>
                      <a:lnTo>
                        <a:pt x="202" y="1156"/>
                      </a:lnTo>
                      <a:lnTo>
                        <a:pt x="204" y="1079"/>
                      </a:lnTo>
                      <a:lnTo>
                        <a:pt x="224" y="1071"/>
                      </a:lnTo>
                      <a:lnTo>
                        <a:pt x="293" y="1065"/>
                      </a:lnTo>
                      <a:lnTo>
                        <a:pt x="284" y="1043"/>
                      </a:lnTo>
                      <a:lnTo>
                        <a:pt x="260" y="1021"/>
                      </a:lnTo>
                      <a:lnTo>
                        <a:pt x="286" y="991"/>
                      </a:lnTo>
                      <a:lnTo>
                        <a:pt x="293" y="975"/>
                      </a:lnTo>
                      <a:lnTo>
                        <a:pt x="308" y="967"/>
                      </a:lnTo>
                      <a:lnTo>
                        <a:pt x="288" y="939"/>
                      </a:lnTo>
                      <a:lnTo>
                        <a:pt x="252" y="931"/>
                      </a:lnTo>
                      <a:lnTo>
                        <a:pt x="208" y="923"/>
                      </a:lnTo>
                      <a:lnTo>
                        <a:pt x="174" y="913"/>
                      </a:lnTo>
                      <a:lnTo>
                        <a:pt x="150" y="897"/>
                      </a:lnTo>
                      <a:lnTo>
                        <a:pt x="104" y="877"/>
                      </a:lnTo>
                      <a:lnTo>
                        <a:pt x="114" y="845"/>
                      </a:lnTo>
                      <a:lnTo>
                        <a:pt x="94" y="835"/>
                      </a:lnTo>
                      <a:lnTo>
                        <a:pt x="82" y="823"/>
                      </a:lnTo>
                      <a:lnTo>
                        <a:pt x="80" y="817"/>
                      </a:lnTo>
                      <a:lnTo>
                        <a:pt x="51" y="757"/>
                      </a:lnTo>
                      <a:lnTo>
                        <a:pt x="51" y="712"/>
                      </a:lnTo>
                      <a:lnTo>
                        <a:pt x="111" y="657"/>
                      </a:lnTo>
                      <a:lnTo>
                        <a:pt x="189" y="646"/>
                      </a:lnTo>
                      <a:lnTo>
                        <a:pt x="293" y="612"/>
                      </a:lnTo>
                      <a:lnTo>
                        <a:pt x="383" y="566"/>
                      </a:lnTo>
                      <a:lnTo>
                        <a:pt x="417" y="538"/>
                      </a:lnTo>
                      <a:lnTo>
                        <a:pt x="429" y="521"/>
                      </a:lnTo>
                      <a:lnTo>
                        <a:pt x="519" y="502"/>
                      </a:lnTo>
                      <a:lnTo>
                        <a:pt x="610" y="521"/>
                      </a:lnTo>
                      <a:lnTo>
                        <a:pt x="746" y="566"/>
                      </a:lnTo>
                      <a:lnTo>
                        <a:pt x="837" y="566"/>
                      </a:lnTo>
                      <a:lnTo>
                        <a:pt x="882" y="476"/>
                      </a:lnTo>
                      <a:lnTo>
                        <a:pt x="973" y="430"/>
                      </a:lnTo>
                      <a:lnTo>
                        <a:pt x="1064" y="385"/>
                      </a:lnTo>
                      <a:lnTo>
                        <a:pt x="1098" y="352"/>
                      </a:lnTo>
                      <a:lnTo>
                        <a:pt x="1128" y="310"/>
                      </a:lnTo>
                      <a:lnTo>
                        <a:pt x="1154" y="294"/>
                      </a:lnTo>
                      <a:lnTo>
                        <a:pt x="1176" y="247"/>
                      </a:lnTo>
                      <a:lnTo>
                        <a:pt x="1154" y="204"/>
                      </a:lnTo>
                      <a:lnTo>
                        <a:pt x="1154" y="158"/>
                      </a:lnTo>
                      <a:lnTo>
                        <a:pt x="1291" y="113"/>
                      </a:lnTo>
                      <a:lnTo>
                        <a:pt x="1368" y="57"/>
                      </a:lnTo>
                      <a:lnTo>
                        <a:pt x="1391" y="30"/>
                      </a:lnTo>
                      <a:lnTo>
                        <a:pt x="1427" y="12"/>
                      </a:lnTo>
                      <a:lnTo>
                        <a:pt x="1427" y="22"/>
                      </a:lnTo>
                      <a:lnTo>
                        <a:pt x="1452" y="3"/>
                      </a:lnTo>
                      <a:lnTo>
                        <a:pt x="1467" y="3"/>
                      </a:lnTo>
                      <a:lnTo>
                        <a:pt x="1498" y="1"/>
                      </a:lnTo>
                      <a:lnTo>
                        <a:pt x="1506" y="3"/>
                      </a:lnTo>
                      <a:lnTo>
                        <a:pt x="1511" y="0"/>
                      </a:lnTo>
                      <a:lnTo>
                        <a:pt x="1530" y="7"/>
                      </a:lnTo>
                      <a:lnTo>
                        <a:pt x="1557" y="36"/>
                      </a:lnTo>
                      <a:lnTo>
                        <a:pt x="1596" y="43"/>
                      </a:lnTo>
                      <a:lnTo>
                        <a:pt x="1569" y="67"/>
                      </a:lnTo>
                      <a:lnTo>
                        <a:pt x="1533" y="61"/>
                      </a:lnTo>
                      <a:lnTo>
                        <a:pt x="1518" y="94"/>
                      </a:lnTo>
                      <a:lnTo>
                        <a:pt x="1491" y="130"/>
                      </a:lnTo>
                      <a:lnTo>
                        <a:pt x="1484" y="155"/>
                      </a:lnTo>
                      <a:lnTo>
                        <a:pt x="1506" y="163"/>
                      </a:lnTo>
                      <a:lnTo>
                        <a:pt x="1517" y="204"/>
                      </a:lnTo>
                      <a:lnTo>
                        <a:pt x="1546" y="225"/>
                      </a:lnTo>
                      <a:lnTo>
                        <a:pt x="1552" y="255"/>
                      </a:lnTo>
                      <a:lnTo>
                        <a:pt x="1524" y="265"/>
                      </a:lnTo>
                      <a:lnTo>
                        <a:pt x="1548" y="265"/>
                      </a:lnTo>
                      <a:lnTo>
                        <a:pt x="1542" y="273"/>
                      </a:lnTo>
                      <a:lnTo>
                        <a:pt x="1530" y="304"/>
                      </a:lnTo>
                      <a:lnTo>
                        <a:pt x="1524" y="313"/>
                      </a:lnTo>
                      <a:lnTo>
                        <a:pt x="1512" y="309"/>
                      </a:lnTo>
                      <a:lnTo>
                        <a:pt x="1506" y="319"/>
                      </a:lnTo>
                      <a:lnTo>
                        <a:pt x="1488" y="322"/>
                      </a:lnTo>
                      <a:lnTo>
                        <a:pt x="1468" y="321"/>
                      </a:lnTo>
                      <a:lnTo>
                        <a:pt x="1470" y="328"/>
                      </a:lnTo>
                      <a:lnTo>
                        <a:pt x="1436" y="345"/>
                      </a:lnTo>
                      <a:lnTo>
                        <a:pt x="1427" y="385"/>
                      </a:lnTo>
                      <a:lnTo>
                        <a:pt x="1381" y="430"/>
                      </a:lnTo>
                      <a:lnTo>
                        <a:pt x="1364" y="475"/>
                      </a:lnTo>
                      <a:lnTo>
                        <a:pt x="1336" y="476"/>
                      </a:lnTo>
                      <a:lnTo>
                        <a:pt x="1314" y="481"/>
                      </a:lnTo>
                      <a:lnTo>
                        <a:pt x="1312" y="499"/>
                      </a:lnTo>
                      <a:lnTo>
                        <a:pt x="1291" y="521"/>
                      </a:lnTo>
                      <a:lnTo>
                        <a:pt x="1274" y="593"/>
                      </a:lnTo>
                      <a:lnTo>
                        <a:pt x="1258" y="613"/>
                      </a:lnTo>
                      <a:lnTo>
                        <a:pt x="1245" y="612"/>
                      </a:lnTo>
                      <a:lnTo>
                        <a:pt x="1204" y="627"/>
                      </a:lnTo>
                      <a:lnTo>
                        <a:pt x="1154" y="612"/>
                      </a:lnTo>
                      <a:lnTo>
                        <a:pt x="1114" y="573"/>
                      </a:lnTo>
                      <a:lnTo>
                        <a:pt x="1092" y="579"/>
                      </a:lnTo>
                      <a:lnTo>
                        <a:pt x="1078" y="593"/>
                      </a:lnTo>
                      <a:lnTo>
                        <a:pt x="1074" y="625"/>
                      </a:lnTo>
                      <a:lnTo>
                        <a:pt x="1046" y="649"/>
                      </a:lnTo>
                      <a:lnTo>
                        <a:pt x="1048" y="657"/>
                      </a:lnTo>
                      <a:lnTo>
                        <a:pt x="1040" y="663"/>
                      </a:lnTo>
                      <a:lnTo>
                        <a:pt x="1032" y="667"/>
                      </a:lnTo>
                      <a:lnTo>
                        <a:pt x="1016" y="699"/>
                      </a:lnTo>
                      <a:lnTo>
                        <a:pt x="1026" y="745"/>
                      </a:lnTo>
                      <a:lnTo>
                        <a:pt x="1016" y="771"/>
                      </a:lnTo>
                      <a:lnTo>
                        <a:pt x="1006" y="761"/>
                      </a:lnTo>
                      <a:lnTo>
                        <a:pt x="984" y="753"/>
                      </a:lnTo>
                      <a:lnTo>
                        <a:pt x="960" y="757"/>
                      </a:lnTo>
                      <a:lnTo>
                        <a:pt x="916" y="757"/>
                      </a:lnTo>
                      <a:lnTo>
                        <a:pt x="882" y="748"/>
                      </a:lnTo>
                      <a:lnTo>
                        <a:pt x="864" y="747"/>
                      </a:lnTo>
                      <a:lnTo>
                        <a:pt x="837" y="748"/>
                      </a:lnTo>
                      <a:lnTo>
                        <a:pt x="844" y="777"/>
                      </a:lnTo>
                      <a:lnTo>
                        <a:pt x="858" y="805"/>
                      </a:lnTo>
                      <a:lnTo>
                        <a:pt x="860" y="899"/>
                      </a:lnTo>
                      <a:lnTo>
                        <a:pt x="854" y="923"/>
                      </a:lnTo>
                      <a:lnTo>
                        <a:pt x="852" y="959"/>
                      </a:lnTo>
                      <a:lnTo>
                        <a:pt x="828" y="985"/>
                      </a:lnTo>
                      <a:lnTo>
                        <a:pt x="800" y="1019"/>
                      </a:lnTo>
                      <a:lnTo>
                        <a:pt x="776" y="1053"/>
                      </a:lnTo>
                      <a:lnTo>
                        <a:pt x="746" y="1065"/>
                      </a:lnTo>
                      <a:lnTo>
                        <a:pt x="710" y="1069"/>
                      </a:lnTo>
                      <a:lnTo>
                        <a:pt x="676" y="1091"/>
                      </a:lnTo>
                      <a:lnTo>
                        <a:pt x="655" y="1111"/>
                      </a:lnTo>
                      <a:lnTo>
                        <a:pt x="644" y="1097"/>
                      </a:lnTo>
                      <a:lnTo>
                        <a:pt x="606" y="1093"/>
                      </a:lnTo>
                      <a:lnTo>
                        <a:pt x="570" y="1097"/>
                      </a:lnTo>
                      <a:lnTo>
                        <a:pt x="518" y="1121"/>
                      </a:lnTo>
                      <a:lnTo>
                        <a:pt x="490" y="1147"/>
                      </a:lnTo>
                      <a:lnTo>
                        <a:pt x="452" y="1169"/>
                      </a:lnTo>
                      <a:lnTo>
                        <a:pt x="434" y="1161"/>
                      </a:lnTo>
                      <a:lnTo>
                        <a:pt x="408" y="1145"/>
                      </a:lnTo>
                      <a:lnTo>
                        <a:pt x="398" y="1127"/>
                      </a:lnTo>
                      <a:lnTo>
                        <a:pt x="352" y="1139"/>
                      </a:lnTo>
                      <a:lnTo>
                        <a:pt x="293" y="1156"/>
                      </a:lnTo>
                      <a:lnTo>
                        <a:pt x="278" y="1165"/>
                      </a:lnTo>
                      <a:lnTo>
                        <a:pt x="244" y="1199"/>
                      </a:lnTo>
                      <a:lnTo>
                        <a:pt x="228" y="1217"/>
                      </a:lnTo>
                      <a:lnTo>
                        <a:pt x="247" y="1247"/>
                      </a:lnTo>
                      <a:lnTo>
                        <a:pt x="218" y="1261"/>
                      </a:lnTo>
                      <a:lnTo>
                        <a:pt x="208" y="1283"/>
                      </a:lnTo>
                      <a:lnTo>
                        <a:pt x="196" y="1327"/>
                      </a:lnTo>
                      <a:lnTo>
                        <a:pt x="157" y="1338"/>
                      </a:lnTo>
                      <a:lnTo>
                        <a:pt x="111" y="1338"/>
                      </a:lnTo>
                      <a:lnTo>
                        <a:pt x="92" y="1357"/>
                      </a:lnTo>
                      <a:lnTo>
                        <a:pt x="74" y="1395"/>
                      </a:lnTo>
                      <a:lnTo>
                        <a:pt x="66" y="1428"/>
                      </a:lnTo>
                      <a:lnTo>
                        <a:pt x="20" y="1449"/>
                      </a:lnTo>
                      <a:lnTo>
                        <a:pt x="0" y="1433"/>
                      </a:lnTo>
                      <a:close/>
                    </a:path>
                  </a:pathLst>
                </a:custGeom>
                <a:solidFill>
                  <a:srgbClr val="000000">
                    <a:alpha val="7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00920" y="345960"/>
                  <a:ext cx="45612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32800" y="1482120"/>
                  <a:ext cx="45612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6886080" y="4367880"/>
                  <a:ext cx="75960" cy="77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758640" y="4418640"/>
                  <a:ext cx="75960" cy="77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87960" y="4380120"/>
                  <a:ext cx="354600" cy="21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32280" y="4531680"/>
                  <a:ext cx="328680" cy="22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4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33800" y="2072160"/>
                <a:ext cx="44316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11">
                <a:alphaModFix amt="0"/>
              </a:blip>
              <a:stretch/>
            </p:blipFill>
            <p:spPr>
              <a:xfrm>
                <a:off x="8591760" y="1946880"/>
                <a:ext cx="551880" cy="39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7487640" y="3926880"/>
                <a:ext cx="155520" cy="412200"/>
              </a:xfrm>
              <a:custGeom>
                <a:avLst/>
                <a:gdLst/>
                <a:ahLst/>
                <a:rect l="l" t="t" r="r" b="b"/>
                <a:pathLst>
                  <a:path w="96" h="237">
                    <a:moveTo>
                      <a:pt x="65" y="4"/>
                    </a:moveTo>
                    <a:cubicBezTo>
                      <a:pt x="57" y="7"/>
                      <a:pt x="60" y="12"/>
                      <a:pt x="53" y="16"/>
                    </a:cubicBezTo>
                    <a:cubicBezTo>
                      <a:pt x="47" y="26"/>
                      <a:pt x="51" y="26"/>
                      <a:pt x="41" y="32"/>
                    </a:cubicBezTo>
                    <a:cubicBezTo>
                      <a:pt x="36" y="46"/>
                      <a:pt x="29" y="54"/>
                      <a:pt x="19" y="60"/>
                    </a:cubicBezTo>
                    <a:cubicBezTo>
                      <a:pt x="16" y="65"/>
                      <a:pt x="18" y="59"/>
                      <a:pt x="17" y="72"/>
                    </a:cubicBezTo>
                    <a:cubicBezTo>
                      <a:pt x="15" y="81"/>
                      <a:pt x="8" y="106"/>
                      <a:pt x="7" y="116"/>
                    </a:cubicBezTo>
                    <a:cubicBezTo>
                      <a:pt x="6" y="126"/>
                      <a:pt x="7" y="123"/>
                      <a:pt x="9" y="134"/>
                    </a:cubicBezTo>
                    <a:cubicBezTo>
                      <a:pt x="11" y="161"/>
                      <a:pt x="0" y="175"/>
                      <a:pt x="21" y="180"/>
                    </a:cubicBezTo>
                    <a:cubicBezTo>
                      <a:pt x="28" y="187"/>
                      <a:pt x="31" y="197"/>
                      <a:pt x="41" y="200"/>
                    </a:cubicBezTo>
                    <a:cubicBezTo>
                      <a:pt x="47" y="206"/>
                      <a:pt x="52" y="208"/>
                      <a:pt x="55" y="216"/>
                    </a:cubicBezTo>
                    <a:cubicBezTo>
                      <a:pt x="57" y="230"/>
                      <a:pt x="55" y="237"/>
                      <a:pt x="69" y="232"/>
                    </a:cubicBezTo>
                    <a:cubicBezTo>
                      <a:pt x="67" y="216"/>
                      <a:pt x="59" y="193"/>
                      <a:pt x="75" y="182"/>
                    </a:cubicBezTo>
                    <a:cubicBezTo>
                      <a:pt x="77" y="172"/>
                      <a:pt x="77" y="183"/>
                      <a:pt x="79" y="172"/>
                    </a:cubicBezTo>
                    <a:cubicBezTo>
                      <a:pt x="81" y="161"/>
                      <a:pt x="83" y="137"/>
                      <a:pt x="85" y="118"/>
                    </a:cubicBezTo>
                    <a:cubicBezTo>
                      <a:pt x="87" y="97"/>
                      <a:pt x="88" y="71"/>
                      <a:pt x="89" y="56"/>
                    </a:cubicBezTo>
                    <a:cubicBezTo>
                      <a:pt x="90" y="41"/>
                      <a:pt x="96" y="36"/>
                      <a:pt x="93" y="28"/>
                    </a:cubicBezTo>
                    <a:cubicBezTo>
                      <a:pt x="91" y="16"/>
                      <a:pt x="86" y="9"/>
                      <a:pt x="73" y="6"/>
                    </a:cubicBezTo>
                    <a:cubicBezTo>
                      <a:pt x="66" y="1"/>
                      <a:pt x="69" y="0"/>
                      <a:pt x="6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2" name="" descr=""/>
              <p:cNvPicPr/>
              <p:nvPr/>
            </p:nvPicPr>
            <p:blipFill>
              <a:blip r:embed="rId12">
                <a:alphaModFix amt="0"/>
              </a:blip>
              <a:stretch/>
            </p:blipFill>
            <p:spPr>
              <a:xfrm>
                <a:off x="7487640" y="4024440"/>
                <a:ext cx="331200" cy="23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3" name=""/>
            <p:cNvSpPr/>
            <p:nvPr/>
          </p:nvSpPr>
          <p:spPr>
            <a:xfrm>
              <a:off x="6694560" y="4321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26200" y="403236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38163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13480" y="338616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2200" y="3168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45120" y="3456000"/>
              <a:ext cx="144720" cy="142920"/>
            </a:xfrm>
            <a:prstGeom prst="ellipse">
              <a:avLst/>
            </a:prstGeom>
            <a:solidFill>
              <a:srgbClr val="0000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07280" y="3313080"/>
              <a:ext cx="144360" cy="142920"/>
            </a:xfrm>
            <a:prstGeom prst="ellipse">
              <a:avLst/>
            </a:prstGeom>
            <a:solidFill>
              <a:srgbClr val="0000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70920" y="3268800"/>
              <a:ext cx="144360" cy="142560"/>
            </a:xfrm>
            <a:prstGeom prst="ellipse">
              <a:avLst/>
            </a:prstGeom>
            <a:solidFill>
              <a:srgbClr val="0000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97840" y="3125880"/>
              <a:ext cx="144360" cy="142920"/>
            </a:xfrm>
            <a:prstGeom prst="ellipse">
              <a:avLst/>
            </a:prstGeom>
            <a:solidFill>
              <a:srgbClr val="0000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40360" y="4060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厦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72360" y="35560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福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15280" y="31957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宁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15280" y="2879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上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12000" y="2738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苏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96000" y="3268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杭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46920" y="2927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沙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88000" y="3484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重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2720" y="223992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辽东半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15280" y="3954600"/>
              <a:ext cx="158436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</a:t>
              </a:r>
              <a:r>
                <a:rPr b="1" i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台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澎湖列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50160" y="4419720"/>
              <a:ext cx="57456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2360" y="4635360"/>
              <a:ext cx="1584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香港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3440" y="41241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广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80360" y="19890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96360" y="4076640"/>
              <a:ext cx="250560" cy="2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2920" y="981000"/>
            <a:ext cx="338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一、战争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87600" y="2951280"/>
            <a:ext cx="1904760" cy="263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3608280"/>
            <a:ext cx="2381400" cy="3276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14680" y="2924280"/>
            <a:ext cx="2857680" cy="2676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2771640" y="932040"/>
            <a:ext cx="3024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9"/>
          </p:cNvPr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8101080" y="249228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7020000" y="2852640"/>
            <a:ext cx="792000" cy="574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776920" y="95400"/>
            <a:ext cx="2898720" cy="2325600"/>
          </a:xfrm>
          <a:custGeom>
            <a:avLst/>
            <a:gdLst/>
            <a:ahLst/>
            <a:rect l="l" t="t" r="r" b="b"/>
            <a:pathLst>
              <a:path w="1826" h="1465">
                <a:moveTo>
                  <a:pt x="148" y="512"/>
                </a:moveTo>
                <a:lnTo>
                  <a:pt x="210" y="486"/>
                </a:lnTo>
                <a:lnTo>
                  <a:pt x="239" y="467"/>
                </a:lnTo>
                <a:lnTo>
                  <a:pt x="284" y="467"/>
                </a:lnTo>
                <a:lnTo>
                  <a:pt x="426" y="498"/>
                </a:lnTo>
                <a:lnTo>
                  <a:pt x="483" y="540"/>
                </a:lnTo>
                <a:lnTo>
                  <a:pt x="534" y="609"/>
                </a:lnTo>
                <a:lnTo>
                  <a:pt x="588" y="660"/>
                </a:lnTo>
                <a:lnTo>
                  <a:pt x="647" y="785"/>
                </a:lnTo>
                <a:lnTo>
                  <a:pt x="822" y="804"/>
                </a:lnTo>
                <a:lnTo>
                  <a:pt x="906" y="894"/>
                </a:lnTo>
                <a:lnTo>
                  <a:pt x="965" y="921"/>
                </a:lnTo>
                <a:lnTo>
                  <a:pt x="1062" y="834"/>
                </a:lnTo>
                <a:lnTo>
                  <a:pt x="1146" y="785"/>
                </a:lnTo>
                <a:lnTo>
                  <a:pt x="1191" y="739"/>
                </a:lnTo>
                <a:lnTo>
                  <a:pt x="1173" y="780"/>
                </a:lnTo>
                <a:lnTo>
                  <a:pt x="1164" y="846"/>
                </a:lnTo>
                <a:lnTo>
                  <a:pt x="1146" y="1147"/>
                </a:lnTo>
                <a:lnTo>
                  <a:pt x="1110" y="1128"/>
                </a:lnTo>
                <a:lnTo>
                  <a:pt x="1055" y="1147"/>
                </a:lnTo>
                <a:lnTo>
                  <a:pt x="1026" y="1209"/>
                </a:lnTo>
                <a:lnTo>
                  <a:pt x="1035" y="1230"/>
                </a:lnTo>
                <a:lnTo>
                  <a:pt x="1056" y="1254"/>
                </a:lnTo>
                <a:lnTo>
                  <a:pt x="1101" y="1374"/>
                </a:lnTo>
                <a:lnTo>
                  <a:pt x="1053" y="1410"/>
                </a:lnTo>
                <a:lnTo>
                  <a:pt x="1050" y="1431"/>
                </a:lnTo>
                <a:lnTo>
                  <a:pt x="1055" y="1465"/>
                </a:lnTo>
                <a:lnTo>
                  <a:pt x="1101" y="1420"/>
                </a:lnTo>
                <a:lnTo>
                  <a:pt x="1116" y="1362"/>
                </a:lnTo>
                <a:lnTo>
                  <a:pt x="1146" y="1329"/>
                </a:lnTo>
                <a:lnTo>
                  <a:pt x="1152" y="1350"/>
                </a:lnTo>
                <a:lnTo>
                  <a:pt x="1237" y="1374"/>
                </a:lnTo>
                <a:lnTo>
                  <a:pt x="1308" y="1317"/>
                </a:lnTo>
                <a:lnTo>
                  <a:pt x="1350" y="1260"/>
                </a:lnTo>
                <a:lnTo>
                  <a:pt x="1373" y="1238"/>
                </a:lnTo>
                <a:lnTo>
                  <a:pt x="1374" y="1167"/>
                </a:lnTo>
                <a:lnTo>
                  <a:pt x="1383" y="1098"/>
                </a:lnTo>
                <a:lnTo>
                  <a:pt x="1407" y="1050"/>
                </a:lnTo>
                <a:lnTo>
                  <a:pt x="1464" y="897"/>
                </a:lnTo>
                <a:lnTo>
                  <a:pt x="1473" y="819"/>
                </a:lnTo>
                <a:lnTo>
                  <a:pt x="1467" y="741"/>
                </a:lnTo>
                <a:lnTo>
                  <a:pt x="1497" y="696"/>
                </a:lnTo>
                <a:lnTo>
                  <a:pt x="1494" y="558"/>
                </a:lnTo>
                <a:lnTo>
                  <a:pt x="1497" y="525"/>
                </a:lnTo>
                <a:lnTo>
                  <a:pt x="1485" y="504"/>
                </a:lnTo>
                <a:lnTo>
                  <a:pt x="1437" y="393"/>
                </a:lnTo>
                <a:lnTo>
                  <a:pt x="1437" y="375"/>
                </a:lnTo>
                <a:lnTo>
                  <a:pt x="1440" y="363"/>
                </a:lnTo>
                <a:lnTo>
                  <a:pt x="1443" y="312"/>
                </a:lnTo>
                <a:lnTo>
                  <a:pt x="1443" y="267"/>
                </a:lnTo>
                <a:lnTo>
                  <a:pt x="1446" y="249"/>
                </a:lnTo>
                <a:lnTo>
                  <a:pt x="1530" y="342"/>
                </a:lnTo>
                <a:lnTo>
                  <a:pt x="1521" y="336"/>
                </a:lnTo>
                <a:lnTo>
                  <a:pt x="1600" y="467"/>
                </a:lnTo>
                <a:lnTo>
                  <a:pt x="1605" y="537"/>
                </a:lnTo>
                <a:lnTo>
                  <a:pt x="1620" y="576"/>
                </a:lnTo>
                <a:lnTo>
                  <a:pt x="1645" y="603"/>
                </a:lnTo>
                <a:lnTo>
                  <a:pt x="1647" y="669"/>
                </a:lnTo>
                <a:lnTo>
                  <a:pt x="1683" y="717"/>
                </a:lnTo>
                <a:lnTo>
                  <a:pt x="1707" y="813"/>
                </a:lnTo>
                <a:lnTo>
                  <a:pt x="1736" y="830"/>
                </a:lnTo>
                <a:lnTo>
                  <a:pt x="1736" y="739"/>
                </a:lnTo>
                <a:lnTo>
                  <a:pt x="1781" y="739"/>
                </a:lnTo>
                <a:lnTo>
                  <a:pt x="1806" y="747"/>
                </a:lnTo>
                <a:lnTo>
                  <a:pt x="1826" y="785"/>
                </a:lnTo>
                <a:lnTo>
                  <a:pt x="1826" y="739"/>
                </a:lnTo>
                <a:lnTo>
                  <a:pt x="1821" y="720"/>
                </a:lnTo>
                <a:lnTo>
                  <a:pt x="1781" y="694"/>
                </a:lnTo>
                <a:lnTo>
                  <a:pt x="1690" y="649"/>
                </a:lnTo>
                <a:lnTo>
                  <a:pt x="1683" y="558"/>
                </a:lnTo>
                <a:lnTo>
                  <a:pt x="1690" y="512"/>
                </a:lnTo>
                <a:lnTo>
                  <a:pt x="1690" y="467"/>
                </a:lnTo>
                <a:lnTo>
                  <a:pt x="1737" y="465"/>
                </a:lnTo>
                <a:lnTo>
                  <a:pt x="1800" y="489"/>
                </a:lnTo>
                <a:lnTo>
                  <a:pt x="1719" y="426"/>
                </a:lnTo>
                <a:lnTo>
                  <a:pt x="1690" y="376"/>
                </a:lnTo>
                <a:lnTo>
                  <a:pt x="1641" y="333"/>
                </a:lnTo>
                <a:lnTo>
                  <a:pt x="1602" y="270"/>
                </a:lnTo>
                <a:lnTo>
                  <a:pt x="1563" y="192"/>
                </a:lnTo>
                <a:lnTo>
                  <a:pt x="1548" y="153"/>
                </a:lnTo>
                <a:lnTo>
                  <a:pt x="1485" y="69"/>
                </a:lnTo>
                <a:lnTo>
                  <a:pt x="1461" y="21"/>
                </a:lnTo>
                <a:lnTo>
                  <a:pt x="1446" y="0"/>
                </a:lnTo>
                <a:lnTo>
                  <a:pt x="1428" y="18"/>
                </a:lnTo>
                <a:lnTo>
                  <a:pt x="1464" y="104"/>
                </a:lnTo>
                <a:lnTo>
                  <a:pt x="1449" y="90"/>
                </a:lnTo>
                <a:lnTo>
                  <a:pt x="1418" y="150"/>
                </a:lnTo>
                <a:lnTo>
                  <a:pt x="1449" y="186"/>
                </a:lnTo>
                <a:lnTo>
                  <a:pt x="1464" y="240"/>
                </a:lnTo>
                <a:lnTo>
                  <a:pt x="1373" y="195"/>
                </a:lnTo>
                <a:lnTo>
                  <a:pt x="1418" y="150"/>
                </a:lnTo>
                <a:lnTo>
                  <a:pt x="1344" y="135"/>
                </a:lnTo>
                <a:lnTo>
                  <a:pt x="1287" y="102"/>
                </a:lnTo>
                <a:lnTo>
                  <a:pt x="1237" y="104"/>
                </a:lnTo>
                <a:lnTo>
                  <a:pt x="1203" y="111"/>
                </a:lnTo>
                <a:lnTo>
                  <a:pt x="1212" y="150"/>
                </a:lnTo>
                <a:lnTo>
                  <a:pt x="1215" y="174"/>
                </a:lnTo>
                <a:lnTo>
                  <a:pt x="1191" y="195"/>
                </a:lnTo>
                <a:lnTo>
                  <a:pt x="1152" y="207"/>
                </a:lnTo>
                <a:lnTo>
                  <a:pt x="1140" y="186"/>
                </a:lnTo>
                <a:lnTo>
                  <a:pt x="1104" y="207"/>
                </a:lnTo>
                <a:lnTo>
                  <a:pt x="1101" y="195"/>
                </a:lnTo>
                <a:lnTo>
                  <a:pt x="1086" y="159"/>
                </a:lnTo>
                <a:lnTo>
                  <a:pt x="1055" y="150"/>
                </a:lnTo>
                <a:lnTo>
                  <a:pt x="1010" y="150"/>
                </a:lnTo>
                <a:lnTo>
                  <a:pt x="864" y="234"/>
                </a:lnTo>
                <a:lnTo>
                  <a:pt x="738" y="286"/>
                </a:lnTo>
                <a:lnTo>
                  <a:pt x="738" y="195"/>
                </a:lnTo>
                <a:lnTo>
                  <a:pt x="693" y="150"/>
                </a:lnTo>
                <a:lnTo>
                  <a:pt x="602" y="150"/>
                </a:lnTo>
                <a:lnTo>
                  <a:pt x="564" y="195"/>
                </a:lnTo>
                <a:lnTo>
                  <a:pt x="528" y="183"/>
                </a:lnTo>
                <a:lnTo>
                  <a:pt x="511" y="195"/>
                </a:lnTo>
                <a:lnTo>
                  <a:pt x="480" y="201"/>
                </a:lnTo>
                <a:lnTo>
                  <a:pt x="444" y="207"/>
                </a:lnTo>
                <a:lnTo>
                  <a:pt x="420" y="240"/>
                </a:lnTo>
                <a:lnTo>
                  <a:pt x="330" y="195"/>
                </a:lnTo>
                <a:lnTo>
                  <a:pt x="285" y="219"/>
                </a:lnTo>
                <a:lnTo>
                  <a:pt x="246" y="234"/>
                </a:lnTo>
                <a:lnTo>
                  <a:pt x="279" y="285"/>
                </a:lnTo>
                <a:lnTo>
                  <a:pt x="239" y="331"/>
                </a:lnTo>
                <a:lnTo>
                  <a:pt x="222" y="351"/>
                </a:lnTo>
                <a:lnTo>
                  <a:pt x="194" y="376"/>
                </a:lnTo>
                <a:lnTo>
                  <a:pt x="165" y="402"/>
                </a:lnTo>
                <a:lnTo>
                  <a:pt x="105" y="429"/>
                </a:lnTo>
                <a:lnTo>
                  <a:pt x="57" y="467"/>
                </a:lnTo>
                <a:lnTo>
                  <a:pt x="30" y="474"/>
                </a:lnTo>
                <a:lnTo>
                  <a:pt x="0" y="534"/>
                </a:lnTo>
                <a:lnTo>
                  <a:pt x="12" y="558"/>
                </a:lnTo>
                <a:lnTo>
                  <a:pt x="103" y="512"/>
                </a:lnTo>
                <a:lnTo>
                  <a:pt x="148" y="512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240" y="1017720"/>
            <a:ext cx="2533320" cy="2300040"/>
          </a:xfrm>
          <a:custGeom>
            <a:avLst/>
            <a:gdLst/>
            <a:ahLst/>
            <a:rect l="l" t="t" r="r" b="b"/>
            <a:pathLst>
              <a:path w="1596" h="1449">
                <a:moveTo>
                  <a:pt x="0" y="1433"/>
                </a:moveTo>
                <a:lnTo>
                  <a:pt x="16" y="1411"/>
                </a:lnTo>
                <a:lnTo>
                  <a:pt x="40" y="1389"/>
                </a:lnTo>
                <a:lnTo>
                  <a:pt x="54" y="1353"/>
                </a:lnTo>
                <a:lnTo>
                  <a:pt x="66" y="1292"/>
                </a:lnTo>
                <a:lnTo>
                  <a:pt x="94" y="1287"/>
                </a:lnTo>
                <a:lnTo>
                  <a:pt x="90" y="1273"/>
                </a:lnTo>
                <a:lnTo>
                  <a:pt x="76" y="1249"/>
                </a:lnTo>
                <a:lnTo>
                  <a:pt x="80" y="1211"/>
                </a:lnTo>
                <a:lnTo>
                  <a:pt x="124" y="1201"/>
                </a:lnTo>
                <a:lnTo>
                  <a:pt x="164" y="1191"/>
                </a:lnTo>
                <a:lnTo>
                  <a:pt x="202" y="1156"/>
                </a:lnTo>
                <a:lnTo>
                  <a:pt x="204" y="1079"/>
                </a:lnTo>
                <a:lnTo>
                  <a:pt x="224" y="1071"/>
                </a:lnTo>
                <a:lnTo>
                  <a:pt x="293" y="1065"/>
                </a:lnTo>
                <a:lnTo>
                  <a:pt x="284" y="1043"/>
                </a:lnTo>
                <a:lnTo>
                  <a:pt x="260" y="1021"/>
                </a:lnTo>
                <a:lnTo>
                  <a:pt x="286" y="991"/>
                </a:lnTo>
                <a:lnTo>
                  <a:pt x="293" y="975"/>
                </a:lnTo>
                <a:lnTo>
                  <a:pt x="308" y="967"/>
                </a:lnTo>
                <a:lnTo>
                  <a:pt x="288" y="939"/>
                </a:lnTo>
                <a:lnTo>
                  <a:pt x="252" y="931"/>
                </a:lnTo>
                <a:lnTo>
                  <a:pt x="208" y="923"/>
                </a:lnTo>
                <a:lnTo>
                  <a:pt x="174" y="913"/>
                </a:lnTo>
                <a:lnTo>
                  <a:pt x="150" y="897"/>
                </a:lnTo>
                <a:lnTo>
                  <a:pt x="104" y="877"/>
                </a:lnTo>
                <a:lnTo>
                  <a:pt x="114" y="845"/>
                </a:lnTo>
                <a:lnTo>
                  <a:pt x="94" y="835"/>
                </a:lnTo>
                <a:lnTo>
                  <a:pt x="82" y="823"/>
                </a:lnTo>
                <a:lnTo>
                  <a:pt x="80" y="817"/>
                </a:lnTo>
                <a:lnTo>
                  <a:pt x="51" y="757"/>
                </a:lnTo>
                <a:lnTo>
                  <a:pt x="51" y="712"/>
                </a:lnTo>
                <a:lnTo>
                  <a:pt x="111" y="657"/>
                </a:lnTo>
                <a:lnTo>
                  <a:pt x="189" y="646"/>
                </a:lnTo>
                <a:lnTo>
                  <a:pt x="293" y="612"/>
                </a:lnTo>
                <a:lnTo>
                  <a:pt x="383" y="566"/>
                </a:lnTo>
                <a:lnTo>
                  <a:pt x="417" y="538"/>
                </a:lnTo>
                <a:lnTo>
                  <a:pt x="429" y="521"/>
                </a:lnTo>
                <a:lnTo>
                  <a:pt x="519" y="502"/>
                </a:lnTo>
                <a:lnTo>
                  <a:pt x="610" y="521"/>
                </a:lnTo>
                <a:lnTo>
                  <a:pt x="746" y="566"/>
                </a:lnTo>
                <a:lnTo>
                  <a:pt x="837" y="566"/>
                </a:lnTo>
                <a:lnTo>
                  <a:pt x="882" y="476"/>
                </a:lnTo>
                <a:lnTo>
                  <a:pt x="973" y="430"/>
                </a:lnTo>
                <a:lnTo>
                  <a:pt x="1064" y="385"/>
                </a:lnTo>
                <a:lnTo>
                  <a:pt x="1098" y="352"/>
                </a:lnTo>
                <a:lnTo>
                  <a:pt x="1128" y="310"/>
                </a:lnTo>
                <a:lnTo>
                  <a:pt x="1154" y="294"/>
                </a:lnTo>
                <a:lnTo>
                  <a:pt x="1176" y="247"/>
                </a:lnTo>
                <a:lnTo>
                  <a:pt x="1154" y="204"/>
                </a:lnTo>
                <a:lnTo>
                  <a:pt x="1154" y="158"/>
                </a:lnTo>
                <a:lnTo>
                  <a:pt x="1291" y="113"/>
                </a:lnTo>
                <a:lnTo>
                  <a:pt x="1368" y="57"/>
                </a:lnTo>
                <a:lnTo>
                  <a:pt x="1391" y="30"/>
                </a:lnTo>
                <a:lnTo>
                  <a:pt x="1427" y="12"/>
                </a:lnTo>
                <a:lnTo>
                  <a:pt x="1427" y="22"/>
                </a:lnTo>
                <a:lnTo>
                  <a:pt x="1452" y="3"/>
                </a:lnTo>
                <a:lnTo>
                  <a:pt x="1467" y="3"/>
                </a:lnTo>
                <a:lnTo>
                  <a:pt x="1498" y="1"/>
                </a:lnTo>
                <a:lnTo>
                  <a:pt x="1506" y="3"/>
                </a:lnTo>
                <a:lnTo>
                  <a:pt x="1511" y="0"/>
                </a:lnTo>
                <a:lnTo>
                  <a:pt x="1530" y="7"/>
                </a:lnTo>
                <a:lnTo>
                  <a:pt x="1557" y="36"/>
                </a:lnTo>
                <a:lnTo>
                  <a:pt x="1596" y="43"/>
                </a:lnTo>
                <a:lnTo>
                  <a:pt x="1569" y="67"/>
                </a:lnTo>
                <a:lnTo>
                  <a:pt x="1533" y="61"/>
                </a:lnTo>
                <a:lnTo>
                  <a:pt x="1518" y="94"/>
                </a:lnTo>
                <a:lnTo>
                  <a:pt x="1491" y="130"/>
                </a:lnTo>
                <a:lnTo>
                  <a:pt x="1484" y="155"/>
                </a:lnTo>
                <a:lnTo>
                  <a:pt x="1506" y="163"/>
                </a:lnTo>
                <a:lnTo>
                  <a:pt x="1517" y="204"/>
                </a:lnTo>
                <a:lnTo>
                  <a:pt x="1546" y="225"/>
                </a:lnTo>
                <a:lnTo>
                  <a:pt x="1552" y="255"/>
                </a:lnTo>
                <a:lnTo>
                  <a:pt x="1524" y="265"/>
                </a:lnTo>
                <a:lnTo>
                  <a:pt x="1548" y="265"/>
                </a:lnTo>
                <a:lnTo>
                  <a:pt x="1542" y="273"/>
                </a:lnTo>
                <a:lnTo>
                  <a:pt x="1530" y="304"/>
                </a:lnTo>
                <a:lnTo>
                  <a:pt x="1524" y="313"/>
                </a:lnTo>
                <a:lnTo>
                  <a:pt x="1512" y="309"/>
                </a:lnTo>
                <a:lnTo>
                  <a:pt x="1506" y="319"/>
                </a:lnTo>
                <a:lnTo>
                  <a:pt x="1488" y="322"/>
                </a:lnTo>
                <a:lnTo>
                  <a:pt x="1468" y="321"/>
                </a:lnTo>
                <a:lnTo>
                  <a:pt x="1470" y="328"/>
                </a:lnTo>
                <a:lnTo>
                  <a:pt x="1436" y="345"/>
                </a:lnTo>
                <a:lnTo>
                  <a:pt x="1427" y="385"/>
                </a:lnTo>
                <a:lnTo>
                  <a:pt x="1381" y="430"/>
                </a:lnTo>
                <a:lnTo>
                  <a:pt x="1364" y="475"/>
                </a:lnTo>
                <a:lnTo>
                  <a:pt x="1336" y="476"/>
                </a:lnTo>
                <a:lnTo>
                  <a:pt x="1314" y="481"/>
                </a:lnTo>
                <a:lnTo>
                  <a:pt x="1312" y="499"/>
                </a:lnTo>
                <a:lnTo>
                  <a:pt x="1291" y="521"/>
                </a:lnTo>
                <a:lnTo>
                  <a:pt x="1274" y="593"/>
                </a:lnTo>
                <a:lnTo>
                  <a:pt x="1258" y="613"/>
                </a:lnTo>
                <a:lnTo>
                  <a:pt x="1245" y="612"/>
                </a:lnTo>
                <a:lnTo>
                  <a:pt x="1204" y="627"/>
                </a:lnTo>
                <a:lnTo>
                  <a:pt x="1154" y="612"/>
                </a:lnTo>
                <a:lnTo>
                  <a:pt x="1114" y="573"/>
                </a:lnTo>
                <a:lnTo>
                  <a:pt x="1092" y="579"/>
                </a:lnTo>
                <a:lnTo>
                  <a:pt x="1078" y="593"/>
                </a:lnTo>
                <a:lnTo>
                  <a:pt x="1074" y="625"/>
                </a:lnTo>
                <a:lnTo>
                  <a:pt x="1046" y="649"/>
                </a:lnTo>
                <a:lnTo>
                  <a:pt x="1048" y="657"/>
                </a:lnTo>
                <a:lnTo>
                  <a:pt x="1040" y="663"/>
                </a:lnTo>
                <a:lnTo>
                  <a:pt x="1032" y="667"/>
                </a:lnTo>
                <a:lnTo>
                  <a:pt x="1016" y="699"/>
                </a:lnTo>
                <a:lnTo>
                  <a:pt x="1026" y="745"/>
                </a:lnTo>
                <a:lnTo>
                  <a:pt x="1016" y="771"/>
                </a:lnTo>
                <a:lnTo>
                  <a:pt x="1006" y="761"/>
                </a:lnTo>
                <a:lnTo>
                  <a:pt x="984" y="753"/>
                </a:lnTo>
                <a:lnTo>
                  <a:pt x="960" y="757"/>
                </a:lnTo>
                <a:lnTo>
                  <a:pt x="916" y="757"/>
                </a:lnTo>
                <a:lnTo>
                  <a:pt x="882" y="748"/>
                </a:lnTo>
                <a:lnTo>
                  <a:pt x="864" y="747"/>
                </a:lnTo>
                <a:lnTo>
                  <a:pt x="837" y="748"/>
                </a:lnTo>
                <a:lnTo>
                  <a:pt x="844" y="777"/>
                </a:lnTo>
                <a:lnTo>
                  <a:pt x="858" y="805"/>
                </a:lnTo>
                <a:lnTo>
                  <a:pt x="860" y="899"/>
                </a:lnTo>
                <a:lnTo>
                  <a:pt x="854" y="923"/>
                </a:lnTo>
                <a:lnTo>
                  <a:pt x="852" y="959"/>
                </a:lnTo>
                <a:lnTo>
                  <a:pt x="828" y="985"/>
                </a:lnTo>
                <a:lnTo>
                  <a:pt x="800" y="1019"/>
                </a:lnTo>
                <a:lnTo>
                  <a:pt x="776" y="1053"/>
                </a:lnTo>
                <a:lnTo>
                  <a:pt x="746" y="1065"/>
                </a:lnTo>
                <a:lnTo>
                  <a:pt x="710" y="1069"/>
                </a:lnTo>
                <a:lnTo>
                  <a:pt x="676" y="1091"/>
                </a:lnTo>
                <a:lnTo>
                  <a:pt x="655" y="1111"/>
                </a:lnTo>
                <a:lnTo>
                  <a:pt x="644" y="1097"/>
                </a:lnTo>
                <a:lnTo>
                  <a:pt x="606" y="1093"/>
                </a:lnTo>
                <a:lnTo>
                  <a:pt x="570" y="1097"/>
                </a:lnTo>
                <a:lnTo>
                  <a:pt x="518" y="1121"/>
                </a:lnTo>
                <a:lnTo>
                  <a:pt x="490" y="1147"/>
                </a:lnTo>
                <a:lnTo>
                  <a:pt x="452" y="1169"/>
                </a:lnTo>
                <a:lnTo>
                  <a:pt x="434" y="1161"/>
                </a:lnTo>
                <a:lnTo>
                  <a:pt x="408" y="1145"/>
                </a:lnTo>
                <a:lnTo>
                  <a:pt x="398" y="1127"/>
                </a:lnTo>
                <a:lnTo>
                  <a:pt x="352" y="1139"/>
                </a:lnTo>
                <a:lnTo>
                  <a:pt x="293" y="1156"/>
                </a:lnTo>
                <a:lnTo>
                  <a:pt x="278" y="1165"/>
                </a:lnTo>
                <a:lnTo>
                  <a:pt x="244" y="1199"/>
                </a:lnTo>
                <a:lnTo>
                  <a:pt x="228" y="1217"/>
                </a:lnTo>
                <a:lnTo>
                  <a:pt x="247" y="1247"/>
                </a:lnTo>
                <a:lnTo>
                  <a:pt x="218" y="1261"/>
                </a:lnTo>
                <a:lnTo>
                  <a:pt x="208" y="1283"/>
                </a:lnTo>
                <a:lnTo>
                  <a:pt x="196" y="1327"/>
                </a:lnTo>
                <a:lnTo>
                  <a:pt x="157" y="1338"/>
                </a:lnTo>
                <a:lnTo>
                  <a:pt x="111" y="1338"/>
                </a:lnTo>
                <a:lnTo>
                  <a:pt x="92" y="1357"/>
                </a:lnTo>
                <a:lnTo>
                  <a:pt x="74" y="1395"/>
                </a:lnTo>
                <a:lnTo>
                  <a:pt x="66" y="1428"/>
                </a:lnTo>
                <a:lnTo>
                  <a:pt x="20" y="1449"/>
                </a:lnTo>
                <a:lnTo>
                  <a:pt x="0" y="1433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7380360" y="449280"/>
            <a:ext cx="647640" cy="531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755640" y="2033640"/>
            <a:ext cx="647640" cy="531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197200" y="3645000"/>
            <a:ext cx="911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日本明治天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5070600"/>
            <a:ext cx="172872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光绪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5084640"/>
            <a:ext cx="172872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慈禧太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6058080"/>
            <a:ext cx="10800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59280" y="6129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084720" y="6075360"/>
            <a:ext cx="503280" cy="306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5580000" y="6286680"/>
            <a:ext cx="4669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348000" y="1844640"/>
            <a:ext cx="5795640" cy="4365360"/>
            <a:chOff x="3348000" y="1844640"/>
            <a:chExt cx="5795640" cy="4365360"/>
          </a:xfrm>
        </p:grpSpPr>
        <p:grpSp>
          <p:nvGrpSpPr>
            <p:cNvPr id="202" name=""/>
            <p:cNvGrpSpPr/>
            <p:nvPr/>
          </p:nvGrpSpPr>
          <p:grpSpPr>
            <a:xfrm>
              <a:off x="3348000" y="1844640"/>
              <a:ext cx="5795640" cy="4365360"/>
              <a:chOff x="3348000" y="1844640"/>
              <a:chExt cx="5795640" cy="4365360"/>
            </a:xfrm>
          </p:grpSpPr>
          <p:pic>
            <p:nvPicPr>
              <p:cNvPr id="203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348000" y="1844640"/>
                <a:ext cx="5795640" cy="436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4440" y="2487240"/>
                <a:ext cx="1916640" cy="12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7009560" y="1926000"/>
                <a:ext cx="1837080" cy="1473120"/>
              </a:xfrm>
              <a:custGeom>
                <a:avLst/>
                <a:gdLst/>
                <a:ahLst/>
                <a:rect l="l" t="t" r="r" b="b"/>
                <a:pathLst>
                  <a:path w="1826" h="1465">
                    <a:moveTo>
                      <a:pt x="148" y="512"/>
                    </a:moveTo>
                    <a:lnTo>
                      <a:pt x="210" y="486"/>
                    </a:lnTo>
                    <a:lnTo>
                      <a:pt x="239" y="467"/>
                    </a:lnTo>
                    <a:lnTo>
                      <a:pt x="284" y="467"/>
                    </a:lnTo>
                    <a:lnTo>
                      <a:pt x="426" y="498"/>
                    </a:lnTo>
                    <a:lnTo>
                      <a:pt x="483" y="540"/>
                    </a:lnTo>
                    <a:lnTo>
                      <a:pt x="534" y="609"/>
                    </a:lnTo>
                    <a:lnTo>
                      <a:pt x="588" y="660"/>
                    </a:lnTo>
                    <a:lnTo>
                      <a:pt x="647" y="785"/>
                    </a:lnTo>
                    <a:lnTo>
                      <a:pt x="822" y="804"/>
                    </a:lnTo>
                    <a:lnTo>
                      <a:pt x="906" y="894"/>
                    </a:lnTo>
                    <a:lnTo>
                      <a:pt x="965" y="921"/>
                    </a:lnTo>
                    <a:lnTo>
                      <a:pt x="1062" y="834"/>
                    </a:lnTo>
                    <a:lnTo>
                      <a:pt x="1146" y="785"/>
                    </a:lnTo>
                    <a:lnTo>
                      <a:pt x="1191" y="739"/>
                    </a:lnTo>
                    <a:lnTo>
                      <a:pt x="1173" y="780"/>
                    </a:lnTo>
                    <a:lnTo>
                      <a:pt x="1164" y="846"/>
                    </a:lnTo>
                    <a:lnTo>
                      <a:pt x="1146" y="1147"/>
                    </a:lnTo>
                    <a:lnTo>
                      <a:pt x="1110" y="1128"/>
                    </a:lnTo>
                    <a:lnTo>
                      <a:pt x="1055" y="1147"/>
                    </a:lnTo>
                    <a:lnTo>
                      <a:pt x="1026" y="1209"/>
                    </a:lnTo>
                    <a:lnTo>
                      <a:pt x="1035" y="1230"/>
                    </a:lnTo>
                    <a:lnTo>
                      <a:pt x="1056" y="1254"/>
                    </a:lnTo>
                    <a:lnTo>
                      <a:pt x="1101" y="1374"/>
                    </a:lnTo>
                    <a:lnTo>
                      <a:pt x="1053" y="1410"/>
                    </a:lnTo>
                    <a:lnTo>
                      <a:pt x="1050" y="1431"/>
                    </a:lnTo>
                    <a:lnTo>
                      <a:pt x="1055" y="1465"/>
                    </a:lnTo>
                    <a:lnTo>
                      <a:pt x="1101" y="1420"/>
                    </a:lnTo>
                    <a:lnTo>
                      <a:pt x="1116" y="1362"/>
                    </a:lnTo>
                    <a:lnTo>
                      <a:pt x="1146" y="1329"/>
                    </a:lnTo>
                    <a:lnTo>
                      <a:pt x="1152" y="1350"/>
                    </a:lnTo>
                    <a:lnTo>
                      <a:pt x="1237" y="1374"/>
                    </a:lnTo>
                    <a:lnTo>
                      <a:pt x="1308" y="1317"/>
                    </a:lnTo>
                    <a:lnTo>
                      <a:pt x="1350" y="1260"/>
                    </a:lnTo>
                    <a:lnTo>
                      <a:pt x="1373" y="1238"/>
                    </a:lnTo>
                    <a:lnTo>
                      <a:pt x="1374" y="1167"/>
                    </a:lnTo>
                    <a:lnTo>
                      <a:pt x="1383" y="1098"/>
                    </a:lnTo>
                    <a:lnTo>
                      <a:pt x="1407" y="1050"/>
                    </a:lnTo>
                    <a:lnTo>
                      <a:pt x="1464" y="897"/>
                    </a:lnTo>
                    <a:lnTo>
                      <a:pt x="1473" y="819"/>
                    </a:lnTo>
                    <a:lnTo>
                      <a:pt x="1467" y="741"/>
                    </a:lnTo>
                    <a:lnTo>
                      <a:pt x="1497" y="696"/>
                    </a:lnTo>
                    <a:lnTo>
                      <a:pt x="1494" y="558"/>
                    </a:lnTo>
                    <a:lnTo>
                      <a:pt x="1497" y="525"/>
                    </a:lnTo>
                    <a:lnTo>
                      <a:pt x="1485" y="504"/>
                    </a:lnTo>
                    <a:lnTo>
                      <a:pt x="1437" y="393"/>
                    </a:lnTo>
                    <a:lnTo>
                      <a:pt x="1437" y="375"/>
                    </a:lnTo>
                    <a:lnTo>
                      <a:pt x="1440" y="363"/>
                    </a:lnTo>
                    <a:lnTo>
                      <a:pt x="1443" y="312"/>
                    </a:lnTo>
                    <a:lnTo>
                      <a:pt x="1443" y="267"/>
                    </a:lnTo>
                    <a:lnTo>
                      <a:pt x="1446" y="249"/>
                    </a:lnTo>
                    <a:lnTo>
                      <a:pt x="1530" y="342"/>
                    </a:lnTo>
                    <a:lnTo>
                      <a:pt x="1521" y="336"/>
                    </a:lnTo>
                    <a:lnTo>
                      <a:pt x="1600" y="467"/>
                    </a:lnTo>
                    <a:lnTo>
                      <a:pt x="1605" y="537"/>
                    </a:lnTo>
                    <a:lnTo>
                      <a:pt x="1620" y="576"/>
                    </a:lnTo>
                    <a:lnTo>
                      <a:pt x="1645" y="603"/>
                    </a:lnTo>
                    <a:lnTo>
                      <a:pt x="1647" y="669"/>
                    </a:lnTo>
                    <a:lnTo>
                      <a:pt x="1683" y="717"/>
                    </a:lnTo>
                    <a:lnTo>
                      <a:pt x="1707" y="813"/>
                    </a:lnTo>
                    <a:lnTo>
                      <a:pt x="1736" y="830"/>
                    </a:lnTo>
                    <a:lnTo>
                      <a:pt x="1736" y="739"/>
                    </a:lnTo>
                    <a:lnTo>
                      <a:pt x="1781" y="739"/>
                    </a:lnTo>
                    <a:lnTo>
                      <a:pt x="1806" y="747"/>
                    </a:lnTo>
                    <a:lnTo>
                      <a:pt x="1826" y="785"/>
                    </a:lnTo>
                    <a:lnTo>
                      <a:pt x="1826" y="739"/>
                    </a:lnTo>
                    <a:lnTo>
                      <a:pt x="1821" y="720"/>
                    </a:lnTo>
                    <a:lnTo>
                      <a:pt x="1781" y="694"/>
                    </a:lnTo>
                    <a:lnTo>
                      <a:pt x="1690" y="649"/>
                    </a:lnTo>
                    <a:lnTo>
                      <a:pt x="1683" y="558"/>
                    </a:lnTo>
                    <a:lnTo>
                      <a:pt x="1690" y="512"/>
                    </a:lnTo>
                    <a:lnTo>
                      <a:pt x="1690" y="467"/>
                    </a:lnTo>
                    <a:lnTo>
                      <a:pt x="1737" y="465"/>
                    </a:lnTo>
                    <a:lnTo>
                      <a:pt x="1800" y="489"/>
                    </a:lnTo>
                    <a:lnTo>
                      <a:pt x="1719" y="426"/>
                    </a:lnTo>
                    <a:lnTo>
                      <a:pt x="1690" y="376"/>
                    </a:lnTo>
                    <a:lnTo>
                      <a:pt x="1641" y="333"/>
                    </a:lnTo>
                    <a:lnTo>
                      <a:pt x="1602" y="270"/>
                    </a:lnTo>
                    <a:lnTo>
                      <a:pt x="1563" y="192"/>
                    </a:lnTo>
                    <a:lnTo>
                      <a:pt x="1548" y="153"/>
                    </a:lnTo>
                    <a:lnTo>
                      <a:pt x="1485" y="69"/>
                    </a:lnTo>
                    <a:lnTo>
                      <a:pt x="1461" y="21"/>
                    </a:lnTo>
                    <a:lnTo>
                      <a:pt x="1446" y="0"/>
                    </a:lnTo>
                    <a:lnTo>
                      <a:pt x="1428" y="18"/>
                    </a:lnTo>
                    <a:lnTo>
                      <a:pt x="1464" y="104"/>
                    </a:lnTo>
                    <a:lnTo>
                      <a:pt x="1449" y="90"/>
                    </a:lnTo>
                    <a:lnTo>
                      <a:pt x="1418" y="150"/>
                    </a:lnTo>
                    <a:lnTo>
                      <a:pt x="1449" y="186"/>
                    </a:lnTo>
                    <a:lnTo>
                      <a:pt x="1464" y="240"/>
                    </a:lnTo>
                    <a:lnTo>
                      <a:pt x="1373" y="195"/>
                    </a:lnTo>
                    <a:lnTo>
                      <a:pt x="1418" y="150"/>
                    </a:lnTo>
                    <a:lnTo>
                      <a:pt x="1344" y="135"/>
                    </a:lnTo>
                    <a:lnTo>
                      <a:pt x="1287" y="102"/>
                    </a:lnTo>
                    <a:lnTo>
                      <a:pt x="1237" y="104"/>
                    </a:lnTo>
                    <a:lnTo>
                      <a:pt x="1203" y="111"/>
                    </a:lnTo>
                    <a:lnTo>
                      <a:pt x="1212" y="150"/>
                    </a:lnTo>
                    <a:lnTo>
                      <a:pt x="1215" y="174"/>
                    </a:lnTo>
                    <a:lnTo>
                      <a:pt x="1191" y="195"/>
                    </a:lnTo>
                    <a:lnTo>
                      <a:pt x="1152" y="207"/>
                    </a:lnTo>
                    <a:lnTo>
                      <a:pt x="1140" y="186"/>
                    </a:lnTo>
                    <a:lnTo>
                      <a:pt x="1104" y="207"/>
                    </a:lnTo>
                    <a:lnTo>
                      <a:pt x="1101" y="195"/>
                    </a:lnTo>
                    <a:lnTo>
                      <a:pt x="1086" y="159"/>
                    </a:lnTo>
                    <a:lnTo>
                      <a:pt x="1055" y="150"/>
                    </a:lnTo>
                    <a:lnTo>
                      <a:pt x="1010" y="150"/>
                    </a:lnTo>
                    <a:lnTo>
                      <a:pt x="864" y="234"/>
                    </a:lnTo>
                    <a:lnTo>
                      <a:pt x="738" y="286"/>
                    </a:lnTo>
                    <a:lnTo>
                      <a:pt x="738" y="195"/>
                    </a:lnTo>
                    <a:lnTo>
                      <a:pt x="693" y="150"/>
                    </a:lnTo>
                    <a:lnTo>
                      <a:pt x="602" y="150"/>
                    </a:lnTo>
                    <a:lnTo>
                      <a:pt x="564" y="195"/>
                    </a:lnTo>
                    <a:lnTo>
                      <a:pt x="528" y="183"/>
                    </a:lnTo>
                    <a:lnTo>
                      <a:pt x="511" y="195"/>
                    </a:lnTo>
                    <a:lnTo>
                      <a:pt x="480" y="201"/>
                    </a:lnTo>
                    <a:lnTo>
                      <a:pt x="444" y="207"/>
                    </a:lnTo>
                    <a:lnTo>
                      <a:pt x="420" y="240"/>
                    </a:lnTo>
                    <a:lnTo>
                      <a:pt x="330" y="195"/>
                    </a:lnTo>
                    <a:lnTo>
                      <a:pt x="285" y="219"/>
                    </a:lnTo>
                    <a:lnTo>
                      <a:pt x="246" y="234"/>
                    </a:lnTo>
                    <a:lnTo>
                      <a:pt x="279" y="285"/>
                    </a:lnTo>
                    <a:lnTo>
                      <a:pt x="239" y="331"/>
                    </a:lnTo>
                    <a:lnTo>
                      <a:pt x="222" y="351"/>
                    </a:lnTo>
                    <a:lnTo>
                      <a:pt x="194" y="376"/>
                    </a:lnTo>
                    <a:lnTo>
                      <a:pt x="165" y="402"/>
                    </a:lnTo>
                    <a:lnTo>
                      <a:pt x="105" y="429"/>
                    </a:lnTo>
                    <a:lnTo>
                      <a:pt x="57" y="467"/>
                    </a:lnTo>
                    <a:lnTo>
                      <a:pt x="30" y="474"/>
                    </a:lnTo>
                    <a:lnTo>
                      <a:pt x="0" y="534"/>
                    </a:lnTo>
                    <a:lnTo>
                      <a:pt x="12" y="558"/>
                    </a:lnTo>
                    <a:lnTo>
                      <a:pt x="103" y="512"/>
                    </a:lnTo>
                    <a:lnTo>
                      <a:pt x="148" y="512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86960" y="2510280"/>
                <a:ext cx="1605600" cy="1456920"/>
              </a:xfrm>
              <a:custGeom>
                <a:avLst/>
                <a:gdLst/>
                <a:ahLst/>
                <a:rect l="l" t="t" r="r" b="b"/>
                <a:pathLst>
                  <a:path w="1596" h="1449">
                    <a:moveTo>
                      <a:pt x="0" y="1433"/>
                    </a:moveTo>
                    <a:lnTo>
                      <a:pt x="16" y="1411"/>
                    </a:lnTo>
                    <a:lnTo>
                      <a:pt x="40" y="1389"/>
                    </a:lnTo>
                    <a:lnTo>
                      <a:pt x="54" y="1353"/>
                    </a:lnTo>
                    <a:lnTo>
                      <a:pt x="66" y="1292"/>
                    </a:lnTo>
                    <a:lnTo>
                      <a:pt x="94" y="1287"/>
                    </a:lnTo>
                    <a:lnTo>
                      <a:pt x="90" y="1273"/>
                    </a:lnTo>
                    <a:lnTo>
                      <a:pt x="76" y="1249"/>
                    </a:lnTo>
                    <a:lnTo>
                      <a:pt x="80" y="1211"/>
                    </a:lnTo>
                    <a:lnTo>
                      <a:pt x="124" y="1201"/>
                    </a:lnTo>
                    <a:lnTo>
                      <a:pt x="164" y="1191"/>
                    </a:lnTo>
                    <a:lnTo>
                      <a:pt x="202" y="1156"/>
                    </a:lnTo>
                    <a:lnTo>
                      <a:pt x="204" y="1079"/>
                    </a:lnTo>
                    <a:lnTo>
                      <a:pt x="224" y="1071"/>
                    </a:lnTo>
                    <a:lnTo>
                      <a:pt x="293" y="1065"/>
                    </a:lnTo>
                    <a:lnTo>
                      <a:pt x="284" y="1043"/>
                    </a:lnTo>
                    <a:lnTo>
                      <a:pt x="260" y="1021"/>
                    </a:lnTo>
                    <a:lnTo>
                      <a:pt x="286" y="991"/>
                    </a:lnTo>
                    <a:lnTo>
                      <a:pt x="293" y="975"/>
                    </a:lnTo>
                    <a:lnTo>
                      <a:pt x="308" y="967"/>
                    </a:lnTo>
                    <a:lnTo>
                      <a:pt x="288" y="939"/>
                    </a:lnTo>
                    <a:lnTo>
                      <a:pt x="252" y="931"/>
                    </a:lnTo>
                    <a:lnTo>
                      <a:pt x="208" y="923"/>
                    </a:lnTo>
                    <a:lnTo>
                      <a:pt x="174" y="913"/>
                    </a:lnTo>
                    <a:lnTo>
                      <a:pt x="150" y="897"/>
                    </a:lnTo>
                    <a:lnTo>
                      <a:pt x="104" y="877"/>
                    </a:lnTo>
                    <a:lnTo>
                      <a:pt x="114" y="845"/>
                    </a:lnTo>
                    <a:lnTo>
                      <a:pt x="94" y="835"/>
                    </a:lnTo>
                    <a:lnTo>
                      <a:pt x="82" y="823"/>
                    </a:lnTo>
                    <a:lnTo>
                      <a:pt x="80" y="817"/>
                    </a:lnTo>
                    <a:lnTo>
                      <a:pt x="51" y="757"/>
                    </a:lnTo>
                    <a:lnTo>
                      <a:pt x="51" y="712"/>
                    </a:lnTo>
                    <a:lnTo>
                      <a:pt x="111" y="657"/>
                    </a:lnTo>
                    <a:lnTo>
                      <a:pt x="189" y="646"/>
                    </a:lnTo>
                    <a:lnTo>
                      <a:pt x="293" y="612"/>
                    </a:lnTo>
                    <a:lnTo>
                      <a:pt x="383" y="566"/>
                    </a:lnTo>
                    <a:lnTo>
                      <a:pt x="417" y="538"/>
                    </a:lnTo>
                    <a:lnTo>
                      <a:pt x="429" y="521"/>
                    </a:lnTo>
                    <a:lnTo>
                      <a:pt x="519" y="502"/>
                    </a:lnTo>
                    <a:lnTo>
                      <a:pt x="610" y="521"/>
                    </a:lnTo>
                    <a:lnTo>
                      <a:pt x="746" y="566"/>
                    </a:lnTo>
                    <a:lnTo>
                      <a:pt x="837" y="566"/>
                    </a:lnTo>
                    <a:lnTo>
                      <a:pt x="882" y="476"/>
                    </a:lnTo>
                    <a:lnTo>
                      <a:pt x="973" y="430"/>
                    </a:lnTo>
                    <a:lnTo>
                      <a:pt x="1064" y="385"/>
                    </a:lnTo>
                    <a:lnTo>
                      <a:pt x="1098" y="352"/>
                    </a:lnTo>
                    <a:lnTo>
                      <a:pt x="1128" y="310"/>
                    </a:lnTo>
                    <a:lnTo>
                      <a:pt x="1154" y="294"/>
                    </a:lnTo>
                    <a:lnTo>
                      <a:pt x="1176" y="247"/>
                    </a:lnTo>
                    <a:lnTo>
                      <a:pt x="1154" y="204"/>
                    </a:lnTo>
                    <a:lnTo>
                      <a:pt x="1154" y="158"/>
                    </a:lnTo>
                    <a:lnTo>
                      <a:pt x="1291" y="113"/>
                    </a:lnTo>
                    <a:lnTo>
                      <a:pt x="1368" y="57"/>
                    </a:lnTo>
                    <a:lnTo>
                      <a:pt x="1391" y="30"/>
                    </a:lnTo>
                    <a:lnTo>
                      <a:pt x="1427" y="12"/>
                    </a:lnTo>
                    <a:lnTo>
                      <a:pt x="1427" y="22"/>
                    </a:lnTo>
                    <a:lnTo>
                      <a:pt x="1452" y="3"/>
                    </a:lnTo>
                    <a:lnTo>
                      <a:pt x="1467" y="3"/>
                    </a:lnTo>
                    <a:lnTo>
                      <a:pt x="1498" y="1"/>
                    </a:lnTo>
                    <a:lnTo>
                      <a:pt x="1506" y="3"/>
                    </a:lnTo>
                    <a:lnTo>
                      <a:pt x="1511" y="0"/>
                    </a:lnTo>
                    <a:lnTo>
                      <a:pt x="1530" y="7"/>
                    </a:lnTo>
                    <a:lnTo>
                      <a:pt x="1557" y="36"/>
                    </a:lnTo>
                    <a:lnTo>
                      <a:pt x="1596" y="43"/>
                    </a:lnTo>
                    <a:lnTo>
                      <a:pt x="1569" y="67"/>
                    </a:lnTo>
                    <a:lnTo>
                      <a:pt x="1533" y="61"/>
                    </a:lnTo>
                    <a:lnTo>
                      <a:pt x="1518" y="94"/>
                    </a:lnTo>
                    <a:lnTo>
                      <a:pt x="1491" y="130"/>
                    </a:lnTo>
                    <a:lnTo>
                      <a:pt x="1484" y="155"/>
                    </a:lnTo>
                    <a:lnTo>
                      <a:pt x="1506" y="163"/>
                    </a:lnTo>
                    <a:lnTo>
                      <a:pt x="1517" y="204"/>
                    </a:lnTo>
                    <a:lnTo>
                      <a:pt x="1546" y="225"/>
                    </a:lnTo>
                    <a:lnTo>
                      <a:pt x="1552" y="255"/>
                    </a:lnTo>
                    <a:lnTo>
                      <a:pt x="1524" y="265"/>
                    </a:lnTo>
                    <a:lnTo>
                      <a:pt x="1548" y="265"/>
                    </a:lnTo>
                    <a:lnTo>
                      <a:pt x="1542" y="273"/>
                    </a:lnTo>
                    <a:lnTo>
                      <a:pt x="1530" y="304"/>
                    </a:lnTo>
                    <a:lnTo>
                      <a:pt x="1524" y="313"/>
                    </a:lnTo>
                    <a:lnTo>
                      <a:pt x="1512" y="309"/>
                    </a:lnTo>
                    <a:lnTo>
                      <a:pt x="1506" y="319"/>
                    </a:lnTo>
                    <a:lnTo>
                      <a:pt x="1488" y="322"/>
                    </a:lnTo>
                    <a:lnTo>
                      <a:pt x="1468" y="321"/>
                    </a:lnTo>
                    <a:lnTo>
                      <a:pt x="1470" y="328"/>
                    </a:lnTo>
                    <a:lnTo>
                      <a:pt x="1436" y="345"/>
                    </a:lnTo>
                    <a:lnTo>
                      <a:pt x="1427" y="385"/>
                    </a:lnTo>
                    <a:lnTo>
                      <a:pt x="1381" y="430"/>
                    </a:lnTo>
                    <a:lnTo>
                      <a:pt x="1364" y="475"/>
                    </a:lnTo>
                    <a:lnTo>
                      <a:pt x="1336" y="476"/>
                    </a:lnTo>
                    <a:lnTo>
                      <a:pt x="1314" y="481"/>
                    </a:lnTo>
                    <a:lnTo>
                      <a:pt x="1312" y="499"/>
                    </a:lnTo>
                    <a:lnTo>
                      <a:pt x="1291" y="521"/>
                    </a:lnTo>
                    <a:lnTo>
                      <a:pt x="1274" y="593"/>
                    </a:lnTo>
                    <a:lnTo>
                      <a:pt x="1258" y="613"/>
                    </a:lnTo>
                    <a:lnTo>
                      <a:pt x="1245" y="612"/>
                    </a:lnTo>
                    <a:lnTo>
                      <a:pt x="1204" y="627"/>
                    </a:lnTo>
                    <a:lnTo>
                      <a:pt x="1154" y="612"/>
                    </a:lnTo>
                    <a:lnTo>
                      <a:pt x="1114" y="573"/>
                    </a:lnTo>
                    <a:lnTo>
                      <a:pt x="1092" y="579"/>
                    </a:lnTo>
                    <a:lnTo>
                      <a:pt x="1078" y="593"/>
                    </a:lnTo>
                    <a:lnTo>
                      <a:pt x="1074" y="625"/>
                    </a:lnTo>
                    <a:lnTo>
                      <a:pt x="1046" y="649"/>
                    </a:lnTo>
                    <a:lnTo>
                      <a:pt x="1048" y="657"/>
                    </a:lnTo>
                    <a:lnTo>
                      <a:pt x="1040" y="663"/>
                    </a:lnTo>
                    <a:lnTo>
                      <a:pt x="1032" y="667"/>
                    </a:lnTo>
                    <a:lnTo>
                      <a:pt x="1016" y="699"/>
                    </a:lnTo>
                    <a:lnTo>
                      <a:pt x="1026" y="745"/>
                    </a:lnTo>
                    <a:lnTo>
                      <a:pt x="1016" y="771"/>
                    </a:lnTo>
                    <a:lnTo>
                      <a:pt x="1006" y="761"/>
                    </a:lnTo>
                    <a:lnTo>
                      <a:pt x="984" y="753"/>
                    </a:lnTo>
                    <a:lnTo>
                      <a:pt x="960" y="757"/>
                    </a:lnTo>
                    <a:lnTo>
                      <a:pt x="916" y="757"/>
                    </a:lnTo>
                    <a:lnTo>
                      <a:pt x="882" y="748"/>
                    </a:lnTo>
                    <a:lnTo>
                      <a:pt x="864" y="747"/>
                    </a:lnTo>
                    <a:lnTo>
                      <a:pt x="837" y="748"/>
                    </a:lnTo>
                    <a:lnTo>
                      <a:pt x="844" y="777"/>
                    </a:lnTo>
                    <a:lnTo>
                      <a:pt x="858" y="805"/>
                    </a:lnTo>
                    <a:lnTo>
                      <a:pt x="860" y="899"/>
                    </a:lnTo>
                    <a:lnTo>
                      <a:pt x="854" y="923"/>
                    </a:lnTo>
                    <a:lnTo>
                      <a:pt x="852" y="959"/>
                    </a:lnTo>
                    <a:lnTo>
                      <a:pt x="828" y="985"/>
                    </a:lnTo>
                    <a:lnTo>
                      <a:pt x="800" y="1019"/>
                    </a:lnTo>
                    <a:lnTo>
                      <a:pt x="776" y="1053"/>
                    </a:lnTo>
                    <a:lnTo>
                      <a:pt x="746" y="1065"/>
                    </a:lnTo>
                    <a:lnTo>
                      <a:pt x="710" y="1069"/>
                    </a:lnTo>
                    <a:lnTo>
                      <a:pt x="676" y="1091"/>
                    </a:lnTo>
                    <a:lnTo>
                      <a:pt x="655" y="1111"/>
                    </a:lnTo>
                    <a:lnTo>
                      <a:pt x="644" y="1097"/>
                    </a:lnTo>
                    <a:lnTo>
                      <a:pt x="606" y="1093"/>
                    </a:lnTo>
                    <a:lnTo>
                      <a:pt x="570" y="1097"/>
                    </a:lnTo>
                    <a:lnTo>
                      <a:pt x="518" y="1121"/>
                    </a:lnTo>
                    <a:lnTo>
                      <a:pt x="490" y="1147"/>
                    </a:lnTo>
                    <a:lnTo>
                      <a:pt x="452" y="1169"/>
                    </a:lnTo>
                    <a:lnTo>
                      <a:pt x="434" y="1161"/>
                    </a:lnTo>
                    <a:lnTo>
                      <a:pt x="408" y="1145"/>
                    </a:lnTo>
                    <a:lnTo>
                      <a:pt x="398" y="1127"/>
                    </a:lnTo>
                    <a:lnTo>
                      <a:pt x="352" y="1139"/>
                    </a:lnTo>
                    <a:lnTo>
                      <a:pt x="293" y="1156"/>
                    </a:lnTo>
                    <a:lnTo>
                      <a:pt x="278" y="1165"/>
                    </a:lnTo>
                    <a:lnTo>
                      <a:pt x="244" y="1199"/>
                    </a:lnTo>
                    <a:lnTo>
                      <a:pt x="228" y="1217"/>
                    </a:lnTo>
                    <a:lnTo>
                      <a:pt x="247" y="1247"/>
                    </a:lnTo>
                    <a:lnTo>
                      <a:pt x="218" y="1261"/>
                    </a:lnTo>
                    <a:lnTo>
                      <a:pt x="208" y="1283"/>
                    </a:lnTo>
                    <a:lnTo>
                      <a:pt x="196" y="1327"/>
                    </a:lnTo>
                    <a:lnTo>
                      <a:pt x="157" y="1338"/>
                    </a:lnTo>
                    <a:lnTo>
                      <a:pt x="111" y="1338"/>
                    </a:lnTo>
                    <a:lnTo>
                      <a:pt x="92" y="1357"/>
                    </a:lnTo>
                    <a:lnTo>
                      <a:pt x="74" y="1395"/>
                    </a:lnTo>
                    <a:lnTo>
                      <a:pt x="66" y="1428"/>
                    </a:lnTo>
                    <a:lnTo>
                      <a:pt x="20" y="1449"/>
                    </a:lnTo>
                    <a:lnTo>
                      <a:pt x="0" y="1433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5840" y="2150280"/>
                <a:ext cx="41040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26800" y="3153960"/>
                <a:ext cx="410400" cy="33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7112880" y="5703120"/>
                <a:ext cx="6840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98400" y="5748480"/>
                <a:ext cx="68400" cy="68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7204680" y="5714280"/>
                <a:ext cx="318960" cy="19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84640" y="5848200"/>
                <a:ext cx="295920" cy="19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3" name="" descr=""/>
            <p:cNvPicPr/>
            <p:nvPr/>
          </p:nvPicPr>
          <p:blipFill>
            <a:blip r:embed="rId9"/>
            <a:stretch/>
          </p:blipFill>
          <p:spPr>
            <a:xfrm>
              <a:off x="7813440" y="3716280"/>
              <a:ext cx="3589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>
              <a:hlinkClick r:id="rId10"/>
            </p:cNvPr>
            <p:cNvPicPr/>
            <p:nvPr/>
          </p:nvPicPr>
          <p:blipFill>
            <a:blip r:embed="rId11">
              <a:alphaModFix amt="0"/>
            </a:blip>
            <a:stretch/>
          </p:blipFill>
          <p:spPr>
            <a:xfrm>
              <a:off x="8675640" y="3573360"/>
              <a:ext cx="468000" cy="3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042920" y="981000"/>
            <a:ext cx="338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一、战争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133720"/>
            <a:ext cx="30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本迅速崛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外侵略扩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预备征朝侵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妄图称霸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812000" y="3645000"/>
            <a:ext cx="503280" cy="50328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7236000" y="2997360"/>
            <a:ext cx="504720" cy="5047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84720" y="4149720"/>
            <a:ext cx="1368720" cy="72072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12000" y="4653000"/>
            <a:ext cx="432000" cy="6462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0000" y="907920"/>
            <a:ext cx="338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二、战争的经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181080" y="-14400"/>
            <a:ext cx="9577440" cy="6927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946920" y="2997360"/>
            <a:ext cx="649440" cy="4316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-108360" y="2708280"/>
            <a:ext cx="1007640" cy="649080"/>
            <a:chOff x="-108360" y="2708280"/>
            <a:chExt cx="1007640" cy="64908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 flipH="1">
              <a:off x="-108360" y="2923920"/>
              <a:ext cx="10076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67040" y="2708280"/>
              <a:ext cx="4593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6513840" y="6197760"/>
            <a:ext cx="940320" cy="621000"/>
            <a:chOff x="6513840" y="6197760"/>
            <a:chExt cx="940320" cy="621000"/>
          </a:xfrm>
        </p:grpSpPr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6797160" y="6197760"/>
              <a:ext cx="4680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 flipH="1" rot="42600">
              <a:off x="6516360" y="6350400"/>
              <a:ext cx="934560" cy="46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4714920" y="2421000"/>
            <a:ext cx="1080720" cy="646560"/>
            <a:chOff x="4714920" y="2421000"/>
            <a:chExt cx="1080720" cy="646560"/>
          </a:xfrm>
        </p:grpSpPr>
        <p:pic>
          <p:nvPicPr>
            <p:cNvPr id="231" name="" descr=""/>
            <p:cNvPicPr/>
            <p:nvPr/>
          </p:nvPicPr>
          <p:blipFill>
            <a:blip r:embed="rId7"/>
            <a:stretch/>
          </p:blipFill>
          <p:spPr>
            <a:xfrm flipH="1">
              <a:off x="4714920" y="2635200"/>
              <a:ext cx="10807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5010120" y="2421000"/>
              <a:ext cx="492480" cy="3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5721480" y="2494080"/>
            <a:ext cx="1013400" cy="580320"/>
            <a:chOff x="5721480" y="2494080"/>
            <a:chExt cx="1013400" cy="580320"/>
          </a:xfrm>
        </p:grpSpPr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6027120" y="2494080"/>
              <a:ext cx="50508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 flipH="1" rot="43200">
              <a:off x="5724000" y="2636280"/>
              <a:ext cx="100800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5435640" y="1484280"/>
            <a:ext cx="718920" cy="477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020000" y="4941720"/>
            <a:ext cx="576360" cy="6480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0000" y="2852640"/>
            <a:ext cx="57636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6948360" y="2997360"/>
            <a:ext cx="648000" cy="455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075280" y="3213000"/>
            <a:ext cx="1657440" cy="505080"/>
          </a:xfrm>
          <a:prstGeom prst="wedgeRectCallout">
            <a:avLst>
              <a:gd name="adj1" fmla="val -5939"/>
              <a:gd name="adj2" fmla="val -9433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黄海海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2637000"/>
            <a:ext cx="57600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720" y="4437000"/>
            <a:ext cx="1657080" cy="504720"/>
          </a:xfrm>
          <a:prstGeom prst="wedgeRectCallout">
            <a:avLst>
              <a:gd name="adj1" fmla="val -9768"/>
              <a:gd name="adj2" fmla="val 9433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丰岛海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3924360" y="2664000"/>
            <a:ext cx="718920" cy="47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3203640" y="3068640"/>
            <a:ext cx="718920" cy="477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5"/>
          <a:stretch/>
        </p:blipFill>
        <p:spPr>
          <a:xfrm>
            <a:off x="3995640" y="5157720"/>
            <a:ext cx="719280" cy="478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3014640" y="2133720"/>
            <a:ext cx="6129360" cy="4437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7"/>
          <a:stretch/>
        </p:blipFill>
        <p:spPr>
          <a:xfrm>
            <a:off x="1403280" y="692280"/>
            <a:ext cx="7740720" cy="5817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8"/>
          <a:stretch/>
        </p:blipFill>
        <p:spPr>
          <a:xfrm>
            <a:off x="-181080" y="-27000"/>
            <a:ext cx="2521080" cy="16812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-1116000" y="44280"/>
            <a:ext cx="11233080" cy="7510320"/>
            <a:chOff x="-1116000" y="44280"/>
            <a:chExt cx="11233080" cy="7510320"/>
          </a:xfrm>
        </p:grpSpPr>
        <p:pic>
          <p:nvPicPr>
            <p:cNvPr id="250" name="" descr=""/>
            <p:cNvPicPr/>
            <p:nvPr/>
          </p:nvPicPr>
          <p:blipFill>
            <a:blip r:embed="rId19"/>
            <a:stretch/>
          </p:blipFill>
          <p:spPr>
            <a:xfrm>
              <a:off x="-71640" y="736560"/>
              <a:ext cx="2527560" cy="36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0"/>
            <a:stretch/>
          </p:blipFill>
          <p:spPr>
            <a:xfrm>
              <a:off x="2413080" y="44280"/>
              <a:ext cx="6659280" cy="47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276720" y="5032080"/>
              <a:ext cx="18000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“</a:t>
              </a: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致远”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1"/>
            <a:stretch/>
          </p:blipFill>
          <p:spPr>
            <a:xfrm>
              <a:off x="-1116000" y="3473280"/>
              <a:ext cx="11233080" cy="40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68360" y="4049640"/>
              <a:ext cx="1368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黑体"/>
                </a:rPr>
                <a:t>邓世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343 C 0.00711 0.00857 0.00659 0.00394 0.00642 -0.00139 C 0.00625 -0.00671 0.00555 -0.0118 0.00642 -0.01805 C 0.00729 -0.0243 0.01059 -0.03171 0.01197 -0.03842 C 0.01336 -0.04514 0.01354 -0.05231 0.01475 -0.0588 C 0.01597 -0.06528 0.01666 -0.06991 0.01892 -0.07731 C 0.02118 -0.08472 0.02604 -0.09676 0.02864 -0.10324 C 0.03125 -0.10972 0.03142 -0.11273 0.0342 -0.1162 C 0.03697 -0.11967 0.04305 -0.1206 0.04531 -0.12361 C 0.04756 -0.12662 0.04652 -0.13125 0.04809 -0.13472 C 0.04965 -0.13819 0.05277 -0.13866 0.05503 -0.14398 C 0.05729 -0.1493 0.05902 -0.16042 0.06197 -0.1662 C 0.06493 -0.17199 0.07013 -0.1743 0.07309 -0.17917 C 0.07604 -0.18403 0.07881 -0.1912 0.08003 -0.19583 C 0.08125 -0.20046 0.08281 -0.20694 0.08003 -0.20694 C 0.07725 -0.20694 0.06614 -0.19838 0.06336 -0.19583 E">
                                      <p:cBhvr>
                                        <p:cTn id="101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597 C 0.00243 0.02477 0.01302 0.03357 0.025 0.0419 C 0.03681 0.05046 0.04983 0.05787 0.06302 0.0662 C 0.07604 0.07477 0.05417 0.06227 0.1033 0.09236 C 0.15278 0.12245 0.30399 0.21921 0.35799 0.24745 C 0.41233 0.2757 0.40903 0.25787 0.42917 0.26227 C 0.44948 0.26667 0.46458 0.26968 0.47865 0.27361 C 0.49219 0.27755 0.50052 0.28287 0.51406 0.28658 C 0.5276 0.29028 0.53958 0.29097 0.55972 0.29583 C 0.57951 0.30093 0.61493 0.31158 0.63438 0.31644 C 0.65417 0.3213 0.66788 0.32593 0.6776 0.32593 C 0.68733 0.32593 0.69045 0.31806 0.69306 0.31644 E">
                                      <p:cBhvr>
                                        <p:cTn id="105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181080" y="-14400"/>
            <a:ext cx="9577440" cy="6927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946920" y="2997360"/>
            <a:ext cx="649440" cy="4316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5721480" y="2494080"/>
            <a:ext cx="1013400" cy="580320"/>
            <a:chOff x="5721480" y="2494080"/>
            <a:chExt cx="1013400" cy="58032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6027120" y="2494080"/>
              <a:ext cx="50508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 flipH="1" rot="43200">
              <a:off x="5724000" y="2636280"/>
              <a:ext cx="100800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435640" y="1484280"/>
            <a:ext cx="718920" cy="477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020000" y="4941720"/>
            <a:ext cx="576360" cy="6480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1413000"/>
            <a:ext cx="57600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5435640" y="1484280"/>
            <a:ext cx="720720" cy="506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6948360" y="2997360"/>
            <a:ext cx="648000" cy="45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075280" y="3213000"/>
            <a:ext cx="1657440" cy="505080"/>
          </a:xfrm>
          <a:prstGeom prst="wedgeRectCallout">
            <a:avLst>
              <a:gd name="adj1" fmla="val -5939"/>
              <a:gd name="adj2" fmla="val -9433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黄海海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2637000"/>
            <a:ext cx="57600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4437000"/>
            <a:ext cx="1657080" cy="504720"/>
          </a:xfrm>
          <a:prstGeom prst="wedgeRectCallout">
            <a:avLst>
              <a:gd name="adj1" fmla="val -9768"/>
              <a:gd name="adj2" fmla="val 9433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丰岛海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924360" y="2664000"/>
            <a:ext cx="718920" cy="477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203640" y="3068640"/>
            <a:ext cx="718920" cy="477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4068720" y="5256360"/>
            <a:ext cx="719280" cy="477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924360" y="2565360"/>
            <a:ext cx="57636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925720"/>
            <a:ext cx="57600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6560" y="1771560"/>
            <a:ext cx="1657080" cy="505080"/>
          </a:xfrm>
          <a:prstGeom prst="wedgeRectCallout">
            <a:avLst>
              <a:gd name="adj1" fmla="val -21263"/>
              <a:gd name="adj2" fmla="val 4654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辽东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924360" y="2637000"/>
            <a:ext cx="720720" cy="50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/>
          <a:stretch/>
        </p:blipFill>
        <p:spPr>
          <a:xfrm>
            <a:off x="3203640" y="3068640"/>
            <a:ext cx="720720" cy="5065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40360" y="5157720"/>
            <a:ext cx="576000" cy="64764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5661000"/>
            <a:ext cx="2232000" cy="504720"/>
          </a:xfrm>
          <a:prstGeom prst="wedgeRectCallout">
            <a:avLst>
              <a:gd name="adj1" fmla="val -33782"/>
              <a:gd name="adj2" fmla="val -13207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威海卫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780000" y="4221000"/>
            <a:ext cx="2304720" cy="1081080"/>
            <a:chOff x="3780000" y="4221000"/>
            <a:chExt cx="2304720" cy="1081080"/>
          </a:xfrm>
        </p:grpSpPr>
        <p:pic>
          <p:nvPicPr>
            <p:cNvPr id="279" name="" descr=""/>
            <p:cNvPicPr/>
            <p:nvPr/>
          </p:nvPicPr>
          <p:blipFill>
            <a:blip r:embed="rId13"/>
            <a:stretch/>
          </p:blipFill>
          <p:spPr>
            <a:xfrm flipH="1">
              <a:off x="3780000" y="4435200"/>
              <a:ext cx="2304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138560" y="4221000"/>
              <a:ext cx="18712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北洋舰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3922560" y="4221000"/>
              <a:ext cx="720360" cy="49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4067280" y="5229360"/>
            <a:ext cx="720720" cy="5061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1949400" y="115920"/>
            <a:ext cx="7448400" cy="6238440"/>
            <a:chOff x="1949400" y="115920"/>
            <a:chExt cx="7448400" cy="6238440"/>
          </a:xfrm>
        </p:grpSpPr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2411280" y="115920"/>
              <a:ext cx="6986520" cy="62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949400" y="848160"/>
              <a:ext cx="1642680" cy="46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 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旅顺大屠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7"/>
          <a:stretch/>
        </p:blipFill>
        <p:spPr>
          <a:xfrm>
            <a:off x="-181080" y="-27000"/>
            <a:ext cx="2521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92720" y="3529080"/>
            <a:ext cx="2987640" cy="1123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907920"/>
            <a:ext cx="338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二、战争的经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0" y="22017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朝鲜丰岛，日本不宣而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0" y="32097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黄海大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致远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管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邓世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壮烈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0" y="4581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辽东战役，日军制造旅顺大屠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60" y="565776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威海卫战役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北洋舰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军覆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093080" y="4494240"/>
            <a:ext cx="15112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致远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2637000"/>
            <a:ext cx="15112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邓世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708360" y="2627280"/>
            <a:ext cx="4824360" cy="3083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00000" y="907920"/>
            <a:ext cx="338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三、战争的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9079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中日《马关条约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700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时间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602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割让辽东半岛、台湾、澎湖列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41497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赔银二亿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72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华设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51577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增开口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6093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大加深了中国的半殖民化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8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64000" y="1773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89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日本马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558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重庆、沙市、苏州、杭州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2205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签署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218916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国：李鸿章；日本：伊藤博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7:39:13Z</dcterms:created>
  <dc:creator>魏伟</dc:creator>
  <dc:description/>
  <dc:language>en-US</dc:language>
  <cp:lastModifiedBy>zhujf</cp:lastModifiedBy>
  <dcterms:modified xsi:type="dcterms:W3CDTF">2008-08-10T13:52:43Z</dcterms:modified>
  <cp:revision>17</cp:revision>
  <dc:subject/>
  <dc:title>甲午战争</dc:title>
</cp:coreProperties>
</file>