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8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9.jpeg" ContentType="image/jpe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E1D-35F7-42BC-8253-10079F27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312-4E11-42C0-84BE-F73C512C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220-2454-4B64-92D7-3BF708CC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9F1-E0ED-4D82-B88D-1E222AF1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83B-C081-483D-9264-E3A3C02E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1F3-DD27-4294-9B10-3BD59E49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1D2-74E5-4C82-95D7-DF41C603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BE5-42E1-4F5C-8213-28E7860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6B8-A9CA-46AD-8E93-F414514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040-45F7-437D-B2F9-BFB10C7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21F-D661-4012-9BDE-6D5AC53E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C8B-47A7-46AE-8894-4C1C35A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423B-12D7-4347-8051-69F8CF04DF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1763640" y="321300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宋体"/>
              </a:rPr>
              <a:t>吉林省第二实验学校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64000" y="43657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李向阳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5424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692360" y="595008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芭蕾舞剧《红色娘子军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5400000">
            <a:off x="5794920" y="2782080"/>
            <a:ext cx="37706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戏剧《红灯记》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pic>
        <p:nvPicPr>
          <p:cNvPr id="83" name="56147410001" descr=""/>
          <p:cNvPicPr/>
          <p:nvPr/>
        </p:nvPicPr>
        <p:blipFill>
          <a:blip r:embed="rId1"/>
          <a:stretch/>
        </p:blipFill>
        <p:spPr>
          <a:xfrm>
            <a:off x="1143000" y="0"/>
            <a:ext cx="55609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7058160" cy="6191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5400000">
            <a:off x="5879880" y="2839680"/>
            <a:ext cx="4249800" cy="385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小提琴曲《梁祝》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90a" descr="海尔兄弟-雷火炼狱                             "/>
          <p:cNvPicPr/>
          <p:nvPr/>
        </p:nvPicPr>
        <p:blipFill>
          <a:blip r:embed="rId1"/>
          <a:stretch/>
        </p:blipFill>
        <p:spPr>
          <a:xfrm>
            <a:off x="176364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u=2589215935,2624126351&amp;gp=1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2944800"/>
          </a:xfrm>
          <a:prstGeom prst="rect">
            <a:avLst/>
          </a:prstGeom>
          <a:ln w="0">
            <a:noFill/>
          </a:ln>
        </p:spPr>
      </p:pic>
      <p:pic>
        <p:nvPicPr>
          <p:cNvPr id="89" name="2005819161159103" descr=""/>
          <p:cNvPicPr/>
          <p:nvPr/>
        </p:nvPicPr>
        <p:blipFill>
          <a:blip r:embed="rId2"/>
          <a:stretch/>
        </p:blipFill>
        <p:spPr>
          <a:xfrm>
            <a:off x="0" y="2924280"/>
            <a:ext cx="3635280" cy="3933720"/>
          </a:xfrm>
          <a:prstGeom prst="rect">
            <a:avLst/>
          </a:prstGeom>
          <a:ln w="0">
            <a:noFill/>
          </a:ln>
        </p:spPr>
      </p:pic>
      <p:pic>
        <p:nvPicPr>
          <p:cNvPr id="90" name="56723" descr=""/>
          <p:cNvPicPr/>
          <p:nvPr/>
        </p:nvPicPr>
        <p:blipFill>
          <a:blip r:embed="rId3"/>
          <a:stretch/>
        </p:blipFill>
        <p:spPr>
          <a:xfrm>
            <a:off x="3059280" y="4076640"/>
            <a:ext cx="608472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-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20050924193050358" descr=""/>
          <p:cNvPicPr/>
          <p:nvPr/>
        </p:nvPicPr>
        <p:blipFill>
          <a:blip r:embed="rId4"/>
          <a:stretch/>
        </p:blipFill>
        <p:spPr>
          <a:xfrm>
            <a:off x="5940360" y="0"/>
            <a:ext cx="3203640" cy="400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809880" y="2971800"/>
            <a:ext cx="165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电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620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林则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4508640"/>
            <a:ext cx="4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红高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068720" cy="558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094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8101080" y="6093000"/>
            <a:ext cx="43020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综艺繁体"/>
              </a:rPr>
              <a:t>返回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综艺繁体"/>
              <a:ea typeface="方正综艺繁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193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85080" cy="5972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5400000">
            <a:off x="-1332000" y="306864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《郑凤荣纵身一跃》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 rot="5400000">
            <a:off x="5794560" y="2853360"/>
            <a:ext cx="4681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容国团载誉归来》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4" name="50-4" descr=""/>
          <p:cNvPicPr/>
          <p:nvPr/>
        </p:nvPicPr>
        <p:blipFill>
          <a:blip r:embed="rId1"/>
          <a:stretch/>
        </p:blipFill>
        <p:spPr>
          <a:xfrm>
            <a:off x="900000" y="0"/>
            <a:ext cx="609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2005525152218" descr=""/>
          <p:cNvPicPr/>
          <p:nvPr/>
        </p:nvPicPr>
        <p:blipFill>
          <a:blip r:embed="rId1"/>
          <a:stretch/>
        </p:blipFill>
        <p:spPr>
          <a:xfrm>
            <a:off x="0" y="0"/>
            <a:ext cx="42721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495680" y="5181480"/>
            <a:ext cx="432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五星红旗插在了地球之巅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7" name="20030526001024" descr=""/>
          <p:cNvPicPr/>
          <p:nvPr/>
        </p:nvPicPr>
        <p:blipFill>
          <a:blip r:embed="rId4"/>
          <a:stretch/>
        </p:blipFill>
        <p:spPr>
          <a:xfrm>
            <a:off x="4284720" y="0"/>
            <a:ext cx="4859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6095880" y="6172200"/>
            <a:ext cx="27432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——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珠穆朗玛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 rot="5400000">
            <a:off x="-546120" y="2714400"/>
            <a:ext cx="3745080" cy="85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许海峰夺冠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0" name="12519590_2005072723214579023100" descr=""/>
          <p:cNvPicPr/>
          <p:nvPr/>
        </p:nvPicPr>
        <p:blipFill>
          <a:blip r:embed="rId1"/>
          <a:stretch/>
        </p:blipFill>
        <p:spPr>
          <a:xfrm>
            <a:off x="26668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5400000">
            <a:off x="6279840" y="3168360"/>
            <a:ext cx="4203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奥运金牌零的突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0621112721627" descr=""/>
          <p:cNvPicPr/>
          <p:nvPr/>
        </p:nvPicPr>
        <p:blipFill>
          <a:blip r:embed="rId1"/>
          <a:srcRect l="0" t="0" r="54821" b="0"/>
          <a:stretch/>
        </p:blipFill>
        <p:spPr>
          <a:xfrm>
            <a:off x="0" y="0"/>
            <a:ext cx="6048360" cy="3571920"/>
          </a:xfrm>
          <a:prstGeom prst="rect">
            <a:avLst/>
          </a:prstGeom>
          <a:ln w="0">
            <a:noFill/>
          </a:ln>
        </p:spPr>
      </p:pic>
      <p:pic>
        <p:nvPicPr>
          <p:cNvPr id="47" name="200621112721627" descr=""/>
          <p:cNvPicPr/>
          <p:nvPr/>
        </p:nvPicPr>
        <p:blipFill>
          <a:blip r:embed="rId2"/>
          <a:srcRect l="54821" t="0" r="0" b="0"/>
          <a:stretch/>
        </p:blipFill>
        <p:spPr>
          <a:xfrm>
            <a:off x="3095640" y="3573360"/>
            <a:ext cx="6048360" cy="328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55640" y="4365720"/>
            <a:ext cx="165744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申奥成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59640" y="907920"/>
            <a:ext cx="2016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举国欢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u=1475905565,213122352&amp;gp=1" descr=""/>
          <p:cNvPicPr/>
          <p:nvPr/>
        </p:nvPicPr>
        <p:blipFill>
          <a:blip r:embed="rId1"/>
          <a:stretch/>
        </p:blipFill>
        <p:spPr>
          <a:xfrm>
            <a:off x="2987640" y="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13" name="u=936190654,1242644151&amp;gp=0" descr=""/>
          <p:cNvPicPr/>
          <p:nvPr/>
        </p:nvPicPr>
        <p:blipFill>
          <a:blip r:embed="rId2"/>
          <a:stretch/>
        </p:blipFill>
        <p:spPr>
          <a:xfrm>
            <a:off x="0" y="0"/>
            <a:ext cx="2951280" cy="3573360"/>
          </a:xfrm>
          <a:prstGeom prst="rect">
            <a:avLst/>
          </a:prstGeom>
          <a:ln w="0">
            <a:noFill/>
          </a:ln>
        </p:spPr>
      </p:pic>
      <p:pic>
        <p:nvPicPr>
          <p:cNvPr id="114" name="90-8" descr=""/>
          <p:cNvPicPr/>
          <p:nvPr/>
        </p:nvPicPr>
        <p:blipFill>
          <a:blip r:embed="rId3"/>
          <a:stretch/>
        </p:blipFill>
        <p:spPr>
          <a:xfrm>
            <a:off x="6300720" y="3429000"/>
            <a:ext cx="28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26" descr=""/>
          <p:cNvPicPr/>
          <p:nvPr/>
        </p:nvPicPr>
        <p:blipFill>
          <a:blip r:embed="rId4"/>
          <a:stretch/>
        </p:blipFill>
        <p:spPr>
          <a:xfrm>
            <a:off x="2916360" y="2421000"/>
            <a:ext cx="3384360" cy="2324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596360" y="6237360"/>
            <a:ext cx="5014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综艺繁体"/>
              </a:rPr>
              <a:t>返回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综艺繁体"/>
              <a:ea typeface="方正综艺繁体"/>
            </a:endParaRPr>
          </a:p>
        </p:txBody>
      </p:sp>
      <p:pic>
        <p:nvPicPr>
          <p:cNvPr id="117" name="1_6-12-44-312_2003022723029" descr=""/>
          <p:cNvPicPr/>
          <p:nvPr/>
        </p:nvPicPr>
        <p:blipFill>
          <a:blip r:embed="rId5"/>
          <a:stretch/>
        </p:blipFill>
        <p:spPr>
          <a:xfrm>
            <a:off x="2916360" y="4724280"/>
            <a:ext cx="331128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0" y="3573360"/>
            <a:ext cx="2916360" cy="3284640"/>
          </a:xfrm>
          <a:prstGeom prst="rect">
            <a:avLst/>
          </a:prstGeom>
          <a:ln w="0">
            <a:noFill/>
          </a:ln>
        </p:spPr>
      </p:pic>
      <p:pic>
        <p:nvPicPr>
          <p:cNvPr id="119" name="tanglingsheng1" descr=""/>
          <p:cNvPicPr/>
          <p:nvPr/>
        </p:nvPicPr>
        <p:blipFill>
          <a:blip r:embed="rId7"/>
          <a:stretch/>
        </p:blipFill>
        <p:spPr>
          <a:xfrm>
            <a:off x="6300720" y="0"/>
            <a:ext cx="2843280" cy="3367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35280" y="1700280"/>
            <a:ext cx="7632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 action="ppaction://hlinksldjump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双百”方针的提出和文学艺术的繁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500280"/>
            <a:ext cx="5545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艺术的成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486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群众性体育运动的开展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2637000"/>
            <a:ext cx="554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文革”后的文学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29264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三、走向世界体育强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49360"/>
            <a:ext cx="69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课  百花齐放  推陈出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8000" y="1557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文学的繁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40800" y="5516640"/>
            <a:ext cx="215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竞技体育的成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77480" y="1478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一：新中国成立后（改革开放前）的著名文学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11280" y="907920"/>
          <a:ext cx="7921080" cy="5256000"/>
        </p:xfrm>
        <a:graphic>
          <a:graphicData uri="http://schemas.openxmlformats.org/drawingml/2006/table">
            <a:tbl>
              <a:tblPr/>
              <a:tblGrid>
                <a:gridCol w="2354040"/>
                <a:gridCol w="1855440"/>
                <a:gridCol w="1856160"/>
                <a:gridCol w="1855440"/>
              </a:tblGrid>
              <a:tr h="117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类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556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优秀长篇小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童话作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话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2340000" y="1882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新中国成立后（改革开放前）的著名文学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17080" y="6308640"/>
            <a:ext cx="5014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综艺繁体"/>
              </a:rPr>
              <a:t>返回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综艺繁体"/>
              <a:ea typeface="方正综艺繁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0920" y="0"/>
          <a:ext cx="8497800" cy="170028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第一届茅盾文学奖获奖篇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《许茂和他的女儿们》周克芹    《东方》魏巍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《将军吟》莫应丰     《李自成》（第二卷）姚雪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《芙蓉镇》古华       《冬天里的春天》李国文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39640" y="148428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二届茅盾文学奖获奖篇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黄河东流去》李准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沉重的翅膀》（修订本）张洁   《钟鼓楼》刘心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2637000"/>
            <a:ext cx="84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三届茅盾文学奖获奖篇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平凡的世界》路遥         《少年天子》凌力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都市风流》孙力  余小惠   《第二个太阳》刘白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穆斯林的葬礼》霍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076640"/>
            <a:ext cx="78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四届茅盾文学奖获奖篇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战争和人》（一、二、三）王火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白鹿原》（修订本）陈忠实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白门柳》（一、二）刘斯奋    《骚动之秋》刘玉民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56707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五届茅盾文学奖获奖篇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尘埃落定》阿来                   《长恨歌》王安忆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《茶人三部曲》（一、二部）王旭烽   《抉择》张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0" y="5805360"/>
            <a:ext cx="4287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综艺繁体"/>
              </a:rPr>
              <a:t>返回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综艺繁体"/>
              <a:ea typeface="方正综艺繁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420000" y="2595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建国以来的优秀艺术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26920" y="836640"/>
          <a:ext cx="7705800" cy="5732280"/>
        </p:xfrm>
        <a:graphic>
          <a:graphicData uri="http://schemas.openxmlformats.org/drawingml/2006/table">
            <a:tbl>
              <a:tblPr/>
              <a:tblGrid>
                <a:gridCol w="3308400"/>
                <a:gridCol w="2198880"/>
                <a:gridCol w="2198520"/>
              </a:tblGrid>
              <a:tr h="114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类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代表作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要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55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电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电视连续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型舞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新中国第一部彩色戏曲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55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24000" y="558972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油画《开国大典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ls0030002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资料图片：大型音乐舞蹈史诗《东方红》(14)"/>
          <p:cNvPicPr/>
          <p:nvPr/>
        </p:nvPicPr>
        <p:blipFill>
          <a:blip r:embed="rId1"/>
          <a:stretch/>
        </p:blipFill>
        <p:spPr>
          <a:xfrm>
            <a:off x="539640" y="260280"/>
            <a:ext cx="7954920" cy="561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03280" y="6165720"/>
            <a:ext cx="626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型音乐舞蹈史诗《东方红》</a:t>
            </a:r>
            <a:endParaRPr b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0:52:14Z</dcterms:created>
  <dc:creator>李向阳</dc:creator>
  <dc:description/>
  <dc:language>en-US</dc:language>
  <cp:lastModifiedBy>user</cp:lastModifiedBy>
  <dcterms:modified xsi:type="dcterms:W3CDTF">2006-03-18T01:26:25Z</dcterms:modified>
  <cp:revision>39</cp:revision>
  <dc:subject/>
  <dc:title>幻灯片 1</dc:title>
</cp:coreProperties>
</file>