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5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4D6-3690-4926-8A9E-B6BA79E2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2D4-4936-460B-8D5C-7D0784B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A9B-3034-4639-8990-9BF2732F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13A-FB36-4B84-A5C9-6A4ED7A3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FCF-A2D2-4C0E-AA53-62A1AE6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1F6-7824-4AAE-BF69-E61D495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122-516C-4FDF-AD5A-68CC28ED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E63-94BA-4537-88E4-3D7F65C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307-26BF-48EB-AA59-70483CE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CB0-0406-4BA2-ADD4-A756CE3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51A-3EDE-42A7-9C10-62D064C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041-1F94-4A76-9503-D3E1C29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556-EB96-43D0-8224-6F388D968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5119930443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92000" y="76500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84872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来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国家还提高了教师的地位，专门设立了教师的节日，你知道教师节是哪一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5912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能正确对待老师吗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上课时你是不是能做到认真听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师布置的作业你能不能按时独立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师批改后的作业，你是否及时改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老师对你的批评你是怎样看待的，又是   怎样对待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368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辩一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193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a23c1"/>
                </a:solidFill>
                <a:latin typeface="Arial"/>
                <a:ea typeface="隶书"/>
              </a:rPr>
              <a:t>《义务教育法》规定：“凡满六周岁的儿童，不分性别、民族、种族，应当入学接受规定年限的义务教育。条件不具备的地区，可以推迟到七周岁入学</a:t>
            </a:r>
            <a:r>
              <a:rPr b="1" lang="zh-CN" sz="4800" spc="-1" strike="noStrike">
                <a:solidFill>
                  <a:srgbClr val="aa23c1"/>
                </a:solidFill>
                <a:latin typeface="Arial"/>
                <a:ea typeface="隶书"/>
              </a:rPr>
              <a:t>.”</a:t>
            </a:r>
            <a:r>
              <a:rPr b="1" lang="zh-CN" sz="4800" spc="-1" strike="noStrike">
                <a:solidFill>
                  <a:srgbClr val="aa23c1"/>
                </a:solidFill>
                <a:latin typeface="Arial"/>
                <a:ea typeface="隶书"/>
              </a:rPr>
              <a:t>对上述法律条文的理解下面说的对吗？为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371600"/>
            <a:ext cx="815328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、我们上学是家长和学校的事，家长和学校让上学就上，不让上学就不上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、上学是我们的权利，上不上，由我们自己说了算。 　　　　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24880" y="762120"/>
            <a:ext cx="644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国家兴亡，匹夫有责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------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顾炎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56280" y="3657600"/>
            <a:ext cx="648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为中华之崛起而读书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-------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周恩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228600"/>
            <a:ext cx="8077320" cy="6400800"/>
            <a:chOff x="228600" y="228600"/>
            <a:chExt cx="8077320" cy="6400800"/>
          </a:xfrm>
        </p:grpSpPr>
        <p:pic>
          <p:nvPicPr>
            <p:cNvPr id="76" name="" descr="">
              <a:hlinkClick r:id="" action="ppaction://media"/>
            </p:cNvPr>
            <p:cNvPicPr/>
            <p:nvPr>
              <a:audioFile r:link="rId2"/>
              <p:extLst>
                <p:ext uri="{DAA4B4D4-6D71-4841-9C94-3DE7FCFB9230}">
                  <p14:media r:link="rId3"/>
                </p:ext>
              </p:extLst>
            </p:nvPr>
          </p:nvPicPr>
          <p:blipFill>
            <a:blip r:embed="rId4"/>
            <a:stretch>
              <a:fillRect/>
            </a:stretch>
          </p:blipFill>
          <p:spPr>
            <a:xfrm>
              <a:off x="7391520" y="5715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228600" y="228600"/>
              <a:ext cx="5562720" cy="6400800"/>
              <a:chOff x="228600" y="228600"/>
              <a:chExt cx="5562720" cy="6400800"/>
            </a:xfrm>
          </p:grpSpPr>
          <p:sp>
            <p:nvSpPr>
              <p:cNvPr id="78" name=""/>
              <p:cNvSpPr/>
              <p:nvPr/>
            </p:nvSpPr>
            <p:spPr>
              <a:xfrm>
                <a:off x="228600" y="228600"/>
                <a:ext cx="5562720" cy="6400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3520" y="380880"/>
                <a:ext cx="5029200" cy="47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同学们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大家起来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  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担负起天下的兴亡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听吧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满耳是大众的嗟伤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 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看吧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一年年国土的沦丧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我们是要选择“战”还是“降”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?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我们要做主人去拼死在疆场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我们不愿做奴隶而青云直上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我们今天是桃李芬芳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明天是社会的栋梁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;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我们今天是弦歌在一堂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明天要掀起民族自救的巨浪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巨浪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巨浪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不断地增涨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同学们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同学们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快拿出力量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,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担负起天下的兴亡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!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2.jpg (8926 字节)"/>
          <p:cNvPicPr/>
          <p:nvPr/>
        </p:nvPicPr>
        <p:blipFill>
          <a:blip r:embed="rId2"/>
          <a:stretch/>
        </p:blipFill>
        <p:spPr>
          <a:xfrm>
            <a:off x="0" y="0"/>
            <a:ext cx="5176800" cy="36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19.jpg (8901 字节)"/>
          <p:cNvPicPr/>
          <p:nvPr/>
        </p:nvPicPr>
        <p:blipFill>
          <a:blip r:embed="rId3"/>
          <a:stretch/>
        </p:blipFill>
        <p:spPr>
          <a:xfrm>
            <a:off x="0" y="3311640"/>
            <a:ext cx="5181480" cy="354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4.jpg (7569 字节)"/>
          <p:cNvPicPr/>
          <p:nvPr/>
        </p:nvPicPr>
        <p:blipFill>
          <a:blip r:embed="rId4"/>
          <a:stretch/>
        </p:blipFill>
        <p:spPr>
          <a:xfrm>
            <a:off x="5183280" y="3240"/>
            <a:ext cx="3960720" cy="725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58672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贫困地区的简陋的校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cmn_00058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pcmn_00051"/>
          <p:cNvPicPr/>
          <p:nvPr/>
        </p:nvPicPr>
        <p:blipFill>
          <a:blip r:embed="rId3"/>
          <a:stretch/>
        </p:blipFill>
        <p:spPr>
          <a:xfrm>
            <a:off x="0" y="3354480"/>
            <a:ext cx="4572000" cy="350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pcmn_00055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568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23.jpg (6166 字节)"/>
          <p:cNvPicPr/>
          <p:nvPr/>
        </p:nvPicPr>
        <p:blipFill>
          <a:blip r:embed="rId5"/>
          <a:stretch/>
        </p:blipFill>
        <p:spPr>
          <a:xfrm>
            <a:off x="3535200" y="3335400"/>
            <a:ext cx="5608800" cy="3522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7150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贫困地区渴望知识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插图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28600"/>
            <a:ext cx="33526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她就是苏明娟，她和许许多多的穷困山区的孩子一样无钱上学，那双渴望知识的“大眼睛”打动了无数热心的人。她学习勤奋努力， 顺利地考入安徽大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6324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渴望知识的贫困地区的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插图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04920"/>
            <a:ext cx="327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看了上面的图片，你有什么感想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?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请你谈一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（提示：联系自己的学习情况。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83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，全国有中小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多所，中小学生两亿多人，全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5%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地区基本普及九年义务教育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上的人口普及初等教育。小学学龄儿童入学率达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9%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初中入学率达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8.6%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这是中华民族教育史上前所未有的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029200"/>
            <a:ext cx="73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方正舒体"/>
              </a:rPr>
              <a:t>党和政府重视教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205740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请你给苏明娟写一封信，谈谈你打算怎样帮助失学的儿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1440" y="387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方正舒体"/>
              </a:rPr>
              <a:t>表达心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86520" y="3049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国家重视高等教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24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１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国高等教育发展情况如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２、在科技方面取得了哪些成绩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高等教育已形成相当的规模，学校数量大大增加、学科门类齐全、布局结构日趋合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789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教育质量、办学效益、办学条件明显提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1181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代教育部启动了将北大、清华等若干所大学建设成世界一流大学和高水平大学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849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１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国高等教育发展情况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新中国成立以来党和政府高度重视高等教育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等学校承担的国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划项目占三分之一以上，获得的国家发明奖占全国的三分之一左右，在科学技术研究成果上有些已达到或接近世界先进水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２、在科技方面取得了哪些成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04920"/>
            <a:ext cx="87631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国家为什么重视发展教育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示材料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科学技术是第一生产力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科技进步成为经济发展的决定性因素，科技实力成为衡量国家实力强弱的重要标志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人才是科技进步和经济社会发展最重要的资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00125" descr=""/>
          <p:cNvPicPr/>
          <p:nvPr/>
        </p:nvPicPr>
        <p:blipFill>
          <a:blip r:embed="rId2"/>
          <a:stretch/>
        </p:blipFill>
        <p:spPr>
          <a:xfrm>
            <a:off x="-306360" y="0"/>
            <a:ext cx="968832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676520" y="3581280"/>
            <a:ext cx="5113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欢迎指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2000" y="76500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762120"/>
            <a:ext cx="46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第十九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266688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改革发展中的教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汪湖初中   崔维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2880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看课本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P98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回答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党和政府如何重视和发展基础教育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7802264235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441972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986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颁布实施《中华人民共和国义务教育法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增加教育投入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改善办学条件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全国基本普及九年义务教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8120" y="2438280"/>
            <a:ext cx="4023000" cy="441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81480" y="2498760"/>
            <a:ext cx="4862520" cy="43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59436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六十年代的某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8672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6019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今天的花园式的校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无标题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实施科教兴国战略把教育摆在优先发展的位置，把九年义务教育作为科教兴国的奠基工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3164952023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mao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477120" y="3049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邓小平同志的“三个面向”指明了中国教育的发展方向，说明了党和国家领导人对基础教育的关注和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4724280"/>
            <a:ext cx="306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71000" y="1828800"/>
            <a:ext cx="4244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xp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23:30:25Z</dcterms:created>
  <dc:creator>cwg</dc:creator>
  <dc:description/>
  <dc:language>en-US</dc:language>
  <cp:lastModifiedBy>崔维刚</cp:lastModifiedBy>
  <dcterms:modified xsi:type="dcterms:W3CDTF">2007-05-23T02:46:55Z</dcterms:modified>
  <cp:revision>68</cp:revision>
  <dc:subject/>
  <dc:title>幻灯片 1</dc:title>
</cp:coreProperties>
</file>