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4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359-6153-4FBD-8634-FC60B251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AC2-1609-4D7C-967E-A51118D4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03B-4238-4AE6-976A-2706E025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DF8-B918-42ED-B0EB-71CE089A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C85-8406-4F04-928A-593B324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6FB-5D1F-41EA-8504-10739FD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679-0FE4-4C2D-810F-80CA791C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156-DC22-46F7-B56C-E60D4DC7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CED-F9BA-4032-B5ED-EA708ACC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4CF-A008-4D02-B1BC-BCC3BCF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00D-8655-41B8-833A-3F308B4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E5A-E2D1-478E-A1EA-02D7E10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24B9-9A0F-494B-A073-3EFC835D22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D:/history/123/&#25105;&#24863;&#24681;1.ppt" TargetMode="External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98100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18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课  科学技术的成就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2492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制作人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王  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62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333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信息技术成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4896000" cy="2743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50920" y="5229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电子侦察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620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动化技术成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431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2000" y="1197000"/>
            <a:ext cx="2197080" cy="134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194292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88000" y="3789360"/>
            <a:ext cx="2857320" cy="2390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68360" y="4292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机器人乐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无人驾驶的汽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63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智能机器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549360"/>
            <a:ext cx="57150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新材料成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606480" cy="4032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40360" y="5805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86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陶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0000" y="765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能源技术成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2990880" cy="332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67280" y="57340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6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电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33360"/>
            <a:ext cx="720108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马克思说过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科学技术是生产力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事实证明这话讲的很对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依我看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科学技术是第一生产力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邓小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76360" y="485640"/>
            <a:ext cx="68040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奇思妙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《星际时代》科幻歌曲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飞船升空，离开了地球时空，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似幻似梦，真奇妙让我入梦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梦到了未来，在航天普及的时代；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我驾驶飞船，飞翔在浩瀚的星海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飞翔在浩瀚的星海，停泊在月亮的山脉；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月亮，月亮，我奔跑上了月亮的山脉；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我亲手触摸到土星的云彩，翱翔在那土星云天外，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云天外，云天外，地球云天外的云天外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我飞翔在星海，奔上月亮山脉，和神话故事一样精彩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在月亮的山脉，土星的云天外，和火星冰川的美景中徘徊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在地球安的家，上金星看晚霞，到哈雷彗星上面去度假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星际时代的我，心中没有沙漠，整个银河都适合我生活。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067280" y="3284640"/>
            <a:ext cx="4248000" cy="254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3457800" cy="342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20" y="228600"/>
            <a:ext cx="36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计算机的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一台电子计算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609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网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708280"/>
            <a:ext cx="7373880" cy="2949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187280" y="981000"/>
            <a:ext cx="68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唇枪舌剑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青少年上网利大还是弊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476280"/>
            <a:ext cx="741672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科学家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十一世纪是中国人的世纪，祖国的腾飞就在诸位青年学人的身上。做为一个科学家，首先要有政治态度，当更重要的是要热爱自己的祖国，要有一个精神的归属，要有自己的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—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李政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5238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066680"/>
            <a:ext cx="5181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清晰度电视（图片）可视电话，数码相机，家（第四个图片）微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53080" y="16002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19920" y="3962520"/>
            <a:ext cx="185256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29000" y="4876920"/>
            <a:ext cx="158436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4537080" cy="365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3200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高清晰度电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5867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可视电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9960" y="6308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数码相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4648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数字化家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22860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y family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6094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一次工业革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352680" cy="215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64000" y="2349360"/>
            <a:ext cx="3809880" cy="251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867280" y="4076640"/>
            <a:ext cx="2895840" cy="21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3886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火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5181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轮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9800" y="6248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蒸汽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838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二次工业革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1801800" cy="3505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5486400" cy="228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505480" y="1371600"/>
            <a:ext cx="1992240" cy="2438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56610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电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汽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2920" y="4762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次科技革命到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图片）电脑长椅，美国登月，第一座核电站控制室，激光技术，培育转基因菜，太空中的宇航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00000" y="4594320"/>
            <a:ext cx="2664000" cy="1784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332000" y="1413000"/>
            <a:ext cx="198108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742080" y="620640"/>
            <a:ext cx="1933560" cy="248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132000" y="2205000"/>
            <a:ext cx="2303640" cy="182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003640" y="3357720"/>
            <a:ext cx="183672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443640" y="4076640"/>
            <a:ext cx="1627200" cy="2333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4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三次科技革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培育转基因蔬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40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网络长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544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登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35640" y="6453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太空中的宇航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一座核电站控制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720" y="638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激光技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1523880"/>
            <a:ext cx="3429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国的科技竞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景图片（星球大战计划）将美国的星球大战计划，日本的  苏联的纲要，西欧尤里计划名称打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2708280"/>
            <a:ext cx="38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4040" y="836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美国星球大战计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52440" y="1844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西欧尤里卡计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5080" y="4797360"/>
            <a:ext cx="367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苏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﹑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东欧二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科学技术进步综合 纲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64040" y="2781360"/>
            <a:ext cx="286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今后十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科学技术振兴政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2602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3527640" cy="2157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3357720"/>
            <a:ext cx="7848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现在就抓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力所能及的资金和人力跟踪新技术的发展进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而不能等到十年﹑十五年﹑经济实力相当好时再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否则就会贻误时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后永远翻不了身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《关于跟踪世界战略性高科技发展的建议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4720" y="4843440"/>
            <a:ext cx="2663640" cy="178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771640" y="3271680"/>
            <a:ext cx="2664000" cy="1686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56360" y="1268280"/>
            <a:ext cx="1446120" cy="1909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042920" y="1557360"/>
            <a:ext cx="2808360" cy="182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0852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物技术领域的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240" y="1628640"/>
            <a:ext cx="4546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海水栽培的蔬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3429000"/>
            <a:ext cx="3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转基因食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5084640"/>
            <a:ext cx="3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转基因食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70360" y="119700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新生儿接种乙肝疫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17920" cy="369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52960" y="620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航天技术领域的成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4151520" cy="2766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5373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杨利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805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神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3:11:20Z</dcterms:created>
  <dc:creator>beingboy</dc:creator>
  <dc:description/>
  <dc:language>en-US</dc:language>
  <cp:lastModifiedBy>lenovo</cp:lastModifiedBy>
  <dcterms:modified xsi:type="dcterms:W3CDTF">2006-03-12T04:23:17Z</dcterms:modified>
  <cp:revision>52</cp:revision>
  <dc:subject/>
  <dc:title>PowerPoint 演示文稿</dc:title>
</cp:coreProperties>
</file>