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644-3C94-41C8-8BD8-1D5DAAD0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68A-81E7-414D-A63B-CCEE1FB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F40BA-8B98-4A55-AF29-073B8E71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C64A-BFF4-4EC6-9B61-EEFB30B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2AD6-E999-4D32-BA21-0E938C4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6849D-6E2E-467F-A9CF-F56FD52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EC45-A571-4D3C-97F6-7E6109B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563C7-A3E1-4B2E-AA77-6188F5D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565F-8A58-4F82-AB4A-5CBD9474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C3CF2-8943-424F-B159-D9A53E0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65F67-876D-44A4-A711-DB46919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E7DE-BD72-47AD-AF3A-D6544C29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26A-8D4C-4BEB-A172-42D39A24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4E3B-2C50-4C4D-A69D-04FEEE5E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C3EC0-6B67-4F96-AB83-981A12AC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B74E6-4E42-49CF-8DA6-BC661D6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BC283-0C37-4AE2-8454-1475775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DF71-EC81-45F4-925E-3D565BE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12A2-DD6F-45B3-B088-FD766A1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4884A-6B2B-4639-AD01-82908E0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9D7C0-25B3-421E-A47F-0BE693B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001D0-3D2B-4786-906A-AFE19C4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FFC57-1043-4815-8398-47DE7E8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775-19C1-4661-AE09-D28199B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EA0B-A9B1-4438-BD3E-C8DFE07E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68A62-DE0D-4E3D-AEA9-9673C1A5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0B5D6-B069-4B2A-9A69-08E7D64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9FAFF-0052-4051-A582-C310F8AF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80455-9BDF-48CE-AFF9-B52E002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4BF7B-D113-4D4E-9F78-CDF2A07B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EC0CC-3C93-4A55-A2F8-638CAC95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0CF58-877D-41A9-8F9F-670FF4D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38FF-5E24-4F0C-9809-DF09277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E127F-D19B-4315-B588-762C0EA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BDA8D-7024-423A-88FE-A33E3D56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856B-19D1-449D-ACBA-A2B7529D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E1F17-694B-4ECE-B52B-933D7BD3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F9DC5-51C5-4278-A48F-20EEE7DD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26B6-8757-4B9C-B494-2E59F467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9382D-12C7-458D-A18C-05F61E09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85E42-38EF-4886-9CDB-7E9B3E3D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F9DF9-5A7B-4A0B-BC75-92E16852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C4110-6DA8-44EB-B40F-6699F554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7371B-54D9-482B-8D88-981CCA6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CE1F8-B988-4C89-8030-B6CDDD0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8C8A8-C44C-455A-B3FA-0162C19B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3B7F8-F495-4C64-8D50-68FF14B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9CD5E-54B1-4ABE-8411-2E0447B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289ED-D789-4837-8C5E-4F76C31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CDB1-2850-420C-8F0A-2547D1F3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1E05-6206-41E8-9848-F08331E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B68E-9455-44A3-8D84-F8FB673F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428ED-8BA9-463B-85C2-7AC5CE3B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24379-A684-46E6-BA0F-988D21F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84B9D-10C9-4D71-B693-389F65C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D4AD4-8D1E-4A32-8760-441E3C0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2C2-FF02-4DD8-8A74-7D6F247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73780-B2B4-4E09-9E4D-AC97908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64FF7-BC8D-4E2E-92A5-77B2E69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C00DB-71C9-42EC-9BD4-32C884A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0B24-2F61-48BC-87B6-016E12B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0CDD4-445B-4769-9AD6-C5671C9B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86AC-959A-4025-B258-3A73F687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695A-C0F0-4228-B0EB-CD8BFE4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5836-0687-40D7-AC99-0839B307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A258-7ED4-47F0-8354-F0E331E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D02E-9C3F-4986-B816-5A2AB93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93D-02ED-4E9A-9353-241E18AA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13F3-715D-4BCE-885E-195BB6DE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F373-C698-434F-8146-BDFA962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35E7-9C15-41A4-8945-CEBEE46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6C51-0D1C-4889-B037-8CE5580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73BD-C913-4C06-AA0D-CE028BD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A232-9B9B-4C80-83CA-57BD0357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138D-E8DA-440C-A65E-4113D5BC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4191-F2A8-4FBE-852B-4275AE7E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703A-1652-4192-BB65-DFA49D15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8779-EA08-4E7A-9CD6-B148689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008-D594-405C-BBEE-66ECFBB0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2E73-5C61-4261-9E7A-C2AE19A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1D3A-93C6-40A6-925F-60020E2F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2223-83D2-4E8D-91D0-2A907DF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20B9-6F65-427C-8FFE-4706C52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2CBD-BCB8-4940-B82C-BF2924F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E887-7203-4818-B34C-12FF7C81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0C86-5B6D-482C-AFBC-AC9B6C3D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C605-DFF8-42C7-B501-1AE4C5DF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1D00-71D9-436D-B5CD-FCB81D98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491B-0FB1-44CF-85E4-5FFF57FE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2A9-6228-4BE6-86D4-048F8E4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E61E-72CF-4B65-9FAF-0C68B89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77C0-47B7-4A67-9D09-FD04998D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0792-D083-4F82-A8E8-260049A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BFE9-63AE-41E0-96DA-673E3D9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017F-2671-4EE7-BE97-31D70AC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12EB-C1DA-45F5-AA4D-A830A78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6DFB4-D1E0-4DB2-B583-BF947BE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A3D9-6261-42CD-BE43-90E6B54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F5BF-55D3-4101-A3C1-CA550D7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14D2-D4F6-4898-95EC-29B48B8E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412-00A9-4917-9EE7-BA331FC1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F27E-92FF-476A-A51B-2FB6662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B497-8136-4CB4-8FAD-7FE54B8A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9DB4-3D3F-4DA1-BCE1-7A91BCD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33FD-8CD0-4532-A6C3-2328D4A0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385A3-0826-4BB8-829C-AE57BF2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9CDE-CFE6-4B18-8731-9B4419E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2B28A-B04D-4230-8C97-4C6A6A6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205B1-A6D8-4B3B-81AB-5FDCB1A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E3A5-B395-4A99-9F40-FA72ED6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A30A-87AE-430B-BFEC-4D71245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37A-EA6B-459D-AFB7-AFBD9F5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5034-1F88-452D-B46B-4A94708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DB0A-FFBF-459D-8EC6-1779061D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FDB9-E283-4110-8E58-54135E4D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9AE7E-0581-4D35-8845-8E06870B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B51B-A263-4084-AB95-B39E78D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A09A-B4A1-4F4A-97C9-9F59E10B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7F88-2B3D-4EE5-B878-10170F5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15E14-13BC-4104-9873-5A81C0AC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E73E-CFBF-4996-8DF6-6E6B6038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596B-93B9-42C3-B492-94213B5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035-B4FA-43CF-9B88-CA6A514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6191-7EEF-4467-B834-9531CD3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1A9A-6A3A-49EE-8951-1D150ED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8356-73CE-40D0-BC3E-963896E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0A9A-4D3F-404C-A485-1B23117F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C3B6-1912-4B01-9C56-A964F43C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12BC2-1E67-4A8E-8C6A-26E0440F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796F5-26CD-45E5-A27C-8068F3F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BB07-9D50-4E67-8ED1-58866C91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F155-C6F8-4972-90EB-518D6E3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F685-5E59-4A1E-A229-C5280A7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C28-0C2C-4F63-9766-A303595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A7BB-148D-419A-A7BB-CFAFBA3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95A1E-F97B-4EA9-8A54-6AB75FE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30776-45E7-4C76-A5AA-9DB649F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86F7-D07A-4CA4-836D-BE205F8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D57E-5EE4-4BDC-9029-4663A696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085E-110B-4AF1-9A43-32A2C57B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5CE58-F89A-49E6-AD92-DD8615E6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569E9-778B-4542-B049-F0631F83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3994F-5DDD-46A5-88DD-2C7EA90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4C18C-52AD-421D-A058-1D7D8E92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DA08-63FA-4145-9CE6-2484CB5CC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481F-4A6B-4B37-ADF4-0826C359DB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AF8-54D2-4838-946A-2F9CF78B4D8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5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5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5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FA0A-38FC-4BED-9C63-773B4101D58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0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1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2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D38-63B3-4FCD-8F45-380332485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B2C-4034-4AD8-B65C-1514C9F519D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2377-06E7-43FC-B567-D436C63A17D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790D-24BE-4790-946D-4BA54E3EE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793-437E-48E5-B430-4D5610E58B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4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B7D9-53D8-4EA7-8982-55EB36A463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DDFB-F7F8-490C-AE3F-A3162237BE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0892-0A87-4BC0-B52A-447AA42597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s.ac.cn/index/ou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92962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8208720" cy="180036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980720" y="456840"/>
            <a:ext cx="533412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cc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33"/>
                </a:solidFill>
                <a:latin typeface="Arial"/>
                <a:ea typeface="华文新魏"/>
              </a:rPr>
              <a:t>中国历史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94480" y="324972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八年级  下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28600" y="838080"/>
          <a:ext cx="167652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838080"/>
                    <a:ext cx="16765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1116000" y="6019920"/>
            <a:ext cx="77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9933"/>
                </a:solidFill>
                <a:latin typeface="华文行楷"/>
                <a:ea typeface="华文行楷"/>
              </a:rPr>
              <a:t>东北师范大学附属实验学校  孙鸿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35280" y="213372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   —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科学技术的成就（一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7238880" y="838080"/>
          <a:ext cx="167652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838080"/>
                    <a:ext cx="16765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48280" cy="68673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653440" y="1852920"/>
            <a:ext cx="264924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-18030"/>
              </a:rPr>
              <a:t>第一艘无人飞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-18030"/>
              </a:rPr>
              <a:t>神舟一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-18030"/>
              </a:rPr>
              <a:t>1999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-18030"/>
              </a:rPr>
              <a:t>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  <a:ea typeface="隶书"/>
              </a:rPr>
              <a:t>中国第一个飞上太空的航天员，</a:t>
            </a:r>
            <a:br>
              <a:rPr sz="3200"/>
            </a:br>
            <a:r>
              <a:rPr b="0" lang="zh-CN" sz="3200" spc="-1" strike="noStrike">
                <a:solidFill>
                  <a:srgbClr val="8c0039"/>
                </a:solidFill>
                <a:latin typeface="Arial"/>
                <a:ea typeface="隶书"/>
              </a:rPr>
              <a:t>                     中国航天人的杰出代表杨利伟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593" name="" descr="sz5.jpg"/>
          <p:cNvPicPr/>
          <p:nvPr/>
        </p:nvPicPr>
        <p:blipFill>
          <a:blip r:embed="rId1"/>
          <a:stretch/>
        </p:blipFill>
        <p:spPr>
          <a:xfrm>
            <a:off x="2411280" y="2149560"/>
            <a:ext cx="6516720" cy="47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49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第一艘载人飞船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神舟五号  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003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2190240"/>
            <a:ext cx="42703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此处播放神舟五号发射实况录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可从人民网下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ttp://www.tjjy.com.cn/dj/zhuanti/mao/GB/14641/28140/30158/index.htm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729320" y="0"/>
            <a:ext cx="441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2675520" y="6033600"/>
            <a:ext cx="375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隶书"/>
              </a:rPr>
              <a:t>神舟六号航天员  费俊龙、聂海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神舟六号发射成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处为神舟六号发射实况录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可从新浪网下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ttp://news.sina.com.cn/z/shen6ship/1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643280" cy="3017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39640" y="5157720"/>
            <a:ext cx="31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此处播放感动中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关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袁隆平录像覆盖整个画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lib.verycd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48360" y="18900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他是一位真正的耕耘者。当他还是一个乡村教师的时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已经具有颠覆世界权威的胆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当他名满天下的时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却仍然只是专注于田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淡泊名利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一介农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播撒智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收获富足。他毕生的梦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就是让所有的人远离饥饿。喜看稻菽千重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最是风流袁隆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20280" y="3933720"/>
            <a:ext cx="33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杂交水稻之父 ——袁隆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901440" cy="65041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-324000" y="0"/>
            <a:ext cx="993780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63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说   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为了尽可能减小课件的大小，方便上传、下载，本课件中有关影像部分均删节掉。为使使用者使用方便，在相应位置为您留下了相应的空间和下载该影像的网址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作  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0" lang="zh-CN" sz="5400" spc="-1" strike="noStrike">
                <a:solidFill>
                  <a:srgbClr val="ff3300"/>
                </a:solidFill>
                <a:latin typeface="Tahoma"/>
              </a:rPr>
              <a:t>两弹一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处为两弹一星的录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可从中国科学院网页上下载，网址为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cas.ac.cn/index/o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中国第一颗原子弹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1964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日</a:t>
            </a:r>
            <a:br>
              <a:rPr sz="4800"/>
            </a:b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2339640" y="620280"/>
            <a:ext cx="15937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45000"/>
          </a:bodyPr>
          <a:p>
            <a:pPr marL="154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1966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月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中国第一颗氢弹</a:t>
            </a:r>
            <a:br>
              <a:rPr sz="5400"/>
            </a:b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624560" y="0"/>
            <a:ext cx="451944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世界主要有核国家从研制成功原子弹、导弹到研制成功氢弹所需的时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835280" y="3284640"/>
          <a:ext cx="6048360" cy="1817640"/>
        </p:xfrm>
        <a:graphic>
          <a:graphicData uri="http://schemas.openxmlformats.org/drawingml/2006/table">
            <a:tbl>
              <a:tblPr/>
              <a:tblGrid>
                <a:gridCol w="1008000"/>
                <a:gridCol w="1261800"/>
                <a:gridCol w="1330560"/>
                <a:gridCol w="1224000"/>
                <a:gridCol w="1224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国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前苏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年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年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年零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-360" y="-243360"/>
            <a:ext cx="5219640" cy="67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 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，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6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岁的邓稼先在美国获得了物理学博士学位。他带着当时最先进的物理学知识，涉洋归来报效祖国。五十年代末，邓稼先从物理学讲坛上“消失”了，他的身影闪现在核武器研制的基层第一线：在北京郊外的高粱地里参加研究所的兴建，在罗布泊国家试验场的土路上颠簸，在云遮雾罩的山区指挥着原子弹、氢弹的研制。邓稼先为我国的核武器研制事业兢兢业业、呕心沥血，孜孜不倦地奋斗了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，从原子弹、氢弹原理的突破和试验成功及其武器化，到新的核武器的重大原理突破和研制试验，都作出了重大贡献，为我国第一颗原子弹和第一颗氢弹试验成功立下了卓越的功勋。邓稼先曾荣获全国自然科学奖一等奖和国家级科技进步奖特等奖，以及“全国劳动模范”等荣誉称号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3467160" cy="4276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364000" y="4941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两弹元勋”邓稼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8600" y="685800"/>
            <a:ext cx="8610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事例一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钱学森召见邓稼先，说：“中国要放一个大爆竹，要你来做这个大爆竹。”当晚，稼先回去后与夫人通宵未眠。他只说，要去干一件工作：“从今以后我的生命就交给了这个工作。家中的事和两个孩子我是不能管了。”确实的，在稼先为国防大事献身时，他的女儿照样的下乡和回城没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事例二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一天，许德珩（邓稼先的岳父）问严济慈：“是谁为中国造出原子弹？”严哈哈大笑，说：“你去问你的女婿吧！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事例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杨振宁在美国听美国人说，中国人的原子弹是由美国科学家参与做成的。他问邓稼先“有没有美国人？”稼先当时不便回答，待周总理说“把实情告诉他”之后，稼先写了“没有任何外国人参加”的信。信从北京直接送到上海市委欢送杨振宁的宴会上。杨振宁当场打开一看，立即泪流满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5292720" y="549000"/>
            <a:ext cx="3394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人造地球卫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东方红一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97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333680" cy="595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32:15Z</dcterms:created>
  <dc:creator>Micro</dc:creator>
  <dc:description/>
  <dc:language>en-US</dc:language>
  <cp:lastModifiedBy>ip-zhujf</cp:lastModifiedBy>
  <dcterms:modified xsi:type="dcterms:W3CDTF">2006-04-24T07:18:39Z</dcterms:modified>
  <cp:revision>9</cp:revision>
  <dc:subject/>
  <dc:title>幻灯片 1</dc:title>
</cp:coreProperties>
</file>