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8.gif" ContentType="image/gif"/>
  <Override PartName="/ppt/media/image18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8C2-7586-4364-884D-14E9CD8D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68E-BEE0-4B4D-8CF7-512DF542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EB9-1DFA-4228-A1A2-F1EA1CA3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FE5-A2C3-450C-922F-29B6BD10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D2C0-8ACF-4865-BA2E-4F5FD1EF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3F1F-E4D1-4A73-AE17-EB80C7B8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180B-2BDA-4327-9EEC-EEA92358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51B7-45FB-4AAD-84B0-59046CDF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787F-43AB-4CE9-A162-05724C98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D1B6-EFF7-4242-B771-1BF8DB82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01D-7A48-455F-A401-48F5A1E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B72-0B85-4397-BED2-5EC3F97D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761E-03B2-414F-9791-8FA594D9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A2AF-1DB7-42B1-9941-FBE3CEC0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0FC3-20FB-46F4-B5D1-74A97B4F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BA49-1402-41CB-8FAC-FE5393D5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74F4-D68C-4E49-B307-8E4D2670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8F85-ABE6-4798-BDAE-12F45592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C5CA-D37F-4680-B700-23973F45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0ED8-F7C3-425A-BDD3-B2E6146B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EDEE-461D-47B6-BF33-A28935A0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B77B-1518-43E3-B3D3-46808A79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930-DEA6-4201-A570-66C6FBDD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CC21-5A41-4800-9EF1-3437B479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6A4F-53B8-4F45-84D5-D125EAB2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F89C-7BBC-483A-9F7F-D9FD84DE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5F46-4F2F-4FA3-B2AE-F0651A73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D0F3-54A0-41BD-B1A8-331F7919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3E67-A97F-435D-993D-D9BAB6C9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D552-5F6A-4E5F-A728-90AD3710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5586-B8D4-4D94-B363-97DFF95F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C4415-52DA-4F00-8259-14A50AB9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4C4FD-233B-401B-9F2E-812B8E17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414-95BA-4204-89CA-376FDE8F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6E46-761E-42C2-8360-4982197B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BBFCC-102A-4205-9A3A-5D7E44A8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86E4-92C6-44E7-92D7-AAD3B859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BDAD7-BBEB-4F51-B1F7-E7A9C0BC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2E812-B2E0-4AD8-96A8-5A473199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66061-66B9-4AC9-B72F-BD1A3EFD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BC0D-93A1-4BCC-845F-1120CEE8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CD5AD-A5AD-47A9-A854-2E8FD01C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43E1-51F8-4989-AF58-C4FEAF0E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48DC-5524-4FE5-A163-C3FBB619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4EC-7809-48DA-8812-6B2ED580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ABF76-6D20-4B38-8B33-73E39510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D871C-8352-4951-B3B6-0260C02E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17FF-F0ED-460E-9170-757266C7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87A63-B7D8-4D17-968C-4BFB358D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E8038-F50A-4997-8987-AD80EA54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23292-59A4-4ADD-90DB-34F4EDC6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8987D-8AA2-4556-BAF7-30C92CF2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D1443-B63A-44C3-ACD5-B8BF02BE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E126B-BBB4-4889-BDAD-DCFDDA7D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C680C-DE4A-4377-9D29-84650B05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FD0-A216-42C5-A09C-4AAF88A2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B9548-D38D-4D3F-BE7F-7C4477F4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DDB65-BA17-4B10-AA0B-22987A36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4067D-DE5B-486B-A7A3-37206265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78E8-E03B-45B6-A9F9-2AE215E7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33EDF-4487-4766-97A2-CAD1B5B4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956AD-79FF-4126-8956-2DD26E81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4C1DD-DD64-4442-A2A0-76A73374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65699-8A83-4F81-A4C8-4802CF26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CB696-1757-443B-8640-98521423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EF714-59A2-4F10-A4BE-6B5433C1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A0B-A174-4662-87AC-9FDECC2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1A4A5-99FD-46D2-9925-B652A57A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E8CD-5C70-4627-A242-9C2323EA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7A20-754B-4059-AF49-FDD262F3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B0B0B-B16E-4D29-BD97-51E076F7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2C2C8-E75E-427F-BB0A-2501C219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96BAE-209A-43F6-9E98-C8201C9C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EDB5A-F79E-42D2-BCDA-1899AECF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229EA-A8DE-43D3-8F3D-64B3BF60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92506-905F-4D49-9DDC-301DB8F0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57BE1-C5D9-4F60-9A9D-1C7605CC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F8B-1EC9-45E4-9E38-03944C2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BF584-35B3-47B3-8DFE-E5C63837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0A361-80D0-4520-88DF-5CF69B88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C82A-DD8E-4591-858F-D0199BC9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BC8A-4BFE-4693-A90B-CC51DB9A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3652E-491D-4F35-9419-C57473CC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BBB74-5744-4736-94AB-3F0C3CCE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091DA-8ABF-41F2-983A-DB81E8E4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8BEFA-142F-41C0-8A24-511984B7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AA1F3-E139-495D-B6D9-D44D780C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E5F72-FF58-462D-9A38-820D20FB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8F2-D24E-4C56-8F9B-742ADE64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0C84A-C09E-4FBA-A70E-9E84D075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06D7D-C5DC-4FC0-A560-BBF88E48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278EC-20DB-4AA4-B2FF-61C72A1D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81D96-9769-41CF-9B67-EF5427C2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3B667-164F-4F1D-973F-A6C24F74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6FDD3-0DD6-482B-AF6E-546F0FB4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6F564-E733-4717-9FDF-663DD1C5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545F-D1C7-4C3E-8373-48220E682EA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AAA5-B3E7-44E5-9F80-365353B641E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97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9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4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10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14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8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22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A8CA-8A03-4EB6-968B-ECF4FD83775F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81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82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6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00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04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8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12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0CF3-CBBB-4BD0-B7FE-EFFE16AEC2FD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4913-0B3E-486C-826E-179FB5E31A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475D-DCFC-4009-9175-6E7E58B705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078F-D297-464D-A422-11DBD951235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EC02-BC2C-4D17-877F-7EE2027CE1E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rcRect l="0" t="0" r="0" b="13936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403280" y="5562720"/>
            <a:ext cx="640872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ffff"/>
                </a:solidFill>
                <a:latin typeface="华文新魏"/>
              </a:rPr>
              <a:t>展现全球视野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560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457200" y="15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228600"/>
            <a:ext cx="0" cy="5791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95280" y="595008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1972</a:t>
            </a: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周恩来接见日本首相田中角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rcRect l="7483" t="34303" r="5975" b="18497"/>
          <a:stretch/>
        </p:blipFill>
        <p:spPr>
          <a:xfrm>
            <a:off x="0" y="33336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24000" y="5877000"/>
            <a:ext cx="83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身着中国民族服装的各经济体领导人在上海科技馆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 rot="2022000">
            <a:off x="3069720" y="996840"/>
            <a:ext cx="5348520" cy="4029120"/>
          </a:xfrm>
          <a:prstGeom prst="octagon">
            <a:avLst>
              <a:gd name="adj" fmla="val 2928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参加上海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PE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会议的经济体领导人有多少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上海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PE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会议的主题是什么？面对新挑战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PE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成员将采取什么对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上海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PE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会议的内容有哪些？意义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11280" y="404640"/>
            <a:ext cx="42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   </a:t>
            </a:r>
            <a:r>
              <a:rPr b="1" i="1" lang="zh-CN" sz="6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做一做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9144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50920" y="1700280"/>
            <a:ext cx="85690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APE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有多少个成员？我国什么时间加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APE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你还了解多少关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APE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的知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在新中国的外交史上还有很多重大的成就，你能说出几个来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440000" cy="11527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2771640" y="692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比一比，赛一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4011120" y="616752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82692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从旧中国的屈辱外交到新中国外交事业取得的辉煌成就，谈谈你感触最深的一点体会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143000" y="685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03280" y="40464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一定能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880" y="15238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一、各题只有一个正确答案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2133720"/>
            <a:ext cx="815328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e1"/>
                </a:solidFill>
                <a:latin typeface="华文中宋"/>
                <a:ea typeface="华文中宋"/>
              </a:rPr>
              <a:t>1</a:t>
            </a:r>
            <a:r>
              <a:rPr b="0" lang="zh-CN" sz="2400" spc="-1" strike="noStrike">
                <a:solidFill>
                  <a:srgbClr val="ffffe1"/>
                </a:solidFill>
                <a:latin typeface="华文中宋"/>
                <a:ea typeface="华文中宋"/>
              </a:rPr>
              <a:t>、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新中国成立后，第一位访问中国的美国总统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A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基辛格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B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肯尼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C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尼克松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D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克林顿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44197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中国在联合国合法席位的恢复是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A  24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届联大    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B  25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届联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C  26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届联大    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D  27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届联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8001000" y="6248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e1"/>
                </a:solidFill>
                <a:latin typeface="Times New Roman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561636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60800" y="1268280"/>
            <a:ext cx="1642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历史性的握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685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5280" y="2133720"/>
            <a:ext cx="844380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e1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2001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年亚太经合组织通过的决议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A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《领导人宣言》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B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《上海共识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C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《上海联合公报》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《上海合作组织成立宣言》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4419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二、列举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世纪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70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年代中国外交上的三件大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8001000" y="6248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e1"/>
                </a:solidFill>
                <a:latin typeface="Times New Roman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71640" y="40464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一定能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116000" y="2708280"/>
            <a:ext cx="72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祝同学们学习进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54560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2843280" y="0"/>
            <a:ext cx="6084720" cy="6858000"/>
            <a:chOff x="2843280" y="0"/>
            <a:chExt cx="6084720" cy="6858000"/>
          </a:xfrm>
        </p:grpSpPr>
        <p:pic>
          <p:nvPicPr>
            <p:cNvPr id="432" name="" descr=""/>
            <p:cNvPicPr/>
            <p:nvPr/>
          </p:nvPicPr>
          <p:blipFill>
            <a:blip r:embed="rId1"/>
            <a:stretch/>
          </p:blipFill>
          <p:spPr>
            <a:xfrm>
              <a:off x="2843280" y="0"/>
              <a:ext cx="6084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 txBox="1"/>
            <p:nvPr/>
          </p:nvSpPr>
          <p:spPr>
            <a:xfrm>
              <a:off x="2843280" y="0"/>
              <a:ext cx="608472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54800" y="1341360"/>
            <a:ext cx="18262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巨人的握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700" spc="-1" strike="noStrike">
                <a:solidFill>
                  <a:srgbClr val="006666"/>
                </a:solidFill>
                <a:latin typeface="Verdana"/>
                <a:ea typeface="华文隶书"/>
              </a:rPr>
              <a:t>第</a:t>
            </a:r>
            <a:r>
              <a:rPr b="1" lang="zh-CN" sz="8700" spc="-1" strike="noStrike">
                <a:solidFill>
                  <a:srgbClr val="006666"/>
                </a:solidFill>
                <a:latin typeface="Verdana"/>
                <a:ea typeface="华文隶书"/>
              </a:rPr>
              <a:t>17</a:t>
            </a:r>
            <a:r>
              <a:rPr b="1" lang="zh-CN" sz="8700" spc="-1" strike="noStrike">
                <a:solidFill>
                  <a:srgbClr val="006666"/>
                </a:solidFill>
                <a:latin typeface="Verdana"/>
                <a:ea typeface="华文隶书"/>
              </a:rPr>
              <a:t>课        </a:t>
            </a:r>
            <a:r>
              <a:rPr b="1" lang="zh-CN" sz="8000" spc="-1" strike="noStrike">
                <a:solidFill>
                  <a:srgbClr val="006666"/>
                </a:solidFill>
                <a:latin typeface="Verdana"/>
                <a:ea typeface="华文隶书"/>
              </a:rPr>
              <a:t>外交事业的发展</a:t>
            </a:r>
            <a:endParaRPr b="1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东港区涛雒二中   张传俊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22760" y="907920"/>
            <a:ext cx="16426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美国总统  尼克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-973080" y="5661000"/>
            <a:ext cx="504720" cy="2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83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50824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、新中国成立以来第一个访问中国的美国代表团是什么</a:t>
            </a: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?</a:t>
            </a: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当时的美国总统是谁</a:t>
            </a: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、中美关系改善的原因是什么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、在中美关系走向正常化的历程中，经历了哪些不平凡的事件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62064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我看我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9144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8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1873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合作探究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20970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、上面的资料中告诉我们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中美双方在何时何地签署了什么文件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、你还知道双方在何时签署了什么文件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承认了什么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、从杜勒斯拒绝与周恩来握手，到尼克松主动与周恩来握手，这仅仅是礼貌问题吗？反映了什么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37160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12:39:28Z</dcterms:created>
  <dc:creator>张传俊</dc:creator>
  <dc:description/>
  <dc:language>en-US</dc:language>
  <cp:lastModifiedBy>二中教导处</cp:lastModifiedBy>
  <dcterms:modified xsi:type="dcterms:W3CDTF">2006-05-17T01:15:32Z</dcterms:modified>
  <cp:revision>209</cp:revision>
  <dc:subject/>
  <dc:title>外交事业的发展</dc:title>
</cp:coreProperties>
</file>