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projctor.wav" ContentType="audio/x-wav"/>
  <Override PartName="/ppt/media/image21.jpeg" ContentType="image/jpeg"/>
  <Override PartName="/ppt/media/image29.png" ContentType="image/png"/>
  <Override PartName="/ppt/media/image25.png" ContentType="image/png"/>
  <Override PartName="/ppt/media/suction.wav" ContentType="audio/x-wav"/>
  <Override PartName="/ppt/media/image1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39.gif" ContentType="image/gif"/>
  <Override PartName="/ppt/media/image14.png" ContentType="image/png"/>
  <Override PartName="/ppt/media/image10.jpeg" ContentType="image/jpeg"/>
  <Override PartName="/ppt/media/hammer.wav" ContentType="audio/x-wav"/>
  <Override PartName="/ppt/media/image2.jpeg" ContentType="image/jpeg"/>
  <Override PartName="/ppt/media/image13.png" ContentType="image/png"/>
  <Override PartName="/ppt/media/image30.jpeg" ContentType="image/jpeg"/>
  <Override PartName="/ppt/media/image31.png" ContentType="image/png"/>
  <Override PartName="/ppt/media/image8.jpeg" ContentType="image/jpeg"/>
  <Override PartName="/ppt/media/image34.png" ContentType="image/png"/>
  <Override PartName="/ppt/media/click.wav" ContentType="audio/x-wav"/>
  <Override PartName="/ppt/media/image44.png" ContentType="image/png"/>
  <Override PartName="/ppt/media/image36.png" ContentType="image/png"/>
  <Override PartName="/ppt/media/image38.gif" ContentType="image/gif"/>
  <Override PartName="/ppt/media/image33.png" ContentType="image/png"/>
  <Override PartName="/ppt/media/image40.gif" ContentType="image/gif"/>
  <Override PartName="/ppt/media/image41.png" ContentType="image/png"/>
  <Override PartName="/ppt/media/image42.png" ContentType="image/png"/>
  <Override PartName="/ppt/media/image32.png" ContentType="image/png"/>
  <Override PartName="/ppt/media/image1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11.png" ContentType="image/png"/>
  <Override PartName="/ppt/media/image28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4.gif" ContentType="image/gif"/>
  <Override PartName="/ppt/media/image27.png" ContentType="image/png"/>
  <Override PartName="/ppt/media/image3.jpeg" ContentType="image/jpeg"/>
  <Override PartName="/ppt/media/voltage.wav" ContentType="audio/x-wav"/>
  <Override PartName="/ppt/media/image37.jpeg" ContentType="image/jpeg"/>
  <Override PartName="/ppt/media/image23.jpeg" ContentType="image/jpe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5CB-1E4C-410C-8C9D-49C69566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C43-2A22-4C47-92BC-4084CAF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2AF2A-806D-4A3F-B62D-9FB1BD01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99281-6086-44B6-8D26-FA6CB649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6243A-FFDB-4A8A-8520-958CF85D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9D371-1D25-4235-B774-C61D84D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92565-949C-4E8B-8DD8-BD44072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A1E97-1956-49E3-9313-A41D1A8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45FE3-A574-4C64-A371-82A017CD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800EB-0341-4EF7-84C0-87F658FD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4535A-5178-40AF-B3FA-B96F7FF9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E07AC-2C1E-4709-8C81-D4DDF24A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4E4-7AE9-4B83-A8A3-F1FE997E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9A2E5-FF92-4249-A98F-7D7FFC5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8E099-9F06-4521-8029-6DA4E7DE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49F66-9150-487B-B226-5534FEF6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9C002-5B22-4E73-9391-E5072FAC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10A33-43CD-4AE8-B5D5-AF30E71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B7AB7-D7E7-4E13-B2D6-0DD4D591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CCBC9-C3C9-435A-9F4C-D9F4D266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9F2EC-D258-46AF-9885-844E34D9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026D-7E70-4485-B740-D9D3FB4A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7FDDE-26FD-499F-8112-1D8D20B0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D40-1CD3-48CD-8775-FA6627AD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FC6F2-8AC6-4D37-AB35-515B48F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3ED1-DFF5-4D78-8C38-B88313CA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D18-5C8A-48BF-ABA8-71969528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FD6B-5CD2-477F-83F7-931E5C96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B694-5E3D-4A94-8D95-D650EB36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A5AC-ACD7-4499-A9A7-4A60E0AC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64B1-1C3D-45A4-B240-83AC6ABC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0AE2-BBA5-43DF-A6B1-A0C4B4D9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CC1-6F68-4AC2-A5F1-DAB2698F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B4D-8CD3-47D3-BAA7-CF0D362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A0B-AE11-48CB-AB4E-6927E5B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5261-89F7-46AB-BF65-E3D01D29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3855-71FB-42D1-8304-0ABE95DC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D1A7-A18E-4FD7-BD54-19363121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EB37-1131-43AB-9083-CE09BDA7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A5C6-811A-49E6-8320-182C873F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0035-88F0-4DD7-9F42-78457643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4F28-38BB-4D98-952D-BFF4A6B9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739C-FF8F-4D59-AD05-96146994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141-33DC-42F3-9D29-157383C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9664-9083-4916-ACD0-2768F821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B822-F2EC-4BD7-894E-6926F95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1195-A1AA-4206-A940-9491BD6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7A81-6ECB-4DA3-89D1-09546840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CB49-4C88-47AA-9F24-9DFCC02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477C-E25D-4893-AB70-1AFC18E2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0A5D-0130-4EB2-893A-9B982671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1ED1-9D18-426F-A2CF-7A68D93E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F223-5379-4DC8-AD74-BA226578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035F-3D6C-4D0D-A382-CD34DD10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D07-D13D-4464-B85A-C7BCB553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93D5-9652-43F3-8E18-ED50B72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8971-4BDF-47C0-A6F4-B48545AF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D499-AC2C-41B8-8437-F5B0D792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79D3-AADF-40B8-A475-3159953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13FA0-72D0-4FA1-9004-71F59E1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25753-8153-42D6-99B1-C51A21F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FEAD-5C6B-4FE4-B21A-D7E04EB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F58D-D282-4B45-A7F0-418D917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B5A9B-D4DD-4EBC-955B-6F4A14EE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C0999-C709-4A09-B57F-C3080547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48A-E6F3-4BE7-A5BA-B5A7F368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CF981-553F-41C4-B840-B6172613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1304-5083-4BB7-A2A5-C23BC87A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F848-563D-47B0-AC62-387A0BF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38FF-9D27-47BE-9DA8-87BAD496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4B05-C888-464E-BA52-3BAB2CA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27A26-5658-43E5-AABB-2C944F96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BA08-E172-4EF1-A1C9-B1C0169D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1141C-5BCF-44BE-903D-635B709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77E1-8D46-4855-9796-CC970EC9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46815-3BD1-4567-8095-82462BCB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102-2DB3-4BBE-AB26-4A450657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2C38-0ED9-48B0-A76F-72FE707C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36A1-C18D-4719-B03A-F9E460E5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182F-9EC1-42E2-B41D-DF7F232E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EC5A-7CA8-4841-BB96-E94E6F17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ED3B-28F7-46DD-B969-D80069B2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080E-5CAA-4A01-BCDC-684B9B71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141B-596E-48A4-B111-F8A2BFA4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543A-2D01-4B45-AC82-3235101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56D9F-A8E6-4ED1-B5E5-B1BB5DF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50D26-99DA-45BA-9973-9EAE23B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DF6-8AA8-4294-B81D-9FEEFC7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2B832-D896-4822-B034-2D11B250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3F4C9-BDE7-4DEF-ACA9-2BC512B5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1512-3646-429D-9905-E434AF2C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DC021-F021-4154-8099-51918CCE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3E41D-6E40-432D-AE32-6974F71F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3BA42-3526-49E2-B3EC-5B43B9D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A2F2-6DF4-4F3D-A6CF-2FBF0197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62D24-6223-4D75-A0FF-0410E9E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3B34C-4081-4B70-951F-0DF5A6D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9996F-14A2-4550-99B6-D88D5EB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36B-A300-4432-AA76-F6FB01F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C13D7-53B3-42ED-BC51-D42CF80C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D0D3C-EA35-4F7B-B7C6-7F9938CE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79C06-B62E-4437-BEA7-8610B0CD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5CB2C-6F21-4A3B-9CA9-679FD0C3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4ECBF-B5DB-465B-9B96-D49A1D16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4C20-B56B-46E4-8DE7-346A3652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32E80-1E31-4633-9079-725B9357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F19FC-4171-49C2-BA6B-2D876B1D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09E2F-AC42-4622-8828-EF753CA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EB94A-685D-4529-8F27-E236E51F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03E-DECA-481B-A296-E20F626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98FC-D8B5-4EE4-93D4-F211045C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E4008-434E-4CF8-8DD5-84C6009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92C4E-02B9-45D8-998E-3E24D81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4DB7-5E31-4597-BCE6-CBA2A46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0E07F-3CA1-4BF4-B280-DC5590C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0DCF1-2283-4E25-9E09-6BF6E48C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363B-B88B-4A6E-AE31-CBFADA1A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940A9-AC2F-4015-B141-588374D9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E2F6A-43C5-40B9-BBEB-24E58414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ED305-090E-4900-BE1B-EA838E4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849-5C0D-4BA3-AC6F-1D3FD8F776E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F4FF-3228-437B-BDEE-5C14522EAB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84CA-ED7F-4C8B-ACCA-9E77DFDDDD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C01D-FB1A-4A6B-87D7-BF374FF22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06EA-366D-4B90-B27F-E46FA238B4E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99FD-8C6C-4D4C-8417-F612313803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8DDF-7365-4E41-B52E-D0D0F6296BC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3FBA-DD42-48C7-A1F6-54033DD03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13B1-1C04-45FD-BEDA-5F90C0A2A12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6" name="Group 3"/>
            <p:cNvGrpSpPr/>
            <p:nvPr/>
          </p:nvGrpSpPr>
          <p:grpSpPr>
            <a:xfrm>
              <a:off x="290520" y="2546280"/>
              <a:ext cx="712440" cy="474480"/>
              <a:chOff x="290520" y="2546280"/>
              <a:chExt cx="712440" cy="47448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29052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5"/>
              <p:cNvSpPr/>
              <p:nvPr/>
            </p:nvSpPr>
            <p:spPr>
              <a:xfrm>
                <a:off x="6742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414360" y="2968560"/>
              <a:ext cx="739800" cy="474480"/>
              <a:chOff x="414360" y="2968560"/>
              <a:chExt cx="739800" cy="474480"/>
            </a:xfrm>
          </p:grpSpPr>
          <p:sp>
            <p:nvSpPr>
              <p:cNvPr id="340" name="Rectangle 7"/>
              <p:cNvSpPr/>
              <p:nvPr/>
            </p:nvSpPr>
            <p:spPr>
              <a:xfrm>
                <a:off x="41436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Rectangle 8"/>
              <p:cNvSpPr/>
              <p:nvPr/>
            </p:nvSpPr>
            <p:spPr>
              <a:xfrm>
                <a:off x="78444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7DB-9EEE-43EA-BF53-D5D587F67DD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7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" Target="slide5.xm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8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20.xml"/><Relationship Id="rId3" Type="http://schemas.openxmlformats.org/officeDocument/2006/relationships/image" Target="../media/image30.jpeg"/><Relationship Id="rId4" Type="http://schemas.openxmlformats.org/officeDocument/2006/relationships/audio" Target="../media/voltage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image" Target="../media/image33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7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" Target="slide18.xml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27.png"/><Relationship Id="rId4" Type="http://schemas.openxmlformats.org/officeDocument/2006/relationships/slide" Target="slide16.xml"/><Relationship Id="rId5" Type="http://schemas.openxmlformats.org/officeDocument/2006/relationships/image" Target="../media/image38.gif"/><Relationship Id="rId6" Type="http://schemas.openxmlformats.org/officeDocument/2006/relationships/slide" Target="slide16.xml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6.xml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0.gif"/><Relationship Id="rId3" Type="http://schemas.openxmlformats.org/officeDocument/2006/relationships/image" Target="../media/image3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39118;&#38083;" TargetMode="External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projcto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15.gif"/><Relationship Id="rId3" Type="http://schemas.openxmlformats.org/officeDocument/2006/relationships/image" Target="../media/image40.gif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6.jpeg"/><Relationship Id="rId3" Type="http://schemas.openxmlformats.org/officeDocument/2006/relationships/slide" Target="slide5.xml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u=3012738340,1698777925&amp;fm=0&amp;gp=34[1]"/>
          <p:cNvPicPr/>
          <p:nvPr/>
        </p:nvPicPr>
        <p:blipFill>
          <a:blip r:embed="rId1"/>
          <a:stretch/>
        </p:blipFill>
        <p:spPr>
          <a:xfrm>
            <a:off x="0" y="-110808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428" name="WordArt 5"/>
          <p:cNvSpPr txBox="1"/>
          <p:nvPr/>
        </p:nvSpPr>
        <p:spPr>
          <a:xfrm>
            <a:off x="4429080" y="5214960"/>
            <a:ext cx="287352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黑龙江省泰来县宏升中心学校　刘桂贤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9" name="WordArt 6"/>
          <p:cNvSpPr txBox="1"/>
          <p:nvPr/>
        </p:nvSpPr>
        <p:spPr>
          <a:xfrm>
            <a:off x="468360" y="1413000"/>
            <a:ext cx="30481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人教版八年级历史下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30" name="WordArt 7" descr=""/>
          <p:cNvPicPr/>
          <p:nvPr/>
        </p:nvPicPr>
        <p:blipFill>
          <a:blip r:embed="rId2"/>
          <a:stretch/>
        </p:blipFill>
        <p:spPr>
          <a:xfrm>
            <a:off x="1609560" y="2693880"/>
            <a:ext cx="6143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中苏两国政府在莫斯科签订《中苏友好同盟互助条约》。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1413000"/>
            <a:ext cx="4968720" cy="4195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476" name="Text Box 3"/>
          <p:cNvSpPr/>
          <p:nvPr/>
        </p:nvSpPr>
        <p:spPr>
          <a:xfrm>
            <a:off x="5292720" y="2138760"/>
            <a:ext cx="3486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1950.2.14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苏友好同盟互助条约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签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这是新中国与外国签订的第一个条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有人形容中苏关系是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同志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堂兄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>
            <a:hlinkClick r:id="rId2" action="ppaction://hlinksldjump"/>
          </p:cNvPr>
          <p:cNvSpPr/>
          <p:nvPr/>
        </p:nvSpPr>
        <p:spPr>
          <a:xfrm>
            <a:off x="8532720" y="6381720"/>
            <a:ext cx="505080" cy="412920"/>
          </a:xfrm>
          <a:custGeom>
            <a:avLst/>
            <a:gdLst>
              <a:gd name="textAreaLeft" fmla="*/ 26640 w 505080"/>
              <a:gd name="textAreaRight" fmla="*/ 478440 w 505080"/>
              <a:gd name="textAreaTop" fmla="*/ 26640 h 412920"/>
              <a:gd name="textAreaBottom" fmla="*/ 386280 h 412920"/>
            </a:gdLst>
            <a:ahLst/>
            <a:rect l="textAreaLeft" t="textAreaTop" r="textAreaRight" b="textAreaBottom"/>
            <a:pathLst>
              <a:path w="26417" h="21600">
                <a:moveTo>
                  <a:pt x="0" y="0"/>
                </a:moveTo>
                <a:lnTo>
                  <a:pt x="26417" y="0"/>
                </a:lnTo>
                <a:lnTo>
                  <a:pt x="26417" y="21600"/>
                </a:lnTo>
                <a:lnTo>
                  <a:pt x="0" y="21600"/>
                </a:lnTo>
                <a:close/>
              </a:path>
              <a:path fill="lightenLess" w="26417" h="21600">
                <a:moveTo>
                  <a:pt x="0" y="0"/>
                </a:moveTo>
                <a:lnTo>
                  <a:pt x="26417" y="0"/>
                </a:lnTo>
                <a:lnTo>
                  <a:pt x="25017" y="1400"/>
                </a:lnTo>
                <a:lnTo>
                  <a:pt x="1400" y="1400"/>
                </a:lnTo>
                <a:close/>
              </a:path>
              <a:path fill="darken" w="26417" h="21600">
                <a:moveTo>
                  <a:pt x="26417" y="0"/>
                </a:moveTo>
                <a:lnTo>
                  <a:pt x="26417" y="21600"/>
                </a:lnTo>
                <a:lnTo>
                  <a:pt x="25017" y="20200"/>
                </a:lnTo>
                <a:lnTo>
                  <a:pt x="25017" y="1400"/>
                </a:lnTo>
                <a:close/>
              </a:path>
              <a:path fill="darkenLess" w="26417" h="21600">
                <a:moveTo>
                  <a:pt x="26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7" y="20200"/>
                </a:lnTo>
                <a:close/>
              </a:path>
              <a:path fill="lighten" w="26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7" h="21600">
                <a:moveTo>
                  <a:pt x="13208" y="3837"/>
                </a:moveTo>
                <a:lnTo>
                  <a:pt x="15785" y="6448"/>
                </a:lnTo>
                <a:lnTo>
                  <a:pt x="15785" y="4707"/>
                </a:lnTo>
                <a:lnTo>
                  <a:pt x="17560" y="4707"/>
                </a:lnTo>
                <a:lnTo>
                  <a:pt x="17560" y="8224"/>
                </a:lnTo>
                <a:lnTo>
                  <a:pt x="20171" y="10800"/>
                </a:lnTo>
                <a:lnTo>
                  <a:pt x="18518" y="10800"/>
                </a:lnTo>
                <a:lnTo>
                  <a:pt x="18518" y="17989"/>
                </a:lnTo>
                <a:lnTo>
                  <a:pt x="7899" y="17989"/>
                </a:lnTo>
                <a:lnTo>
                  <a:pt x="7899" y="10800"/>
                </a:lnTo>
                <a:lnTo>
                  <a:pt x="6245" y="10800"/>
                </a:lnTo>
                <a:close/>
              </a:path>
              <a:path fill="darkenLess" w="26417" h="21600">
                <a:moveTo>
                  <a:pt x="15785" y="6448"/>
                </a:moveTo>
                <a:lnTo>
                  <a:pt x="15785" y="4707"/>
                </a:lnTo>
                <a:lnTo>
                  <a:pt x="17560" y="4707"/>
                </a:lnTo>
                <a:lnTo>
                  <a:pt x="17560" y="8224"/>
                </a:lnTo>
                <a:close/>
              </a:path>
              <a:path fill="darkenLess" w="26417" h="21600">
                <a:moveTo>
                  <a:pt x="12286" y="14299"/>
                </a:moveTo>
                <a:lnTo>
                  <a:pt x="14131" y="14299"/>
                </a:lnTo>
                <a:lnTo>
                  <a:pt x="14131" y="17989"/>
                </a:lnTo>
                <a:lnTo>
                  <a:pt x="18518" y="17989"/>
                </a:lnTo>
                <a:lnTo>
                  <a:pt x="18518" y="10800"/>
                </a:lnTo>
                <a:lnTo>
                  <a:pt x="7899" y="10800"/>
                </a:lnTo>
                <a:lnTo>
                  <a:pt x="7899" y="17989"/>
                </a:lnTo>
                <a:lnTo>
                  <a:pt x="12286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WordArt 5"/>
          <p:cNvSpPr txBox="1"/>
          <p:nvPr/>
        </p:nvSpPr>
        <p:spPr>
          <a:xfrm>
            <a:off x="108000" y="4777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4" descr="建国第一年同中国建交的国家"/>
          <p:cNvPicPr/>
          <p:nvPr/>
        </p:nvPicPr>
        <p:blipFill>
          <a:blip r:embed="rId1"/>
          <a:stretch/>
        </p:blipFill>
        <p:spPr>
          <a:xfrm>
            <a:off x="179280" y="47520"/>
            <a:ext cx="8713800" cy="670716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5">
            <a:hlinkClick r:id="rId2" action="ppaction://hlinksldjump"/>
          </p:cNvPr>
          <p:cNvSpPr/>
          <p:nvPr/>
        </p:nvSpPr>
        <p:spPr>
          <a:xfrm>
            <a:off x="8532720" y="6310440"/>
            <a:ext cx="554040" cy="431640"/>
          </a:xfrm>
          <a:custGeom>
            <a:avLst/>
            <a:gdLst>
              <a:gd name="textAreaLeft" fmla="*/ 27720 w 554040"/>
              <a:gd name="textAreaRight" fmla="*/ 526320 w 5540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720" h="21600">
                <a:moveTo>
                  <a:pt x="0" y="0"/>
                </a:moveTo>
                <a:lnTo>
                  <a:pt x="27720" y="0"/>
                </a:lnTo>
                <a:lnTo>
                  <a:pt x="27720" y="21600"/>
                </a:lnTo>
                <a:lnTo>
                  <a:pt x="0" y="21600"/>
                </a:lnTo>
                <a:close/>
              </a:path>
              <a:path fill="lightenLess" w="27720" h="21600">
                <a:moveTo>
                  <a:pt x="0" y="0"/>
                </a:moveTo>
                <a:lnTo>
                  <a:pt x="27720" y="0"/>
                </a:lnTo>
                <a:lnTo>
                  <a:pt x="26320" y="1400"/>
                </a:lnTo>
                <a:lnTo>
                  <a:pt x="1400" y="1400"/>
                </a:lnTo>
                <a:close/>
              </a:path>
              <a:path fill="darken" w="27720" h="21600">
                <a:moveTo>
                  <a:pt x="27720" y="0"/>
                </a:moveTo>
                <a:lnTo>
                  <a:pt x="27720" y="21600"/>
                </a:lnTo>
                <a:lnTo>
                  <a:pt x="26320" y="20200"/>
                </a:lnTo>
                <a:lnTo>
                  <a:pt x="26320" y="1400"/>
                </a:lnTo>
                <a:close/>
              </a:path>
              <a:path fill="darkenLess" w="27720" h="21600">
                <a:moveTo>
                  <a:pt x="27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20" y="20200"/>
                </a:lnTo>
                <a:close/>
              </a:path>
              <a:path fill="lighten" w="27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20" h="21600">
                <a:moveTo>
                  <a:pt x="13860" y="3837"/>
                </a:moveTo>
                <a:lnTo>
                  <a:pt x="16436" y="6448"/>
                </a:lnTo>
                <a:lnTo>
                  <a:pt x="16436" y="4707"/>
                </a:lnTo>
                <a:lnTo>
                  <a:pt x="18212" y="4707"/>
                </a:lnTo>
                <a:lnTo>
                  <a:pt x="18212" y="8224"/>
                </a:lnTo>
                <a:lnTo>
                  <a:pt x="20823" y="10800"/>
                </a:lnTo>
                <a:lnTo>
                  <a:pt x="19169" y="10800"/>
                </a:lnTo>
                <a:lnTo>
                  <a:pt x="19169" y="17989"/>
                </a:lnTo>
                <a:lnTo>
                  <a:pt x="8551" y="17989"/>
                </a:lnTo>
                <a:lnTo>
                  <a:pt x="8551" y="10800"/>
                </a:lnTo>
                <a:lnTo>
                  <a:pt x="6897" y="10800"/>
                </a:lnTo>
                <a:close/>
              </a:path>
              <a:path fill="darkenLess" w="27720" h="21600">
                <a:moveTo>
                  <a:pt x="16436" y="6448"/>
                </a:moveTo>
                <a:lnTo>
                  <a:pt x="16436" y="4707"/>
                </a:lnTo>
                <a:lnTo>
                  <a:pt x="18212" y="4707"/>
                </a:lnTo>
                <a:lnTo>
                  <a:pt x="18212" y="8224"/>
                </a:lnTo>
                <a:close/>
              </a:path>
              <a:path fill="darkenLess" w="27720" h="21600">
                <a:moveTo>
                  <a:pt x="12937" y="14299"/>
                </a:moveTo>
                <a:lnTo>
                  <a:pt x="14783" y="14299"/>
                </a:lnTo>
                <a:lnTo>
                  <a:pt x="14783" y="17989"/>
                </a:lnTo>
                <a:lnTo>
                  <a:pt x="19169" y="17989"/>
                </a:lnTo>
                <a:lnTo>
                  <a:pt x="19169" y="10800"/>
                </a:lnTo>
                <a:lnTo>
                  <a:pt x="8551" y="10800"/>
                </a:lnTo>
                <a:lnTo>
                  <a:pt x="8551" y="17989"/>
                </a:lnTo>
                <a:lnTo>
                  <a:pt x="1293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791480" cy="8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一、和平共处五项原则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08000" y="2060640"/>
            <a:ext cx="6337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1953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周恩来在接见印度代表团时首次提出。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1954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年确立下来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30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30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30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431640" y="217332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324000" y="3860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933480" y="53420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2195640" y="386064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尊重主权和领土完整，互不侵犯，互不干涉内政，平等互利，和平共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2124000" y="5373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平共处五项原则在国际上产生深远影响，成为处理国与国之间关系的基本准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WordArt 9"/>
          <p:cNvSpPr txBox="1"/>
          <p:nvPr/>
        </p:nvSpPr>
        <p:spPr>
          <a:xfrm>
            <a:off x="108000" y="4777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491" name="WordArt 10"/>
          <p:cNvSpPr txBox="1"/>
          <p:nvPr/>
        </p:nvSpPr>
        <p:spPr>
          <a:xfrm>
            <a:off x="250920" y="477720"/>
            <a:ext cx="273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492" name="WordArt 11"/>
          <p:cNvSpPr txBox="1"/>
          <p:nvPr/>
        </p:nvSpPr>
        <p:spPr>
          <a:xfrm>
            <a:off x="395280" y="40464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493" name="AutoShape 12">
            <a:hlinkClick r:id="rId5" action="ppaction://hlinksldjump"/>
          </p:cNvPr>
          <p:cNvSpPr/>
          <p:nvPr/>
        </p:nvSpPr>
        <p:spPr>
          <a:xfrm flipH="1">
            <a:off x="8676720" y="6310440"/>
            <a:ext cx="409320" cy="482400"/>
          </a:xfrm>
          <a:custGeom>
            <a:avLst/>
            <a:gdLst>
              <a:gd name="textAreaLeft" fmla="*/ 26280 w 409320"/>
              <a:gd name="textAreaRight" fmla="*/ 383040 w 409320"/>
              <a:gd name="textAreaTop" fmla="*/ 26280 h 482400"/>
              <a:gd name="textAreaBottom" fmla="*/ 456120 h 482400"/>
            </a:gdLst>
            <a:ahLst/>
            <a:rect l="textAreaLeft" t="textAreaTop" r="textAreaRight" b="textAreaBottom"/>
            <a:pathLst>
              <a:path w="21600" h="25453">
                <a:moveTo>
                  <a:pt x="0" y="0"/>
                </a:moveTo>
                <a:lnTo>
                  <a:pt x="21600" y="0"/>
                </a:lnTo>
                <a:lnTo>
                  <a:pt x="21600" y="25453"/>
                </a:lnTo>
                <a:lnTo>
                  <a:pt x="0" y="25453"/>
                </a:lnTo>
                <a:close/>
              </a:path>
              <a:path fill="lightenLess" w="21600" h="254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53">
                <a:moveTo>
                  <a:pt x="21600" y="0"/>
                </a:moveTo>
                <a:lnTo>
                  <a:pt x="21600" y="25453"/>
                </a:lnTo>
                <a:lnTo>
                  <a:pt x="20200" y="24053"/>
                </a:lnTo>
                <a:lnTo>
                  <a:pt x="20200" y="1400"/>
                </a:lnTo>
                <a:close/>
              </a:path>
              <a:path fill="darkenLess" w="21600" h="25453">
                <a:moveTo>
                  <a:pt x="21600" y="25453"/>
                </a:moveTo>
                <a:lnTo>
                  <a:pt x="0" y="25453"/>
                </a:lnTo>
                <a:lnTo>
                  <a:pt x="1400" y="24053"/>
                </a:lnTo>
                <a:lnTo>
                  <a:pt x="20200" y="24053"/>
                </a:lnTo>
                <a:close/>
              </a:path>
              <a:path fill="lighten" w="21600" h="25453">
                <a:moveTo>
                  <a:pt x="0" y="254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53"/>
                </a:lnTo>
                <a:close/>
              </a:path>
              <a:path fill="darken" w="21600" h="25453">
                <a:moveTo>
                  <a:pt x="10800" y="5764"/>
                </a:moveTo>
                <a:lnTo>
                  <a:pt x="13376" y="8375"/>
                </a:lnTo>
                <a:lnTo>
                  <a:pt x="13376" y="6634"/>
                </a:lnTo>
                <a:lnTo>
                  <a:pt x="15152" y="6634"/>
                </a:lnTo>
                <a:lnTo>
                  <a:pt x="15152" y="10150"/>
                </a:lnTo>
                <a:lnTo>
                  <a:pt x="17763" y="12727"/>
                </a:lnTo>
                <a:lnTo>
                  <a:pt x="16109" y="12727"/>
                </a:lnTo>
                <a:lnTo>
                  <a:pt x="16109" y="19916"/>
                </a:lnTo>
                <a:lnTo>
                  <a:pt x="5491" y="19916"/>
                </a:lnTo>
                <a:lnTo>
                  <a:pt x="5491" y="12727"/>
                </a:lnTo>
                <a:lnTo>
                  <a:pt x="3837" y="12727"/>
                </a:lnTo>
                <a:close/>
              </a:path>
              <a:path fill="darkenLess" w="21600" h="25453">
                <a:moveTo>
                  <a:pt x="13376" y="8375"/>
                </a:moveTo>
                <a:lnTo>
                  <a:pt x="13376" y="6634"/>
                </a:lnTo>
                <a:lnTo>
                  <a:pt x="15152" y="6634"/>
                </a:lnTo>
                <a:lnTo>
                  <a:pt x="15152" y="10150"/>
                </a:lnTo>
                <a:close/>
              </a:path>
              <a:path fill="darkenLess" w="21600" h="25453">
                <a:moveTo>
                  <a:pt x="9877" y="16225"/>
                </a:moveTo>
                <a:lnTo>
                  <a:pt x="11723" y="16225"/>
                </a:lnTo>
                <a:lnTo>
                  <a:pt x="11723" y="19916"/>
                </a:lnTo>
                <a:lnTo>
                  <a:pt x="16109" y="19916"/>
                </a:lnTo>
                <a:lnTo>
                  <a:pt x="16109" y="12727"/>
                </a:lnTo>
                <a:lnTo>
                  <a:pt x="5491" y="12727"/>
                </a:lnTo>
                <a:lnTo>
                  <a:pt x="5491" y="19916"/>
                </a:lnTo>
                <a:lnTo>
                  <a:pt x="9877" y="1991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3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3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WordArt 2" descr=""/>
          <p:cNvPicPr/>
          <p:nvPr/>
        </p:nvPicPr>
        <p:blipFill>
          <a:blip r:embed="rId1"/>
          <a:stretch/>
        </p:blipFill>
        <p:spPr>
          <a:xfrm>
            <a:off x="3267000" y="225360"/>
            <a:ext cx="5664240" cy="5922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1953年12月31日，周恩来在会见印度政府代表团时第一次提出和平共处五项原则。这是1954年6月下旬，应邀访问印度时，和印度总统拉金德拉普拉沙德（右一）、副总统萨瓦帕利拉达克里希南（右三）、总理贾瓦哈拉尔尼赫鲁合影"/>
          <p:cNvPicPr/>
          <p:nvPr/>
        </p:nvPicPr>
        <p:blipFill>
          <a:blip r:embed="rId2"/>
          <a:stretch/>
        </p:blipFill>
        <p:spPr>
          <a:xfrm>
            <a:off x="2050920" y="1125360"/>
            <a:ext cx="5361120" cy="3807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496" name="Rectangle 4"/>
          <p:cNvSpPr/>
          <p:nvPr/>
        </p:nvSpPr>
        <p:spPr>
          <a:xfrm>
            <a:off x="2124000" y="5445000"/>
            <a:ext cx="6410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95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周恩来在会见印度政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代表团时第一次提出和平共处五项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19640" y="5950080"/>
            <a:ext cx="1008000" cy="35856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6" descr="图中红线为中国国境线，绿线为印度军事占领线，即“麦克马洪线”。"/>
          <p:cNvPicPr/>
          <p:nvPr/>
        </p:nvPicPr>
        <p:blipFill>
          <a:blip r:embed="rId3"/>
          <a:stretch/>
        </p:blipFill>
        <p:spPr>
          <a:xfrm>
            <a:off x="250920" y="3933720"/>
            <a:ext cx="4680000" cy="2670120"/>
          </a:xfrm>
          <a:prstGeom prst="rect">
            <a:avLst/>
          </a:prstGeom>
          <a:ln w="0">
            <a:noFill/>
          </a:ln>
        </p:spPr>
      </p:pic>
      <p:sp>
        <p:nvSpPr>
          <p:cNvPr id="499" name="WordArt 7"/>
          <p:cNvSpPr txBox="1"/>
          <p:nvPr/>
        </p:nvSpPr>
        <p:spPr>
          <a:xfrm>
            <a:off x="108000" y="4777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280" y="17013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周恩来访问印度、缅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384360" cy="316692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684360" y="5805360"/>
            <a:ext cx="115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835280" y="5805360"/>
            <a:ext cx="111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尼赫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481720" y="1844640"/>
            <a:ext cx="357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95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年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456000" cy="31687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8"/>
          <p:cNvSpPr/>
          <p:nvPr/>
        </p:nvSpPr>
        <p:spPr>
          <a:xfrm>
            <a:off x="5364000" y="5518080"/>
            <a:ext cx="1152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6948360" y="5518080"/>
            <a:ext cx="11541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吴   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WordArt 10"/>
          <p:cNvSpPr txBox="1"/>
          <p:nvPr/>
        </p:nvSpPr>
        <p:spPr>
          <a:xfrm>
            <a:off x="468360" y="1054080"/>
            <a:ext cx="2735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09" name="AutoShape 11">
            <a:hlinkClick r:id="rId3" action="ppaction://hlinksldjump"/>
          </p:cNvPr>
          <p:cNvSpPr/>
          <p:nvPr/>
        </p:nvSpPr>
        <p:spPr>
          <a:xfrm>
            <a:off x="8532720" y="6381720"/>
            <a:ext cx="627120" cy="482760"/>
          </a:xfrm>
          <a:custGeom>
            <a:avLst/>
            <a:gdLst>
              <a:gd name="textAreaLeft" fmla="*/ 30960 w 627120"/>
              <a:gd name="textAreaRight" fmla="*/ 596160 w 627120"/>
              <a:gd name="textAreaTop" fmla="*/ 30960 h 482760"/>
              <a:gd name="textAreaBottom" fmla="*/ 451800 h 482760"/>
            </a:gdLst>
            <a:ahLst/>
            <a:rect l="textAreaLeft" t="textAreaTop" r="textAreaRight" b="textAreaBottom"/>
            <a:pathLst>
              <a:path w="28054" h="21600">
                <a:moveTo>
                  <a:pt x="0" y="0"/>
                </a:moveTo>
                <a:lnTo>
                  <a:pt x="28054" y="0"/>
                </a:lnTo>
                <a:lnTo>
                  <a:pt x="28054" y="21600"/>
                </a:lnTo>
                <a:lnTo>
                  <a:pt x="0" y="21600"/>
                </a:lnTo>
                <a:close/>
              </a:path>
              <a:path fill="lightenLess" w="28054" h="21600">
                <a:moveTo>
                  <a:pt x="0" y="0"/>
                </a:moveTo>
                <a:lnTo>
                  <a:pt x="28054" y="0"/>
                </a:lnTo>
                <a:lnTo>
                  <a:pt x="26654" y="1400"/>
                </a:lnTo>
                <a:lnTo>
                  <a:pt x="1400" y="1400"/>
                </a:lnTo>
                <a:close/>
              </a:path>
              <a:path fill="darken" w="28054" h="21600">
                <a:moveTo>
                  <a:pt x="28054" y="0"/>
                </a:moveTo>
                <a:lnTo>
                  <a:pt x="28054" y="21600"/>
                </a:lnTo>
                <a:lnTo>
                  <a:pt x="26654" y="20200"/>
                </a:lnTo>
                <a:lnTo>
                  <a:pt x="26654" y="1400"/>
                </a:lnTo>
                <a:close/>
              </a:path>
              <a:path fill="darkenLess" w="28054" h="21600">
                <a:moveTo>
                  <a:pt x="28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54" y="20200"/>
                </a:lnTo>
                <a:close/>
              </a:path>
              <a:path fill="lighten" w="28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54" h="21600">
                <a:moveTo>
                  <a:pt x="14027" y="3837"/>
                </a:moveTo>
                <a:lnTo>
                  <a:pt x="16603" y="6448"/>
                </a:lnTo>
                <a:lnTo>
                  <a:pt x="16603" y="4707"/>
                </a:lnTo>
                <a:lnTo>
                  <a:pt x="18379" y="4707"/>
                </a:lnTo>
                <a:lnTo>
                  <a:pt x="18379" y="8224"/>
                </a:lnTo>
                <a:lnTo>
                  <a:pt x="20990" y="10800"/>
                </a:lnTo>
                <a:lnTo>
                  <a:pt x="19336" y="10800"/>
                </a:lnTo>
                <a:lnTo>
                  <a:pt x="19336" y="17989"/>
                </a:lnTo>
                <a:lnTo>
                  <a:pt x="8718" y="17989"/>
                </a:lnTo>
                <a:lnTo>
                  <a:pt x="8718" y="10800"/>
                </a:lnTo>
                <a:lnTo>
                  <a:pt x="7064" y="10800"/>
                </a:lnTo>
                <a:close/>
              </a:path>
              <a:path fill="darkenLess" w="28054" h="21600">
                <a:moveTo>
                  <a:pt x="16603" y="6448"/>
                </a:moveTo>
                <a:lnTo>
                  <a:pt x="16603" y="4707"/>
                </a:lnTo>
                <a:lnTo>
                  <a:pt x="18379" y="4707"/>
                </a:lnTo>
                <a:lnTo>
                  <a:pt x="18379" y="8224"/>
                </a:lnTo>
                <a:close/>
              </a:path>
              <a:path fill="darkenLess" w="28054" h="21600">
                <a:moveTo>
                  <a:pt x="13105" y="14299"/>
                </a:moveTo>
                <a:lnTo>
                  <a:pt x="14950" y="14299"/>
                </a:lnTo>
                <a:lnTo>
                  <a:pt x="14950" y="17989"/>
                </a:lnTo>
                <a:lnTo>
                  <a:pt x="19336" y="17989"/>
                </a:lnTo>
                <a:lnTo>
                  <a:pt x="19336" y="10800"/>
                </a:lnTo>
                <a:lnTo>
                  <a:pt x="8718" y="10800"/>
                </a:lnTo>
                <a:lnTo>
                  <a:pt x="8718" y="17989"/>
                </a:lnTo>
                <a:lnTo>
                  <a:pt x="1310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周恩来访问印度、缅甸.录音swf.wav" descr="周恩来访问印度、缅甸"/>
          <p:cNvPicPr/>
          <p:nvPr/>
        </p:nvPicPr>
        <p:blipFill>
          <a:blip r:embed="rId4"/>
          <a:stretch/>
        </p:blipFill>
        <p:spPr>
          <a:xfrm>
            <a:off x="7885080" y="645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9796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二、周恩来出席万隆会议：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55280" y="1847520"/>
            <a:ext cx="59770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间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        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点：印度尼西亚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      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会议主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讨论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等共同关心的问题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性质：第一次没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国家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加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会议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04000" y="2349360"/>
            <a:ext cx="2266920" cy="31672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2050920" y="184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5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4140360" y="22780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2987640" y="263844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保卫和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4716360" y="2638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争取民族独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900000" y="30700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发展民族经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708360" y="350208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殖民主义国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1476360" y="39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亚非国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755640" y="443700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贡献：周恩来提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针，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了会议的圆满成功，也促进了中国同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各国的—————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3708360" y="4221000"/>
            <a:ext cx="19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求同存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4"/>
          <p:cNvSpPr/>
          <p:nvPr/>
        </p:nvSpPr>
        <p:spPr>
          <a:xfrm>
            <a:off x="2195640" y="5302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团结与合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WordArt 15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25" name="Text Box 16"/>
          <p:cNvSpPr/>
          <p:nvPr/>
        </p:nvSpPr>
        <p:spPr>
          <a:xfrm>
            <a:off x="7466040" y="608472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395280" y="3286080"/>
            <a:ext cx="792000" cy="7642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244520" y="3141720"/>
            <a:ext cx="63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遭遇相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曾经受到帝国主义的侵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1116000" y="4005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面临问题相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何发展国家经济，维护民族独立，促进世界和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324000" y="5445000"/>
            <a:ext cx="792000" cy="7642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260360" y="5445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社会制度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1260360" y="595008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设道路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468360" y="155736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国代表团是来求团结而不是吵架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来求同而不是立异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我们的会议应该求同存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。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周恩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WordArt 9" descr=""/>
          <p:cNvPicPr/>
          <p:nvPr/>
        </p:nvPicPr>
        <p:blipFill>
          <a:blip r:embed="rId1"/>
          <a:stretch/>
        </p:blipFill>
        <p:spPr>
          <a:xfrm>
            <a:off x="3408480" y="682560"/>
            <a:ext cx="4876560" cy="592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万隆会议上的周恩来总理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27640" y="3286080"/>
            <a:ext cx="2241720" cy="2997360"/>
          </a:xfrm>
          <a:prstGeom prst="rect">
            <a:avLst/>
          </a:prstGeom>
          <a:ln w="0">
            <a:noFill/>
          </a:ln>
        </p:spPr>
      </p:pic>
      <p:sp>
        <p:nvSpPr>
          <p:cNvPr id="535" name="WordArt 11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周恩来在万隆会议上的讲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8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16000" y="1844640"/>
            <a:ext cx="4465800" cy="38401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2911320" y="2205000"/>
            <a:ext cx="549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18320" y="2349360"/>
            <a:ext cx="5461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代表团是来求团结的，而不是来吵架的，我们是来求同的而不是来立异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万隆会议1.wav" descr="万隆会议1"/>
          <p:cNvPicPr/>
          <p:nvPr/>
        </p:nvPicPr>
        <p:blipFill>
          <a:blip r:embed="rId3"/>
          <a:stretch/>
        </p:blipFill>
        <p:spPr>
          <a:xfrm>
            <a:off x="817236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9796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044720" y="2349360"/>
            <a:ext cx="3382920" cy="3432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76720" y="2349360"/>
            <a:ext cx="3390840" cy="3456000"/>
          </a:xfrm>
          <a:prstGeom prst="rect">
            <a:avLst/>
          </a:prstGeom>
          <a:ln w="0">
            <a:noFill/>
          </a:ln>
        </p:spPr>
      </p:pic>
      <p:pic>
        <p:nvPicPr>
          <p:cNvPr id="545" name="万隆会议2wav.wav" descr="万隆会议2wav"/>
          <p:cNvPicPr/>
          <p:nvPr/>
        </p:nvPicPr>
        <p:blipFill>
          <a:blip r:embed="rId4"/>
          <a:stretch/>
        </p:blipFill>
        <p:spPr>
          <a:xfrm>
            <a:off x="8461440" y="63104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周恩来在万隆会议上的讲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WordArt 6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9796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周恩来在万隆会议上的讲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831960" y="2281320"/>
            <a:ext cx="3311280" cy="34527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4719600" y="2278080"/>
            <a:ext cx="3238560" cy="3384360"/>
          </a:xfrm>
          <a:prstGeom prst="rect">
            <a:avLst/>
          </a:prstGeom>
          <a:ln w="0">
            <a:noFill/>
          </a:ln>
        </p:spPr>
      </p:pic>
      <p:pic>
        <p:nvPicPr>
          <p:cNvPr id="551" name="万隆会议3wav.wav" descr="万隆会议3wav"/>
          <p:cNvPicPr/>
          <p:nvPr/>
        </p:nvPicPr>
        <p:blipFill>
          <a:blip r:embed="rId3"/>
          <a:stretch/>
        </p:blipFill>
        <p:spPr>
          <a:xfrm>
            <a:off x="8245440" y="645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2" name="WordArt 6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53" name="AutoShape 7">
            <a:hlinkClick r:id="rId4" action="ppaction://hlinksldjump"/>
          </p:cNvPr>
          <p:cNvSpPr/>
          <p:nvPr/>
        </p:nvSpPr>
        <p:spPr>
          <a:xfrm flipH="1" flipV="1" rot="10800000">
            <a:off x="8677440" y="6309360"/>
            <a:ext cx="482400" cy="409320"/>
          </a:xfrm>
          <a:custGeom>
            <a:avLst/>
            <a:gdLst>
              <a:gd name="textAreaLeft" fmla="*/ 26280 w 482400"/>
              <a:gd name="textAreaRight" fmla="*/ 456120 w 482400"/>
              <a:gd name="textAreaTop" fmla="*/ 26280 h 409320"/>
              <a:gd name="textAreaBottom" fmla="*/ 383040 h 409320"/>
            </a:gdLst>
            <a:ahLst/>
            <a:rect l="textAreaLeft" t="textAreaTop" r="textAreaRight" b="textAreaBottom"/>
            <a:pathLst>
              <a:path w="25453" h="21600">
                <a:moveTo>
                  <a:pt x="0" y="0"/>
                </a:moveTo>
                <a:lnTo>
                  <a:pt x="25453" y="0"/>
                </a:lnTo>
                <a:lnTo>
                  <a:pt x="25453" y="21600"/>
                </a:lnTo>
                <a:lnTo>
                  <a:pt x="0" y="21600"/>
                </a:lnTo>
                <a:close/>
              </a:path>
              <a:path fill="lightenLess" w="25453" h="21600">
                <a:moveTo>
                  <a:pt x="0" y="0"/>
                </a:moveTo>
                <a:lnTo>
                  <a:pt x="25453" y="0"/>
                </a:lnTo>
                <a:lnTo>
                  <a:pt x="24053" y="1400"/>
                </a:lnTo>
                <a:lnTo>
                  <a:pt x="1400" y="1400"/>
                </a:lnTo>
                <a:close/>
              </a:path>
              <a:path fill="darken" w="25453" h="21600">
                <a:moveTo>
                  <a:pt x="25453" y="0"/>
                </a:moveTo>
                <a:lnTo>
                  <a:pt x="25453" y="21600"/>
                </a:lnTo>
                <a:lnTo>
                  <a:pt x="24053" y="20200"/>
                </a:lnTo>
                <a:lnTo>
                  <a:pt x="24053" y="1400"/>
                </a:lnTo>
                <a:close/>
              </a:path>
              <a:path fill="darkenLess" w="25453" h="21600">
                <a:moveTo>
                  <a:pt x="25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53" y="20200"/>
                </a:lnTo>
                <a:close/>
              </a:path>
              <a:path fill="lighten" w="25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53" h="21600">
                <a:moveTo>
                  <a:pt x="12727" y="3837"/>
                </a:moveTo>
                <a:lnTo>
                  <a:pt x="15303" y="6448"/>
                </a:lnTo>
                <a:lnTo>
                  <a:pt x="15303" y="4707"/>
                </a:lnTo>
                <a:lnTo>
                  <a:pt x="17078" y="4707"/>
                </a:lnTo>
                <a:lnTo>
                  <a:pt x="17078" y="8224"/>
                </a:lnTo>
                <a:lnTo>
                  <a:pt x="19690" y="10800"/>
                </a:lnTo>
                <a:lnTo>
                  <a:pt x="18036" y="10800"/>
                </a:lnTo>
                <a:lnTo>
                  <a:pt x="18036" y="17989"/>
                </a:lnTo>
                <a:lnTo>
                  <a:pt x="7417" y="17989"/>
                </a:lnTo>
                <a:lnTo>
                  <a:pt x="7417" y="10800"/>
                </a:lnTo>
                <a:lnTo>
                  <a:pt x="5764" y="10800"/>
                </a:lnTo>
                <a:close/>
              </a:path>
              <a:path fill="darkenLess" w="25453" h="21600">
                <a:moveTo>
                  <a:pt x="15303" y="6448"/>
                </a:moveTo>
                <a:lnTo>
                  <a:pt x="15303" y="4707"/>
                </a:lnTo>
                <a:lnTo>
                  <a:pt x="17078" y="4707"/>
                </a:lnTo>
                <a:lnTo>
                  <a:pt x="17078" y="8224"/>
                </a:lnTo>
                <a:close/>
              </a:path>
              <a:path fill="darkenLess" w="25453" h="21600">
                <a:moveTo>
                  <a:pt x="11804" y="14299"/>
                </a:moveTo>
                <a:lnTo>
                  <a:pt x="13649" y="14299"/>
                </a:lnTo>
                <a:lnTo>
                  <a:pt x="13649" y="17989"/>
                </a:lnTo>
                <a:lnTo>
                  <a:pt x="18036" y="17989"/>
                </a:lnTo>
                <a:lnTo>
                  <a:pt x="18036" y="10800"/>
                </a:lnTo>
                <a:lnTo>
                  <a:pt x="7417" y="10800"/>
                </a:lnTo>
                <a:lnTo>
                  <a:pt x="7417" y="17989"/>
                </a:lnTo>
                <a:lnTo>
                  <a:pt x="11804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9796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u=431972385,104151369&amp;fm=0&amp;gp=36[1]"/>
          <p:cNvPicPr/>
          <p:nvPr/>
        </p:nvPicPr>
        <p:blipFill>
          <a:blip r:embed="rId1"/>
          <a:stretch/>
        </p:blipFill>
        <p:spPr>
          <a:xfrm>
            <a:off x="3564000" y="2852640"/>
            <a:ext cx="1871640" cy="236700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3"/>
          <p:cNvSpPr/>
          <p:nvPr/>
        </p:nvSpPr>
        <p:spPr>
          <a:xfrm>
            <a:off x="971640" y="5229360"/>
            <a:ext cx="187164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 Rounded MT Bold"/>
                <a:ea typeface="黑体"/>
              </a:rPr>
              <a:t>玄奘西游天竺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3564000" y="5157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鉴真东渡日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45080" y="5157720"/>
            <a:ext cx="1581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 Rounded MT Bold"/>
                <a:ea typeface="黑体"/>
              </a:rPr>
              <a:t>郑和下西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WordArt 6"/>
          <p:cNvSpPr txBox="1"/>
          <p:nvPr/>
        </p:nvSpPr>
        <p:spPr>
          <a:xfrm>
            <a:off x="395280" y="909720"/>
            <a:ext cx="2951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回顾历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436" name="WordArt 7"/>
          <p:cNvSpPr txBox="1"/>
          <p:nvPr/>
        </p:nvSpPr>
        <p:spPr>
          <a:xfrm>
            <a:off x="611280" y="1557360"/>
            <a:ext cx="712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你能用几个词来概括古代中国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外交的基本特征吗？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7" name="Picture 8" descr="ls00100030[1]"/>
          <p:cNvPicPr/>
          <p:nvPr/>
        </p:nvPicPr>
        <p:blipFill>
          <a:blip r:embed="rId2"/>
          <a:stretch/>
        </p:blipFill>
        <p:spPr>
          <a:xfrm>
            <a:off x="900000" y="2852640"/>
            <a:ext cx="1873440" cy="2371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zh0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72360" y="2854440"/>
            <a:ext cx="1726920" cy="2303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3122640" y="5446800"/>
            <a:ext cx="58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11" descr="jian0007"/>
          <p:cNvPicPr/>
          <p:nvPr/>
        </p:nvPicPr>
        <p:blipFill>
          <a:blip r:embed="rId5"/>
          <a:stretch/>
        </p:blipFill>
        <p:spPr>
          <a:xfrm rot="3031800">
            <a:off x="2936520" y="5424480"/>
            <a:ext cx="1008000" cy="617760"/>
          </a:xfrm>
          <a:prstGeom prst="rect">
            <a:avLst/>
          </a:prstGeom>
          <a:ln w="0">
            <a:noFill/>
          </a:ln>
        </p:spPr>
      </p:pic>
      <p:sp>
        <p:nvSpPr>
          <p:cNvPr id="441" name="WordArt 12"/>
          <p:cNvSpPr txBox="1"/>
          <p:nvPr/>
        </p:nvSpPr>
        <p:spPr>
          <a:xfrm rot="20907000">
            <a:off x="3348000" y="5805360"/>
            <a:ext cx="4896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独立 自主 和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2"/>
          <p:cNvSpPr txBox="1"/>
          <p:nvPr/>
        </p:nvSpPr>
        <p:spPr>
          <a:xfrm>
            <a:off x="2050920" y="10447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万隆精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5" name="Picture 3" descr="stars"/>
          <p:cNvPicPr/>
          <p:nvPr/>
        </p:nvPicPr>
        <p:blipFill>
          <a:blip r:embed="rId1"/>
          <a:stretch/>
        </p:blipFill>
        <p:spPr>
          <a:xfrm>
            <a:off x="5940360" y="0"/>
            <a:ext cx="2362320" cy="2133720"/>
          </a:xfrm>
          <a:prstGeom prst="rect">
            <a:avLst/>
          </a:prstGeom>
          <a:ln w="0">
            <a:noFill/>
          </a:ln>
        </p:spPr>
      </p:pic>
      <p:sp>
        <p:nvSpPr>
          <p:cNvPr id="556" name="WordArt 4"/>
          <p:cNvSpPr txBox="1"/>
          <p:nvPr/>
        </p:nvSpPr>
        <p:spPr>
          <a:xfrm>
            <a:off x="1044720" y="314172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亚非人民团结一致，保卫世界和平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增进各国人民间友谊的精神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称为“万隆精神”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557" name="WordArt 5"/>
          <p:cNvSpPr txBox="1"/>
          <p:nvPr/>
        </p:nvSpPr>
        <p:spPr>
          <a:xfrm>
            <a:off x="324000" y="189000"/>
            <a:ext cx="27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6800760" y="6130800"/>
            <a:ext cx="7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7">
            <a:hlinkClick r:id="rId2" action="ppaction://hlinksldjump"/>
          </p:cNvPr>
          <p:cNvSpPr/>
          <p:nvPr/>
        </p:nvSpPr>
        <p:spPr>
          <a:xfrm>
            <a:off x="8388360" y="6238800"/>
            <a:ext cx="698400" cy="554040"/>
          </a:xfrm>
          <a:custGeom>
            <a:avLst/>
            <a:gdLst>
              <a:gd name="textAreaLeft" fmla="*/ 35640 w 698400"/>
              <a:gd name="textAreaRight" fmla="*/ 662760 w 698400"/>
              <a:gd name="textAreaTop" fmla="*/ 35640 h 554040"/>
              <a:gd name="textAreaBottom" fmla="*/ 518400 h 554040"/>
            </a:gdLst>
            <a:ahLst/>
            <a:rect l="textAreaLeft" t="textAreaTop" r="textAreaRight" b="textAreaBottom"/>
            <a:pathLst>
              <a:path w="27224" h="21600">
                <a:moveTo>
                  <a:pt x="0" y="0"/>
                </a:moveTo>
                <a:lnTo>
                  <a:pt x="27224" y="0"/>
                </a:lnTo>
                <a:lnTo>
                  <a:pt x="27224" y="21600"/>
                </a:lnTo>
                <a:lnTo>
                  <a:pt x="0" y="21600"/>
                </a:lnTo>
                <a:close/>
              </a:path>
              <a:path fill="lightenLess" w="27224" h="21600">
                <a:moveTo>
                  <a:pt x="0" y="0"/>
                </a:moveTo>
                <a:lnTo>
                  <a:pt x="27224" y="0"/>
                </a:lnTo>
                <a:lnTo>
                  <a:pt x="25824" y="1400"/>
                </a:lnTo>
                <a:lnTo>
                  <a:pt x="1400" y="1400"/>
                </a:lnTo>
                <a:close/>
              </a:path>
              <a:path fill="darken" w="27224" h="21600">
                <a:moveTo>
                  <a:pt x="27224" y="0"/>
                </a:moveTo>
                <a:lnTo>
                  <a:pt x="27224" y="21600"/>
                </a:lnTo>
                <a:lnTo>
                  <a:pt x="25824" y="20200"/>
                </a:lnTo>
                <a:lnTo>
                  <a:pt x="25824" y="1400"/>
                </a:lnTo>
                <a:close/>
              </a:path>
              <a:path fill="darkenLess" w="27224" h="21600">
                <a:moveTo>
                  <a:pt x="27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4" y="20200"/>
                </a:lnTo>
                <a:close/>
              </a:path>
              <a:path fill="lighten" w="27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4" h="21600">
                <a:moveTo>
                  <a:pt x="13612" y="3837"/>
                </a:moveTo>
                <a:lnTo>
                  <a:pt x="16189" y="6448"/>
                </a:lnTo>
                <a:lnTo>
                  <a:pt x="16189" y="4707"/>
                </a:lnTo>
                <a:lnTo>
                  <a:pt x="17964" y="4707"/>
                </a:lnTo>
                <a:lnTo>
                  <a:pt x="17964" y="8224"/>
                </a:lnTo>
                <a:lnTo>
                  <a:pt x="20575" y="10800"/>
                </a:lnTo>
                <a:lnTo>
                  <a:pt x="18921" y="10800"/>
                </a:lnTo>
                <a:lnTo>
                  <a:pt x="18921" y="17989"/>
                </a:lnTo>
                <a:lnTo>
                  <a:pt x="8303" y="17989"/>
                </a:lnTo>
                <a:lnTo>
                  <a:pt x="8303" y="10800"/>
                </a:lnTo>
                <a:lnTo>
                  <a:pt x="6649" y="10800"/>
                </a:lnTo>
                <a:close/>
              </a:path>
              <a:path fill="darkenLess" w="27224" h="21600">
                <a:moveTo>
                  <a:pt x="16189" y="6448"/>
                </a:moveTo>
                <a:lnTo>
                  <a:pt x="16189" y="4707"/>
                </a:lnTo>
                <a:lnTo>
                  <a:pt x="17964" y="4707"/>
                </a:lnTo>
                <a:lnTo>
                  <a:pt x="17964" y="8224"/>
                </a:lnTo>
                <a:close/>
              </a:path>
              <a:path fill="darkenLess" w="27224" h="21600">
                <a:moveTo>
                  <a:pt x="12690" y="14299"/>
                </a:moveTo>
                <a:lnTo>
                  <a:pt x="14535" y="14299"/>
                </a:lnTo>
                <a:lnTo>
                  <a:pt x="14535" y="17989"/>
                </a:lnTo>
                <a:lnTo>
                  <a:pt x="18921" y="17989"/>
                </a:lnTo>
                <a:lnTo>
                  <a:pt x="18921" y="10800"/>
                </a:lnTo>
                <a:lnTo>
                  <a:pt x="8303" y="10800"/>
                </a:lnTo>
                <a:lnTo>
                  <a:pt x="8303" y="17989"/>
                </a:lnTo>
                <a:lnTo>
                  <a:pt x="12690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Rounded MT Bold"/>
              </a:rPr>
              <a:t>周恩来在新中国成立初期的外交活动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250920" y="1917720"/>
            <a:ext cx="1873080" cy="2303280"/>
          </a:xfrm>
          <a:prstGeom prst="rect">
            <a:avLst/>
          </a:prstGeom>
          <a:ln w="0">
            <a:noFill/>
          </a:ln>
        </p:spPr>
      </p:pic>
      <p:sp>
        <p:nvSpPr>
          <p:cNvPr id="562" name="WordArt 4"/>
          <p:cNvSpPr txBox="1"/>
          <p:nvPr/>
        </p:nvSpPr>
        <p:spPr>
          <a:xfrm>
            <a:off x="324000" y="189000"/>
            <a:ext cx="27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2016360" cy="2305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2089080" cy="23050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77080" y="1773360"/>
            <a:ext cx="2158920" cy="237492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8"/>
          <p:cNvSpPr/>
          <p:nvPr/>
        </p:nvSpPr>
        <p:spPr>
          <a:xfrm>
            <a:off x="7020000" y="4941720"/>
            <a:ext cx="1946160" cy="914400"/>
          </a:xfrm>
          <a:prstGeom prst="wedgeRoundRectCallout">
            <a:avLst>
              <a:gd name="adj1" fmla="val 17537"/>
              <a:gd name="adj2" fmla="val -135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出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隆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4788000" y="5013360"/>
            <a:ext cx="1798560" cy="914400"/>
          </a:xfrm>
          <a:prstGeom prst="wedgeRoundRectCallout">
            <a:avLst>
              <a:gd name="adj1" fmla="val -10370"/>
              <a:gd name="adj2" fmla="val -1440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缅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0"/>
          <p:cNvSpPr/>
          <p:nvPr/>
        </p:nvSpPr>
        <p:spPr>
          <a:xfrm>
            <a:off x="2556000" y="5086440"/>
            <a:ext cx="1800000" cy="914400"/>
          </a:xfrm>
          <a:prstGeom prst="wedgeRoundRectCallout">
            <a:avLst>
              <a:gd name="adj1" fmla="val -5379"/>
              <a:gd name="adj2" fmla="val -132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访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印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108000" y="4941720"/>
            <a:ext cx="2230560" cy="1151280"/>
          </a:xfrm>
          <a:prstGeom prst="wedgeRoundRectCallout">
            <a:avLst>
              <a:gd name="adj1" fmla="val -13138"/>
              <a:gd name="adj2" fmla="val -9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内瓦会议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2855520" y="692280"/>
            <a:ext cx="3513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中国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初期的外交成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1949-1955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3"/>
          <p:cNvSpPr/>
          <p:nvPr/>
        </p:nvSpPr>
        <p:spPr>
          <a:xfrm rot="19137600">
            <a:off x="899640" y="2852280"/>
            <a:ext cx="432000" cy="287280"/>
          </a:xfrm>
          <a:prstGeom prst="rightArrow">
            <a:avLst>
              <a:gd name="adj1" fmla="val 56130"/>
              <a:gd name="adj2" fmla="val 23071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1547640" y="2421000"/>
            <a:ext cx="2303640" cy="1211040"/>
            <a:chOff x="1547640" y="2421000"/>
            <a:chExt cx="2303640" cy="1211040"/>
          </a:xfrm>
        </p:grpSpPr>
        <p:sp>
          <p:nvSpPr>
            <p:cNvPr id="573" name="AutoShape 5"/>
            <p:cNvSpPr/>
            <p:nvPr/>
          </p:nvSpPr>
          <p:spPr>
            <a:xfrm>
              <a:off x="1547640" y="2421000"/>
              <a:ext cx="2232000" cy="121104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6">
              <a:hlinkClick r:id="rId1" action="ppaction://hlinksldjump"/>
            </p:cNvPr>
            <p:cNvSpPr/>
            <p:nvPr/>
          </p:nvSpPr>
          <p:spPr>
            <a:xfrm>
              <a:off x="1763640" y="2479320"/>
              <a:ext cx="208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平共处五项原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7"/>
          <p:cNvGrpSpPr/>
          <p:nvPr/>
        </p:nvGrpSpPr>
        <p:grpSpPr>
          <a:xfrm>
            <a:off x="1547640" y="4653000"/>
            <a:ext cx="2232000" cy="1211400"/>
            <a:chOff x="1547640" y="4653000"/>
            <a:chExt cx="2232000" cy="1211400"/>
          </a:xfrm>
        </p:grpSpPr>
        <p:sp>
          <p:nvSpPr>
            <p:cNvPr id="576" name="AutoShape 8"/>
            <p:cNvSpPr/>
            <p:nvPr/>
          </p:nvSpPr>
          <p:spPr>
            <a:xfrm>
              <a:off x="1547640" y="4653000"/>
              <a:ext cx="2232000" cy="121140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9">
              <a:hlinkClick r:id="rId2" action="ppaction://hlinksldjump"/>
            </p:cNvPr>
            <p:cNvSpPr/>
            <p:nvPr/>
          </p:nvSpPr>
          <p:spPr>
            <a:xfrm>
              <a:off x="1763640" y="4724280"/>
              <a:ext cx="187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万隆会议周恩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AutoShape 10"/>
          <p:cNvSpPr/>
          <p:nvPr/>
        </p:nvSpPr>
        <p:spPr>
          <a:xfrm rot="2506200">
            <a:off x="899640" y="494172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4500720" y="2276640"/>
            <a:ext cx="2232000" cy="1511280"/>
            <a:chOff x="4500720" y="2276640"/>
            <a:chExt cx="2232000" cy="1511280"/>
          </a:xfrm>
        </p:grpSpPr>
        <p:sp>
          <p:nvSpPr>
            <p:cNvPr id="580" name="AutoShape 12"/>
            <p:cNvSpPr/>
            <p:nvPr/>
          </p:nvSpPr>
          <p:spPr>
            <a:xfrm>
              <a:off x="4500720" y="2276640"/>
              <a:ext cx="2232000" cy="151128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4645080" y="2335320"/>
              <a:ext cx="201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成为处理国与国之间的基本准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AutoShape 14"/>
          <p:cNvSpPr/>
          <p:nvPr/>
        </p:nvSpPr>
        <p:spPr>
          <a:xfrm>
            <a:off x="3995640" y="2852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15"/>
          <p:cNvGrpSpPr/>
          <p:nvPr/>
        </p:nvGrpSpPr>
        <p:grpSpPr>
          <a:xfrm>
            <a:off x="4643280" y="4437000"/>
            <a:ext cx="2232000" cy="1511280"/>
            <a:chOff x="4643280" y="4437000"/>
            <a:chExt cx="2232000" cy="1511280"/>
          </a:xfrm>
        </p:grpSpPr>
        <p:sp>
          <p:nvSpPr>
            <p:cNvPr id="584" name="AutoShape 16"/>
            <p:cNvSpPr/>
            <p:nvPr/>
          </p:nvSpPr>
          <p:spPr>
            <a:xfrm>
              <a:off x="4643280" y="4437000"/>
              <a:ext cx="2232000" cy="151128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643280" y="4651200"/>
              <a:ext cx="223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开创了我国外交新局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AutoShape 18"/>
          <p:cNvSpPr/>
          <p:nvPr/>
        </p:nvSpPr>
        <p:spPr>
          <a:xfrm>
            <a:off x="3995640" y="50133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9"/>
          <p:cNvGrpSpPr/>
          <p:nvPr/>
        </p:nvGrpSpPr>
        <p:grpSpPr>
          <a:xfrm>
            <a:off x="7596360" y="2997360"/>
            <a:ext cx="1403280" cy="1944360"/>
            <a:chOff x="7596360" y="2997360"/>
            <a:chExt cx="1403280" cy="1944360"/>
          </a:xfrm>
        </p:grpSpPr>
        <p:sp>
          <p:nvSpPr>
            <p:cNvPr id="588" name="AutoShape 20"/>
            <p:cNvSpPr/>
            <p:nvPr/>
          </p:nvSpPr>
          <p:spPr>
            <a:xfrm>
              <a:off x="7596360" y="2997360"/>
              <a:ext cx="1368360" cy="194436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7667640" y="2997360"/>
              <a:ext cx="133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为我国赢得良好的外部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AutoShape 22"/>
          <p:cNvSpPr/>
          <p:nvPr/>
        </p:nvSpPr>
        <p:spPr>
          <a:xfrm rot="1987800">
            <a:off x="7019640" y="2997360"/>
            <a:ext cx="460440" cy="287280"/>
          </a:xfrm>
          <a:prstGeom prst="rightArrow">
            <a:avLst>
              <a:gd name="adj1" fmla="val 50000"/>
              <a:gd name="adj2" fmla="val 40069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3"/>
          <p:cNvSpPr/>
          <p:nvPr/>
        </p:nvSpPr>
        <p:spPr>
          <a:xfrm rot="19279800">
            <a:off x="7020000" y="4941360"/>
            <a:ext cx="460440" cy="287640"/>
          </a:xfrm>
          <a:prstGeom prst="rightArrow">
            <a:avLst>
              <a:gd name="adj1" fmla="val 50000"/>
              <a:gd name="adj2" fmla="val 40019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4"/>
          <p:cNvSpPr/>
          <p:nvPr/>
        </p:nvSpPr>
        <p:spPr>
          <a:xfrm>
            <a:off x="108000" y="2205000"/>
            <a:ext cx="684000" cy="3743280"/>
          </a:xfrm>
          <a:custGeom>
            <a:avLst/>
            <a:gdLst>
              <a:gd name="textAreaLeft" fmla="*/ 42120 w 684000"/>
              <a:gd name="textAreaRight" fmla="*/ 641880 w 684000"/>
              <a:gd name="textAreaTop" fmla="*/ 42120 h 3743280"/>
              <a:gd name="textAreaBottom" fmla="*/ 3701160 h 3743280"/>
            </a:gdLst>
            <a:ahLst/>
            <a:rect l="textAreaLeft" t="textAreaTop" r="textAreaRight" b="textAreaBottom"/>
            <a:pathLst>
              <a:path w="21600" h="118158">
                <a:moveTo>
                  <a:pt x="4561" y="0"/>
                </a:moveTo>
                <a:arcTo wR="4561" hR="4561" stAng="16200000" swAng="-5400000"/>
                <a:lnTo>
                  <a:pt x="0" y="113597"/>
                </a:lnTo>
                <a:arcTo wR="4561" hR="4561" stAng="10800000" swAng="-5400000"/>
                <a:lnTo>
                  <a:pt x="17039" y="118158"/>
                </a:lnTo>
                <a:arcTo wR="4561" hR="4561" stAng="5400000" swAng="-5400000"/>
                <a:lnTo>
                  <a:pt x="21600" y="4561"/>
                </a:lnTo>
                <a:arcTo wR="4561" hR="4561" stAng="0" swAng="-5400000"/>
                <a:close/>
              </a:path>
            </a:pathLst>
          </a:cu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5">
            <a:hlinkClick r:id="rId3" action="ppaction://hlinksldjump"/>
          </p:cNvPr>
          <p:cNvSpPr/>
          <p:nvPr/>
        </p:nvSpPr>
        <p:spPr>
          <a:xfrm>
            <a:off x="-277920" y="2421000"/>
            <a:ext cx="103356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独立自主的和平外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863640" cy="151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863640" cy="151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ahoma"/>
              </a:rPr>
              <a:t>总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55640" y="18460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2413080" y="199080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2124000" y="1990800"/>
            <a:ext cx="576360" cy="29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79280" y="3070080"/>
            <a:ext cx="18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恩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771640" y="1773360"/>
            <a:ext cx="5400720" cy="58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提出和平共处五项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2771640" y="4438800"/>
            <a:ext cx="3892680" cy="58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出席万隆会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4140360" y="2709720"/>
            <a:ext cx="3024000" cy="58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    印  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4429080" y="3573360"/>
            <a:ext cx="2374920" cy="58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确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4535640" y="2556000"/>
            <a:ext cx="46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5508720" y="2421000"/>
            <a:ext cx="285480" cy="287280"/>
          </a:xfrm>
          <a:prstGeom prst="downArrow">
            <a:avLst>
              <a:gd name="adj1" fmla="val 50000"/>
              <a:gd name="adj2" fmla="val 251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3"/>
          <p:cNvSpPr/>
          <p:nvPr/>
        </p:nvSpPr>
        <p:spPr>
          <a:xfrm>
            <a:off x="5508720" y="3286080"/>
            <a:ext cx="285480" cy="287280"/>
          </a:xfrm>
          <a:prstGeom prst="downArrow">
            <a:avLst>
              <a:gd name="adj1" fmla="val 50000"/>
              <a:gd name="adj2" fmla="val 251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844720" y="5302080"/>
            <a:ext cx="3889440" cy="58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   印度尼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5"/>
          <p:cNvSpPr/>
          <p:nvPr/>
        </p:nvSpPr>
        <p:spPr>
          <a:xfrm>
            <a:off x="4716360" y="5013360"/>
            <a:ext cx="285840" cy="288720"/>
          </a:xfrm>
          <a:prstGeom prst="downArrow">
            <a:avLst>
              <a:gd name="adj1" fmla="val 50000"/>
              <a:gd name="adj2" fmla="val 252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1044720" y="981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课 独立自主的和平外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5940360" y="1197000"/>
            <a:ext cx="2951280" cy="26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日内瓦会议上的周恩来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次亮相国际舞台，周恩来所带来的绝对是超乎想象的精彩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5940360" y="1052640"/>
            <a:ext cx="3095640" cy="561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恩来总理出色的外交才能和政治家风度，为新中国赢得了很高的国际声誉，大大提高了中国的国际地位，为打开新中国外交的新局面作出了巨大的贡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2108160" y="3373560"/>
            <a:ext cx="968400" cy="13302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post-33-1069895156"/>
          <p:cNvPicPr/>
          <p:nvPr/>
        </p:nvPicPr>
        <p:blipFill>
          <a:blip r:embed="rId2"/>
          <a:stretch/>
        </p:blipFill>
        <p:spPr>
          <a:xfrm>
            <a:off x="612720" y="1487520"/>
            <a:ext cx="4176720" cy="4464000"/>
          </a:xfrm>
          <a:prstGeom prst="rect">
            <a:avLst/>
          </a:prstGeom>
          <a:ln w="0">
            <a:noFill/>
          </a:ln>
        </p:spPr>
      </p:pic>
      <p:pic>
        <p:nvPicPr>
          <p:cNvPr id="614" name="江泽民总结周恩来的外交工作.wav" descr="江泽民总结周恩来的外交工作"/>
          <p:cNvPicPr/>
          <p:nvPr/>
        </p:nvPicPr>
        <p:blipFill>
          <a:blip r:embed="rId3"/>
          <a:stretch/>
        </p:blipFill>
        <p:spPr>
          <a:xfrm>
            <a:off x="42829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5" name="WordArt 7"/>
          <p:cNvSpPr txBox="1"/>
          <p:nvPr/>
        </p:nvSpPr>
        <p:spPr>
          <a:xfrm>
            <a:off x="682560" y="620640"/>
            <a:ext cx="1828800" cy="52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意外收获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pic>
        <p:nvPicPr>
          <p:cNvPr id="616" name="Picture 8" descr="5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88000" y="3718080"/>
            <a:ext cx="952560" cy="571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59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8000" y="4365720"/>
            <a:ext cx="952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9796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ahoma"/>
              </a:rPr>
              <a:t>周恩来的名言：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7640" y="2709360"/>
            <a:ext cx="82090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学生读书目的是担负并实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国家将来艰巨之责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周恩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396720" y="5445000"/>
            <a:ext cx="82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畏惧错误就是毁灭进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遮掩错误就是躲避真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恩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96720" y="3719520"/>
            <a:ext cx="8064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我写书，我就写我一生中的错误，让活着的人们都能从过去的错误中吸取教训。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周恩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1844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中华之崛起而读书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周恩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WordArt 7"/>
          <p:cNvSpPr txBox="1"/>
          <p:nvPr/>
        </p:nvSpPr>
        <p:spPr>
          <a:xfrm>
            <a:off x="1332000" y="620640"/>
            <a:ext cx="2235240" cy="63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意外收获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pic>
        <p:nvPicPr>
          <p:cNvPr id="624" name="Picture 8" descr="stars"/>
          <p:cNvPicPr/>
          <p:nvPr/>
        </p:nvPicPr>
        <p:blipFill>
          <a:blip r:embed="rId1"/>
          <a:stretch/>
        </p:blipFill>
        <p:spPr>
          <a:xfrm>
            <a:off x="6661080" y="33336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9" descr="5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7860000">
            <a:off x="3707640" y="1267920"/>
            <a:ext cx="793800" cy="476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791480" cy="8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一、和平共处五项原则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123640" y="2133720"/>
            <a:ext cx="63406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周恩来在接见印度代表团时首次提出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确立下来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16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16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16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16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31640" y="217332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65000" y="346860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844560" y="537372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2268360" y="3500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相尊重主权和领土完整，互不侵犯，互不干涉内政，平等互利，和平共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2232000" y="4981680"/>
            <a:ext cx="60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平共处五项原则在国际上产生深远影响，成为处理国与国之间关系的基本准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WordArt 9"/>
          <p:cNvSpPr txBox="1"/>
          <p:nvPr/>
        </p:nvSpPr>
        <p:spPr>
          <a:xfrm>
            <a:off x="108000" y="4777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634" name="WordArt 10"/>
          <p:cNvSpPr txBox="1"/>
          <p:nvPr/>
        </p:nvSpPr>
        <p:spPr>
          <a:xfrm>
            <a:off x="466560" y="333360"/>
            <a:ext cx="24386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夯实知识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35" name="Picture 11" descr="雨打莲叶"/>
          <p:cNvPicPr/>
          <p:nvPr/>
        </p:nvPicPr>
        <p:blipFill>
          <a:blip r:embed="rId1"/>
          <a:stretch/>
        </p:blipFill>
        <p:spPr>
          <a:xfrm>
            <a:off x="7812000" y="5805360"/>
            <a:ext cx="1395360" cy="10922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2" descr="GL_031"/>
          <p:cNvPicPr/>
          <p:nvPr/>
        </p:nvPicPr>
        <p:blipFill>
          <a:blip r:embed="rId2"/>
          <a:stretch/>
        </p:blipFill>
        <p:spPr>
          <a:xfrm>
            <a:off x="7451640" y="836640"/>
            <a:ext cx="733680" cy="731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11280" y="1847520"/>
            <a:ext cx="6121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间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        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点：印度尼西亚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      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会议主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讨论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等共同关心的问题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性质：第一次没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国家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加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会议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6804000" y="1844640"/>
            <a:ext cx="2266920" cy="316872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4"/>
          <p:cNvSpPr/>
          <p:nvPr/>
        </p:nvSpPr>
        <p:spPr>
          <a:xfrm>
            <a:off x="1908000" y="18446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5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399564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2987640" y="263844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保卫和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4716360" y="2638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争取民族独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900000" y="30700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发展民族经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3708360" y="35020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殖民主义国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1476360" y="39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亚非国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1"/>
          <p:cNvSpPr/>
          <p:nvPr/>
        </p:nvSpPr>
        <p:spPr>
          <a:xfrm>
            <a:off x="611280" y="4437000"/>
            <a:ext cx="59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贡献：周恩来提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针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促进了会议的圆满成功，也促进了中国同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非各国的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—————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.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求同存异”方针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2"/>
          <p:cNvSpPr/>
          <p:nvPr/>
        </p:nvSpPr>
        <p:spPr>
          <a:xfrm>
            <a:off x="3564000" y="4292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求同存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3"/>
          <p:cNvSpPr/>
          <p:nvPr/>
        </p:nvSpPr>
        <p:spPr>
          <a:xfrm>
            <a:off x="1979640" y="53020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团结与合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WordArt 14"/>
          <p:cNvSpPr txBox="1"/>
          <p:nvPr/>
        </p:nvSpPr>
        <p:spPr>
          <a:xfrm>
            <a:off x="466560" y="333360"/>
            <a:ext cx="24386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夯实知识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50" name="Text Box 15"/>
          <p:cNvSpPr/>
          <p:nvPr/>
        </p:nvSpPr>
        <p:spPr>
          <a:xfrm>
            <a:off x="7112160" y="757080"/>
            <a:ext cx="113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6"/>
          <p:cNvSpPr/>
          <p:nvPr/>
        </p:nvSpPr>
        <p:spPr>
          <a:xfrm>
            <a:off x="6883560" y="806400"/>
            <a:ext cx="143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7"/>
          <p:cNvSpPr/>
          <p:nvPr/>
        </p:nvSpPr>
        <p:spPr>
          <a:xfrm>
            <a:off x="6588000" y="76824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18" descr="GL_031"/>
          <p:cNvPicPr/>
          <p:nvPr/>
        </p:nvPicPr>
        <p:blipFill>
          <a:blip r:embed="rId2"/>
          <a:stretch/>
        </p:blipFill>
        <p:spPr>
          <a:xfrm>
            <a:off x="7451640" y="836640"/>
            <a:ext cx="733680" cy="73188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19"/>
          <p:cNvSpPr/>
          <p:nvPr/>
        </p:nvSpPr>
        <p:spPr>
          <a:xfrm>
            <a:off x="1612080" y="1268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周恩来出席万隆会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7639200" y="633564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21" descr="雨打莲叶"/>
          <p:cNvPicPr/>
          <p:nvPr/>
        </p:nvPicPr>
        <p:blipFill>
          <a:blip r:embed="rId3"/>
          <a:stretch/>
        </p:blipFill>
        <p:spPr>
          <a:xfrm>
            <a:off x="7236000" y="5373720"/>
            <a:ext cx="1825560" cy="15238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2" descr="jian0007"/>
          <p:cNvPicPr/>
          <p:nvPr/>
        </p:nvPicPr>
        <p:blipFill>
          <a:blip r:embed="rId4"/>
          <a:stretch/>
        </p:blipFill>
        <p:spPr>
          <a:xfrm rot="16351800">
            <a:off x="3347640" y="5662080"/>
            <a:ext cx="10083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826920" y="191736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新中国成立后，第一个与中国建交的国家是（     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印度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缅甸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苏联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美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平共处五项原则提出于（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    1949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 195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 195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195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国后的第一年里与中国建交的国家有（    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1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 1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1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周恩来总理提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求同存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方针是在（     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日内瓦会议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万隆会议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开罗会议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雅尔塔会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WordArt 3"/>
          <p:cNvSpPr txBox="1"/>
          <p:nvPr/>
        </p:nvSpPr>
        <p:spPr>
          <a:xfrm>
            <a:off x="466560" y="3333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能力比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1861200" y="1125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慧眼识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5">
            <a:hlinkClick r:id="rId1"/>
          </p:cNvPr>
          <p:cNvSpPr/>
          <p:nvPr/>
        </p:nvSpPr>
        <p:spPr>
          <a:xfrm>
            <a:off x="752616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500364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680400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7045200" y="5551560"/>
            <a:ext cx="6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9"/>
          <p:cNvSpPr/>
          <p:nvPr/>
        </p:nvSpPr>
        <p:spPr>
          <a:xfrm flipV="1" rot="10800000">
            <a:off x="6948360" y="52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10" descr="雨打莲叶"/>
          <p:cNvPicPr/>
          <p:nvPr/>
        </p:nvPicPr>
        <p:blipFill>
          <a:blip r:embed="rId2"/>
          <a:stretch/>
        </p:blipFill>
        <p:spPr>
          <a:xfrm>
            <a:off x="8172360" y="6093000"/>
            <a:ext cx="959040" cy="7300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1"/>
          <p:cNvSpPr/>
          <p:nvPr/>
        </p:nvSpPr>
        <p:spPr>
          <a:xfrm>
            <a:off x="6114960" y="4478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12" descr="GL_031"/>
          <p:cNvPicPr/>
          <p:nvPr/>
        </p:nvPicPr>
        <p:blipFill>
          <a:blip r:embed="rId3"/>
          <a:stretch/>
        </p:blipFill>
        <p:spPr>
          <a:xfrm>
            <a:off x="7667640" y="692280"/>
            <a:ext cx="733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一、图文结合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70" name="Picture 3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1339920" cy="1006560"/>
          </a:xfrm>
          <a:prstGeom prst="rect">
            <a:avLst/>
          </a:prstGeom>
          <a:ln w="0">
            <a:noFill/>
          </a:ln>
        </p:spPr>
      </p:pic>
      <p:sp>
        <p:nvSpPr>
          <p:cNvPr id="671" name="WordArt 4"/>
          <p:cNvSpPr txBox="1"/>
          <p:nvPr/>
        </p:nvSpPr>
        <p:spPr>
          <a:xfrm>
            <a:off x="466560" y="3333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能力比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832040" y="1844640"/>
            <a:ext cx="237492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代表团是来求团结的，而不是来吵架的，我们是来求同的而不是来立异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427640" y="1773360"/>
            <a:ext cx="4322520" cy="21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讲话的谁？在哪次会议上的讲话？这次会议何时在何地召的？这次会议有何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次会议的主要议题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的人物提出了什么方针？这一方针的提出有何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1116000" y="5086440"/>
            <a:ext cx="4751280" cy="151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二、一一列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和平共处五项原则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周恩来在建国初期的外交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7002360" y="59166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9" descr="雨打莲叶"/>
          <p:cNvPicPr/>
          <p:nvPr/>
        </p:nvPicPr>
        <p:blipFill>
          <a:blip r:embed="rId2"/>
          <a:stretch/>
        </p:blipFill>
        <p:spPr>
          <a:xfrm>
            <a:off x="7667640" y="5661000"/>
            <a:ext cx="958680" cy="730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0" descr="GL_031"/>
          <p:cNvPicPr/>
          <p:nvPr/>
        </p:nvPicPr>
        <p:blipFill>
          <a:blip r:embed="rId3"/>
          <a:stretch/>
        </p:blipFill>
        <p:spPr>
          <a:xfrm>
            <a:off x="7667640" y="692280"/>
            <a:ext cx="733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2"/>
          <p:cNvSpPr txBox="1"/>
          <p:nvPr/>
        </p:nvSpPr>
        <p:spPr>
          <a:xfrm>
            <a:off x="250920" y="189000"/>
            <a:ext cx="29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回顾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443" name="Picture 3" descr="南京条约的签订现场"/>
          <p:cNvPicPr/>
          <p:nvPr/>
        </p:nvPicPr>
        <p:blipFill>
          <a:blip r:embed="rId1"/>
          <a:stretch/>
        </p:blipFill>
        <p:spPr>
          <a:xfrm>
            <a:off x="1044720" y="2133720"/>
            <a:ext cx="7270560" cy="2630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444" name="WordArt 4"/>
          <p:cNvSpPr txBox="1"/>
          <p:nvPr/>
        </p:nvSpPr>
        <p:spPr>
          <a:xfrm>
            <a:off x="971640" y="838080"/>
            <a:ext cx="712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你能用几个词来概括近代中国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外交的基本特征吗？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45" name="WordArt 5" descr=""/>
          <p:cNvPicPr/>
          <p:nvPr/>
        </p:nvPicPr>
        <p:blipFill>
          <a:blip r:embed="rId2"/>
          <a:stretch/>
        </p:blipFill>
        <p:spPr>
          <a:xfrm>
            <a:off x="1322280" y="5583240"/>
            <a:ext cx="1517760" cy="946080"/>
          </a:xfrm>
          <a:prstGeom prst="rect">
            <a:avLst/>
          </a:prstGeom>
          <a:ln w="0">
            <a:noFill/>
          </a:ln>
        </p:spPr>
      </p:pic>
      <p:pic>
        <p:nvPicPr>
          <p:cNvPr id="446" name="WordArt 6" descr=""/>
          <p:cNvPicPr/>
          <p:nvPr/>
        </p:nvPicPr>
        <p:blipFill>
          <a:blip r:embed="rId3"/>
          <a:stretch/>
        </p:blipFill>
        <p:spPr>
          <a:xfrm>
            <a:off x="3486240" y="5583240"/>
            <a:ext cx="1512720" cy="946080"/>
          </a:xfrm>
          <a:prstGeom prst="rect">
            <a:avLst/>
          </a:prstGeom>
          <a:ln w="0">
            <a:noFill/>
          </a:ln>
        </p:spPr>
      </p:pic>
      <p:pic>
        <p:nvPicPr>
          <p:cNvPr id="447" name="WordArt 7" descr=""/>
          <p:cNvPicPr/>
          <p:nvPr/>
        </p:nvPicPr>
        <p:blipFill>
          <a:blip r:embed="rId4"/>
          <a:stretch/>
        </p:blipFill>
        <p:spPr>
          <a:xfrm>
            <a:off x="5645160" y="5499000"/>
            <a:ext cx="1835280" cy="9684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8"/>
          <p:cNvSpPr/>
          <p:nvPr/>
        </p:nvSpPr>
        <p:spPr>
          <a:xfrm>
            <a:off x="2484360" y="4149720"/>
            <a:ext cx="44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南京条约的签订现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雨打莲叶"/>
          <p:cNvPicPr/>
          <p:nvPr/>
        </p:nvPicPr>
        <p:blipFill>
          <a:blip r:embed="rId1"/>
          <a:stretch/>
        </p:blipFill>
        <p:spPr>
          <a:xfrm>
            <a:off x="6858000" y="4495680"/>
            <a:ext cx="1825560" cy="1524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" descr="stars"/>
          <p:cNvPicPr/>
          <p:nvPr/>
        </p:nvPicPr>
        <p:blipFill>
          <a:blip r:embed="rId2"/>
          <a:stretch/>
        </p:blipFill>
        <p:spPr>
          <a:xfrm>
            <a:off x="6300720" y="40464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GL_031"/>
          <p:cNvPicPr/>
          <p:nvPr/>
        </p:nvPicPr>
        <p:blipFill>
          <a:blip r:embed="rId3"/>
          <a:stretch/>
        </p:blipFill>
        <p:spPr>
          <a:xfrm>
            <a:off x="7524720" y="333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681" name="WordArt 5"/>
          <p:cNvSpPr txBox="1"/>
          <p:nvPr/>
        </p:nvSpPr>
        <p:spPr>
          <a:xfrm>
            <a:off x="682560" y="3141720"/>
            <a:ext cx="82296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寻找周恩来总理的外交足迹</a:t>
            </a:r>
            <a:endParaRPr b="1" i="1" lang="en-US" sz="5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2" name="WordArt 6" descr=""/>
          <p:cNvPicPr/>
          <p:nvPr/>
        </p:nvPicPr>
        <p:blipFill>
          <a:blip r:embed="rId6"/>
          <a:stretch/>
        </p:blipFill>
        <p:spPr>
          <a:xfrm>
            <a:off x="676440" y="401760"/>
            <a:ext cx="2543040" cy="16351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jian0007"/>
          <p:cNvPicPr/>
          <p:nvPr/>
        </p:nvPicPr>
        <p:blipFill>
          <a:blip r:embed="rId7"/>
          <a:stretch/>
        </p:blipFill>
        <p:spPr>
          <a:xfrm rot="3871800">
            <a:off x="1729440" y="2034000"/>
            <a:ext cx="180000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WordArt 2"/>
          <p:cNvSpPr txBox="1"/>
          <p:nvPr/>
        </p:nvSpPr>
        <p:spPr>
          <a:xfrm>
            <a:off x="1066680" y="2590920"/>
            <a:ext cx="7239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谢 谢 大 家！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5" name="WordArt 3"/>
          <p:cNvSpPr txBox="1"/>
          <p:nvPr/>
        </p:nvSpPr>
        <p:spPr>
          <a:xfrm>
            <a:off x="1066680" y="2590920"/>
            <a:ext cx="7239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谢 谢 大 家！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ou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evt="end">
                                        <p:tn val="541"/>
                                      </p:cond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WordArt 2" descr=""/>
          <p:cNvPicPr/>
          <p:nvPr/>
        </p:nvPicPr>
        <p:blipFill>
          <a:blip r:embed="rId1"/>
          <a:stretch/>
        </p:blipFill>
        <p:spPr>
          <a:xfrm>
            <a:off x="1316160" y="378000"/>
            <a:ext cx="6218280" cy="3786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stars"/>
          <p:cNvPicPr/>
          <p:nvPr/>
        </p:nvPicPr>
        <p:blipFill>
          <a:blip r:embed="rId2"/>
          <a:stretch/>
        </p:blipFill>
        <p:spPr>
          <a:xfrm>
            <a:off x="6300720" y="476280"/>
            <a:ext cx="23623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1" action="ppaction://hlinksldjump"/>
              </a:rPr>
              <a:t>1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2" action="ppaction://hlinksldjump"/>
              </a:rPr>
              <a:t>独立自主的和平外交政策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3" action="ppaction://hlinksldjump"/>
              </a:rPr>
              <a:t>2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4" action="ppaction://hlinksldjump"/>
              </a:rPr>
              <a:t>新中国建立后，美、苏对中国的外交政策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5" action="ppaction://hlinksldjump"/>
              </a:rPr>
              <a:t>3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6" action="ppaction://hlinksldjump"/>
              </a:rPr>
              <a:t>和平共处五项原则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7" action="ppaction://hlinksldjump"/>
              </a:rPr>
              <a:t>4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8" action="ppaction://hlinksldjump"/>
              </a:rPr>
              <a:t>万隆会议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Rounded MT Bold"/>
              </a:rPr>
              <a:t>5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 Rounded MT Bold"/>
              </a:rPr>
              <a:t>求同存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 Rounded MT Bold"/>
              </a:rPr>
              <a:t>方针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9" action="ppaction://hlinksldjump"/>
              </a:rPr>
              <a:t>6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 Rounded MT Bold"/>
                <a:hlinkClick r:id="rId10" action="ppaction://hlinksldjump"/>
              </a:rPr>
              <a:t>周恩来在新中国成立初期的外交活动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2" name="WordArt 3"/>
          <p:cNvSpPr txBox="1"/>
          <p:nvPr/>
        </p:nvSpPr>
        <p:spPr>
          <a:xfrm>
            <a:off x="826920" y="765000"/>
            <a:ext cx="3048120" cy="8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目标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2065320" y="1001880"/>
            <a:ext cx="4569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新魏"/>
              </a:rPr>
              <a:t>面对我们所处的国际国内环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  <a:ea typeface="华文新魏"/>
              </a:rPr>
              <a:t>你认为我们应当采取什么样的外交政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374720" y="44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快速阅读，提炼要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979640" y="1844640"/>
            <a:ext cx="6950160" cy="3600360"/>
            <a:chOff x="1979640" y="1844640"/>
            <a:chExt cx="6950160" cy="3600360"/>
          </a:xfrm>
        </p:grpSpPr>
        <p:sp>
          <p:nvSpPr>
            <p:cNvPr id="456" name="AutoShape 5"/>
            <p:cNvSpPr/>
            <p:nvPr/>
          </p:nvSpPr>
          <p:spPr>
            <a:xfrm>
              <a:off x="1979640" y="1844640"/>
              <a:ext cx="6950160" cy="3600360"/>
            </a:xfrm>
            <a:prstGeom prst="horizont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6"/>
            <p:cNvSpPr/>
            <p:nvPr/>
          </p:nvSpPr>
          <p:spPr>
            <a:xfrm>
              <a:off x="2531520" y="2421000"/>
              <a:ext cx="639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        </a:t>
              </a: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本政府为代表中华人民共和国全国人民的唯一政府。凡愿遵守平等、互利及互相尊重领土主权等项原则的任何外国政府，本政府均愿与之建立外交关系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8" name="Picture 7" descr="jian0007"/>
          <p:cNvPicPr/>
          <p:nvPr/>
        </p:nvPicPr>
        <p:blipFill>
          <a:blip r:embed="rId1"/>
          <a:stretch/>
        </p:blipFill>
        <p:spPr>
          <a:xfrm rot="3031800">
            <a:off x="4304880" y="5208480"/>
            <a:ext cx="1008000" cy="617400"/>
          </a:xfrm>
          <a:prstGeom prst="rect">
            <a:avLst/>
          </a:prstGeom>
          <a:ln w="0">
            <a:noFill/>
          </a:ln>
        </p:spPr>
      </p:pic>
      <p:sp>
        <p:nvSpPr>
          <p:cNvPr id="459" name="WordArt 8"/>
          <p:cNvSpPr txBox="1"/>
          <p:nvPr/>
        </p:nvSpPr>
        <p:spPr>
          <a:xfrm rot="20907000">
            <a:off x="3348000" y="5805360"/>
            <a:ext cx="4896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独立 自主 和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460" name="Picture 9" descr="1949年10月1日，毛泽东在北京天安门向全世界庄严宣告中华人民共和国成立。"/>
          <p:cNvPicPr/>
          <p:nvPr/>
        </p:nvPicPr>
        <p:blipFill>
          <a:blip r:embed="rId2"/>
          <a:stretch/>
        </p:blipFill>
        <p:spPr>
          <a:xfrm>
            <a:off x="179280" y="2708280"/>
            <a:ext cx="1586160" cy="216216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461" name="AutoShape 10">
            <a:hlinkClick r:id="rId3" action="ppaction://hlinksldjump"/>
          </p:cNvPr>
          <p:cNvSpPr/>
          <p:nvPr/>
        </p:nvSpPr>
        <p:spPr>
          <a:xfrm>
            <a:off x="8534520" y="6165720"/>
            <a:ext cx="554040" cy="627120"/>
          </a:xfrm>
          <a:custGeom>
            <a:avLst/>
            <a:gdLst>
              <a:gd name="textAreaLeft" fmla="*/ 35640 w 554040"/>
              <a:gd name="textAreaRight" fmla="*/ 518400 w 554040"/>
              <a:gd name="textAreaTop" fmla="*/ 35640 h 627120"/>
              <a:gd name="textAreaBottom" fmla="*/ 591480 h 627120"/>
            </a:gdLst>
            <a:ahLst/>
            <a:rect l="textAreaLeft" t="textAreaTop" r="textAreaRight" b="textAreaBottom"/>
            <a:pathLst>
              <a:path w="21600" h="24447">
                <a:moveTo>
                  <a:pt x="0" y="0"/>
                </a:moveTo>
                <a:lnTo>
                  <a:pt x="21600" y="0"/>
                </a:lnTo>
                <a:lnTo>
                  <a:pt x="21600" y="24447"/>
                </a:lnTo>
                <a:lnTo>
                  <a:pt x="0" y="24447"/>
                </a:lnTo>
                <a:close/>
              </a:path>
              <a:path fill="lightenLess" w="21600" h="244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7">
                <a:moveTo>
                  <a:pt x="21600" y="0"/>
                </a:moveTo>
                <a:lnTo>
                  <a:pt x="21600" y="24447"/>
                </a:lnTo>
                <a:lnTo>
                  <a:pt x="20200" y="23047"/>
                </a:lnTo>
                <a:lnTo>
                  <a:pt x="20200" y="1400"/>
                </a:lnTo>
                <a:close/>
              </a:path>
              <a:path fill="darkenLess" w="21600" h="24447">
                <a:moveTo>
                  <a:pt x="21600" y="24447"/>
                </a:moveTo>
                <a:lnTo>
                  <a:pt x="0" y="24447"/>
                </a:lnTo>
                <a:lnTo>
                  <a:pt x="1400" y="23047"/>
                </a:lnTo>
                <a:lnTo>
                  <a:pt x="20200" y="23047"/>
                </a:lnTo>
                <a:close/>
              </a:path>
              <a:path fill="lighten" w="21600" h="24447">
                <a:moveTo>
                  <a:pt x="0" y="244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7"/>
                </a:lnTo>
                <a:close/>
              </a:path>
              <a:path fill="darken" w="21600" h="24447">
                <a:moveTo>
                  <a:pt x="10800" y="5261"/>
                </a:moveTo>
                <a:lnTo>
                  <a:pt x="13376" y="7872"/>
                </a:lnTo>
                <a:lnTo>
                  <a:pt x="13376" y="6131"/>
                </a:lnTo>
                <a:lnTo>
                  <a:pt x="15152" y="6131"/>
                </a:lnTo>
                <a:lnTo>
                  <a:pt x="15152" y="9647"/>
                </a:lnTo>
                <a:lnTo>
                  <a:pt x="17763" y="12224"/>
                </a:lnTo>
                <a:lnTo>
                  <a:pt x="16109" y="12224"/>
                </a:lnTo>
                <a:lnTo>
                  <a:pt x="16109" y="19413"/>
                </a:lnTo>
                <a:lnTo>
                  <a:pt x="5491" y="19413"/>
                </a:lnTo>
                <a:lnTo>
                  <a:pt x="5491" y="12224"/>
                </a:lnTo>
                <a:lnTo>
                  <a:pt x="3837" y="12224"/>
                </a:lnTo>
                <a:close/>
              </a:path>
              <a:path fill="darkenLess" w="21600" h="24447">
                <a:moveTo>
                  <a:pt x="13376" y="7872"/>
                </a:moveTo>
                <a:lnTo>
                  <a:pt x="13376" y="6131"/>
                </a:lnTo>
                <a:lnTo>
                  <a:pt x="15152" y="6131"/>
                </a:lnTo>
                <a:lnTo>
                  <a:pt x="15152" y="9647"/>
                </a:lnTo>
                <a:close/>
              </a:path>
              <a:path fill="darkenLess" w="21600" h="24447">
                <a:moveTo>
                  <a:pt x="9877" y="15723"/>
                </a:moveTo>
                <a:lnTo>
                  <a:pt x="11723" y="15723"/>
                </a:lnTo>
                <a:lnTo>
                  <a:pt x="11723" y="19413"/>
                </a:lnTo>
                <a:lnTo>
                  <a:pt x="16109" y="19413"/>
                </a:lnTo>
                <a:lnTo>
                  <a:pt x="16109" y="12224"/>
                </a:lnTo>
                <a:lnTo>
                  <a:pt x="5491" y="12224"/>
                </a:lnTo>
                <a:lnTo>
                  <a:pt x="5491" y="19413"/>
                </a:lnTo>
                <a:lnTo>
                  <a:pt x="9877" y="1941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WordArt 11"/>
          <p:cNvSpPr txBox="1"/>
          <p:nvPr/>
        </p:nvSpPr>
        <p:spPr>
          <a:xfrm>
            <a:off x="179280" y="189000"/>
            <a:ext cx="27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684360" y="2562120"/>
            <a:ext cx="6769080" cy="647280"/>
          </a:xfrm>
          <a:prstGeom prst="rect">
            <a:avLst/>
          </a:prstGeom>
          <a:gradFill rotWithShape="0">
            <a:gsLst>
              <a:gs pos="0">
                <a:srgbClr val="181800"/>
              </a:gs>
              <a:gs pos="5000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以美国为首西方国家对中国的敌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3786120"/>
            <a:ext cx="6769080" cy="647280"/>
          </a:xfrm>
          <a:prstGeom prst="rect">
            <a:avLst/>
          </a:prstGeom>
          <a:gradFill rotWithShape="0">
            <a:gsLst>
              <a:gs pos="0">
                <a:srgbClr val="181800"/>
              </a:gs>
              <a:gs pos="5000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以苏联为首社会主义国家的支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611280" y="5081760"/>
            <a:ext cx="7993080" cy="647280"/>
          </a:xfrm>
          <a:prstGeom prst="rect">
            <a:avLst/>
          </a:prstGeom>
          <a:gradFill rotWithShape="0">
            <a:gsLst>
              <a:gs pos="0">
                <a:srgbClr val="181800"/>
              </a:gs>
              <a:gs pos="5000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独立的亚非拉国家需要互相帮助支持合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828720" y="981000"/>
            <a:ext cx="828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同学想一想，我们国家刚刚建立之初，所面对的外交环境是怎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179280" y="189000"/>
            <a:ext cx="27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以美国为首西方国家对中国的敌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a05_01b"/>
          <p:cNvPicPr/>
          <p:nvPr/>
        </p:nvPicPr>
        <p:blipFill>
          <a:blip r:embed="rId1"/>
          <a:stretch/>
        </p:blipFill>
        <p:spPr>
          <a:xfrm>
            <a:off x="179280" y="1011240"/>
            <a:ext cx="4897440" cy="349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0" name="Text Box 3"/>
          <p:cNvSpPr/>
          <p:nvPr/>
        </p:nvSpPr>
        <p:spPr>
          <a:xfrm>
            <a:off x="108000" y="458136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1949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月，毛泽东主席访问苏联。这是新中国最高领导人的首次出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2"/>
          <a:stretch/>
        </p:blipFill>
        <p:spPr>
          <a:xfrm>
            <a:off x="3995640" y="3724200"/>
            <a:ext cx="5040360" cy="30369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472" name="Picture 5" descr="毛泽东应邀出席斯大林七十寿辰庆祝大会，受到高规格接待"/>
          <p:cNvPicPr/>
          <p:nvPr/>
        </p:nvPicPr>
        <p:blipFill>
          <a:blip r:embed="rId3"/>
          <a:stretch/>
        </p:blipFill>
        <p:spPr>
          <a:xfrm>
            <a:off x="5364000" y="260280"/>
            <a:ext cx="338328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3" name="Rectangle 6"/>
          <p:cNvSpPr/>
          <p:nvPr/>
        </p:nvSpPr>
        <p:spPr>
          <a:xfrm>
            <a:off x="5292720" y="278136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毛泽东应邀出席斯大林七十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辰庆祝大会，受到高规格接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WordArt 7"/>
          <p:cNvSpPr txBox="1"/>
          <p:nvPr/>
        </p:nvSpPr>
        <p:spPr>
          <a:xfrm>
            <a:off x="10800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探究历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1:28:32Z</dcterms:created>
  <dc:creator>king</dc:creator>
  <dc:description/>
  <cp:keywords/>
  <dc:language>en-US</dc:language>
  <cp:lastModifiedBy>dll</cp:lastModifiedBy>
  <cp:lastPrinted>1899-12-30T00:00:00Z</cp:lastPrinted>
  <dcterms:modified xsi:type="dcterms:W3CDTF">2010-09-20T03:00:14Z</dcterms:modified>
  <cp:revision>137</cp:revision>
  <dc:subject/>
  <dc:title>PowerPoint 演示文稿</dc:title>
</cp:coreProperties>
</file>