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j048.WAV" ContentType="audio/x-wav"/>
  <Override PartName="/ppt/media/image14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17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9D5-C025-4CBC-9973-16AFC727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0C6-F93C-472D-ADFA-618DDFC4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FB2-3503-4BB7-82EA-14FDB6C6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ACE-3BFA-4664-AD6E-493D4465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85D-E1CD-4AFB-ADED-72C973C6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FFD-1C77-4F1E-9DEA-38CDC385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1255-33EB-4A25-BCA3-AFB1689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D27-D786-4480-806B-CCF996D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0BD4-900D-44B2-A265-55B1B3D4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FC78-737D-4E7A-A436-7A7A7CA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EA03-92B9-48FB-8F75-FE595C8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E51-74EC-4746-9E7A-169B06D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050C-BFD2-4F37-A5D3-4995C1C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2644-1FEA-481F-8853-006E403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DD7D-41A3-4B9C-8D51-D872C5E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6E4B-FCA5-42D3-9534-8574BD19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950-0B7B-44D3-9FE6-42874185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D18-BB90-433D-89B4-6DF939E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C41-57F4-4900-8BBE-DE8AA53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F73-D158-4E99-9C88-5A3EBEA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32F-FE5F-4F61-B8F3-B19BB46A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0A1-204E-45C0-A3D5-EC4F626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44C-0166-4F4D-8596-C68C2CC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404-6F3F-4290-A778-DEFD685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5678-81D0-4530-84A4-9765ADDCF95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BA3-EE73-43AB-A434-959038BC9F6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j048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7611;&#20027;&#24109;&#22312;&#24320;&#22269;&#22823;&#20856;&#30340;&#35762;&#35805;.flv" TargetMode="External"/><Relationship Id="rId2" Type="http://schemas.openxmlformats.org/officeDocument/2006/relationships/hyperlink" Target="file:///&#27611;&#20027;&#24109;&#22312;&#24320;&#22269;&#22823;&#20856;&#30340;&#35762;&#35805;.flv" TargetMode="External"/><Relationship Id="rId3" Type="http://schemas.openxmlformats.org/officeDocument/2006/relationships/hyperlink" Target="file:///&#24320;&#22269;&#22823;&#20856;&#38405;&#20853;&#24335;.flv" TargetMode="External"/><Relationship Id="rId4" Type="http://schemas.openxmlformats.org/officeDocument/2006/relationships/hyperlink" Target="file:///&#24320;&#22269;&#22823;&#20856;&#38405;&#20853;&#24335;.flv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中国人民站起来了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35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5950080"/>
            <a:ext cx="7128000" cy="5814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山东省淄博市淄川区商家中学   王光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0" y="404640"/>
            <a:ext cx="3889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回顾历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2492280"/>
            <a:ext cx="64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现在有人要搞西藏“独立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请用史实说明西藏是中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领土不可分割的一部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12000" y="5157720"/>
            <a:ext cx="25207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历 史 性 的 会 晤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148360" y="2205000"/>
            <a:ext cx="2743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西藏和平解放纪念碑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0920" y="2276640"/>
            <a:ext cx="3673440" cy="54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解放军战士携手渡过澜沧江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2390400" y="479520"/>
            <a:ext cx="33505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西藏和平解放之前解放军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什么要做好武装解放的准备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21080" cy="2637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6338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青藏铁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85960" y="26370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胡锦涛参加西藏代表团审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9000" y="1700280"/>
            <a:ext cx="2863080" cy="58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谈谈你对三幅图片的感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260280"/>
            <a:ext cx="23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知识拓展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500720" cy="280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62920" y="6400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载　歌　载　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10368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一、单项选择题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下列关于第一届中国人民政治协商会议的说法，不正确的是（ 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会议选举产生了新中国的国家领导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会议代行全国人民代表大会的职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会议决定了新中国的国歌、国徽的图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会议决定在天安门广场建立一座人民英雄纪念碑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中华人民共和国国旗图案的主要设计者是（ 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毛泽东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曾联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徐悲鸿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齐白石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第一届中国人民政治协商会议选出的国家副主席中不包括（ 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　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朱德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刘少奇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周恩来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宋庆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新中国国歌的曲作者是（ 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冼星海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刘炽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聂耳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毛泽东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人民解放军解放西藏与解放下列城市中过程相似的是（ 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长春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北平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南京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石家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6.195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年，作为西藏地方政府首席代表与中央人民政府进行谈判的人是（ 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阿沛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阿旺晋美 　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十世达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李维汉 　　　　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班禅额尔德尼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确吉坚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西藏和平解放标志着（ 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人民军队建设又上了一个新台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西藏地区走上了社会主义道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西藏人民欢迎解放军进入西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祖国大陆获得了统一，各族人民实现了大团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课外探究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Verdana"/>
              </a:rPr>
              <a:t>假设你是一名导游，带领游客参观天安门广场时，要向大家介绍开国大典的盛况， 请写一份发言稿．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读一读，找一找：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6800" y="2151000"/>
            <a:ext cx="537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、第一届中国人民政治协商会议召开的时间？地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、这次会议做出了哪些重大决定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、你认为这些决定当中哪一条最重要？请说明理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380880"/>
            <a:ext cx="8229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人民英雄纪念碑碑文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年以来，在人民解放战争和人民革命中牺牲的人民英雄们永垂不朽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十年以来，在人民解放战争和人民革命中牺牲的人民英雄们永垂不朽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此上溯到一千八百四十年，从那时起，为了反对内外敌人，争取民族独立和人民自由幸福，在历次斗争中牺牲的人民英雄们永垂不朽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1752480"/>
            <a:ext cx="175248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想一想：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问题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碑文中的“三年以来”指的是什么战争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问题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这三年究竟是从哪一年到哪一年？之前中  国刚结束了什么战争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33360"/>
            <a:ext cx="2195640" cy="1300320"/>
          </a:xfrm>
          <a:prstGeom prst="cloudCallout">
            <a:avLst>
              <a:gd name="adj1" fmla="val 40453"/>
              <a:gd name="adj2" fmla="val 273319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  <a:ea typeface="华文行楷"/>
              </a:rPr>
              <a:t>动脑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24920" y="2565360"/>
            <a:ext cx="551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为 什 么 把 《义 勇 军 进 行 曲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定 为 国 歌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27640" y="4869000"/>
            <a:ext cx="14400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4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057760" y="1197000"/>
            <a:ext cx="4612320" cy="4990680"/>
            <a:chOff x="2057760" y="1197000"/>
            <a:chExt cx="4612320" cy="4990680"/>
          </a:xfrm>
        </p:grpSpPr>
        <p:sp>
          <p:nvSpPr>
            <p:cNvPr id="173" name=""/>
            <p:cNvSpPr/>
            <p:nvPr/>
          </p:nvSpPr>
          <p:spPr>
            <a:xfrm>
              <a:off x="2124720" y="1197000"/>
              <a:ext cx="454536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 u="sng">
                  <a:solidFill>
                    <a:srgbClr val="ffff99"/>
                  </a:solidFill>
                  <a:uFillTx/>
                  <a:latin typeface="Arial"/>
                  <a:hlinkClick r:id="rId1"/>
                </a:rPr>
                <a:t>开   国   大  典</a:t>
              </a:r>
              <a:r>
                <a:rPr b="0" lang="zh-CN" sz="2000" spc="-1" strike="noStrike" u="sng">
                  <a:solidFill>
                    <a:srgbClr val="ffff99"/>
                  </a:solidFill>
                  <a:uFillTx/>
                  <a:latin typeface="Arial"/>
                  <a:hlinkClick r:id="rId2"/>
                </a:rPr>
                <a:t>（视频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760" y="3357720"/>
              <a:ext cx="4377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1949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年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月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zh-CN" sz="4800" spc="-1" strike="noStrike">
                  <a:solidFill>
                    <a:srgbClr val="ff3300"/>
                  </a:solidFill>
                  <a:latin typeface="Arial"/>
                </a:rPr>
                <a:t>日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540400"/>
              <a:ext cx="2324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ff99"/>
                  </a:solidFill>
                  <a:uFillTx/>
                  <a:latin typeface="Arial"/>
                  <a:hlinkClick r:id="rId3"/>
                </a:rPr>
                <a:t>天 安 门 阅兵</a:t>
              </a:r>
              <a:r>
                <a:rPr b="0" lang="zh-CN" sz="2000" spc="-1" strike="noStrike" u="sng">
                  <a:solidFill>
                    <a:srgbClr val="ffff99"/>
                  </a:solidFill>
                  <a:uFillTx/>
                  <a:latin typeface="Arial"/>
                  <a:hlinkClick r:id="rId4"/>
                </a:rPr>
                <a:t>（视频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3921120" cy="4292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5003640" cy="2708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211640" y="404640"/>
            <a:ext cx="4932360" cy="3168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0" y="765000"/>
            <a:ext cx="4105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欢庆胜利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9960" y="836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活 动 探 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20960" y="213372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结合中国和世界历史背景探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中华人民共和国成立的历史意义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659640" y="4869000"/>
            <a:ext cx="165744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43:29Z</dcterms:created>
  <dc:creator>猪猪猫.CN</dc:creator>
  <dc:description/>
  <dc:language>en-US</dc:language>
  <cp:lastModifiedBy>zhujf</cp:lastModifiedBy>
  <dcterms:modified xsi:type="dcterms:W3CDTF">2008-03-18T15:15:40Z</dcterms:modified>
  <cp:revision>19</cp:revision>
  <dc:subject/>
  <dc:title>中国人民站起来了</dc:title>
</cp:coreProperties>
</file>