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CD7-A36C-4198-B36C-E556D69F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0A0-0834-474C-9593-21C0D35C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D91-8059-42DA-A16F-D2CC932A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07F-8DA5-4FBE-9E69-41D05BD2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5B6C-93CE-42F8-A597-31D9175A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09EF-60DC-4C0B-B50F-28AC4ABF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690F-ACDF-4B87-A86F-184207D0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CE9F-25DA-4C40-8150-972E9A32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2C3D-1F8B-445F-B390-FFB410A5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4273-7666-4FA0-85A6-1C3ED901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C316-AA8E-413F-A178-544DF744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8C1-A296-4BBE-948C-27C629A1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4E62-9F41-44F5-AB30-99842C2B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3790-EAF3-4AC3-B84B-CDF11047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5EE3-7D37-4E12-B247-4FA1475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ABB5-1CA8-44FC-9984-1963E244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D0B0-7F20-4845-86C9-098732C1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4DD-EB82-469F-802A-C8F21C30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96B-8E9F-4D16-B306-AC0A9F94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C69-CA12-437D-BFF3-ACB8B7A4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E89-43BE-40A7-9598-85B66340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747-09E8-4C3F-93DE-0ACEABC9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661-6E58-4A92-9D8C-B656FC1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9DC-E799-4DEC-BE64-5A9FCED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D3AA-BAB8-4611-A82A-8F31659E7C5B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7E13-18C4-46E8-9DDB-761588C2057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fkj.net/GuShi/?&#26000;&#167;&#26000;&#167;&#35838;&#167;&#20214;&#167;&#22253;&#167;&#36164;&#167;&#28304;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7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0" lang="zh-CN" sz="7700" spc="-1" strike="noStrike">
                <a:solidFill>
                  <a:srgbClr val="ff5050"/>
                </a:solidFill>
                <a:latin typeface="Arial"/>
              </a:rPr>
              <a:t>透镜</a:t>
            </a:r>
            <a:endParaRPr b="0" lang="en-US" sz="77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月山镇七方学校   郭金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48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12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50920" y="1052640"/>
            <a:ext cx="3313080" cy="2006640"/>
            <a:chOff x="250920" y="1052640"/>
            <a:chExt cx="3313080" cy="2006640"/>
          </a:xfrm>
        </p:grpSpPr>
        <p:grpSp>
          <p:nvGrpSpPr>
            <p:cNvPr id="107" name=""/>
            <p:cNvGrpSpPr/>
            <p:nvPr/>
          </p:nvGrpSpPr>
          <p:grpSpPr>
            <a:xfrm>
              <a:off x="250920" y="1052640"/>
              <a:ext cx="3313080" cy="2006640"/>
              <a:chOff x="250920" y="1052640"/>
              <a:chExt cx="3313080" cy="2006640"/>
            </a:xfrm>
          </p:grpSpPr>
          <p:sp>
            <p:nvSpPr>
              <p:cNvPr id="108" name=""/>
              <p:cNvSpPr/>
              <p:nvPr/>
            </p:nvSpPr>
            <p:spPr>
              <a:xfrm>
                <a:off x="1940040" y="1052640"/>
                <a:ext cx="182520" cy="2006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250920" y="2055960"/>
                <a:ext cx="3313080" cy="55440"/>
                <a:chOff x="250920" y="2055960"/>
                <a:chExt cx="3313080" cy="55440"/>
              </a:xfrm>
            </p:grpSpPr>
            <p:sp>
              <p:nvSpPr>
                <p:cNvPr id="110" name=""/>
                <p:cNvSpPr/>
                <p:nvPr/>
              </p:nvSpPr>
              <p:spPr>
                <a:xfrm flipV="1">
                  <a:off x="250920" y="2068560"/>
                  <a:ext cx="3313080" cy="14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2943360" y="2055960"/>
                  <a:ext cx="46080" cy="5544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2008080" y="2055960"/>
                  <a:ext cx="46080" cy="55440"/>
                </a:xfrm>
                <a:prstGeom prst="ellipse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"/>
            <p:cNvSpPr/>
            <p:nvPr/>
          </p:nvSpPr>
          <p:spPr>
            <a:xfrm>
              <a:off x="1165320" y="2043000"/>
              <a:ext cx="572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8160" y="2043000"/>
              <a:ext cx="5688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3760" y="2043000"/>
              <a:ext cx="5688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003640" y="1844640"/>
            <a:ext cx="3124080" cy="1981080"/>
            <a:chOff x="5003640" y="1844640"/>
            <a:chExt cx="3124080" cy="1981080"/>
          </a:xfrm>
        </p:grpSpPr>
        <p:sp>
          <p:nvSpPr>
            <p:cNvPr id="117" name="xjhgx3"/>
            <p:cNvSpPr/>
            <p:nvPr/>
          </p:nvSpPr>
          <p:spPr>
            <a:xfrm>
              <a:off x="6298920" y="1844640"/>
              <a:ext cx="304920" cy="1981080"/>
            </a:xfrm>
            <a:custGeom>
              <a:avLst/>
              <a:gdLst/>
              <a:ahLst/>
              <a:rect l="l" t="t" r="r" b="b"/>
              <a:pathLst>
                <a:path w="980" h="4408">
                  <a:moveTo>
                    <a:pt x="980" y="0"/>
                  </a:moveTo>
                  <a:lnTo>
                    <a:pt x="907" y="270"/>
                  </a:lnTo>
                  <a:lnTo>
                    <a:pt x="845" y="542"/>
                  </a:lnTo>
                  <a:lnTo>
                    <a:pt x="791" y="816"/>
                  </a:lnTo>
                  <a:lnTo>
                    <a:pt x="748" y="1091"/>
                  </a:lnTo>
                  <a:lnTo>
                    <a:pt x="714" y="1368"/>
                  </a:lnTo>
                  <a:lnTo>
                    <a:pt x="689" y="1646"/>
                  </a:lnTo>
                  <a:lnTo>
                    <a:pt x="675" y="1925"/>
                  </a:lnTo>
                  <a:lnTo>
                    <a:pt x="670" y="2204"/>
                  </a:lnTo>
                  <a:lnTo>
                    <a:pt x="675" y="2483"/>
                  </a:lnTo>
                  <a:lnTo>
                    <a:pt x="689" y="2762"/>
                  </a:lnTo>
                  <a:lnTo>
                    <a:pt x="714" y="3040"/>
                  </a:lnTo>
                  <a:lnTo>
                    <a:pt x="748" y="3317"/>
                  </a:lnTo>
                  <a:lnTo>
                    <a:pt x="791" y="3592"/>
                  </a:lnTo>
                  <a:lnTo>
                    <a:pt x="845" y="3866"/>
                  </a:lnTo>
                  <a:lnTo>
                    <a:pt x="907" y="4138"/>
                  </a:lnTo>
                  <a:lnTo>
                    <a:pt x="980" y="4408"/>
                  </a:lnTo>
                  <a:lnTo>
                    <a:pt x="0" y="4408"/>
                  </a:lnTo>
                  <a:lnTo>
                    <a:pt x="73" y="4138"/>
                  </a:lnTo>
                  <a:lnTo>
                    <a:pt x="135" y="3866"/>
                  </a:lnTo>
                  <a:lnTo>
                    <a:pt x="189" y="3592"/>
                  </a:lnTo>
                  <a:lnTo>
                    <a:pt x="232" y="3317"/>
                  </a:lnTo>
                  <a:lnTo>
                    <a:pt x="266" y="3040"/>
                  </a:lnTo>
                  <a:lnTo>
                    <a:pt x="291" y="2762"/>
                  </a:lnTo>
                  <a:lnTo>
                    <a:pt x="305" y="2483"/>
                  </a:lnTo>
                  <a:lnTo>
                    <a:pt x="310" y="2204"/>
                  </a:lnTo>
                  <a:lnTo>
                    <a:pt x="305" y="1925"/>
                  </a:lnTo>
                  <a:lnTo>
                    <a:pt x="291" y="1646"/>
                  </a:lnTo>
                  <a:lnTo>
                    <a:pt x="266" y="1368"/>
                  </a:lnTo>
                  <a:lnTo>
                    <a:pt x="232" y="1091"/>
                  </a:lnTo>
                  <a:lnTo>
                    <a:pt x="189" y="816"/>
                  </a:lnTo>
                  <a:lnTo>
                    <a:pt x="135" y="542"/>
                  </a:lnTo>
                  <a:lnTo>
                    <a:pt x="73" y="270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03640" y="2835360"/>
              <a:ext cx="31240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431400" y="2820960"/>
              <a:ext cx="572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689440" y="2801880"/>
              <a:ext cx="5688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136280" y="2801880"/>
              <a:ext cx="572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71640" y="1125360"/>
            <a:ext cx="2087640" cy="179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2133720"/>
            <a:ext cx="194292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116000" y="1483920"/>
            <a:ext cx="1584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51640" y="220500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06064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28526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285264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125360"/>
            <a:ext cx="215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187280" y="256536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458136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宋体"/>
              </a:rPr>
              <a:t>过光心的光传播方向不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539640" y="1700280"/>
            <a:ext cx="3342960" cy="2006640"/>
            <a:chOff x="539640" y="1700280"/>
            <a:chExt cx="3342960" cy="2006640"/>
          </a:xfrm>
        </p:grpSpPr>
        <p:grpSp>
          <p:nvGrpSpPr>
            <p:cNvPr id="133" name=""/>
            <p:cNvGrpSpPr/>
            <p:nvPr/>
          </p:nvGrpSpPr>
          <p:grpSpPr>
            <a:xfrm>
              <a:off x="2246400" y="2249640"/>
              <a:ext cx="1636200" cy="1111320"/>
              <a:chOff x="2246400" y="2249640"/>
              <a:chExt cx="1636200" cy="1111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246400" y="2249640"/>
                <a:ext cx="1636200" cy="75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267640" y="2391120"/>
                <a:ext cx="1555200" cy="9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39640" y="1700280"/>
              <a:ext cx="3313080" cy="2006640"/>
              <a:chOff x="539640" y="1700280"/>
              <a:chExt cx="3313080" cy="200664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539640" y="1700280"/>
                <a:ext cx="3313080" cy="2006640"/>
                <a:chOff x="539640" y="1700280"/>
                <a:chExt cx="3313080" cy="20066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228760" y="1700280"/>
                  <a:ext cx="182520" cy="2006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"/>
                <p:cNvGrpSpPr/>
                <p:nvPr/>
              </p:nvGrpSpPr>
              <p:grpSpPr>
                <a:xfrm>
                  <a:off x="539640" y="2703600"/>
                  <a:ext cx="3313080" cy="55440"/>
                  <a:chOff x="539640" y="2703600"/>
                  <a:chExt cx="3313080" cy="554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V="1">
                    <a:off x="539640" y="2716200"/>
                    <a:ext cx="3313080" cy="14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>
                    <a:off x="3232080" y="2703600"/>
                    <a:ext cx="46080" cy="5544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9360">
                    <a:solidFill>
                      <a:srgbClr val="cc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>
                    <a:off x="2296800" y="2703600"/>
                    <a:ext cx="46080" cy="5544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3" name=""/>
              <p:cNvSpPr/>
              <p:nvPr/>
            </p:nvSpPr>
            <p:spPr>
              <a:xfrm>
                <a:off x="1454040" y="2690640"/>
                <a:ext cx="57240" cy="5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06880" y="269064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92480" y="269064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042920" y="2276640"/>
              <a:ext cx="1184400" cy="1090800"/>
              <a:chOff x="1042920" y="2276640"/>
              <a:chExt cx="1184400" cy="10908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1091160" y="2276640"/>
                <a:ext cx="11361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42920" y="3367440"/>
                <a:ext cx="118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5292720" y="1483920"/>
            <a:ext cx="3124080" cy="2419560"/>
            <a:chOff x="5292720" y="1483920"/>
            <a:chExt cx="3124080" cy="2419560"/>
          </a:xfrm>
        </p:grpSpPr>
        <p:grpSp>
          <p:nvGrpSpPr>
            <p:cNvPr id="150" name=""/>
            <p:cNvGrpSpPr/>
            <p:nvPr/>
          </p:nvGrpSpPr>
          <p:grpSpPr>
            <a:xfrm>
              <a:off x="5521320" y="2169720"/>
              <a:ext cx="1143000" cy="1090800"/>
              <a:chOff x="5521320" y="2169720"/>
              <a:chExt cx="1143000" cy="109080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5567760" y="2169720"/>
                <a:ext cx="10962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521320" y="326052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292720" y="1712880"/>
              <a:ext cx="3124080" cy="1981080"/>
              <a:chOff x="5292720" y="1712880"/>
              <a:chExt cx="3124080" cy="1981080"/>
            </a:xfrm>
          </p:grpSpPr>
          <p:sp>
            <p:nvSpPr>
              <p:cNvPr id="154" name="xjhgx3"/>
              <p:cNvSpPr/>
              <p:nvPr/>
            </p:nvSpPr>
            <p:spPr>
              <a:xfrm>
                <a:off x="6588000" y="1712880"/>
                <a:ext cx="304920" cy="1981080"/>
              </a:xfrm>
              <a:custGeom>
                <a:avLst/>
                <a:gdLst/>
                <a:ahLst/>
                <a:rect l="l" t="t" r="r" b="b"/>
                <a:pathLst>
                  <a:path w="980" h="4408">
                    <a:moveTo>
                      <a:pt x="980" y="0"/>
                    </a:moveTo>
                    <a:lnTo>
                      <a:pt x="907" y="270"/>
                    </a:lnTo>
                    <a:lnTo>
                      <a:pt x="845" y="542"/>
                    </a:lnTo>
                    <a:lnTo>
                      <a:pt x="791" y="816"/>
                    </a:lnTo>
                    <a:lnTo>
                      <a:pt x="748" y="1091"/>
                    </a:lnTo>
                    <a:lnTo>
                      <a:pt x="714" y="1368"/>
                    </a:lnTo>
                    <a:lnTo>
                      <a:pt x="689" y="1646"/>
                    </a:lnTo>
                    <a:lnTo>
                      <a:pt x="675" y="1925"/>
                    </a:lnTo>
                    <a:lnTo>
                      <a:pt x="670" y="2204"/>
                    </a:lnTo>
                    <a:lnTo>
                      <a:pt x="675" y="2483"/>
                    </a:lnTo>
                    <a:lnTo>
                      <a:pt x="689" y="2762"/>
                    </a:lnTo>
                    <a:lnTo>
                      <a:pt x="714" y="3040"/>
                    </a:lnTo>
                    <a:lnTo>
                      <a:pt x="748" y="3317"/>
                    </a:lnTo>
                    <a:lnTo>
                      <a:pt x="791" y="3592"/>
                    </a:lnTo>
                    <a:lnTo>
                      <a:pt x="845" y="3866"/>
                    </a:lnTo>
                    <a:lnTo>
                      <a:pt x="907" y="4138"/>
                    </a:lnTo>
                    <a:lnTo>
                      <a:pt x="980" y="4408"/>
                    </a:lnTo>
                    <a:lnTo>
                      <a:pt x="0" y="4408"/>
                    </a:lnTo>
                    <a:lnTo>
                      <a:pt x="73" y="4138"/>
                    </a:lnTo>
                    <a:lnTo>
                      <a:pt x="135" y="3866"/>
                    </a:lnTo>
                    <a:lnTo>
                      <a:pt x="189" y="3592"/>
                    </a:lnTo>
                    <a:lnTo>
                      <a:pt x="232" y="3317"/>
                    </a:lnTo>
                    <a:lnTo>
                      <a:pt x="266" y="3040"/>
                    </a:lnTo>
                    <a:lnTo>
                      <a:pt x="291" y="2762"/>
                    </a:lnTo>
                    <a:lnTo>
                      <a:pt x="305" y="2483"/>
                    </a:lnTo>
                    <a:lnTo>
                      <a:pt x="310" y="2204"/>
                    </a:lnTo>
                    <a:lnTo>
                      <a:pt x="305" y="1925"/>
                    </a:lnTo>
                    <a:lnTo>
                      <a:pt x="291" y="1646"/>
                    </a:lnTo>
                    <a:lnTo>
                      <a:pt x="266" y="1368"/>
                    </a:lnTo>
                    <a:lnTo>
                      <a:pt x="232" y="1091"/>
                    </a:lnTo>
                    <a:lnTo>
                      <a:pt x="189" y="816"/>
                    </a:lnTo>
                    <a:lnTo>
                      <a:pt x="135" y="542"/>
                    </a:lnTo>
                    <a:lnTo>
                      <a:pt x="73" y="270"/>
                    </a:lnTo>
                    <a:lnTo>
                      <a:pt x="0" y="0"/>
                    </a:lnTo>
                    <a:lnTo>
                      <a:pt x="98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92720" y="2703600"/>
                <a:ext cx="3124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6720480" y="2689200"/>
                <a:ext cx="57240" cy="5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5978520" y="267012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7425360" y="2670120"/>
                <a:ext cx="57240" cy="5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640560" y="1483920"/>
              <a:ext cx="809280" cy="2419560"/>
              <a:chOff x="6640560" y="1483920"/>
              <a:chExt cx="809280" cy="241956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6664320" y="1483920"/>
                <a:ext cx="76176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40560" y="3256200"/>
                <a:ext cx="809280" cy="64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826920" y="5157720"/>
            <a:ext cx="34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凸透镜对光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会聚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494172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凹透镜对光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散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692280"/>
            <a:ext cx="34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透镜对光的作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267440" cy="3047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88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09640" y="1085760"/>
            <a:ext cx="75232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76160" y="1190520"/>
            <a:ext cx="7589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知识小结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节课内容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认识了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（凸透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镜和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（凹透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镜，而且知道了凸透镜的焦点和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（焦距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凸透镜能使跟主光轴平行的光线会聚在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（焦点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凹透镜却能使平行光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（发散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焦点处的光经凸透镜折射后能产生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（平行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过光心的光传播方向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（不变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1268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［动手动脑学物理］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拿一两个凸透镜试一试，怎样可以测得凸透镜的焦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方法：拿一个凸透镜正对着太阳光，让光通过凸透镜照到白纸上，移动凸透镜使光斑很小很亮，用刻度尺量出光斑到凸透镜的距离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是两个直径相同的凸透镜，它们的焦距分别是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 cm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按照实际尺寸画出平行光经过它们之后的径迹，哪个凸透镜使光偏折得更多些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焦距的长短反映了凸透镜会聚作用的强弱，焦距短的会聚作用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凸透镜表面的凸起程度决定了它的焦距的长短：表面越凸，焦距越短，每个凸透镜的焦距是一定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26920" y="692280"/>
          <a:ext cx="7272360" cy="20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692280"/>
                    <a:ext cx="7272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要想利用凸透镜使小灯泡发出的光变成平行光，应该把小灯泡放在凸透镜的什么位置？试试看，你在解决这个问题的时候实际利用了前面学过的什么原理？先猜测一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课堂同步创新训练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些透镜的截面如图所示，在这些透镜中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属于凸透镜的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它们的共同特点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_____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属于凹透镜的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它们的共同特点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_____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979640" y="1844640"/>
          <a:ext cx="4343400" cy="14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1844640"/>
                    <a:ext cx="434340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了解什么是凸透镜，什么是凹透镜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知道凸透镜的会聚作用和凹透镜的发散         作用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知道凸透镜的焦点、焦距和主光轴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知道如何利用凸透镜产生平行光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会画简单的会聚和发散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4360" y="2252160"/>
            <a:ext cx="752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小华让凸透镜正对着太阳光，拿一张白纸在它的另一侧前后移动，直到纸上的光斑变得最小、最亮，这个点叫做凸透镜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__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处可点燃火柴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当把一小灯泡放在该点时，灯泡射向凸透镜的光，经凸透镜后将成为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平面镜、凹透镜、凸透镜是常用的三种光学器件，其中利用光的反射规律的是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镜；利用光的折射规律的是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镜；能会聚太阳光的是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63640" y="620640"/>
            <a:ext cx="439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如图，在各个方框中恰当的位置上画出合适的透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87280" y="2421000"/>
          <a:ext cx="7510680" cy="26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421000"/>
                    <a:ext cx="751068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课后作业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践活动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个人一小组，测一放大镜或老花镜的焦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【活动流程】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提出问题；猜想与假设；制订</a:t>
            </a:r>
            <a:r>
              <a:rPr b="1" lang="zh-CN" sz="32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计划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设计实验；进行实验与收集证据；分析与论证；评估；交流与合作．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124000" y="242100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Arial"/>
                <a:ea typeface="宋体"/>
              </a:rPr>
              <a:t>     </a:t>
            </a:r>
            <a:r>
              <a:rPr b="1" lang="zh-CN" sz="8000" spc="-1" strike="noStrike">
                <a:solidFill>
                  <a:srgbClr val="ff5050"/>
                </a:solidFill>
                <a:latin typeface="Arial"/>
                <a:ea typeface="宋体"/>
              </a:rPr>
              <a:t>谢 谢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22520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能力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通过观察凸透镜和凹透镜的实物及板图，得出两种透镜的两种不同构造，培养学生通过观察时抓住事物本质特征，通过观察能够识别不同事物的不同特点的能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通过实验培养学生研究、探索新问题的能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</a:rPr>
              <a:t>学习重点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3645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通过观察和实验，了解什么是凸透镜和凹透镜及对光的作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生活中常见的透镜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708360" y="3645000"/>
            <a:ext cx="2305080" cy="2017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5640" y="1484280"/>
            <a:ext cx="2376360" cy="1795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789360" y="1413000"/>
            <a:ext cx="1922400" cy="2006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372360" y="1484280"/>
            <a:ext cx="1922400" cy="1922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588000" y="3645000"/>
            <a:ext cx="2028960" cy="2413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116000" y="3573360"/>
            <a:ext cx="19432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4224240"/>
            <a:ext cx="32893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凸透镜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中间厚、边缘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64000" y="4437000"/>
            <a:ext cx="339120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凹透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中间薄、边缘厚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426960"/>
            <a:ext cx="820728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85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280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05:18:45Z</dcterms:created>
  <dc:creator>lkx</dc:creator>
  <dc:description/>
  <dc:language>en-US</dc:language>
  <cp:lastModifiedBy>lkx</cp:lastModifiedBy>
  <dcterms:modified xsi:type="dcterms:W3CDTF">2007-10-31T05:18:45Z</dcterms:modified>
  <cp:revision>29</cp:revision>
  <dc:subject/>
  <dc:title>透镜</dc:title>
</cp:coreProperties>
</file>