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3.png" ContentType="image/png"/>
  <Override PartName="/ppt/media/chimes.wav" ContentType="audio/x-wav"/>
  <Override PartName="/ppt/media/arrow.wav" ContentType="audio/x-wav"/>
  <Override PartName="/ppt/media/voltage.wav" ContentType="audio/x-wav"/>
  <Override PartName="/ppt/media/image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click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2E0-2626-48C0-9DBF-19150CDD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9188-4B39-47BD-9891-15310955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4C9-ED14-48BD-BF1A-6F6B8767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EE12-3F68-4F60-B629-613653B8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D120-64C5-4618-A0C9-47F9EA27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15AD-3507-4117-B1FB-B39FFF02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DF93-3F67-48FC-B6E9-1243534B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B0E5-CDD2-4F17-BE98-93CED8D0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45FA-4CF9-4EF8-AA67-2E674DDC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8978-0EA6-42DD-89F6-58032C30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7445-1B10-4413-8CB8-C7096ABD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143B-C873-4AAD-9BA1-EA8BF1BB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7516-2DD0-42DC-9D2E-381E06D7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811E-9030-4720-9A74-CBDFB8CD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98F2-1BF8-4E30-940C-4ECC8FEA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5B61-A125-42E3-8EE3-6484A289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641E-F9F6-4AEC-A36C-5307C2C07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9E6-7E8F-4032-BEF9-7DA862EC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E5A5-9B95-410E-91AE-44574C25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04D-61B2-45D1-8147-58C6CA2C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E4DE-8490-4079-ADF3-70D5B681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A78B-AF9A-4BE8-8DDF-E2227735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8AB-5C01-4335-91A3-BD15FFD0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F922-B657-4574-A7CB-62BB6A2D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692A-F6F9-4DCD-B557-C34DD36FCA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dcff"/>
            </a:gs>
            <a:gs pos="50000">
              <a:srgbClr val="ffffff"/>
            </a:gs>
            <a:gs pos="100000">
              <a:srgbClr val="97d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E389-A8FE-4B16-ACE6-6F39405EED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572680" y="6300720"/>
            <a:ext cx="514080" cy="486000"/>
          </a:xfrm>
          <a:custGeom>
            <a:avLst/>
            <a:gdLst>
              <a:gd name="textAreaLeft" fmla="*/ 31320 w 514080"/>
              <a:gd name="textAreaRight" fmla="*/ 482760 w 514080"/>
              <a:gd name="textAreaTop" fmla="*/ 31320 h 486000"/>
              <a:gd name="textAreaBottom" fmla="*/ 454680 h 486000"/>
            </a:gdLst>
            <a:ahLst/>
            <a:rect l="textAreaLeft" t="textAreaTop" r="textAreaRight" b="textAreaBottom"/>
            <a:pathLst>
              <a:path w="22847" h="21600">
                <a:moveTo>
                  <a:pt x="0" y="0"/>
                </a:moveTo>
                <a:lnTo>
                  <a:pt x="22847" y="0"/>
                </a:lnTo>
                <a:lnTo>
                  <a:pt x="22847" y="21600"/>
                </a:lnTo>
                <a:lnTo>
                  <a:pt x="0" y="21600"/>
                </a:lnTo>
                <a:close/>
              </a:path>
              <a:path fill="lightenLess" w="22847" h="21600">
                <a:moveTo>
                  <a:pt x="0" y="0"/>
                </a:moveTo>
                <a:lnTo>
                  <a:pt x="22847" y="0"/>
                </a:lnTo>
                <a:lnTo>
                  <a:pt x="21447" y="1400"/>
                </a:lnTo>
                <a:lnTo>
                  <a:pt x="1400" y="1400"/>
                </a:lnTo>
                <a:close/>
              </a:path>
              <a:path fill="darken" w="22847" h="21600">
                <a:moveTo>
                  <a:pt x="22847" y="0"/>
                </a:moveTo>
                <a:lnTo>
                  <a:pt x="22847" y="21600"/>
                </a:lnTo>
                <a:lnTo>
                  <a:pt x="21447" y="20200"/>
                </a:lnTo>
                <a:lnTo>
                  <a:pt x="21447" y="1400"/>
                </a:lnTo>
                <a:close/>
              </a:path>
              <a:path fill="darkenLess" w="22847" h="21600">
                <a:moveTo>
                  <a:pt x="228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47" y="20200"/>
                </a:lnTo>
                <a:close/>
              </a:path>
              <a:path fill="lighten" w="228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47" h="21600">
                <a:moveTo>
                  <a:pt x="4417" y="3794"/>
                </a:moveTo>
                <a:lnTo>
                  <a:pt x="18430" y="10800"/>
                </a:lnTo>
                <a:lnTo>
                  <a:pt x="4417" y="17806"/>
                </a:lnTo>
                <a:close/>
              </a:path>
            </a:pathLst>
          </a:custGeom>
          <a:solidFill>
            <a:srgbClr val="97d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audio" Target="../media/voltage.wav"/><Relationship Id="rId5" Type="http://schemas.openxmlformats.org/officeDocument/2006/relationships/audio" Target="../media/arrow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Zx2/&#25991;&#20214;%20(E)/&#27146;&#26230;/&#25945;&#23398;/&#35838;&#20214;/&#20809;&#30340;&#25240;&#23556;/&#20809;&#30340;&#25240;&#23556;1.swf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1676520"/>
            <a:ext cx="9144000" cy="9372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147120" y="2622600"/>
            <a:ext cx="31068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隶书"/>
              </a:rPr>
              <a:t>光的折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771920" y="285840"/>
            <a:ext cx="6247080" cy="764280"/>
          </a:xfrm>
          <a:prstGeom prst="rect">
            <a:avLst/>
          </a:prstGeom>
          <a:noFill/>
          <a:ln w="0">
            <a:noFill/>
          </a:ln>
          <a:effectLst>
            <a:outerShdw dist="7632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欢迎你走进我们的课堂</a:t>
            </a:r>
            <a:r>
              <a:rPr b="0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,</a:t>
            </a:r>
            <a:r>
              <a:rPr b="0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共探教海航向</a:t>
            </a:r>
            <a:r>
              <a:rPr b="0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22222E-006 L -2.06962 -2.22222E-006 E">
                                      <p:cBhvr>
                                        <p:cTn id="6" dur="1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34347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28600" y="228600"/>
            <a:ext cx="3124080" cy="6094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从生活走向物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" action="ppaction://hlinkshowjump?jump=lastslide"/>
          </p:cNvPr>
          <p:cNvSpPr/>
          <p:nvPr/>
        </p:nvSpPr>
        <p:spPr>
          <a:xfrm>
            <a:off x="8381880" y="6248520"/>
            <a:ext cx="509760" cy="433440"/>
          </a:xfrm>
          <a:custGeom>
            <a:avLst/>
            <a:gdLst>
              <a:gd name="textAreaLeft" fmla="*/ 28080 w 509760"/>
              <a:gd name="textAreaRight" fmla="*/ 481680 w 5097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400" h="21600">
                <a:moveTo>
                  <a:pt x="0" y="0"/>
                </a:moveTo>
                <a:lnTo>
                  <a:pt x="25400" y="0"/>
                </a:lnTo>
                <a:lnTo>
                  <a:pt x="25400" y="21600"/>
                </a:lnTo>
                <a:lnTo>
                  <a:pt x="0" y="21600"/>
                </a:lnTo>
                <a:close/>
              </a:path>
              <a:path fill="lightenLess" w="25400" h="21600">
                <a:moveTo>
                  <a:pt x="0" y="0"/>
                </a:moveTo>
                <a:lnTo>
                  <a:pt x="25400" y="0"/>
                </a:lnTo>
                <a:lnTo>
                  <a:pt x="24000" y="1400"/>
                </a:lnTo>
                <a:lnTo>
                  <a:pt x="1400" y="1400"/>
                </a:lnTo>
                <a:close/>
              </a:path>
              <a:path fill="darken" w="25400" h="21600">
                <a:moveTo>
                  <a:pt x="25400" y="0"/>
                </a:moveTo>
                <a:lnTo>
                  <a:pt x="25400" y="21600"/>
                </a:lnTo>
                <a:lnTo>
                  <a:pt x="24000" y="20200"/>
                </a:lnTo>
                <a:lnTo>
                  <a:pt x="24000" y="1400"/>
                </a:lnTo>
                <a:close/>
              </a:path>
              <a:path fill="darkenLess" w="25400" h="21600">
                <a:moveTo>
                  <a:pt x="25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0" y="20200"/>
                </a:lnTo>
                <a:close/>
              </a:path>
              <a:path fill="lighten" w="25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0" h="21600">
                <a:moveTo>
                  <a:pt x="16199" y="10800"/>
                </a:moveTo>
                <a:lnTo>
                  <a:pt x="5694" y="17806"/>
                </a:lnTo>
                <a:lnTo>
                  <a:pt x="5694" y="3794"/>
                </a:lnTo>
                <a:close/>
              </a:path>
              <a:path fill="darken" w="25400" h="21600">
                <a:moveTo>
                  <a:pt x="18044" y="3794"/>
                </a:moveTo>
                <a:lnTo>
                  <a:pt x="18044" y="17806"/>
                </a:lnTo>
                <a:lnTo>
                  <a:pt x="19707" y="17806"/>
                </a:lnTo>
                <a:lnTo>
                  <a:pt x="19707" y="379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ShockwaveFlash1"/>
          <p:cNvGraphicFramePr/>
          <p:nvPr/>
        </p:nvGraphicFramePr>
        <p:xfrm>
          <a:off x="1143000" y="990720"/>
          <a:ext cx="701028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7010280" cy="5105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28600" y="228600"/>
            <a:ext cx="3124080" cy="6094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从生活走向物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ShockwaveFlash1"/>
          <p:cNvGraphicFramePr/>
          <p:nvPr/>
        </p:nvGraphicFramePr>
        <p:xfrm>
          <a:off x="1143000" y="990720"/>
          <a:ext cx="701208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7012080" cy="5105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28600" y="228600"/>
            <a:ext cx="3124080" cy="6094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从生活走向物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ShockwaveFlash1"/>
          <p:cNvGraphicFramePr/>
          <p:nvPr/>
        </p:nvGraphicFramePr>
        <p:xfrm>
          <a:off x="0" y="838080"/>
          <a:ext cx="91440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334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6781680" y="-84600"/>
            <a:ext cx="2195640" cy="1725840"/>
            <a:chOff x="6781680" y="-84600"/>
            <a:chExt cx="2195640" cy="1725840"/>
          </a:xfrm>
        </p:grpSpPr>
        <p:sp>
          <p:nvSpPr>
            <p:cNvPr id="320" name=""/>
            <p:cNvSpPr/>
            <p:nvPr/>
          </p:nvSpPr>
          <p:spPr>
            <a:xfrm>
              <a:off x="7653240" y="76320"/>
              <a:ext cx="83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Monotype Corsiva"/>
                  <a:ea typeface="方正舒体"/>
                </a:rPr>
                <a:t>w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38880" y="152640"/>
              <a:ext cx="83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cc00"/>
                  </a:solidFill>
                  <a:latin typeface="Monotype Corsiva"/>
                  <a:ea typeface="方正舒体"/>
                </a:rPr>
                <a:t>w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81680" y="289080"/>
              <a:ext cx="83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Monotype Corsiva"/>
                  <a:ea typeface="方正舒体"/>
                </a:rPr>
                <a:t>w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238400">
              <a:off x="7964280" y="0"/>
              <a:ext cx="762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dddddd"/>
                  </a:solidFill>
                  <a:latin typeface="华文中宋"/>
                  <a:ea typeface="华文中宋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80880" y="1371600"/>
            <a:ext cx="7620120" cy="1191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有经验的渔民在叉鱼时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要向看到的鱼的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___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方投叉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才能叉到鱼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320" y="76320"/>
            <a:ext cx="3276360" cy="6094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从物理走向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246640" y="5029200"/>
            <a:ext cx="828720" cy="6476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5300640" y="5715000"/>
            <a:ext cx="743040" cy="7239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4724280" y="4584600"/>
            <a:ext cx="609840" cy="638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581280" y="3422520"/>
            <a:ext cx="1116000" cy="1116000"/>
            <a:chOff x="3581280" y="3422520"/>
            <a:chExt cx="1116000" cy="1116000"/>
          </a:xfrm>
        </p:grpSpPr>
        <p:sp>
          <p:nvSpPr>
            <p:cNvPr id="330" name=""/>
            <p:cNvSpPr/>
            <p:nvPr/>
          </p:nvSpPr>
          <p:spPr>
            <a:xfrm flipH="1" flipV="1">
              <a:off x="3581280" y="3422520"/>
              <a:ext cx="1116000" cy="11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4176720" y="4017960"/>
              <a:ext cx="74160" cy="74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707000" y="3470400"/>
            <a:ext cx="0" cy="2224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4696920" y="4526280"/>
            <a:ext cx="692280" cy="1341000"/>
            <a:chOff x="4696920" y="4526280"/>
            <a:chExt cx="692280" cy="1341000"/>
          </a:xfrm>
        </p:grpSpPr>
        <p:sp>
          <p:nvSpPr>
            <p:cNvPr id="334" name=""/>
            <p:cNvSpPr/>
            <p:nvPr/>
          </p:nvSpPr>
          <p:spPr>
            <a:xfrm flipH="1" flipV="1">
              <a:off x="4696920" y="4526280"/>
              <a:ext cx="692280" cy="1341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5066280" y="5241600"/>
              <a:ext cx="46080" cy="89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5286240" y="519120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67280" y="5651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4114800" y="4537080"/>
            <a:ext cx="1350720" cy="1406160"/>
            <a:chOff x="4114800" y="4537080"/>
            <a:chExt cx="1350720" cy="1406160"/>
          </a:xfrm>
        </p:grpSpPr>
        <p:sp>
          <p:nvSpPr>
            <p:cNvPr id="339" name=""/>
            <p:cNvSpPr/>
            <p:nvPr/>
          </p:nvSpPr>
          <p:spPr>
            <a:xfrm flipH="1" flipV="1">
              <a:off x="4114800" y="4537080"/>
              <a:ext cx="1350720" cy="1406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4744440" y="5207400"/>
              <a:ext cx="84240" cy="78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4114800" y="3470400"/>
            <a:ext cx="0" cy="2224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124080" y="3956040"/>
            <a:ext cx="990720" cy="588960"/>
            <a:chOff x="3124080" y="3956040"/>
            <a:chExt cx="990720" cy="588960"/>
          </a:xfrm>
        </p:grpSpPr>
        <p:sp>
          <p:nvSpPr>
            <p:cNvPr id="343" name=""/>
            <p:cNvSpPr/>
            <p:nvPr/>
          </p:nvSpPr>
          <p:spPr>
            <a:xfrm flipH="1" flipV="1">
              <a:off x="3124080" y="3956040"/>
              <a:ext cx="990720" cy="588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3531600" y="4198680"/>
              <a:ext cx="57960" cy="3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 flipH="1" flipV="1">
            <a:off x="4114440" y="4536720"/>
            <a:ext cx="1066680" cy="633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57880" y="583236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54480" y="4756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 rot="527400">
            <a:off x="0" y="2133720"/>
            <a:ext cx="2840040" cy="304164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2951280" y="4567320"/>
            <a:ext cx="3906360" cy="1604880"/>
            <a:chOff x="2951280" y="4567320"/>
            <a:chExt cx="3906360" cy="1604880"/>
          </a:xfrm>
        </p:grpSpPr>
        <p:grpSp>
          <p:nvGrpSpPr>
            <p:cNvPr id="350" name=""/>
            <p:cNvGrpSpPr/>
            <p:nvPr/>
          </p:nvGrpSpPr>
          <p:grpSpPr>
            <a:xfrm>
              <a:off x="2987640" y="4567320"/>
              <a:ext cx="3870000" cy="1077480"/>
              <a:chOff x="2987640" y="4567320"/>
              <a:chExt cx="3870000" cy="1077480"/>
            </a:xfrm>
          </p:grpSpPr>
          <p:sp>
            <p:nvSpPr>
              <p:cNvPr id="351" name=""/>
              <p:cNvSpPr/>
              <p:nvPr/>
            </p:nvSpPr>
            <p:spPr>
              <a:xfrm>
                <a:off x="3017880" y="4567320"/>
                <a:ext cx="361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987640" y="4745160"/>
                <a:ext cx="3870000" cy="899640"/>
                <a:chOff x="2987640" y="4745160"/>
                <a:chExt cx="3870000" cy="89964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2987640" y="4745160"/>
                  <a:ext cx="3576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205800" y="5022720"/>
                  <a:ext cx="3577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987640" y="5230080"/>
                  <a:ext cx="3576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280680" y="5437440"/>
                  <a:ext cx="3576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987640" y="5644800"/>
                  <a:ext cx="3576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8" name=""/>
            <p:cNvSpPr/>
            <p:nvPr/>
          </p:nvSpPr>
          <p:spPr>
            <a:xfrm>
              <a:off x="2951280" y="5943600"/>
              <a:ext cx="3886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51280" y="6172200"/>
              <a:ext cx="3886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1432080" y="185724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0" y="91440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看起来不过齐腰深的池水，不会游泳的人可千万不可冒失下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048120" y="990720"/>
            <a:ext cx="6095880" cy="5867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63" name=""/>
          <p:cNvSpPr/>
          <p:nvPr/>
        </p:nvSpPr>
        <p:spPr>
          <a:xfrm>
            <a:off x="228600" y="76320"/>
            <a:ext cx="3124080" cy="6094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生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物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社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676760" y="5499000"/>
            <a:ext cx="581040" cy="638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283360" y="4336920"/>
            <a:ext cx="1063440" cy="1116000"/>
            <a:chOff x="5283360" y="4336920"/>
            <a:chExt cx="1063440" cy="1116000"/>
          </a:xfrm>
        </p:grpSpPr>
        <p:sp>
          <p:nvSpPr>
            <p:cNvPr id="366" name=""/>
            <p:cNvSpPr/>
            <p:nvPr/>
          </p:nvSpPr>
          <p:spPr>
            <a:xfrm flipV="1">
              <a:off x="5283360" y="4336920"/>
              <a:ext cx="1063440" cy="11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708520" y="4932360"/>
              <a:ext cx="70920" cy="7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599000" y="5440680"/>
            <a:ext cx="658800" cy="1341000"/>
            <a:chOff x="4599000" y="5440680"/>
            <a:chExt cx="658800" cy="1341000"/>
          </a:xfrm>
        </p:grpSpPr>
        <p:sp>
          <p:nvSpPr>
            <p:cNvPr id="369" name=""/>
            <p:cNvSpPr/>
            <p:nvPr/>
          </p:nvSpPr>
          <p:spPr>
            <a:xfrm flipV="1">
              <a:off x="4599000" y="5440680"/>
              <a:ext cx="658800" cy="1341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862520" y="6156000"/>
              <a:ext cx="43920" cy="89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580640" y="5410080"/>
            <a:ext cx="1287000" cy="1406160"/>
            <a:chOff x="4580640" y="5410080"/>
            <a:chExt cx="1287000" cy="1406160"/>
          </a:xfrm>
        </p:grpSpPr>
        <p:sp>
          <p:nvSpPr>
            <p:cNvPr id="372" name=""/>
            <p:cNvSpPr/>
            <p:nvPr/>
          </p:nvSpPr>
          <p:spPr>
            <a:xfrm flipV="1">
              <a:off x="4580640" y="5410080"/>
              <a:ext cx="1287000" cy="1406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187240" y="6080400"/>
              <a:ext cx="80280" cy="78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5838840" y="4870440"/>
            <a:ext cx="942840" cy="588960"/>
            <a:chOff x="5838840" y="4870440"/>
            <a:chExt cx="942840" cy="588960"/>
          </a:xfrm>
        </p:grpSpPr>
        <p:sp>
          <p:nvSpPr>
            <p:cNvPr id="375" name=""/>
            <p:cNvSpPr/>
            <p:nvPr/>
          </p:nvSpPr>
          <p:spPr>
            <a:xfrm flipV="1">
              <a:off x="5838840" y="4870440"/>
              <a:ext cx="942840" cy="58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338520" y="5113080"/>
              <a:ext cx="55080" cy="3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V="1">
            <a:off x="4822920" y="5451120"/>
            <a:ext cx="1015920" cy="633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4495680"/>
            <a:ext cx="0" cy="2224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275440" y="4495680"/>
            <a:ext cx="0" cy="22240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5285880" y="4349880"/>
            <a:ext cx="1063800" cy="1116000"/>
            <a:chOff x="5285880" y="4349880"/>
            <a:chExt cx="1063800" cy="1116000"/>
          </a:xfrm>
        </p:grpSpPr>
        <p:sp>
          <p:nvSpPr>
            <p:cNvPr id="381" name=""/>
            <p:cNvSpPr/>
            <p:nvPr/>
          </p:nvSpPr>
          <p:spPr>
            <a:xfrm flipH="1">
              <a:off x="5285880" y="4349880"/>
              <a:ext cx="1063800" cy="11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5853240" y="4796280"/>
              <a:ext cx="70920" cy="7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5841720" y="4883040"/>
            <a:ext cx="942840" cy="588960"/>
            <a:chOff x="5841720" y="4883040"/>
            <a:chExt cx="942840" cy="588960"/>
          </a:xfrm>
        </p:grpSpPr>
        <p:sp>
          <p:nvSpPr>
            <p:cNvPr id="384" name=""/>
            <p:cNvSpPr/>
            <p:nvPr/>
          </p:nvSpPr>
          <p:spPr>
            <a:xfrm flipH="1">
              <a:off x="5841720" y="4883040"/>
              <a:ext cx="942840" cy="58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6229800" y="5194440"/>
              <a:ext cx="55080" cy="3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57200" y="10666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13716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99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如图所示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下列光的传播路径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符合光的折射规律的是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28600" y="3278160"/>
            <a:ext cx="8597880" cy="2320920"/>
            <a:chOff x="228600" y="3278160"/>
            <a:chExt cx="8597880" cy="2320920"/>
          </a:xfrm>
        </p:grpSpPr>
        <p:sp>
          <p:nvSpPr>
            <p:cNvPr id="389" name=""/>
            <p:cNvSpPr/>
            <p:nvPr/>
          </p:nvSpPr>
          <p:spPr>
            <a:xfrm>
              <a:off x="228600" y="420372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40120" y="3365640"/>
              <a:ext cx="0" cy="1676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433080" y="3311640"/>
              <a:ext cx="700920" cy="899640"/>
              <a:chOff x="433080" y="3311640"/>
              <a:chExt cx="700920" cy="899640"/>
            </a:xfrm>
          </p:grpSpPr>
          <p:sp>
            <p:nvSpPr>
              <p:cNvPr id="392" name=""/>
              <p:cNvSpPr/>
              <p:nvPr/>
            </p:nvSpPr>
            <p:spPr>
              <a:xfrm>
                <a:off x="433080" y="3311640"/>
                <a:ext cx="700920" cy="89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13160" y="3671280"/>
                <a:ext cx="46800" cy="5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1127520" y="4207680"/>
              <a:ext cx="878760" cy="553680"/>
              <a:chOff x="1127520" y="4207680"/>
              <a:chExt cx="878760" cy="553680"/>
            </a:xfrm>
          </p:grpSpPr>
          <p:sp>
            <p:nvSpPr>
              <p:cNvPr id="395" name=""/>
              <p:cNvSpPr/>
              <p:nvPr/>
            </p:nvSpPr>
            <p:spPr>
              <a:xfrm>
                <a:off x="1127520" y="4207680"/>
                <a:ext cx="878760" cy="55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478880" y="4429080"/>
                <a:ext cx="58680" cy="3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2492640" y="419112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03800" y="3352680"/>
              <a:ext cx="0" cy="1676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2772000" y="3278160"/>
              <a:ext cx="645840" cy="940680"/>
              <a:chOff x="2772000" y="3278160"/>
              <a:chExt cx="645840" cy="940680"/>
            </a:xfrm>
          </p:grpSpPr>
          <p:sp>
            <p:nvSpPr>
              <p:cNvPr id="400" name=""/>
              <p:cNvSpPr/>
              <p:nvPr/>
            </p:nvSpPr>
            <p:spPr>
              <a:xfrm flipH="1" flipV="1">
                <a:off x="2772000" y="3278160"/>
                <a:ext cx="645840" cy="94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 flipV="1">
                <a:off x="3116520" y="3780000"/>
                <a:ext cx="43200" cy="6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3394080" y="4177440"/>
              <a:ext cx="641520" cy="816840"/>
              <a:chOff x="3394080" y="4177440"/>
              <a:chExt cx="641520" cy="816840"/>
            </a:xfrm>
          </p:grpSpPr>
          <p:sp>
            <p:nvSpPr>
              <p:cNvPr id="403" name=""/>
              <p:cNvSpPr/>
              <p:nvPr/>
            </p:nvSpPr>
            <p:spPr>
              <a:xfrm flipH="1" flipV="1">
                <a:off x="3394080" y="4177440"/>
                <a:ext cx="641520" cy="816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flipV="1">
                <a:off x="3736080" y="4613400"/>
                <a:ext cx="42840" cy="54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"/>
            <p:cNvSpPr/>
            <p:nvPr/>
          </p:nvSpPr>
          <p:spPr>
            <a:xfrm>
              <a:off x="4743720" y="420372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654880" y="3365640"/>
              <a:ext cx="0" cy="1676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4947840" y="3311640"/>
              <a:ext cx="701280" cy="899640"/>
              <a:chOff x="4947840" y="3311640"/>
              <a:chExt cx="701280" cy="899640"/>
            </a:xfrm>
          </p:grpSpPr>
          <p:sp>
            <p:nvSpPr>
              <p:cNvPr id="408" name=""/>
              <p:cNvSpPr/>
              <p:nvPr/>
            </p:nvSpPr>
            <p:spPr>
              <a:xfrm>
                <a:off x="4947840" y="3311640"/>
                <a:ext cx="701280" cy="89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228280" y="3671280"/>
                <a:ext cx="46800" cy="5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5645160" y="4217400"/>
              <a:ext cx="425520" cy="947520"/>
              <a:chOff x="5645160" y="4217400"/>
              <a:chExt cx="425520" cy="947520"/>
            </a:xfrm>
          </p:grpSpPr>
          <p:sp>
            <p:nvSpPr>
              <p:cNvPr id="411" name=""/>
              <p:cNvSpPr/>
              <p:nvPr/>
            </p:nvSpPr>
            <p:spPr>
              <a:xfrm>
                <a:off x="5645160" y="4217400"/>
                <a:ext cx="425520" cy="947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815440" y="4596120"/>
                <a:ext cx="28440" cy="6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6997680" y="42004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09200" y="3362400"/>
              <a:ext cx="0" cy="1676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7277400" y="3288240"/>
              <a:ext cx="645840" cy="940320"/>
              <a:chOff x="7277400" y="3288240"/>
              <a:chExt cx="645840" cy="940320"/>
            </a:xfrm>
          </p:grpSpPr>
          <p:sp>
            <p:nvSpPr>
              <p:cNvPr id="416" name=""/>
              <p:cNvSpPr/>
              <p:nvPr/>
            </p:nvSpPr>
            <p:spPr>
              <a:xfrm flipH="1" flipV="1">
                <a:off x="7277400" y="3288240"/>
                <a:ext cx="645840" cy="9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 flipV="1">
                <a:off x="7621920" y="3790080"/>
                <a:ext cx="42840" cy="6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7920000" y="4191120"/>
              <a:ext cx="378000" cy="967320"/>
              <a:chOff x="7920000" y="4191120"/>
              <a:chExt cx="378000" cy="967320"/>
            </a:xfrm>
          </p:grpSpPr>
          <p:sp>
            <p:nvSpPr>
              <p:cNvPr id="419" name=""/>
              <p:cNvSpPr/>
              <p:nvPr/>
            </p:nvSpPr>
            <p:spPr>
              <a:xfrm flipH="1" flipV="1">
                <a:off x="7920000" y="4191120"/>
                <a:ext cx="378000" cy="96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>
                <a:off x="8121600" y="4707000"/>
                <a:ext cx="25200" cy="6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1542960" y="3770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空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31880" y="4127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28800" y="3746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空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18080" y="416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914800" y="37749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空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04080" y="4197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124480" y="3746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空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213760" y="416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86320" y="5046840"/>
              <a:ext cx="4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173040" y="5030640"/>
              <a:ext cx="42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24480" y="5046840"/>
              <a:ext cx="40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09040" y="5078520"/>
              <a:ext cx="44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7315200" y="23623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99880" y="-160920"/>
            <a:ext cx="2195640" cy="1725840"/>
            <a:chOff x="299880" y="-160920"/>
            <a:chExt cx="2195640" cy="1725840"/>
          </a:xfrm>
        </p:grpSpPr>
        <p:sp>
          <p:nvSpPr>
            <p:cNvPr id="435" name=""/>
            <p:cNvSpPr/>
            <p:nvPr/>
          </p:nvSpPr>
          <p:spPr>
            <a:xfrm>
              <a:off x="1171440" y="0"/>
              <a:ext cx="83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Monotype Corsiva"/>
                  <a:ea typeface="方正舒体"/>
                </a:rPr>
                <a:t>w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7080" y="76320"/>
              <a:ext cx="83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cc00"/>
                  </a:solidFill>
                  <a:latin typeface="Monotype Corsiva"/>
                  <a:ea typeface="方正舒体"/>
                </a:rPr>
                <a:t>w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99880" y="212760"/>
              <a:ext cx="838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Monotype Corsiva"/>
                  <a:ea typeface="方正舒体"/>
                </a:rPr>
                <a:t>w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238400">
              <a:off x="1482480" y="-76320"/>
              <a:ext cx="762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dddddd"/>
                  </a:solidFill>
                  <a:latin typeface="华文中宋"/>
                  <a:ea typeface="华文中宋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>
            <a:hlinkClick r:id="" action="ppaction://hlinkshowjump?jump=lastslide"/>
          </p:cNvPr>
          <p:cNvSpPr/>
          <p:nvPr/>
        </p:nvSpPr>
        <p:spPr>
          <a:xfrm>
            <a:off x="8381880" y="6248520"/>
            <a:ext cx="509760" cy="433440"/>
          </a:xfrm>
          <a:custGeom>
            <a:avLst/>
            <a:gdLst>
              <a:gd name="textAreaLeft" fmla="*/ 28080 w 509760"/>
              <a:gd name="textAreaRight" fmla="*/ 481680 w 5097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400" h="21600">
                <a:moveTo>
                  <a:pt x="0" y="0"/>
                </a:moveTo>
                <a:lnTo>
                  <a:pt x="25400" y="0"/>
                </a:lnTo>
                <a:lnTo>
                  <a:pt x="25400" y="21600"/>
                </a:lnTo>
                <a:lnTo>
                  <a:pt x="0" y="21600"/>
                </a:lnTo>
                <a:close/>
              </a:path>
              <a:path fill="lightenLess" w="25400" h="21600">
                <a:moveTo>
                  <a:pt x="0" y="0"/>
                </a:moveTo>
                <a:lnTo>
                  <a:pt x="25400" y="0"/>
                </a:lnTo>
                <a:lnTo>
                  <a:pt x="24000" y="1400"/>
                </a:lnTo>
                <a:lnTo>
                  <a:pt x="1400" y="1400"/>
                </a:lnTo>
                <a:close/>
              </a:path>
              <a:path fill="darken" w="25400" h="21600">
                <a:moveTo>
                  <a:pt x="25400" y="0"/>
                </a:moveTo>
                <a:lnTo>
                  <a:pt x="25400" y="21600"/>
                </a:lnTo>
                <a:lnTo>
                  <a:pt x="24000" y="20200"/>
                </a:lnTo>
                <a:lnTo>
                  <a:pt x="24000" y="1400"/>
                </a:lnTo>
                <a:close/>
              </a:path>
              <a:path fill="darkenLess" w="25400" h="21600">
                <a:moveTo>
                  <a:pt x="25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0" y="20200"/>
                </a:lnTo>
                <a:close/>
              </a:path>
              <a:path fill="lighten" w="25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0" h="21600">
                <a:moveTo>
                  <a:pt x="16199" y="10800"/>
                </a:moveTo>
                <a:lnTo>
                  <a:pt x="5694" y="17806"/>
                </a:lnTo>
                <a:lnTo>
                  <a:pt x="5694" y="3794"/>
                </a:lnTo>
                <a:close/>
              </a:path>
              <a:path fill="darken" w="25400" h="21600">
                <a:moveTo>
                  <a:pt x="18044" y="3794"/>
                </a:moveTo>
                <a:lnTo>
                  <a:pt x="18044" y="17806"/>
                </a:lnTo>
                <a:lnTo>
                  <a:pt x="19707" y="17806"/>
                </a:lnTo>
                <a:lnTo>
                  <a:pt x="19707" y="379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457200" y="304920"/>
            <a:ext cx="2216160" cy="7016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知识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079440" y="1843200"/>
            <a:ext cx="258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Arial"/>
                <a:ea typeface="隶书"/>
              </a:rPr>
              <a:t>光的折射现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079440" y="3062160"/>
            <a:ext cx="258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Arial"/>
                <a:ea typeface="隶书"/>
              </a:rPr>
              <a:t>光的折射规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previousslide"/>
          </p:cNvPr>
          <p:cNvSpPr/>
          <p:nvPr/>
        </p:nvSpPr>
        <p:spPr>
          <a:xfrm>
            <a:off x="8458200" y="6172200"/>
            <a:ext cx="433440" cy="43344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5ac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dcff"/>
            </a:gs>
            <a:gs pos="50000">
              <a:srgbClr val="ffffff"/>
            </a:gs>
            <a:gs pos="100000">
              <a:srgbClr val="97d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206280" y="4427640"/>
            <a:ext cx="3137040" cy="243036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835200" y="1471680"/>
            <a:ext cx="7500600" cy="3614760"/>
            <a:chOff x="835200" y="1471680"/>
            <a:chExt cx="7500600" cy="3614760"/>
          </a:xfrm>
        </p:grpSpPr>
        <p:sp>
          <p:nvSpPr>
            <p:cNvPr id="446" name=""/>
            <p:cNvSpPr txBox="1"/>
            <p:nvPr/>
          </p:nvSpPr>
          <p:spPr>
            <a:xfrm>
              <a:off x="1785960" y="1471680"/>
              <a:ext cx="5600520" cy="1400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行楷"/>
                </a:rPr>
                <a:t>谢谢合作，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  <a:ea typeface="华文行楷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835200" y="3043080"/>
              <a:ext cx="7500600" cy="204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新魏"/>
                </a:rPr>
                <a:t>祝同学们天天进步！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  <a:ea typeface="华文新魏"/>
              </a:endParaRPr>
            </a:p>
          </p:txBody>
        </p:sp>
      </p:grp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5865840" y="2133720"/>
            <a:ext cx="3198240" cy="2056680"/>
            <a:chOff x="5865840" y="2133720"/>
            <a:chExt cx="3198240" cy="205668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5865840" y="2133720"/>
              <a:ext cx="2774880" cy="18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8599320" y="2721240"/>
              <a:ext cx="464760" cy="13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8599320" y="3537720"/>
              <a:ext cx="218880" cy="1954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508600" y="3064320"/>
              <a:ext cx="218520" cy="19548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38560" y="2705040"/>
              <a:ext cx="710640" cy="146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30840" y="3994920"/>
              <a:ext cx="240588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65240" y="214632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楷体"/>
                <a:ea typeface="华文楷体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华文楷体"/>
                <a:ea typeface="华文楷体"/>
              </a:rPr>
              <a:t>．在一只水杯中放一枚硬币，移动水杯，使硬币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刚好</a:t>
            </a:r>
            <a:r>
              <a:rPr b="1" lang="zh-CN" sz="3600" spc="-1" strike="noStrike">
                <a:solidFill>
                  <a:srgbClr val="000099"/>
                </a:solidFill>
                <a:latin typeface="华文楷体"/>
                <a:ea typeface="华文楷体"/>
              </a:rPr>
              <a:t>被杯口边缘遮住而看不见。再向杯中徐徐倒入水，你又观察到什么现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6720" y="21924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latin typeface="华文行楷"/>
              </a:rPr>
              <a:t>小实验：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latin typeface="华文行楷"/>
              <a:ea typeface="华文行楷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02240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华文楷体"/>
                <a:ea typeface="华文楷体"/>
              </a:rPr>
              <a:t>．把一支笔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斜插入</a:t>
            </a:r>
            <a:r>
              <a:rPr b="1" lang="zh-CN" sz="3600" spc="-1" strike="noStrike">
                <a:solidFill>
                  <a:srgbClr val="000099"/>
                </a:solidFill>
                <a:latin typeface="华文楷体"/>
                <a:ea typeface="华文楷体"/>
              </a:rPr>
              <a:t>杯内水中，你观察到什么现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840" y="51055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99"/>
                </a:solidFill>
                <a:latin typeface="华文楷体"/>
                <a:ea typeface="华文楷体"/>
              </a:rPr>
              <a:t>．把两支笔交叉插入水中杯中，你观察到什么现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534000" y="25560"/>
            <a:ext cx="2286000" cy="210816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6553080" y="4038480"/>
            <a:ext cx="1981440" cy="2882520"/>
            <a:chOff x="6553080" y="4038480"/>
            <a:chExt cx="1981440" cy="2882520"/>
          </a:xfrm>
        </p:grpSpPr>
        <p:pic>
          <p:nvPicPr>
            <p:cNvPr id="100" name="" descr=""/>
            <p:cNvPicPr/>
            <p:nvPr/>
          </p:nvPicPr>
          <p:blipFill>
            <a:blip r:embed="rId4"/>
            <a:stretch/>
          </p:blipFill>
          <p:spPr>
            <a:xfrm>
              <a:off x="6553080" y="4038480"/>
              <a:ext cx="1981440" cy="279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553080" y="6667560"/>
              <a:ext cx="1981440" cy="25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152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华文新魏"/>
              </a:rPr>
              <a:t>五、光的折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990720"/>
            <a:ext cx="1523880" cy="6094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990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观察光从空气射入水中时的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1752480"/>
            <a:ext cx="2590920" cy="2232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2f5e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657840" y="2619360"/>
            <a:ext cx="1981440" cy="1181160"/>
          </a:xfrm>
          <a:custGeom>
            <a:avLst/>
            <a:gdLst/>
            <a:ahLst/>
            <a:rect l="l" t="t" r="r" b="b"/>
            <a:pathLst>
              <a:path w="2268" h="907">
                <a:moveTo>
                  <a:pt x="0" y="0"/>
                </a:moveTo>
                <a:lnTo>
                  <a:pt x="0" y="907"/>
                </a:lnTo>
                <a:lnTo>
                  <a:pt x="2268" y="907"/>
                </a:lnTo>
                <a:lnTo>
                  <a:pt x="2268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2011320"/>
            <a:ext cx="1295640" cy="581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cc"/>
                </a:solidFill>
                <a:latin typeface="Arial"/>
                <a:ea typeface="华文新魏"/>
              </a:rPr>
              <a:t>猜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20574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倒入水后，光斑的位置是否变化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3154320"/>
            <a:ext cx="1295640" cy="6472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华文新魏"/>
                <a:hlinkClick r:id="rId1"/>
              </a:rPr>
              <a:t>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5486400"/>
            <a:ext cx="1295640" cy="581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cc"/>
                </a:solidFill>
                <a:latin typeface="Arial"/>
                <a:ea typeface="华文新魏"/>
              </a:rPr>
              <a:t>结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54100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光从空气斜射入水中时传播方向＿＿＿＿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4373640"/>
            <a:ext cx="1295640" cy="581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cc"/>
                </a:solidFill>
                <a:latin typeface="Arial"/>
                <a:ea typeface="华文新魏"/>
              </a:rPr>
              <a:t>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43434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倒入水后，光斑的位置发生了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59562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Arial"/>
                <a:ea typeface="华文新魏"/>
              </a:rPr>
              <a:t>发生改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617520" y="2367360"/>
            <a:ext cx="2002680" cy="1417320"/>
            <a:chOff x="6617520" y="2367360"/>
            <a:chExt cx="2002680" cy="1417320"/>
          </a:xfrm>
        </p:grpSpPr>
        <p:sp>
          <p:nvSpPr>
            <p:cNvPr id="116" name=""/>
            <p:cNvSpPr/>
            <p:nvPr/>
          </p:nvSpPr>
          <p:spPr>
            <a:xfrm>
              <a:off x="6810480" y="2543040"/>
              <a:ext cx="1809720" cy="124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6762240" y="2422440"/>
              <a:ext cx="47880" cy="572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6617520" y="2367360"/>
              <a:ext cx="262080" cy="253440"/>
              <a:chOff x="6617520" y="2367360"/>
              <a:chExt cx="262080" cy="253440"/>
            </a:xfrm>
          </p:grpSpPr>
          <p:sp>
            <p:nvSpPr>
              <p:cNvPr id="119" name=""/>
              <p:cNvSpPr/>
              <p:nvPr/>
            </p:nvSpPr>
            <p:spPr>
              <a:xfrm>
                <a:off x="6762960" y="2431080"/>
                <a:ext cx="29160" cy="22680"/>
              </a:xfrm>
              <a:prstGeom prst="line">
                <a:avLst/>
              </a:prstGeom>
              <a:ln w="381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617520" y="2367360"/>
                <a:ext cx="262080" cy="253440"/>
                <a:chOff x="6617520" y="2367360"/>
                <a:chExt cx="262080" cy="253440"/>
              </a:xfrm>
            </p:grpSpPr>
            <p:sp>
              <p:nvSpPr>
                <p:cNvPr id="121" name=""/>
                <p:cNvSpPr/>
                <p:nvPr/>
              </p:nvSpPr>
              <p:spPr>
                <a:xfrm flipH="1">
                  <a:off x="6617520" y="2367360"/>
                  <a:ext cx="34560" cy="65520"/>
                </a:xfrm>
                <a:prstGeom prst="line">
                  <a:avLst/>
                </a:prstGeom>
                <a:ln w="381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" name=""/>
                <p:cNvGrpSpPr/>
                <p:nvPr/>
              </p:nvGrpSpPr>
              <p:grpSpPr>
                <a:xfrm>
                  <a:off x="6617520" y="2367360"/>
                  <a:ext cx="262080" cy="253440"/>
                  <a:chOff x="6617520" y="2367360"/>
                  <a:chExt cx="262080" cy="25344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6617520" y="2432880"/>
                    <a:ext cx="204480" cy="159840"/>
                  </a:xfrm>
                  <a:prstGeom prst="line">
                    <a:avLst/>
                  </a:prstGeom>
                  <a:ln w="38160">
                    <a:solidFill>
                      <a:srgbClr val="bbe0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6652080" y="2367360"/>
                    <a:ext cx="204480" cy="159840"/>
                  </a:xfrm>
                  <a:prstGeom prst="line">
                    <a:avLst/>
                  </a:prstGeom>
                  <a:ln w="38160">
                    <a:solidFill>
                      <a:srgbClr val="bbe0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6822000" y="2592720"/>
                    <a:ext cx="5760" cy="28080"/>
                  </a:xfrm>
                  <a:prstGeom prst="line">
                    <a:avLst/>
                  </a:prstGeom>
                  <a:ln w="38160">
                    <a:solidFill>
                      <a:srgbClr val="bbe0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flipV="1">
                    <a:off x="6827760" y="2522160"/>
                    <a:ext cx="51840" cy="98280"/>
                  </a:xfrm>
                  <a:prstGeom prst="line">
                    <a:avLst/>
                  </a:prstGeom>
                  <a:ln w="38160">
                    <a:solidFill>
                      <a:srgbClr val="bbe0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6658200" y="2395080"/>
                    <a:ext cx="174960" cy="137160"/>
                  </a:xfrm>
                  <a:prstGeom prst="line">
                    <a:avLst/>
                  </a:prstGeom>
                  <a:ln w="38160">
                    <a:solidFill>
                      <a:srgbClr val="bbe0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6640560" y="2427840"/>
                    <a:ext cx="174960" cy="137160"/>
                  </a:xfrm>
                  <a:prstGeom prst="line">
                    <a:avLst/>
                  </a:prstGeom>
                  <a:ln w="38160">
                    <a:solidFill>
                      <a:srgbClr val="bbe0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V="1">
                    <a:off x="6739560" y="2431080"/>
                    <a:ext cx="23400" cy="4680"/>
                  </a:xfrm>
                  <a:prstGeom prst="line">
                    <a:avLst/>
                  </a:prstGeom>
                  <a:ln w="38160">
                    <a:solidFill>
                      <a:srgbClr val="bbe0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6792480" y="2453760"/>
                    <a:ext cx="5760" cy="27720"/>
                  </a:xfrm>
                  <a:prstGeom prst="line">
                    <a:avLst/>
                  </a:prstGeom>
                  <a:ln w="38160">
                    <a:solidFill>
                      <a:srgbClr val="bbe0e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410080" y="0"/>
            <a:ext cx="3733920" cy="1905120"/>
          </a:xfrm>
          <a:prstGeom prst="cloudCallout">
            <a:avLst>
              <a:gd name="adj1" fmla="val -14245"/>
              <a:gd name="adj2" fmla="val 93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光从空气斜射入水中</a:t>
            </a:r>
            <a:r>
              <a:rPr b="0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传播方向怎样偏折</a:t>
            </a:r>
            <a:r>
              <a:rPr b="0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5506920" y="3314880"/>
            <a:ext cx="3025800" cy="1800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f94b9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73600" y="246528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99480" y="3732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975360" y="3292560"/>
            <a:ext cx="950040" cy="1801080"/>
            <a:chOff x="6975360" y="3292560"/>
            <a:chExt cx="950040" cy="1801080"/>
          </a:xfrm>
        </p:grpSpPr>
        <p:sp>
          <p:nvSpPr>
            <p:cNvPr id="136" name=""/>
            <p:cNvSpPr/>
            <p:nvPr/>
          </p:nvSpPr>
          <p:spPr>
            <a:xfrm flipH="1" flipV="1">
              <a:off x="6975360" y="3292560"/>
              <a:ext cx="950040" cy="180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03040" y="4102920"/>
              <a:ext cx="142200" cy="270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759720" y="2941560"/>
            <a:ext cx="215640" cy="100080"/>
          </a:xfrm>
          <a:custGeom>
            <a:avLst/>
            <a:gdLst/>
            <a:ahLst/>
            <a:rect l="l" t="t" r="r" b="b"/>
            <a:pathLst>
              <a:path w="226" h="106">
                <a:moveTo>
                  <a:pt x="0" y="106"/>
                </a:moveTo>
                <a:cubicBezTo>
                  <a:pt x="26" y="68"/>
                  <a:pt x="52" y="30"/>
                  <a:pt x="90" y="15"/>
                </a:cubicBezTo>
                <a:cubicBezTo>
                  <a:pt x="128" y="0"/>
                  <a:pt x="177" y="7"/>
                  <a:pt x="226" y="1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91200" y="3762360"/>
            <a:ext cx="216000" cy="85680"/>
          </a:xfrm>
          <a:custGeom>
            <a:avLst/>
            <a:gdLst/>
            <a:ahLst/>
            <a:rect l="l" t="t" r="r" b="b"/>
            <a:pathLst>
              <a:path w="136" h="54">
                <a:moveTo>
                  <a:pt x="0" y="46"/>
                </a:moveTo>
                <a:cubicBezTo>
                  <a:pt x="33" y="50"/>
                  <a:pt x="67" y="54"/>
                  <a:pt x="90" y="46"/>
                </a:cubicBezTo>
                <a:cubicBezTo>
                  <a:pt x="113" y="38"/>
                  <a:pt x="124" y="19"/>
                  <a:pt x="13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293440" y="1463760"/>
            <a:ext cx="1738800" cy="2304720"/>
            <a:chOff x="5293440" y="1463760"/>
            <a:chExt cx="1738800" cy="2304720"/>
          </a:xfrm>
        </p:grpSpPr>
        <p:grpSp>
          <p:nvGrpSpPr>
            <p:cNvPr id="141" name=""/>
            <p:cNvGrpSpPr/>
            <p:nvPr/>
          </p:nvGrpSpPr>
          <p:grpSpPr>
            <a:xfrm>
              <a:off x="5549400" y="1874880"/>
              <a:ext cx="1439640" cy="1440000"/>
              <a:chOff x="5549400" y="1874880"/>
              <a:chExt cx="1439640" cy="1440000"/>
            </a:xfrm>
          </p:grpSpPr>
          <p:sp>
            <p:nvSpPr>
              <p:cNvPr id="142" name=""/>
              <p:cNvSpPr/>
              <p:nvPr/>
            </p:nvSpPr>
            <p:spPr>
              <a:xfrm flipH="1" flipV="1">
                <a:off x="5549400" y="1874880"/>
                <a:ext cx="1439640" cy="1440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197400" y="2522520"/>
                <a:ext cx="215640" cy="21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5293440" y="14637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75760" y="324792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7793640" y="5011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734520" y="1195560"/>
            <a:ext cx="530640" cy="4395600"/>
            <a:chOff x="6734520" y="1195560"/>
            <a:chExt cx="530640" cy="4395600"/>
          </a:xfrm>
        </p:grpSpPr>
        <p:sp>
          <p:nvSpPr>
            <p:cNvPr id="148" name=""/>
            <p:cNvSpPr/>
            <p:nvPr/>
          </p:nvSpPr>
          <p:spPr>
            <a:xfrm>
              <a:off x="6989760" y="1730520"/>
              <a:ext cx="0" cy="32828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28480" y="11955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34520" y="5070600"/>
              <a:ext cx="49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508720" y="3314880"/>
            <a:ext cx="30369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08000" y="2960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空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54440" y="3314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0960" y="3801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入射光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6200" y="227160"/>
            <a:ext cx="1892160" cy="5814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信息快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052640"/>
            <a:ext cx="235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光的折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700280"/>
            <a:ext cx="5029200" cy="9471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光由一种介质斜射入另一种介质时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传播方向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____________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的现象叫光的折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720" y="3213000"/>
            <a:ext cx="28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光的折射有关的几个术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4148280"/>
            <a:ext cx="504720" cy="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2160" y="3886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720" y="42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折射光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4638600"/>
            <a:ext cx="504720" cy="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8120" y="4362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3680" y="4726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法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5057640"/>
            <a:ext cx="504720" cy="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83520" y="4824360"/>
            <a:ext cx="6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N</a:t>
            </a:r>
            <a:r>
              <a:rPr b="1" lang="en-US" sz="2400" spc="-1" strike="noStrike" baseline="30000">
                <a:solidFill>
                  <a:srgbClr val="8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11360" y="522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入射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12800" y="5688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折射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62120" y="5477040"/>
            <a:ext cx="504720" cy="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5952960"/>
            <a:ext cx="504720" cy="0"/>
          </a:xfrm>
          <a:prstGeom prst="line">
            <a:avLst/>
          </a:prstGeom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6320" y="5129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∠</a:t>
            </a:r>
            <a:r>
              <a:rPr b="1" lang="zh-CN" sz="32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64360" y="5634000"/>
            <a:ext cx="7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∠</a:t>
            </a:r>
            <a:r>
              <a:rPr b="1" lang="el-GR" sz="32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99520" y="20732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会发生偏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3260880" y="2438280"/>
            <a:ext cx="2469960" cy="1792440"/>
            <a:chOff x="3260880" y="2438280"/>
            <a:chExt cx="2469960" cy="1792440"/>
          </a:xfrm>
        </p:grpSpPr>
        <p:grpSp>
          <p:nvGrpSpPr>
            <p:cNvPr id="175" name=""/>
            <p:cNvGrpSpPr/>
            <p:nvPr/>
          </p:nvGrpSpPr>
          <p:grpSpPr>
            <a:xfrm>
              <a:off x="3260880" y="2438280"/>
              <a:ext cx="2458800" cy="1792440"/>
              <a:chOff x="3260880" y="2438280"/>
              <a:chExt cx="2458800" cy="1792440"/>
            </a:xfrm>
          </p:grpSpPr>
          <p:sp>
            <p:nvSpPr>
              <p:cNvPr id="176" name="">
                <a:hlinkClick r:id="rId1" action="ppaction://hlinksldjump"/>
              </p:cNvPr>
              <p:cNvSpPr/>
              <p:nvPr/>
            </p:nvSpPr>
            <p:spPr>
              <a:xfrm>
                <a:off x="3260880" y="2766960"/>
                <a:ext cx="2458800" cy="1463760"/>
              </a:xfrm>
              <a:prstGeom prst="rect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6f94b9"/>
                  </a:gs>
                </a:gsLst>
                <a:lin ang="5400000"/>
              </a:gra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295080" y="2438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空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09120" y="2766960"/>
                <a:ext cx="31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3260880" y="2766960"/>
              <a:ext cx="24699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>
            <a:hlinkClick r:id="rId2" action="ppaction://hlinksldjump"/>
          </p:cNvPr>
          <p:cNvSpPr/>
          <p:nvPr/>
        </p:nvSpPr>
        <p:spPr>
          <a:xfrm>
            <a:off x="127080" y="2693880"/>
            <a:ext cx="2458800" cy="14637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f94b9"/>
              </a:gs>
            </a:gsLst>
            <a:lin ang="54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06200" y="200340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52880" y="303372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319400" y="2676960"/>
            <a:ext cx="773640" cy="1464120"/>
            <a:chOff x="1319400" y="2676960"/>
            <a:chExt cx="773640" cy="1464120"/>
          </a:xfrm>
        </p:grpSpPr>
        <p:sp>
          <p:nvSpPr>
            <p:cNvPr id="184" name=""/>
            <p:cNvSpPr/>
            <p:nvPr/>
          </p:nvSpPr>
          <p:spPr>
            <a:xfrm flipH="1" flipV="1">
              <a:off x="1319400" y="2676960"/>
              <a:ext cx="773640" cy="1464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67880" y="3335400"/>
              <a:ext cx="115560" cy="219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144440" y="2390760"/>
            <a:ext cx="176400" cy="81000"/>
          </a:xfrm>
          <a:custGeom>
            <a:avLst/>
            <a:gdLst/>
            <a:ahLst/>
            <a:rect l="l" t="t" r="r" b="b"/>
            <a:pathLst>
              <a:path w="226" h="106">
                <a:moveTo>
                  <a:pt x="0" y="106"/>
                </a:moveTo>
                <a:cubicBezTo>
                  <a:pt x="26" y="68"/>
                  <a:pt x="52" y="30"/>
                  <a:pt x="90" y="15"/>
                </a:cubicBezTo>
                <a:cubicBezTo>
                  <a:pt x="128" y="0"/>
                  <a:pt x="177" y="7"/>
                  <a:pt x="226" y="1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33440" y="3057480"/>
            <a:ext cx="174600" cy="69840"/>
          </a:xfrm>
          <a:custGeom>
            <a:avLst/>
            <a:gdLst/>
            <a:ahLst/>
            <a:rect l="l" t="t" r="r" b="b"/>
            <a:pathLst>
              <a:path w="136" h="54">
                <a:moveTo>
                  <a:pt x="0" y="46"/>
                </a:moveTo>
                <a:cubicBezTo>
                  <a:pt x="33" y="50"/>
                  <a:pt x="67" y="54"/>
                  <a:pt x="90" y="46"/>
                </a:cubicBezTo>
                <a:cubicBezTo>
                  <a:pt x="113" y="38"/>
                  <a:pt x="124" y="19"/>
                  <a:pt x="13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-47160" y="1189080"/>
            <a:ext cx="1498320" cy="1971360"/>
            <a:chOff x="-47160" y="1189080"/>
            <a:chExt cx="1498320" cy="1971360"/>
          </a:xfrm>
        </p:grpSpPr>
        <p:grpSp>
          <p:nvGrpSpPr>
            <p:cNvPr id="189" name=""/>
            <p:cNvGrpSpPr/>
            <p:nvPr/>
          </p:nvGrpSpPr>
          <p:grpSpPr>
            <a:xfrm>
              <a:off x="160200" y="1523160"/>
              <a:ext cx="1170360" cy="1170720"/>
              <a:chOff x="160200" y="1523160"/>
              <a:chExt cx="1170360" cy="1170720"/>
            </a:xfrm>
          </p:grpSpPr>
          <p:sp>
            <p:nvSpPr>
              <p:cNvPr id="190" name=""/>
              <p:cNvSpPr/>
              <p:nvPr/>
            </p:nvSpPr>
            <p:spPr>
              <a:xfrm flipH="1" flipV="1">
                <a:off x="160200" y="1523160"/>
                <a:ext cx="1170360" cy="117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86880" y="2049480"/>
                <a:ext cx="174960" cy="175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-47160" y="1189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4680" y="263988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985040" y="4073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32000" y="1406520"/>
            <a:ext cx="0" cy="2668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7080" y="2693880"/>
            <a:ext cx="24699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5440" y="2406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空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5320" y="26938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2819520" cy="1547640"/>
          </a:xfrm>
          <a:prstGeom prst="cloudCallout">
            <a:avLst>
              <a:gd name="adj1" fmla="val -11486"/>
              <a:gd name="adj2" fmla="val 930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0" y="-76320"/>
            <a:ext cx="3047760" cy="1625400"/>
            <a:chOff x="0" y="-76320"/>
            <a:chExt cx="3047760" cy="1625400"/>
          </a:xfrm>
        </p:grpSpPr>
        <p:sp>
          <p:nvSpPr>
            <p:cNvPr id="201" name=""/>
            <p:cNvSpPr/>
            <p:nvPr/>
          </p:nvSpPr>
          <p:spPr>
            <a:xfrm>
              <a:off x="0" y="-76320"/>
              <a:ext cx="3047760" cy="1625400"/>
            </a:xfrm>
            <a:prstGeom prst="cloudCallout">
              <a:avLst>
                <a:gd name="adj1" fmla="val -12708"/>
                <a:gd name="adj2" fmla="val 9101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440" y="55440"/>
              <a:ext cx="252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当光从空气斜射入水中</a:t>
              </a:r>
              <a:r>
                <a:rPr b="1" lang="zh-CN" sz="24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折射光线向法线方向偏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28600" y="763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光从空气斜射入水中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传播方向怎样偏折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152280"/>
            <a:ext cx="2819160" cy="1548000"/>
          </a:xfrm>
          <a:prstGeom prst="cloudCallout">
            <a:avLst>
              <a:gd name="adj1" fmla="val -8782"/>
              <a:gd name="adj2" fmla="val 930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289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光从水中斜射入空气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传播方向怎样偏折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210480" y="1646640"/>
            <a:ext cx="1246680" cy="1090080"/>
            <a:chOff x="3210480" y="1646640"/>
            <a:chExt cx="1246680" cy="1090080"/>
          </a:xfrm>
        </p:grpSpPr>
        <p:sp>
          <p:nvSpPr>
            <p:cNvPr id="207" name=""/>
            <p:cNvSpPr/>
            <p:nvPr/>
          </p:nvSpPr>
          <p:spPr>
            <a:xfrm>
              <a:off x="3210480" y="1646640"/>
              <a:ext cx="1246680" cy="1090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3709440" y="2083320"/>
              <a:ext cx="186480" cy="16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479480" y="2741760"/>
            <a:ext cx="747000" cy="1477800"/>
            <a:chOff x="4479480" y="2741760"/>
            <a:chExt cx="747000" cy="1477800"/>
          </a:xfrm>
        </p:grpSpPr>
        <p:sp>
          <p:nvSpPr>
            <p:cNvPr id="210" name=""/>
            <p:cNvSpPr/>
            <p:nvPr/>
          </p:nvSpPr>
          <p:spPr>
            <a:xfrm>
              <a:off x="4479480" y="2741760"/>
              <a:ext cx="747000" cy="147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4778280" y="3333600"/>
              <a:ext cx="111960" cy="221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465800" y="1447920"/>
            <a:ext cx="0" cy="26683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676640" y="1055520"/>
            <a:ext cx="16560" cy="1655640"/>
            <a:chOff x="7676640" y="1055520"/>
            <a:chExt cx="16560" cy="1655640"/>
          </a:xfrm>
        </p:grpSpPr>
        <p:sp>
          <p:nvSpPr>
            <p:cNvPr id="214" name=""/>
            <p:cNvSpPr/>
            <p:nvPr/>
          </p:nvSpPr>
          <p:spPr>
            <a:xfrm flipH="1" flipV="1">
              <a:off x="7676640" y="1055520"/>
              <a:ext cx="16560" cy="165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84560" y="1800360"/>
              <a:ext cx="2160" cy="247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886200" y="3049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光从水中斜射入空气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折射光线偏离法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397560" y="2421000"/>
            <a:ext cx="2470320" cy="1751040"/>
            <a:chOff x="6397560" y="2421000"/>
            <a:chExt cx="2470320" cy="1751040"/>
          </a:xfrm>
        </p:grpSpPr>
        <p:sp>
          <p:nvSpPr>
            <p:cNvPr id="218" name=""/>
            <p:cNvSpPr/>
            <p:nvPr/>
          </p:nvSpPr>
          <p:spPr>
            <a:xfrm>
              <a:off x="6397560" y="2708280"/>
              <a:ext cx="2459160" cy="14637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f94b9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97560" y="2708280"/>
              <a:ext cx="24703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16280" y="2421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空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45800" y="2708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7695720" y="2576520"/>
            <a:ext cx="16560" cy="1655640"/>
            <a:chOff x="7695720" y="2576520"/>
            <a:chExt cx="16560" cy="1655640"/>
          </a:xfrm>
        </p:grpSpPr>
        <p:sp>
          <p:nvSpPr>
            <p:cNvPr id="223" name=""/>
            <p:cNvSpPr/>
            <p:nvPr/>
          </p:nvSpPr>
          <p:spPr>
            <a:xfrm flipH="1" flipV="1">
              <a:off x="7695720" y="2576520"/>
              <a:ext cx="16560" cy="165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03640" y="3321360"/>
              <a:ext cx="2160" cy="247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105520" y="4624560"/>
            <a:ext cx="2819160" cy="1547640"/>
            <a:chOff x="5105520" y="4624560"/>
            <a:chExt cx="2819160" cy="1547640"/>
          </a:xfrm>
        </p:grpSpPr>
        <p:sp>
          <p:nvSpPr>
            <p:cNvPr id="226" name=""/>
            <p:cNvSpPr/>
            <p:nvPr/>
          </p:nvSpPr>
          <p:spPr>
            <a:xfrm>
              <a:off x="5105520" y="4624560"/>
              <a:ext cx="2819160" cy="1547640"/>
            </a:xfrm>
            <a:prstGeom prst="cloudCallout">
              <a:avLst>
                <a:gd name="adj1" fmla="val 31023"/>
                <a:gd name="adj2" fmla="val -11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33760" y="4853160"/>
              <a:ext cx="255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光垂直射入水中</a:t>
              </a:r>
              <a:r>
                <a:rPr b="1" lang="zh-CN" sz="24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时</a:t>
              </a:r>
              <a:r>
                <a:rPr b="1" lang="zh-CN" sz="24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,</a:t>
              </a:r>
              <a:r>
                <a:rPr b="1" lang="zh-CN" sz="24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传播方向不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80880" y="4800600"/>
            <a:ext cx="3733920" cy="1600200"/>
            <a:chOff x="380880" y="4800600"/>
            <a:chExt cx="3733920" cy="1600200"/>
          </a:xfrm>
        </p:grpSpPr>
        <p:sp>
          <p:nvSpPr>
            <p:cNvPr id="229" name=""/>
            <p:cNvSpPr/>
            <p:nvPr/>
          </p:nvSpPr>
          <p:spPr>
            <a:xfrm>
              <a:off x="380880" y="4800600"/>
              <a:ext cx="3581640" cy="1600200"/>
            </a:xfrm>
            <a:prstGeom prst="foldedCorner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487692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折射光线、入射光线法线</a:t>
              </a:r>
              <a:r>
                <a:rPr b="1" lang="zh-CN" sz="28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____</a:t>
              </a:r>
              <a:r>
                <a:rPr b="1" lang="zh-CN" sz="28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（在</a:t>
              </a:r>
              <a:r>
                <a:rPr b="1" lang="zh-CN" sz="28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/</a:t>
              </a:r>
              <a:r>
                <a:rPr b="1" lang="zh-CN" sz="2800" spc="-1" strike="noStrike">
                  <a:solidFill>
                    <a:srgbClr val="cc3300"/>
                  </a:solidFill>
                  <a:latin typeface="黑体"/>
                  <a:ea typeface="黑体"/>
                </a:rPr>
                <a:t>不在）同一平面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371600" y="52610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763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光从空气斜射入水中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入射角大于折射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04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光从水中斜射入空气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折射角大于入射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1054080" y="2867040"/>
            <a:ext cx="1143000" cy="1143000"/>
            <a:chOff x="1054080" y="2867040"/>
            <a:chExt cx="1143000" cy="1143000"/>
          </a:xfrm>
        </p:grpSpPr>
        <p:sp>
          <p:nvSpPr>
            <p:cNvPr id="235" name=""/>
            <p:cNvSpPr/>
            <p:nvPr/>
          </p:nvSpPr>
          <p:spPr>
            <a:xfrm>
              <a:off x="1054080" y="2867040"/>
              <a:ext cx="1143000" cy="1143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11280" y="3324240"/>
              <a:ext cx="76320" cy="76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190600" y="3048120"/>
            <a:ext cx="0" cy="213192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2000" y="4013280"/>
            <a:ext cx="28512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762120" y="4191120"/>
            <a:ext cx="3047400" cy="899640"/>
            <a:chOff x="762120" y="4191120"/>
            <a:chExt cx="3047400" cy="899640"/>
          </a:xfrm>
        </p:grpSpPr>
        <p:sp>
          <p:nvSpPr>
            <p:cNvPr id="240" name=""/>
            <p:cNvSpPr/>
            <p:nvPr/>
          </p:nvSpPr>
          <p:spPr>
            <a:xfrm>
              <a:off x="762120" y="4191120"/>
              <a:ext cx="28166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33840" y="4468680"/>
              <a:ext cx="28170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2120" y="4676040"/>
              <a:ext cx="28166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92880" y="4883400"/>
              <a:ext cx="28166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2120" y="5090760"/>
              <a:ext cx="281664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184480" y="3962520"/>
            <a:ext cx="496800" cy="1261440"/>
            <a:chOff x="2184480" y="3962520"/>
            <a:chExt cx="496800" cy="1261440"/>
          </a:xfrm>
        </p:grpSpPr>
        <p:sp>
          <p:nvSpPr>
            <p:cNvPr id="246" name=""/>
            <p:cNvSpPr/>
            <p:nvPr/>
          </p:nvSpPr>
          <p:spPr>
            <a:xfrm>
              <a:off x="2184480" y="3962520"/>
              <a:ext cx="496800" cy="126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83200" y="4466880"/>
              <a:ext cx="33120" cy="842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28600" y="76320"/>
            <a:ext cx="2819520" cy="6094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规律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12193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画出光线进入水中的大致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4120" y="11430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新魏"/>
              </a:rPr>
              <a:t>画出光线进入水中的大致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881040" y="4013640"/>
            <a:ext cx="848520" cy="1375920"/>
            <a:chOff x="6881040" y="4013640"/>
            <a:chExt cx="848520" cy="1375920"/>
          </a:xfrm>
        </p:grpSpPr>
        <p:sp>
          <p:nvSpPr>
            <p:cNvPr id="252" name=""/>
            <p:cNvSpPr/>
            <p:nvPr/>
          </p:nvSpPr>
          <p:spPr>
            <a:xfrm flipH="1" flipV="1">
              <a:off x="6881040" y="4013640"/>
              <a:ext cx="848520" cy="1375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 flipV="1">
              <a:off x="7333560" y="4747320"/>
              <a:ext cx="56520" cy="92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6885000" y="3073320"/>
            <a:ext cx="0" cy="213192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486400" y="4038480"/>
            <a:ext cx="28512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486400" y="4191120"/>
            <a:ext cx="3047760" cy="899640"/>
            <a:chOff x="5486400" y="4191120"/>
            <a:chExt cx="3047760" cy="899640"/>
          </a:xfrm>
        </p:grpSpPr>
        <p:sp>
          <p:nvSpPr>
            <p:cNvPr id="257" name=""/>
            <p:cNvSpPr/>
            <p:nvPr/>
          </p:nvSpPr>
          <p:spPr>
            <a:xfrm>
              <a:off x="5486400" y="4191120"/>
              <a:ext cx="28170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58120" y="4468680"/>
              <a:ext cx="281736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86400" y="4676040"/>
              <a:ext cx="28170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17160" y="4883400"/>
              <a:ext cx="28170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6400" y="5090760"/>
              <a:ext cx="28170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699160" y="3375360"/>
            <a:ext cx="1181880" cy="665280"/>
            <a:chOff x="5699160" y="3375360"/>
            <a:chExt cx="1181880" cy="665280"/>
          </a:xfrm>
        </p:grpSpPr>
        <p:sp>
          <p:nvSpPr>
            <p:cNvPr id="263" name=""/>
            <p:cNvSpPr/>
            <p:nvPr/>
          </p:nvSpPr>
          <p:spPr>
            <a:xfrm flipH="1" flipV="1">
              <a:off x="5699160" y="3375360"/>
              <a:ext cx="1181880" cy="66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6329880" y="3729960"/>
              <a:ext cx="78840" cy="44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733920" y="2590920"/>
            <a:ext cx="1600200" cy="28954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606760" y="2622600"/>
            <a:ext cx="1143000" cy="1143000"/>
            <a:chOff x="2606760" y="2622600"/>
            <a:chExt cx="1143000" cy="1143000"/>
          </a:xfrm>
        </p:grpSpPr>
        <p:sp>
          <p:nvSpPr>
            <p:cNvPr id="267" name=""/>
            <p:cNvSpPr/>
            <p:nvPr/>
          </p:nvSpPr>
          <p:spPr>
            <a:xfrm>
              <a:off x="2606760" y="2622600"/>
              <a:ext cx="1143000" cy="11430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63960" y="3079800"/>
              <a:ext cx="76320" cy="76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80880" y="9907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光从空气倾斜穿透玻璃砖时，光线将会怎样传播？试画出你猜测的光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76320"/>
            <a:ext cx="2057400" cy="6094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猜一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304920"/>
            <a:ext cx="1523880" cy="6094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3049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观察光通过玻璃砖的折射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1752480"/>
            <a:ext cx="1752480" cy="581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cc"/>
                </a:solidFill>
                <a:latin typeface="Arial"/>
                <a:ea typeface="华文新魏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221000"/>
            <a:ext cx="1676160" cy="5814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cc"/>
                </a:solidFill>
                <a:latin typeface="Arial"/>
                <a:ea typeface="华文新魏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27760" y="1300320"/>
            <a:ext cx="1303200" cy="23572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013360" y="1254240"/>
            <a:ext cx="930240" cy="930240"/>
            <a:chOff x="5013360" y="1254240"/>
            <a:chExt cx="930240" cy="930240"/>
          </a:xfrm>
        </p:grpSpPr>
        <p:sp>
          <p:nvSpPr>
            <p:cNvPr id="277" name=""/>
            <p:cNvSpPr/>
            <p:nvPr/>
          </p:nvSpPr>
          <p:spPr>
            <a:xfrm>
              <a:off x="5013360" y="1254240"/>
              <a:ext cx="930240" cy="9302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85240" y="1626120"/>
              <a:ext cx="61920" cy="61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 flipH="1" flipV="1">
            <a:off x="5184720" y="2181240"/>
            <a:ext cx="1216080" cy="936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917680" y="2183400"/>
            <a:ext cx="1318320" cy="382320"/>
            <a:chOff x="5917680" y="2183400"/>
            <a:chExt cx="1318320" cy="382320"/>
          </a:xfrm>
        </p:grpSpPr>
        <p:sp>
          <p:nvSpPr>
            <p:cNvPr id="281" name=""/>
            <p:cNvSpPr/>
            <p:nvPr/>
          </p:nvSpPr>
          <p:spPr>
            <a:xfrm>
              <a:off x="5917680" y="2183400"/>
              <a:ext cx="1318320" cy="3823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44720" y="2336400"/>
              <a:ext cx="87840" cy="25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 flipH="1" flipV="1">
            <a:off x="6629400" y="2558520"/>
            <a:ext cx="1216080" cy="972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223040" y="2575080"/>
            <a:ext cx="930240" cy="930240"/>
            <a:chOff x="7223040" y="2575080"/>
            <a:chExt cx="930240" cy="930240"/>
          </a:xfrm>
        </p:grpSpPr>
        <p:sp>
          <p:nvSpPr>
            <p:cNvPr id="285" name=""/>
            <p:cNvSpPr/>
            <p:nvPr/>
          </p:nvSpPr>
          <p:spPr>
            <a:xfrm>
              <a:off x="7223040" y="2575080"/>
              <a:ext cx="930240" cy="9302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94920" y="2946960"/>
              <a:ext cx="61920" cy="61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5851440" y="4272120"/>
            <a:ext cx="1303560" cy="23572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92160" y="5189760"/>
            <a:ext cx="1315440" cy="9360"/>
            <a:chOff x="4592160" y="5189760"/>
            <a:chExt cx="1315440" cy="9360"/>
          </a:xfrm>
        </p:grpSpPr>
        <p:sp>
          <p:nvSpPr>
            <p:cNvPr id="289" name=""/>
            <p:cNvSpPr/>
            <p:nvPr/>
          </p:nvSpPr>
          <p:spPr>
            <a:xfrm flipV="1">
              <a:off x="4592160" y="5189760"/>
              <a:ext cx="1315440" cy="9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5118120" y="5194800"/>
              <a:ext cx="87480" cy="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5855760" y="5189760"/>
            <a:ext cx="1315440" cy="9360"/>
            <a:chOff x="5855760" y="5189760"/>
            <a:chExt cx="1315440" cy="9360"/>
          </a:xfrm>
        </p:grpSpPr>
        <p:sp>
          <p:nvSpPr>
            <p:cNvPr id="292" name=""/>
            <p:cNvSpPr/>
            <p:nvPr/>
          </p:nvSpPr>
          <p:spPr>
            <a:xfrm flipV="1">
              <a:off x="5855760" y="5189760"/>
              <a:ext cx="1315440" cy="9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381720" y="5194800"/>
              <a:ext cx="87480" cy="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6954480" y="5189760"/>
            <a:ext cx="1315440" cy="9360"/>
            <a:chOff x="6954480" y="5189760"/>
            <a:chExt cx="1315440" cy="9360"/>
          </a:xfrm>
        </p:grpSpPr>
        <p:sp>
          <p:nvSpPr>
            <p:cNvPr id="295" name=""/>
            <p:cNvSpPr/>
            <p:nvPr/>
          </p:nvSpPr>
          <p:spPr>
            <a:xfrm flipV="1">
              <a:off x="6954480" y="5189760"/>
              <a:ext cx="1315440" cy="9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480440" y="5194800"/>
              <a:ext cx="87480" cy="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28600" y="228600"/>
            <a:ext cx="2209680" cy="6094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交流与评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3120" y="2819520"/>
            <a:ext cx="823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当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光从玻璃（或水）斜射入空气时，折射光线</a:t>
            </a:r>
            <a:r>
              <a:rPr b="1" lang="zh-CN" sz="2800" spc="-1" strike="noStrike">
                <a:solidFill>
                  <a:srgbClr val="000099"/>
                </a:solidFill>
                <a:latin typeface="华文宋体"/>
                <a:ea typeface="华文宋体"/>
              </a:rPr>
              <a:t>＿＿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偏向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偏离）法线方向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隶书"/>
              </a:rPr>
              <a:t>入射角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隶书"/>
              </a:rPr>
              <a:t>_____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隶书"/>
              </a:rPr>
              <a:t>折射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4952880"/>
            <a:ext cx="84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当光从一种介质射入另一种介质时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入射光线、折射光线和法线在</a:t>
            </a:r>
            <a:r>
              <a:rPr b="1" lang="zh-CN" sz="3200" spc="-1" strike="noStrike">
                <a:solidFill>
                  <a:srgbClr val="003399"/>
                </a:solidFill>
                <a:latin typeface="华文宋体"/>
                <a:ea typeface="华文宋体"/>
              </a:rPr>
              <a:t>_______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平面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4479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当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光从空气斜射向玻璃或水中时，折射光线</a:t>
            </a:r>
            <a:r>
              <a:rPr b="1" lang="zh-CN" sz="2800" spc="-1" strike="noStrike">
                <a:solidFill>
                  <a:srgbClr val="000099"/>
                </a:solidFill>
                <a:latin typeface="华文宋体"/>
                <a:ea typeface="华文宋体"/>
              </a:rPr>
              <a:t>＿＿＿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（偏向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偏离）法线方向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入射角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_____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折射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4068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当光垂直射入玻璃（或水）中时，传播方向</a:t>
            </a:r>
            <a:r>
              <a:rPr b="1" lang="zh-CN" sz="3200" spc="-1" strike="noStrike">
                <a:solidFill>
                  <a:srgbClr val="003399"/>
                </a:solidFill>
                <a:latin typeface="华文宋体"/>
                <a:ea typeface="华文宋体"/>
              </a:rPr>
              <a:t>＿＿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423560" y="1311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偏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652160" y="2666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偏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15560" y="3992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41560" y="5273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同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lastslide"/>
          </p:cNvPr>
          <p:cNvSpPr/>
          <p:nvPr/>
        </p:nvSpPr>
        <p:spPr>
          <a:xfrm>
            <a:off x="8381880" y="6248520"/>
            <a:ext cx="509760" cy="433440"/>
          </a:xfrm>
          <a:custGeom>
            <a:avLst/>
            <a:gdLst>
              <a:gd name="textAreaLeft" fmla="*/ 28080 w 509760"/>
              <a:gd name="textAreaRight" fmla="*/ 481680 w 5097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400" h="21600">
                <a:moveTo>
                  <a:pt x="0" y="0"/>
                </a:moveTo>
                <a:lnTo>
                  <a:pt x="25400" y="0"/>
                </a:lnTo>
                <a:lnTo>
                  <a:pt x="25400" y="21600"/>
                </a:lnTo>
                <a:lnTo>
                  <a:pt x="0" y="21600"/>
                </a:lnTo>
                <a:close/>
              </a:path>
              <a:path fill="lightenLess" w="25400" h="21600">
                <a:moveTo>
                  <a:pt x="0" y="0"/>
                </a:moveTo>
                <a:lnTo>
                  <a:pt x="25400" y="0"/>
                </a:lnTo>
                <a:lnTo>
                  <a:pt x="24000" y="1400"/>
                </a:lnTo>
                <a:lnTo>
                  <a:pt x="1400" y="1400"/>
                </a:lnTo>
                <a:close/>
              </a:path>
              <a:path fill="darken" w="25400" h="21600">
                <a:moveTo>
                  <a:pt x="25400" y="0"/>
                </a:moveTo>
                <a:lnTo>
                  <a:pt x="25400" y="21600"/>
                </a:lnTo>
                <a:lnTo>
                  <a:pt x="24000" y="20200"/>
                </a:lnTo>
                <a:lnTo>
                  <a:pt x="24000" y="1400"/>
                </a:lnTo>
                <a:close/>
              </a:path>
              <a:path fill="darkenLess" w="25400" h="21600">
                <a:moveTo>
                  <a:pt x="25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0" y="20200"/>
                </a:lnTo>
                <a:close/>
              </a:path>
              <a:path fill="lighten" w="25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0" h="21600">
                <a:moveTo>
                  <a:pt x="16199" y="10800"/>
                </a:moveTo>
                <a:lnTo>
                  <a:pt x="5694" y="17806"/>
                </a:lnTo>
                <a:lnTo>
                  <a:pt x="5694" y="3794"/>
                </a:lnTo>
                <a:close/>
              </a:path>
              <a:path fill="darken" w="25400" h="21600">
                <a:moveTo>
                  <a:pt x="18044" y="3794"/>
                </a:moveTo>
                <a:lnTo>
                  <a:pt x="18044" y="17806"/>
                </a:lnTo>
                <a:lnTo>
                  <a:pt x="19707" y="17806"/>
                </a:lnTo>
                <a:lnTo>
                  <a:pt x="19707" y="379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690880" y="1797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大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82680" y="32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小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唐登研</dc:creator>
  <dc:description/>
  <dc:language>en-US</dc:language>
  <cp:lastModifiedBy>peprjw-zhangy</cp:lastModifiedBy>
  <dcterms:modified xsi:type="dcterms:W3CDTF">2008-03-05T02:00:57Z</dcterms:modified>
  <cp:revision>1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