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3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34.jpeg" ContentType="image/jpeg"/>
  <Override PartName="/ppt/media/image7.jpeg" ContentType="image/jpeg"/>
  <Override PartName="/ppt/media/whoosh.wav" ContentType="audio/x-wav"/>
  <Override PartName="/ppt/media/image28.jpeg" ContentType="image/jpeg"/>
  <Override PartName="/ppt/media/image36.png" ContentType="image/png"/>
  <Override PartName="/ppt/media/image37.gif" ContentType="image/gif"/>
  <Override PartName="/ppt/media/image2.jpeg" ContentType="image/jpeg"/>
  <Override PartName="/ppt/media/image23.jpeg" ContentType="image/jpeg"/>
  <Override PartName="/ppt/media/image9.jpeg" ContentType="image/jpeg"/>
  <Override PartName="/ppt/media/image38.png" ContentType="image/png"/>
  <Override PartName="/ppt/media/image39.jpeg" ContentType="image/jpeg"/>
  <Override PartName="/ppt/media/image31.jpeg" ContentType="image/jpeg"/>
  <Override PartName="/ppt/media/image8.wmf" ContentType="image/x-wmf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6.gif" ContentType="image/gif"/>
  <Override PartName="/ppt/media/image17.wmf" ContentType="image/x-wmf"/>
  <Override PartName="/ppt/media/image15.gif" ContentType="image/gif"/>
  <Override PartName="/ppt/media/image11.wmf" ContentType="image/x-wmf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310-7124-4FBB-A1CF-CE0172A93E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5AE-2255-4638-AC59-60611705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27E-CD48-4280-B975-42BF2896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16A-8BEC-4957-A7D3-20C88171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7AC8-949D-428B-915F-0F79D63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37B7-0CD1-4AD1-B4DB-F6C70DFC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50F6-E74E-492D-B56F-68A2823D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D67F-7640-450F-9D23-F7AF716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96A-7762-494C-9A62-EFDA077A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9F31-26FD-4CB0-9DD4-EFEB1772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F74B-16BC-4CC0-9FA6-7612317B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AE2E-9C84-4257-BD01-A4C17F8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4BA-471B-4FC1-AFD6-072551F1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65B0-9268-4CC6-A577-6336E5D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EB7E-444B-4057-9E1B-8FB1647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7046-E7EA-46BD-AB30-C20316A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557-BB97-4FE4-AF8E-9FF40DD0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EFC-ABC2-451E-84DB-37FF130C2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D05-FE51-45D2-A7B0-7ED2471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BC0-AB37-4552-80C9-E684B694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574-2E77-4334-BCB1-9BACD25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542-84C8-45F9-B8D7-6C94F1ED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C1A-A1AD-443C-AD6C-7856256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8BC-D686-4286-85F3-CE69BC0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9BE-78CB-488B-81B5-E1AC059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21B-F21D-48B5-AA79-1037837561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875-44D0-431F-B0BA-26A18FD171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99turn.com/catalog_10.html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889280" y="189000"/>
            <a:ext cx="536544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Unit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on’t eat in clas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upload2007.cnool.net/files2010/20111229/20111229211715562.jpg"/>
          <p:cNvPicPr/>
          <p:nvPr/>
        </p:nvPicPr>
        <p:blipFill>
          <a:blip r:embed="rId1"/>
          <a:stretch/>
        </p:blipFill>
        <p:spPr>
          <a:xfrm>
            <a:off x="0" y="2492280"/>
            <a:ext cx="507672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4875480" y="2500200"/>
            <a:ext cx="2782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Calibri"/>
              </a:rPr>
              <a:t>Section 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3860640"/>
            <a:ext cx="172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00" y="1341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15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祈使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表示请求、命令、建议、叮嘱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号召、劝告等的句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省略主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动词原形开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句尾一般用降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祈使句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肯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否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种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quiet! 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静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200400" y="457200"/>
            <a:ext cx="26892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1972800" y="4724280"/>
            <a:ext cx="37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's go home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我们回家吧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395280" y="549360"/>
            <a:ext cx="84628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me in, please!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请进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t down, please.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请坐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否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祈使句是在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动词原形前加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Don'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'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alk in class!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不要在课常上讲话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'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n the window!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别开窗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rrive late for school.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学别迟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moke!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别吸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228600"/>
            <a:ext cx="89154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a. Which rules are these students bre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rite the number of the rule next to the stud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ShockwaveFlash1"/>
          <p:cNvGraphicFramePr/>
          <p:nvPr/>
        </p:nvGraphicFramePr>
        <p:xfrm>
          <a:off x="1187280" y="1557360"/>
          <a:ext cx="67694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69440" cy="4824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p19"/>
          <p:cNvPicPr/>
          <p:nvPr/>
        </p:nvPicPr>
        <p:blipFill>
          <a:blip r:embed="rId1"/>
          <a:srcRect l="20669" t="27740" r="28763" b="34306"/>
          <a:stretch/>
        </p:blipFill>
        <p:spPr>
          <a:xfrm>
            <a:off x="1116000" y="333360"/>
            <a:ext cx="6624720" cy="6060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261800" y="509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25480" y="2008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392360" y="465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159240" y="1981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18760" y="1125360"/>
            <a:ext cx="7561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ter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ke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___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34960" y="1341360"/>
            <a:ext cx="59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. Don’t run in the hallwa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68440" y="2637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3. Don’t eat in the classroo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76360" y="40561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4. Don’t listen to music in clas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7920" y="115920"/>
            <a:ext cx="74898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b</a:t>
            </a:r>
            <a:r>
              <a:rPr b="0" lang="en-US" sz="2400" spc="-1" strike="noStrike">
                <a:solidFill>
                  <a:srgbClr val="9933ff"/>
                </a:solidFill>
                <a:latin typeface="Calibri"/>
              </a:rPr>
              <a:t> Listen. What rules are these students breaking? Write the numbers after the na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Section A1b.mp3" descr=""/>
          <p:cNvPicPr/>
          <p:nvPr/>
        </p:nvPicPr>
        <p:blipFill>
          <a:blip r:embed="rId1"/>
          <a:stretch/>
        </p:blipFill>
        <p:spPr>
          <a:xfrm>
            <a:off x="4083120" y="53038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4873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4"/>
          <p:cNvSpPr/>
          <p:nvPr/>
        </p:nvSpPr>
        <p:spPr>
          <a:xfrm>
            <a:off x="187200" y="1197000"/>
            <a:ext cx="8821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Calibri"/>
              </a:rPr>
              <a:t>Ms Clar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ey, Peter. You know the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0" i="1" lang="en-US" sz="2800" spc="-1" strike="noStrike">
                <a:solidFill>
                  <a:srgbClr val="0000ff"/>
                </a:solidFill>
                <a:latin typeface="Calibri"/>
              </a:rPr>
              <a:t>P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Sorry, Ms Cla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Calibri"/>
              </a:rPr>
              <a:t>Mr. Smi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Amy,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____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libri"/>
              </a:rPr>
              <a:t>      </a:t>
            </a:r>
            <a:r>
              <a:rPr b="0" i="1" lang="en-US" sz="2800" spc="-1" strike="noStrike">
                <a:solidFill>
                  <a:srgbClr val="990000"/>
                </a:solidFill>
                <a:latin typeface="Calibri"/>
              </a:rPr>
              <a:t>A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h, sorry, Mr. Smi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Calibri"/>
              </a:rPr>
              <a:t>Mr. Smi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ey, Mike. _________________________, Mik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Calibri"/>
              </a:rPr>
              <a:t>       </a:t>
            </a:r>
            <a:r>
              <a:rPr b="0" i="1" lang="en-US" sz="2800" spc="-1" strike="noStrike">
                <a:solidFill>
                  <a:srgbClr val="990000"/>
                </a:solidFill>
                <a:latin typeface="Calibri"/>
              </a:rPr>
              <a:t>Boy 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e_____ hear you, Mr Smi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298840" y="9810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685880" y="154476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n’t run in the hal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556000" y="234000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n’t eat in the class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3419640" y="3654360"/>
            <a:ext cx="5364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n’t listen to music in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263680" y="414828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91440" y="61920"/>
            <a:ext cx="4341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Calibri"/>
              </a:rPr>
              <a:t>Listen again and fill in the blank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1680480" y="2860560"/>
            <a:ext cx="45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You must eat in the dining h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Section A1b.mp3" descr=""/>
          <p:cNvPicPr/>
          <p:nvPr/>
        </p:nvPicPr>
        <p:blipFill>
          <a:blip r:embed="rId1"/>
          <a:stretch/>
        </p:blipFill>
        <p:spPr>
          <a:xfrm>
            <a:off x="5886360" y="5084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873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-36360" y="115920"/>
            <a:ext cx="9180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Pair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Student A is a new student. Student B tells Student A about the rules abov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ShockwaveFlash1"/>
          <p:cNvGraphicFramePr/>
          <p:nvPr/>
        </p:nvGraphicFramePr>
        <p:xfrm>
          <a:off x="1042920" y="2205000"/>
          <a:ext cx="71294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7129440" cy="41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pic_254325"/>
          <p:cNvPicPr/>
          <p:nvPr/>
        </p:nvPicPr>
        <p:blipFill>
          <a:blip r:embed="rId1">
            <a:lum bright="-18000"/>
          </a:blip>
          <a:srcRect l="24439" t="23510" r="3231" b="26262"/>
          <a:stretch/>
        </p:blipFill>
        <p:spPr>
          <a:xfrm>
            <a:off x="2340000" y="1440"/>
            <a:ext cx="6985080" cy="6856560"/>
          </a:xfrm>
          <a:prstGeom prst="rect">
            <a:avLst/>
          </a:prstGeom>
          <a:ln w="0">
            <a:noFill/>
          </a:ln>
        </p:spPr>
      </p:pic>
      <p:sp>
        <p:nvSpPr>
          <p:cNvPr id="168" name="Oval 10"/>
          <p:cNvSpPr/>
          <p:nvPr/>
        </p:nvSpPr>
        <p:spPr>
          <a:xfrm>
            <a:off x="2427120" y="2060640"/>
            <a:ext cx="3745080" cy="11523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5651640" y="4122720"/>
            <a:ext cx="1944720" cy="2735280"/>
          </a:xfrm>
          <a:prstGeom prst="ellipse">
            <a:avLst/>
          </a:prstGeom>
          <a:noFill/>
          <a:ln w="38160">
            <a:solidFill>
              <a:srgbClr val="cc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552760" y="2376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ru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19"/>
          <p:cNvGrpSpPr/>
          <p:nvPr/>
        </p:nvGrpSpPr>
        <p:grpSpPr>
          <a:xfrm>
            <a:off x="322200" y="2838600"/>
            <a:ext cx="2089080" cy="1383840"/>
            <a:chOff x="322200" y="2838600"/>
            <a:chExt cx="2089080" cy="1383840"/>
          </a:xfrm>
        </p:grpSpPr>
        <p:sp>
          <p:nvSpPr>
            <p:cNvPr id="172" name="Text Box 17"/>
            <p:cNvSpPr/>
            <p:nvPr/>
          </p:nvSpPr>
          <p:spPr>
            <a:xfrm>
              <a:off x="322200" y="2838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SCHOO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466560" y="37018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椭圆 1"/>
          <p:cNvSpPr/>
          <p:nvPr/>
        </p:nvSpPr>
        <p:spPr>
          <a:xfrm>
            <a:off x="3564000" y="3240000"/>
            <a:ext cx="2300400" cy="90972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071880" y="3213000"/>
            <a:ext cx="3282840" cy="115272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’t arr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 fo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pic_254325"/>
          <p:cNvPicPr/>
          <p:nvPr/>
        </p:nvPicPr>
        <p:blipFill>
          <a:blip r:embed="rId1">
            <a:lum bright="-18000"/>
          </a:blip>
          <a:srcRect l="24439" t="23510" r="3231" b="26262"/>
          <a:stretch/>
        </p:blipFill>
        <p:spPr>
          <a:xfrm>
            <a:off x="2208240" y="15840"/>
            <a:ext cx="698508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1"/>
          <p:cNvGrpSpPr/>
          <p:nvPr/>
        </p:nvGrpSpPr>
        <p:grpSpPr>
          <a:xfrm>
            <a:off x="322200" y="2838600"/>
            <a:ext cx="2089080" cy="1383840"/>
            <a:chOff x="322200" y="2838600"/>
            <a:chExt cx="2089080" cy="1383840"/>
          </a:xfrm>
        </p:grpSpPr>
        <p:sp>
          <p:nvSpPr>
            <p:cNvPr id="178" name="Text Box 12"/>
            <p:cNvSpPr/>
            <p:nvPr/>
          </p:nvSpPr>
          <p:spPr>
            <a:xfrm>
              <a:off x="322200" y="2838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SCHOO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13"/>
            <p:cNvSpPr/>
            <p:nvPr/>
          </p:nvSpPr>
          <p:spPr>
            <a:xfrm>
              <a:off x="466560" y="37018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Oval 14"/>
          <p:cNvSpPr/>
          <p:nvPr/>
        </p:nvSpPr>
        <p:spPr>
          <a:xfrm>
            <a:off x="2325600" y="3500280"/>
            <a:ext cx="1224000" cy="2305080"/>
          </a:xfrm>
          <a:prstGeom prst="ellipse">
            <a:avLst/>
          </a:prstGeom>
          <a:noFill/>
          <a:ln w="38160">
            <a:solidFill>
              <a:srgbClr val="cc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3233880" y="3213000"/>
            <a:ext cx="3282840" cy="115272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348000" y="3357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’t run in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3851280" y="3789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l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2266920" y="2117880"/>
            <a:ext cx="3745080" cy="11523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484360" y="24354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ru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7"/>
          <p:cNvGrpSpPr/>
          <p:nvPr/>
        </p:nvGrpSpPr>
        <p:grpSpPr>
          <a:xfrm>
            <a:off x="2208240" y="15840"/>
            <a:ext cx="6985080" cy="6856560"/>
            <a:chOff x="2208240" y="15840"/>
            <a:chExt cx="6985080" cy="6856560"/>
          </a:xfrm>
        </p:grpSpPr>
        <p:pic>
          <p:nvPicPr>
            <p:cNvPr id="187" name="Picture 8" descr="pic_254325"/>
            <p:cNvPicPr/>
            <p:nvPr/>
          </p:nvPicPr>
          <p:blipFill>
            <a:blip r:embed="rId1">
              <a:lum bright="-18000"/>
            </a:blip>
            <a:srcRect l="24439" t="23510" r="3231" b="26262"/>
            <a:stretch/>
          </p:blipFill>
          <p:spPr>
            <a:xfrm>
              <a:off x="2208240" y="15840"/>
              <a:ext cx="69850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Oval 10"/>
            <p:cNvSpPr/>
            <p:nvPr/>
          </p:nvSpPr>
          <p:spPr>
            <a:xfrm>
              <a:off x="3233880" y="3213000"/>
              <a:ext cx="3282840" cy="1152720"/>
            </a:xfrm>
            <a:prstGeom prst="ellipse">
              <a:avLst/>
            </a:pr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322200" y="2838600"/>
            <a:ext cx="2089080" cy="1383840"/>
            <a:chOff x="322200" y="2838600"/>
            <a:chExt cx="2089080" cy="1383840"/>
          </a:xfrm>
        </p:grpSpPr>
        <p:sp>
          <p:nvSpPr>
            <p:cNvPr id="190" name="Text Box 12"/>
            <p:cNvSpPr/>
            <p:nvPr/>
          </p:nvSpPr>
          <p:spPr>
            <a:xfrm>
              <a:off x="322200" y="2838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SCHOO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66560" y="37018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Oval 14"/>
          <p:cNvSpPr/>
          <p:nvPr/>
        </p:nvSpPr>
        <p:spPr>
          <a:xfrm>
            <a:off x="4211640" y="765000"/>
            <a:ext cx="1297080" cy="1224000"/>
          </a:xfrm>
          <a:prstGeom prst="ellipse">
            <a:avLst/>
          </a:prstGeom>
          <a:noFill/>
          <a:ln w="38160">
            <a:solidFill>
              <a:srgbClr val="cc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495600" y="34146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’t eat in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3495600" y="37591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ro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2266920" y="2060640"/>
            <a:ext cx="3745080" cy="11523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2484360" y="2376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ru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42920" y="428760"/>
            <a:ext cx="31366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arr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(be) on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allw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h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d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listen t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f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57760" y="500040"/>
            <a:ext cx="47862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规则；规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v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到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准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走廊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过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大厅；礼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hall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餐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v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听；倾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听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v.&amp;n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打架；战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pic_254325"/>
          <p:cNvPicPr/>
          <p:nvPr/>
        </p:nvPicPr>
        <p:blipFill>
          <a:blip r:embed="rId1">
            <a:lum bright="-18000"/>
          </a:blip>
          <a:srcRect l="24439" t="23510" r="3231" b="26262"/>
          <a:stretch/>
        </p:blipFill>
        <p:spPr>
          <a:xfrm>
            <a:off x="2208240" y="15840"/>
            <a:ext cx="6985080" cy="685656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1"/>
          <p:cNvGrpSpPr/>
          <p:nvPr/>
        </p:nvGrpSpPr>
        <p:grpSpPr>
          <a:xfrm>
            <a:off x="322200" y="2838600"/>
            <a:ext cx="2089080" cy="1383840"/>
            <a:chOff x="322200" y="2838600"/>
            <a:chExt cx="2089080" cy="1383840"/>
          </a:xfrm>
        </p:grpSpPr>
        <p:sp>
          <p:nvSpPr>
            <p:cNvPr id="199" name="Text Box 12"/>
            <p:cNvSpPr/>
            <p:nvPr/>
          </p:nvSpPr>
          <p:spPr>
            <a:xfrm>
              <a:off x="322200" y="2838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SCHOO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13"/>
            <p:cNvSpPr/>
            <p:nvPr/>
          </p:nvSpPr>
          <p:spPr>
            <a:xfrm>
              <a:off x="466560" y="37018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Oval 14"/>
          <p:cNvSpPr/>
          <p:nvPr/>
        </p:nvSpPr>
        <p:spPr>
          <a:xfrm>
            <a:off x="7264440" y="1268280"/>
            <a:ext cx="1944720" cy="2735280"/>
          </a:xfrm>
          <a:prstGeom prst="ellipse">
            <a:avLst/>
          </a:prstGeom>
          <a:noFill/>
          <a:ln w="38160">
            <a:solidFill>
              <a:srgbClr val="cc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3203640" y="3213000"/>
            <a:ext cx="3859200" cy="129564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246480" y="3414600"/>
            <a:ext cx="41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’t listen to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246480" y="3716280"/>
            <a:ext cx="41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2266920" y="2117880"/>
            <a:ext cx="3745080" cy="11523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484360" y="24354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ru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7"/>
          <p:cNvGrpSpPr/>
          <p:nvPr/>
        </p:nvGrpSpPr>
        <p:grpSpPr>
          <a:xfrm>
            <a:off x="2158920" y="0"/>
            <a:ext cx="6985080" cy="6856560"/>
            <a:chOff x="2158920" y="0"/>
            <a:chExt cx="6985080" cy="6856560"/>
          </a:xfrm>
        </p:grpSpPr>
        <p:pic>
          <p:nvPicPr>
            <p:cNvPr id="208" name="Picture 8" descr="pic_254325"/>
            <p:cNvPicPr/>
            <p:nvPr/>
          </p:nvPicPr>
          <p:blipFill>
            <a:blip r:embed="rId1">
              <a:lum bright="-18000"/>
            </a:blip>
            <a:srcRect l="24439" t="23510" r="3231" b="26262"/>
            <a:stretch/>
          </p:blipFill>
          <p:spPr>
            <a:xfrm>
              <a:off x="2158920" y="0"/>
              <a:ext cx="698508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10"/>
            <p:cNvSpPr/>
            <p:nvPr/>
          </p:nvSpPr>
          <p:spPr>
            <a:xfrm>
              <a:off x="3184560" y="3197160"/>
              <a:ext cx="3282840" cy="1152720"/>
            </a:xfrm>
            <a:prstGeom prst="ellipse">
              <a:avLst/>
            </a:pr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Group 11"/>
          <p:cNvGrpSpPr/>
          <p:nvPr/>
        </p:nvGrpSpPr>
        <p:grpSpPr>
          <a:xfrm>
            <a:off x="322200" y="2838600"/>
            <a:ext cx="2089080" cy="1383840"/>
            <a:chOff x="322200" y="2838600"/>
            <a:chExt cx="2089080" cy="1383840"/>
          </a:xfrm>
        </p:grpSpPr>
        <p:sp>
          <p:nvSpPr>
            <p:cNvPr id="211" name="Text Box 12"/>
            <p:cNvSpPr/>
            <p:nvPr/>
          </p:nvSpPr>
          <p:spPr>
            <a:xfrm>
              <a:off x="322200" y="283860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SCHOO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66560" y="3701880"/>
              <a:ext cx="194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Georgia"/>
                </a:rPr>
                <a:t>RUL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Oval 14"/>
          <p:cNvSpPr/>
          <p:nvPr/>
        </p:nvSpPr>
        <p:spPr>
          <a:xfrm>
            <a:off x="5940360" y="-243000"/>
            <a:ext cx="1728720" cy="2159280"/>
          </a:xfrm>
          <a:prstGeom prst="ellipse">
            <a:avLst/>
          </a:prstGeom>
          <a:noFill/>
          <a:ln w="38160">
            <a:solidFill>
              <a:srgbClr val="cc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5600" y="35290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’t f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2266920" y="2117880"/>
            <a:ext cx="3745080" cy="1152360"/>
          </a:xfrm>
          <a:prstGeom prst="ellips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2484360" y="24354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ru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2a. Listen. Check the activities Alanand Cindy talk ab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1640" y="1006560"/>
          <a:ext cx="7920360" cy="4653000"/>
        </p:xfrm>
        <a:graphic>
          <a:graphicData uri="http://schemas.openxmlformats.org/drawingml/2006/table">
            <a:tbl>
              <a:tblPr/>
              <a:tblGrid>
                <a:gridCol w="5832720"/>
                <a:gridCol w="1008000"/>
                <a:gridCol w="10796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___ listen to music in the classrooms or   hallw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___ listen to music in the music 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___  listen to music outs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___ eat in the classroo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___ eat in the dinning h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___ eat outs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___ wear a h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___ figh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’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45"/>
          <p:cNvSpPr/>
          <p:nvPr/>
        </p:nvSpPr>
        <p:spPr>
          <a:xfrm>
            <a:off x="431640" y="23018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46"/>
          <p:cNvSpPr/>
          <p:nvPr/>
        </p:nvSpPr>
        <p:spPr>
          <a:xfrm>
            <a:off x="7289640" y="1539720"/>
            <a:ext cx="9144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7"/>
          <p:cNvSpPr/>
          <p:nvPr/>
        </p:nvSpPr>
        <p:spPr>
          <a:xfrm>
            <a:off x="777240" y="131112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8"/>
          <p:cNvSpPr/>
          <p:nvPr/>
        </p:nvSpPr>
        <p:spPr>
          <a:xfrm>
            <a:off x="777240" y="25257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777240" y="3059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0"/>
          <p:cNvSpPr/>
          <p:nvPr/>
        </p:nvSpPr>
        <p:spPr>
          <a:xfrm>
            <a:off x="853560" y="504036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1"/>
          <p:cNvSpPr/>
          <p:nvPr/>
        </p:nvSpPr>
        <p:spPr>
          <a:xfrm>
            <a:off x="845640" y="450684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660240" y="2073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54"/>
          <p:cNvSpPr/>
          <p:nvPr/>
        </p:nvSpPr>
        <p:spPr>
          <a:xfrm>
            <a:off x="736560" y="3597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Section A2a.mp3" descr=""/>
          <p:cNvPicPr/>
          <p:nvPr/>
        </p:nvPicPr>
        <p:blipFill>
          <a:blip r:embed="rId1"/>
          <a:stretch/>
        </p:blipFill>
        <p:spPr>
          <a:xfrm>
            <a:off x="6372360" y="57657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4813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184320" y="925560"/>
          <a:ext cx="8353080" cy="5468760"/>
        </p:xfrm>
        <a:graphic>
          <a:graphicData uri="http://schemas.openxmlformats.org/drawingml/2006/table">
            <a:tbl>
              <a:tblPr/>
              <a:tblGrid>
                <a:gridCol w="6121080"/>
                <a:gridCol w="1008360"/>
                <a:gridCol w="12236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9480" indent="-6094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___ listen to music in t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09480" indent="-6094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 or hallw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___ listen to music in t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roo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___ listen to music outsi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___ eat in the classroo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___ eat in the dining h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___ eat outsi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___ wear a h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___ f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 Box 2060"/>
          <p:cNvSpPr/>
          <p:nvPr/>
        </p:nvSpPr>
        <p:spPr>
          <a:xfrm>
            <a:off x="817200" y="14400"/>
            <a:ext cx="772596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Listen again. Can Alan and Cindy do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activities? Circle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n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n’t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2"/>
          <p:cNvSpPr/>
          <p:nvPr/>
        </p:nvSpPr>
        <p:spPr>
          <a:xfrm>
            <a:off x="7385040" y="1430280"/>
            <a:ext cx="1079640" cy="549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3"/>
          <p:cNvSpPr/>
          <p:nvPr/>
        </p:nvSpPr>
        <p:spPr>
          <a:xfrm>
            <a:off x="2735280" y="476280"/>
            <a:ext cx="1116000" cy="409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54"/>
          <p:cNvSpPr/>
          <p:nvPr/>
        </p:nvSpPr>
        <p:spPr>
          <a:xfrm>
            <a:off x="6303960" y="2367000"/>
            <a:ext cx="86508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55"/>
          <p:cNvSpPr/>
          <p:nvPr/>
        </p:nvSpPr>
        <p:spPr>
          <a:xfrm>
            <a:off x="7311960" y="3878280"/>
            <a:ext cx="122400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56"/>
          <p:cNvSpPr/>
          <p:nvPr/>
        </p:nvSpPr>
        <p:spPr>
          <a:xfrm>
            <a:off x="6232680" y="4454640"/>
            <a:ext cx="936360" cy="431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7"/>
          <p:cNvSpPr/>
          <p:nvPr/>
        </p:nvSpPr>
        <p:spPr>
          <a:xfrm>
            <a:off x="6303960" y="3301920"/>
            <a:ext cx="93672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8"/>
          <p:cNvSpPr/>
          <p:nvPr/>
        </p:nvSpPr>
        <p:spPr>
          <a:xfrm>
            <a:off x="7311960" y="5391000"/>
            <a:ext cx="1152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80"/>
          <p:cNvSpPr/>
          <p:nvPr/>
        </p:nvSpPr>
        <p:spPr>
          <a:xfrm>
            <a:off x="7311960" y="5894280"/>
            <a:ext cx="1152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81"/>
          <p:cNvSpPr/>
          <p:nvPr/>
        </p:nvSpPr>
        <p:spPr>
          <a:xfrm>
            <a:off x="41400" y="119160"/>
            <a:ext cx="61092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00e2"/>
                </a:solidFill>
                <a:latin typeface="Calibri"/>
                <a:ea typeface="黑体"/>
              </a:rPr>
              <a:t>2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Section A2b.mp3" descr=""/>
          <p:cNvPicPr/>
          <p:nvPr/>
        </p:nvPicPr>
        <p:blipFill>
          <a:blip r:embed="rId1"/>
          <a:stretch/>
        </p:blipFill>
        <p:spPr>
          <a:xfrm>
            <a:off x="7797960" y="16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432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51083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90756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ndy is telling Alan the school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____ listen to music in the class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________. But we ____listen to it out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 in the music room. And we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 ___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classroom, but we can eat in the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. We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 _______________or________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ur classmates. That ______ th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54160" indent="0">
              <a:lnSpc>
                <a:spcPct val="11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lly un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2060"/>
          <p:cNvSpPr/>
          <p:nvPr/>
        </p:nvSpPr>
        <p:spPr>
          <a:xfrm>
            <a:off x="339120" y="52560"/>
            <a:ext cx="68238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sten again and fill in the blank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99280" y="149076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795240" y="2028960"/>
            <a:ext cx="14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all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735720" y="20606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303600" y="26370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22200" y="37782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409440" y="321300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760480" y="37735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ear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at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145200" y="377352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ight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891960" y="4303800"/>
            <a:ext cx="11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Section A2b.mp3" descr=""/>
          <p:cNvPicPr/>
          <p:nvPr/>
        </p:nvPicPr>
        <p:blipFill>
          <a:blip r:embed="rId1"/>
          <a:stretch/>
        </p:blipFill>
        <p:spPr>
          <a:xfrm>
            <a:off x="633888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5108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22320" y="1908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air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Practice the conversation. Talk about the rules at your schoo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50920" y="2421000"/>
            <a:ext cx="5905440" cy="2432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: Can we listen to music,   Cind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: We can’t listen to music in the hallways, but we can listen to it out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1"/>
          <a:stretch/>
        </p:blipFill>
        <p:spPr>
          <a:xfrm>
            <a:off x="6394320" y="1908000"/>
            <a:ext cx="2371680" cy="2992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250920" y="33336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根据汉语提示填入恰当的单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ose and Lisa are reading in the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re are lots of 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规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i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an’s schoo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John often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打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with h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ther because of little thin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here is a big dining ______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i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school, and we eat lunch t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t’s raining ________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外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 Just sta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82640" y="14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361760" y="191628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3210840" y="2997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f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5154480" y="4149720"/>
            <a:ext cx="7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3212640" y="522936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out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977040" y="836640"/>
            <a:ext cx="61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ll in the blank of school  rul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9840" y="162864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1. Don’t _________late for class/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8080" y="2924280"/>
            <a:ext cx="53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. Don’t run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611280" y="4221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5.   We ____________________  in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11280" y="3500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4. _____         the classroom after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610920" y="2276640"/>
            <a:ext cx="36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2. ______eat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580320" y="48690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6.We ______ wear the school uni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2407680" y="162864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r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2988360" y="2924280"/>
            <a:ext cx="26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the hall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523880" y="486900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av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1133640" y="2276640"/>
            <a:ext cx="109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4" descr="16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500280"/>
            <a:ext cx="679320" cy="543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5"/>
          <p:cNvSpPr/>
          <p:nvPr/>
        </p:nvSpPr>
        <p:spPr>
          <a:xfrm>
            <a:off x="1059120" y="3546360"/>
            <a:ext cx="110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6" descr="065"/>
          <p:cNvPicPr/>
          <p:nvPr/>
        </p:nvPicPr>
        <p:blipFill>
          <a:blip r:embed="rId3"/>
          <a:stretch/>
        </p:blipFill>
        <p:spPr>
          <a:xfrm>
            <a:off x="5364000" y="4221000"/>
            <a:ext cx="762120" cy="433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7"/>
          <p:cNvSpPr/>
          <p:nvPr/>
        </p:nvSpPr>
        <p:spPr>
          <a:xfrm>
            <a:off x="1834200" y="4149720"/>
            <a:ext cx="35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’t play basketb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324000" y="189000"/>
            <a:ext cx="856908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按要求改写句子，每空一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Paul has to eat outsid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为一般疑问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Paul _____ ___ eat outsid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y can wear hats in the hal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为一般疑问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they _____ hats in the hal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The students have to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ear sports sho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 gym cla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划线部分提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do the students _____ ___ ___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063080" y="206676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es                 have   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996120" y="3860640"/>
            <a:ext cx="32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Can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926640" y="5667480"/>
            <a:ext cx="71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have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to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4"/>
          <p:cNvSpPr/>
          <p:nvPr/>
        </p:nvSpPr>
        <p:spPr>
          <a:xfrm>
            <a:off x="108000" y="820800"/>
            <a:ext cx="889308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You can’t stand in the middle of th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et. 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为祈使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______ in the middle of the str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Take the pen to your sister. 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为否定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______ the pen to your s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Don’t arrive late next time. 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改为同义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 ____ late next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676440" y="4797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n’t    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94800" y="2060640"/>
            <a:ext cx="21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n’t  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81200" y="3429000"/>
            <a:ext cx="20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n’t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57120" y="857160"/>
            <a:ext cx="2708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sor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outs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w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mport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uni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qui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86080" y="857160"/>
            <a:ext cx="5211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adj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抱歉的；难过的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惋惜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adv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在外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adj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外面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v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穿；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adj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重要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v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带来；取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n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校服；制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adj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安静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动作按钮: 后退或前一项 3">
            <a:hlinkClick r:id="" action="ppaction://hlinkshowjump?jump=previousslide"/>
          </p:cNvPr>
          <p:cNvSpPr/>
          <p:nvPr/>
        </p:nvSpPr>
        <p:spPr>
          <a:xfrm>
            <a:off x="7596360" y="602136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516720" y="299736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朗读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9"/>
          <p:cNvSpPr/>
          <p:nvPr/>
        </p:nvSpPr>
        <p:spPr>
          <a:xfrm>
            <a:off x="3240" y="14400"/>
            <a:ext cx="4568760" cy="532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Translate and write them do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66560" y="1117440"/>
            <a:ext cx="72010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们学校的校规是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要在教室或走廊里听音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们上课不能迟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682560" y="3330720"/>
            <a:ext cx="8118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Don’t listen to music in the classroom or the hall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82560" y="1996920"/>
            <a:ext cx="70581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are the 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rules</a:t>
            </a: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 at your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754200" y="5030640"/>
            <a:ext cx="5976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e can’t arrive late for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961360" y="1989000"/>
            <a:ext cx="359136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Times New Roman"/>
              </a:rPr>
              <a:t>Section 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Times New Roman"/>
              </a:rPr>
              <a:t>Period Tw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031"/>
          <p:cNvSpPr/>
          <p:nvPr/>
        </p:nvSpPr>
        <p:spPr>
          <a:xfrm>
            <a:off x="3203640" y="43369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</a:rPr>
              <a:t>Don’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smok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" descr=""/>
          <p:cNvPicPr/>
          <p:nvPr/>
        </p:nvPicPr>
        <p:blipFill>
          <a:blip r:embed="rId1"/>
          <a:stretch/>
        </p:blipFill>
        <p:spPr>
          <a:xfrm>
            <a:off x="3203640" y="765000"/>
            <a:ext cx="2689200" cy="268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028" descr="j0232446[1]"/>
          <p:cNvPicPr/>
          <p:nvPr/>
        </p:nvPicPr>
        <p:blipFill>
          <a:blip r:embed="rId1"/>
          <a:stretch/>
        </p:blipFill>
        <p:spPr>
          <a:xfrm>
            <a:off x="2771640" y="1052640"/>
            <a:ext cx="3908520" cy="31827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030"/>
          <p:cNvSpPr/>
          <p:nvPr/>
        </p:nvSpPr>
        <p:spPr>
          <a:xfrm>
            <a:off x="3132000" y="5084640"/>
            <a:ext cx="340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figh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1034"/>
          <p:cNvSpPr/>
          <p:nvPr/>
        </p:nvSpPr>
        <p:spPr>
          <a:xfrm>
            <a:off x="3419640" y="1557360"/>
            <a:ext cx="2666880" cy="2590920"/>
          </a:xfrm>
          <a:prstGeom prst="line">
            <a:avLst/>
          </a:prstGeom>
          <a:ln w="76320">
            <a:solidFill>
              <a:srgbClr val="f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8"/>
          <p:cNvGrpSpPr/>
          <p:nvPr/>
        </p:nvGrpSpPr>
        <p:grpSpPr>
          <a:xfrm>
            <a:off x="3419640" y="1413000"/>
            <a:ext cx="3074400" cy="2607840"/>
            <a:chOff x="3419640" y="1413000"/>
            <a:chExt cx="3074400" cy="2607840"/>
          </a:xfrm>
        </p:grpSpPr>
        <p:pic>
          <p:nvPicPr>
            <p:cNvPr id="297" name="Picture 7" descr="0"/>
            <p:cNvPicPr/>
            <p:nvPr/>
          </p:nvPicPr>
          <p:blipFill>
            <a:blip r:embed="rId1"/>
            <a:stretch/>
          </p:blipFill>
          <p:spPr>
            <a:xfrm>
              <a:off x="3419640" y="1413000"/>
              <a:ext cx="307440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Line 5"/>
            <p:cNvSpPr/>
            <p:nvPr/>
          </p:nvSpPr>
          <p:spPr>
            <a:xfrm>
              <a:off x="4167000" y="2236680"/>
              <a:ext cx="1495440" cy="1784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Text Box 6"/>
          <p:cNvSpPr/>
          <p:nvPr/>
        </p:nvSpPr>
        <p:spPr>
          <a:xfrm>
            <a:off x="0" y="4508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listen to music in the classr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39640" y="54936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6"/>
          <p:cNvSpPr/>
          <p:nvPr/>
        </p:nvSpPr>
        <p:spPr>
          <a:xfrm>
            <a:off x="1332000" y="450864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eat in the classroo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9" descr="2"/>
          <p:cNvPicPr/>
          <p:nvPr/>
        </p:nvPicPr>
        <p:blipFill>
          <a:blip r:embed="rId1"/>
          <a:stretch/>
        </p:blipFill>
        <p:spPr>
          <a:xfrm>
            <a:off x="3419640" y="1773360"/>
            <a:ext cx="2638440" cy="2350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971640" y="47628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6"/>
          <p:cNvSpPr/>
          <p:nvPr/>
        </p:nvSpPr>
        <p:spPr>
          <a:xfrm>
            <a:off x="1547640" y="4149720"/>
            <a:ext cx="640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take photos he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photo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8" descr="11"/>
          <p:cNvPicPr/>
          <p:nvPr/>
        </p:nvPicPr>
        <p:blipFill>
          <a:blip r:embed="rId1"/>
          <a:stretch/>
        </p:blipFill>
        <p:spPr>
          <a:xfrm>
            <a:off x="2743200" y="858960"/>
            <a:ext cx="2765520" cy="2282760"/>
          </a:xfrm>
          <a:prstGeom prst="rect">
            <a:avLst/>
          </a:prstGeom>
          <a:ln w="0">
            <a:noFill/>
          </a:ln>
        </p:spPr>
      </p:pic>
      <p:sp>
        <p:nvSpPr>
          <p:cNvPr id="306" name="Line 9"/>
          <p:cNvSpPr/>
          <p:nvPr/>
        </p:nvSpPr>
        <p:spPr>
          <a:xfrm>
            <a:off x="2987640" y="1125360"/>
            <a:ext cx="2057400" cy="152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003"/>
          <p:cNvPicPr/>
          <p:nvPr/>
        </p:nvPicPr>
        <p:blipFill>
          <a:blip r:embed="rId1"/>
          <a:srcRect l="0" t="0" r="-226" b="254"/>
          <a:stretch/>
        </p:blipFill>
        <p:spPr>
          <a:xfrm>
            <a:off x="3132000" y="298440"/>
            <a:ext cx="2700360" cy="3887640"/>
          </a:xfrm>
          <a:prstGeom prst="rect">
            <a:avLst/>
          </a:prstGeom>
          <a:ln w="0">
            <a:noFill/>
          </a:ln>
        </p:spPr>
      </p:pic>
      <p:sp>
        <p:nvSpPr>
          <p:cNvPr id="308" name="Line 4"/>
          <p:cNvSpPr/>
          <p:nvPr/>
        </p:nvSpPr>
        <p:spPr>
          <a:xfrm>
            <a:off x="3067200" y="399960"/>
            <a:ext cx="2765160" cy="347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835280" y="4869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arrive late for clas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547640" y="4292640"/>
            <a:ext cx="7010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talk in the libra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al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main1"/>
          <p:cNvPicPr/>
          <p:nvPr/>
        </p:nvPicPr>
        <p:blipFill>
          <a:blip r:embed="rId1"/>
          <a:stretch/>
        </p:blipFill>
        <p:spPr>
          <a:xfrm>
            <a:off x="3203640" y="1268280"/>
            <a:ext cx="2620800" cy="2664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2556000" y="260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the libr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1403280" y="458136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n’t talk loudly in public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619280" y="40464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public (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公共场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5" descr="image008"/>
          <p:cNvPicPr/>
          <p:nvPr/>
        </p:nvPicPr>
        <p:blipFill>
          <a:blip r:embed="rId1"/>
          <a:stretch/>
        </p:blipFill>
        <p:spPr>
          <a:xfrm>
            <a:off x="3276720" y="162864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3"/>
          <p:cNvSpPr txBox="1"/>
          <p:nvPr/>
        </p:nvSpPr>
        <p:spPr>
          <a:xfrm rot="20926800">
            <a:off x="395280" y="476280"/>
            <a:ext cx="396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ree talk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148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42920" y="270828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What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 you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 at schoo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or in the classro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1042920" y="41497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What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can’t</a:t>
            </a: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 you </a:t>
            </a: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do</a:t>
            </a:r>
            <a:r>
              <a:rPr b="1" i="1" lang="en-US" sz="4400" spc="-1" strike="noStrike">
                <a:solidFill>
                  <a:srgbClr val="0033cc"/>
                </a:solidFill>
                <a:latin typeface="Calibri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3023280" y="2214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（可以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4284720" y="537372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讲课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4"/>
          <p:cNvSpPr/>
          <p:nvPr/>
        </p:nvSpPr>
        <p:spPr>
          <a:xfrm>
            <a:off x="1619280" y="4292640"/>
            <a:ext cx="58561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n’t arrive late for schoo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E:\图片库\动作\2255.tif"/>
          <p:cNvPicPr/>
          <p:nvPr/>
        </p:nvPicPr>
        <p:blipFill>
          <a:blip r:embed="rId1"/>
          <a:stretch/>
        </p:blipFill>
        <p:spPr>
          <a:xfrm>
            <a:off x="2916360" y="692280"/>
            <a:ext cx="3060720" cy="309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1187280" y="4292640"/>
            <a:ext cx="6626520" cy="1410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n’t eat in the classroom. You must eat in the dining hal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8" descr="image051"/>
          <p:cNvPicPr/>
          <p:nvPr/>
        </p:nvPicPr>
        <p:blipFill>
          <a:blip r:embed="rId1"/>
          <a:stretch/>
        </p:blipFill>
        <p:spPr>
          <a:xfrm>
            <a:off x="3059280" y="620640"/>
            <a:ext cx="2734920" cy="331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3"/>
          <p:cNvSpPr/>
          <p:nvPr/>
        </p:nvSpPr>
        <p:spPr>
          <a:xfrm>
            <a:off x="1449720" y="4869000"/>
            <a:ext cx="65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on’t draw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n the wall, ple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2" descr="20040118_1_2"/>
          <p:cNvPicPr/>
          <p:nvPr/>
        </p:nvPicPr>
        <p:blipFill>
          <a:blip r:embed="rId1"/>
          <a:stretch/>
        </p:blipFill>
        <p:spPr>
          <a:xfrm>
            <a:off x="2281320" y="981000"/>
            <a:ext cx="42116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700360" y="45086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n’t  fight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3" descr="003"/>
          <p:cNvPicPr/>
          <p:nvPr/>
        </p:nvPicPr>
        <p:blipFill>
          <a:blip r:embed="rId1"/>
          <a:stretch/>
        </p:blipFill>
        <p:spPr>
          <a:xfrm>
            <a:off x="1908000" y="333360"/>
            <a:ext cx="5257800" cy="393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971640" y="1557360"/>
            <a:ext cx="403200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have lo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ir for boy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714240" y="3860640"/>
            <a:ext cx="42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男生不准留长发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4" descr="中学生-人物,中学生优秀作文网,中学生数学,中学生600字作文,中学生安全知识-人物,中学生"/>
          <p:cNvPicPr/>
          <p:nvPr/>
        </p:nvPicPr>
        <p:blipFill>
          <a:blip r:embed="rId1"/>
          <a:stretch/>
        </p:blipFill>
        <p:spPr>
          <a:xfrm>
            <a:off x="5651640" y="981000"/>
            <a:ext cx="288108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960" y="90360"/>
            <a:ext cx="74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d.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le-play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the convers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8" name="ShockwaveFlash1"/>
          <p:cNvGraphicFramePr/>
          <p:nvPr/>
        </p:nvGraphicFramePr>
        <p:xfrm>
          <a:off x="539640" y="907920"/>
          <a:ext cx="8136000" cy="56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8136000" cy="5616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780000" y="414972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3"/>
          <p:cNvSpPr/>
          <p:nvPr/>
        </p:nvSpPr>
        <p:spPr>
          <a:xfrm>
            <a:off x="516960" y="981000"/>
            <a:ext cx="8192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Joh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Hi, my name’s John. It’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y first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Ali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Hi, John. I’m Alice. This is a gre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hool, but there a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 lot of rul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John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Really? What are some of the r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Alic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Well, don’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e late fo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he class.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 very impor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John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K, so we must b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n tim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Can we b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sic players to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762120" y="1523880"/>
            <a:ext cx="75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Alice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No, we can’t. And we always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wear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hool unifor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alibri"/>
              </a:rPr>
              <a:t>John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 s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alibri"/>
              </a:rPr>
              <a:t>Alice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h, and we also have to be quiet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libr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3"/>
          <p:cNvSpPr/>
          <p:nvPr/>
        </p:nvSpPr>
        <p:spPr>
          <a:xfrm>
            <a:off x="630360" y="620640"/>
            <a:ext cx="720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un in the hall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rule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must </a:t>
            </a: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 time fo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ff0066"/>
                </a:solidFill>
                <a:latin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 eat in the classro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, we </a:t>
            </a:r>
            <a:r>
              <a:rPr b="0" lang="en-US" sz="2800" spc="-1" strike="noStrike">
                <a:solidFill>
                  <a:srgbClr val="6600ff"/>
                </a:solidFill>
                <a:latin typeface="Calibri"/>
              </a:rPr>
              <a:t>ca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we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at in the dining h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n we wear a hat in cla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Yes, we can./No, we ca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e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have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ear a uniform at scho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, he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do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/ No, he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doesn’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Wh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you have to d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0" lang="en-US" sz="2800" spc="-1" strike="noStrike">
                <a:solidFill>
                  <a:srgbClr val="3333ff"/>
                </a:solidFill>
                <a:latin typeface="Calibri"/>
              </a:rPr>
              <a:t>have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quiet in the libr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椭圆 2"/>
          <p:cNvSpPr/>
          <p:nvPr/>
        </p:nvSpPr>
        <p:spPr>
          <a:xfrm>
            <a:off x="6443640" y="4581360"/>
            <a:ext cx="2592360" cy="1727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Grammar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"/>
          <p:cNvSpPr/>
          <p:nvPr/>
        </p:nvSpPr>
        <p:spPr>
          <a:xfrm rot="1330200">
            <a:off x="2496960" y="60404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注意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ave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图片41"/>
          <p:cNvPicPr/>
          <p:nvPr/>
        </p:nvPicPr>
        <p:blipFill>
          <a:blip r:embed="rId1"/>
          <a:stretch/>
        </p:blipFill>
        <p:spPr>
          <a:xfrm>
            <a:off x="112680" y="2325600"/>
            <a:ext cx="2271600" cy="271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250920" y="1125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They _______wear a uniform every 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419640" y="3363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Yes,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Look and s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348000" y="213372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o you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have to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wear 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uniform every da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500120" y="11318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hav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492360" y="4221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No,______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453560" y="33004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4446000" y="41911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 don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027"/>
          <p:cNvSpPr/>
          <p:nvPr/>
        </p:nvSpPr>
        <p:spPr>
          <a:xfrm>
            <a:off x="179280" y="1413000"/>
            <a:ext cx="54007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play it in clas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w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we can play i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outsid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032"/>
          <p:cNvSpPr/>
          <p:nvPr/>
        </p:nvSpPr>
        <p:spPr>
          <a:xfrm>
            <a:off x="3049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036" descr="20040614223112af00f"/>
          <p:cNvPicPr/>
          <p:nvPr/>
        </p:nvPicPr>
        <p:blipFill>
          <a:blip r:embed="rId1"/>
          <a:stretch/>
        </p:blipFill>
        <p:spPr>
          <a:xfrm>
            <a:off x="5602320" y="260280"/>
            <a:ext cx="3155760" cy="35258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857240" y="4286160"/>
            <a:ext cx="6715440" cy="934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</a:rPr>
              <a:t>Don’t play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ports in clas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24000" y="476280"/>
            <a:ext cx="38163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Times New Roman"/>
              </a:rPr>
              <a:t>Look and sa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3" descr="f"/>
          <p:cNvPicPr/>
          <p:nvPr/>
        </p:nvPicPr>
        <p:blipFill>
          <a:blip r:embed="rId1"/>
          <a:stretch/>
        </p:blipFill>
        <p:spPr>
          <a:xfrm>
            <a:off x="250920" y="3789360"/>
            <a:ext cx="2592360" cy="2392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图片25"/>
          <p:cNvPicPr/>
          <p:nvPr/>
        </p:nvPicPr>
        <p:blipFill>
          <a:blip r:embed="rId2"/>
          <a:stretch/>
        </p:blipFill>
        <p:spPr>
          <a:xfrm>
            <a:off x="0" y="189000"/>
            <a:ext cx="3059280" cy="30589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87640" y="1413000"/>
            <a:ext cx="4824360" cy="1263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 _______do homewor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very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3234960" y="1436760"/>
            <a:ext cx="14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hav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2916360" y="4292640"/>
            <a:ext cx="5616360" cy="1263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 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n week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133800" y="4292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have to clean my bedro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5"/>
          <p:cNvSpPr/>
          <p:nvPr/>
        </p:nvSpPr>
        <p:spPr>
          <a:xfrm>
            <a:off x="5651640" y="1268280"/>
            <a:ext cx="3419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brary r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n’t talk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2" descr="3"/>
          <p:cNvPicPr/>
          <p:nvPr/>
        </p:nvPicPr>
        <p:blipFill>
          <a:blip r:embed="rId1"/>
          <a:stretch/>
        </p:blipFill>
        <p:spPr>
          <a:xfrm>
            <a:off x="2700360" y="1197000"/>
            <a:ext cx="2971800" cy="48942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6084720" y="263520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n’t ea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971640" y="333360"/>
            <a:ext cx="788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e the rules for the school library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2"/>
          <p:cNvSpPr/>
          <p:nvPr/>
        </p:nvSpPr>
        <p:spPr>
          <a:xfrm>
            <a:off x="468360" y="404640"/>
            <a:ext cx="685800" cy="685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11" descr="2"/>
          <p:cNvPicPr/>
          <p:nvPr/>
        </p:nvPicPr>
        <p:blipFill>
          <a:blip r:embed="rId2"/>
          <a:stretch/>
        </p:blipFill>
        <p:spPr>
          <a:xfrm>
            <a:off x="108000" y="1268280"/>
            <a:ext cx="2630520" cy="468180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1"/>
          <p:cNvSpPr/>
          <p:nvPr/>
        </p:nvSpPr>
        <p:spPr>
          <a:xfrm>
            <a:off x="6083280" y="3211560"/>
            <a:ext cx="2881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n’t listen to musi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084720" y="46530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on’t take phot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826920" y="208080"/>
            <a:ext cx="8137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Calibri"/>
              </a:rPr>
              <a:t>Use the words to make questions about the rules. Then write answers according to your scho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3"/>
          <p:cNvSpPr/>
          <p:nvPr/>
        </p:nvSpPr>
        <p:spPr>
          <a:xfrm>
            <a:off x="179280" y="225360"/>
            <a:ext cx="576360" cy="576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700e2"/>
                </a:solidFill>
                <a:latin typeface="Arial Black"/>
                <a:ea typeface="黑体"/>
              </a:rPr>
              <a:t>3b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08000" y="1522440"/>
            <a:ext cx="8964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Be qui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es she have to be quite in the library?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she/have to/in the librar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Yes, she do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E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: ________________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he/ have to/ in the dining hall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__________________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058760" y="458136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Does he have to eat in the dining ha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1042920" y="57405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alibri"/>
              </a:rPr>
              <a:t>No, he doesn’t. He can also eat out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179280" y="981000"/>
            <a:ext cx="8964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Listen to music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: ________________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e/ can/ in the hallways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Wear a ha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: ___________________________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e/ can/ in the classroom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_______________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1027080" y="1635120"/>
            <a:ext cx="661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Can we listen to music in the hallw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1078200" y="407664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Can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we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wear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a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at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n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the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classroom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1116000" y="278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No,</a:t>
            </a:r>
            <a:r>
              <a:rPr b="0" lang="en-US" sz="1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we</a:t>
            </a:r>
            <a:r>
              <a:rPr b="0" lang="en-US" sz="1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can’t</a:t>
            </a:r>
            <a:r>
              <a:rPr b="0" lang="en-US" sz="18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1121760" y="5229360"/>
            <a:ext cx="235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No, we ca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5"/>
          <p:cNvSpPr/>
          <p:nvPr/>
        </p:nvSpPr>
        <p:spPr>
          <a:xfrm>
            <a:off x="684360" y="414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Make up five cool rules for your dream school. Share your rules with the class. Your classmates vote for the Coolest School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7640" y="189000"/>
            <a:ext cx="685800" cy="6858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10" descr="5"/>
          <p:cNvPicPr/>
          <p:nvPr/>
        </p:nvPicPr>
        <p:blipFill>
          <a:blip r:embed="rId1"/>
          <a:stretch/>
        </p:blipFill>
        <p:spPr>
          <a:xfrm>
            <a:off x="5446800" y="2739960"/>
            <a:ext cx="3697200" cy="26226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1"/>
          <p:cNvSpPr/>
          <p:nvPr/>
        </p:nvSpPr>
        <p:spPr>
          <a:xfrm>
            <a:off x="684360" y="285264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We can eat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We don’t have to come to school every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2"/>
          <p:cNvSpPr txBox="1"/>
          <p:nvPr/>
        </p:nvSpPr>
        <p:spPr>
          <a:xfrm>
            <a:off x="900000" y="2131920"/>
            <a:ext cx="755964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4" name="Picture 3" descr="teacher"/>
          <p:cNvPicPr/>
          <p:nvPr/>
        </p:nvPicPr>
        <p:blipFill>
          <a:blip r:embed="rId1"/>
          <a:stretch/>
        </p:blipFill>
        <p:spPr>
          <a:xfrm>
            <a:off x="250920" y="476280"/>
            <a:ext cx="1274760" cy="151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691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情态动词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表示能力 “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能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you play the guitar? 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你会弹吉它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dy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speak a little Chinese. 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朱蒂会说一点中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dance and sing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能唱歌又能跳舞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3490920" y="331920"/>
            <a:ext cx="2376360" cy="720720"/>
            <a:chOff x="3490920" y="331920"/>
            <a:chExt cx="2376360" cy="720720"/>
          </a:xfrm>
        </p:grpSpPr>
        <p:pic>
          <p:nvPicPr>
            <p:cNvPr id="377" name="Picture 9" descr="图片1trjhkyuikyu"/>
            <p:cNvPicPr/>
            <p:nvPr/>
          </p:nvPicPr>
          <p:blipFill>
            <a:blip r:embed="rId1"/>
            <a:stretch/>
          </p:blipFill>
          <p:spPr>
            <a:xfrm>
              <a:off x="3490920" y="331920"/>
              <a:ext cx="23637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 Box 10"/>
            <p:cNvSpPr/>
            <p:nvPr/>
          </p:nvSpPr>
          <p:spPr>
            <a:xfrm>
              <a:off x="3706560" y="3319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9900"/>
                  </a:solidFill>
                  <a:latin typeface="Arial"/>
                </a:rPr>
                <a:t>词语链接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diamond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0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1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6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541440" y="333000"/>
            <a:ext cx="79912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表示允许、许可等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e students run in the hallways?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学生们可以在走廊上跑吗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 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an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t outside. 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我们可以在外面吃东西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）表示请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7034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I help yo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95280" y="386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Calibri"/>
              </a:rPr>
              <a:t>注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和大部分情态动词一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否定句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直接在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后加上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疑问句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把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放到主语前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并且没有人称和数的变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6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5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8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497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祈使句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是用来表示请求、命令、叮嘱、号召或者劝告等的句子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这类句子的主语常是第二人称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yo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也就是听话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因而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you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常省去了。祈使句的开头是</a:t>
            </a:r>
            <a:r>
              <a:rPr b="0" lang="zh-CN" sz="3000" spc="-1" strike="noStrike">
                <a:solidFill>
                  <a:srgbClr val="ff0000"/>
                </a:solidFill>
                <a:latin typeface="Calibri"/>
              </a:rPr>
              <a:t>动词原形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。可在句首或句末加上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ase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，若在句末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lease</a:t>
            </a: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，之前要用逗号隔开。祈使句有肯定祈使句与否定祈使句两种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68360" y="3336840"/>
            <a:ext cx="741672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ok out!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小心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ait here for me!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在这等我！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e sure to come here on time!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务必准时来到这里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4"/>
          <p:cNvSpPr/>
          <p:nvPr/>
        </p:nvSpPr>
        <p:spPr>
          <a:xfrm>
            <a:off x="684360" y="2205000"/>
            <a:ext cx="741672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 music outsid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isten to music outs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r homework at schoo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 your homework at schoo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1032"/>
          <p:cNvSpPr/>
          <p:nvPr/>
        </p:nvSpPr>
        <p:spPr>
          <a:xfrm>
            <a:off x="539640" y="549360"/>
            <a:ext cx="8280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祈使句的否定形式多以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 n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常缩写成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开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再加上动词原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027"/>
          <p:cNvSpPr/>
          <p:nvPr/>
        </p:nvSpPr>
        <p:spPr>
          <a:xfrm>
            <a:off x="250920" y="907920"/>
            <a:ext cx="68421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eat in clas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, w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a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we can eat in th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ining h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29"/>
          <p:cNvSpPr/>
          <p:nvPr/>
        </p:nvSpPr>
        <p:spPr>
          <a:xfrm>
            <a:off x="539640" y="234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36" descr="20051026221210498"/>
          <p:cNvPicPr/>
          <p:nvPr/>
        </p:nvPicPr>
        <p:blipFill>
          <a:blip r:embed="rId1"/>
          <a:stretch/>
        </p:blipFill>
        <p:spPr>
          <a:xfrm>
            <a:off x="6786720" y="260280"/>
            <a:ext cx="2357280" cy="3311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714760" y="4429080"/>
            <a:ext cx="5586120" cy="934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eat in clas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857680" y="4572000"/>
            <a:ext cx="24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250920" y="692280"/>
            <a:ext cx="8713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250920" y="692280"/>
            <a:ext cx="8496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肯定祈使句的常见句型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①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：动词原形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宾语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如：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pen the door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②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e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e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表语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如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e a good bo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③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t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t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宾语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动词原形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或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动词原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)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me help yo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又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play tenn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4"/>
          <p:cNvSpPr/>
          <p:nvPr/>
        </p:nvSpPr>
        <p:spPr>
          <a:xfrm>
            <a:off x="250920" y="312840"/>
            <a:ext cx="85690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否定祈使句的常见句型结构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①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和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e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的否定式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n’t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原形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/ be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forget 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又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be l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②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t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型的否定式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on’t+let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宾语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动词原形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 (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或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t’s+not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动词原形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其他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let him go back.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又如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’s not go swim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③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警示语：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No+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名词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/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动词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-ing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形式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. </a:t>
            </a:r>
            <a:r>
              <a:rPr b="0" lang="zh-CN" sz="3200" spc="-1" strike="noStrike">
                <a:solidFill>
                  <a:srgbClr val="0000ff"/>
                </a:solidFill>
                <a:latin typeface="Calibri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No tal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50920" y="312840"/>
            <a:ext cx="8642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用所给单词的适当形式填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on’t ________(listen) to music in th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ra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Do we have to ________(clean) the roo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 da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You can’t ________(wear) sunglasses i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lassroo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Please ________(arrive) at school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准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John is often late for _______ (class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932360" y="573408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341440" y="90792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930840" y="2133720"/>
            <a:ext cx="10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135240" y="3357720"/>
            <a:ext cx="10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w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272680" y="458136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ar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250920" y="333360"/>
            <a:ext cx="8497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Calibri"/>
              </a:rPr>
              <a:t>将下面的句子改为祈使句，每空一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You can come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____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 can help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me ______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You can’t eat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 _____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You can’t be late for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 ____ late for 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You can’t take photo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photos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911520" y="1219320"/>
            <a:ext cx="16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Come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924480" y="2260440"/>
            <a:ext cx="26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Let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962280" y="3317760"/>
            <a:ext cx="21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n’t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886320" y="4221000"/>
            <a:ext cx="165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Don’t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877680" y="5276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5508720" y="213372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辅导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95280" y="1413000"/>
            <a:ext cx="78487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late, don't, for school, arr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music, listen to, in the classroom, don'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eat, can't, in the classroom, 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755640" y="21337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’t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rive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late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or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ho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84360" y="357336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on’t listen to music in the class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677880" y="5229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e can’t eat in the class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11280" y="549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Ⅲ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 Form sentences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组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Text Box 2"/>
          <p:cNvGrpSpPr/>
          <p:nvPr/>
        </p:nvGrpSpPr>
        <p:grpSpPr>
          <a:xfrm>
            <a:off x="530280" y="603360"/>
            <a:ext cx="8010360" cy="5730840"/>
            <a:chOff x="530280" y="603360"/>
            <a:chExt cx="8010360" cy="5730840"/>
          </a:xfrm>
        </p:grpSpPr>
        <p:pic>
          <p:nvPicPr>
            <p:cNvPr id="407" name="Text Box 2" descr=""/>
            <p:cNvPicPr/>
            <p:nvPr/>
          </p:nvPicPr>
          <p:blipFill>
            <a:blip r:embed="rId1"/>
            <a:stretch/>
          </p:blipFill>
          <p:spPr>
            <a:xfrm>
              <a:off x="530280" y="603360"/>
              <a:ext cx="8010360" cy="57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 rot="10800000">
              <a:off x="533160" y="608760"/>
              <a:ext cx="800100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Text Box 3"/>
          <p:cNvSpPr/>
          <p:nvPr/>
        </p:nvSpPr>
        <p:spPr>
          <a:xfrm>
            <a:off x="0" y="0"/>
            <a:ext cx="91440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. _______ fight with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. Not     B. No     C. Don’t     D. Does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.---_____we eat in the dining hall? ---Yes, we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. Do, does    B. Can, do   C. Do, can   D. Can, 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3. You can’t eat _____ outs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. at             B. \                 C. in          D.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4.Listen to music in hallways.(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改为否定句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     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listen to music in hall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5.Don’t arrive late for class.(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改为同义句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Don’t ______  _______ for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08000" y="458136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on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476360" y="580536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e           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12" descr="小博士"/>
          <p:cNvPicPr/>
          <p:nvPr/>
        </p:nvPicPr>
        <p:blipFill>
          <a:blip r:embed="rId2"/>
          <a:stretch/>
        </p:blipFill>
        <p:spPr>
          <a:xfrm>
            <a:off x="8001000" y="4876920"/>
            <a:ext cx="1143000" cy="1981080"/>
          </a:xfrm>
          <a:prstGeom prst="rect">
            <a:avLst/>
          </a:prstGeom>
          <a:ln w="0">
            <a:noFill/>
          </a:ln>
        </p:spPr>
      </p:pic>
      <p:sp>
        <p:nvSpPr>
          <p:cNvPr id="413" name="椭圆 1"/>
          <p:cNvSpPr/>
          <p:nvPr/>
        </p:nvSpPr>
        <p:spPr>
          <a:xfrm>
            <a:off x="2556000" y="765000"/>
            <a:ext cx="13968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12"/>
          <p:cNvSpPr/>
          <p:nvPr/>
        </p:nvSpPr>
        <p:spPr>
          <a:xfrm>
            <a:off x="1539720" y="3252960"/>
            <a:ext cx="139572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3"/>
          <p:cNvSpPr/>
          <p:nvPr/>
        </p:nvSpPr>
        <p:spPr>
          <a:xfrm>
            <a:off x="5508720" y="1989000"/>
            <a:ext cx="172728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1708200" y="249120"/>
            <a:ext cx="2592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7" name="Picture 3" descr="png-0212"/>
          <p:cNvPicPr/>
          <p:nvPr/>
        </p:nvPicPr>
        <p:blipFill>
          <a:blip r:embed="rId1"/>
          <a:stretch/>
        </p:blipFill>
        <p:spPr>
          <a:xfrm>
            <a:off x="0" y="-162000"/>
            <a:ext cx="1673280" cy="1673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hild"/>
          <p:cNvPicPr/>
          <p:nvPr/>
        </p:nvPicPr>
        <p:blipFill>
          <a:blip r:embed="rId2"/>
          <a:stretch/>
        </p:blipFill>
        <p:spPr>
          <a:xfrm>
            <a:off x="6875640" y="5372280"/>
            <a:ext cx="1730160" cy="1298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5"/>
          <p:cNvSpPr/>
          <p:nvPr/>
        </p:nvSpPr>
        <p:spPr>
          <a:xfrm>
            <a:off x="468360" y="1916280"/>
            <a:ext cx="691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rite down ten sentences abou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you can or can’t do in your hou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68360" y="4005360"/>
            <a:ext cx="4535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e can’t eat in bed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e can’t figh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WordArt 2"/>
          <p:cNvSpPr txBox="1"/>
          <p:nvPr/>
        </p:nvSpPr>
        <p:spPr>
          <a:xfrm>
            <a:off x="1619280" y="1773360"/>
            <a:ext cx="568800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ank you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4149720"/>
            <a:ext cx="1726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课堂视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3597120" y="500040"/>
            <a:ext cx="44798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you figh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, we______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000153944"/>
          <p:cNvPicPr/>
          <p:nvPr/>
        </p:nvPicPr>
        <p:blipFill>
          <a:blip r:embed="rId1"/>
          <a:stretch/>
        </p:blipFill>
        <p:spPr>
          <a:xfrm>
            <a:off x="5076720" y="2637000"/>
            <a:ext cx="3700440" cy="3789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785880" y="4232160"/>
            <a:ext cx="3930480" cy="934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on’t ______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078440" y="571680"/>
            <a:ext cx="105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862960" y="1643040"/>
            <a:ext cx="132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792520" y="428616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006720" y="307188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f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026"/>
          <p:cNvGrpSpPr/>
          <p:nvPr/>
        </p:nvGrpSpPr>
        <p:grpSpPr>
          <a:xfrm>
            <a:off x="324000" y="260280"/>
            <a:ext cx="3176280" cy="3095640"/>
            <a:chOff x="324000" y="260280"/>
            <a:chExt cx="3176280" cy="3095640"/>
          </a:xfrm>
        </p:grpSpPr>
        <p:pic>
          <p:nvPicPr>
            <p:cNvPr id="123" name="Picture 1027" descr="zx6"/>
            <p:cNvPicPr/>
            <p:nvPr/>
          </p:nvPicPr>
          <p:blipFill>
            <a:blip r:embed="rId1"/>
            <a:stretch/>
          </p:blipFill>
          <p:spPr>
            <a:xfrm>
              <a:off x="324000" y="260280"/>
              <a:ext cx="317628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028" descr="193"/>
            <p:cNvPicPr/>
            <p:nvPr/>
          </p:nvPicPr>
          <p:blipFill>
            <a:blip r:embed="rId2"/>
            <a:stretch/>
          </p:blipFill>
          <p:spPr>
            <a:xfrm>
              <a:off x="1499040" y="1557720"/>
              <a:ext cx="946800" cy="178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1029"/>
          <p:cNvSpPr/>
          <p:nvPr/>
        </p:nvSpPr>
        <p:spPr>
          <a:xfrm>
            <a:off x="1648080" y="3573360"/>
            <a:ext cx="754308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un in the hallway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in the hallway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 _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031"/>
          <p:cNvSpPr/>
          <p:nvPr/>
        </p:nvSpPr>
        <p:spPr>
          <a:xfrm>
            <a:off x="3857760" y="1459080"/>
            <a:ext cx="5178240" cy="16354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’t______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727640" y="450072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Can </a:t>
            </a:r>
            <a:r>
              <a:rPr b="1" lang="en-US" sz="4400" spc="-1" strike="noStrike">
                <a:solidFill>
                  <a:srgbClr val="3333ff"/>
                </a:solidFill>
                <a:latin typeface="Calibri"/>
              </a:rPr>
              <a:t>you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2936160" y="5357880"/>
            <a:ext cx="215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ca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375160" y="155736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run in the hallw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Oval 2056"/>
          <p:cNvSpPr/>
          <p:nvPr/>
        </p:nvSpPr>
        <p:spPr>
          <a:xfrm>
            <a:off x="6156360" y="42274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060"/>
          <p:cNvSpPr/>
          <p:nvPr/>
        </p:nvSpPr>
        <p:spPr>
          <a:xfrm>
            <a:off x="352080" y="3645000"/>
            <a:ext cx="807660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isten to music in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n you____________________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062"/>
          <p:cNvSpPr/>
          <p:nvPr/>
        </p:nvSpPr>
        <p:spPr>
          <a:xfrm>
            <a:off x="571680" y="2643120"/>
            <a:ext cx="6858000" cy="864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______in clas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590040" y="2714760"/>
            <a:ext cx="452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on’t listen to mus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42640" y="4572000"/>
            <a:ext cx="53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alibri"/>
              </a:rPr>
              <a:t>listen to music in cl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653400" y="5286240"/>
            <a:ext cx="33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alibri"/>
              </a:rPr>
              <a:t>No, we can’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6" descr="http://s6.mogujie.cn/b7/pic/120213/2a7n8_kqywq2k2krbegwkugfjeg5sckzsew_510x510.jpg_320x999.jpg"/>
          <p:cNvPicPr/>
          <p:nvPr/>
        </p:nvPicPr>
        <p:blipFill>
          <a:blip r:embed="rId1"/>
          <a:stretch/>
        </p:blipFill>
        <p:spPr>
          <a:xfrm>
            <a:off x="6191280" y="0"/>
            <a:ext cx="2952720" cy="250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05:16:19Z</dcterms:created>
  <dc:creator>Administrator</dc:creator>
  <dc:description/>
  <dc:language>en-US</dc:language>
  <cp:lastModifiedBy>user</cp:lastModifiedBy>
  <dcterms:modified xsi:type="dcterms:W3CDTF">2014-02-11T13:43:24Z</dcterms:modified>
  <cp:revision>33</cp:revision>
  <dc:subject/>
  <dc:title>PowerPoint 演示文稿</dc:title>
</cp:coreProperties>
</file>