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3.png" ContentType="image/png"/>
  <Override PartName="/ppt/media/image36.png" ContentType="image/png"/>
  <Override PartName="/ppt/media/image40.png" ContentType="image/png"/>
  <Override PartName="/ppt/media/image45.png" ContentType="image/png"/>
  <Override PartName="/ppt/media/image46.png" ContentType="image/png"/>
  <Override PartName="/ppt/media/image49.png" ContentType="image/png"/>
  <Override PartName="/ppt/media/image51.png" ContentType="image/png"/>
  <Override PartName="/ppt/media/image53.png" ContentType="image/png"/>
  <Override PartName="/ppt/media/image43.png" ContentType="image/png"/>
  <Override PartName="/ppt/media/image47.jpeg" ContentType="image/jpeg"/>
  <Override PartName="/ppt/media/image55.png" ContentType="image/png"/>
  <Override PartName="/ppt/media/image54.png" ContentType="image/png"/>
  <Override PartName="/ppt/media/image41.jpeg" ContentType="image/jpeg"/>
  <Override PartName="/ppt/media/image56.png" ContentType="image/png"/>
  <Override PartName="/ppt/media/image35.png" ContentType="image/png"/>
  <Override PartName="/ppt/media/image26.jpeg" ContentType="image/jpeg"/>
  <Override PartName="/ppt/media/image33.png" ContentType="image/png"/>
  <Override PartName="/ppt/media/image11.png" ContentType="image/png"/>
  <Override PartName="/ppt/media/image48.png" ContentType="image/png"/>
  <Override PartName="/ppt/media/image5.jpeg" ContentType="image/jpeg"/>
  <Override PartName="/ppt/media/image50.png" ContentType="image/png"/>
  <Override PartName="/ppt/media/image39.png" ContentType="image/png"/>
  <Override PartName="/ppt/media/image9.png" ContentType="image/png"/>
  <Override PartName="/ppt/media/image7.png" ContentType="image/png"/>
  <Override PartName="/ppt/media/image27.jpeg" ContentType="image/jpeg"/>
  <Override PartName="/ppt/media/image52.png" ContentType="image/png"/>
  <Override PartName="/ppt/media/image38.png" ContentType="image/png"/>
  <Override PartName="/ppt/media/image8.jpeg" ContentType="image/jpe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53AB-E335-48E4-B602-2D07C8DA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2E51-A0F4-4454-9D0E-9A778547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B660-B1C7-4BDC-BD71-AEAA8B15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F07B-A7B6-4A0F-AE39-580D9246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EF9A-3E55-4433-B9EA-A4187892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E7F8-26D8-4094-A549-D32A344D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88B0-CA0D-4FDC-8DA5-B0B35691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379E-1A52-445E-82BA-CD4A091A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D313-BAA0-4182-ADBF-F9BAAD20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8821-64EA-464E-8E98-FC71812E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E84B-743B-459B-9E82-B7B7728A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AD3-F641-4215-AC51-676D94CA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D2F6-0C9B-4A23-984F-094E8591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2BD3-AAB4-43D2-AB83-500BFA5E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A427-CA68-46E3-8264-42467A9E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B7DF-3586-4370-AE4F-C5D11F3F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3AFA-B73B-4E84-AB0A-A27DD463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7015-F3DD-454F-BF6C-D5DA5F7B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08CE-2BAB-4EEA-9D45-C8D95D51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95CC-6125-499B-9102-C024A023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D051-0372-4CAD-B2BD-63A707BC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2DC4-68A7-4751-9ABF-FCD98B97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BEE7-3E72-4FA8-813E-AFE0378D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2309-B59F-4C7F-983C-DF4DE98F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ACAA-0260-4C0C-B25A-33CA7ABB7EC4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4961-D517-4BB2-A930-955E4B6A0DA4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5.xml"/><Relationship Id="rId3" Type="http://schemas.openxmlformats.org/officeDocument/2006/relationships/slide" Target="slide3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jpe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41.jpeg"/><Relationship Id="rId16" Type="http://schemas.openxmlformats.org/officeDocument/2006/relationships/image" Target="../media/image42.jpeg"/><Relationship Id="rId1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9.png"/><Relationship Id="rId3" Type="http://schemas.openxmlformats.org/officeDocument/2006/relationships/image" Target="../media/image44.png"/><Relationship Id="rId4" Type="http://schemas.openxmlformats.org/officeDocument/2006/relationships/image" Target="../media/image28.jpeg"/><Relationship Id="rId5" Type="http://schemas.openxmlformats.org/officeDocument/2006/relationships/image" Target="../media/image45.png"/><Relationship Id="rId6" Type="http://schemas.openxmlformats.org/officeDocument/2006/relationships/image" Target="../media/image30.png"/><Relationship Id="rId7" Type="http://schemas.openxmlformats.org/officeDocument/2006/relationships/image" Target="../media/image46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47.jpeg"/><Relationship Id="rId11" Type="http://schemas.openxmlformats.org/officeDocument/2006/relationships/image" Target="../media/image33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image" Target="../media/image34.png"/><Relationship Id="rId15" Type="http://schemas.openxmlformats.org/officeDocument/2006/relationships/image" Target="../media/image50.png"/><Relationship Id="rId16" Type="http://schemas.openxmlformats.org/officeDocument/2006/relationships/image" Target="../media/image35.png"/><Relationship Id="rId1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37.jpeg"/><Relationship Id="rId3" Type="http://schemas.openxmlformats.org/officeDocument/2006/relationships/image" Target="../media/image52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36.png"/><Relationship Id="rId9" Type="http://schemas.openxmlformats.org/officeDocument/2006/relationships/image" Target="../media/image55.png"/><Relationship Id="rId10" Type="http://schemas.openxmlformats.org/officeDocument/2006/relationships/image" Target="../media/image40.png"/><Relationship Id="rId11" Type="http://schemas.openxmlformats.org/officeDocument/2006/relationships/image" Target="../media/image56.png"/><Relationship Id="rId12" Type="http://schemas.openxmlformats.org/officeDocument/2006/relationships/image" Target="../media/image41.jpeg"/><Relationship Id="rId13" Type="http://schemas.openxmlformats.org/officeDocument/2006/relationships/image" Target="../media/image57.png"/><Relationship Id="rId14" Type="http://schemas.openxmlformats.org/officeDocument/2006/relationships/image" Target="../media/image42.jpeg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659640" y="4292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55640" y="40464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第</a:t>
            </a:r>
            <a:r>
              <a:rPr b="1" lang="zh-CN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10</a:t>
            </a:r>
            <a:r>
              <a:rPr b="1" lang="zh-CN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课  苏联的改革与解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908000" y="1413000"/>
            <a:ext cx="5185080" cy="3222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58920" y="5084640"/>
            <a:ext cx="66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蒋国兴   邱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江苏省无锡市大桥实验中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12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201080" cy="540072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4263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7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68360" y="476280"/>
            <a:ext cx="8331120" cy="5432400"/>
            <a:chOff x="468360" y="476280"/>
            <a:chExt cx="8331120" cy="543240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4859280" y="476280"/>
              <a:ext cx="3940200" cy="543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468360" y="476280"/>
              <a:ext cx="4278240" cy="5419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68360" y="476280"/>
            <a:ext cx="8331120" cy="5432400"/>
            <a:chOff x="468360" y="476280"/>
            <a:chExt cx="8331120" cy="543240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4859280" y="476280"/>
              <a:ext cx="3940200" cy="543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468360" y="476280"/>
              <a:ext cx="4278240" cy="541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68360" y="297000"/>
            <a:ext cx="82072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11280" y="9079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苏联的解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184464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戈尔巴乔夫改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8720" y="279864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“八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·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九”事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386064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《阿拉木图宣言》的签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hoto">
            <a:hlinkClick r:id="rId1" action="ppaction://hlinksldjump"/>
          </p:cNvPr>
          <p:cNvSpPr/>
          <p:nvPr/>
        </p:nvSpPr>
        <p:spPr>
          <a:xfrm>
            <a:off x="7524720" y="1989000"/>
            <a:ext cx="504720" cy="4255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hoto">
            <a:hlinkClick r:id="rId2" action="ppaction://hlinksldjump"/>
          </p:cNvPr>
          <p:cNvSpPr/>
          <p:nvPr/>
        </p:nvSpPr>
        <p:spPr>
          <a:xfrm>
            <a:off x="7524720" y="2924280"/>
            <a:ext cx="504720" cy="4255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hoto">
            <a:hlinkClick r:id="rId3" action="ppaction://hlinksldjump"/>
          </p:cNvPr>
          <p:cNvSpPr/>
          <p:nvPr/>
        </p:nvSpPr>
        <p:spPr>
          <a:xfrm>
            <a:off x="7524720" y="4005360"/>
            <a:ext cx="504720" cy="4255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lastslide"/>
          </p:cNvPr>
          <p:cNvSpPr/>
          <p:nvPr/>
        </p:nvSpPr>
        <p:spPr>
          <a:xfrm>
            <a:off x="8028000" y="6381720"/>
            <a:ext cx="1116000" cy="476280"/>
          </a:xfrm>
          <a:custGeom>
            <a:avLst/>
            <a:gdLst>
              <a:gd name="textAreaLeft" fmla="*/ 30600 w 1116000"/>
              <a:gd name="textAreaRight" fmla="*/ 1085400 w 111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50590" h="21600">
                <a:moveTo>
                  <a:pt x="0" y="0"/>
                </a:moveTo>
                <a:lnTo>
                  <a:pt x="50590" y="0"/>
                </a:lnTo>
                <a:lnTo>
                  <a:pt x="50590" y="21600"/>
                </a:lnTo>
                <a:lnTo>
                  <a:pt x="0" y="21600"/>
                </a:lnTo>
                <a:close/>
              </a:path>
              <a:path fill="lightenLess" w="50590" h="21600">
                <a:moveTo>
                  <a:pt x="0" y="0"/>
                </a:moveTo>
                <a:lnTo>
                  <a:pt x="50590" y="0"/>
                </a:lnTo>
                <a:lnTo>
                  <a:pt x="49190" y="1400"/>
                </a:lnTo>
                <a:lnTo>
                  <a:pt x="1400" y="1400"/>
                </a:lnTo>
                <a:close/>
              </a:path>
              <a:path fill="darken" w="50590" h="21600">
                <a:moveTo>
                  <a:pt x="50590" y="0"/>
                </a:moveTo>
                <a:lnTo>
                  <a:pt x="50590" y="21600"/>
                </a:lnTo>
                <a:lnTo>
                  <a:pt x="49190" y="20200"/>
                </a:lnTo>
                <a:lnTo>
                  <a:pt x="49190" y="1400"/>
                </a:lnTo>
                <a:close/>
              </a:path>
              <a:path fill="darkenLess" w="50590" h="21600">
                <a:moveTo>
                  <a:pt x="50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90" y="20200"/>
                </a:lnTo>
                <a:close/>
              </a:path>
              <a:path fill="lighten" w="50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讨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00000" y="549360"/>
            <a:ext cx="7472520" cy="5553000"/>
            <a:chOff x="900000" y="549360"/>
            <a:chExt cx="7472520" cy="555300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900000" y="549360"/>
              <a:ext cx="3151440" cy="49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900000" y="5734080"/>
              <a:ext cx="30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33"/>
                  </a:solidFill>
                  <a:latin typeface="Arial"/>
                </a:rPr>
                <a:t>安德罗波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4500720" y="549360"/>
              <a:ext cx="3871800" cy="49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076720" y="5734080"/>
              <a:ext cx="30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33"/>
                  </a:solidFill>
                  <a:latin typeface="Arial"/>
                </a:rPr>
                <a:t>契尔年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014560" y="333360"/>
            <a:ext cx="46450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065320" y="189000"/>
            <a:ext cx="44514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280360" cy="6210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065320" y="189000"/>
            <a:ext cx="4451400" cy="6192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8280360" cy="62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28036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26920" y="140976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赫鲁晓夫改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2920" y="234324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斯大林逝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32781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赫鲁晓夫改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42894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勃列日涅夫改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6372360" y="3429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hoto">
            <a:hlinkClick r:id="rId2" action="ppaction://hlinksldjump"/>
          </p:cNvPr>
          <p:cNvSpPr/>
          <p:nvPr/>
        </p:nvSpPr>
        <p:spPr>
          <a:xfrm>
            <a:off x="5362560" y="3435480"/>
            <a:ext cx="504720" cy="4251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hoto">
            <a:hlinkClick r:id="rId3" action="ppaction://hlinksldjump"/>
          </p:cNvPr>
          <p:cNvSpPr/>
          <p:nvPr/>
        </p:nvSpPr>
        <p:spPr>
          <a:xfrm>
            <a:off x="5362560" y="2421000"/>
            <a:ext cx="504720" cy="4255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hoto">
            <a:hlinkClick r:id="rId4" action="ppaction://hlinksldjump"/>
          </p:cNvPr>
          <p:cNvSpPr/>
          <p:nvPr/>
        </p:nvSpPr>
        <p:spPr>
          <a:xfrm>
            <a:off x="5364000" y="4363920"/>
            <a:ext cx="505080" cy="4255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5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280360" cy="6210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065320" y="189000"/>
            <a:ext cx="4451400" cy="6192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8280360" cy="6216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95280" y="189000"/>
            <a:ext cx="8280360" cy="6219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395280" y="18900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9930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39640" y="574560"/>
            <a:ext cx="7848720" cy="5894280"/>
            <a:chOff x="539640" y="574560"/>
            <a:chExt cx="7848720" cy="589428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1836720" y="574560"/>
              <a:ext cx="5040360" cy="501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39640" y="582624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33"/>
                  </a:solidFill>
                  <a:latin typeface="Arial"/>
                </a:rPr>
                <a:t>１９９１年１２月２５日１９时４０分，苏联总统戈尔巴乔夫在国家电视台发表声明说，由于当前国内的形势和独立国家联合体的建立，他决定停止在苏联总统职位上的活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60360" y="1068480"/>
            <a:ext cx="669636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8" dur="3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3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260360" y="1068480"/>
            <a:ext cx="6696360" cy="4160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836640"/>
            <a:ext cx="66978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3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3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13664" t="50016" r="37258" b="7520"/>
          <a:stretch/>
        </p:blipFill>
        <p:spPr>
          <a:xfrm>
            <a:off x="1863720" y="44280"/>
            <a:ext cx="5516640" cy="674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rcRect l="2003" t="1865" r="2752" b="6522"/>
          <a:stretch/>
        </p:blipFill>
        <p:spPr>
          <a:xfrm>
            <a:off x="533520" y="0"/>
            <a:ext cx="807696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133720" y="3614760"/>
            <a:ext cx="1600200" cy="10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438280" y="2057400"/>
            <a:ext cx="1000080" cy="1047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962520" y="2057400"/>
            <a:ext cx="1123920" cy="1047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7207200" y="5191200"/>
            <a:ext cx="1066680" cy="1057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7238880" y="3581280"/>
            <a:ext cx="960480" cy="112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5562720" y="2001960"/>
            <a:ext cx="1143000" cy="1122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4038480" y="3505320"/>
            <a:ext cx="992160" cy="1199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9"/>
          <a:stretch/>
        </p:blipFill>
        <p:spPr>
          <a:xfrm>
            <a:off x="5638680" y="3505320"/>
            <a:ext cx="1024200" cy="1218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0"/>
          <a:stretch/>
        </p:blipFill>
        <p:spPr>
          <a:xfrm>
            <a:off x="4038480" y="5114880"/>
            <a:ext cx="1143000" cy="1133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1"/>
          <a:stretch/>
        </p:blipFill>
        <p:spPr>
          <a:xfrm>
            <a:off x="2362320" y="5105520"/>
            <a:ext cx="1218960" cy="1204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2"/>
          <a:stretch/>
        </p:blipFill>
        <p:spPr>
          <a:xfrm>
            <a:off x="5486400" y="51055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3"/>
          <a:stretch/>
        </p:blipFill>
        <p:spPr>
          <a:xfrm>
            <a:off x="762120" y="2058840"/>
            <a:ext cx="1143000" cy="10652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4"/>
          <a:stretch/>
        </p:blipFill>
        <p:spPr>
          <a:xfrm>
            <a:off x="7162920" y="2057400"/>
            <a:ext cx="1112760" cy="1133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5"/>
          <a:stretch/>
        </p:blipFill>
        <p:spPr>
          <a:xfrm>
            <a:off x="838080" y="35812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6"/>
          <a:stretch/>
        </p:blipFill>
        <p:spPr>
          <a:xfrm>
            <a:off x="822240" y="51055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33520" y="0"/>
            <a:ext cx="8076960" cy="1905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57960" y="4664160"/>
            <a:ext cx="1447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摩尔多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66996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加盟共和国独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571760" cy="10476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447920" y="1447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拉脱维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209680" y="2057400"/>
            <a:ext cx="1000080" cy="10476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371600" y="3276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阿塞拜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80880" y="2057400"/>
            <a:ext cx="1571760" cy="10476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2133720" y="228600"/>
            <a:ext cx="1600200" cy="10335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380880" y="3809880"/>
            <a:ext cx="1571760" cy="10479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2209680" y="3809880"/>
            <a:ext cx="1123920" cy="1047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371600" y="5029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爱沙尼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380880" y="5562720"/>
            <a:ext cx="1600200" cy="7999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505320" y="5410080"/>
            <a:ext cx="43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俄罗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8"/>
          <a:stretch/>
        </p:blipFill>
        <p:spPr>
          <a:xfrm>
            <a:off x="2362320" y="5410080"/>
            <a:ext cx="969840" cy="960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9"/>
          <a:stretch/>
        </p:blipFill>
        <p:spPr>
          <a:xfrm>
            <a:off x="6553080" y="228600"/>
            <a:ext cx="895320" cy="10476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562720" y="1447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俄罗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0"/>
          <a:stretch/>
        </p:blipFill>
        <p:spPr>
          <a:xfrm>
            <a:off x="4876920" y="38088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1"/>
          <a:stretch/>
        </p:blipFill>
        <p:spPr>
          <a:xfrm>
            <a:off x="6400800" y="1981080"/>
            <a:ext cx="914400" cy="8985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2"/>
          <a:stretch/>
        </p:blipFill>
        <p:spPr>
          <a:xfrm>
            <a:off x="4876920" y="1981080"/>
            <a:ext cx="1218960" cy="812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543800" y="2286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格鲁吉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3"/>
          <a:stretch/>
        </p:blipFill>
        <p:spPr>
          <a:xfrm>
            <a:off x="4800600" y="3581280"/>
            <a:ext cx="1219320" cy="8128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4"/>
          <a:stretch/>
        </p:blipFill>
        <p:spPr>
          <a:xfrm>
            <a:off x="6477120" y="3581280"/>
            <a:ext cx="630000" cy="7621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620120" y="3809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立陶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5"/>
          <a:stretch/>
        </p:blipFill>
        <p:spPr>
          <a:xfrm>
            <a:off x="4876920" y="5003640"/>
            <a:ext cx="1266840" cy="844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6"/>
          <a:stretch/>
        </p:blipFill>
        <p:spPr>
          <a:xfrm>
            <a:off x="6400800" y="4952880"/>
            <a:ext cx="703440" cy="838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543800" y="5410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摩尔多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218960" cy="8125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752480" y="304920"/>
            <a:ext cx="838440" cy="828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743200" y="533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土库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304920" y="1371600"/>
            <a:ext cx="1600200" cy="800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2057400" y="1371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200400" y="1600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乌兹别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2133720" y="2438280"/>
            <a:ext cx="838080" cy="781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380880" y="2362320"/>
            <a:ext cx="1295640" cy="863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200400" y="2590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亚美尼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533520" y="3429000"/>
            <a:ext cx="1218960" cy="8128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2209680" y="3581280"/>
            <a:ext cx="600120" cy="5954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352680" y="3657600"/>
            <a:ext cx="10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乌克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9"/>
          <a:stretch/>
        </p:blipFill>
        <p:spPr>
          <a:xfrm>
            <a:off x="4572000" y="2590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0"/>
          <a:stretch/>
        </p:blipFill>
        <p:spPr>
          <a:xfrm>
            <a:off x="6553080" y="2590920"/>
            <a:ext cx="822600" cy="8380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7620120" y="2895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哈萨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1"/>
          <a:stretch/>
        </p:blipFill>
        <p:spPr>
          <a:xfrm>
            <a:off x="4876920" y="5105520"/>
            <a:ext cx="1523880" cy="909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2"/>
          <a:stretch/>
        </p:blipFill>
        <p:spPr>
          <a:xfrm>
            <a:off x="6477120" y="50292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7620120" y="5486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吉尔吉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3"/>
          <a:stretch/>
        </p:blipFill>
        <p:spPr>
          <a:xfrm>
            <a:off x="457200" y="5029200"/>
            <a:ext cx="1828800" cy="914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4"/>
          <a:stretch/>
        </p:blipFill>
        <p:spPr>
          <a:xfrm>
            <a:off x="2514600" y="48006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809880" y="5334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塔吉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5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09480" y="60948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cc0000"/>
                </a:solidFill>
                <a:latin typeface="Arial"/>
              </a:rPr>
              <a:t>思考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213372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b812f"/>
                </a:solidFill>
                <a:latin typeface="华文行楷"/>
                <a:ea typeface="华文行楷"/>
              </a:rPr>
              <a:t>        </a:t>
            </a:r>
            <a:r>
              <a:rPr b="0" lang="zh-CN" sz="6000" spc="-1" strike="noStrike">
                <a:solidFill>
                  <a:srgbClr val="3b812f"/>
                </a:solidFill>
                <a:latin typeface="华文行楷"/>
                <a:ea typeface="华文行楷"/>
              </a:rPr>
              <a:t>为什么中国和苏联的改革会导致不同的结果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71640" y="907920"/>
            <a:ext cx="3557880" cy="482472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468360" y="189000"/>
            <a:ext cx="8351640" cy="6416280"/>
            <a:chOff x="468360" y="189000"/>
            <a:chExt cx="8351640" cy="641628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682560" y="189000"/>
              <a:ext cx="7921800" cy="59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68360" y="6237000"/>
              <a:ext cx="83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33"/>
                  </a:solidFill>
                  <a:latin typeface="Arial"/>
                </a:rPr>
                <a:t>1953</a:t>
              </a:r>
              <a:r>
                <a:rPr b="1" lang="zh-CN" sz="1800" spc="-1" strike="noStrike">
                  <a:solidFill>
                    <a:srgbClr val="006633"/>
                  </a:solidFill>
                  <a:latin typeface="Arial"/>
                </a:rPr>
                <a:t>年</a:t>
              </a:r>
              <a:r>
                <a:rPr b="1" lang="zh-CN" sz="1800" spc="-1" strike="noStrike">
                  <a:solidFill>
                    <a:srgbClr val="006633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006633"/>
                  </a:solidFill>
                  <a:latin typeface="Arial"/>
                </a:rPr>
                <a:t>月</a:t>
              </a:r>
              <a:r>
                <a:rPr b="1" lang="zh-CN" sz="1800" spc="-1" strike="noStrike">
                  <a:solidFill>
                    <a:srgbClr val="006633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006633"/>
                  </a:solidFill>
                  <a:latin typeface="Arial"/>
                </a:rPr>
                <a:t>日，斯大林突患脑溢血逝世，终年</a:t>
              </a:r>
              <a:r>
                <a:rPr b="1" lang="zh-CN" sz="1800" spc="-1" strike="noStrike">
                  <a:solidFill>
                    <a:srgbClr val="006633"/>
                  </a:solidFill>
                  <a:latin typeface="Arial"/>
                </a:rPr>
                <a:t>74</a:t>
              </a:r>
              <a:r>
                <a:rPr b="1" lang="zh-CN" sz="1800" spc="-1" strike="noStrike">
                  <a:solidFill>
                    <a:srgbClr val="006633"/>
                  </a:solidFill>
                  <a:latin typeface="Arial"/>
                </a:rPr>
                <a:t>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539640" y="0"/>
            <a:ext cx="8424720" cy="6072120"/>
            <a:chOff x="539640" y="0"/>
            <a:chExt cx="8424720" cy="607212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610920" y="0"/>
              <a:ext cx="835344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39640" y="5703840"/>
              <a:ext cx="835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33"/>
                  </a:solidFill>
                  <a:latin typeface="Arial"/>
                </a:rPr>
                <a:t>斯大林逝世，苏联高层送葬，包括赫鲁晓夫和中国总理周恩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413080" y="476280"/>
            <a:ext cx="36716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13080" y="476280"/>
            <a:ext cx="3671640" cy="5545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971640" y="333360"/>
            <a:ext cx="756108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413080" y="476280"/>
            <a:ext cx="3671640" cy="5545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971640" y="333360"/>
            <a:ext cx="7561080" cy="567072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971640" y="333360"/>
            <a:ext cx="6408720" cy="6343560"/>
            <a:chOff x="971640" y="333360"/>
            <a:chExt cx="6408720" cy="6343560"/>
          </a:xfrm>
        </p:grpSpPr>
        <p:pic>
          <p:nvPicPr>
            <p:cNvPr id="116" name="" descr=""/>
            <p:cNvPicPr/>
            <p:nvPr/>
          </p:nvPicPr>
          <p:blipFill>
            <a:blip r:embed="rId4"/>
            <a:stretch/>
          </p:blipFill>
          <p:spPr>
            <a:xfrm>
              <a:off x="1908000" y="333360"/>
              <a:ext cx="4780080" cy="575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971640" y="6308640"/>
              <a:ext cx="640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33"/>
                  </a:solidFill>
                  <a:latin typeface="Arial"/>
                </a:rPr>
                <a:t>赫鲁晓夫与尼克松的“厨房辩论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71640" y="476280"/>
            <a:ext cx="7200720" cy="6129000"/>
            <a:chOff x="971640" y="476280"/>
            <a:chExt cx="7200720" cy="61290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971640" y="476280"/>
              <a:ext cx="7200720" cy="57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042920" y="6237000"/>
              <a:ext cx="712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33"/>
                  </a:solidFill>
                  <a:latin typeface="Arial"/>
                </a:rPr>
                <a:t>赫鲁晓夫尼克松“大斗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11280" y="333360"/>
            <a:ext cx="7704000" cy="6201000"/>
            <a:chOff x="611280" y="333360"/>
            <a:chExt cx="7704000" cy="620100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611280" y="333360"/>
              <a:ext cx="7704000" cy="557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82560" y="6166080"/>
              <a:ext cx="756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33"/>
                  </a:solidFill>
                  <a:latin typeface="Arial"/>
                </a:rPr>
                <a:t>赫鲁晓夫在联合国的“皮鞋”发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02:30:50Z</dcterms:created>
  <dc:creator>qiuliang</dc:creator>
  <dc:description/>
  <dc:language>en-US</dc:language>
  <cp:lastModifiedBy>ip-zhujf</cp:lastModifiedBy>
  <dcterms:modified xsi:type="dcterms:W3CDTF">2006-04-04T07:18:11Z</dcterms:modified>
  <cp:revision>13</cp:revision>
  <dc:subject/>
  <dc:title>幻灯片 1</dc:title>
</cp:coreProperties>
</file>