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driveby.wav" ContentType="audio/x-wav"/>
  <Override PartName="/ppt/media/image19.png" ContentType="image/png"/>
  <Override PartName="/ppt/media/image4.jpeg" ContentType="image/jpeg"/>
  <Override PartName="/ppt/media/image18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427-B355-4128-85C9-DFBE1A9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B14-F69C-402F-98FB-4A11D391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E03-6EE6-43C3-9341-7A374613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99E-D62F-4E13-88D0-4C438D4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00E-D6F2-4C2A-A323-5836E01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030-1D6C-4CCE-87C9-F1D3F5C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435-B5F2-4AC9-A245-22FEE7A0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A98-AA5B-4621-9899-F0E592B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241-4997-4910-8280-BC5CBDA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62D-CB81-4981-BB1C-07073D3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23E-D04C-4AD5-8CF1-9E86CC9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14D-482C-4924-A02E-203DDA6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6917-3A39-4577-94A5-18FD19115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driveby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Polar+bears&amp;in=11707&amp;cl=2&amp;cm=1&amp;sc=0&amp;lm=-1&amp;pn=3&amp;rn=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cheetahs&amp;in=7453&amp;cl=2&amp;cm=1&amp;sc=0&amp;lm=-1&amp;pn=5&amp;rn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elephants&amp;in=3012&amp;cl=2&amp;cm=1&amp;sc=0&amp;lm=-1&amp;pn=25&amp;rn=1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83664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Monotype Corsiva"/>
              </a:rPr>
              <a:t>Unit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2720" y="4191120"/>
            <a:ext cx="38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ection A   period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2286000"/>
            <a:ext cx="74772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We're trying to save the manatee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3887640" cy="309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81760" y="522936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anatee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6480" y="2014560"/>
            <a:ext cx="21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gen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285264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Monotype Corsiva"/>
              </a:rPr>
              <a:t>g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371628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Monotype Corsiva"/>
              </a:rPr>
              <a:t>s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836640"/>
            <a:ext cx="756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5943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1628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angaroo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3357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play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292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c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4102200" cy="309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765000"/>
            <a:ext cx="756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66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19640" y="0"/>
            <a:ext cx="3024360" cy="198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1989000"/>
            <a:ext cx="287964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059280" y="198900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156360" y="1916280"/>
            <a:ext cx="2987640" cy="195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80988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air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favorite anima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rican elephant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angaroos…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What do you think of</a:t>
            </a:r>
            <a:r>
              <a:rPr b="0" lang="zh-CN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:They are enormous/playful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421000"/>
            <a:ext cx="7948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zh-CN" sz="5400" spc="-1" strike="noStrike">
                <a:solidFill>
                  <a:srgbClr val="cc3300"/>
                </a:solidFill>
                <a:latin typeface="Comic Sans MS"/>
              </a:rPr>
              <a:t>Hi, bab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3300"/>
                </a:solidFill>
                <a:latin typeface="Comic Sans MS"/>
              </a:rPr>
              <a:t>Let’s listen carefully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17800" y="1268280"/>
            <a:ext cx="7722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1268280"/>
            <a:ext cx="439272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sten and cir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32720" y="260280"/>
            <a:ext cx="19717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心倾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sh dir="l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d3413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4000" y="404280"/>
            <a:ext cx="3671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b List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205000"/>
            <a:ext cx="7058160" cy="360036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ntle  furry  enormo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ful  noisy  s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ggressive  gray  fast  spot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068640"/>
            <a:ext cx="1441440" cy="649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3068640"/>
            <a:ext cx="1296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508640"/>
            <a:ext cx="201600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789360"/>
            <a:ext cx="115236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4508640"/>
            <a:ext cx="122400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457880"/>
            <a:ext cx="107964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508640"/>
            <a:ext cx="172872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13080" y="2638440"/>
            <a:ext cx="4680000" cy="3598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19280" y="477720"/>
            <a:ext cx="3709800" cy="3313080"/>
          </a:xfrm>
          <a:prstGeom prst="wedgeRoundRectCallout">
            <a:avLst>
              <a:gd name="adj1" fmla="val 39643"/>
              <a:gd name="adj2" fmla="val 46500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 am like this animal because I am strong and intelligent. I like water and I like to eat vegetabl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198440"/>
            <a:ext cx="3168720" cy="1152720"/>
          </a:xfrm>
          <a:prstGeom prst="wedgeRoundRectCallout">
            <a:avLst>
              <a:gd name="adj1" fmla="val -35773"/>
              <a:gd name="adj2" fmla="val 106611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’re like an elepha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8720" y="4222800"/>
            <a:ext cx="1871640" cy="720720"/>
          </a:xfrm>
          <a:prstGeom prst="wedgeRoundRectCallout">
            <a:avLst>
              <a:gd name="adj1" fmla="val 87236"/>
              <a:gd name="adj2" fmla="val -96916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68360" y="2205000"/>
            <a:ext cx="4680000" cy="359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64000" y="981000"/>
            <a:ext cx="3168720" cy="1224000"/>
          </a:xfrm>
          <a:prstGeom prst="wedgeRoundRectCallout">
            <a:avLst>
              <a:gd name="adj1" fmla="val -37976"/>
              <a:gd name="adj2" fmla="val 73217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’re lik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t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486080"/>
            <a:ext cx="1224000" cy="792000"/>
          </a:xfrm>
          <a:prstGeom prst="wedgeRoundRectCallout">
            <a:avLst>
              <a:gd name="adj1" fmla="val 159986"/>
              <a:gd name="adj2" fmla="val 184467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760" y="4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like this animal because I am strong and intelli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90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4680" y="62064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介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意思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800" y="1268280"/>
            <a:ext cx="63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e like=look like=be similar t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像，看起来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00960" y="184464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like his fat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像他的父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2421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He looks like his f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99736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He is similar to his fath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0280"/>
            <a:ext cx="546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可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，表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喜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ike sth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喜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ike doing /to do sth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喜欢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" y="494172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likes his father very much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544500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likes playing volley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602136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 like to play the pin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完成任务所需要的语言结构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I am like this animal because I am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I like …. and I like to 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You are like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7800" y="692280"/>
            <a:ext cx="74448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6680" y="692280"/>
            <a:ext cx="435204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sten and m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560" y="184464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endang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" y="2708280"/>
            <a:ext cx="25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mangr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93372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79736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. aqu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9400" y="1844640"/>
            <a:ext cx="52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place where some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19080" y="2749680"/>
            <a:ext cx="492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there aren’t very man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0880" y="3900600"/>
            <a:ext cx="44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. underwater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g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160" y="4941720"/>
            <a:ext cx="53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. a place where trees grow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205000"/>
            <a:ext cx="72072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3284640"/>
            <a:ext cx="122400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95640" y="2276280"/>
            <a:ext cx="151272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40000" y="4149360"/>
            <a:ext cx="136836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5238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371600"/>
            <a:ext cx="78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 语言目标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bate an issue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 重点词汇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ave  gentle  furry  enormous  playful  nois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ggressive  gray  spotted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 关键句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’re trying to save the manatees!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am like this animal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y’re about 10 feet long and they weigh about 1, 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ounds.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don’t think so.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disagree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3080" y="549360"/>
            <a:ext cx="7722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9240" y="549360"/>
            <a:ext cx="73663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 again. Complete the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84280"/>
          <a:ext cx="8280360" cy="5200560"/>
        </p:xfrm>
        <a:graphic>
          <a:graphicData uri="http://schemas.openxmlformats.org/drawingml/2006/table">
            <a:tbl>
              <a:tblPr/>
              <a:tblGrid>
                <a:gridCol w="2636640"/>
                <a:gridCol w="564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 of 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na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______ 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n the U.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______________________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 why they are endang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ome of swamps have beco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_______, there sometimes isn’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_____________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arge, _________ long 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________________  pou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3124080" y="22096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357720"/>
            <a:ext cx="52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4357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l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2781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unde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90320" y="481500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oug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54864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485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9220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6019920"/>
            <a:ext cx="23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s 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3440" y="549360"/>
            <a:ext cx="74448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8160" y="620640"/>
            <a:ext cx="22381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r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1197000"/>
            <a:ext cx="6985080" cy="489744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800" y="1989000"/>
            <a:ext cx="599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: How big are manate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hey’re about 10 feet lo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y weigh about 1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1436760" cy="121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3527640" cy="2809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50920" y="189000"/>
            <a:ext cx="41749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Make a poster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38480"/>
            <a:ext cx="86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413"/>
                </a:solidFill>
                <a:latin typeface="Comic Sans MS"/>
              </a:rPr>
              <a:t>There are some animals are endangered. Class let do something to protect the animals and the environment!                Please make a poster and think of what we can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1268280"/>
            <a:ext cx="432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Save the earth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Save the animals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40464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用动词的适当形式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We’re trying _______(save) the manate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Manatees ____(eat) about 100 pounds of food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There used to_____( be) a lot of manat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In 1972, it _______________ (discover) that they were endange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Some of the swamps have become      __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poll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8760" y="94464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 s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20960" y="20574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360" y="3154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422100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as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600" y="5791320"/>
            <a:ext cx="16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oll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762120"/>
            <a:ext cx="6842160" cy="5472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00200"/>
            <a:ext cx="1008360" cy="865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635280" y="1773360"/>
            <a:ext cx="253692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74320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Copy the new wor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remember th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Read the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s of 1b, 2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Read Grammar Foc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43280" y="2276640"/>
            <a:ext cx="283824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Thank you 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2720" y="333360"/>
            <a:ext cx="763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imals are man’s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2570040"/>
            <a:ext cx="5761080" cy="407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35280" y="2349360"/>
            <a:ext cx="5184720" cy="449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670280" cy="401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971640" y="2451240"/>
            <a:ext cx="6912000" cy="414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835280" y="234936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647712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0"/>
            <a:ext cx="6629400" cy="2362320"/>
          </a:xfrm>
          <a:prstGeom prst="cloudCallout">
            <a:avLst>
              <a:gd name="adj1" fmla="val -13291"/>
              <a:gd name="adj2" fmla="val 101476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Comic Sans MS"/>
                <a:ea typeface="幼圆"/>
              </a:rPr>
              <a:t>Let’s go to the zo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836640"/>
            <a:ext cx="6480360" cy="720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33cc33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nimals can you see in the z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762120"/>
            <a:ext cx="7632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367200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7800" y="177336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impanzee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85264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fur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371628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play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450864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nois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7340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  <a:ea typeface="华文彩云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357440" y="501336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lar bear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42100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fur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3284640"/>
            <a:ext cx="266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Monotype Corsiva"/>
              </a:rPr>
              <a:t>aggres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762120"/>
            <a:ext cx="7704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916280"/>
            <a:ext cx="4132440" cy="302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95640" y="566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8160" y="465300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eetah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13372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spot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299736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Monotype Corsiva"/>
              </a:rPr>
              <a:t>f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386064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aggres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692280"/>
            <a:ext cx="755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773360"/>
            <a:ext cx="3240360" cy="28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5373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119700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ephant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141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enorm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076640"/>
            <a:ext cx="18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ge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"/>
            <a:ext cx="755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What do you think of th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708280"/>
            <a:ext cx="3889440" cy="309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14800" y="5867280"/>
            <a:ext cx="41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7:53:18Z</dcterms:created>
  <dc:creator> </dc:creator>
  <dc:description> </dc:description>
  <dc:language>en-US</dc:language>
  <cp:lastModifiedBy>微软用户</cp:lastModifiedBy>
  <dcterms:modified xsi:type="dcterms:W3CDTF">2013-06-04T18:13:10Z</dcterms:modified>
  <cp:revision>0</cp:revision>
  <dc:subject> </dc:subject>
  <dc:title> </dc:title>
</cp:coreProperties>
</file>