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D47-072B-436C-BCD1-158EB2D8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44D-E1DB-4FA6-A30B-9F53043E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1F7-1886-4B02-9528-86CF5DEA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75C-C5D6-4212-90D7-90A4CE0E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C3B-2B7A-4C33-A23B-208CDBB0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31B-4DFC-4760-AFE4-B19DE825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C58-6740-4692-AD26-9910C1C5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FEB-A2B9-43E9-9D63-2A7EEBF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E88-4FBC-454B-941B-3DE9BE9E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DB5-CE11-4A3D-B288-D09AC289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C4C-D918-424F-BD8E-B4DA56A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BD3-01A5-4897-B209-6AA869F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E1EE-6E53-4AA8-9CF9-EBAA3FEBD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2492280"/>
            <a:ext cx="312408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黑体"/>
              </a:rPr>
              <a:t>新目标 九年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黑体"/>
              </a:rPr>
              <a:t>Unit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5640" y="3398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is? And how to describe i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681960" cy="445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95640" y="573408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gressive, fun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55640" y="620280"/>
            <a:ext cx="3672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b List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844640"/>
            <a:ext cx="7058160" cy="3600360"/>
          </a:xfrm>
          <a:prstGeom prst="rect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ntle  furry  enormo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ful  noisy  s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ggressive  gray  fast  spot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2708280"/>
            <a:ext cx="1441800" cy="649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2708280"/>
            <a:ext cx="129708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4148280"/>
            <a:ext cx="201636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3429000"/>
            <a:ext cx="115272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148280"/>
            <a:ext cx="122400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5080" y="4097160"/>
            <a:ext cx="107928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4148280"/>
            <a:ext cx="1728720" cy="57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7468" t="0" r="272" b="0"/>
          <a:stretch/>
        </p:blipFill>
        <p:spPr>
          <a:xfrm>
            <a:off x="6012000" y="2924280"/>
            <a:ext cx="2665440" cy="352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03640" y="2924280"/>
            <a:ext cx="2663640" cy="3529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476280"/>
            <a:ext cx="3710160" cy="3313080"/>
          </a:xfrm>
          <a:prstGeom prst="wedgeRoundRectCallout">
            <a:avLst>
              <a:gd name="adj1" fmla="val 39902"/>
              <a:gd name="adj2" fmla="val 53018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 am like this animal because I am strong and intelligent. I like water and I like to eat vegetabl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197000"/>
            <a:ext cx="3168360" cy="1152360"/>
          </a:xfrm>
          <a:prstGeom prst="wedgeRoundRectCallout">
            <a:avLst>
              <a:gd name="adj1" fmla="val -24550"/>
              <a:gd name="adj2" fmla="val 127824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ou’re like an elepha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8720" y="4222800"/>
            <a:ext cx="1871640" cy="720720"/>
          </a:xfrm>
          <a:prstGeom prst="wedgeRoundRectCallout">
            <a:avLst>
              <a:gd name="adj1" fmla="val 84944"/>
              <a:gd name="adj2" fmla="val -57268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24360" y="692280"/>
            <a:ext cx="3168720" cy="1224000"/>
          </a:xfrm>
          <a:prstGeom prst="wedgeRoundRectCallout">
            <a:avLst>
              <a:gd name="adj1" fmla="val -24550"/>
              <a:gd name="adj2" fmla="val 104995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’re lik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t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68280"/>
            <a:ext cx="1224000" cy="792360"/>
          </a:xfrm>
          <a:prstGeom prst="wedgeRoundRectCallout">
            <a:avLst>
              <a:gd name="adj1" fmla="val 50388"/>
              <a:gd name="adj2" fmla="val 148796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2663640" cy="352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7468" t="0" r="272" b="0"/>
          <a:stretch/>
        </p:blipFill>
        <p:spPr>
          <a:xfrm>
            <a:off x="5219640" y="2565360"/>
            <a:ext cx="2665440" cy="3529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7468" t="0" r="272" b="0"/>
          <a:stretch/>
        </p:blipFill>
        <p:spPr>
          <a:xfrm>
            <a:off x="3995640" y="2924280"/>
            <a:ext cx="266544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266364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64000" y="189000"/>
            <a:ext cx="3384720" cy="2881080"/>
          </a:xfrm>
          <a:prstGeom prst="wedgeRoundRectCallout">
            <a:avLst>
              <a:gd name="adj1" fmla="val -28703"/>
              <a:gd name="adj2" fmla="val 63555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 am like this animal because I am lovely and playful. I like to eat bambo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268280"/>
            <a:ext cx="2808360" cy="1297080"/>
          </a:xfrm>
          <a:prstGeom prst="wedgeRoundRectCallout">
            <a:avLst>
              <a:gd name="adj1" fmla="val 27050"/>
              <a:gd name="adj2" fmla="val 96268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ou’re like a pand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20000" y="549360"/>
            <a:ext cx="1224000" cy="792000"/>
          </a:xfrm>
          <a:prstGeom prst="wedgeRoundRectCallout">
            <a:avLst>
              <a:gd name="adj1" fmla="val -71662"/>
              <a:gd name="adj2" fmla="val 140379"/>
              <a:gd name="adj3" fmla="val 1666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266400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7468" t="0" r="272" b="0"/>
          <a:stretch/>
        </p:blipFill>
        <p:spPr>
          <a:xfrm>
            <a:off x="4788000" y="1989000"/>
            <a:ext cx="2665440" cy="3529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771640" y="259920"/>
            <a:ext cx="36007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a 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484280"/>
          <a:ext cx="8353440" cy="4815000"/>
        </p:xfrm>
        <a:graphic>
          <a:graphicData uri="http://schemas.openxmlformats.org/drawingml/2006/table">
            <a:tbl>
              <a:tblPr/>
              <a:tblGrid>
                <a:gridCol w="2952720"/>
                <a:gridCol w="5400720"/>
              </a:tblGrid>
              <a:tr h="48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endanger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mangroves swam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habi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aquatic fe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the place where something lives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there aren’t very many of the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underwater plants and veget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 place where trees grow in wa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843280" y="1989000"/>
            <a:ext cx="576360" cy="93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2637000"/>
            <a:ext cx="720720" cy="273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68360" y="1989000"/>
            <a:ext cx="122400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32000" y="4292280"/>
            <a:ext cx="35892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6720" y="1700280"/>
          <a:ext cx="8423280" cy="5311800"/>
        </p:xfrm>
        <a:graphic>
          <a:graphicData uri="http://schemas.openxmlformats.org/drawingml/2006/table">
            <a:tbl>
              <a:tblPr/>
              <a:tblGrid>
                <a:gridCol w="3383280"/>
                <a:gridCol w="504000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Kind of anim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ate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umb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bit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ason why they are endanger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escri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547640" y="476280"/>
            <a:ext cx="61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 and complete the c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47628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2b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911760" y="2637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500 in the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5840" y="3284640"/>
            <a:ext cx="473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water under the trees in mangrove swam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30760" y="4365720"/>
            <a:ext cx="491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wamps being poll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ot enough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44500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0 feet long, large,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000 pounds he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424720" cy="487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843280" y="105264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airwork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2208240"/>
            <a:ext cx="7200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ow big are manate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They’re about 10 feet long and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weigh about 1,000 po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ere do they liv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907920"/>
            <a:ext cx="8137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Their favorite habitat is the wa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trees in mangrove swam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Why are they endanger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Some of the swamps have becom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luted. Also, there sometimes isn’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ough food for all of the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5280" y="907560"/>
            <a:ext cx="8353440" cy="180036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Unit 1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e’re trying to save the manate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4537080" cy="29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85040" y="3435480"/>
            <a:ext cx="1079280" cy="92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485040" y="4732200"/>
            <a:ext cx="1079280" cy="9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9960" y="476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pla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341360"/>
            <a:ext cx="7634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I am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k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animal because I am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trong and intellig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like=look like=be similar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像，看起来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k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his fath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像他的父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 He looks like his f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 He is similar to his father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4200" y="1246320"/>
            <a:ext cx="7921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里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k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介词，意思为“像”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k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还可做动词用，表示“喜欢”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k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oing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th.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喜欢做某事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k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his father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很喜欢他的父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r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lik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playing volleyb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玛丽喜欢打排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981000"/>
            <a:ext cx="842472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big are manatees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牛有多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big..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体重。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合的疑问词组有很多，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old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年龄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oft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频率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动作持续的长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mu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质量或者价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far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距离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数量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soo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询问过多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946080"/>
            <a:ext cx="7848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….they weigh about 1,000 pound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大约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ig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称……重量，测……重量。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eigh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stone in his h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用手掂了掂这块石头的重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piece of mea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eigh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four po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块肉重四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6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1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74920" y="1989000"/>
            <a:ext cx="655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igh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用做名词，重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的体重是多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7080" y="907920"/>
            <a:ext cx="79916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e’r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rying to sa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manate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正在竭尽全力拯救海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ry to do =try one’s best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努力去做某事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very student shoul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ry to stud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hard in order to study in a univers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了进入大学学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个学生都应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努力学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49092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314360"/>
          <a:ext cx="8282160" cy="5700960"/>
        </p:xfrm>
        <a:graphic>
          <a:graphicData uri="http://schemas.openxmlformats.org/drawingml/2006/table">
            <a:tbl>
              <a:tblPr/>
              <a:tblGrid>
                <a:gridCol w="3997440"/>
                <a:gridCol w="4284720"/>
              </a:tblGrid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时   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谓语动词的形式 （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一般现在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一般过去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现在进行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现在完成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一般过去时被动语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现在完成时被动语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02520" y="2133720"/>
            <a:ext cx="1788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do / do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1080" y="2781360"/>
            <a:ext cx="779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9240" y="3540240"/>
            <a:ext cx="428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e (am / is / are) do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4292640"/>
            <a:ext cx="300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/ has d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2520" y="4941720"/>
            <a:ext cx="309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was / were d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5400" y="5734080"/>
            <a:ext cx="397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/ has been d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55640" y="2176560"/>
            <a:ext cx="7848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义：现在完成时表示到目前为止已经完成，并对现在留下某种后果和影响的动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过去发生的某一动作对现在造成的影响或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与一些时间状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8269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现在完成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5350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/ has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词的过去分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360" y="1557360"/>
            <a:ext cx="8207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 already, yet, ever, never, just, before, once, twice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连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可以和包括现在在内的时间状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se days, today, this year, so far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连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77960" y="1114560"/>
            <a:ext cx="753912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过去发生的动作或存在的状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直持续到现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许还将继续下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和表示从过去某一时刻延续到现在的一段时间的状语连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for 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since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in the last ten year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谓语只可用延续性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2133720"/>
            <a:ext cx="6985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w many kinds of Animals can you think o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 Can you see them around us?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1065240"/>
            <a:ext cx="3313080" cy="898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arming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77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has / have been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过某地表示某人的一种经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nce, twice, already, ever, nev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连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have/has gon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某地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话时某人已离开此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去某地的途中或已在某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777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have / has been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逗留在某地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经一段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常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ten days, since I came her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连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874800"/>
            <a:ext cx="835200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ere is Jim? He ___________ Wuh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My parents ___________ the Great  Wall twice. They like there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_____ you ever _______  to  the Happy vall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ow long ____ Peter _______ the West Hill fa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17082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ve been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141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141720"/>
            <a:ext cx="19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en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458136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51656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en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8920" y="98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 gon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31640" y="361800"/>
            <a:ext cx="83170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My sister __________ the shop. She will be back in two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She ___________  Shanghai. She isn’t 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She __________ Shanghai. She is 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She __________ Shanghai for two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981000"/>
            <a:ext cx="288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 gon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2205000"/>
            <a:ext cx="251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 gon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3573360"/>
            <a:ext cx="288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 been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4262400"/>
            <a:ext cx="288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 been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55640" y="217440"/>
            <a:ext cx="78436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already  ----------   yet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已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用于肯定句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68480" y="866880"/>
            <a:ext cx="11160" cy="74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865080"/>
            <a:ext cx="11160" cy="749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30720" y="1773360"/>
            <a:ext cx="267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用于否定句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疑问句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276640"/>
            <a:ext cx="79200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She has not seen this film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has _______  seen this fil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 have ______ combed my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combed your hair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has _______ watched a vide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has not watched a video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3141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299736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lread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64500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lread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5013360"/>
            <a:ext cx="17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lread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2349360"/>
            <a:ext cx="86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y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4365720"/>
            <a:ext cx="100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y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5589720"/>
            <a:ext cx="86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y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380880"/>
            <a:ext cx="708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8900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在完成时中延续性动词和终止性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2720" y="1554120"/>
            <a:ext cx="8280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语动词根据词义可分为两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种是延续性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种是终止性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终止性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可称为非延续性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瞬间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点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come, begin, buy, borrow, arrive, die, finish, get to know, go, join, marry, start, sto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。表示动作的发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结束于一瞬间完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能再延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4360" y="134928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它的现在完成时不能和表示延续的时间状语连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不能与表示一段时间的状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for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since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句连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不能用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how 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导的特殊疑问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080" y="762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2560" y="1000080"/>
            <a:ext cx="79930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初中英语课本中常见终止性动词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eave, go, come, arrive, begin, buy, borrow, die, join, bec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终止性动词要表示持续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以下方法：            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时间状语改为时间段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+ ag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中谓语动词用一般过去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1060560"/>
            <a:ext cx="7848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弟弟参军两年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brother joined the army tw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ears ago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     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⑵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保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or 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用在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w 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需将终止性动词改为相应的状态动词或延续性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1989000"/>
            <a:ext cx="8004240" cy="505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/ go / arrive / get / reach / m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 be in/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 be op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di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 be dea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 be clo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becom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b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rrow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 kee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put o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 wea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 ha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33360"/>
            <a:ext cx="7559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见终止性动词与延续性动词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状态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对应关系如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5400720" cy="3703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92360" y="1989000"/>
            <a:ext cx="5400720" cy="3802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0" b="10214"/>
          <a:stretch/>
        </p:blipFill>
        <p:spPr>
          <a:xfrm>
            <a:off x="1619280" y="1916280"/>
            <a:ext cx="5473800" cy="388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0" t="0" r="0" b="13881"/>
          <a:stretch/>
        </p:blipFill>
        <p:spPr>
          <a:xfrm>
            <a:off x="1547640" y="1917720"/>
            <a:ext cx="5616720" cy="388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0" t="10494" r="0" b="0"/>
          <a:stretch/>
        </p:blipFill>
        <p:spPr>
          <a:xfrm>
            <a:off x="1476360" y="1989000"/>
            <a:ext cx="5832360" cy="3816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87280" y="949320"/>
            <a:ext cx="6696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imals are man’s fri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9040" y="1558800"/>
            <a:ext cx="7285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v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-- be away (from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 / star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-- be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ll asleep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- be asl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/finish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-- be ov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ch a cold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----- have a col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03400" y="1557360"/>
          <a:ext cx="6912000" cy="410508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41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777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oin the ar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---- be in the army be a soldi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oin the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---- be in the Party be a Party memb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1268280"/>
          <a:ext cx="7993080" cy="2881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28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4360" y="879480"/>
            <a:ext cx="81532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吉姆买了这只钢笔两年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m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s h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is pen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for two year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m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s h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is pen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since two yea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ag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m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s h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is pen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since 200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wo years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since Jim bought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p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9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7993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as bee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wo years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since Jim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bought this pe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im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ough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his pen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two years ag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雷自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就参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部电影开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从两年前这家商店就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老人已经死了五年了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莉莉六年前就离开家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9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9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784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现在完成时和一般过去时的区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完成时所表明的是过去发生的动作对现在的影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强调的是现在的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可以和表示过去的时间状语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esterday, in 1991, three days ago last time, last nigh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连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般过去时表明的是过去发生的事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现在不发生关系。            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7777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完成时中的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ince for +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段与延续性动词的现在完成时连用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ince +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I have kept the library book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for a week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. = I have kept the library book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since a week ago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41440" y="1555560"/>
            <a:ext cx="82072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It is /has been +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一段时间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+ since..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自从某事发生已有一段时间了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g. It is /has been two years si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y brother joined the army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since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导的从句中动词用过去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 when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导 的特殊问句不与现在完成时连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have got,has go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虽然是现在完成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ave got = have has got =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8351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6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t's a long time since we 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eet) last time, isn't it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      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--I know you __________ (choose) a picture  book among these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Yes,Have a look at it, please.       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So far, spaceships without people ___________ (reach) the moon and some other parts of the universe.          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1840" y="6224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44960" y="2066760"/>
            <a:ext cx="19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3840" y="19242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ve cho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458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ve reac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6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126828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My father ____ home for nearly three week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A. has gone away from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has lef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C. has been away from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went away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      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19280" y="429264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1452600"/>
            <a:ext cx="5616720" cy="399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2560" y="5554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is? And how to describe i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36680" y="5475240"/>
            <a:ext cx="41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enormous, g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7240" y="1547280"/>
            <a:ext cx="777240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Mr and Mrs Green have ____ in China for a week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A. been                 B. got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arrived            D. reach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335240" y="313056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3360" y="501480"/>
            <a:ext cx="800100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</a:rPr>
              <a:t>近义句转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Jack joined the League five month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ack _________ a League  memb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five month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t’s a long time since we met l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_______ ____ each other for a long time since we met las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22560" y="27795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s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4940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ve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4941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9640" y="732240"/>
            <a:ext cx="81774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ill in the blanks with the right forms of the given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very day my mother _____(get) up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dinosaur eggs _____________ (discover) many years ago by scient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Listen! Some children ___________ (sing) an English song over t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10160" y="21718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9520" y="3473280"/>
            <a:ext cx="33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ere discov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10520" y="476244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re sin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1413000"/>
            <a:ext cx="81360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In our hometown there used to ___(be) many old tre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My work __________________ (not finish) yet. I can’t go out to play with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1430280"/>
            <a:ext cx="637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3800" y="2838600"/>
            <a:ext cx="4094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sn’t been fin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348000" y="765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【运用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12120" y="170352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根据括号中所给动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用其正确时态填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495520"/>
            <a:ext cx="79218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Frank _____ (help) his mother with the housework on Sund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 _______ (become) a middle school student 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41440" y="263988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el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1080" y="40798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ec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1912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4788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—Hello! May I speak to your father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4788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rry, my father ________ (go) to Shanghai. He went there this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4788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—What’s the noi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4788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e and her sister ___________ (watch) T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20720" y="206676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s g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4160" y="566100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re wat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426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5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They ________ (have) eggs and bread for breakfast tomorrow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He ___________ (cross) the street when he was hit by a b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16280" y="3579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was cr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99320" y="149220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will 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0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is? And how to describe i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54752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isy, cl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1593720"/>
            <a:ext cx="5616720" cy="3780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907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is? And how to describe i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08000" y="1773360"/>
            <a:ext cx="4500720" cy="3887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83280" y="29559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y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2560" y="6508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is? And how to describe i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90560" y="1658880"/>
            <a:ext cx="5616720" cy="363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43280" y="540396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tle, s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700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is? And how to describe it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276960" cy="388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64000" y="5589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y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5:11:48Z</dcterms:created>
  <dc:creator> </dc:creator>
  <dc:description> </dc:description>
  <dc:language>en-US</dc:language>
  <cp:lastModifiedBy>微软用户</cp:lastModifiedBy>
  <dcterms:modified xsi:type="dcterms:W3CDTF">2013-06-04T18:13:10Z</dcterms:modified>
  <cp:revision>0</cp:revision>
  <dc:subject> </dc:subject>
  <dc:title> </dc:title>
</cp:coreProperties>
</file>