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692C-5C0F-4112-9F22-3ECA12D92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6FB9-C26E-4E43-8224-66CD301F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3A4A-8B47-41A3-AE3B-7A20F3AE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E34A-D69E-4FE1-858E-58A30060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31C4-516D-44AA-BD6D-F8EC0F29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6383-528C-4872-8FFC-E5F0D429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221C-684E-406B-B23E-36616B73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FF25-1699-4896-8F48-1981EA52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F3E8-73F3-4F48-8071-B373FCC8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8947-43AD-4321-9A61-05DBA67C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81A1-587D-4659-A6CF-38D19EAF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F1DC-50A9-4399-8483-12B85F56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9EE1-3EE4-441C-91ED-AF0E8C7C9877}" type="slidenum"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it 15  We’re trying to save the manatee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87280" y="2924280"/>
            <a:ext cx="302436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Period 2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700360" y="1844640"/>
            <a:ext cx="39085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Bye - bye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5113440" cy="3456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23840" y="4292640"/>
            <a:ext cx="736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Do you like visiting zoos/aquariums? Why or why not?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23840" y="5229360"/>
            <a:ext cx="772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I like visiting zoos .I’ve been to many zoos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n my life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867280" y="836640"/>
            <a:ext cx="2521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2590920" cy="2808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356000" y="836640"/>
            <a:ext cx="3095640" cy="2952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68360" y="4076640"/>
            <a:ext cx="84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These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iny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age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 are too small for animals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to live in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They can hardly move at all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6000" y="5580000"/>
            <a:ext cx="623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Zoos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re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not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uitable for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them 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51840" y="2209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42000" y="826920"/>
            <a:ext cx="541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Where are their real home?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2736720" cy="3024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2665440" cy="3240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012000" y="1700280"/>
            <a:ext cx="2520720" cy="3097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1280" y="5084640"/>
            <a:ext cx="18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forests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5157720"/>
            <a:ext cx="21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wamps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5800" y="508464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prairies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11280" y="1844640"/>
            <a:ext cx="784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Make sentences with the words or phrases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89840" y="2852640"/>
            <a:ext cx="3891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in my life…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be…suitable for…     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urge sb. to do sth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educate 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tiny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404640"/>
            <a:ext cx="88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ad 3a fast. Then  answer these ques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Where are the animals kept?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How often are they given food every day?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What does the writer think of the  zoos?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68360" y="2492280"/>
          <a:ext cx="8136000" cy="3621240"/>
        </p:xfrm>
        <a:graphic>
          <a:graphicData uri="http://schemas.openxmlformats.org/drawingml/2006/table">
            <a:tbl>
              <a:tblPr/>
              <a:tblGrid>
                <a:gridCol w="1590480"/>
                <a:gridCol w="6545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Against the zoos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Reasons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2.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3.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4.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5.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2484360" y="3068640"/>
            <a:ext cx="59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Zoos are terrible places for animals to live.</a:t>
            </a:r>
            <a:endParaRPr b="0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3500280"/>
            <a:ext cx="629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There is no zoo that was suitable for animals to live in.</a:t>
            </a:r>
            <a:endParaRPr b="0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7440" y="465300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The animals are kept in tiny cages.</a:t>
            </a:r>
            <a:endParaRPr b="0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29080" y="5084640"/>
            <a:ext cx="50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The animals can hardly move at all.</a:t>
            </a:r>
            <a:endParaRPr b="0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57440" y="5589720"/>
            <a:ext cx="59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The animals are only given food once a day.</a:t>
            </a:r>
            <a:endParaRPr b="0" lang="en-US" sz="2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67120" y="1052640"/>
            <a:ext cx="27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For the zoos 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11280" y="1628640"/>
          <a:ext cx="7993080" cy="4300560"/>
        </p:xfrm>
        <a:graphic>
          <a:graphicData uri="http://schemas.openxmlformats.org/drawingml/2006/table">
            <a:tbl>
              <a:tblPr/>
              <a:tblGrid>
                <a:gridCol w="1728720"/>
                <a:gridCol w="6264360"/>
              </a:tblGrid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Reasons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2.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3.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4.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5.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324000" y="69228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Read 3b and fill in the blanks</a:t>
            </a:r>
            <a:endParaRPr b="0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00360" y="17002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Zoos are very  important places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43280" y="227664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Zoos are like living textbooks for young people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71640" y="3357720"/>
            <a:ext cx="56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Zoos provide homes for many endangered animals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00360" y="4292640"/>
            <a:ext cx="576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Zoos help to educate the public about caring for animals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4968720" cy="3382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476360" y="765000"/>
            <a:ext cx="5975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Let's have a debate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" name=""/>
          <p:cNvSpPr/>
          <p:nvPr/>
        </p:nvSpPr>
        <p:spPr>
          <a:xfrm>
            <a:off x="1458720" y="1957320"/>
            <a:ext cx="622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eam A: Zoos are good for animals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76360" y="2565360"/>
            <a:ext cx="722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eam B: Zoos are not good for animals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55640" y="1916280"/>
            <a:ext cx="727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Homework :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1.Finish the exercise in this lesson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2.Read the two letters after class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3.Write a letter to give your own 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opinion about zoos. 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3T14:57:35Z</dcterms:created>
  <dc:creator> </dc:creator>
  <dc:description> </dc:description>
  <cp:keywords/>
  <dc:language>en-US</dc:language>
  <cp:lastModifiedBy>User</cp:lastModifiedBy>
  <dcterms:modified xsi:type="dcterms:W3CDTF">2014-02-13T01:30:13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