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6343-B83D-4A76-9BE1-3D4A537F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BC3-C1B4-4FCE-81C9-6C72310E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3F6-38D1-4AC9-8F1A-92275D7A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5C2C-2831-4AB4-BBEE-5B15121D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B51A-C329-4C93-B8B4-D2D98BBE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E7A-1016-451C-BC3D-EDB7687B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CFE-DCEA-435A-A384-4AFEE8DB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C1E-8C20-4154-BEE8-7E23EBE4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C168-540E-433D-97D5-0397440C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418E-0A89-4BF3-BCB1-DCD81674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5EE9-BCE7-4B09-9C9E-1A9F5F53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52F3-6061-4D48-81DF-156D77F8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54F65-696C-45B1-99EF-27BD2F4A5212}" type="slidenum">
              <a:rPr b="0" lang="zh-CN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836640"/>
            <a:ext cx="2895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Monotype Corsiva"/>
              </a:rPr>
              <a:t>Unit 15</a:t>
            </a:r>
            <a:endParaRPr b="0" lang="en-US" sz="6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29080" y="3933720"/>
            <a:ext cx="38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ection A   period1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360" y="5013360"/>
            <a:ext cx="244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87280" y="2133720"/>
            <a:ext cx="72043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We're trying to save the manatees!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55640" y="2421000"/>
            <a:ext cx="7948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cc3300"/>
                </a:solidFill>
                <a:latin typeface="Comic Sans MS"/>
              </a:rPr>
              <a:t>    </a:t>
            </a: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Hi, baby! </a:t>
            </a:r>
            <a:endParaRPr b="0" lang="en-US" sz="5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cc3300"/>
                </a:solidFill>
                <a:latin typeface="Comic Sans MS"/>
              </a:rPr>
              <a:t>Let’s listen carefully !</a:t>
            </a:r>
            <a:endParaRPr b="0" lang="en-US" sz="5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9440" y="907920"/>
            <a:ext cx="77220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1b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24000" y="907920"/>
            <a:ext cx="439272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Listen and circle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57440" y="692280"/>
            <a:ext cx="77220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1b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5240" y="692280"/>
            <a:ext cx="302760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Group work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413000"/>
            <a:ext cx="8172720" cy="4680000"/>
          </a:xfrm>
          <a:prstGeom prst="cloudCallout">
            <a:avLst>
              <a:gd name="adj1" fmla="val -45009"/>
              <a:gd name="adj2" fmla="val 47287"/>
            </a:avLst>
          </a:prstGeom>
          <a:solidFill>
            <a:srgbClr val="cce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10640" y="2205000"/>
            <a:ext cx="63975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A: I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am like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this animal because I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am strong and intelligent. I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ike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water and I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like to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eat vegetables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</a:rPr>
              <a:t>B: You’re like an elephant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A: No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</a:rPr>
              <a:t>C: You’re like a manatee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A: Yes!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57800" y="692280"/>
            <a:ext cx="74448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2a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6680" y="692280"/>
            <a:ext cx="435204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Listen and match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2720" y="1844640"/>
            <a:ext cx="282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.endangered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3080" y="2708280"/>
            <a:ext cx="257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2.mangrove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wamps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5440" y="3933720"/>
            <a:ext cx="196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3. habitat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7800" y="4797360"/>
            <a:ext cx="205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4. aquatic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feed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6880" y="1844640"/>
            <a:ext cx="528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8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he place where something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ives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16200" y="2749680"/>
            <a:ext cx="492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b. there aren’t very many of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them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18360" y="3900600"/>
            <a:ext cx="446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. underwater plants and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egetation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36360" y="4941720"/>
            <a:ext cx="533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d. a place where trees grow in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2205000"/>
            <a:ext cx="720720" cy="7923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3284640"/>
            <a:ext cx="1224000" cy="1944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195640" y="2276280"/>
            <a:ext cx="1512720" cy="19443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340000" y="4149360"/>
            <a:ext cx="1368360" cy="10796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732720" y="547560"/>
            <a:ext cx="1584360" cy="10843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3080" y="549360"/>
            <a:ext cx="77220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2b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9960" y="620640"/>
            <a:ext cx="736632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Listen again. Complete the chart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1484280"/>
          <a:ext cx="8280360" cy="4897440"/>
        </p:xfrm>
        <a:graphic>
          <a:graphicData uri="http://schemas.openxmlformats.org/drawingml/2006/table">
            <a:tbl>
              <a:tblPr/>
              <a:tblGrid>
                <a:gridCol w="2636640"/>
                <a:gridCol w="564372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Kind of animal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manatee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1368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Number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Habitat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Reason why they are endangered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5760">
                      <a:solidFill>
                        <a:srgbClr val="80008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800080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00080"/>
                      </a:solidFill>
                    </a:lnL>
                    <a:lnR w="576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00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80"/>
                      </a:solidFill>
                    </a:lnL>
                    <a:lnR w="13680">
                      <a:solidFill>
                        <a:srgbClr val="800080"/>
                      </a:solidFill>
                    </a:lnR>
                    <a:lnT w="5760">
                      <a:solidFill>
                        <a:srgbClr val="800080"/>
                      </a:solidFill>
                    </a:lnT>
                    <a:lnB w="13680">
                      <a:solidFill>
                        <a:srgbClr val="8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3132000" y="2276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2500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8720" y="2924280"/>
            <a:ext cx="492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The water under the trees in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mangrove swamps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62160" y="4005360"/>
            <a:ext cx="5532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ome of swamps have become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polluted, there sometimes isn’t 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enough food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551664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Large, ten feet long and about 1000 pounds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13440" y="549360"/>
            <a:ext cx="74448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2c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78160" y="620640"/>
            <a:ext cx="223812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Pair work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42920" y="1197000"/>
            <a:ext cx="6985080" cy="489744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80360" y="1989000"/>
            <a:ext cx="596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A: How big are manatees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B: They’re about 19feet long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and they weigh about 1,000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pounds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A: … 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Times New Roman"/>
              </a:rPr>
              <a:t>B: … .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042920" y="765000"/>
            <a:ext cx="6842160" cy="54723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1773360"/>
            <a:ext cx="1008000" cy="8650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635280" y="1773360"/>
            <a:ext cx="221940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Homework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170" name=""/>
          <p:cNvSpPr/>
          <p:nvPr/>
        </p:nvSpPr>
        <p:spPr>
          <a:xfrm>
            <a:off x="1710360" y="2852640"/>
            <a:ext cx="565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800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py the new words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and remember them.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2.Read the listening 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materials of 1b, 2a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3. Read Grammar Focus.</a:t>
            </a:r>
            <a:endParaRPr b="0" lang="en-US" sz="32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333360"/>
            <a:ext cx="8064360" cy="5759640"/>
          </a:xfrm>
          <a:prstGeom prst="cloudCallout">
            <a:avLst>
              <a:gd name="adj1" fmla="val -44958"/>
              <a:gd name="adj2" fmla="val 53388"/>
            </a:avLst>
          </a:prstGeom>
          <a:solidFill>
            <a:srgbClr val="ffffcc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8920" y="1557360"/>
            <a:ext cx="6048360" cy="250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1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Let's enjoy a song!</a:t>
            </a:r>
            <a:endParaRPr b="1" i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692280"/>
            <a:ext cx="76327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Hi! What do you think of them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3672000" cy="28479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17800" y="1773360"/>
            <a:ext cx="36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Arial"/>
              </a:rPr>
              <a:t>chimpanzee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940360" y="2852640"/>
            <a:ext cx="13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Monotype Corsiva"/>
              </a:rPr>
              <a:t>furry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796000" y="3716280"/>
            <a:ext cx="23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Monotype Corsiva"/>
              </a:rPr>
              <a:t>playful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4508640"/>
            <a:ext cx="13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Monotype Corsiva"/>
              </a:rPr>
              <a:t>noisy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12000" y="5013360"/>
            <a:ext cx="131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Monotype Corsiva"/>
              </a:rPr>
              <a:t>…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84720" y="2060640"/>
            <a:ext cx="3887640" cy="2998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0" y="5373720"/>
            <a:ext cx="322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Arial"/>
              </a:rPr>
              <a:t>Polar bear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2421000"/>
            <a:ext cx="13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Monotype Corsiva"/>
              </a:rPr>
              <a:t>furry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3284640"/>
            <a:ext cx="26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Monotype Corsiva"/>
              </a:rPr>
              <a:t>aggressive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3280" y="4149720"/>
            <a:ext cx="131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Monotype Corsiva"/>
              </a:rPr>
              <a:t>…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765000"/>
            <a:ext cx="770436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Hi! What do you think of them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600360" cy="2957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94520" y="5229360"/>
            <a:ext cx="260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Arial"/>
              </a:rPr>
              <a:t>cheetah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24360" y="2133720"/>
            <a:ext cx="20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Monotype Corsiva"/>
              </a:rPr>
              <a:t>spotted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0360" y="2997360"/>
            <a:ext cx="13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Monotype Corsiva"/>
              </a:rPr>
              <a:t>fast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51640" y="3860640"/>
            <a:ext cx="266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Monotype Corsiva"/>
              </a:rPr>
              <a:t>aggressive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56360" y="479736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Monotype Corsiva"/>
              </a:rPr>
              <a:t>…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692280"/>
            <a:ext cx="7559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Hi! What do you think of them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4133880" cy="2733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27640" y="1773360"/>
            <a:ext cx="37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Arial"/>
              </a:rPr>
              <a:t>African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Arial"/>
              </a:rPr>
              <a:t>   </a:t>
            </a:r>
            <a:r>
              <a:rPr b="1" i="1" lang="en-US" sz="4400" spc="-1" strike="noStrike">
                <a:solidFill>
                  <a:srgbClr val="800080"/>
                </a:solidFill>
                <a:latin typeface="Arial"/>
              </a:rPr>
              <a:t>elephant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14172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Monotype Corsiva"/>
              </a:rPr>
              <a:t>enormous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076640"/>
            <a:ext cx="187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Monotype Corsiva"/>
              </a:rPr>
              <a:t>gentl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32000" y="5013360"/>
            <a:ext cx="131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Monotype Corsiva"/>
              </a:rPr>
              <a:t>…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692280"/>
            <a:ext cx="7559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Hi! What do you think of them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3887640" cy="3097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69760" y="5394240"/>
            <a:ext cx="295452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800080"/>
                </a:solidFill>
                <a:latin typeface="Arial"/>
              </a:rPr>
              <a:t>Manatee</a:t>
            </a:r>
            <a:r>
              <a:rPr b="1" i="1" lang="en-US" sz="48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33160" y="2014560"/>
            <a:ext cx="213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Monotype Corsiva"/>
              </a:rPr>
              <a:t>gentle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285264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d4d4d"/>
                </a:solidFill>
                <a:latin typeface="Monotype Corsiva"/>
              </a:rPr>
              <a:t>gray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6360" y="371628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Monotype Corsiva"/>
              </a:rPr>
              <a:t>shy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69400" y="4508640"/>
            <a:ext cx="65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Monotype Corsiva"/>
              </a:rPr>
              <a:t>…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836640"/>
            <a:ext cx="7561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Hi! What do you think of them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27640" y="1916280"/>
            <a:ext cx="37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800080"/>
                </a:solidFill>
                <a:latin typeface="Arial"/>
              </a:rPr>
              <a:t>kangaroo</a:t>
            </a:r>
            <a:r>
              <a:rPr b="1" i="1" lang="en-US" sz="44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335772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Monotype Corsiva"/>
              </a:rPr>
              <a:t>playful</a:t>
            </a: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429264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Monotype Corsiva"/>
              </a:rPr>
              <a:t>cute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5229360"/>
            <a:ext cx="131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Monotype Corsiva"/>
              </a:rPr>
              <a:t>…</a:t>
            </a:r>
            <a:endParaRPr b="0" lang="en-US" sz="4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356000" y="3141720"/>
            <a:ext cx="4102200" cy="3097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26920" y="765000"/>
            <a:ext cx="75614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8000"/>
                </a:solidFill>
                <a:latin typeface="Comic Sans MS"/>
              </a:rPr>
              <a:t>Hi! What do you think of them?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6520" y="620640"/>
            <a:ext cx="744480" cy="70344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1a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92360" y="692280"/>
            <a:ext cx="3527280" cy="6426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Read and write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557360"/>
            <a:ext cx="2087640" cy="94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African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elephant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7800" y="1773360"/>
            <a:ext cx="241344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chimpanzee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2160" y="1773360"/>
            <a:ext cx="172296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cheetah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5440" y="4149720"/>
            <a:ext cx="21175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Polar bear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20360" y="4149720"/>
            <a:ext cx="182196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manatee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4149720"/>
            <a:ext cx="237492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kangaroo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3068640"/>
            <a:ext cx="2016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645000"/>
            <a:ext cx="201600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300720" y="4797360"/>
            <a:ext cx="2232000" cy="1290240"/>
            <a:chOff x="6300720" y="4797360"/>
            <a:chExt cx="2232000" cy="1290240"/>
          </a:xfrm>
        </p:grpSpPr>
        <p:sp>
          <p:nvSpPr>
            <p:cNvPr id="97" name=""/>
            <p:cNvSpPr/>
            <p:nvPr/>
          </p:nvSpPr>
          <p:spPr>
            <a:xfrm>
              <a:off x="6300720" y="479736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Monotype Corsiva"/>
                </a:rPr>
                <a:t>playful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43640" y="544500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Monotype Corsiva"/>
                </a:rPr>
                <a:t>cute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372360" y="5516640"/>
            <a:ext cx="172872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43640" y="6021360"/>
            <a:ext cx="172872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72360" y="6524640"/>
            <a:ext cx="165564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8360" y="2492280"/>
            <a:ext cx="2232000" cy="1191240"/>
            <a:chOff x="468360" y="2492280"/>
            <a:chExt cx="2232000" cy="1191240"/>
          </a:xfrm>
        </p:grpSpPr>
        <p:sp>
          <p:nvSpPr>
            <p:cNvPr id="103" name=""/>
            <p:cNvSpPr/>
            <p:nvPr/>
          </p:nvSpPr>
          <p:spPr>
            <a:xfrm>
              <a:off x="468360" y="2492280"/>
              <a:ext cx="2232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Monotype Corsiva"/>
                </a:rPr>
                <a:t>enormous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9640" y="297900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Monotype Corsiva"/>
                </a:rPr>
                <a:t>gentle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564000" y="2276640"/>
            <a:ext cx="2303280" cy="2136960"/>
            <a:chOff x="3564000" y="2276640"/>
            <a:chExt cx="2303280" cy="2136960"/>
          </a:xfrm>
        </p:grpSpPr>
        <p:sp>
          <p:nvSpPr>
            <p:cNvPr id="106" name=""/>
            <p:cNvSpPr/>
            <p:nvPr/>
          </p:nvSpPr>
          <p:spPr>
            <a:xfrm>
              <a:off x="3780000" y="2276640"/>
              <a:ext cx="131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Monotype Corsiva"/>
                </a:rPr>
                <a:t>furry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64000" y="272160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Monotype Corsiva"/>
                </a:rPr>
                <a:t>playful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35280" y="3222360"/>
              <a:ext cx="131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Monotype Corsiva"/>
                </a:rPr>
                <a:t>noisy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564000" y="2924280"/>
            <a:ext cx="158436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3573360"/>
            <a:ext cx="158436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4076640"/>
            <a:ext cx="165564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56360" y="2276640"/>
            <a:ext cx="2663640" cy="1794960"/>
            <a:chOff x="6156360" y="2276640"/>
            <a:chExt cx="2663640" cy="1794960"/>
          </a:xfrm>
        </p:grpSpPr>
        <p:sp>
          <p:nvSpPr>
            <p:cNvPr id="113" name=""/>
            <p:cNvSpPr/>
            <p:nvPr/>
          </p:nvSpPr>
          <p:spPr>
            <a:xfrm>
              <a:off x="6227640" y="2276640"/>
              <a:ext cx="20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Monotype Corsiva"/>
                </a:rPr>
                <a:t>spotted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72360" y="2852640"/>
              <a:ext cx="131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Monotype Corsiva"/>
                </a:rPr>
                <a:t>fast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56360" y="3429000"/>
              <a:ext cx="26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Monotype Corsiva"/>
                </a:rPr>
                <a:t>aggressive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00720" y="2924280"/>
            <a:ext cx="180036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3500280"/>
            <a:ext cx="180036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4076640"/>
            <a:ext cx="180036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24000" y="4653000"/>
            <a:ext cx="2663640" cy="1290240"/>
            <a:chOff x="324000" y="4653000"/>
            <a:chExt cx="2663640" cy="1290240"/>
          </a:xfrm>
        </p:grpSpPr>
        <p:sp>
          <p:nvSpPr>
            <p:cNvPr id="120" name=""/>
            <p:cNvSpPr/>
            <p:nvPr/>
          </p:nvSpPr>
          <p:spPr>
            <a:xfrm>
              <a:off x="755640" y="4653000"/>
              <a:ext cx="131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Monotype Corsiva"/>
                </a:rPr>
                <a:t>furry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000" y="5300640"/>
              <a:ext cx="26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cc3300"/>
                  </a:solidFill>
                  <a:latin typeface="Monotype Corsiva"/>
                </a:rPr>
                <a:t>aggressive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24000" y="5373720"/>
            <a:ext cx="208728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5950080"/>
            <a:ext cx="208728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6453360"/>
            <a:ext cx="208908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4076640"/>
            <a:ext cx="208908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496320" y="4653000"/>
            <a:ext cx="1648440" cy="1866600"/>
            <a:chOff x="3496320" y="4653000"/>
            <a:chExt cx="1648440" cy="1866600"/>
          </a:xfrm>
        </p:grpSpPr>
        <p:sp>
          <p:nvSpPr>
            <p:cNvPr id="127" name=""/>
            <p:cNvSpPr/>
            <p:nvPr/>
          </p:nvSpPr>
          <p:spPr>
            <a:xfrm>
              <a:off x="3496320" y="4653000"/>
              <a:ext cx="164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Monotype Corsiva"/>
                </a:rPr>
                <a:t>gentle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08360" y="5300640"/>
              <a:ext cx="978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Monotype Corsiva"/>
                </a:rPr>
                <a:t>gray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08360" y="5877000"/>
              <a:ext cx="978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8000"/>
                  </a:solidFill>
                  <a:latin typeface="Monotype Corsiva"/>
                </a:rPr>
                <a:t>shy</a:t>
              </a:r>
              <a:endParaRPr b="0" lang="en-US" sz="3600" spc="-1" strike="noStrike">
                <a:solidFill>
                  <a:srgbClr val="80008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564000" y="5300640"/>
            <a:ext cx="158436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5877000"/>
            <a:ext cx="172728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6453360"/>
            <a:ext cx="1727280" cy="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443640" y="476280"/>
            <a:ext cx="1297080" cy="93672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5:55:59Z</dcterms:created>
  <dc:creator> </dc:creator>
  <dc:description> </dc:description>
  <cp:keywords/>
  <dc:language>en-US</dc:language>
  <cp:lastModifiedBy>User</cp:lastModifiedBy>
  <dcterms:modified xsi:type="dcterms:W3CDTF">2014-02-13T01:30:16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