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1.gif" ContentType="image/gif"/>
  <Override PartName="/ppt/media/image5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3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16.gif" ContentType="image/gif"/>
  <Override PartName="/ppt/media/chimes.wav" ContentType="audio/x-wav"/>
  <Override PartName="/ppt/media/image13.gif" ContentType="image/gif"/>
  <Override PartName="/ppt/media/image17.png" ContentType="image/png"/>
  <Override PartName="/ppt/media/image14.gif" ContentType="image/gi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144-F475-43C9-ABF9-5AD95E68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F14-2E65-4C27-8310-7C675638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E9F-A16E-4C3F-934C-F5539A6A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86F-A1D3-4686-9E02-2B900929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58C9-4BFA-4357-AA8E-F75B24A2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DA81-11E7-4B93-88AC-5FF19218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97DF-9C6D-45C4-AF66-FF7A57F3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FD0F-77DA-418A-A516-58E26AB6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2FF1-EA66-49D4-8134-DDD3E5C7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75E7-95AC-47A7-8173-DA6D68DA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61BF-E7B3-4A60-B24F-369718FD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170-A336-4014-AB76-BD0180EC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0109-3D4E-4210-BFD7-D54247F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DC16-BC6B-43F7-ACC6-DCC2B6C1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8B17-0DAF-461A-A738-AD343CA8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DB57-62AA-47B5-B634-C2426583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88DF-48C7-4F6C-8F1E-AD1BF7D2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D033-4E1A-4651-8B2E-A2647857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2082-730B-4150-8764-E88B9B49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484B-E33A-4482-ABDB-F676A97A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5443-3BCC-4A88-9815-65CCFE7E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C2FB-8644-4197-8C64-DC271823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FE8-E95C-480E-9DF2-C09EFF7E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C65E6-C42B-4A0B-B067-E2E6342A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2766-5406-4C57-8093-653CC7AB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FA056-795D-47BF-8664-8607CC56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F6EA-6B6A-401E-8A97-BB45B9EC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C462-D092-434D-9943-800607DE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1A67-025A-4AE7-A207-3C60A3DE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A6E8B-C887-40EA-80A6-0ADB2ABD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A87-21C7-4E8C-8C3F-9602866E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8F1-E35C-498B-82E6-5D5F290E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28A-A6FF-4A97-9CFF-8FBA324D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3B9-6E85-4F5B-BD24-EA11DFA2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E4C-8F58-4174-BB30-AF48A145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81D-D327-4954-A29D-887A1337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EE5C-5680-454D-85C9-02BDF54F5B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D2DB-1356-4020-8397-2C00F779F6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5AFB-6C1C-4FB3-AC76-60007E0BAFDB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2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419640" y="2708280"/>
            <a:ext cx="201600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Section B</a:t>
            </a:r>
            <a:endParaRPr b="1" lang="en-US" sz="4000" spc="-1" strike="noStrike">
              <a:ln w="9360">
                <a:solidFill>
                  <a:srgbClr val="008000"/>
                </a:solidFill>
                <a:miter/>
              </a:ln>
              <a:solidFill>
                <a:srgbClr val="ffff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35280" y="3645000"/>
            <a:ext cx="1887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1a---- 2c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8000" y="260280"/>
            <a:ext cx="72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Comic Sans MS"/>
              </a:rPr>
              <a:t>Look at the products, which slogan is right for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38560" y="2205000"/>
            <a:ext cx="50119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hiter than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the shiniest hair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that mysterious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silky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35280" y="4148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32414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069440" y="2301840"/>
            <a:ext cx="5011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hiter than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the shiniest hair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that mysterious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silky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260280"/>
            <a:ext cx="72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Comic Sans MS"/>
              </a:rPr>
              <a:t>Look at the products, which slogan is right for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3416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53440" y="2205000"/>
            <a:ext cx="5011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hiter than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the shiniest hair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that mysterious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silky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260280"/>
            <a:ext cx="72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Comic Sans MS"/>
              </a:rPr>
              <a:t>Look at the products, which slogan is right for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76720" y="5157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33735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065480" y="2205000"/>
            <a:ext cx="5011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hiter than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the shiniest hair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that mysterious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silky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260280"/>
            <a:ext cx="72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Comic Sans MS"/>
              </a:rPr>
              <a:t>Look at the products, which slogan is right for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5466" t="0" r="0" b="23237"/>
          <a:stretch/>
        </p:blipFill>
        <p:spPr>
          <a:xfrm>
            <a:off x="0" y="2276640"/>
            <a:ext cx="36352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9280" y="2057400"/>
            <a:ext cx="89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Tahoma"/>
              </a:rPr>
              <a:t>                                      </a:t>
            </a: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Slo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Whiter than white                      3.For the shiniest hair 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2. For that mysterious look            4. For silky sk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167616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705720" y="0"/>
            <a:ext cx="1676160" cy="206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228600" y="3716280"/>
          <a:ext cx="8534520" cy="3065400"/>
        </p:xfrm>
        <a:graphic>
          <a:graphicData uri="http://schemas.openxmlformats.org/drawingml/2006/table">
            <a:tbl>
              <a:tblPr/>
              <a:tblGrid>
                <a:gridCol w="4648320"/>
                <a:gridCol w="388620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people s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 1. Easy Care Shamp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 2. Lookout Sungla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 3. Beauty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 4. Starshine Toothp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It tastes terrib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It worked really we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. They don’t even keep out the su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It didn’t wor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810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486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5562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1080" y="6324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4572000"/>
            <a:ext cx="2133360" cy="1523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334120"/>
            <a:ext cx="243828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048120" y="5181120"/>
            <a:ext cx="182880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962520" y="4571640"/>
            <a:ext cx="990360" cy="1987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1484280"/>
            <a:ext cx="433440" cy="5763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1484280"/>
            <a:ext cx="433440" cy="5763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1484280"/>
            <a:ext cx="433440" cy="5763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484280"/>
            <a:ext cx="433440" cy="5763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07280" y="2133720"/>
            <a:ext cx="936720" cy="8636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2a&amp;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0" y="1700280"/>
            <a:ext cx="64764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0880" y="0"/>
            <a:ext cx="3048120" cy="1657440"/>
          </a:xfrm>
          <a:prstGeom prst="irregularSeal2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  <a:ea typeface="BatangChe"/>
              </a:rPr>
              <a:t>Group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476280"/>
            <a:ext cx="9144000" cy="3544560"/>
            <a:chOff x="0" y="476280"/>
            <a:chExt cx="9144000" cy="3544560"/>
          </a:xfrm>
        </p:grpSpPr>
        <p:grpSp>
          <p:nvGrpSpPr>
            <p:cNvPr id="196" name=""/>
            <p:cNvGrpSpPr/>
            <p:nvPr/>
          </p:nvGrpSpPr>
          <p:grpSpPr>
            <a:xfrm>
              <a:off x="5867280" y="476280"/>
              <a:ext cx="3276720" cy="2249280"/>
              <a:chOff x="5867280" y="476280"/>
              <a:chExt cx="3276720" cy="2249280"/>
            </a:xfrm>
          </p:grpSpPr>
          <p:pic>
            <p:nvPicPr>
              <p:cNvPr id="1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43640" y="476280"/>
                <a:ext cx="2087640" cy="15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5867280" y="2205000"/>
                <a:ext cx="32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3300"/>
                    </a:solidFill>
                    <a:latin typeface="Comic Sans MS"/>
                  </a:rPr>
                  <a:t>go to a concer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3635280" y="1557360"/>
              <a:ext cx="3240360" cy="2320920"/>
              <a:chOff x="3635280" y="1557360"/>
              <a:chExt cx="3240360" cy="2320920"/>
            </a:xfrm>
          </p:grpSpPr>
          <p:sp>
            <p:nvSpPr>
              <p:cNvPr id="200" name=""/>
              <p:cNvSpPr/>
              <p:nvPr/>
            </p:nvSpPr>
            <p:spPr>
              <a:xfrm>
                <a:off x="3995640" y="3357720"/>
                <a:ext cx="288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3300"/>
                    </a:solidFill>
                    <a:latin typeface="Comic Sans MS"/>
                  </a:rPr>
                  <a:t>surf the se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5280" y="1557360"/>
                <a:ext cx="2303640" cy="1593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2" name=""/>
            <p:cNvGrpSpPr/>
            <p:nvPr/>
          </p:nvGrpSpPr>
          <p:grpSpPr>
            <a:xfrm>
              <a:off x="0" y="1693800"/>
              <a:ext cx="3851280" cy="2327040"/>
              <a:chOff x="0" y="1693800"/>
              <a:chExt cx="3851280" cy="232704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3500280"/>
                <a:ext cx="385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993300"/>
                    </a:solidFill>
                    <a:latin typeface="Comic Sans MS"/>
                  </a:rPr>
                  <a:t>see a cartoon movi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852480" y="1693800"/>
                <a:ext cx="2232000" cy="1575000"/>
                <a:chOff x="852480" y="1693800"/>
                <a:chExt cx="2232000" cy="1575000"/>
              </a:xfrm>
            </p:grpSpPr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52480" y="1693800"/>
                  <a:ext cx="2232000" cy="157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35000" y="1693800"/>
                  <a:ext cx="1905120" cy="153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07" name=""/>
          <p:cNvGrpSpPr/>
          <p:nvPr/>
        </p:nvGrpSpPr>
        <p:grpSpPr>
          <a:xfrm>
            <a:off x="324000" y="3860640"/>
            <a:ext cx="8424720" cy="2756160"/>
            <a:chOff x="324000" y="3860640"/>
            <a:chExt cx="8424720" cy="2756160"/>
          </a:xfrm>
        </p:grpSpPr>
        <p:grpSp>
          <p:nvGrpSpPr>
            <p:cNvPr id="208" name=""/>
            <p:cNvGrpSpPr/>
            <p:nvPr/>
          </p:nvGrpSpPr>
          <p:grpSpPr>
            <a:xfrm>
              <a:off x="1447920" y="4495680"/>
              <a:ext cx="6296040" cy="2121120"/>
              <a:chOff x="1447920" y="4495680"/>
              <a:chExt cx="6296040" cy="2121120"/>
            </a:xfrm>
          </p:grpSpPr>
          <p:sp>
            <p:nvSpPr>
              <p:cNvPr id="209" name=""/>
              <p:cNvSpPr/>
              <p:nvPr/>
            </p:nvSpPr>
            <p:spPr>
              <a:xfrm>
                <a:off x="1447920" y="4495680"/>
                <a:ext cx="6296040" cy="2121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cc99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0080"/>
                    </a:solidFill>
                    <a:latin typeface="Times New Roman"/>
                  </a:rPr>
                  <a:t>                                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647720" y="4648320"/>
                <a:ext cx="586764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0080"/>
                    </a:solidFill>
                    <a:latin typeface="Times New Roman"/>
                  </a:rPr>
                  <a:t>A: Have you ever </a:t>
                </a:r>
                <a:r>
                  <a:rPr b="1" i="1" lang="en-US" sz="2800" spc="-1" strike="noStrike" u="sng">
                    <a:solidFill>
                      <a:srgbClr val="993300"/>
                    </a:solidFill>
                    <a:uFillTx/>
                    <a:latin typeface="Times New Roman"/>
                  </a:rPr>
                  <a:t>had Beijing Duck</a:t>
                </a:r>
                <a:r>
                  <a:rPr b="1" lang="en-US" sz="2800" spc="-1" strike="noStrike">
                    <a:solidFill>
                      <a:srgbClr val="800080"/>
                    </a:solidFill>
                    <a:latin typeface="Times New Roman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0080"/>
                    </a:solidFill>
                    <a:latin typeface="Times New Roman"/>
                  </a:rPr>
                  <a:t>B: Yeah. I love it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0080"/>
                    </a:solidFill>
                    <a:latin typeface="Times New Roman"/>
                  </a:rPr>
                  <a:t>A: Have you ever had…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0080"/>
                    </a:solidFill>
                    <a:latin typeface="Times New Roman"/>
                  </a:rPr>
                  <a:t>B: Yeah. And it made me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324000" y="3860640"/>
              <a:ext cx="8424720" cy="93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2448000" cy="165744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160720" cy="827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172728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3527640" cy="1917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885080" y="393372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7164360" y="386064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7020000" y="1916280"/>
            <a:ext cx="1873080" cy="2098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6948360" y="3141720"/>
            <a:ext cx="762120" cy="1333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8381880" y="3716280"/>
            <a:ext cx="762120" cy="1333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116000" y="404640"/>
            <a:ext cx="802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华文新魏"/>
              </a:rPr>
              <a:t>给下面的公益广告写出广告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华文新魏"/>
              </a:rPr>
              <a:t>Try to write some slogans abou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6165720"/>
            <a:ext cx="40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Protect the envir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4221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Save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76720" y="5877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66"/>
                </a:solidFill>
                <a:latin typeface="Comic Sans MS"/>
              </a:rPr>
              <a:t>protect gree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76720" y="1052640"/>
            <a:ext cx="450216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omework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3200400" cy="1905120"/>
          </a:xfrm>
          <a:prstGeom prst="irregularSeal2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2133720"/>
            <a:ext cx="853272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1. 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Try to write some slogans about the     pictures on the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2. Talk about some products using some words in this class, and write down the conversations</a:t>
            </a:r>
            <a:r>
              <a:rPr b="1" lang="zh-CN" sz="2800" spc="-1" strike="noStrike">
                <a:solidFill>
                  <a:srgbClr val="993300"/>
                </a:solidFill>
                <a:latin typeface="Comic Sans MS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Find some slogans from newspaper or TV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2120" y="609480"/>
            <a:ext cx="160020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copy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600200" y="3733920"/>
            <a:ext cx="2057400" cy="761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3733920"/>
            <a:ext cx="2057400" cy="731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907920"/>
            <a:ext cx="4897440" cy="576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guess the 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920" y="333360"/>
            <a:ext cx="403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Just for fun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00200" y="3733920"/>
            <a:ext cx="2057400" cy="761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3733920"/>
            <a:ext cx="2057400" cy="731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6093000"/>
            <a:ext cx="187164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奇强贬日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hing pow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2000" y="378936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Pep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3429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N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3673800" cy="324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3313080" cy="302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47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2057400"/>
            <a:ext cx="51814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28600"/>
            <a:ext cx="5181480" cy="1828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00" y="404640"/>
            <a:ext cx="4897440" cy="576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guess the 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477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2057400"/>
            <a:ext cx="51814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477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809880" y="2895480"/>
            <a:ext cx="121932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z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86200" y="1523880"/>
            <a:ext cx="1981080" cy="11430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9a9a9a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333360"/>
            <a:ext cx="4897440" cy="576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guess the 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479400" y="4868640"/>
            <a:ext cx="203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do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管去做。（耐克运动鞋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3673440" cy="3241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1280" y="18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logans of some fam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692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广告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21200" y="4867920"/>
            <a:ext cx="30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for more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渴望无限。（百事流行鞋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3887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79920" y="4653000"/>
            <a:ext cx="532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make things better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我们做得更好。（飞利浦电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3959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07160" y="4507560"/>
            <a:ext cx="507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sible made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不可能变为可能。（佳能打印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3981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762800" cy="3809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47640" y="4653000"/>
            <a:ext cx="6696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eel the new space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受新境界。（三星电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8000" y="333360"/>
            <a:ext cx="755640" cy="57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a list of three products you like and three products you don’t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77336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447920" y="4495680"/>
            <a:ext cx="6296040" cy="2121120"/>
            <a:chOff x="1447920" y="4495680"/>
            <a:chExt cx="6296040" cy="2121120"/>
          </a:xfrm>
        </p:grpSpPr>
        <p:sp>
          <p:nvSpPr>
            <p:cNvPr id="145" name=""/>
            <p:cNvSpPr/>
            <p:nvPr/>
          </p:nvSpPr>
          <p:spPr>
            <a:xfrm>
              <a:off x="1447920" y="4495680"/>
              <a:ext cx="6296040" cy="2121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99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7720" y="4648320"/>
              <a:ext cx="58676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 like </a:t>
              </a: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Kebike Potato Chip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because they are delicious. But I don’t like </a:t>
              </a: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Heiren Toothpast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because it tastes terribl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7" name=""/>
          <p:cNvGraphicFramePr/>
          <p:nvPr/>
        </p:nvGraphicFramePr>
        <p:xfrm>
          <a:off x="1116000" y="1341360"/>
          <a:ext cx="6912000" cy="2951280"/>
        </p:xfrm>
        <a:graphic>
          <a:graphicData uri="http://schemas.openxmlformats.org/drawingml/2006/table">
            <a:tbl>
              <a:tblPr/>
              <a:tblGrid>
                <a:gridCol w="3552840"/>
                <a:gridCol w="335916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Products I l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Products I don’t l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08000" y="26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1676160" cy="2060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705720" y="0"/>
            <a:ext cx="1676160" cy="2060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" y="2057400"/>
            <a:ext cx="82296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ap                  shampoo             toothpaste              sun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724280"/>
            <a:ext cx="9144000" cy="181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se produ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y use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your friends say about the products and the a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743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484360" y="2924280"/>
            <a:ext cx="360036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roduct(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产品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)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"/>
          <p:cNvSpPr/>
          <p:nvPr/>
        </p:nvSpPr>
        <p:spPr>
          <a:xfrm>
            <a:off x="7164360" y="263700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keep out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3:03:48Z</dcterms:created>
  <dc:creator> </dc:creator>
  <dc:description> </dc:description>
  <cp:keywords/>
  <dc:language>en-US</dc:language>
  <cp:lastModifiedBy>User</cp:lastModifiedBy>
  <dcterms:modified xsi:type="dcterms:W3CDTF">2014-02-13T01:26:48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