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gif" ContentType="image/gif"/>
  <Override PartName="/ppt/media/image13.jpeg" ContentType="image/jpeg"/>
  <Override PartName="/ppt/media/image23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5.gif" ContentType="image/gif"/>
  <Override PartName="/ppt/media/image14.jpeg" ContentType="image/jpeg"/>
  <Override PartName="/ppt/media/image11.jpeg" ContentType="image/jpeg"/>
  <Override PartName="/ppt/media/image4.gif" ContentType="image/gif"/>
  <Override PartName="/ppt/media/image1.jpeg" ContentType="image/jpeg"/>
  <Override PartName="/ppt/media/image25.png" ContentType="image/pn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642-5268-4EB8-8514-38486DC3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639-874E-4045-8272-85B20107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B45-5D28-43CC-9D25-E6A0A2D8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727-FB6D-4F48-BEB8-8D6A53F4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57B-14D8-4BC4-A9A5-53EC0B69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620-6B84-4171-938D-482B0424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4C2-12EE-491D-82C0-01BC9CC7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392-44FB-4E41-8E0E-CDC662B1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B6A-EF00-4C7F-ACF8-993DD1A3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69A-E50F-4978-836D-AB9FF11C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D8E-EEB8-4DA5-856F-6EB2CC56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DEC-4E4D-4DBD-8309-69B21FD4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593B-D51B-44C7-97BF-54407EFE48A7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goda.com.cn/asia/china/shanghai/the_bund_hotel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3440" y="765000"/>
            <a:ext cx="272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99ff"/>
                </a:solidFill>
                <a:latin typeface="Arial"/>
              </a:rPr>
              <a:t>Unit 13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160" y="2852640"/>
            <a:ext cx="87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ff"/>
                </a:solidFill>
                <a:latin typeface="Comic Sans MS"/>
              </a:rPr>
              <a:t>Rainy days make me sad.</a:t>
            </a:r>
            <a:endParaRPr b="0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00360" y="4653000"/>
            <a:ext cx="23763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erdana"/>
              </a:rPr>
              <a:t>Section A 3a-4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5505480" y="4149720"/>
            <a:ext cx="19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ff"/>
                </a:solidFill>
                <a:latin typeface="Comic Sans MS"/>
              </a:rPr>
              <a:t>Period Ⅱ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7400" y="1484280"/>
            <a:ext cx="5940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A:  The seats are very hard. The 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white walls make me 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stressed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B:  Is it this classroom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A:  No, it isn’t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 rot="18043800">
            <a:off x="-732960" y="2059920"/>
            <a:ext cx="403236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9046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3333cc"/>
                  </a:solidFill>
                  <a:prstDash val="sysDot"/>
                  <a:miter/>
                </a:ln>
                <a:solidFill>
                  <a:srgbClr val="0000ff"/>
                </a:solidFill>
                <a:latin typeface="宋体"/>
              </a:rPr>
              <a:t>guess</a:t>
            </a:r>
            <a:endParaRPr b="0" lang="en-US" sz="1800" spc="1" strike="noStrike">
              <a:ln w="50760">
                <a:solidFill>
                  <a:srgbClr val="3333cc"/>
                </a:solidFill>
                <a:prstDash val="sysDot"/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57856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What kind of place do you want to describe?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620640"/>
            <a:ext cx="396072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What is it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80880"/>
            <a:ext cx="1143000" cy="762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b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300720" y="3429000"/>
            <a:ext cx="2843280" cy="3124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09880" y="4267080"/>
            <a:ext cx="3705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C:  Is it a hospital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A:  Yes, that’s right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84360" y="765000"/>
            <a:ext cx="1079280" cy="1200240"/>
            <a:chOff x="684360" y="765000"/>
            <a:chExt cx="1079280" cy="1200240"/>
          </a:xfrm>
        </p:grpSpPr>
        <p:pic>
          <p:nvPicPr>
            <p:cNvPr id="93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84360" y="765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84360" y="1628640"/>
              <a:ext cx="10792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700360" y="836640"/>
            <a:ext cx="42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Guess  the  places</a:t>
            </a:r>
            <a:br>
              <a:rPr sz="3600"/>
            </a:b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7560" y="1700280"/>
            <a:ext cx="8270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omic Sans MS"/>
              </a:rPr>
              <a:t>1.The seats are all teachers’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omic Sans MS"/>
              </a:rPr>
              <a:t>The atmosphere makes you nervous.Where is it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5240" y="307332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Teachers’ office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8800" y="4005360"/>
            <a:ext cx="90975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omic Sans MS"/>
              </a:rPr>
              <a:t>2.The lighting is colorful.</a:t>
            </a:r>
            <a:r>
              <a:rPr b="1" i="1" lang="en-US" sz="8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omic Sans MS"/>
              </a:rPr>
              <a:t>The loud music makes me want to dance.where is it?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2880" y="566100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Dancing  hal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280" y="185760"/>
            <a:ext cx="71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How do you feel about these things?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7440" y="2421000"/>
            <a:ext cx="37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pollution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152360"/>
            <a:ext cx="4741920" cy="5445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24360" y="4221000"/>
            <a:ext cx="28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Comic Sans MS"/>
              </a:rPr>
              <a:t>angry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55280" y="185760"/>
            <a:ext cx="71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How do you feel about these things?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769080" cy="4579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12000" y="5210280"/>
            <a:ext cx="511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heavy traffic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638172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6237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dangerous or crowded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280" y="185760"/>
            <a:ext cx="71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How do you feel about these things?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3895560" cy="2981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348000" y="1413000"/>
            <a:ext cx="4286160" cy="3190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148360" y="2492280"/>
            <a:ext cx="3905280" cy="3114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440" y="5734080"/>
            <a:ext cx="68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ndangered animals</a:t>
            </a:r>
            <a:endParaRPr b="0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092360" y="6005520"/>
            <a:ext cx="17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worried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280" y="185760"/>
            <a:ext cx="71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How do you feel about these things?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908000" y="836640"/>
            <a:ext cx="4783320" cy="4962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05080" y="58276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moking</a:t>
            </a:r>
            <a:endParaRPr b="0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643080" y="6093000"/>
            <a:ext cx="21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6165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sick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55280" y="185760"/>
            <a:ext cx="71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How do you feel about these things?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4826160" cy="3200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27640" y="2708280"/>
            <a:ext cx="4392360" cy="3300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9880" y="5113440"/>
            <a:ext cx="508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eople who 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keep you waiting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609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tired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011840" cy="247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67080" y="304920"/>
            <a:ext cx="4038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A: </a:t>
            </a: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How do you feel about</a:t>
            </a: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 pollution?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B: It makes me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kind of angry</a:t>
            </a: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. How about you?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A: It makes me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want to join a clean-up campaign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29600" y="228600"/>
            <a:ext cx="685800" cy="7621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971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How do you feel about  …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581280"/>
            <a:ext cx="6934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heavy traffic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loud noise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endangered animals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moking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people who keep you waiting?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4267080"/>
            <a:ext cx="4190760" cy="9144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Talk about these questions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with your partner?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76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sample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2664000" cy="1368360"/>
          </a:xfrm>
          <a:prstGeom prst="irregularSeal2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Task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700360" y="0"/>
            <a:ext cx="3438360" cy="1812960"/>
            <a:chOff x="2700360" y="0"/>
            <a:chExt cx="3438360" cy="18129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700360" y="0"/>
              <a:ext cx="343836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3203640" y="836640"/>
              <a:ext cx="263844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ff33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Comic Sans MS"/>
                </a:rPr>
                <a:t>Do a survey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533520" y="1676520"/>
          <a:ext cx="8353440" cy="4678200"/>
        </p:xfrm>
        <a:graphic>
          <a:graphicData uri="http://schemas.openxmlformats.org/drawingml/2006/table">
            <a:tbl>
              <a:tblPr/>
              <a:tblGrid>
                <a:gridCol w="4752720"/>
                <a:gridCol w="1343160"/>
                <a:gridCol w="22575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How do you feel about…?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You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Your friend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pollution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heavy traffic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loud noise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endangered animals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smoking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people who keep you waiting</a:t>
                      </a:r>
                      <a:endParaRPr b="0" lang="en-US" sz="24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51280" y="4724280"/>
            <a:ext cx="5292720" cy="2133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211640" y="620640"/>
            <a:ext cx="45021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omework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22606" t="27332" r="3690" b="0"/>
          <a:stretch/>
        </p:blipFill>
        <p:spPr>
          <a:xfrm>
            <a:off x="0" y="0"/>
            <a:ext cx="3960720" cy="249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10932" t="0" r="5715" b="13889"/>
          <a:stretch/>
        </p:blipFill>
        <p:spPr>
          <a:xfrm>
            <a:off x="0" y="1989000"/>
            <a:ext cx="7777080" cy="3527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2924280"/>
            <a:ext cx="81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Write a short passage about your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classroom. How does it make you feel?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9080" y="139680"/>
            <a:ext cx="73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800080"/>
                </a:solidFill>
                <a:latin typeface="Times New Roman"/>
              </a:rPr>
              <a:t>Look at the two places. 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Times New Roman"/>
              </a:rPr>
              <a:t>Which one do you like ? Why 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248000" cy="283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86200" y="1557360"/>
            <a:ext cx="4033800" cy="2890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37440" y="1557360"/>
            <a:ext cx="1497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9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0880" y="5205240"/>
            <a:ext cx="804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It makes me comfortable.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203640" y="1989000"/>
            <a:ext cx="338292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See you !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9800" y="139680"/>
            <a:ext cx="73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800080"/>
                </a:solidFill>
                <a:latin typeface="Times New Roman"/>
              </a:rPr>
              <a:t>Look at the two colors.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Times New Roman"/>
              </a:rPr>
              <a:t>Which one do you like ? Why 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773360"/>
            <a:ext cx="3240000" cy="30970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1916280"/>
            <a:ext cx="3240360" cy="309708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863640" cy="743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31680" y="5589720"/>
            <a:ext cx="875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The light color makes me relaxed.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9080" y="139680"/>
            <a:ext cx="859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800080"/>
                </a:solidFill>
                <a:latin typeface="Times New Roman"/>
              </a:rPr>
              <a:t>Look at the two pictures</a:t>
            </a:r>
            <a:r>
              <a:rPr b="1" i="1" lang="en-US" sz="9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i="1" lang="en-US" sz="4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Times New Roman"/>
              </a:rPr>
              <a:t>Which one  don’t   you  like ? Why 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2360" cy="331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189680" cy="3468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77080" y="2492280"/>
            <a:ext cx="11379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29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54000" y="5546880"/>
            <a:ext cx="935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The awful pictures make me sad.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6028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Listen to the music.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hich one do you like and which one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you don’t? Why 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84464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The loud music makes me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tense / exciting / want to dance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08464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The soft music makes me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relaxed / sleepy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958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32000" y="404640"/>
            <a:ext cx="6048360" cy="57636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Where would you like to go? Why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410544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95640" y="-193680"/>
            <a:ext cx="1839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9280" y="765000"/>
            <a:ext cx="802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Restaurant owners have to know how to make food. They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also have to know how to make money. Here are some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things they’ve learned from scientific studies. The color red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makes people hungry. Red also makes customers eat faster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Many fast food restaurants, therefore, have red furniture or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walls. Soft colors like pink and light blue make people relaxed,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so they spend more time eating their meals. Soft lighting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makes people look good, but it makes food look bad. Loud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music may be nice at first, but it soon makes people want to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leave. Hard seats also make customers want to eat quickly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and leave. Many restaurants, especially fast food restaurant,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use this knowledge to make customers eat faster. Customers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only sit for about 20 minutes before they leave. Because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customers don’t stay very long, small restaurants can serve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many people every day.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RESTAURANT</a:t>
            </a:r>
            <a:r>
              <a:rPr b="1" i="1" lang="en-US" sz="24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CIENCE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xit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86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80" y="404640"/>
            <a:ext cx="64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What does the color red make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most people feel 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231840" y="2060640"/>
            <a:ext cx="870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2. Why do so many fast food restaurants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paint their walls red, play loud music,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and have hard seats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304920" y="4797360"/>
            <a:ext cx="958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3. Do you think it’s fair that some restaurants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are designed to be uncomfortable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0360" cy="747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8280" y="1495440"/>
            <a:ext cx="89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color red makes people hungry and eat faster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9000" y="3645000"/>
            <a:ext cx="873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s restaurants want to make customers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at faster and leave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79280" y="1989000"/>
          <a:ext cx="8748720" cy="4064040"/>
        </p:xfrm>
        <a:graphic>
          <a:graphicData uri="http://schemas.openxmlformats.org/drawingml/2006/table">
            <a:tbl>
              <a:tblPr/>
              <a:tblGrid>
                <a:gridCol w="1708200"/>
                <a:gridCol w="1704960"/>
                <a:gridCol w="1706760"/>
                <a:gridCol w="1706400"/>
                <a:gridCol w="192240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Some things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50000">
                          <a:srgbClr val="ff7c80"/>
                        </a:gs>
                        <a:gs pos="100000">
                          <a:srgbClr val="cc00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Red color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Soft colors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Music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(loud )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Seats 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(hard)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Make people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50000">
                          <a:srgbClr val="ff7c80"/>
                        </a:gs>
                        <a:gs pos="100000">
                          <a:srgbClr val="cc00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Make food 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gradFill rotWithShape="0">
                      <a:gsLst>
                        <a:gs pos="0">
                          <a:srgbClr val="cc0099"/>
                        </a:gs>
                        <a:gs pos="50000">
                          <a:srgbClr val="ff7c80"/>
                        </a:gs>
                        <a:gs pos="100000">
                          <a:srgbClr val="cc00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____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solidFill>
                      <a:srgbClr val="ff66cc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0" y="0"/>
            <a:ext cx="3743280" cy="115092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Read again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685800"/>
            <a:ext cx="520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BatangChe"/>
                <a:ea typeface="BatangChe"/>
              </a:rPr>
              <a:t>Get more information and fill in the chart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3808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3357720"/>
            <a:ext cx="20574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800080"/>
                </a:solidFill>
                <a:latin typeface="Comic Sans MS"/>
              </a:rPr>
              <a:t>hungr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omic Sans MS"/>
              </a:rPr>
              <a:t>*eat faster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9640" y="3213000"/>
            <a:ext cx="205740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800080"/>
                </a:solidFill>
                <a:latin typeface="Comic Sans MS"/>
              </a:rPr>
              <a:t>*</a:t>
            </a:r>
            <a:r>
              <a:rPr b="1" i="1" lang="en-US" sz="2800" spc="-1" strike="noStrike">
                <a:solidFill>
                  <a:srgbClr val="800080"/>
                </a:solidFill>
                <a:latin typeface="Comic Sans MS"/>
              </a:rPr>
              <a:t>relaxed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omic Sans MS"/>
              </a:rPr>
              <a:t>*look  goo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want to leave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42900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want to eat quickly and leave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5157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omic Sans MS"/>
              </a:rPr>
              <a:t>look bad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1:58:56Z</dcterms:created>
  <dc:creator> </dc:creator>
  <dc:description> </dc:description>
  <cp:keywords/>
  <dc:language>en-US</dc:language>
  <cp:lastModifiedBy>User</cp:lastModifiedBy>
  <dcterms:modified xsi:type="dcterms:W3CDTF">2014-02-13T01:26:54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