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6816-63F8-4993-85CC-79807A0C055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</a:rPr>
              <a:t>be supposed to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Arial"/>
              </a:rPr>
              <a:t>       </a:t>
            </a:r>
            <a:r>
              <a:rPr b="1" lang="zh-CN" sz="1200" spc="-1" strike="noStrike">
                <a:solidFill>
                  <a:srgbClr val="0066ff"/>
                </a:solidFill>
                <a:latin typeface="Arial"/>
              </a:rPr>
              <a:t>be not supposed to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FB33-1FDA-4B2B-8776-CAB2B6D13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A78C-C1ED-4EC6-AE34-044C94A9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3F9B-C4B5-43F1-B590-E61AD4835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41DE-B176-4487-98A2-2F96C76A5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F9EE-4522-472C-8612-AA2D53D7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0BA1-72FA-4A7F-863A-1F72F00D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DEF2-3519-4FBC-9E26-A95F042A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9B02-73F5-4CAE-91A3-DCC425BB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4D96-9F21-4203-AC9A-AF0187DA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1A15-6D4D-4C6C-8780-DDE0DBCD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C918-8C20-49E3-8976-700DCA0D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3704-4415-4947-8319-7B6A2ED3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7A06-7501-492C-B74D-5BED725F5A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31280" y="404640"/>
            <a:ext cx="631944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ng a song:  Seasons in the s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11280" y="1413000"/>
            <a:ext cx="308592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e-mail English</a:t>
            </a:r>
            <a:endParaRPr b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431640" y="2349360"/>
            <a:ext cx="8820360" cy="3124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is supposed to be used_________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is not supposed to be used______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492280"/>
            <a:ext cx="468360" cy="1657440"/>
          </a:xfrm>
          <a:custGeom>
            <a:avLst/>
            <a:gdLst>
              <a:gd name="textAreaLeft" fmla="*/ 299160 w 468360"/>
              <a:gd name="textAreaRight" fmla="*/ 468720 w 46836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40360" y="2060640"/>
            <a:ext cx="45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32360" y="242100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ff"/>
                </a:solidFill>
                <a:latin typeface="Comic Sans MS"/>
              </a:rPr>
              <a:t>on a mobile 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70680" y="34146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ff"/>
                </a:solidFill>
                <a:latin typeface="Comic Sans MS"/>
              </a:rPr>
              <a:t>in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36320" y="333360"/>
            <a:ext cx="359136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华文彩云"/>
                <a:ea typeface="华文彩云"/>
              </a:rPr>
              <a:t>After You 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3600" y="1434960"/>
            <a:ext cx="8967960" cy="4359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99"/>
                </a:solidFill>
                <a:latin typeface="Times New Roman"/>
              </a:rPr>
              <a:t>E-mail English i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o have fun      b) to save time     c) to study f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3399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99"/>
                </a:solidFill>
                <a:latin typeface="Times New Roman"/>
              </a:rPr>
              <a:t>WBQ would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ith best wishes   b) which queue  c) write back quic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33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99"/>
                </a:solidFill>
                <a:latin typeface="Times New Roman"/>
              </a:rPr>
              <a:t>“</a:t>
            </a:r>
            <a:r>
              <a:rPr b="1" i="1" lang="en-US" sz="2800" spc="-1" strike="noStrike">
                <a:solidFill>
                  <a:srgbClr val="ff3399"/>
                </a:solidFill>
                <a:latin typeface="Times New Roman"/>
              </a:rPr>
              <a:t>Great” sounds most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ate                   b) get                 c) s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99"/>
                </a:solidFill>
                <a:latin typeface="Times New Roman"/>
              </a:rPr>
              <a:t>In e-mail English, punctuation marks ar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ormally       b) instead of      c) to show feel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3399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99"/>
                </a:solidFill>
                <a:latin typeface="Times New Roman"/>
              </a:rPr>
              <a:t>E-mail English is supposed to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)   on mobile phones           b) in class          c) in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43280" y="1916280"/>
            <a:ext cx="504720" cy="43164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24360" y="2781360"/>
            <a:ext cx="505080" cy="43164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3645000"/>
            <a:ext cx="505080" cy="43164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32360" y="4437000"/>
            <a:ext cx="504720" cy="4320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5300640"/>
            <a:ext cx="505080" cy="4320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539640" y="1268280"/>
          <a:ext cx="8101080" cy="5307120"/>
        </p:xfrm>
        <a:graphic>
          <a:graphicData uri="http://schemas.openxmlformats.org/drawingml/2006/table">
            <a:tbl>
              <a:tblPr/>
              <a:tblGrid>
                <a:gridCol w="4176720"/>
                <a:gridCol w="3924360"/>
              </a:tblGrid>
              <a:tr h="2920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Do these two on your own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had a great weeken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 yo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Oh no! I am going to be lat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My e-mail English ide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83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Do these two with a partner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have seen that movie four times. It’s grea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cuse me. Could you please help me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Our e-mail English ide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11" name=""/>
          <p:cNvSpPr txBox="1"/>
          <p:nvPr/>
        </p:nvSpPr>
        <p:spPr>
          <a:xfrm>
            <a:off x="1332000" y="189000"/>
            <a:ext cx="4000320" cy="49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Narrow"/>
              </a:rPr>
              <a:t>Co-operative Time!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Narrow"/>
              <a:ea typeface="Arial Narrow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692280"/>
            <a:ext cx="83170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Monotype Corsiva"/>
              </a:rPr>
              <a:t>Complete the chart and discuss your answers with your part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91600" y="1916280"/>
            <a:ext cx="373932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e4ff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had a gr8 weekend &amp; 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83680" y="2781360"/>
            <a:ext cx="3742200" cy="459720"/>
          </a:xfrm>
          <a:prstGeom prst="rect">
            <a:avLst/>
          </a:prstGeom>
          <a:solidFill>
            <a:srgbClr val="b2e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-no! I’m going 2B L8 ;-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931280" y="4437000"/>
            <a:ext cx="350460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I’ve cn that movie 4 x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It’s gr8 ;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003640" y="5589720"/>
            <a:ext cx="3313440" cy="825480"/>
          </a:xfrm>
          <a:prstGeom prst="rect">
            <a:avLst/>
          </a:prstGeom>
          <a:solidFill>
            <a:srgbClr val="b2e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qz me, cd u pls help 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268360" y="2205000"/>
            <a:ext cx="4824720" cy="1297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Self Check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95280" y="1483920"/>
            <a:ext cx="8229600" cy="5373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arrive    meet   spend    behave    ima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People in Japan and America ________ differently at the dinner 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You can  __________ how different the table manners here are from o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In Singapore,the trains always _________ on time. They are never l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 On Chinese NewYear, people like to ________ time with their fami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I usually _________ my friends in the library on Friday nigh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0"/>
            <a:ext cx="7886520" cy="13737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1. Fill in each blank with the correct word giv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Change the form of the word if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Then make your own sentences with each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35640" y="1989000"/>
            <a:ext cx="140292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be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40360" y="2924280"/>
            <a:ext cx="155988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ima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24360" y="3860640"/>
            <a:ext cx="124596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arr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18160" y="4797360"/>
            <a:ext cx="119736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sp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56720" y="5734080"/>
            <a:ext cx="101736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m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8013600" cy="5157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When I first ate in a western restaurant, I didn’t know what I was supposed to do. Everything was unfamiliar. I was used to eating with  chopsticks and a spoon, but I had to eat with a knife, a fork and a spoon. And I had not just one set to use, but two or three of each. Questiongs crowed my mind. Was I supposed to begin with the largest ones or the smallest? Was I supposed to start at the outside and work in or the inside and work out? Was I supposed to hold the spoon in my left hand of my right hand? What I finally decided to do wa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9600" y="260280"/>
            <a:ext cx="7758000" cy="1373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 about Fan Ling’s experience in a wester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taurant. Think about how you would solve 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 and finish Fan Ling’s s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94920" y="907920"/>
            <a:ext cx="8280360" cy="5329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apanese and Koreans do this when they meet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ericans do this with their hands when they meet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azilians do this in Brazil when they m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cr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eat with these in Japan, Korea and Ch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cut your food with this in the United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835280" y="33336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mplete the crossword</a:t>
            </a:r>
            <a:endParaRPr b="1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89800" y="1773360"/>
            <a:ext cx="813240" cy="520560"/>
          </a:xfrm>
          <a:prstGeom prst="rect">
            <a:avLst/>
          </a:prstGeom>
          <a:solidFill>
            <a:srgbClr val="e4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49440" y="2637000"/>
            <a:ext cx="1050840" cy="520560"/>
          </a:xfrm>
          <a:prstGeom prst="rect">
            <a:avLst/>
          </a:prstGeom>
          <a:solidFill>
            <a:srgbClr val="e4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813080" y="2924280"/>
            <a:ext cx="755280" cy="520560"/>
          </a:xfrm>
          <a:prstGeom prst="rect">
            <a:avLst/>
          </a:prstGeom>
          <a:solidFill>
            <a:srgbClr val="e4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i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33440" y="4941720"/>
            <a:ext cx="1762560" cy="520560"/>
          </a:xfrm>
          <a:prstGeom prst="rect">
            <a:avLst/>
          </a:prstGeom>
          <a:solidFill>
            <a:srgbClr val="e4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psti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65800" y="5877000"/>
            <a:ext cx="951840" cy="520560"/>
          </a:xfrm>
          <a:prstGeom prst="rect">
            <a:avLst/>
          </a:prstGeom>
          <a:solidFill>
            <a:srgbClr val="e4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n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46840" y="2852640"/>
            <a:ext cx="8593200" cy="2348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W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ubbish seek chatline online type e-mail beside mark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Target Language :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ow to write e—mail Engl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916360" y="1484280"/>
            <a:ext cx="3527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ummary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random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09320" y="3573360"/>
            <a:ext cx="6802920" cy="155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Find more information ab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e-mail English.Write a note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some friends using e-mail Eng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484360" y="2276640"/>
            <a:ext cx="29512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omework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random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95280" y="333360"/>
            <a:ext cx="496872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hanks for listening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187280" y="2997360"/>
            <a:ext cx="655344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Reading &amp; Self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9640" y="1844640"/>
            <a:ext cx="8136000" cy="1511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Unit  12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You're supposed to shake hands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207280" y="5950080"/>
            <a:ext cx="936720" cy="718920"/>
          </a:xfrm>
          <a:prstGeom prst="smileyFace">
            <a:avLst>
              <a:gd name="adj" fmla="val 9282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39640" y="2349360"/>
            <a:ext cx="8207640" cy="273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Reading  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You're supposed to write quickly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059280" y="260280"/>
            <a:ext cx="2881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discussion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557360"/>
            <a:ext cx="442764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427640" y="1196640"/>
            <a:ext cx="471636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27640" y="2997360"/>
            <a:ext cx="0" cy="38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31680" y="981000"/>
            <a:ext cx="52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to do on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 rot="1076400">
            <a:off x="856800" y="1630080"/>
            <a:ext cx="28544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 </a:t>
            </a: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be supposed to do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" name=""/>
          <p:cNvSpPr txBox="1"/>
          <p:nvPr/>
        </p:nvSpPr>
        <p:spPr>
          <a:xfrm rot="20252400">
            <a:off x="4962600" y="1425240"/>
            <a:ext cx="3125880" cy="6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 </a:t>
            </a: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be not supposed to do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" name=""/>
          <p:cNvSpPr/>
          <p:nvPr/>
        </p:nvSpPr>
        <p:spPr>
          <a:xfrm>
            <a:off x="1189440" y="3068640"/>
            <a:ext cx="199728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nd e- 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3933720"/>
            <a:ext cx="418788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look up some im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1800" y="4797360"/>
            <a:ext cx="240588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y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8520" y="5734080"/>
            <a:ext cx="274860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t with 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50520" y="3860640"/>
            <a:ext cx="3256200" cy="9471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something abo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eaking the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755640" y="1268280"/>
            <a:ext cx="30862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e-mail English</a:t>
            </a:r>
            <a:endParaRPr b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1116000" y="2205000"/>
            <a:ext cx="7777080" cy="3385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5400" spc="-1" strike="noStrike">
                <a:solidFill>
                  <a:srgbClr val="333399"/>
                </a:solidFill>
                <a:latin typeface="Monotype Corsiva"/>
              </a:rPr>
              <a:t>is a new kind of written English that is being used to save tim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80000" y="134136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51280" y="620640"/>
            <a:ext cx="3673440" cy="3750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  <a:ea typeface="隶书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  <a:ea typeface="隶书"/>
              </a:rPr>
              <a:t>abbrevi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  <a:ea typeface="隶书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  <a:ea typeface="隶书"/>
              </a:rPr>
              <a:t>homoph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  <a:ea typeface="隶书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  <a:ea typeface="隶书"/>
              </a:rPr>
              <a:t>punctuation ma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4360" y="1413000"/>
            <a:ext cx="308592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e-mail English</a:t>
            </a:r>
            <a:endParaRPr b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0" name=""/>
          <p:cNvSpPr/>
          <p:nvPr/>
        </p:nvSpPr>
        <p:spPr>
          <a:xfrm>
            <a:off x="3924360" y="836640"/>
            <a:ext cx="79200" cy="1655640"/>
          </a:xfrm>
          <a:custGeom>
            <a:avLst/>
            <a:gdLst>
              <a:gd name="textAreaLeft" fmla="*/ 50760 w 79200"/>
              <a:gd name="textAreaRight" fmla="*/ 79560 w 7920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3500280"/>
            <a:ext cx="8137440" cy="13737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Can you write an example of each on your ow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77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770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4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48440" y="1125360"/>
            <a:ext cx="752652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Can you read these following express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50240" y="1916280"/>
            <a:ext cx="861840" cy="5814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F2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81520" y="2637000"/>
            <a:ext cx="2177280" cy="5814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How R U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74360" y="3429000"/>
            <a:ext cx="1073880" cy="5814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C U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78600" y="4221000"/>
            <a:ext cx="1082880" cy="5814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BT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9600" y="4941720"/>
            <a:ext cx="1395360" cy="5814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CUL8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93760" y="1844640"/>
            <a:ext cx="2372400" cy="581400"/>
          </a:xfrm>
          <a:prstGeom prst="rect">
            <a:avLst/>
          </a:prstGeom>
          <a:solidFill>
            <a:srgbClr val="b2e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ce to 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6480" y="2637000"/>
            <a:ext cx="2768400" cy="581400"/>
          </a:xfrm>
          <a:prstGeom prst="rect">
            <a:avLst/>
          </a:prstGeom>
          <a:solidFill>
            <a:srgbClr val="b2e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are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78640" y="3357720"/>
            <a:ext cx="1785600" cy="581400"/>
          </a:xfrm>
          <a:prstGeom prst="rect">
            <a:avLst/>
          </a:prstGeom>
          <a:solidFill>
            <a:srgbClr val="b2e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e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81160" y="4149720"/>
            <a:ext cx="2356920" cy="581400"/>
          </a:xfrm>
          <a:prstGeom prst="rect">
            <a:avLst/>
          </a:prstGeom>
          <a:solidFill>
            <a:srgbClr val="b2e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 th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12480" y="4941720"/>
            <a:ext cx="2768400" cy="581400"/>
          </a:xfrm>
          <a:prstGeom prst="rect">
            <a:avLst/>
          </a:prstGeom>
          <a:solidFill>
            <a:srgbClr val="b2e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e you lat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8200" y="333360"/>
            <a:ext cx="393876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华文彩云"/>
                <a:ea typeface="华文彩云"/>
              </a:rPr>
              <a:t>Before You 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55640" y="2637000"/>
            <a:ext cx="7872480" cy="3018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Why do many people use e-mail Engl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How many types does e-mail English 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are th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When can  we use e-mail Engl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Can we use it in class or in a t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y? When can we use it t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43120" y="1130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05680" y="549360"/>
            <a:ext cx="371628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华文彩云"/>
                <a:ea typeface="华文彩云"/>
              </a:rPr>
              <a:t>While You 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1600" y="1628640"/>
            <a:ext cx="811152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 the article and answer the following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91960" y="476280"/>
            <a:ext cx="359136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华文彩云"/>
                <a:ea typeface="华文彩云"/>
              </a:rPr>
              <a:t>After You 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42920" y="1484280"/>
            <a:ext cx="68407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3 types of e-mail English at the top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each column.  Give an exa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4280" y="2852640"/>
            <a:ext cx="3732120" cy="3141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bbrevi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2.homoph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3.emotic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84720" y="342900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84720" y="465300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84720" y="587700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60000" y="2781360"/>
            <a:ext cx="2125440" cy="5814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  <a:ea typeface="华文新魏"/>
              </a:rPr>
              <a:t>BTW, CS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58560" y="4005360"/>
            <a:ext cx="2219760" cy="5814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  <a:ea typeface="华文新魏"/>
              </a:rPr>
              <a:t>gr8, CUL8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36360" y="5084640"/>
            <a:ext cx="452160" cy="5814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  <a:ea typeface="华文新魏"/>
              </a:rPr>
              <a:t>: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04:50:49Z</dcterms:created>
  <dc:creator> </dc:creator>
  <dc:description> </dc:description>
  <dc:language>en-US</dc:language>
  <cp:lastModifiedBy>微软用户</cp:lastModifiedBy>
  <dcterms:modified xsi:type="dcterms:W3CDTF">2013-07-14T21:50:23Z</dcterms:modified>
  <cp:revision>0</cp:revision>
  <dc:subject> </dc:subject>
  <dc:title> </dc:title>
</cp:coreProperties>
</file>