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7.jpeg" ContentType="image/jpeg"/>
  <Override PartName="/ppt/media/image12.jpeg" ContentType="image/jpeg"/>
  <Override PartName="/ppt/media/image4.gif" ContentType="image/gif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3AC-1730-4421-A111-E818AA34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CAE-0D0A-4B5D-AD92-C93A50B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2A6-1FBC-4980-B634-5051013D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E5C-523D-430F-8CC7-9406F428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F51-7A12-42EE-B4EE-987DDBF7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509-E582-4E30-AFBC-0118F38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FE3-98BE-4E2F-AD11-644A5498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24B-E128-4DD1-B896-5AFE820F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A88-DD10-4D6D-8033-232E5C9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7CD-23A2-43A8-A7F7-9409C83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3E0-4615-4C5A-AA32-A869811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466-8F38-4753-B7D1-289A4AC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15BF-3D03-45D1-9DDB-D39056A9C5F6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13372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uld y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u ple</a:t>
            </a:r>
            <a:r>
              <a:rPr b="0" lang="en-US" sz="54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e t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ll m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 where th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 r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tr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oo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ms </a:t>
            </a:r>
            <a:r>
              <a:rPr b="0" lang="en-US" sz="5400" spc="-1" strike="noStrike">
                <a:solidFill>
                  <a:srgbClr val="cc0099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r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 ?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907920"/>
            <a:ext cx="280836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nit 11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640" y="4076640"/>
            <a:ext cx="4680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ction B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4537080" cy="3062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2394000"/>
            <a:ext cx="4465440" cy="326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3697200"/>
            <a:ext cx="4465440" cy="318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89000"/>
            <a:ext cx="30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mall</a:t>
            </a:r>
            <a:r>
              <a:rPr b="0" lang="en-US" sz="8000" spc="-1" strike="noStrike">
                <a:solidFill>
                  <a:srgbClr val="800080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63160" y="2349360"/>
            <a:ext cx="160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saf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9560" y="12906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clean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7000" y="5589720"/>
            <a:ext cx="331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beautiful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8160" y="4653000"/>
            <a:ext cx="40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convenient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89680" y="3500280"/>
            <a:ext cx="42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70800" y="4797360"/>
            <a:ext cx="160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saf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57440" y="5805360"/>
            <a:ext cx="40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convenient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9640" y="47242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uncrowded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5734080"/>
            <a:ext cx="42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581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82400" y="0"/>
            <a:ext cx="3256200" cy="1099440"/>
          </a:xfrm>
          <a:prstGeom prst="rect">
            <a:avLst/>
          </a:prstGeom>
          <a:gradFill rotWithShape="0">
            <a:gsLst>
              <a:gs pos="0">
                <a:srgbClr val="c064df"/>
              </a:gs>
              <a:gs pos="50000">
                <a:srgbClr val="9900cc"/>
              </a:gs>
              <a:gs pos="100000">
                <a:srgbClr val="c064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ubway</a:t>
            </a:r>
            <a:endParaRPr b="0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40000" y="404640"/>
            <a:ext cx="4349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IRWORK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914760" y="2492280"/>
            <a:ext cx="698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The Fine Arts Museum is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really interesting.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26000" y="4149720"/>
            <a:ext cx="75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Yes, and it’s beautiful, too.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9760" y="196560"/>
            <a:ext cx="3251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a Lis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1413000"/>
          <a:ext cx="7632720" cy="4535280"/>
        </p:xfrm>
        <a:graphic>
          <a:graphicData uri="http://schemas.openxmlformats.org/drawingml/2006/table">
            <a:tbl>
              <a:tblPr/>
              <a:tblGrid>
                <a:gridCol w="4032360"/>
                <a:gridCol w="3600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he tourists ask about…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nversation 1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Restaurants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nversation 2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nversation 3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291280" y="3787920"/>
            <a:ext cx="286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trooms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1280" y="4946760"/>
            <a:ext cx="277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useums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8120" y="115920"/>
            <a:ext cx="1235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1268280"/>
          <a:ext cx="8686800" cy="4973760"/>
        </p:xfrm>
        <a:graphic>
          <a:graphicData uri="http://schemas.openxmlformats.org/drawingml/2006/table">
            <a:tbl>
              <a:tblPr/>
              <a:tblGrid>
                <a:gridCol w="3352680"/>
                <a:gridCol w="5334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he tourists should go to…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nversation 1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nversation 2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nversation 3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3635280" y="24782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Green Land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2004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corner of market and Middle Streets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46483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computer museum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340000" y="404640"/>
            <a:ext cx="4349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IRWORK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42880" y="2492280"/>
            <a:ext cx="847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Can you tell me where there’s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a good place to eat?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3480" y="4149720"/>
            <a:ext cx="814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Of course. What kind of food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do you like?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9072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676520"/>
            <a:ext cx="9677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.copy new words several times.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.Recite 2a ,2b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Made up new conversations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66880" y="380880"/>
            <a:ext cx="4267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Homework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6320" y="2441520"/>
            <a:ext cx="870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With your group, and show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ow to get to the right place.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404640"/>
            <a:ext cx="4349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ON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11280" y="5084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2492280"/>
            <a:ext cx="8353440" cy="1008000"/>
          </a:xfrm>
          <a:prstGeom prst="flowChartPunchedTape">
            <a:avLst/>
          </a:prstGeom>
          <a:gradFill rotWithShape="0">
            <a:gsLst>
              <a:gs pos="0">
                <a:srgbClr val="cc0099">
                  <a:alpha val="86274"/>
                </a:srgbClr>
              </a:gs>
              <a:gs pos="50000">
                <a:srgbClr val="e274c7">
                  <a:alpha val="88235"/>
                </a:srgbClr>
              </a:gs>
              <a:gs pos="100000">
                <a:srgbClr val="cc0099">
                  <a:alpha val="86274"/>
                </a:srgbClr>
              </a:gs>
            </a:gsLst>
            <a:lin ang="13500000"/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74920" y="15559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122480" y="836640"/>
            <a:ext cx="172872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1338120"/>
            <a:ext cx="1730520" cy="173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2245320" y="3045600"/>
            <a:ext cx="6310080" cy="936720"/>
          </a:xfrm>
          <a:prstGeom prst="flowChartPunchedTape">
            <a:avLst/>
          </a:prstGeom>
          <a:gradFill rotWithShape="0">
            <a:gsLst>
              <a:gs pos="0">
                <a:srgbClr val="cc0099">
                  <a:alpha val="86274"/>
                </a:srgbClr>
              </a:gs>
              <a:gs pos="50000">
                <a:srgbClr val="e274c7">
                  <a:alpha val="88235"/>
                </a:srgbClr>
              </a:gs>
              <a:gs pos="100000">
                <a:srgbClr val="cc0099">
                  <a:alpha val="86274"/>
                </a:srgbClr>
              </a:gs>
            </a:gsLst>
            <a:lin ang="8100000"/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940360" y="1197000"/>
            <a:ext cx="1114560" cy="1238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0" y="109692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rugstore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6720" y="25369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ank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8160" y="112536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afé house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9280" y="421164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56610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75120" y="2565360"/>
            <a:ext cx="33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Daily’s department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63240" y="1339920"/>
            <a:ext cx="10947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Main center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340000" y="404640"/>
            <a:ext cx="4349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ON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839880" y="1752480"/>
            <a:ext cx="34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interestin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uncrowded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beautiful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saf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92120" y="1812960"/>
            <a:ext cx="223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有趣的 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不贵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不太拥挤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漂亮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安全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340000" y="404640"/>
            <a:ext cx="43498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ON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901800" y="1828800"/>
            <a:ext cx="319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fascinatin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delicious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bi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convenient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clean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5640" y="1889280"/>
            <a:ext cx="31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精彩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美味的</a:t>
            </a: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可口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大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方便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干净的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373280" cy="2782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00600" y="129528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 Black"/>
                <a:ea typeface="宋体-方正超大字符集"/>
              </a:rPr>
              <a:t>restroom</a:t>
            </a:r>
            <a:r>
              <a:rPr b="0" lang="en-US" sz="6000" spc="-1" strike="noStrike">
                <a:solidFill>
                  <a:srgbClr val="800080"/>
                </a:solidFill>
                <a:latin typeface="Arial Black"/>
                <a:ea typeface="宋体-方正超大字符集"/>
              </a:rPr>
              <a:t>s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0920" y="43434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clean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5240" y="49528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uncrowded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040" y="5715000"/>
            <a:ext cx="42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4046400" cy="392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3352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What qualities are important for each place?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2868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352680" y="1295280"/>
            <a:ext cx="4454640" cy="314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174920" cy="313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00520" y="25560"/>
            <a:ext cx="42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Arial"/>
              </a:rPr>
              <a:t>museum</a:t>
            </a:r>
            <a:r>
              <a:rPr b="0" lang="en-US" sz="7200" spc="-1" strike="noStrike">
                <a:solidFill>
                  <a:srgbClr val="800080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8280" y="4149720"/>
            <a:ext cx="399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  <a:ea typeface="宋体-18030"/>
              </a:rPr>
              <a:t>interestin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2400" y="5013360"/>
            <a:ext cx="42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440" y="5899320"/>
            <a:ext cx="40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fascinatin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428796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038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56000" y="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Arial"/>
              </a:rPr>
              <a:t>restaurant</a:t>
            </a:r>
            <a:r>
              <a:rPr b="0" lang="en-US" sz="7200" spc="-1" strike="noStrike">
                <a:solidFill>
                  <a:srgbClr val="800080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720" y="5899320"/>
            <a:ext cx="209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Clean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01600" y="5157720"/>
            <a:ext cx="42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35000" y="4365720"/>
            <a:ext cx="321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delicious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032000" cy="294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4819680" cy="3413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19720" y="3733920"/>
            <a:ext cx="4321080" cy="287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867280" y="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parks</a:t>
            </a:r>
            <a:endParaRPr b="0" lang="en-US" sz="7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0" y="4149720"/>
            <a:ext cx="331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beautiful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840" y="32130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bi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93600" y="5013360"/>
            <a:ext cx="427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inexpensive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200" y="59436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clean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7960" y="2895480"/>
            <a:ext cx="401976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interestin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omic Sans MS"/>
              </a:rPr>
              <a:t>fascinating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3:32:09Z</dcterms:created>
  <dc:creator> </dc:creator>
  <dc:description> </dc:description>
  <cp:keywords/>
  <dc:language>en-US</dc:language>
  <cp:lastModifiedBy>User</cp:lastModifiedBy>
  <dcterms:modified xsi:type="dcterms:W3CDTF">2014-02-13T01:22:23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