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gif" ContentType="image/gif"/>
  <Override PartName="/ppt/media/image10.jpeg" ContentType="image/jpeg"/>
  <Override PartName="/ppt/media/image54.png" ContentType="image/png"/>
  <Override PartName="/ppt/media/image51.gif" ContentType="image/gif"/>
  <Override PartName="/ppt/media/image53.png" ContentType="image/png"/>
  <Override PartName="/ppt/media/image50.gif" ContentType="image/gif"/>
  <Override PartName="/ppt/media/image49.jpeg" ContentType="image/jpeg"/>
  <Override PartName="/ppt/media/image48.gif" ContentType="image/gif"/>
  <Override PartName="/ppt/media/image37.jpeg" ContentType="image/jpeg"/>
  <Override PartName="/ppt/media/image3.jpeg" ContentType="image/jpeg"/>
  <Override PartName="/ppt/media/image23.jpeg" ContentType="image/jpeg"/>
  <Override PartName="/ppt/media/image56.gif" ContentType="image/gif"/>
  <Override PartName="/ppt/media/image59.png" ContentType="image/png"/>
  <Override PartName="/ppt/media/image2.jpeg" ContentType="image/jpeg"/>
  <Override PartName="/ppt/media/image35.jpeg" ContentType="image/jpeg"/>
  <Override PartName="/ppt/media/image1.jpeg" ContentType="image/jpeg"/>
  <Override PartName="/ppt/media/image24.jpeg" ContentType="image/jpeg"/>
  <Override PartName="/ppt/media/image27.gif" ContentType="image/gif"/>
  <Override PartName="/ppt/media/image62.png" ContentType="image/png"/>
  <Override PartName="/ppt/media/image22.jpeg" ContentType="image/jpeg"/>
  <Override PartName="/ppt/media/image14.png" ContentType="image/png"/>
  <Override PartName="/ppt/media/image39.gif" ContentType="image/gif"/>
  <Override PartName="/ppt/media/image16.jpeg" ContentType="image/jpeg"/>
  <Override PartName="/ppt/media/image64.png" ContentType="image/png"/>
  <Override PartName="/ppt/media/image63.png" ContentType="image/png"/>
  <Override PartName="/ppt/media/image21.jpeg" ContentType="image/jpeg"/>
  <Override PartName="/ppt/media/chimes.wav" ContentType="audio/x-wav"/>
  <Override PartName="/ppt/media/image15.png" ContentType="image/png"/>
  <Override PartName="/ppt/media/image18.jpeg" ContentType="image/jpeg"/>
  <Override PartName="/ppt/media/image60.png" ContentType="image/png"/>
  <Override PartName="/ppt/media/image6.jpeg" ContentType="image/jpeg"/>
  <Override PartName="/ppt/media/type.wav" ContentType="audio/x-wav"/>
  <Override PartName="/ppt/media/image4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17.png" ContentType="image/png"/>
  <Override PartName="/ppt/media/image26.jpeg" ContentType="image/jpeg"/>
  <Override PartName="/ppt/media/image61.png" ContentType="image/png"/>
  <Override PartName="/ppt/media/image5.jpeg" ContentType="image/jpeg"/>
  <Override PartName="/ppt/media/image7.jpeg" ContentType="image/jpeg"/>
  <Override PartName="/ppt/media/image41.gif" ContentType="image/gif"/>
  <Override PartName="/ppt/media/image8.jpeg" ContentType="image/jpeg"/>
  <Override PartName="/ppt/media/image13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58.gif" ContentType="image/gif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9.jpeg" ContentType="image/jpeg"/>
  <Override PartName="/ppt/media/image36.png" ContentType="image/png"/>
  <Override PartName="/ppt/media/image43.gif" ContentType="image/gif"/>
  <Override PartName="/ppt/media/image38.gif" ContentType="image/gif"/>
  <Override PartName="/ppt/media/image40.gif" ContentType="image/gif"/>
  <Override PartName="/ppt/media/image42.gif" ContentType="image/gif"/>
  <Override PartName="/ppt/media/image44.jpeg" ContentType="image/jpeg"/>
  <Override PartName="/ppt/media/image45.jpeg" ContentType="image/jpeg"/>
  <Override PartName="/ppt/media/image55.gif" ContentType="image/gif"/>
  <Override PartName="/ppt/media/image46.jpeg" ContentType="image/jpeg"/>
  <Override PartName="/ppt/media/image65.gif" ContentType="image/gif"/>
  <Override PartName="/ppt/media/image4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604-E440-4C63-B6CF-BA1687ED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A22C-CCF4-4CEB-8915-0139D496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227D-1559-4864-9518-2DB4EA39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25A-7BF6-4A3B-A0EA-76757F51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B68-7983-4A75-BFDF-4579BF1B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7C3-FF44-4D61-A133-AB5070D3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01F-708D-4081-A8DA-FD98E8E4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E67-E0D6-4541-8292-6C709A75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5D7-71CF-4329-AF89-3E3EDDA8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1C4-DB62-463C-862B-5088D19E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B96-8BBC-474E-814C-C1E1F071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007-8042-491B-9C83-D0ED5BAD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0945-A2C3-4538-8CB5-0AD9B87782AB}" type="slidenum"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log.sina.com.cn/main/html/showpic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E&#318;&#2037;%EA&amp;in=21058&amp;cl=2&amp;cm=1&amp;sc=0&amp;lm=-1&amp;pn=0&amp;rn=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zapharm.com/company_DS_intr.htm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climans.com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99sc.net/2005/5-29/52911237.html" TargetMode="External"/><Relationship Id="rId3" Type="http://schemas.openxmlformats.org/officeDocument/2006/relationships/image" Target="../media/image33.jpeg"/><Relationship Id="rId4" Type="http://schemas.openxmlformats.org/officeDocument/2006/relationships/hyperlink" Target="http://www.pep.com.cn/200410/ca628321.htm" TargetMode="External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35.jpeg"/><Relationship Id="rId3" Type="http://schemas.openxmlformats.org/officeDocument/2006/relationships/hyperlink" Target="http://www.ad-beidou.com/docc/nhds.htm" TargetMode="External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3.gif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pep.com.cn/200410/ca595990.htm" TargetMode="External"/><Relationship Id="rId2" Type="http://schemas.openxmlformats.org/officeDocument/2006/relationships/image" Target="../media/image49.jpeg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57.gi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260280"/>
            <a:ext cx="9144000" cy="234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1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Could you please tell m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where the restrooms are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4221000"/>
            <a:ext cx="730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80"/>
                </a:solidFill>
                <a:uFillTx/>
                <a:latin typeface="Book Antiqua"/>
                <a:ea typeface="华文行楷"/>
              </a:rPr>
              <a:t>Language goal: 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90033"/>
                </a:solidFill>
                <a:latin typeface="Book Antiqua"/>
              </a:rPr>
              <a:t>Ask for information politely.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132000" y="2708280"/>
            <a:ext cx="30942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Section A1a-2c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379080" y="3500280"/>
            <a:ext cx="9443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33"/>
                </a:solidFill>
                <a:latin typeface="Book Antiqua"/>
              </a:rPr>
              <a:t>        </a:t>
            </a:r>
            <a:r>
              <a:rPr b="1" lang="en-US" sz="6600" spc="-1" strike="noStrike">
                <a:solidFill>
                  <a:srgbClr val="990033"/>
                </a:solidFill>
                <a:latin typeface="Book Antiqua"/>
              </a:rPr>
              <a:t>buy some stamps </a:t>
            </a:r>
            <a:endParaRPr b="0" lang="en-US" sz="6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Book Antiqua"/>
              </a:rPr>
              <a:t>    </a:t>
            </a:r>
            <a:r>
              <a:rPr b="1" lang="en-US" sz="6600" spc="-1" strike="noStrike">
                <a:solidFill>
                  <a:srgbClr val="990033"/>
                </a:solidFill>
                <a:latin typeface="Book Antiqua"/>
              </a:rPr>
              <a:t>and post a letter</a:t>
            </a:r>
            <a:endParaRPr b="0" lang="en-US" sz="6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620640"/>
            <a:ext cx="23432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362640" cy="4357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09840" y="4797360"/>
            <a:ext cx="497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Book Antiqua"/>
              </a:rPr>
              <a:t>    </a:t>
            </a:r>
            <a:r>
              <a:rPr b="1" lang="en-US" sz="6000" spc="-1" strike="noStrike">
                <a:solidFill>
                  <a:srgbClr val="800080"/>
                </a:solidFill>
                <a:latin typeface="Book Antiqua"/>
              </a:rPr>
              <a:t>post office</a:t>
            </a:r>
            <a:endParaRPr b="0" lang="en-US" sz="6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3040" y="1989000"/>
            <a:ext cx="924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Book Antiqua"/>
              </a:rPr>
              <a:t>buy some writing paper</a:t>
            </a:r>
            <a:endParaRPr b="0" lang="en-US" sz="6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03640" y="3284640"/>
            <a:ext cx="26319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03280" y="5516640"/>
            <a:ext cx="65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ook Antiqua"/>
              </a:rPr>
              <a:t>stationer </a:t>
            </a:r>
            <a:r>
              <a:rPr b="1" lang="zh-CN" sz="4000" spc="-1" strike="noStrike">
                <a:solidFill>
                  <a:srgbClr val="800080"/>
                </a:solidFill>
                <a:latin typeface="Book Antiqua"/>
              </a:rPr>
              <a:t>文具店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341360"/>
            <a:ext cx="5473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924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Book Antiqua"/>
              </a:rPr>
              <a:t>get some magazines/dictionaries</a:t>
            </a:r>
            <a:endParaRPr b="0" lang="en-US" sz="6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29213" r="0" b="0"/>
          <a:stretch/>
        </p:blipFill>
        <p:spPr>
          <a:xfrm>
            <a:off x="324000" y="549360"/>
            <a:ext cx="3025800" cy="2732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156360" y="549360"/>
            <a:ext cx="2141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3085"/>
          <a:stretch/>
        </p:blipFill>
        <p:spPr>
          <a:xfrm>
            <a:off x="1908000" y="620640"/>
            <a:ext cx="5185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44520" y="2492280"/>
            <a:ext cx="856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Book Antiqua"/>
              </a:rPr>
              <a:t>make a telephone call</a:t>
            </a:r>
            <a:endParaRPr b="0" lang="en-US" sz="6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3500280"/>
            <a:ext cx="51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Century Gothic"/>
              </a:rPr>
              <a:t>打电话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16000" y="501336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ook Antiqua"/>
              </a:rPr>
              <a:t>telephone booth</a:t>
            </a:r>
            <a:r>
              <a:rPr b="1" lang="zh-CN" sz="4000" spc="-1" strike="noStrike">
                <a:solidFill>
                  <a:srgbClr val="800080"/>
                </a:solidFill>
                <a:latin typeface="Book Antiqua"/>
              </a:rPr>
              <a:t>电话亭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535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4040" y="2565360"/>
            <a:ext cx="754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Book Antiqua"/>
              </a:rPr>
              <a:t>buy some medicine</a:t>
            </a:r>
            <a:endParaRPr b="0" lang="en-US" sz="6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404640"/>
            <a:ext cx="5937480" cy="509616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619280" y="544500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ook Antiqua"/>
              </a:rPr>
              <a:t>drugstore </a:t>
            </a:r>
            <a:r>
              <a:rPr b="1" lang="zh-CN" sz="4400" spc="-1" strike="noStrike">
                <a:solidFill>
                  <a:srgbClr val="800080"/>
                </a:solidFill>
                <a:latin typeface="Book Antiqua"/>
              </a:rPr>
              <a:t>药房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9000" y="2205000"/>
            <a:ext cx="926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Book Antiqua"/>
              </a:rPr>
              <a:t>take out some money</a:t>
            </a:r>
            <a:endParaRPr b="0" lang="en-US" sz="66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990033"/>
                </a:solidFill>
                <a:uFillTx/>
                <a:latin typeface="Book Antiqua"/>
              </a:rPr>
              <a:t>save money</a:t>
            </a:r>
            <a:endParaRPr b="0" lang="en-US" sz="6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42210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Century Gothic"/>
              </a:rPr>
              <a:t>存钱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19700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Where can we …?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260280"/>
            <a:ext cx="43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ave a try!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79600" y="2565360"/>
            <a:ext cx="856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Book Antiqua"/>
              </a:rPr>
              <a:t>buy some furniture</a:t>
            </a:r>
            <a:r>
              <a:rPr b="1" lang="zh-CN" sz="4400" spc="-1" strike="noStrike">
                <a:solidFill>
                  <a:srgbClr val="800080"/>
                </a:solidFill>
                <a:latin typeface="Book Antiqua"/>
              </a:rPr>
              <a:t>家具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47640" y="5300640"/>
            <a:ext cx="75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ook Antiqua"/>
              </a:rPr>
              <a:t>furniture store </a:t>
            </a:r>
            <a:r>
              <a:rPr b="1" lang="zh-CN" sz="4400" spc="-1" strike="noStrike">
                <a:solidFill>
                  <a:srgbClr val="800080"/>
                </a:solidFill>
                <a:latin typeface="Book Antiqua"/>
              </a:rPr>
              <a:t>家具店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0"/>
            <a:ext cx="6192720" cy="5183280"/>
          </a:xfrm>
          <a:prstGeom prst="rect">
            <a:avLst/>
          </a:prstGeom>
          <a:ln w="936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551640" cy="4749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86900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 Black"/>
              </a:rPr>
              <a:t>mall</a:t>
            </a:r>
            <a:r>
              <a:rPr b="1" lang="zh-CN" sz="4400" spc="-1" strike="noStrike">
                <a:solidFill>
                  <a:srgbClr val="800080"/>
                </a:solidFill>
                <a:latin typeface="Arial Black"/>
              </a:rPr>
              <a:t>购物商场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5080" y="5424480"/>
            <a:ext cx="554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GungsuhChe"/>
                <a:ea typeface="GungsuhChe"/>
              </a:rPr>
              <a:t>hang out</a:t>
            </a:r>
            <a:endParaRPr b="0" lang="en-US" sz="8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Lucy Van Pelt"/>
          <p:cNvPicPr/>
          <p:nvPr/>
        </p:nvPicPr>
        <p:blipFill>
          <a:blip r:embed="rId1"/>
          <a:stretch/>
        </p:blipFill>
        <p:spPr>
          <a:xfrm>
            <a:off x="755640" y="620640"/>
            <a:ext cx="2355840" cy="4103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87280" y="4941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Lucy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91" name="" descr="市区滨江夜景"/>
          <p:cNvPicPr/>
          <p:nvPr/>
        </p:nvPicPr>
        <p:blipFill>
          <a:blip r:embed="rId2"/>
          <a:stretch/>
        </p:blipFill>
        <p:spPr>
          <a:xfrm>
            <a:off x="4067280" y="1557360"/>
            <a:ext cx="4321080" cy="2787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0" y="5084640"/>
            <a:ext cx="3276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Taizhou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4643280" y="1125360"/>
            <a:ext cx="2305080" cy="1152720"/>
            <a:chOff x="4643280" y="1125360"/>
            <a:chExt cx="2305080" cy="115272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4643280" y="1125360"/>
              <a:ext cx="118620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5762520" y="1125360"/>
              <a:ext cx="1185840" cy="115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"/>
          <p:cNvSpPr/>
          <p:nvPr/>
        </p:nvSpPr>
        <p:spPr>
          <a:xfrm>
            <a:off x="5148360" y="404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amps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732720" y="2565360"/>
            <a:ext cx="2090520" cy="1488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407280" y="4292640"/>
            <a:ext cx="273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riting paper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100160" cy="244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92360" y="1268280"/>
            <a:ext cx="2286000" cy="11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hampoo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洗发剂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01" name="" descr="Lucy Van Pelt"/>
          <p:cNvPicPr/>
          <p:nvPr/>
        </p:nvPicPr>
        <p:blipFill>
          <a:blip r:embed="rId5"/>
          <a:stretch/>
        </p:blipFill>
        <p:spPr>
          <a:xfrm>
            <a:off x="250920" y="4724280"/>
            <a:ext cx="1033200" cy="1800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32000" y="2637000"/>
            <a:ext cx="4824360" cy="1152360"/>
          </a:xfrm>
          <a:prstGeom prst="wedgeRoundRectCallout">
            <a:avLst>
              <a:gd name="adj1" fmla="val -54574"/>
              <a:gd name="adj2" fmla="val 141324"/>
              <a:gd name="adj3" fmla="val 16667"/>
            </a:avLst>
          </a:prstGeom>
          <a:solidFill>
            <a:srgbClr val="99cc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a. Hey, where I can buy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hampoo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4365720"/>
            <a:ext cx="4392360" cy="1584360"/>
          </a:xfrm>
          <a:prstGeom prst="wedgeRoundRectCallout">
            <a:avLst>
              <a:gd name="adj1" fmla="val -65143"/>
              <a:gd name="adj2" fmla="val 16032"/>
              <a:gd name="adj3" fmla="val 16667"/>
            </a:avLst>
          </a:prstGeom>
          <a:solidFill>
            <a:srgbClr val="99cc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b. Could you please tell me whe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can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buy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hampoo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NEW IDEA MAGAZINES X 4 - 1970'S"/>
          <p:cNvPicPr/>
          <p:nvPr/>
        </p:nvPicPr>
        <p:blipFill>
          <a:blip r:embed="rId1"/>
          <a:stretch/>
        </p:blipFill>
        <p:spPr>
          <a:xfrm>
            <a:off x="2627280" y="3429000"/>
            <a:ext cx="2041560" cy="1531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11280" y="5084640"/>
            <a:ext cx="28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t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some magazines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63700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t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a dictionary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692280"/>
            <a:ext cx="2819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t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information about the city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348000" y="260280"/>
            <a:ext cx="1768680" cy="273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580000" y="4149720"/>
            <a:ext cx="2857680" cy="1581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867280" y="5661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ve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money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867280" y="1844640"/>
            <a:ext cx="1935360" cy="165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219640" y="357336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ke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a telephone call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353440" cy="5619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189000"/>
            <a:ext cx="1152360" cy="72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a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333360"/>
            <a:ext cx="1152360" cy="72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a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47640" y="692280"/>
            <a:ext cx="2160720" cy="642600"/>
          </a:xfrm>
          <a:prstGeom prst="rect">
            <a:avLst/>
          </a:prstGeom>
          <a:solidFill>
            <a:srgbClr val="99cc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activities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43640" y="692280"/>
            <a:ext cx="1871640" cy="642600"/>
          </a:xfrm>
          <a:prstGeom prst="rect">
            <a:avLst/>
          </a:prstGeom>
          <a:solidFill>
            <a:srgbClr val="99cc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places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1341360"/>
          <a:ext cx="8353440" cy="4572000"/>
        </p:xfrm>
        <a:graphic>
          <a:graphicData uri="http://schemas.openxmlformats.org/drawingml/2006/table">
            <a:tbl>
              <a:tblPr/>
              <a:tblGrid>
                <a:gridCol w="5904000"/>
                <a:gridCol w="244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buy shampoo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get some magazines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make a telephone call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get a dictionary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92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get some information about the town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buy some writing paper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buy some stamps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save money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516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. drugstore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551664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. bank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4720" y="5516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. department store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. library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59500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. post office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24720" y="134136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/ a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97840" y="184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a / d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97840" y="234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a / e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20000" y="2852640"/>
            <a:ext cx="100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97840" y="2852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d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97840" y="3357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d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97840" y="393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a / c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97840" y="443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e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97840" y="4941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b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98920" y="1341360"/>
            <a:ext cx="3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c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4000" y="404640"/>
            <a:ext cx="502920" cy="43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756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1b Listen and complete the conversations.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619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01840" y="4076640"/>
            <a:ext cx="3241440" cy="119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Could you tell me where I can       ______________  </a:t>
            </a:r>
            <a:endParaRPr b="0" lang="en-US" sz="3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5120" y="2247840"/>
            <a:ext cx="353088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xcuse me . Do you know where I can __________?</a:t>
            </a:r>
            <a:endParaRPr b="0" lang="en-US" sz="3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3789360"/>
            <a:ext cx="2592360" cy="119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Yes. There’s a _________ on ____________.</a:t>
            </a:r>
            <a:endParaRPr b="0" lang="en-US" sz="3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18200" y="1844640"/>
            <a:ext cx="18748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Sure. There’s a ____ on _________.</a:t>
            </a:r>
            <a:endParaRPr b="0" lang="en-US" sz="3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4000" y="404640"/>
            <a:ext cx="502920" cy="43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756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1b Listen and complete the conversations.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619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01840" y="4076640"/>
            <a:ext cx="3241440" cy="119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Could you tell me where I can       ______________  </a:t>
            </a:r>
            <a:endParaRPr b="0" lang="en-US" sz="3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5120" y="2247840"/>
            <a:ext cx="353088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xcuse me . Do you know where I can __________?</a:t>
            </a:r>
            <a:endParaRPr b="0" lang="en-US" sz="3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32000" y="4751280"/>
            <a:ext cx="32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buy some stamps</a:t>
            </a:r>
            <a:endParaRPr b="0" lang="en-US" sz="3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5840" y="2924280"/>
            <a:ext cx="22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ave money</a:t>
            </a:r>
            <a:endParaRPr b="0" lang="en-US" sz="3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3789360"/>
            <a:ext cx="2592360" cy="119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Yes. There’s a _________ on ____________.</a:t>
            </a:r>
            <a:endParaRPr b="0" lang="en-US" sz="3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4062240"/>
            <a:ext cx="187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ost office</a:t>
            </a:r>
            <a:endParaRPr b="0" lang="en-US" sz="3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2920" y="4465800"/>
            <a:ext cx="24498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enter Street</a:t>
            </a:r>
            <a:endParaRPr b="0" lang="en-US" sz="3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18200" y="1844640"/>
            <a:ext cx="18748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Sure. There’s a ____ on _________.</a:t>
            </a:r>
            <a:endParaRPr b="0" lang="en-US" sz="3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64200" y="252252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bank</a:t>
            </a:r>
            <a:endParaRPr b="0" lang="en-US" sz="3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48360" y="2908440"/>
            <a:ext cx="216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ain Street</a:t>
            </a:r>
            <a:endParaRPr b="0" lang="en-US" sz="3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193080" cy="4789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46000" y="5226120"/>
            <a:ext cx="209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ook Antiqua"/>
              </a:rPr>
              <a:t>bank</a:t>
            </a:r>
            <a:endParaRPr b="0" lang="en-US" sz="6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6560" y="568440"/>
            <a:ext cx="7850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versation 1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irl1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Excuse me. Could you tell me where I can buy some stamps?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Boy1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Yes. There’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a post office on Center Stree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irl1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h. Can you tell me where Center Street is?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Boy1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Sure.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Go past the bank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 Center Street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on your righ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irl1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Thanks a lo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Boy1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o problem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55640" y="496800"/>
            <a:ext cx="7777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versation 2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Girl2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Excuse me. Do you know where I can save money?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oy2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Sure. There’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a bank on Main Stree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Girl2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h. Could you please tell me how to get there?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oy2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Yes...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Go straight ahead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 The bank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on your lef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Girl2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Thank you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Boy2: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You’re welcome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3573360"/>
            <a:ext cx="8640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80"/>
                </a:solidFill>
                <a:latin typeface="华文新魏"/>
                <a:ea typeface="华文新魏"/>
              </a:rPr>
              <a:t>Could you please tell me where …?</a:t>
            </a:r>
            <a:endParaRPr b="0" lang="en-US" sz="4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457200"/>
            <a:ext cx="7848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sk for information politely 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55736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华文新魏"/>
                <a:ea typeface="华文新魏"/>
              </a:rPr>
              <a:t>Do you know where/if …?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87280" y="4724280"/>
            <a:ext cx="846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华文新魏"/>
                <a:ea typeface="华文新魏"/>
              </a:rPr>
              <a:t>Can you tell me how I can get to …?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22240" cy="777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822240" cy="777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822240" cy="777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822240" cy="777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16000" y="24210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华文新魏"/>
                <a:ea typeface="华文新魏"/>
              </a:rPr>
              <a:t>Can you tell me where …?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324000" y="5589720"/>
            <a:ext cx="822240" cy="777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71640" y="5589720"/>
            <a:ext cx="8640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80"/>
                </a:solidFill>
                <a:latin typeface="华文新魏"/>
                <a:ea typeface="华文新魏"/>
              </a:rPr>
              <a:t>Could you tell me how to get to …?</a:t>
            </a:r>
            <a:endParaRPr b="0" lang="en-US" sz="4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4" dur="75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9" dur="75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4" dur="75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9" dur="75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4" dur="75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15800" y="4800600"/>
            <a:ext cx="873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 you tell m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where I can buy some stamps ?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194680" cy="3736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5040" y="0"/>
            <a:ext cx="425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buy some stamp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92520" y="4218120"/>
            <a:ext cx="764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uld you tell me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__________________?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51040" y="4903920"/>
            <a:ext cx="638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Times New Roman"/>
              </a:rPr>
              <a:t>where I can save money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3733920" cy="29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877280" y="865080"/>
            <a:ext cx="317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save money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78120" y="4038480"/>
            <a:ext cx="80323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uld  you please tell me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__________________________?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7640" y="4653000"/>
            <a:ext cx="744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Times New Roman"/>
              </a:rPr>
              <a:t>where I can get a dictionary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39800" y="1243080"/>
            <a:ext cx="391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get a dictionary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889080" cy="3956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22400" y="4038480"/>
            <a:ext cx="9019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o you know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________________________?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6080" y="5257800"/>
            <a:ext cx="84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Times New Roman"/>
              </a:rPr>
              <a:t>where I can get some magazines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560" y="206280"/>
            <a:ext cx="529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get some magazines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98560" y="2743200"/>
            <a:ext cx="2459160" cy="3427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28600" y="380880"/>
            <a:ext cx="53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Could you tell me where I can </a:t>
            </a:r>
            <a:r>
              <a:rPr b="1" lang="en-US" sz="3600" spc="-1" strike="noStrike" u="sng">
                <a:solidFill>
                  <a:srgbClr val="cc3300"/>
                </a:solidFill>
                <a:uFillTx/>
                <a:latin typeface="华文新魏"/>
                <a:ea typeface="华文新魏"/>
              </a:rPr>
              <a:t>get some stamps</a:t>
            </a:r>
            <a:r>
              <a:rPr b="1" lang="en-US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3276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1371600"/>
            <a:ext cx="3132000" cy="4572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4920" y="167652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Yes. There’s a </a:t>
            </a:r>
            <a:r>
              <a:rPr b="1" lang="en-US" sz="3600" spc="-1" strike="noStrike" u="sng">
                <a:solidFill>
                  <a:srgbClr val="006600"/>
                </a:solidFill>
                <a:uFillTx/>
                <a:latin typeface="华文新魏"/>
                <a:ea typeface="华文新魏"/>
              </a:rPr>
              <a:t>post office</a:t>
            </a:r>
            <a:r>
              <a:rPr b="1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 on </a:t>
            </a:r>
            <a:r>
              <a:rPr b="1" lang="en-US" sz="3600" spc="-1" strike="noStrike" u="sng">
                <a:solidFill>
                  <a:srgbClr val="006600"/>
                </a:solidFill>
                <a:uFillTx/>
                <a:latin typeface="华文新魏"/>
                <a:ea typeface="华文新魏"/>
              </a:rPr>
              <a:t>Center Street</a:t>
            </a:r>
            <a:r>
              <a:rPr b="1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64000" y="587700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enter street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35640" y="6524280"/>
            <a:ext cx="3240000" cy="7308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836640"/>
            <a:ext cx="2209680" cy="127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200400"/>
            <a:ext cx="3429000" cy="2367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132000" y="836640"/>
            <a:ext cx="60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华文新魏"/>
                <a:ea typeface="华文新魏"/>
              </a:rPr>
              <a:t>Excuse me. Do you know where I can </a:t>
            </a:r>
            <a:r>
              <a:rPr b="1" lang="en-US" sz="4000" spc="-1" strike="noStrike" u="sng">
                <a:solidFill>
                  <a:srgbClr val="800080"/>
                </a:solidFill>
                <a:uFillTx/>
                <a:latin typeface="华文新魏"/>
                <a:ea typeface="华文新魏"/>
              </a:rPr>
              <a:t>save money</a:t>
            </a:r>
            <a:r>
              <a:rPr b="1" lang="en-US" sz="4000" spc="-1" strike="noStrike">
                <a:solidFill>
                  <a:srgbClr val="800080"/>
                </a:solidFill>
                <a:latin typeface="华文新魏"/>
                <a:ea typeface="华文新魏"/>
              </a:rPr>
              <a:t>?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11640" y="3645000"/>
            <a:ext cx="493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300"/>
                </a:solidFill>
                <a:latin typeface="华文新魏"/>
                <a:ea typeface="华文新魏"/>
              </a:rPr>
              <a:t>Sure. There’s a </a:t>
            </a:r>
            <a:r>
              <a:rPr b="1" lang="en-US" sz="42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bank</a:t>
            </a:r>
            <a:r>
              <a:rPr b="1" lang="en-US" sz="4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on </a:t>
            </a:r>
            <a:r>
              <a:rPr b="1" lang="en-US" sz="42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Main Street</a:t>
            </a:r>
            <a:r>
              <a:rPr b="1" lang="en-US" sz="42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0" lang="en-US" sz="4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4360" y="6381360"/>
            <a:ext cx="3240000" cy="7308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566100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Main street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3886200" cy="4800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304920"/>
            <a:ext cx="8915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-Could you tell me ______________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______________?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-Yes. There’s a 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                             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drugstor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99ff33"/>
                </a:solidFill>
                <a:uFillTx/>
                <a:latin typeface="Times New Roman"/>
              </a:rPr>
              <a:t>on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the 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in Street. It’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4400" spc="-1" strike="noStrike" u="sng">
                <a:solidFill>
                  <a:srgbClr val="99ff33"/>
                </a:solidFill>
                <a:uFillTx/>
                <a:latin typeface="Times New Roman"/>
              </a:rPr>
              <a:t>next to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the bank.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1440" y="1371600"/>
            <a:ext cx="367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some medicin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22860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Times New Roman"/>
              </a:rPr>
              <a:t>where I can get some medicin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47640" y="5516640"/>
            <a:ext cx="49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6160" y="2781360"/>
            <a:ext cx="726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Book Antiqua"/>
              </a:rPr>
              <a:t>buy shampoo    </a:t>
            </a:r>
            <a:endParaRPr b="0" lang="en-US" sz="66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Book Antiqua"/>
              </a:rPr>
              <a:t>buy some snacks</a:t>
            </a:r>
            <a:endParaRPr b="0" lang="en-US" sz="6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20000" y="981000"/>
            <a:ext cx="1100160" cy="244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95640" y="328464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95280" y="2133720"/>
            <a:ext cx="8353440" cy="1008000"/>
          </a:xfrm>
          <a:prstGeom prst="flowChartPunchedTape">
            <a:avLst/>
          </a:prstGeom>
          <a:gradFill rotWithShape="0">
            <a:gsLst>
              <a:gs pos="0">
                <a:srgbClr val="cc0099">
                  <a:alpha val="86274"/>
                </a:srgbClr>
              </a:gs>
              <a:gs pos="50000">
                <a:srgbClr val="e274c7">
                  <a:alpha val="88235"/>
                </a:srgbClr>
              </a:gs>
              <a:gs pos="100000">
                <a:srgbClr val="cc0099">
                  <a:alpha val="86274"/>
                </a:srgbClr>
              </a:gs>
            </a:gsLst>
            <a:lin ang="13500000"/>
          </a:gra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708360" y="148428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403280" y="836640"/>
            <a:ext cx="1728720" cy="2376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0" y="1338120"/>
            <a:ext cx="1730520" cy="1730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5400000">
            <a:off x="2245320" y="2686680"/>
            <a:ext cx="6310440" cy="936720"/>
          </a:xfrm>
          <a:prstGeom prst="flowChartPunchedTape">
            <a:avLst/>
          </a:prstGeom>
          <a:gradFill rotWithShape="0">
            <a:gsLst>
              <a:gs pos="0">
                <a:srgbClr val="cc0099">
                  <a:alpha val="86274"/>
                </a:srgbClr>
              </a:gs>
              <a:gs pos="50000">
                <a:srgbClr val="e274c7">
                  <a:alpha val="88235"/>
                </a:srgbClr>
              </a:gs>
              <a:gs pos="100000">
                <a:srgbClr val="cc0099">
                  <a:alpha val="86274"/>
                </a:srgbClr>
              </a:gs>
            </a:gsLst>
            <a:lin ang="8100000"/>
          </a:gra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5796000" y="1197000"/>
            <a:ext cx="1114560" cy="1238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620640"/>
            <a:ext cx="29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an’s drugstore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9800" y="9079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bank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35280" y="765000"/>
            <a:ext cx="19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illeen’s Café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57440" y="357336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73800" y="378936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b82e"/>
                </a:solidFill>
                <a:latin typeface="Arial"/>
              </a:rPr>
              <a:t>post office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189000"/>
            <a:ext cx="27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Daily’s department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store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63240" y="692280"/>
            <a:ext cx="10947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800080"/>
                </a:solidFill>
                <a:latin typeface="Arial"/>
              </a:rPr>
              <a:t>Center Street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492280"/>
            <a:ext cx="49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Arial"/>
              </a:rPr>
              <a:t>Main Street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17" name="" descr="Lucy Van Pelt"/>
          <p:cNvPicPr/>
          <p:nvPr/>
        </p:nvPicPr>
        <p:blipFill>
          <a:blip r:embed="rId7"/>
          <a:stretch/>
        </p:blipFill>
        <p:spPr>
          <a:xfrm>
            <a:off x="5580000" y="2276640"/>
            <a:ext cx="73332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4000" y="4508640"/>
            <a:ext cx="8570880" cy="18248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Lucy: Excuse me. Could you please tell me whe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can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9900cc"/>
                </a:solidFill>
                <a:uFillTx/>
                <a:latin typeface="Arial"/>
              </a:rPr>
              <a:t>buy shampoo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tranger : Sure. There’s </a:t>
            </a:r>
            <a:r>
              <a:rPr b="1" lang="en-US" sz="3200" spc="-1" strike="noStrike" u="sng">
                <a:solidFill>
                  <a:srgbClr val="9900cc"/>
                </a:solidFill>
                <a:uFillTx/>
                <a:latin typeface="Arial"/>
              </a:rPr>
              <a:t>a drugstore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on Main Street.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920" y="3573360"/>
            <a:ext cx="1863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High Tower Text"/>
              </a:rPr>
              <a:t>Pairwork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211640" y="3789360"/>
            <a:ext cx="2628720" cy="259092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429000" cy="22860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1042920" y="5445000"/>
            <a:ext cx="198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Times New Roman"/>
              </a:rPr>
              <a:t>mall</a:t>
            </a:r>
            <a:endParaRPr b="0" lang="en-US" sz="60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648320" y="457200"/>
            <a:ext cx="2171520" cy="296712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224" name=""/>
          <p:cNvSpPr/>
          <p:nvPr/>
        </p:nvSpPr>
        <p:spPr>
          <a:xfrm>
            <a:off x="6804000" y="1341360"/>
            <a:ext cx="2340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Times New Roman"/>
              </a:rPr>
              <a:t>elevator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6720" y="4869000"/>
            <a:ext cx="2627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Times New Roman"/>
              </a:rPr>
              <a:t>escalator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533520" y="3200400"/>
            <a:ext cx="3504960" cy="2367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877080" y="220500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电梯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升降机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77080" y="566100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电动扶梯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51640" y="2781360"/>
            <a:ext cx="936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lift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332000" y="1557360"/>
            <a:ext cx="792000" cy="79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957240" cy="765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176120" y="1528920"/>
            <a:ext cx="7140600" cy="384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Listen . You will hear some of the directors below. Number the directions in the order that you hear them.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58920" y="1484280"/>
            <a:ext cx="11224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2a</a:t>
            </a:r>
            <a:endParaRPr b="0" lang="en-US" sz="5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0" y="1824120"/>
            <a:ext cx="9144000" cy="3124080"/>
            <a:chOff x="0" y="1824120"/>
            <a:chExt cx="9144000" cy="3124080"/>
          </a:xfrm>
        </p:grpSpPr>
        <p:sp>
          <p:nvSpPr>
            <p:cNvPr id="235" name=""/>
            <p:cNvSpPr/>
            <p:nvPr/>
          </p:nvSpPr>
          <p:spPr>
            <a:xfrm>
              <a:off x="0" y="1824120"/>
              <a:ext cx="9144000" cy="31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8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0" y="1824120"/>
              <a:ext cx="9144000" cy="3124080"/>
              <a:chOff x="0" y="1824120"/>
              <a:chExt cx="9144000" cy="3124080"/>
            </a:xfrm>
          </p:grpSpPr>
          <p:sp>
            <p:nvSpPr>
              <p:cNvPr id="237" name=""/>
              <p:cNvSpPr/>
              <p:nvPr/>
            </p:nvSpPr>
            <p:spPr>
              <a:xfrm>
                <a:off x="0" y="1824120"/>
                <a:ext cx="9144000" cy="312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8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1824120"/>
                <a:ext cx="9144000" cy="312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zh-CN" sz="199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800080"/>
                  </a:solidFill>
                  <a:latin typeface="Arial"/>
                </a:endParaRPr>
              </a:p>
            </p:txBody>
          </p:sp>
        </p:grpSp>
      </p:grpSp>
      <p:pic>
        <p:nvPicPr>
          <p:cNvPr id="2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447920"/>
            <a:ext cx="3487680" cy="49910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600200" y="3276720"/>
            <a:ext cx="18288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380880" y="228600"/>
            <a:ext cx="6705720" cy="243828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9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How does he walk 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to the drugstore?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7238880" y="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020000" y="0"/>
            <a:ext cx="792000" cy="79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957240" cy="7650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859280" y="764640"/>
            <a:ext cx="428472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Listen . You will hear some of the directors below. Number the directions in the order that you hear them.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20000" y="0"/>
            <a:ext cx="11221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2a</a:t>
            </a:r>
            <a:endParaRPr b="0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50920" y="333360"/>
            <a:ext cx="720720" cy="863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00000" y="33336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MS PGothic"/>
                <a:ea typeface="MS PGothic"/>
              </a:rPr>
              <a:t>Number the directions in the order that you hear.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98200" y="1700280"/>
            <a:ext cx="8239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Times New Roman"/>
              </a:rPr>
              <a:t>Take the elevator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 to </a:t>
            </a:r>
            <a:r>
              <a:rPr b="1" i="1" lang="en-US" sz="4000" spc="-1" strike="noStrike">
                <a:solidFill>
                  <a:srgbClr val="800080"/>
                </a:solidFill>
                <a:latin typeface="Times New Roman"/>
              </a:rPr>
              <a:t>the second floor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Turn left.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Take the escalator to the second floor.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Turn right.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The drugstore is </a:t>
            </a:r>
            <a:r>
              <a:rPr b="1" i="1" lang="en-US" sz="4000" spc="-1" strike="noStrike">
                <a:solidFill>
                  <a:srgbClr val="800080"/>
                </a:solidFill>
                <a:latin typeface="Times New Roman"/>
              </a:rPr>
              <a:t>between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 the furniture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store </a:t>
            </a:r>
            <a:r>
              <a:rPr b="1" i="1" lang="en-US" sz="4000" spc="-1" strike="noStrike">
                <a:solidFill>
                  <a:srgbClr val="800080"/>
                </a:solidFill>
                <a:latin typeface="Times New Roman"/>
              </a:rPr>
              <a:t>and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 the bookstore.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Times New Roman"/>
              </a:rPr>
              <a:t>Go past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 the bank.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2205000"/>
            <a:ext cx="79200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3284640"/>
            <a:ext cx="79200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933720"/>
            <a:ext cx="79200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4508640"/>
            <a:ext cx="79200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0920" y="5734080"/>
            <a:ext cx="79200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2781360"/>
            <a:ext cx="79200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6720" y="220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6720" y="400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9800" y="5226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720" y="2781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404640"/>
            <a:ext cx="11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2a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8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020000" y="0"/>
            <a:ext cx="792000" cy="79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957240" cy="765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859280" y="764640"/>
            <a:ext cx="428472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Listen again. Show how the boy walks to the drugstore. Draw a line on the picture above.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20000" y="0"/>
            <a:ext cx="11221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2b</a:t>
            </a:r>
            <a:endParaRPr b="0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flipV="1">
            <a:off x="4038480" y="3048120"/>
            <a:ext cx="685800" cy="1295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724280" y="2205000"/>
            <a:ext cx="495360" cy="766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3657600" y="1752120"/>
            <a:ext cx="1752480" cy="3049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505320" y="1143000"/>
            <a:ext cx="304560" cy="5335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317080" y="76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3" dur="80823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24000" y="0"/>
            <a:ext cx="8820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oy1: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Excuse me. Can you tell me where I can buy some shampoo?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Boy2: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Yes. There’s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 drug store on the second floor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 Um.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Let me think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..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ake the escalator to the second floor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and then... then you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urn left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 Let’s see... Then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go past the bank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 And um... The drug store is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between the furniture store and the bookstore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 You should be able to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get shampoo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there.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oy1: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OK, great. Thanks a lot. 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Boy2: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ou’re welcome.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020000" y="5300640"/>
            <a:ext cx="21240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Tapesripts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24000" y="317520"/>
            <a:ext cx="3384360" cy="649440"/>
          </a:xfrm>
          <a:prstGeom prst="roundRect">
            <a:avLst>
              <a:gd name="adj" fmla="val 16741"/>
            </a:avLst>
          </a:prstGeom>
          <a:solidFill>
            <a:srgbClr val="ff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820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1. 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Could you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 please tell me where the restrooms are? 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请你告诉我厕所在哪儿好吗？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Could you…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？是个句型，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could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在此不是过去形式，它此时表示语气婉转、有礼貌。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260280"/>
            <a:ext cx="3165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planation 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977080" cy="4481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47640" y="5516640"/>
            <a:ext cx="49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7000" y="4797360"/>
            <a:ext cx="59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ook Antiqua"/>
              </a:rPr>
              <a:t>supermarket    </a:t>
            </a:r>
            <a:endParaRPr b="0" lang="en-US" sz="6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0200" y="537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5661000"/>
            <a:ext cx="82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department store </a:t>
            </a: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百货公司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685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在希望得到肯定答复的疑问句中，以及在含有表示建议、请求和征求意见语气的疑问句中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常用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some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something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，而不用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any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anything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【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For example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】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Could you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lend me your motorbike, please?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请把你的摩托车借给我好吗？ 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2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5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8" dur="1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Could you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ell me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something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about yourself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请谈谈你自己好吗？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Would you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like to have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some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apples?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你们要吃苹果吗？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84640"/>
            <a:ext cx="961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What about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saying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something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about your school? 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说说你学校的情况好吗？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Will you please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give the poor boy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something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o eat?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请给那可怜的孩子一点吃的东西好吗？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5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8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3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6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9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2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7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Can you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please tell me where I can get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a  dictionary?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请你告诉我在哪儿能买到字典好吗？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Can you please tell…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，是个句型，它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后面可跟宾语从句，也可跟不定式结构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can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可换成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could, would, will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96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【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For example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】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Could you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please tell me where we show our tickets?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请告诉我在哪儿验票好吗？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Would you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ell me how much it costs to fly to Canada?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你能告诉我乘飞机去加拿大要多少钱吗？                 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0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3" dur="1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6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1" dur="1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4" dur="1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Will you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ell me when we will have a meeting?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请告诉我我们什么时候开会好吗？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Can you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ell me who the old man is?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你能告诉我那位老人是谁吗？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284640"/>
            <a:ext cx="9144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Could you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ell me how to get to the post office? 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你能告诉我到邮局怎么走吗？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Can you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ell me what to do next?                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你能告诉我下一步怎么做吗？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1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9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2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5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8" dur="1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3" dur="1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6" dur="1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311640" cy="863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3. Take the elevator to the second floor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乘电梯上二楼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ake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在此表示“搭、乘”的意思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【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For example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】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He told me to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take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an express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他叫我搭乘特别快车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4360" y="447840"/>
            <a:ext cx="31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Explanation 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5229360"/>
            <a:ext cx="884232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Sh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akes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a bus to work every day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她每天乘公共汽车上班。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9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2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1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8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1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92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在美国和英国，对楼层的说法是不一样的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请对比：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84360" y="1844640"/>
          <a:ext cx="7643520" cy="4394160"/>
        </p:xfrm>
        <a:graphic>
          <a:graphicData uri="http://schemas.openxmlformats.org/drawingml/2006/table">
            <a:tbl>
              <a:tblPr/>
              <a:tblGrid>
                <a:gridCol w="1274760"/>
                <a:gridCol w="3322440"/>
                <a:gridCol w="304632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美国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英国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一楼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n the first floor    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n the ground floor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二楼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n the second floor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n the first floor  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三楼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n the third floor   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n the second floor </a:t>
                      </a:r>
                      <a:endParaRPr b="0" lang="en-US" sz="36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4. The drugstore is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between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he furniture store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nd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he bookstore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(1)between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prep.“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在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两者之间”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常与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nd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连用。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例如：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Do you know the differenc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tween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the two verbs“bring”and“take”?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你知道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bring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take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这两个动词的区别吗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4005360"/>
            <a:ext cx="91440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(2)among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prep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．“在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当中”，指三者或三者以上之间。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例如：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They saw a villag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mong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he hills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他们看到群山中有个村庄。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7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0" dur="1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0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3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1047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5. Do you know where I c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exchange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money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你知道我在哪可以换钱吗？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xchange money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指的是两种不同的币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种间的交换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如：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exchange Pounds for Dollars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用英磅换美元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xchange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作为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是外币兑换本金之意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03280" y="530064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exchange sth with sb.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…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交换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0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3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．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The bank i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next to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he bookstore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银行在书店的隔壁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next to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是“贴近，隔壁”的意思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【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For example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】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The house standing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next to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ours is a cinema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我们隔壁的那幢房子是一家电影院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5013360"/>
            <a:ext cx="9144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Who is crying in the room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next to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mine? 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谁在我隔壁房间里哭？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7" dur="1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0" dur="1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3" dur="1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6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9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480" y="2421000"/>
            <a:ext cx="890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Book Antiqua"/>
              </a:rPr>
              <a:t>rest and drink coffee</a:t>
            </a:r>
            <a:endParaRPr b="0" lang="en-US" sz="6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4000" y="333360"/>
            <a:ext cx="934920" cy="93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556000" y="476280"/>
            <a:ext cx="4146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AIRWORK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2276640"/>
            <a:ext cx="8751240" cy="2017440"/>
            <a:chOff x="0" y="2276640"/>
            <a:chExt cx="8751240" cy="2017440"/>
          </a:xfrm>
        </p:grpSpPr>
        <p:sp>
          <p:nvSpPr>
            <p:cNvPr id="300" name=""/>
            <p:cNvSpPr/>
            <p:nvPr/>
          </p:nvSpPr>
          <p:spPr>
            <a:xfrm>
              <a:off x="1410840" y="2276640"/>
              <a:ext cx="7340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00"/>
                  </a:solidFill>
                  <a:latin typeface="Comic Sans MS"/>
                </a:rPr>
                <a:t>Excuse me. Do you know where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00"/>
                  </a:solidFill>
                  <a:latin typeface="Comic Sans MS"/>
                </a:rPr>
                <a:t>I can </a:t>
              </a:r>
              <a:r>
                <a:rPr b="1" lang="en-US" sz="3600" spc="-1" strike="noStrike" u="sng">
                  <a:solidFill>
                    <a:srgbClr val="990000"/>
                  </a:solidFill>
                  <a:uFillTx/>
                  <a:latin typeface="Comic Sans MS"/>
                </a:rPr>
                <a:t>exchange money</a:t>
              </a:r>
              <a:r>
                <a:rPr b="1" lang="zh-CN" sz="3600" spc="-1" strike="noStrike" u="sng">
                  <a:solidFill>
                    <a:srgbClr val="800080"/>
                  </a:solidFill>
                  <a:uFillTx/>
                  <a:latin typeface="Comic Sans MS"/>
                </a:rPr>
                <a:t>兑换钱</a:t>
              </a:r>
              <a:r>
                <a:rPr b="1" lang="en-US" sz="3600" spc="-1" strike="noStrike">
                  <a:solidFill>
                    <a:srgbClr val="990000"/>
                  </a:solidFill>
                  <a:latin typeface="Comic Sans MS"/>
                </a:rPr>
                <a:t>?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0" y="2421000"/>
              <a:ext cx="1015920" cy="187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"/>
          <p:cNvGrpSpPr/>
          <p:nvPr/>
        </p:nvGrpSpPr>
        <p:grpSpPr>
          <a:xfrm>
            <a:off x="395280" y="3573360"/>
            <a:ext cx="8292600" cy="2288520"/>
            <a:chOff x="395280" y="3573360"/>
            <a:chExt cx="8292600" cy="2288520"/>
          </a:xfrm>
        </p:grpSpPr>
        <p:pic>
          <p:nvPicPr>
            <p:cNvPr id="303" name="" descr=""/>
            <p:cNvPicPr/>
            <p:nvPr/>
          </p:nvPicPr>
          <p:blipFill>
            <a:blip r:embed="rId2"/>
            <a:stretch/>
          </p:blipFill>
          <p:spPr>
            <a:xfrm>
              <a:off x="7377120" y="3887640"/>
              <a:ext cx="1204920" cy="149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95280" y="3573360"/>
              <a:ext cx="82926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Comic Sans MS"/>
                </a:rPr>
                <a:t>Sure. There’s a bank </a:t>
              </a:r>
              <a:r>
                <a:rPr b="1" lang="en-US" sz="3600" spc="-1" strike="noStrike" u="sng">
                  <a:solidFill>
                    <a:srgbClr val="0000ff"/>
                  </a:solidFill>
                  <a:uFillTx/>
                  <a:latin typeface="Comic Sans MS"/>
                </a:rPr>
                <a:t>on the 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ff"/>
                  </a:solidFill>
                  <a:uFillTx/>
                  <a:latin typeface="Comic Sans MS"/>
                </a:rPr>
                <a:t>second floor</a:t>
              </a:r>
              <a:r>
                <a:rPr b="1" lang="zh-CN" sz="2800" spc="-1" strike="noStrike" u="sng">
                  <a:solidFill>
                    <a:srgbClr val="800080"/>
                  </a:solidFill>
                  <a:uFillTx/>
                  <a:latin typeface="Comic Sans MS"/>
                </a:rPr>
                <a:t>在二楼</a:t>
              </a:r>
              <a:r>
                <a:rPr b="1" lang="en-US" sz="3600" spc="-1" strike="noStrike">
                  <a:solidFill>
                    <a:srgbClr val="0000ff"/>
                  </a:solidFill>
                  <a:latin typeface="Comic Sans MS"/>
                </a:rPr>
                <a:t>. Take the escalator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Comic Sans MS"/>
                </a:rPr>
                <a:t>to the second floor and turn right.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Comic Sans MS"/>
                </a:rPr>
                <a:t>The bank is </a:t>
              </a:r>
              <a:r>
                <a:rPr b="1" lang="en-US" sz="3600" spc="-1" strike="noStrike" u="sng">
                  <a:solidFill>
                    <a:srgbClr val="0000ff"/>
                  </a:solidFill>
                  <a:uFillTx/>
                  <a:latin typeface="Comic Sans MS"/>
                </a:rPr>
                <a:t>next to</a:t>
              </a:r>
              <a:r>
                <a:rPr b="1" lang="en-US" sz="3600" spc="-1" strike="noStrike">
                  <a:solidFill>
                    <a:srgbClr val="0000ff"/>
                  </a:solidFill>
                  <a:latin typeface="Comic Sans MS"/>
                </a:rPr>
                <a:t> the bookstore.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95280" y="47628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2c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9640" y="981000"/>
            <a:ext cx="8604360" cy="38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Make conversations using the other places in the picture above.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539640" y="765000"/>
            <a:ext cx="80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A: Excuse me. Do you know where I can buy music CD?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B: Sure. There’s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a Music Magic shop on the first floor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. Don’t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ake the escalator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. It is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next to the escalator room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580000" y="5157720"/>
            <a:ext cx="356400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Samples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24000" y="620640"/>
            <a:ext cx="8532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A: Excuse me. Do you know where I can get a dictionary?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B: Sure. There’s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a bookstore on the second floor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ake the escalator to the second floor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urn right.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 The bookstore is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next to the bank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24000" y="495360"/>
            <a:ext cx="835344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A: Excuse me. Do you know where I can buy some candies?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B: Sure. There’s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 drugstore on the second floor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ake the escalator to the second floor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urn right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. It is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next to the bookstore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24000" y="765000"/>
            <a:ext cx="8820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A: Excuse me. Do you know   where I can buy a desk?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B: Sure. There’s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a furniture store on the second floor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ake the escalator to the second floor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urn right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. It is 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next to the drugstore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5280" y="76500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is is the map of the library. We are at the Information Desk. On the _________ is the First Reading Room. The _________ _________ is across from the First Reading Room. 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35640" y="119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95640" y="1628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Computer     Room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24000" y="2843280"/>
            <a:ext cx="9504360" cy="3460680"/>
            <a:chOff x="324000" y="2843280"/>
            <a:chExt cx="9504360" cy="3460680"/>
          </a:xfrm>
        </p:grpSpPr>
        <p:sp>
          <p:nvSpPr>
            <p:cNvPr id="316" name=""/>
            <p:cNvSpPr/>
            <p:nvPr/>
          </p:nvSpPr>
          <p:spPr>
            <a:xfrm>
              <a:off x="324000" y="2843280"/>
              <a:ext cx="8569080" cy="3460680"/>
            </a:xfrm>
            <a:prstGeom prst="rect">
              <a:avLst/>
            </a:prstGeom>
            <a:solidFill>
              <a:srgbClr val="ffff99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42920" y="3284640"/>
              <a:ext cx="1846440" cy="831600"/>
            </a:xfrm>
            <a:prstGeom prst="rect">
              <a:avLst/>
            </a:prstGeom>
            <a:solidFill>
              <a:srgbClr val="ffff99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Copy Room</a:t>
              </a:r>
              <a:endParaRPr b="0" lang="en-US" sz="28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64000" y="3284640"/>
              <a:ext cx="2714400" cy="831600"/>
            </a:xfrm>
            <a:prstGeom prst="rect">
              <a:avLst/>
            </a:prstGeom>
            <a:solidFill>
              <a:srgbClr val="ffff99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Computer Room</a:t>
              </a:r>
              <a:endParaRPr b="0" lang="en-US" sz="28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6000" y="4724280"/>
              <a:ext cx="1295280" cy="692280"/>
            </a:xfrm>
            <a:prstGeom prst="rect">
              <a:avLst/>
            </a:prstGeom>
            <a:solidFill>
              <a:srgbClr val="ffff99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Video Room</a:t>
              </a:r>
              <a:endParaRPr b="0" lang="en-US" sz="28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56000" y="4641840"/>
              <a:ext cx="1800000" cy="969840"/>
            </a:xfrm>
            <a:prstGeom prst="rect">
              <a:avLst/>
            </a:prstGeom>
            <a:solidFill>
              <a:srgbClr val="ffff99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Second </a:t>
              </a:r>
              <a:endParaRPr b="0" lang="en-US" sz="2800" spc="-1" strike="noStrike">
                <a:solidFill>
                  <a:srgbClr val="80008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Reading Room</a:t>
              </a:r>
              <a:endParaRPr b="0" lang="en-US" sz="2800" spc="-1" strike="noStrike">
                <a:solidFill>
                  <a:srgbClr val="80008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72000" y="4641840"/>
              <a:ext cx="1871640" cy="969840"/>
            </a:xfrm>
            <a:prstGeom prst="rect">
              <a:avLst/>
            </a:prstGeom>
            <a:solidFill>
              <a:srgbClr val="ffff99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First Reading Room</a:t>
              </a:r>
              <a:endParaRPr b="0" lang="en-US" sz="2800" spc="-1" strike="noStrike">
                <a:solidFill>
                  <a:srgbClr val="80008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0008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6877080" y="4653000"/>
              <a:ext cx="1847880" cy="420480"/>
              <a:chOff x="6877080" y="4653000"/>
              <a:chExt cx="1847880" cy="420480"/>
            </a:xfrm>
          </p:grpSpPr>
          <p:sp>
            <p:nvSpPr>
              <p:cNvPr id="323" name=""/>
              <p:cNvSpPr/>
              <p:nvPr/>
            </p:nvSpPr>
            <p:spPr>
              <a:xfrm>
                <a:off x="6877080" y="4653000"/>
                <a:ext cx="1847880" cy="139680"/>
              </a:xfrm>
              <a:prstGeom prst="rect">
                <a:avLst/>
              </a:prstGeom>
              <a:solidFill>
                <a:srgbClr val="ffff99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8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877080" y="4797360"/>
                <a:ext cx="1847880" cy="276120"/>
              </a:xfrm>
              <a:prstGeom prst="rect">
                <a:avLst/>
              </a:prstGeom>
              <a:solidFill>
                <a:srgbClr val="ffff99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8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6804000" y="3645000"/>
              <a:ext cx="3024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Information Desk</a:t>
              </a:r>
              <a:endParaRPr b="0" lang="en-US" sz="28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24000" y="47628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py Room is _________ _________ the Computer Room and ________ _________ the Video Room. The Second Room is ________ the Video Room _________ the First Reading Room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40320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next           to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11640" y="8366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cross         from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372360" y="126828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between 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08360" y="1700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3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2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24000" y="189000"/>
            <a:ext cx="6292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Opening Day (</a:t>
            </a: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学校开放日）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635280" y="5734080"/>
            <a:ext cx="793800" cy="1123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419640" y="4005360"/>
            <a:ext cx="0" cy="863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03640" y="3573360"/>
            <a:ext cx="0" cy="1295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19640" y="5734080"/>
            <a:ext cx="360360" cy="73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sp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43280" y="5734080"/>
            <a:ext cx="360360" cy="73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sp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40000" y="1844640"/>
            <a:ext cx="790560" cy="129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0000" y="3573360"/>
            <a:ext cx="790560" cy="129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8360" y="378936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west teaching building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5280" y="220500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ast teaching building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435640" y="3500280"/>
            <a:ext cx="790560" cy="129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80000" y="3933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ibrary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6617160" y="4986000"/>
            <a:ext cx="789840" cy="1136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gym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48360" y="1557360"/>
            <a:ext cx="1656000" cy="324000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3240000"/>
              <a:gd name="textAreaBottom" fmla="*/ 3159360 h 3240000"/>
            </a:gdLst>
            <a:ahLst/>
            <a:rect l="textAreaLeft" t="textAreaTop" r="textAreaRight" b="textAreaBottom"/>
            <a:pathLst>
              <a:path w="21600" h="42256">
                <a:moveTo>
                  <a:pt x="3600" y="0"/>
                </a:moveTo>
                <a:arcTo wR="3600" hR="3600" stAng="16200000" swAng="-5400000"/>
                <a:lnTo>
                  <a:pt x="0" y="38656"/>
                </a:lnTo>
                <a:arcTo wR="3600" hR="3600" stAng="10800000" swAng="-5400000"/>
                <a:lnTo>
                  <a:pt x="18000" y="42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93080" y="2276640"/>
            <a:ext cx="180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lay-ground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35640" y="1844640"/>
            <a:ext cx="790560" cy="129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03640" y="1125360"/>
            <a:ext cx="0" cy="1943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19640" y="1197000"/>
            <a:ext cx="0" cy="1871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03640" y="5373720"/>
            <a:ext cx="0" cy="431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1455480" y="4533120"/>
            <a:ext cx="606960" cy="2144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ining room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19640" y="5300640"/>
            <a:ext cx="0" cy="4320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352" name="" descr="Lucy Van Pelt"/>
          <p:cNvPicPr/>
          <p:nvPr/>
        </p:nvPicPr>
        <p:blipFill>
          <a:blip r:embed="rId2"/>
          <a:stretch/>
        </p:blipFill>
        <p:spPr>
          <a:xfrm>
            <a:off x="4500720" y="5705640"/>
            <a:ext cx="661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755640" y="549360"/>
          <a:ext cx="7920000" cy="5011560"/>
        </p:xfrm>
        <a:graphic>
          <a:graphicData uri="http://schemas.openxmlformats.org/drawingml/2006/table">
            <a:tbl>
              <a:tblPr/>
              <a:tblGrid>
                <a:gridCol w="4032360"/>
                <a:gridCol w="388764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sking for directions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iving directions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80008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Excuse me. Could you please tell me where…is?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80008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80008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Could you tell me how to get to…?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80008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Can you tell me where I can…?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solidFill>
                      <a:srgbClr val="cc00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Go straight along this road. 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Go down this street. 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Take the second turning on the left. / Turn left at the second turning.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478880" y="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华文中宋"/>
              </a:rPr>
              <a:t>宾语从句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00000" y="765000"/>
            <a:ext cx="74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Can you tell me </a:t>
            </a:r>
            <a:r>
              <a:rPr b="1" lang="en-US" sz="4000" spc="-1" strike="noStrike" u="sng">
                <a:solidFill>
                  <a:srgbClr val="006600"/>
                </a:solidFill>
                <a:uFillTx/>
                <a:latin typeface="Arial"/>
              </a:rPr>
              <a:t>where I can get a dictionary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?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729800" y="2065320"/>
            <a:ext cx="6154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宾语从句在复合句中作主句谓语动词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, 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形容词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,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介词的宾语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.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宾语从句的语序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不论主句是陈述句还是疑问句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也不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论从句用什么引导词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宾语从句一律用陈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述语序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宾语从句的标点符号由主句决定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.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97040" y="61920"/>
            <a:ext cx="531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objective clause: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8458200" y="15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4"/>
          <a:stretch/>
        </p:blipFill>
        <p:spPr>
          <a:xfrm>
            <a:off x="4191120" y="152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5"/>
          <a:stretch/>
        </p:blipFill>
        <p:spPr>
          <a:xfrm>
            <a:off x="43434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6"/>
          <a:stretch/>
        </p:blipFill>
        <p:spPr>
          <a:xfrm>
            <a:off x="8534520" y="64008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364" name="">
            <a:hlinkClick r:id="rId7" action="ppaction://hlinksldjump"/>
          </p:cNvPr>
          <p:cNvSpPr/>
          <p:nvPr/>
        </p:nvSpPr>
        <p:spPr>
          <a:xfrm>
            <a:off x="611280" y="54936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The objective clause: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97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</a:rPr>
              <a:t>连词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:1) 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</a:rPr>
              <a:t>陈述句用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that</a:t>
            </a:r>
            <a:r>
              <a:rPr b="1" lang="zh-CN" sz="2000" spc="-1" strike="noStrike">
                <a:solidFill>
                  <a:srgbClr val="0000ff"/>
                </a:solidFill>
                <a:latin typeface="Tahoma"/>
              </a:rPr>
              <a:t>引导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: He said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that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 his father was fifty years old.              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主从句时态一致。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obody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knew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who the old man in the street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as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3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不能用疑问句语序。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o you know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hen he will come here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1700280"/>
            <a:ext cx="914400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ahoma"/>
              </a:rPr>
              <a:t>2) </a:t>
            </a:r>
            <a:r>
              <a:rPr b="1" lang="zh-CN" sz="2300" spc="-1" strike="noStrike">
                <a:solidFill>
                  <a:srgbClr val="0000ff"/>
                </a:solidFill>
                <a:latin typeface="Tahoma"/>
              </a:rPr>
              <a:t>特殊疑问句用</a:t>
            </a:r>
            <a:r>
              <a:rPr b="1" lang="en-US" sz="2300" spc="-1" strike="noStrike">
                <a:solidFill>
                  <a:srgbClr val="0000ff"/>
                </a:solidFill>
                <a:latin typeface="Tahoma"/>
              </a:rPr>
              <a:t>:who, what, which, where, when,how…</a:t>
            </a:r>
            <a:r>
              <a:rPr b="1" lang="zh-CN" sz="2300" spc="-1" strike="noStrike">
                <a:solidFill>
                  <a:srgbClr val="0000ff"/>
                </a:solidFill>
                <a:latin typeface="Tahoma"/>
              </a:rPr>
              <a:t>等引导</a:t>
            </a:r>
            <a:endParaRPr b="0" lang="en-US" sz="23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ff"/>
                </a:solidFill>
                <a:latin typeface="Tahoma"/>
              </a:rPr>
              <a:t>                          </a:t>
            </a:r>
            <a:r>
              <a:rPr b="1" lang="en-US" sz="2300" spc="-1" strike="noStrike">
                <a:solidFill>
                  <a:srgbClr val="0000ff"/>
                </a:solidFill>
                <a:latin typeface="Tahoma"/>
              </a:rPr>
              <a:t>Do you know</a:t>
            </a:r>
            <a:r>
              <a:rPr b="1" lang="en-US" sz="2300" spc="-1" strike="noStrike">
                <a:solidFill>
                  <a:srgbClr val="ff0000"/>
                </a:solidFill>
                <a:latin typeface="Tahoma"/>
              </a:rPr>
              <a:t> where</a:t>
            </a:r>
            <a:r>
              <a:rPr b="1" lang="en-US" sz="2300" spc="-1" strike="noStrike">
                <a:solidFill>
                  <a:srgbClr val="0000ff"/>
                </a:solidFill>
                <a:latin typeface="Tahoma"/>
              </a:rPr>
              <a:t> he lives?</a:t>
            </a:r>
            <a:endParaRPr b="0" lang="en-US" sz="23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565360"/>
            <a:ext cx="8964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3) 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一般疑问句用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:if, whether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引导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uld you tell m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f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it snows in Australia?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22320"/>
            <a:ext cx="6769080" cy="5135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79800" y="5373720"/>
            <a:ext cx="437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ook Antiqua"/>
              </a:rPr>
              <a:t>Café house</a:t>
            </a:r>
            <a:endParaRPr b="0" lang="en-US" sz="6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969480" y="1393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宾语从句的时态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27124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华文中宋"/>
              </a:rPr>
              <a:t>宾语从句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51840" y="1628640"/>
            <a:ext cx="5316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当主句谓语是一般现在时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宾语从句可以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根据需要来使用某种时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当主句谓语是一般过去时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宾语从句用表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示过去的某种时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当主句谓语是一般过去时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宾语从句的内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容表示客观真理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宾语从句中的谓语动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词不受主句谓语动词的影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应保留一般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现在时态形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68720" y="5484960"/>
            <a:ext cx="59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.g.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teacher said that the moon move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around the sun. 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75" name="">
            <a:hlinkClick r:id="rId2" action="ppaction://hlinksldjump"/>
          </p:cNvPr>
          <p:cNvSpPr/>
          <p:nvPr/>
        </p:nvSpPr>
        <p:spPr>
          <a:xfrm>
            <a:off x="1835280" y="907920"/>
            <a:ext cx="75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ahoma"/>
              </a:rPr>
              <a:t>The objective clause: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286000" y="146196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0920" y="0"/>
            <a:ext cx="864216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know how much hot wate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m is nee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Mum need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m nee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Mum need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you tell m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h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is he 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is whe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he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didn’t know how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ondon?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uld they g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they going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would g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going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ant to know how long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he been ba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he come back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has been ba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has come back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know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the news 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news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the new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news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362640" y="297000"/>
            <a:ext cx="6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606840" y="146196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114800" y="264636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940280" y="3797280"/>
            <a:ext cx="8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441600" y="4876920"/>
            <a:ext cx="8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合成句子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1 We don’t know. Where can we buy a stamp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_____________________________________________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2 Where is the tea shop? Could you tell me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_____________________________________________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4000" y="112536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We don’t know where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e can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buy a stamp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4000" y="242100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uld you tell me where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the tea shop i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3213000"/>
            <a:ext cx="9144000" cy="36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写出同义句：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1 I don’t know what I shall do next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____________________________________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2 The students didn’t know what present to give their teacher for Teachers’ Day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_____________________________________________________________________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4292640"/>
            <a:ext cx="63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I don’t know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at to do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next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5911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students didn’t know what present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y should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give their teacher for Teachers’ Day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676520" y="380880"/>
            <a:ext cx="5562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HOMEWORK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90" name=""/>
          <p:cNvSpPr/>
          <p:nvPr/>
        </p:nvSpPr>
        <p:spPr>
          <a:xfrm>
            <a:off x="1828800" y="25146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2421000"/>
            <a:ext cx="57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Century Gothic"/>
                <a:ea typeface="华文行楷"/>
              </a:rPr>
              <a:t>Make up a dialogue about asking the way .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88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你能告诉我哪里可以找到一本字典？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9079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能告诉我怎么到那里么？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1773360"/>
            <a:ext cx="867564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直向前走。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知道我在哪里可以买到洗发水吗？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药店在家具店和书店的中间。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.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能告诉我怎么到邮局吗？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.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坐扶梯到二楼然后右拐。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知道我在哪里可以存钱吗？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9.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银行在你的右边。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659640" y="5084640"/>
            <a:ext cx="19047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Homework</a:t>
            </a:r>
            <a:endParaRPr b="1" i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96" name=""/>
          <p:cNvSpPr/>
          <p:nvPr/>
        </p:nvSpPr>
        <p:spPr>
          <a:xfrm>
            <a:off x="395280" y="476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1 Can you tell me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where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I can get a dictionary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5280" y="134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2 Could you please tell me how to get there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00360" y="1700280"/>
            <a:ext cx="45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3 Go straight ahead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256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4 Do you know where I can buy shampoo?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13000"/>
            <a:ext cx="9144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5 The drug store is between the furniture store and the bookstore.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78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6 Could you tell me </a:t>
            </a:r>
            <a:r>
              <a:rPr b="1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how to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get to the post office 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4437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7 Take the escalator to the second floor and turn right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5157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8 Do you know where I can save money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5877000"/>
            <a:ext cx="62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9 The bank is on your right.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465840" y="2060640"/>
            <a:ext cx="9524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Book Antiqua"/>
              </a:rPr>
              <a:t>borrow some books</a:t>
            </a:r>
            <a:endParaRPr b="0" lang="en-US" sz="66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Book Antiqua"/>
              </a:rPr>
              <a:t>get some information </a:t>
            </a:r>
            <a:endParaRPr b="0" lang="en-US" sz="66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Book Antiqua"/>
              </a:rPr>
              <a:t>about the town</a:t>
            </a:r>
            <a:endParaRPr b="0" lang="en-US" sz="6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657216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76640" y="5254560"/>
            <a:ext cx="271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Book Antiqua"/>
              </a:rPr>
              <a:t>library</a:t>
            </a:r>
            <a:endParaRPr b="0" lang="en-US" sz="6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2:53:26Z</dcterms:created>
  <dc:creator> </dc:creator>
  <dc:description> </dc:description>
  <cp:keywords/>
  <dc:language>en-US</dc:language>
  <cp:lastModifiedBy>User</cp:lastModifiedBy>
  <dcterms:modified xsi:type="dcterms:W3CDTF">2014-02-13T01:22:11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