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2.png" ContentType="image/png"/>
  <Override PartName="/ppt/media/image1.jpeg" ContentType="image/jpeg"/>
  <Override PartName="/ppt/media/image21.gif" ContentType="image/gif"/>
  <Override PartName="/ppt/media/image20.gif" ContentType="image/gif"/>
  <Override PartName="/ppt/media/image18.gif" ContentType="image/gif"/>
  <Override PartName="/ppt/media/image17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C39-5CB0-44FF-B908-10647A28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3E15-2EDD-46FD-BC6F-323346BB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3D3-3A16-4994-A821-E0077BE8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93A1-152C-445C-947A-35DB9E63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C772-4CE1-4906-B585-F93C8533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0DA0-9BCC-4046-BF05-72D33AA3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38D-082D-4609-9D7B-4A1708D8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2F9C-24C3-44D7-BEB1-ACABBCDE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6CE0-0D96-44D3-AFD0-C189D2D9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F09A-1B1A-40CA-A359-BE03345D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EC4-9F16-41A8-A350-C1C6E17A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8C3-C6C4-46E4-811D-E2B22F79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41FB-A736-4643-8110-31FB9E10497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eugeot.net.cn/forum/printpage.asp?BoardID=8&amp;ID=10569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2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0.gif"/><Relationship Id="rId12" Type="http://schemas.openxmlformats.org/officeDocument/2006/relationships/image" Target="../media/image21.gif"/><Relationship Id="rId13" Type="http://schemas.openxmlformats.org/officeDocument/2006/relationships/image" Target="../media/image21.gif"/><Relationship Id="rId14" Type="http://schemas.openxmlformats.org/officeDocument/2006/relationships/image" Target="../media/image21.gif"/><Relationship Id="rId15" Type="http://schemas.openxmlformats.org/officeDocument/2006/relationships/image" Target="../media/image18.gif"/><Relationship Id="rId16" Type="http://schemas.openxmlformats.org/officeDocument/2006/relationships/image" Target="../media/image20.gif"/><Relationship Id="rId17" Type="http://schemas.openxmlformats.org/officeDocument/2006/relationships/image" Target="../media/image20.gif"/><Relationship Id="rId18" Type="http://schemas.openxmlformats.org/officeDocument/2006/relationships/image" Target="../media/image20.gif"/><Relationship Id="rId1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63640" y="1341360"/>
            <a:ext cx="5256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Unit 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Period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260280"/>
            <a:ext cx="7705800" cy="5832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07440" y="5985000"/>
            <a:ext cx="291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ench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332000" y="189000"/>
            <a:ext cx="6408720" cy="4968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58920" y="515772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eople ther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r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omantic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8360" y="69228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Questions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2920" y="1700280"/>
            <a:ext cx="900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Would you like to go to Guilin ? Why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Yes, because Guilin is supposed to be very beautifu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2.What do you know about Paris ,France ?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Can you say some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about it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16360" y="4724280"/>
            <a:ext cx="503280" cy="1440000"/>
          </a:xfrm>
          <a:custGeom>
            <a:avLst/>
            <a:gdLst>
              <a:gd name="textAreaLeft" fmla="*/ 0 w 503280"/>
              <a:gd name="textAreaRight" fmla="*/ 181800 w 5032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5640" y="4292640"/>
            <a:ext cx="29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What sights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48360" y="59500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Traffic (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交通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74200" y="5229360"/>
            <a:ext cx="44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people and langua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479736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food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360" y="0"/>
            <a:ext cx="4969080" cy="1655640"/>
          </a:xfrm>
          <a:prstGeom prst="wedgeEllipseCallout">
            <a:avLst>
              <a:gd name="adj1" fmla="val -36550"/>
              <a:gd name="adj2" fmla="val 62370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56000" y="333360"/>
            <a:ext cx="3600720" cy="10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Spea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667640" y="692280"/>
            <a:ext cx="115092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64000" cy="295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627280" y="260280"/>
            <a:ext cx="4321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▲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Paris is the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capit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of France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▲ 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It has many fantastic sights ,including 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▲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The perfume and wine are very fam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▲ 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People there 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roman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732720" y="0"/>
            <a:ext cx="2411280" cy="2951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6516720" y="3789360"/>
            <a:ext cx="2627280" cy="2852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0" y="3500280"/>
            <a:ext cx="2832120" cy="3170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2050920" y="3500280"/>
            <a:ext cx="1247760" cy="3357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3564000" y="3833640"/>
            <a:ext cx="2519280" cy="3024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84720" y="1700280"/>
            <a:ext cx="648000" cy="360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1916280"/>
            <a:ext cx="1944720" cy="1873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842920" y="2421000"/>
            <a:ext cx="718920" cy="23050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788000" y="3141720"/>
            <a:ext cx="71280" cy="934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404640"/>
            <a:ext cx="878544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Listen  and answer the ques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What’s Paris lik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Is traveling around Paris by taxi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cheap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 Is wine very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expensiv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in Par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. What language have  Frenchman learned ? Do they like to speak it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8440" y="2349360"/>
            <a:ext cx="86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’s one of the liveliest cities in Europe ,it doesn’t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4720" y="450864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,it isn’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0"/>
            <a:ext cx="3313080" cy="90792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Black"/>
              </a:rPr>
              <a:t>Task 1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4520" y="5950080"/>
            <a:ext cx="523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English \ No,they don’t like it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328464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No,it isn’t . Traveling around Paris by taxi can 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cost a lot of money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484280"/>
            <a:ext cx="9972720" cy="42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b7"/>
                </a:solidFill>
                <a:latin typeface="Arial"/>
              </a:rPr>
              <a:t>1.What are the most famous sights in Par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ffb7"/>
                </a:solidFill>
                <a:latin typeface="Times New Roman"/>
              </a:rPr>
              <a:t>3.If you want to go to Paris,who</a:t>
            </a:r>
            <a:r>
              <a:rPr b="1" lang="zh-CN" sz="3200" spc="-1" strike="noStrike">
                <a:solidFill>
                  <a:srgbClr val="ffffb7"/>
                </a:solidFill>
                <a:latin typeface="Times New Roman"/>
              </a:rPr>
              <a:t> you’d better go wi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b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716280"/>
            <a:ext cx="102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y underground train \sub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51280" y="476280"/>
            <a:ext cx="262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Fast reading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508464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I’d better go with a person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ho can translate things for me. (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had better do sth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最好做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---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206064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iffel Tower and Notre Dame Cathed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33360"/>
            <a:ext cx="3313080" cy="90792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Black"/>
              </a:rPr>
              <a:t>Task 2 3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2708280"/>
            <a:ext cx="91440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Which kind of transportation is convenient for people to travel to most places in Pari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2349360"/>
            <a:ext cx="908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consider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doing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sth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考虑做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Eg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他在考虑去海南旅游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为什么不考虑去海边度过这个周末呢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___________________________Hain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______________________ </a:t>
            </a:r>
            <a:r>
              <a:rPr b="1" lang="zh-CN" sz="2800" spc="-1" strike="noStrike">
                <a:solidFill>
                  <a:srgbClr val="ffffb7"/>
                </a:solidFill>
                <a:latin typeface="Arial"/>
              </a:rPr>
              <a:t>this week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by the side of the sea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429264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 is considering traveling \vis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y not consider spe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6200" y="4311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341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1.Why no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sider</a:t>
            </a: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 visi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 Par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33360"/>
            <a:ext cx="3313080" cy="90792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lan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30200" y="247680"/>
            <a:ext cx="8713800" cy="66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.It’s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one of the liveliest cities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in Europe .It doesn’t have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any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beaches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or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mountain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广州是中国最大的城市之一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古镇是中山市最活跃的城镇之一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是刚来这的，没有任何同学或朋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Guanghzou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is one of the biggest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 cities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in Chi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Guzhen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is one of the liveliest town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in -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I am new here ,and I don’t have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ny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classmates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friends her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d. Study hard ,___ you will fail the tes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cc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and       B. or    C. but    D. how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否则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 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或者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1628640"/>
            <a:ext cx="779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3.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raveling aroun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aris by taxi ca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st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lot of money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765000"/>
            <a:ext cx="144360" cy="976320"/>
          </a:xfrm>
          <a:prstGeom prst="downArrow">
            <a:avLst>
              <a:gd name="adj1" fmla="val 55556"/>
              <a:gd name="adj2" fmla="val 26172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17280" y="208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动名词做主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2637000"/>
            <a:ext cx="216000" cy="720720"/>
          </a:xfrm>
          <a:prstGeom prst="downArrow">
            <a:avLst>
              <a:gd name="adj1" fmla="val 50000"/>
              <a:gd name="adj2" fmla="val 8341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3141720"/>
            <a:ext cx="835164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ost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花费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ost –cost –co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Sth cost (sb) + money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物花费某人多少钱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EG: </a:t>
            </a:r>
            <a:r>
              <a:rPr b="1" lang="zh-CN" sz="2800" spc="-1" strike="noStrike">
                <a:solidFill>
                  <a:srgbClr val="00cc00"/>
                </a:solidFill>
                <a:latin typeface="黑体"/>
                <a:ea typeface="黑体"/>
              </a:rPr>
              <a:t>国贸酒店是一家五星级酒店</a:t>
            </a:r>
            <a:r>
              <a:rPr b="1" lang="zh-CN" sz="2800" spc="-1" strike="noStrike">
                <a:solidFill>
                  <a:srgbClr val="00cc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cc00"/>
                </a:solidFill>
                <a:latin typeface="黑体"/>
                <a:ea typeface="黑体"/>
              </a:rPr>
              <a:t>在里面住一晚得花费好几百钱</a:t>
            </a:r>
            <a:r>
              <a:rPr b="1" lang="zh-CN" sz="2800" spc="-1" strike="noStrike">
                <a:solidFill>
                  <a:srgbClr val="00cc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International hotel is a five-star hotel , _____ in it for a night ____ ____ several hundred yu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6000" y="537372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5445000"/>
            <a:ext cx="19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an co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979640" y="333360"/>
            <a:ext cx="24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Comic Sans MS"/>
              </a:rPr>
              <a:t>4.unless</a:t>
            </a:r>
            <a:r>
              <a:rPr b="1" lang="zh-CN" sz="40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zh-CN" sz="4000" spc="-1" strike="noStrike">
                <a:solidFill>
                  <a:srgbClr val="009900"/>
                </a:solidFill>
                <a:latin typeface="Comic Sans MS"/>
              </a:rPr>
              <a:t>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6320" y="260280"/>
            <a:ext cx="92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Comic Sans MS"/>
              </a:rPr>
              <a:t>除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12536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①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除非你更努力学习，否则你就会考试失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3280" y="1773360"/>
            <a:ext cx="864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Comic Sans MS"/>
              </a:rPr>
              <a:t>Unless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you study harder,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or you ’ll fail the ex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if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you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don’t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 study harder,you will fail the ex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797360"/>
            <a:ext cx="87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Unles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England improve their skills , they will lose the g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If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England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esn’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---, they will lost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378936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② </a:t>
            </a:r>
            <a:r>
              <a:rPr b="1" lang="zh-CN" sz="3200" spc="-1" strike="noStrike">
                <a:solidFill>
                  <a:srgbClr val="ffffff"/>
                </a:solidFill>
                <a:latin typeface="Comic Sans MS"/>
              </a:rPr>
              <a:t>除非英格兰队提高他们的技术，否则他们会输掉这场比赛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70160" y="355680"/>
            <a:ext cx="214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if ---no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547640" y="457200"/>
            <a:ext cx="60487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e0802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Let's begin our tour !</a:t>
            </a:r>
            <a:endParaRPr b="0" lang="en-US" sz="6600" spc="1" strike="noStrike">
              <a:ln w="12600">
                <a:solidFill>
                  <a:srgbClr val="ff0000"/>
                </a:solidFill>
                <a:miter/>
              </a:ln>
              <a:solidFill>
                <a:srgbClr val="fe0802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52480" y="2286000"/>
            <a:ext cx="6294600" cy="35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601560"/>
            <a:ext cx="9144000" cy="62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7f7f7f"/>
                </a:solidFill>
                <a:latin typeface="Calibri"/>
              </a:rPr>
              <a:t>       </a:t>
            </a:r>
            <a:r>
              <a:rPr b="0" lang="zh-CN" sz="3200" spc="-1" strike="noStrike">
                <a:solidFill>
                  <a:srgbClr val="ffffb7"/>
                </a:solidFill>
                <a:latin typeface="Times New Roman"/>
              </a:rPr>
              <a:t>For your next vacation, why not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(1)______</a:t>
            </a:r>
            <a:r>
              <a:rPr b="0" lang="zh-CN" sz="32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(2)______</a:t>
            </a:r>
            <a:r>
              <a:rPr b="0" lang="zh-CN" sz="3200" spc="-1" strike="noStrike">
                <a:solidFill>
                  <a:srgbClr val="ffffb7"/>
                </a:solidFill>
                <a:latin typeface="Times New Roman"/>
              </a:rPr>
              <a:t>Paris? Paris is th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(3)______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b7"/>
                </a:solidFill>
                <a:latin typeface="Times New Roman"/>
              </a:rPr>
              <a:t>of France, and is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one of</a:t>
            </a:r>
            <a:r>
              <a:rPr b="0" lang="zh-CN" sz="3200" spc="-1" strike="noStrike">
                <a:solidFill>
                  <a:srgbClr val="ffffb7"/>
                </a:solidFill>
                <a:latin typeface="Times New Roman"/>
              </a:rPr>
              <a:t> th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(4)______</a:t>
            </a:r>
            <a:r>
              <a:rPr b="0" lang="zh-CN" sz="32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(5)_____</a:t>
            </a:r>
            <a:r>
              <a:rPr b="0" lang="zh-CN" sz="3200" spc="-1" strike="noStrike">
                <a:solidFill>
                  <a:srgbClr val="ffffb7"/>
                </a:solidFill>
                <a:latin typeface="Times New Roman"/>
              </a:rPr>
              <a:t> in Europe. It doesn’t have any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(6)______</a:t>
            </a:r>
            <a:r>
              <a:rPr b="0" lang="zh-CN" sz="3200" spc="-1" strike="noStrike">
                <a:solidFill>
                  <a:srgbClr val="ffffb7"/>
                </a:solidFill>
                <a:latin typeface="Times New Roman"/>
              </a:rPr>
              <a:t> or mountains, but there are still many things to do there. For example, it has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some fantastic</a:t>
            </a:r>
            <a:r>
              <a:rPr b="0" lang="zh-CN" sz="32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sights</a:t>
            </a:r>
            <a:r>
              <a:rPr b="0" lang="zh-CN" sz="3200" spc="-1" strike="noStrike">
                <a:solidFill>
                  <a:srgbClr val="ffffb7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(7)_______</a:t>
            </a:r>
            <a:r>
              <a:rPr b="0" lang="zh-CN" sz="3200" spc="-1" strike="noStrike">
                <a:solidFill>
                  <a:srgbClr val="ffffb7"/>
                </a:solidFill>
                <a:latin typeface="Times New Roman"/>
              </a:rPr>
              <a:t> the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Eiffel T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b7"/>
                </a:solidFill>
                <a:latin typeface="Times New Roman"/>
              </a:rPr>
              <a:t>and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Notre Dame Cathedral</a:t>
            </a:r>
            <a:r>
              <a:rPr b="0" lang="zh-CN" sz="3200" spc="-1" strike="noStrike">
                <a:solidFill>
                  <a:srgbClr val="ffffb7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one of</a:t>
            </a:r>
            <a:r>
              <a:rPr b="0" lang="zh-CN" sz="3200" spc="-1" strike="noStrike">
                <a:solidFill>
                  <a:srgbClr val="ffffb7"/>
                </a:solidFill>
                <a:latin typeface="Times New Roman"/>
              </a:rPr>
              <a:t> the most famous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(8)_________</a:t>
            </a:r>
            <a:r>
              <a:rPr b="0" lang="zh-CN" sz="3200" spc="-1" strike="noStrike">
                <a:solidFill>
                  <a:srgbClr val="ffffb7"/>
                </a:solidFill>
                <a:latin typeface="Times New Roman"/>
              </a:rPr>
              <a:t> in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(9)________</a:t>
            </a:r>
            <a:r>
              <a:rPr b="0" lang="zh-CN" sz="3200" spc="-1" strike="noStrike">
                <a:solidFill>
                  <a:srgbClr val="ffffb7"/>
                </a:solidFill>
                <a:latin typeface="Times New Roman"/>
              </a:rPr>
              <a:t> around Paris by taxi can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(10)____</a:t>
            </a:r>
            <a:r>
              <a:rPr b="0" lang="zh-CN" sz="3200" spc="-1" strike="noStrike">
                <a:solidFill>
                  <a:srgbClr val="ffffb7"/>
                </a:solidFill>
                <a:latin typeface="Times New Roman"/>
              </a:rPr>
              <a:t> a lot of money, but it’s usually quite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(11)______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b7"/>
                </a:solidFill>
                <a:latin typeface="Times New Roman"/>
              </a:rPr>
              <a:t>to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take the underground train</a:t>
            </a:r>
            <a:r>
              <a:rPr b="0" lang="zh-CN" sz="3200" spc="-1" strike="noStrike">
                <a:solidFill>
                  <a:srgbClr val="ffffb7"/>
                </a:solidFill>
                <a:latin typeface="Times New Roman"/>
              </a:rPr>
              <a:t> to most plac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11280" y="18900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6880" y="692280"/>
            <a:ext cx="16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ons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0160" y="1197000"/>
            <a:ext cx="15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visitin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74360" y="116532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ap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4920" y="177336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liveliest         c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75440" y="231624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be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0" y="3500280"/>
            <a:ext cx="175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nclu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5800" y="454968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hurch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9440" y="5229360"/>
            <a:ext cx="18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ravel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38520" y="515772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6320" y="57340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onven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1320" y="18900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ask 3:Listen and fill in th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11280" y="862920"/>
            <a:ext cx="81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In general</a:t>
            </a:r>
            <a:r>
              <a:rPr b="1" lang="zh-CN" sz="3200" spc="-1" strike="noStrike">
                <a:solidFill>
                  <a:srgbClr val="ffffb7"/>
                </a:solidFill>
                <a:latin typeface="Arial"/>
              </a:rPr>
              <a:t>, though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France is quite an expensive place. One thing that is not  expensive in France, however, is the win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ost people in France </a:t>
            </a:r>
            <a:r>
              <a:rPr b="0" lang="zh-CN" sz="3200" spc="-1" strike="noStrike">
                <a:solidFill>
                  <a:srgbClr val="ffffb7"/>
                </a:solidFill>
                <a:latin typeface="Arial"/>
              </a:rPr>
              <a:t>have</a:t>
            </a:r>
            <a:r>
              <a:rPr b="1" lang="zh-CN" sz="32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b7"/>
                </a:solidFill>
                <a:latin typeface="Arial"/>
              </a:rPr>
              <a:t>learned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English. But many people don’t like to speak English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especially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in Paris. So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(12)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you speak French yourself, it’s best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to  (13)______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with someone who can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(14)_____________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things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(15) _____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yo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90160" y="400536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un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1640" y="443700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ra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501336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translate                        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877080" y="6021360"/>
            <a:ext cx="1763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2057400" cy="6248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24000" y="5084640"/>
            <a:ext cx="7391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New Year is coming !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990720" y="228600"/>
            <a:ext cx="46479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7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914400" y="6095880"/>
            <a:ext cx="307800" cy="274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752480" y="5562720"/>
            <a:ext cx="308160" cy="274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191120" y="304920"/>
            <a:ext cx="307800" cy="274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429000" y="5791320"/>
            <a:ext cx="307800" cy="274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5029200" y="5867280"/>
            <a:ext cx="307800" cy="274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8360" y="836640"/>
            <a:ext cx="7238880" cy="48769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67480" y="5257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5334120" y="838080"/>
            <a:ext cx="307800" cy="274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2438280" y="6248520"/>
            <a:ext cx="308160" cy="274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9"/>
          <a:stretch/>
        </p:blipFill>
        <p:spPr>
          <a:xfrm>
            <a:off x="6934320" y="533520"/>
            <a:ext cx="307800" cy="2746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7467480" y="1447920"/>
            <a:ext cx="308160" cy="274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1"/>
          <a:stretch/>
        </p:blipFill>
        <p:spPr>
          <a:xfrm>
            <a:off x="8381880" y="533520"/>
            <a:ext cx="308160" cy="27468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5638680" y="2324160"/>
            <a:ext cx="4038480" cy="4533840"/>
            <a:chOff x="5638680" y="2324160"/>
            <a:chExt cx="4038480" cy="4533840"/>
          </a:xfrm>
        </p:grpSpPr>
        <p:pic>
          <p:nvPicPr>
            <p:cNvPr id="156" name="" descr=""/>
            <p:cNvPicPr/>
            <p:nvPr/>
          </p:nvPicPr>
          <p:blipFill>
            <a:blip r:embed="rId12"/>
            <a:stretch/>
          </p:blipFill>
          <p:spPr>
            <a:xfrm>
              <a:off x="5638680" y="3429000"/>
              <a:ext cx="27432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3"/>
            <a:stretch/>
          </p:blipFill>
          <p:spPr>
            <a:xfrm>
              <a:off x="7238880" y="2324160"/>
              <a:ext cx="2438280" cy="453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14"/>
            <a:stretch/>
          </p:blipFill>
          <p:spPr>
            <a:xfrm>
              <a:off x="7238880" y="4191120"/>
              <a:ext cx="1228680" cy="266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"/>
          <p:cNvSpPr/>
          <p:nvPr/>
        </p:nvSpPr>
        <p:spPr>
          <a:xfrm>
            <a:off x="1736640" y="444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1413000"/>
            <a:ext cx="698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New year is coming ,most people would  like to travel to another city , especialy the people in our Guzhen, can you introduce a travel spotlight for them 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5"/>
          <a:stretch/>
        </p:blipFill>
        <p:spPr>
          <a:xfrm>
            <a:off x="7524720" y="692280"/>
            <a:ext cx="1403280" cy="4105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6"/>
          <a:stretch/>
        </p:blipFill>
        <p:spPr>
          <a:xfrm>
            <a:off x="5245200" y="6083280"/>
            <a:ext cx="307800" cy="274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7"/>
          <a:stretch/>
        </p:blipFill>
        <p:spPr>
          <a:xfrm>
            <a:off x="1763640" y="765000"/>
            <a:ext cx="308160" cy="274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8"/>
          <a:stretch/>
        </p:blipFill>
        <p:spPr>
          <a:xfrm>
            <a:off x="5460840" y="6299280"/>
            <a:ext cx="308160" cy="2746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3276720" y="2997360"/>
            <a:ext cx="2592360" cy="1439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132000" y="2276280"/>
            <a:ext cx="1368720" cy="86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4221000"/>
            <a:ext cx="1117800" cy="597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284720" y="4508640"/>
            <a:ext cx="720720" cy="93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907640" y="3429000"/>
            <a:ext cx="151164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1557360"/>
            <a:ext cx="2376720" cy="762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ty’s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 rot="10749600">
            <a:off x="468000" y="2924280"/>
            <a:ext cx="1724040" cy="10382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96000" y="4508640"/>
            <a:ext cx="2448000" cy="1523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vel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por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71640" y="5373720"/>
            <a:ext cx="2087640" cy="1143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003640" y="2276280"/>
            <a:ext cx="863640" cy="86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59280" y="1413000"/>
            <a:ext cx="259092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at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580000" y="3284280"/>
            <a:ext cx="107964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32000" y="1268280"/>
            <a:ext cx="2522520" cy="115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Hongkong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3280" y="1052640"/>
            <a:ext cx="417672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arm(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neit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old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nor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ho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80000" y="3213000"/>
            <a:ext cx="20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travel spot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6000" y="4508640"/>
            <a:ext cx="2735280" cy="15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00720" y="2708280"/>
            <a:ext cx="2592360" cy="762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ngs to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7640" y="2637000"/>
            <a:ext cx="291636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ney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00360" y="5373720"/>
            <a:ext cx="252252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ien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2280"/>
            <a:ext cx="3097080" cy="187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od that 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all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9160" y="115920"/>
            <a:ext cx="83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ask 4: How to introduce a travel spot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4797360"/>
            <a:ext cx="2087640" cy="1143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484360" y="4581360"/>
            <a:ext cx="151128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4797360"/>
            <a:ext cx="2522520" cy="115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ine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1125360"/>
            <a:ext cx="9685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cc00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00cc00"/>
                </a:solidFill>
                <a:latin typeface="Comic Sans MS"/>
              </a:rPr>
              <a:t>For this vacation ,why not consider visiting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98880" y="549360"/>
            <a:ext cx="55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vel spotlight : Hain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1700280"/>
            <a:ext cx="89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Hongkong .Hongkong is a wonderful place to visit. The weather here in winter  is warm, so if you go there , you can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pack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 light clothes .Hongkong is one of the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liveliest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 cities in the world , you can buy nearly everything here . It also has  many fantastic sights ,including 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“Disneyland ”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and “ Ocean Park”and so 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People in Hongkong are friendly , all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080" y="476280"/>
            <a:ext cx="16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Model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-252360"/>
            <a:ext cx="914400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39640" y="692280"/>
            <a:ext cx="820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them have learned English ,but in their daily life ,they usually speak Chinese , so if you go to Hong kong 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It’s not necessary for you to bring a translator . What ‘s more ,in Hong kong , you can taste all kinds of food that comes from different countries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03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0" y="6354720"/>
            <a:ext cx="914400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68360" y="4149720"/>
            <a:ext cx="1800000" cy="22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26880" y="1341360"/>
            <a:ext cx="329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cc"/>
                </a:solidFill>
                <a:latin typeface="Times New Roman"/>
              </a:rPr>
              <a:t>Thank you 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2708280"/>
            <a:ext cx="403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cc"/>
                </a:solidFill>
                <a:latin typeface="Times New Roman"/>
              </a:rPr>
              <a:t>Goodbye 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00360" y="1413000"/>
            <a:ext cx="434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Pari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03280" y="162864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the night of Paris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7848720" cy="5111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544500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Paris is the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apital 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首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of France ,it is in the north of France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0320" y="1125360"/>
            <a:ext cx="363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Effile Tow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26920" y="0"/>
            <a:ext cx="7740720" cy="5678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32000" y="566748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Notre Dame Cathedral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巴黎圣母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3024360" cy="3673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132000" y="1773360"/>
            <a:ext cx="3060720" cy="4708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012000" y="1989000"/>
            <a:ext cx="1697040" cy="4141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7308720" y="1989000"/>
            <a:ext cx="1328760" cy="3962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b7"/>
                </a:solidFill>
                <a:latin typeface="Arial Black"/>
              </a:rPr>
              <a:t>Perfume</a:t>
            </a:r>
            <a:r>
              <a:rPr b="0" lang="zh-CN" sz="4000" spc="-1" strike="noStrike">
                <a:solidFill>
                  <a:srgbClr val="ff0000"/>
                </a:solidFill>
                <a:latin typeface="Arial Black"/>
              </a:rPr>
              <a:t>(</a:t>
            </a:r>
            <a:r>
              <a:rPr b="0" lang="zh-CN" sz="4000" spc="-1" strike="noStrike">
                <a:solidFill>
                  <a:srgbClr val="ff0000"/>
                </a:solidFill>
                <a:latin typeface="Arial Black"/>
              </a:rPr>
              <a:t>香水</a:t>
            </a:r>
            <a:r>
              <a:rPr b="0" lang="zh-CN" sz="4000" spc="-1" strike="noStrike">
                <a:solidFill>
                  <a:srgbClr val="ff0000"/>
                </a:solidFill>
                <a:latin typeface="Arial Black"/>
              </a:rPr>
              <a:t>) and wine are famous all over the worl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136000" cy="5472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47628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Comic Sans MS"/>
              </a:rPr>
              <a:t>Underground train is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advanced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先进的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3600" y="422100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underground lin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08:01:33Z</dcterms:created>
  <dc:creator> </dc:creator>
  <dc:description> </dc:description>
  <dc:language>en-US</dc:language>
  <cp:lastModifiedBy>微软用户</cp:lastModifiedBy>
  <dcterms:modified xsi:type="dcterms:W3CDTF">2013-07-14T21:49:49Z</dcterms:modified>
  <cp:revision>0</cp:revision>
  <dc:subject>  </dc:subject>
  <dc:title> </dc:title>
</cp:coreProperties>
</file>