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5F9-3942-41A9-B0BB-A5989092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D3C-9AE1-4B57-BD5B-8B3FC33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A4E-61F2-401E-80B3-B1E847D7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788-5C5A-4F8D-8E62-BE7ECAAB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C65-F8F2-470F-B3CB-A2BE72B2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53F-9BC9-4219-B1DA-2068C65B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FBF-4FA1-4B59-B582-9A1D1EB4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D6F-B16B-4E66-8F44-E1196D6A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285-1555-4BC1-99E9-5D5A5565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C1B-D469-41DA-943A-45D32BD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F81-B29E-4E01-A1E0-30336A0C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6DA-D1B0-478B-AB8B-CCAA1F5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B8C3-2C7A-405E-9E13-3F0F9B5929E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9968;&#20013;&#35838;&#20214;&#65288;&#20309;&#28165;&#65289;/unit7&#24405;&#38899;/section%20A%202a.mp3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hyperlink" Target="http://www.canonfans.com/digest/6/59244221407.htm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www.canonfans.com/digest/6/59244221407.htm" TargetMode="External"/><Relationship Id="rId8" Type="http://schemas.openxmlformats.org/officeDocument/2006/relationships/image" Target="../media/image13.jpeg"/><Relationship Id="rId9" Type="http://schemas.openxmlformats.org/officeDocument/2006/relationships/hyperlink" Target="http://www.canonfans.com/digest/6/59244221407.htm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www.canonfans.com/digest/6/59244221407.htm" TargetMode="External"/><Relationship Id="rId12" Type="http://schemas.openxmlformats.org/officeDocument/2006/relationships/image" Target="../media/image15.jpeg"/><Relationship Id="rId13" Type="http://schemas.openxmlformats.org/officeDocument/2006/relationships/hyperlink" Target="http://www.canonfans.com/digest/6/59244221407.htm" TargetMode="External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hyperlink" Target="http://www.canonfans.com/digest/6/59244221407.htm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19384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 Black"/>
              </a:rPr>
              <a:t>Where would you like to visit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549360"/>
            <a:ext cx="61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</a:rPr>
              <a:t>Unit 7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4149720"/>
            <a:ext cx="48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tion 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first peri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 at the picture and describe the two vacations on the book by using the adj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8800" y="1557360"/>
          <a:ext cx="8456760" cy="4824360"/>
        </p:xfrm>
        <a:graphic>
          <a:graphicData uri="http://schemas.openxmlformats.org/drawingml/2006/table">
            <a:tbl>
              <a:tblPr/>
              <a:tblGrid>
                <a:gridCol w="4229280"/>
                <a:gridCol w="422748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ation 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ation 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900000" y="2637000"/>
            <a:ext cx="2159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lax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eace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2637000"/>
            <a:ext cx="273708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i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anger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ascin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260280"/>
            <a:ext cx="8532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 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ok at those travel posters.I’d lov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 on a va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Where would you like to go,S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I’d love to go trekking 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mazon jungle in Braz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You woul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re.I like exciting vac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Wouldn’t that be danger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,not really. How about you,Gina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 would you like to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Oh,I’m stressed out. I’d just like to rel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a beach … You know , a beautiful b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Flor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t sounds peace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7129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1. Read the dialogue then fill in the chart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773360"/>
          <a:ext cx="8964720" cy="4317840"/>
        </p:xfrm>
        <a:graphic>
          <a:graphicData uri="http://schemas.openxmlformats.org/drawingml/2006/table">
            <a:tbl>
              <a:tblPr/>
              <a:tblGrid>
                <a:gridCol w="1957320"/>
                <a:gridCol w="2035440"/>
                <a:gridCol w="4971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2340000" y="3500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068640"/>
            <a:ext cx="42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  exciting     va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68360" y="4869000"/>
            <a:ext cx="17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ri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450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to relax on the b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260280"/>
            <a:ext cx="8532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 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ok at those travel posters.I’d love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 on a va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Where would you like to go,S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I’d love to go trekking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mazon jungle in Brazail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You woul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re.I lik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citing vacation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Wouldn’t that be danger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,not really. How about you,Gina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 would you like to g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na: Oh,I’m stressed out. I’d jus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ke to rela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n a beac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 You know , a beautiful b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 Flori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t sounds peace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33336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na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Where  would  you   like   to go  on  vacation, S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m: I’d like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k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rough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the jung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cause I like  exciting vac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at about you ,Gina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ina: I’m stressed out . I’d like to relax on the beach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cause I like relaxing vacations.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989520"/>
            <a:ext cx="8064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ough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穿过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ross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横过   （介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rough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指穿过某个空间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…中通过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ross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指横过某个表面（从一边到另一边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rough the forest / window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cross the bridge / street /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954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 and number the statements bel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I love places where the people are really     friendl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I hope to see Niagara Falls some da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I like places where the weather is always warm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I hope to visit Hawaii one day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63640" y="404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Times New Roman"/>
                <a:hlinkClick r:id="rId2"/>
              </a:rPr>
              <a:t>Listen 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400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1989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29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7848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isten again and match each place with a reason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8496000" cy="4794120"/>
        </p:xfrm>
        <a:graphic>
          <a:graphicData uri="http://schemas.openxmlformats.org/drawingml/2006/table">
            <a:tbl>
              <a:tblPr/>
              <a:tblGrid>
                <a:gridCol w="4319280"/>
                <a:gridCol w="4176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not to visit the pla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1.Hawai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 2.Mexic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 3.Niagara Fal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66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don’t know the language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66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too touristy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901"/>
                        </a:spcBef>
                        <a:buClr>
                          <a:srgbClr val="99ff66"/>
                        </a:buClr>
                        <a:buFont typeface="Arial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’s not much to do there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84360" y="2565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3789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508464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.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04640"/>
            <a:ext cx="8207280" cy="57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达意愿的方法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1. would like / love to do sth.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想做某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Where would you like to visit ?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I would like to visit Austral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--Would you like to com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y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--Yes, I’d like / love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133720"/>
            <a:ext cx="71640" cy="936360"/>
          </a:xfrm>
          <a:custGeom>
            <a:avLst/>
            <a:gdLst>
              <a:gd name="textAreaLeft" fmla="*/ 45720 w 71640"/>
              <a:gd name="textAreaRight" fmla="*/ 72000 w 7164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393372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328464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ope to se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iagara Fall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me da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ope to visi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waii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ne da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240" y="1413000"/>
            <a:ext cx="787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ope to do sth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去做某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g:    I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hope t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visit  England some da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57720"/>
            <a:ext cx="922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4581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ome day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朝一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4292640"/>
            <a:ext cx="144720" cy="863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981000"/>
            <a:ext cx="7850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lov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plac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her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the people are really friendl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80880"/>
            <a:ext cx="579096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由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er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引导的定语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234936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先行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234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关系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628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lov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lac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eather is always w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3429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She lov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tow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was bor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is is 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la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e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Do you know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unm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you can see many flow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been to these pl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522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4720" y="371520"/>
            <a:ext cx="8315280" cy="6114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03640" y="47628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ngKo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773360"/>
            <a:ext cx="9144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 would  you   like  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go on va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: I  would   like to visit Paris one day ,becaus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ike exting vacation. What about you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I   would   like   to visit Hai nan because 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places where the weather is   always wa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air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63840"/>
            <a:ext cx="81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0" y="2514600"/>
            <a:ext cx="3276720" cy="2400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05720" y="2514600"/>
            <a:ext cx="24382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2514600"/>
            <a:ext cx="342900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480060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4799160"/>
            <a:ext cx="3429000" cy="205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324480" y="480060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26708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ng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6338880"/>
            <a:ext cx="23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 hui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800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n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1989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2637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501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The Great W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56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Guang X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407664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hangHa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>
            <a:off x="6012000" y="0"/>
            <a:ext cx="3554280" cy="2357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236000" y="260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uangzh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495680" cy="315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6320" y="320040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48320" y="3181320"/>
            <a:ext cx="4495680" cy="3524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6760" y="2895480"/>
            <a:ext cx="2466720" cy="1191240"/>
          </a:xfrm>
          <a:prstGeom prst="rect">
            <a:avLst/>
          </a:prstGeom>
          <a:gradFill rotWithShape="0">
            <a:gsLst>
              <a:gs pos="0">
                <a:srgbClr val="46752f"/>
              </a:gs>
              <a:gs pos="50000">
                <a:srgbClr val="99ff66"/>
              </a:gs>
              <a:gs pos="100000">
                <a:srgbClr val="4675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ff33"/>
                </a:solidFill>
                <a:latin typeface="Times New Roman"/>
              </a:rPr>
              <a:t>Brazil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8360" y="617400"/>
            <a:ext cx="8064360" cy="569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68360" y="249228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Florida Beach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90360"/>
            <a:ext cx="3809880" cy="280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3170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514600" y="1752480"/>
            <a:ext cx="3733920" cy="298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5257800" y="3747960"/>
            <a:ext cx="3886200" cy="3110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3520" y="3733920"/>
            <a:ext cx="3581280" cy="3017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669760" y="2460600"/>
            <a:ext cx="2972520" cy="11912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464675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Mexic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52280" y="0"/>
            <a:ext cx="480060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5661000"/>
            <a:ext cx="450072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Niagara Fall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760" y="3459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2786040"/>
            <a:ext cx="4495680" cy="407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859280" cy="5334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6320" y="0"/>
            <a:ext cx="4419360" cy="29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572000" y="3733920"/>
            <a:ext cx="4724280" cy="312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33720" y="2468520"/>
            <a:ext cx="2161800" cy="1191240"/>
          </a:xfrm>
          <a:prstGeom prst="rect">
            <a:avLst/>
          </a:prstGeom>
          <a:gradFill rotWithShape="0">
            <a:gsLst>
              <a:gs pos="0">
                <a:srgbClr val="754646"/>
              </a:gs>
              <a:gs pos="50000">
                <a:srgbClr val="ff9999"/>
              </a:gs>
              <a:gs pos="100000">
                <a:srgbClr val="7546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ari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155736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: Where  would  you   like   to  go on vac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: I  would   like to go to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ne day,because I lik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acation. What about you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: I   would   like   to visit 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because 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ke place wher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54936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air 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83664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hope ________ see you so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that      B. for          C. to       D.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The plac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 grew up is a beautiful tow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which   B. that    C. where      D. from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I’d like to trek ___________ the jungle on va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to      B.  across       C. past       D.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Where would you like to go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      B.  in        C. to       D.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e walk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forest al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ough      B.  cross       C. across     D. th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H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lke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tre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rough      B.  cross       C. across     D. th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69228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5800" y="3357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94520" y="25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5640" y="162864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4221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8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333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中考链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54936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 I love places ______the people are really friend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 that   B. which   C. where   D. 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re would you like to go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’d like to go ______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warm somewher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B. place w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 somewhere war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D. warm 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The man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your father is talking to is Mr. Gre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 whom  B. which   C. where   D. wh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I like music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as great lyr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 that   B. whose  C. where   D. 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Do you know the gir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s are teac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 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 that   B. which   C. whose   D. 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95640" y="3141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8520" y="5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5800" y="19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61440" y="39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58160" y="47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532720" cy="639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8496000" cy="659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49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in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620640"/>
          <a:ext cx="8785080" cy="5065920"/>
        </p:xfrm>
        <a:graphic>
          <a:graphicData uri="http://schemas.openxmlformats.org/drawingml/2006/table">
            <a:tbl>
              <a:tblPr/>
              <a:tblGrid>
                <a:gridCol w="2031840"/>
                <a:gridCol w="3340440"/>
                <a:gridCol w="3412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ourier New"/>
                        </a:rPr>
                        <a:t>Wh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ter va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Years D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ourier New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in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ng K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ourier New"/>
                        </a:rPr>
                        <a:t>W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ourier New"/>
                        </a:rPr>
                        <a:t>(Activitie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x on the bea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sightsee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shopp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Disneyla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where warm relaxing, fascinating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iendly peop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iting, interesting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we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e day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630520" y="189000"/>
            <a:ext cx="46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riting : My vacation pl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661000"/>
            <a:ext cx="813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y vacation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hope to visit …, I would like to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90792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Describe vacations with different adjectiv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Talk about places we would like to visit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Where would you like to visit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’d love t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Mexi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’d like t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k through the jungle,            because   I like exciting vac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I’d like to g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omewhere relax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 hope t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Hawaii some day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I love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laces wher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eople are really friend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2602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mmary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总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13000"/>
            <a:ext cx="7416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想到哪去参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旅行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乐意到巴西去参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访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旅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想到哪去度假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想穿过丛林去历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我喜欢惊险刺激的假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希望有一天能上月球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去一个能让人放松的地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喜欢人们友好的城市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54936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omewor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翻译句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755640" y="765000"/>
            <a:ext cx="7048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aramond"/>
              </a:rPr>
              <a:t>Thank you </a:t>
            </a:r>
            <a:endParaRPr b="1" lang="en-US" sz="48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620640"/>
            <a:ext cx="81374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想到哪去参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访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旅行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 would you like to vis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乐意到巴西去参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访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旅行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’d love to visit Braz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你想到哪去度假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 would you like to go on vac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想穿过丛林去历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因为我喜欢惊险刺激的假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’d like to trek through the jungle because I like exciting vac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5320" y="11592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ework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翻译句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8428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希望有一天能上月球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 hope to visit the moon some d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想去一个能让人放松的地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’d like to go somewhere relax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喜欢人们友好的城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 love cities where the people are friend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27640" y="476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Great W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1484280"/>
            <a:ext cx="734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st summer I went to Beijing. I visited the Great Wall. I like it very much, because it’s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cit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365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ci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06436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exciting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令人激动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thrilling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令人震撼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fascinating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迷人的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 peaceful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宁静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 tiring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累人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6. touristy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游客很多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.educational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有教育意义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beautiful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美丽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 relaxing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松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.dangerous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危险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1.interesting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趣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2.   fun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好玩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3. boring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无聊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4.terrible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怕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.enjoyable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令人愉快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6. comfortable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舒服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72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59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ve you ever been to somewhere for vacatio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did you go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 you think of the place you visit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708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have you bee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4149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ci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4797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537372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r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59500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56360" y="2060640"/>
            <a:ext cx="1800360" cy="27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2637000"/>
            <a:ext cx="14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微软用户</cp:lastModifiedBy>
  <dcterms:modified xsi:type="dcterms:W3CDTF">2013-07-14T21:50:23Z</dcterms:modified>
  <cp:revision>0</cp:revision>
  <dc:subject> </dc:subject>
  <dc:title> </dc:title>
</cp:coreProperties>
</file>