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58D-394C-4D9E-AC6E-3A190ED9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7A1-C000-4737-BE3A-070B471B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95B-A50D-430F-9FA0-675ADF5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58E-EA38-4B7D-83B9-F1EA3FDA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F90-F62C-4D95-A52D-E0E102F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494-0874-4007-B9C0-28FA513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BE9-E42E-47D6-976F-5168621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6F6-5426-47D7-8AEB-5A4C6A6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B8C-D479-43DD-8D17-F7473A0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B53-7692-4878-9B6E-CAC6339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31D-F66C-4096-8723-004AF59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2E2-E2AF-46C0-BC4F-0C6ABE1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49F-8F79-4416-B313-36295585F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544035101&amp;tn=baiduimagedetail&amp;word=&#26381;&#35013;&amp;in=69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.baidu.com/i?ct=503316480&amp;z=335540100&amp;tn=baiduimagedetail&amp;word=&#26381;&#35013;&amp;in=1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.baidu.com/i?ct=503316480&amp;z=519759852&amp;tn=baiduimagedetail&amp;word=&#34915;&#26381;&amp;in=31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541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1916280"/>
            <a:ext cx="6933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unit6 I like music that I can dance to.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3500280"/>
            <a:ext cx="28954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8760" y="87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8640" y="171360"/>
            <a:ext cx="78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ill in the chart. Write names of your favo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and, book, and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4880" y="1776240"/>
            <a:ext cx="1672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B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362320"/>
            <a:ext cx="3657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3657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5029200"/>
            <a:ext cx="3657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3456000" cy="30114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79280" y="333360"/>
            <a:ext cx="3600360" cy="1942920"/>
            <a:chOff x="179280" y="333360"/>
            <a:chExt cx="3600360" cy="1942920"/>
          </a:xfrm>
        </p:grpSpPr>
        <p:sp>
          <p:nvSpPr>
            <p:cNvPr id="81" name=""/>
            <p:cNvSpPr/>
            <p:nvPr/>
          </p:nvSpPr>
          <p:spPr>
            <a:xfrm>
              <a:off x="179280" y="333360"/>
              <a:ext cx="3600360" cy="1942920"/>
            </a:xfrm>
            <a:prstGeom prst="cloudCallout">
              <a:avLst>
                <a:gd name="adj1" fmla="val 8819"/>
                <a:gd name="adj2" fmla="val 9717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4000" y="878040"/>
              <a:ext cx="26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y do you look unhappy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350240" y="432720"/>
            <a:ext cx="4475880" cy="3111840"/>
            <a:chOff x="4350240" y="432720"/>
            <a:chExt cx="4475880" cy="3111840"/>
          </a:xfrm>
        </p:grpSpPr>
        <p:sp>
          <p:nvSpPr>
            <p:cNvPr id="84" name=""/>
            <p:cNvSpPr/>
            <p:nvPr/>
          </p:nvSpPr>
          <p:spPr>
            <a:xfrm rot="447000">
              <a:off x="4500720" y="692280"/>
              <a:ext cx="4174920" cy="2592360"/>
            </a:xfrm>
            <a:prstGeom prst="cloudCallout">
              <a:avLst>
                <a:gd name="adj1" fmla="val -49037"/>
                <a:gd name="adj2" fmla="val 847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447000">
              <a:off x="5216040" y="1419120"/>
              <a:ext cx="287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y mother bought me a T-shirt that I don’t lik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970840" cy="2898720"/>
            <a:chOff x="0" y="0"/>
            <a:chExt cx="8970840" cy="289872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5722920" cy="2898720"/>
              <a:chOff x="0" y="0"/>
              <a:chExt cx="5722920" cy="2898720"/>
            </a:xfrm>
          </p:grpSpPr>
          <p:pic>
            <p:nvPicPr>
              <p:cNvPr id="88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2319480" cy="28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3059280" y="0"/>
                <a:ext cx="2663640" cy="28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588000" y="0"/>
              <a:ext cx="2382840" cy="285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-69840" y="1967040"/>
            <a:ext cx="3981600" cy="1828800"/>
            <a:chOff x="-69840" y="1967040"/>
            <a:chExt cx="3981600" cy="1828800"/>
          </a:xfrm>
        </p:grpSpPr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 rot="21190200">
              <a:off x="-1080" y="2190600"/>
              <a:ext cx="384444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1190200">
              <a:off x="587520" y="2628720"/>
              <a:ext cx="25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6600"/>
                  </a:solidFill>
                  <a:latin typeface="Arial"/>
                </a:rPr>
                <a:t>discussion</a:t>
              </a:r>
              <a:r>
                <a:rPr b="1" lang="en-US" sz="2800" spc="-1" strike="noStrike">
                  <a:solidFill>
                    <a:srgbClr val="99ff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9280" y="2924280"/>
            <a:ext cx="6624720" cy="106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clothes do you like ? Talk with your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019400"/>
            <a:ext cx="8820000" cy="2860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: What clothes do you lik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: I like clothes that are comfortable.  How abou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: I like clothes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90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760" y="76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sten and write down the three things in the picture that Michael and Ali talk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57480" y="1143000"/>
            <a:ext cx="6629400" cy="350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5880" y="4630680"/>
            <a:ext cx="136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51080" y="46483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360" y="54100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25880" y="609588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vi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p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525780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7057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943600"/>
            <a:ext cx="1752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514600" y="4038480"/>
            <a:ext cx="560520" cy="26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934320" y="2438280"/>
            <a:ext cx="560160" cy="26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495680" y="1447920"/>
            <a:ext cx="56052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798560" cy="183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11280" y="189000"/>
            <a:ext cx="6408720" cy="35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7740720" cy="20592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0920" y="2565360"/>
            <a:ext cx="5833800" cy="2095560"/>
            <a:chOff x="250920" y="2565360"/>
            <a:chExt cx="5833800" cy="2095560"/>
          </a:xfrm>
        </p:grpSpPr>
        <p:sp>
          <p:nvSpPr>
            <p:cNvPr id="115" name=""/>
            <p:cNvSpPr/>
            <p:nvPr/>
          </p:nvSpPr>
          <p:spPr>
            <a:xfrm>
              <a:off x="250920" y="2565360"/>
              <a:ext cx="20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en ! And write what Micha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920" y="3645000"/>
              <a:ext cx="583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kes and why he likes each thing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7400" y="76320"/>
            <a:ext cx="7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sten again. Write what Michael likes and why he likes each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371600"/>
          <a:ext cx="8153280" cy="4078440"/>
        </p:xfrm>
        <a:graphic>
          <a:graphicData uri="http://schemas.openxmlformats.org/drawingml/2006/table">
            <a:tbl>
              <a:tblPr/>
              <a:tblGrid>
                <a:gridCol w="3352680"/>
                <a:gridCol w="48006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 Black"/>
                        </a:rPr>
                        <a:t>What Michael li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 Black"/>
                        </a:rPr>
                        <a:t>Why he likes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likes cloth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that are unus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likes wri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likes mov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795960" y="3557520"/>
            <a:ext cx="11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Comic Sans MS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-130320"/>
            <a:ext cx="183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08040" y="3840120"/>
            <a:ext cx="42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who explain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9920" y="47005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Comic Sans MS"/>
              </a:rPr>
              <a:t>mov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41160" y="4754520"/>
            <a:ext cx="36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at about mon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60280"/>
            <a:ext cx="8675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ape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Wow, you sure have lots of cool stuff. What a great jack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Yeah, it’s new. I really like it. I like clothes that are unusu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Yeah, me too. Say… is that a new book over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Yes, it is. It’s a book about volleyball. It tells about how to become a good pl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Is it g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54936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Yeah, it’s great. I like writers who explain things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Me too. Ummmm, Micha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Y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Uhhh… Where did you get that movie po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Oh, the Monster Lizard poster? My brother got it for me. He works at a movie the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40464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It’s a great po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Yeah, it is. I love movies that are about monsters, don’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I sure do. Say… Michael… Do you think your brother could get a Monster Lizard poster 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 Probably. I’ll ask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y1: That would be gre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7040" y="7632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76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iscuss your favorite things fromactivity1.Say why you like each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1197000"/>
            <a:ext cx="905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I like movies that are s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I love “Sinking Ship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Oh, I don’t. I like movies that have scary monsters. I really lik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60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rming up by making sentences containing Relative clause with 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ha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060640"/>
            <a:ext cx="860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like mus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at I can sing along with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osa likes mus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at’s quiet and gentle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love singer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who write their own music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907920"/>
            <a:ext cx="8137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I like writers who explain things we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Oh, I don’t. I like writers that describe feelings we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40000" y="2133720"/>
            <a:ext cx="4680000" cy="222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imes New Roman"/>
              </a:rPr>
              <a:t>Thank you for listening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74600"/>
            <a:ext cx="8353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e prefer mus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at has great lyric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like group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at dance to their song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love singer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who are tall and beautiful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can’t stand mus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at is too lon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don’t like musician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who look like alien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760" y="87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419720" y="1219320"/>
            <a:ext cx="388620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0948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657600" y="3962520"/>
            <a:ext cx="3886200" cy="258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41320" y="152280"/>
            <a:ext cx="7686360" cy="7642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’s your favorite b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0280"/>
            <a:ext cx="8675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六甲乐队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Six Plus]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阿妹妹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iMi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阿修罗乐队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Ashura]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动力火车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Power Station]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达达乐队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The DaDa]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功夫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GongFu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0"/>
            <a:ext cx="4248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花儿乐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The Flowers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黑鸭子演唱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Hei Ya Zi]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哈狗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[Mc Hotdog]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760" y="87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0880" y="141120"/>
            <a:ext cx="7182360" cy="7642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’s your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avorite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274320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828800" y="3048120"/>
            <a:ext cx="2819520" cy="36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48320" y="838080"/>
            <a:ext cx="309564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019920" y="3124080"/>
            <a:ext cx="2570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R. ERNEST DRAKE'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RAGO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GYP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DRAGONOLOGY HAND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THE PLACES YOU'LL G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0 LITTLE RUBBER DU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8760" y="87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8120" y="141120"/>
            <a:ext cx="7475040" cy="7642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’s your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avorite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365760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4572000" cy="3451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724280" y="990720"/>
            <a:ext cx="3429000" cy="465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64000" y="3276720"/>
            <a:ext cx="23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0"/>
            <a:ext cx="81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y 10 Best Children's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0. RUGRATS (TV serie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. MIGHTY DU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8. LITTLE RASC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. MATIL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. H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 CINDEREL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. WILLY WONKA AND THE CHOCOLATE FAC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 SOUND OF MUS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 AN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06:06:24Z</dcterms:created>
  <dc:creator> </dc:creator>
  <dc:description> </dc:description>
  <dc:language>en-US</dc:language>
  <cp:lastModifiedBy>微软用户</cp:lastModifiedBy>
  <dcterms:modified xsi:type="dcterms:W3CDTF">2014-03-13T15:25:45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</Properties>
</file>