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575-C7ED-46B2-8649-BE2A2CAF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7AC-43E7-47E2-A4CE-BEB8F445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41F-33F2-48D8-9823-FA5DEDB3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26A-FFC4-4261-9F07-A2E6F43F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15B-5A4B-43F9-BA07-DEDC2368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19D-7888-485C-9477-1C4826B0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1EF-DBCA-45F1-9435-FEE9426F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97D-7B5A-45B0-B9E9-784EF359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A2C-C053-4146-9583-45C71C38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E3A-1E97-4AC2-BE9B-98BBDF0A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7F9-FA19-4F85-AF32-4E09C84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E40-9207-48BB-9A39-84CC44F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691-F246-49E8-87AB-E536C277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3450;&#35821;&#20174;&#21477;.doc" TargetMode="External"/><Relationship Id="rId3" Type="http://schemas.openxmlformats.org/officeDocument/2006/relationships/hyperlink" Target="&#23450;&#35821;&#20174;&#21477;.doc" TargetMode="External"/><Relationship Id="rId4" Type="http://schemas.openxmlformats.org/officeDocument/2006/relationships/hyperlink" Target="&#23450;&#35821;&#20174;&#21477;.doc" TargetMode="External"/><Relationship Id="rId5" Type="http://schemas.openxmlformats.org/officeDocument/2006/relationships/hyperlink" Target="&#23450;&#35821;&#20174;&#21477;.doc" TargetMode="External"/><Relationship Id="rId6" Type="http://schemas.openxmlformats.org/officeDocument/2006/relationships/hyperlink" Target="&#23450;&#35821;&#20174;&#21477;.doc" TargetMode="External"/><Relationship Id="rId7" Type="http://schemas.openxmlformats.org/officeDocument/2006/relationships/hyperlink" Target="&#23450;&#35821;&#20174;&#21477;.doc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09960" y="304164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ection A 3a-4</a:t>
            </a:r>
            <a:endParaRPr b="1" i="1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480" y="1396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2840" y="228600"/>
            <a:ext cx="6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0160" y="76320"/>
            <a:ext cx="83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Talk with your partner about  a CD you liste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to recently. Ask and answer the question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activity 3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680" y="1854360"/>
            <a:ext cx="892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What CD did you listen to recent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I listened to one called Heart Str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What do you think of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I enjoy it a l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The singer writes her own songs. I prefer si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who write their own lyric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: What CD did you listen to recent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B: I listened to one called China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: What do you think of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B: I enjoy it a l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A: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B: It’s the kind of music that you can dance to. I prefer music that we can dance to.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4320" y="90360"/>
            <a:ext cx="282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Addit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13440" y="914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45320" y="1676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在复合句中修饰名词或代词的从句叫做定语从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8400" y="3000240"/>
            <a:ext cx="90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 love singers who write their own mus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373392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657600"/>
            <a:ext cx="46483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952880"/>
            <a:ext cx="91440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638680"/>
            <a:ext cx="68580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048120"/>
            <a:ext cx="990720" cy="6858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65360" y="388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1520" y="39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关系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32680" y="388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rcRect l="0" t="58562" r="48971" b="33926"/>
          <a:stretch/>
        </p:blipFill>
        <p:spPr>
          <a:xfrm>
            <a:off x="217440" y="46080"/>
            <a:ext cx="8170920" cy="1150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66810" t="71730" r="0" b="7580"/>
          <a:stretch/>
        </p:blipFill>
        <p:spPr>
          <a:xfrm>
            <a:off x="0" y="1700280"/>
            <a:ext cx="9144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3762" t="66863" r="38999" b="4761"/>
          <a:stretch/>
        </p:blipFill>
        <p:spPr>
          <a:xfrm>
            <a:off x="216000" y="836640"/>
            <a:ext cx="8748720" cy="568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54200" y="1995480"/>
            <a:ext cx="46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nce to their song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9080" y="29973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e tall and beautifu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4005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oo  lo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508464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 like alie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4480" y="1396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7320" y="24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9720" y="-74520"/>
            <a:ext cx="434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8000"/>
                </a:solidFill>
                <a:latin typeface="Times New Roman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60600" y="2484360"/>
            <a:ext cx="59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Students’ book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Comic Sans MS"/>
              </a:rPr>
              <a:t>P </a:t>
            </a: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46. 4</a:t>
            </a: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 PAIR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0" y="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03280" y="234936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50920" y="1916280"/>
            <a:ext cx="85010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Calibri"/>
              </a:rPr>
              <a:t>Thanks for listening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2133720"/>
            <a:ext cx="4680000" cy="222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ffffff"/>
                </a:solidFill>
                <a:latin typeface="Times New Roman"/>
              </a:rPr>
              <a:t>Thank you for listening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480" y="1396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1840" y="228600"/>
            <a:ext cx="5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6160" y="171360"/>
            <a:ext cx="694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Read Jennifer’s CD review. Then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the sentenc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2280" y="1371600"/>
            <a:ext cx="8915400" cy="533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6019920"/>
            <a:ext cx="23623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388620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267080"/>
            <a:ext cx="99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480" y="1396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1840" y="228600"/>
            <a:ext cx="5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55440" y="1703520"/>
            <a:ext cx="3908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’s the kind of mus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he likes mu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he doesn’t like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he likes si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.   The music i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7080" y="1676520"/>
            <a:ext cx="4617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o write their own lyr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razilian dance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o sing the words cl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at you can danc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.  that are too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1905120"/>
            <a:ext cx="838440" cy="2438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05320" y="1904760"/>
            <a:ext cx="914400" cy="990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809880"/>
            <a:ext cx="609840" cy="1676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00400" y="3733920"/>
            <a:ext cx="1219320" cy="9144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352680" y="2895120"/>
            <a:ext cx="1067040" cy="25146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6160" y="171360"/>
            <a:ext cx="694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Read Jennifer’s CD review. Then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the sentenc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49400" y="1063800"/>
            <a:ext cx="60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ind sb of sb/s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…记得，提醒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89160" y="1828800"/>
            <a:ext cx="7072200" cy="1206360"/>
            <a:chOff x="1289160" y="1828800"/>
            <a:chExt cx="7072200" cy="1206360"/>
          </a:xfrm>
        </p:grpSpPr>
        <p:sp>
          <p:nvSpPr>
            <p:cNvPr id="61" name=""/>
            <p:cNvSpPr/>
            <p:nvPr/>
          </p:nvSpPr>
          <p:spPr>
            <a:xfrm>
              <a:off x="1289160" y="1828800"/>
              <a:ext cx="70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eg. This song reminds him of his moth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11880" y="25146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这首歌让他想起了他的妈妈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57200" y="617220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8920" y="3397320"/>
            <a:ext cx="32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e…to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…去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48200" y="4362480"/>
            <a:ext cx="697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g. My father often takes me to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爸爸经常带我去公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480" y="1396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2840" y="228600"/>
            <a:ext cx="6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0160" y="76320"/>
            <a:ext cx="83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Talk with your partner about  a CD you liste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to recently. Ask and answer the question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activity 3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680" y="1854360"/>
            <a:ext cx="892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What CD did you listen to recent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I listened to one called Heart Str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What do you think of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I enjoy it a l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The singer writes her own songs. I prefer si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who write their own lyric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997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2637000"/>
            <a:ext cx="914400" cy="609480"/>
          </a:xfrm>
          <a:prstGeom prst="wedgeEllipseCallout">
            <a:avLst>
              <a:gd name="adj1" fmla="val -124652"/>
              <a:gd name="adj2" fmla="val 106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心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3716280"/>
            <a:ext cx="914400" cy="609480"/>
          </a:xfrm>
          <a:prstGeom prst="wedgeRoundRectCallout">
            <a:avLst>
              <a:gd name="adj1" fmla="val -145138"/>
              <a:gd name="adj2" fmla="val -6770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义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4320" y="90360"/>
            <a:ext cx="282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Addit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13440" y="914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45320" y="1676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在复合句中修饰名词或代词的从句叫做定语从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8400" y="3000240"/>
            <a:ext cx="90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I love singers who write their own mus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73392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657600"/>
            <a:ext cx="46483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952880"/>
            <a:ext cx="91440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5638680"/>
            <a:ext cx="68580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3048120"/>
            <a:ext cx="990720" cy="6858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65360" y="388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1520" y="39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关系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2680" y="388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引导定语从句的关系代词和关系副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关系代词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:that,who,whom,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He is the boy that/who wants to go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指人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作主语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He is the man who/whom/that you often talk about.(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指人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介词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about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的宾语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This is the sentence that/which I am writing down.(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指物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作宾语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This is the sentence that/which was written by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指物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作宾语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从例句可以看出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:who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在句中作主语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;whom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在句中作宾语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who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也可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均指人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which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在句中作主语或宾语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指物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而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at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在句中既作主语也作宾语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既指人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又指物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关系代词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一般置于名词前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这是其他关系代词和关系副词没有的用法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既修饰表人的名词也修饰表物的名词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lives in the house whose windows face to the 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o you know the boy whose leg was bro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关系代词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at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的应用：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定语从句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限定性定语从句和非限定性定语从句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定语从句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关系副词的应用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何时用关系副词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定语从句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2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关系副词与介词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+which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的转换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.This is the town where(at which) he worked ten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.Beijing is the city where(in which)he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.Do you remember the day when(on which) you joined our clu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.This is the reson why(for which)he did’t c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06:06:24Z</dcterms:created>
  <dc:creator> </dc:creator>
  <dc:description> </dc:description>
  <dc:language>en-US</dc:language>
  <cp:lastModifiedBy>微软用户</cp:lastModifiedBy>
  <dcterms:modified xsi:type="dcterms:W3CDTF">2014-03-13T15:24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89</vt:lpwstr>
  </property>
</Properties>
</file>