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1A90-52A9-430A-9FD3-21DBFAAC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00B-5D74-407C-87EC-0D788CC7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B7F-A404-4AC9-BC5C-2130804B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1AE-3BB1-4ECC-8EA9-4889441C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8C49-A749-4584-A406-472737B4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31AF-B64E-49E7-AB62-0CD6D8F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EBA1-BC4F-42F5-B79E-429627A5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ADD2-E382-4C0C-8BE1-34A74F4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7157-5CE7-4BBF-96E2-F7CF2795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4135-F071-4F15-9357-67A64649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FD34-6E05-4696-849A-8DD4791F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E85-A2B5-4E89-BA81-A719031D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743-428F-4C9A-8B56-0F2DB73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2A3-1CE1-4480-8420-0FBADA7D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9B37-C28D-409B-AE0A-4C16DAA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D692-C7D6-4ACE-AED3-E4B27DAA4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30E6-C047-46C4-B936-01E9D5C6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F04-7FF0-49C0-85ED-47C62B95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613-236F-4AA3-A1B6-B4A09012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3AC-AB90-44CE-BF48-570B0A1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EC7-1A07-4A24-AE6E-0CE13BC0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1D-C719-4E64-AE85-E4C8C87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6F8-902F-4230-A06A-CDF14BC2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43E-3BCA-4706-826C-573ECE74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0DB3-C81A-4A49-94FA-69876EC00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B96C-0DBC-4609-BA84-D91D57179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2781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Section A3a-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404640"/>
            <a:ext cx="851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Unit 5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It must belong to Car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12760" y="1133640"/>
            <a:ext cx="7345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Sample conversa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Here is a flower. The owner must be a gir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Well, it could be a boy. The flower might be a present for his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627280" y="2205000"/>
            <a:ext cx="4680000" cy="222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>
                <a:solidFill>
                  <a:srgbClr val="ffffff"/>
                </a:solidFill>
                <a:latin typeface="Times New Roman"/>
              </a:rPr>
              <a:t>Thank you for listening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692280"/>
            <a:ext cx="8136000" cy="6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  <a:ea typeface="华文中宋"/>
              </a:rPr>
              <a:t>Reading and Speaking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1700280"/>
            <a:ext cx="7416720" cy="365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imes New Roman"/>
                <a:ea typeface="华文中宋"/>
              </a:rPr>
              <a:t>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 thank-you lett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must be a personal letter. In the letter the writer may express his gratitude for what the receiver has d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or him/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74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a Read the thank-you message Linda wrote to Anna. Number the parts in order and circle the words you don’t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62040"/>
            <a:ext cx="91440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r An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have any idea where it might be, please call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hink I dropped it during the concert so it might still be in the symphony h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ried to call you but your mom said you were still at your optometrist appointment (I hope your new glasses look nic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really need it because I have a math test on algebra tomorrow. It’s crucial that I study for it because it counts 30% to the final ex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’m really anxious, because I can’t find my backpack. Thanks,                                                                                     Li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638680"/>
            <a:ext cx="129528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905120"/>
            <a:ext cx="1295280" cy="60948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438280"/>
            <a:ext cx="167652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505320"/>
            <a:ext cx="175248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3505320"/>
            <a:ext cx="190512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4114800"/>
            <a:ext cx="129564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572000"/>
            <a:ext cx="114300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4572000"/>
            <a:ext cx="114300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952880"/>
            <a:ext cx="83808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1676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落下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n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交响乐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交响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809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n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验光师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配镜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809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n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约会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约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n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876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dj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关键的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至关重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计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dj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最后的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最终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6095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Times New Roman"/>
              </a:rPr>
              <a:t>adj.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忧虑的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焦虑的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5562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905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0384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986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3096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380880"/>
            <a:ext cx="914400" cy="457200"/>
          </a:xfrm>
          <a:prstGeom prst="ellipse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26920" y="290520"/>
            <a:ext cx="34578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华文中宋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219320"/>
            <a:ext cx="830592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 you have any id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re it might  be, please call 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any idea … = If you kn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思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果你知道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导的条件从句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“若干的，有多少”的意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g. If you have any time, I’d like to talk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-74520"/>
            <a:ext cx="8305560" cy="56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I think I droppe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the concerts so it might still be in the symphony h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在已知的时期、节日或表示时间观念的名词前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g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summer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y holiday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our stay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…之际”既可指某一动作在某个时期内连续不断的发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可指某个动作在这一时期内的某一时间发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 g. It snowed all day but stopped snow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ur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at nigh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80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Subject: Thanks!         From: Su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Dear Sandy,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When you left a package for me yesterday, I h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difficulty waiting until my birthday to open it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I don’t know how to thank you for such 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ttractive pres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something that will  give me pleasure for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ng time to come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Please accept my sincere thanks and best wishes.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rdiall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诚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衷心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-74520"/>
            <a:ext cx="712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One sample thank-you le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3049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b  PAIRWORK  Talk about the words you don’t understand. Use “can’t’, “must”, “could” or “might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449440"/>
            <a:ext cx="8763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: What do you think “anxious” me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: Well, it can’t mean “happy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: It might mean “worried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: Oh, yes. She’s worried because of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304920"/>
            <a:ext cx="815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 PAIRWORK  Look at the things in the backpack below. Make guesses about the owner of the  backpack. Write your ideas in the chart. Then talk about your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362320"/>
            <a:ext cx="8153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Sample conversation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Here are some earrings. The owner can’t be a bo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Well, it could be a boy. The earrings might be a present for his m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990720"/>
            <a:ext cx="792468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Sample conversation 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A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Here is a Chinese-English  dictionary. It could belong to Mary.   I know she has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B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I don’t think so. It can’t be Mary’s. This one is new, but hers i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22:58:49Z</dcterms:created>
  <dc:creator> </dc:creator>
  <dc:description> </dc:description>
  <dc:language>en-US</dc:language>
  <cp:lastModifiedBy>微软用户</cp:lastModifiedBy>
  <dcterms:modified xsi:type="dcterms:W3CDTF">2014-03-13T15:39:0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89</vt:lpwstr>
  </property>
</Properties>
</file>