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1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8.jpeg" ContentType="image/jpeg"/>
  <Override PartName="/ppt/media/camera.wav" ContentType="audio/x-wav"/>
  <Override PartName="/ppt/media/image21.jpeg" ContentType="image/jpeg"/>
  <Override PartName="/ppt/media/image12.jpeg" ContentType="image/jpeg"/>
  <Override PartName="/ppt/media/image29.jpeg" ContentType="image/jpeg"/>
  <Override PartName="/ppt/media/image33.wmf" ContentType="image/x-wmf"/>
  <Override PartName="/ppt/media/image10.gif" ContentType="image/gif"/>
  <Override PartName="/ppt/media/image9.jpeg" ContentType="image/jpeg"/>
  <Override PartName="/ppt/media/image30.jpeg" ContentType="image/jpeg"/>
  <Override PartName="/ppt/media/image3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4.gif" ContentType="image/gif"/>
  <Override PartName="/ppt/media/image32.jpeg" ContentType="image/jpeg"/>
  <Override PartName="/ppt/media/image5.jpeg" ContentType="image/jpeg"/>
  <Override PartName="/ppt/media/image26.jpeg" ContentType="image/jpeg"/>
  <Override PartName="/ppt/media/applause.wav" ContentType="audio/x-wav"/>
  <Override PartName="/ppt/media/image6.jpeg" ContentType="image/jpeg"/>
  <Override PartName="/ppt/media/image27.jpeg" ContentType="image/jpeg"/>
  <Override PartName="/ppt/media/image28.png" ContentType="image/png"/>
  <Override PartName="/ppt/media/image7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3.jpeg" ContentType="image/jpeg"/>
  <Override PartName="/ppt/media/image14.jpeg" ContentType="image/jpeg"/>
  <Override PartName="/ppt/media/image1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26B52-017F-43C9-B0E4-9C3187C61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A64FE-D603-499A-8AF6-36F9B3F76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76926-5D30-4BA2-B60E-E74F329D4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3AF32-9D2C-4F85-9EF8-4008776A9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D924B-4B2F-4429-A31C-DB7A69D1D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202B0-E6CA-4A35-841F-DD550EB99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9A659-A570-4439-B7BD-58EE12054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4BFD2-DDB0-4277-8F31-46E3305DE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EFCCA-38F8-4AD6-AA14-8D9E51488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110A7-D117-451B-86C9-40340E6C8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100E0-C3B9-49D1-97B9-AF0DF91C4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501DA-6200-4CD0-9982-70A5D249F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5C935-E346-4732-A9B2-D2440CD60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31C3E-BBFB-489C-96B0-8B1772854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CF2FE-2D25-4B8C-8783-49CE95A27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64EE1-EEF1-430A-90F4-470BE4A47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D7A21-5C31-47A4-A84E-C3A71655B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AC47F-1798-446A-9E70-A36301218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4E6CE-9D74-499B-A144-5A7CEB675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ADE7B-ABB2-4477-9807-5B8E96C4D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228D4-8343-4C54-BFFC-2D939E275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6DE88-DD73-4989-984A-FD024617B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8B9F6-F5FD-4D89-8868-D289FFED3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54141-CE57-41AB-A290-5EA1D0523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3F19A-074B-4BF8-9D6B-2358152549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2A43C-3813-4D58-90A3-CCC7F83132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bookqq.net/bookdetails.php?LocalID=51008041" TargetMode="External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gif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ce65.net/corp/shop/archive_act_product_c_539793.jhtml" TargetMode="External"/><Relationship Id="rId3" Type="http://schemas.openxmlformats.org/officeDocument/2006/relationships/image" Target="../media/image11.jpeg"/><Relationship Id="rId4" Type="http://schemas.openxmlformats.org/officeDocument/2006/relationships/hyperlink" Target="http://www.picd.net/pic/909F8505478EC912_6.html" TargetMode="External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sports.21cn.com/hytt/focus/2005/11/21/2369783_4.shtml" TargetMode="External"/><Relationship Id="rId3" Type="http://schemas.openxmlformats.org/officeDocument/2006/relationships/image" Target="../media/image13.jpeg"/><Relationship Id="rId4" Type="http://schemas.openxmlformats.org/officeDocument/2006/relationships/hyperlink" Target="http://www.dm178.com/20047/200472715564_72330.jpg" TargetMode="External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product.lvren.cn/24/23245/comments.shtml" TargetMode="External"/><Relationship Id="rId3" Type="http://schemas.openxmlformats.org/officeDocument/2006/relationships/image" Target="../media/image15.jpeg"/><Relationship Id="rId4" Type="http://schemas.openxmlformats.org/officeDocument/2006/relationships/hyperlink" Target="http://www.inews.org.cn/html/2007-03/165531.html" TargetMode="External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petgogo.cn/viewthread.php?tid=15" TargetMode="Externa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fashion.jnzc.net/jpsj/200602/65043.html" TargetMode="External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hyperlink" Target="http://life.shaodong.cn/mrxx/cz/200610/7275.shtml" TargetMode="External"/><Relationship Id="rId7" Type="http://schemas.openxmlformats.org/officeDocument/2006/relationships/image" Target="../media/image22.jpeg"/><Relationship Id="rId8" Type="http://schemas.openxmlformats.org/officeDocument/2006/relationships/image" Target="../media/image23.jpeg"/><Relationship Id="rId9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jjtvu.cn/kaifachu/jimpx/Photo_Class.asp?ClassID=2&amp;page=7" TargetMode="External"/><Relationship Id="rId3" Type="http://schemas.openxmlformats.org/officeDocument/2006/relationships/image" Target="../media/image25.jpeg"/><Relationship Id="rId4" Type="http://schemas.openxmlformats.org/officeDocument/2006/relationships/hyperlink" Target="http://book.coatren.cn/116/37124.shtml" TargetMode="External"/><Relationship Id="rId5" Type="http://schemas.openxmlformats.org/officeDocument/2006/relationships/image" Target="../media/image26.jpeg"/><Relationship Id="rId6" Type="http://schemas.openxmlformats.org/officeDocument/2006/relationships/hyperlink" Target="http://tradecn.jchere.com/tradeleads/tradeleadsCategoryListsell.php?catid=23&amp;pageId=108" TargetMode="External"/><Relationship Id="rId7" Type="http://schemas.openxmlformats.org/officeDocument/2006/relationships/image" Target="../media/image27.jpeg"/><Relationship Id="rId8" Type="http://schemas.openxmlformats.org/officeDocument/2006/relationships/hyperlink" Target="http://china.cnexport.net/Listproduct_12_101_754.html" TargetMode="External"/><Relationship Id="rId9" Type="http://schemas.openxmlformats.org/officeDocument/2006/relationships/image" Target="../media/image28.png"/><Relationship Id="rId10" Type="http://schemas.openxmlformats.org/officeDocument/2006/relationships/hyperlink" Target="http://www.bridgespace.com.cn/23/cat.htm" TargetMode="External"/><Relationship Id="rId11" Type="http://schemas.openxmlformats.org/officeDocument/2006/relationships/image" Target="../media/image29.jpeg"/><Relationship Id="rId1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book.coatren.cn/116/37124.shtml" TargetMode="External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hisuppliers.com/remen/list/muzhiwanju/muzhiwanju_5.html" TargetMode="External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jjtvu.cn/kaifachu/jimpx/Photo_Class.asp?ClassID=2&amp;page=7" TargetMode="External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china.cnexport.net/Listproduct_12_101_754.html" TargetMode="External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petgogo.cn/viewthread.php?tid=15" TargetMode="Externa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bridgespace.com.cn/23/cat.htm" TargetMode="External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om/imgres?imgurl=http://briles.com/images/t-shirt%2520nurse.jpg&amp;imgrefurl=http://briles.com/products_toc.htm&amp;h=800&amp;w=693&amp;sz=37&amp;tbnid=5I4zSFWNecoJ:&amp;tbnh=142&amp;tbnw=123&amp;hl=zh-CN&amp;start=10&amp;prev=/images%3Fq%3DT-shirt%26svnum%3D10%26hl%3Dzh-CN%26lr%3D%26newwindow%3D1%26sa%3DG" TargetMode="External"/><Relationship Id="rId3" Type="http://schemas.openxmlformats.org/officeDocument/2006/relationships/image" Target="../media/image31.jpeg"/><Relationship Id="rId4" Type="http://schemas.openxmlformats.org/officeDocument/2006/relationships/hyperlink" Target="http://my.265.com/photos/109298/2759025" TargetMode="External"/><Relationship Id="rId5" Type="http://schemas.openxmlformats.org/officeDocument/2006/relationships/image" Target="../media/image32.jpeg"/><Relationship Id="rId6" Type="http://schemas.openxmlformats.org/officeDocument/2006/relationships/slideLayout" Target="../slideLayouts/slideLayout8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aigou.com/bbs/post/view/118_946173_1_1_6_30.html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gif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aigou.com/bbs/post/view/118_946173_1_1_6_30.html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bbs.ieche.com/Appraise.asp?boardid=63&amp;topicid=154305&amp;postid=1028646" TargetMode="Externa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bbs.ieche.com/Appraise.asp?boardid=63&amp;topicid=154305&amp;postid=1028646" TargetMode="Externa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bbs.qiandao.net/thread-238974-1-1.html" TargetMode="External"/><Relationship Id="rId3" Type="http://schemas.openxmlformats.org/officeDocument/2006/relationships/image" Target="../media/image5.jpeg"/><Relationship Id="rId4" Type="http://schemas.openxmlformats.org/officeDocument/2006/relationships/hyperlink" Target="http://bbs.cnplmm.com/read.php?tid=74139" TargetMode="External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bbs.qiandao.net/thread-238974-1-1.html" TargetMode="External"/><Relationship Id="rId3" Type="http://schemas.openxmlformats.org/officeDocument/2006/relationships/image" Target="../media/image5.jpeg"/><Relationship Id="rId4" Type="http://schemas.openxmlformats.org/officeDocument/2006/relationships/hyperlink" Target="http://bbs.cnplmm.com/read.php?tid=74139" TargetMode="External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55280" y="1125360"/>
            <a:ext cx="7559640" cy="3384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0000ff"/>
                </a:solidFill>
                <a:latin typeface="Times New Roman"/>
              </a:rPr>
              <a:t>Unit 5</a:t>
            </a:r>
            <a:br>
              <a:rPr sz="5600"/>
            </a:br>
            <a:r>
              <a:rPr b="1" lang="en-US" sz="5600" spc="-1" strike="noStrike">
                <a:solidFill>
                  <a:srgbClr val="0000ff"/>
                </a:solidFill>
                <a:latin typeface="Times New Roman"/>
              </a:rPr>
              <a:t>It must belong to Carla</a:t>
            </a:r>
            <a:br>
              <a:rPr sz="5600"/>
            </a:br>
            <a:r>
              <a:rPr b="1" lang="en-US" sz="5600" spc="-1" strike="noStrike">
                <a:solidFill>
                  <a:srgbClr val="0000ff"/>
                </a:solidFill>
                <a:latin typeface="Times New Roman"/>
              </a:rPr>
              <a:t> Section A</a:t>
            </a:r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3059280" cy="486900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719280" y="3600360"/>
            <a:ext cx="1368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Arial Black"/>
              </a:rPr>
              <a:t>Liu xia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419640" y="2492280"/>
            <a:ext cx="5724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Monotype Corsiva"/>
              </a:rPr>
              <a:t>-It______ </a:t>
            </a:r>
            <a:r>
              <a:rPr b="1" lang="en-US" sz="4000" spc="-1" strike="noStrike">
                <a:solidFill>
                  <a:srgbClr val="ff0000"/>
                </a:solidFill>
                <a:latin typeface="Monotype Corsiva"/>
              </a:rPr>
              <a:t>be</a:t>
            </a:r>
            <a:r>
              <a:rPr b="1" lang="en-US" sz="4000" spc="-1" strike="noStrike">
                <a:solidFill>
                  <a:srgbClr val="000000"/>
                </a:solidFill>
                <a:latin typeface="Monotype Corsiva"/>
              </a:rPr>
              <a:t> Liu Xiang’s.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276720" y="1341360"/>
            <a:ext cx="6526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Monotype Corsiva"/>
              </a:rPr>
              <a:t>-Whose exercise book is this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211640" y="2421000"/>
            <a:ext cx="141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 Narrow"/>
              </a:rPr>
              <a:t>mu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4"/>
          <a:stretch/>
        </p:blipFill>
        <p:spPr>
          <a:xfrm>
            <a:off x="0" y="4838760"/>
            <a:ext cx="3059280" cy="201924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5553360" y="3068640"/>
            <a:ext cx="331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Georgia"/>
              </a:rPr>
              <a:t>belong to </a:t>
            </a:r>
            <a:r>
              <a:rPr b="1" i="1" lang="en-US" sz="3200" spc="-1" strike="noStrike">
                <a:solidFill>
                  <a:srgbClr val="000000"/>
                </a:solidFill>
                <a:latin typeface="Georgia"/>
              </a:rPr>
              <a:t>(</a:t>
            </a:r>
            <a:r>
              <a:rPr b="1" i="1" lang="zh-CN" sz="3200" spc="-1" strike="noStrike">
                <a:solidFill>
                  <a:srgbClr val="000000"/>
                </a:solidFill>
                <a:latin typeface="Georgia"/>
                <a:ea typeface="华文中宋"/>
              </a:rPr>
              <a:t>属于</a:t>
            </a:r>
            <a:r>
              <a:rPr b="1" i="1" lang="en-US" sz="3200" spc="-1" strike="noStrike">
                <a:solidFill>
                  <a:srgbClr val="000000"/>
                </a:solidFill>
                <a:latin typeface="Georgi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419640" y="3860640"/>
            <a:ext cx="54003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Because it has his name on 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1908000" y="0"/>
            <a:ext cx="5873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ose … is this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258920" y="3789360"/>
            <a:ext cx="7596000" cy="15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t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can’t 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be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xx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’s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Because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258920" y="1557360"/>
            <a:ext cx="64231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t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must 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be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xx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’s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Because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71640" y="3141720"/>
            <a:ext cx="856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t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could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might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 be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xx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’s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 Because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843280" y="5445000"/>
            <a:ext cx="324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belong to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xxx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700360" y="5084640"/>
            <a:ext cx="144360" cy="936720"/>
          </a:xfrm>
          <a:custGeom>
            <a:avLst/>
            <a:gdLst>
              <a:gd name="textAreaLeft" fmla="*/ 92160 w 144360"/>
              <a:gd name="textAreaRight" fmla="*/ 144360 w 144360"/>
              <a:gd name="textAreaTop" fmla="*/ 24120 h 936720"/>
              <a:gd name="textAreaBottom" fmla="*/ 912600 h 936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843280" y="2349360"/>
            <a:ext cx="324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belong to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xxx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067280" y="3716280"/>
            <a:ext cx="40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belong to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xxx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771640" y="1916280"/>
            <a:ext cx="73080" cy="936360"/>
          </a:xfrm>
          <a:custGeom>
            <a:avLst/>
            <a:gdLst>
              <a:gd name="textAreaLeft" fmla="*/ 46800 w 73080"/>
              <a:gd name="textAreaRight" fmla="*/ 73440 w 73080"/>
              <a:gd name="textAreaTop" fmla="*/ 24120 h 936360"/>
              <a:gd name="textAreaBottom" fmla="*/ 912240 h 93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995640" y="3284640"/>
            <a:ext cx="73080" cy="936360"/>
          </a:xfrm>
          <a:custGeom>
            <a:avLst/>
            <a:gdLst>
              <a:gd name="textAreaLeft" fmla="*/ 46800 w 73080"/>
              <a:gd name="textAreaRight" fmla="*/ 73440 w 73080"/>
              <a:gd name="textAreaTop" fmla="*/ 24120 h 936360"/>
              <a:gd name="textAreaBottom" fmla="*/ 912240 h 93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1844640"/>
            <a:ext cx="15112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79280" y="1844640"/>
            <a:ext cx="16560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3911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Black"/>
                <a:ea typeface="GungsuhChe"/>
              </a:rPr>
              <a:t>Pre-task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GungsuhChe"/>
              </a:rPr>
              <a:t>      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GungsuhChe"/>
              </a:rPr>
              <a:t>classify the thing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3"/>
          <a:stretch/>
        </p:blipFill>
        <p:spPr>
          <a:xfrm>
            <a:off x="622440" y="1981080"/>
            <a:ext cx="1114200" cy="137160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686880" y="1523880"/>
            <a:ext cx="1096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jack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T-shi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200760" y="1523880"/>
            <a:ext cx="1418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toy c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magaz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bo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C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098040" y="14986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cu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"/>
    <p:sndAc>
      <p:stSnd>
        <p:snd r:embed="rId4" name="camera.wav"/>
      </p:stSnd>
    </p:sndAc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6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395280" y="0"/>
            <a:ext cx="828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华文中宋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华文中宋"/>
              </a:rPr>
              <a:t>1b  Listen and match each person with a thing and a reas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304920" y="914400"/>
          <a:ext cx="8610480" cy="4433760"/>
        </p:xfrm>
        <a:graphic>
          <a:graphicData uri="http://schemas.openxmlformats.org/drawingml/2006/table">
            <a:tbl>
              <a:tblPr/>
              <a:tblGrid>
                <a:gridCol w="2752560"/>
                <a:gridCol w="2468880"/>
                <a:gridCol w="3389040"/>
              </a:tblGrid>
              <a:tr h="571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rs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h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as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6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Jane’s little broth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arl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             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ng We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                        </a:t>
                      </a: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Gra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olleybal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                              </a:t>
                      </a: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toy ca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gazi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                            </a:t>
                      </a: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boo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           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Hemingway is her favorite author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he loves volleyball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He was the only little kid at the picnic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he always listens to classical music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He loves cats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3" name=""/>
          <p:cNvSpPr/>
          <p:nvPr/>
        </p:nvSpPr>
        <p:spPr>
          <a:xfrm>
            <a:off x="1905120" y="2133720"/>
            <a:ext cx="1218960" cy="533160"/>
          </a:xfrm>
          <a:prstGeom prst="line">
            <a:avLst/>
          </a:prstGeom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267080" y="2819520"/>
            <a:ext cx="1219320" cy="380880"/>
          </a:xfrm>
          <a:prstGeom prst="line">
            <a:avLst/>
          </a:prstGeom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219320" y="2819520"/>
            <a:ext cx="1904760" cy="1295280"/>
          </a:xfrm>
          <a:prstGeom prst="line">
            <a:avLst/>
          </a:prstGeom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3886200" y="1828800"/>
            <a:ext cx="1600200" cy="2362320"/>
          </a:xfrm>
          <a:prstGeom prst="line">
            <a:avLst/>
          </a:prstGeom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1219320" y="1905120"/>
            <a:ext cx="1904760" cy="1295280"/>
          </a:xfrm>
          <a:prstGeom prst="line">
            <a:avLst/>
          </a:prstGeom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48320" y="1828800"/>
            <a:ext cx="990360" cy="762120"/>
          </a:xfrm>
          <a:prstGeom prst="line">
            <a:avLst/>
          </a:prstGeom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1905120" y="3352320"/>
            <a:ext cx="1218960" cy="762120"/>
          </a:xfrm>
          <a:prstGeom prst="line">
            <a:avLst/>
          </a:prstGeom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572000" y="3352680"/>
            <a:ext cx="1066680" cy="1600200"/>
          </a:xfrm>
          <a:prstGeom prst="line">
            <a:avLst/>
          </a:prstGeom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371600" y="5181480"/>
            <a:ext cx="1752480" cy="0"/>
          </a:xfrm>
          <a:prstGeom prst="line">
            <a:avLst/>
          </a:prstGeom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3657600" y="4191120"/>
            <a:ext cx="1981080" cy="838080"/>
          </a:xfrm>
          <a:prstGeom prst="line">
            <a:avLst/>
          </a:prstGeom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u"/>
  </p:transition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9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4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4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34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5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0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1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900000" y="795240"/>
            <a:ext cx="403236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  <a:ea typeface="华文中宋"/>
              </a:rPr>
              <a:t>Listening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898560" y="2135160"/>
            <a:ext cx="7129440" cy="294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Times New Roman"/>
                <a:ea typeface="华文中宋"/>
              </a:rPr>
              <a:t>Girl 1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: Whose volleyball is thi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Boy 1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: It must be Carla’s. She lov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    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volleyball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Times New Roman"/>
                <a:ea typeface="华文中宋"/>
              </a:rPr>
              <a:t>Girl 1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: How about this toy car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0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77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750600" y="836280"/>
            <a:ext cx="792468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Girl 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: Oh, that toy car must belong to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Jane’s little brother. He was th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only little kid at the picnic. And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magazine must belong to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eng Wen. He loves cat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Boy 1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: Oh, and look, someone left a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ook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ircle/>
  </p:transition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0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84" dur="1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87" dur="10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90" dur="10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93" dur="10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96" dur="1000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99" dur="1000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02" dur="1000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755280" y="836280"/>
            <a:ext cx="75661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Girl 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: Oh, yeah… This book must b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ary’s. Hemingway is her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avorite autho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Times New Roman"/>
              </a:rPr>
              <a:t>Girl 1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: OK… and how about this CD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Girl 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: Hmmm… The CD must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elong to Grace. She alway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listens to classical music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ircle/>
  </p:transition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0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09" dur="10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12" dur="10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15" dur="10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18" dur="1000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21" dur="1000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24" dur="1000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27" dur="1000"/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216000" y="5516640"/>
            <a:ext cx="87487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Monotype Corsiva"/>
              </a:rPr>
              <a:t>-It______ </a:t>
            </a:r>
            <a:r>
              <a:rPr b="1" lang="en-US" sz="4000" spc="-1" strike="noStrike">
                <a:solidFill>
                  <a:srgbClr val="ff0000"/>
                </a:solidFill>
                <a:latin typeface="Monotype Corsiva"/>
              </a:rPr>
              <a:t>belong to</a:t>
            </a:r>
            <a:r>
              <a:rPr b="1" lang="en-US" sz="4000" spc="-1" strike="noStrike">
                <a:solidFill>
                  <a:srgbClr val="000000"/>
                </a:solidFill>
                <a:latin typeface="Monotype Corsiva"/>
              </a:rPr>
              <a:t> Mary or Lil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Monotype Corsiva"/>
              </a:rPr>
              <a:t>Because they both play football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187280" y="404640"/>
            <a:ext cx="3024360" cy="246096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-811080" y="4076640"/>
            <a:ext cx="6163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Monotype Corsiva"/>
              </a:rPr>
              <a:t>-Whose football is this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033200" y="4632480"/>
            <a:ext cx="130392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Arial Narrow"/>
              </a:rPr>
              <a:t> </a:t>
            </a:r>
            <a:r>
              <a:rPr b="1" lang="en-US" sz="3600" spc="-1" strike="noStrike">
                <a:solidFill>
                  <a:srgbClr val="990000"/>
                </a:solidFill>
                <a:latin typeface="Arial Narrow"/>
              </a:rPr>
              <a:t>migh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Arial Narrow"/>
              </a:rPr>
              <a:t> </a:t>
            </a:r>
            <a:r>
              <a:rPr b="1" lang="en-US" sz="3600" spc="-1" strike="noStrike">
                <a:solidFill>
                  <a:srgbClr val="990000"/>
                </a:solidFill>
                <a:latin typeface="Arial Narrow"/>
              </a:rPr>
              <a:t>cou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Arial Narrow"/>
              </a:rPr>
              <a:t> </a:t>
            </a:r>
            <a:r>
              <a:rPr b="1" lang="en-US" sz="3600" spc="-1" strike="noStrike">
                <a:solidFill>
                  <a:srgbClr val="990000"/>
                </a:solidFill>
                <a:latin typeface="Arial Narrow"/>
              </a:rPr>
              <a:t>mu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572000" y="0"/>
            <a:ext cx="4572000" cy="522936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6895800" y="4797360"/>
            <a:ext cx="622800" cy="4597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Li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574160" y="0"/>
            <a:ext cx="1011240" cy="520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M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4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39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4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580000" y="0"/>
            <a:ext cx="3124440" cy="418608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612360" y="4479840"/>
            <a:ext cx="81572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Monotype Corsiva"/>
              </a:rPr>
              <a:t>-It_______</a:t>
            </a:r>
            <a:r>
              <a:rPr b="1" lang="en-US" sz="4400" spc="-1" strike="noStrike">
                <a:solidFill>
                  <a:srgbClr val="990000"/>
                </a:solidFill>
                <a:latin typeface="Monotype Corsiva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Monotype Corsiva"/>
              </a:rPr>
              <a:t>belong to</a:t>
            </a:r>
            <a:r>
              <a:rPr b="1" lang="en-US" sz="4400" spc="-1" strike="noStrike">
                <a:solidFill>
                  <a:srgbClr val="ff66cc"/>
                </a:solidFill>
                <a:latin typeface="Monotype Corsiva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Monotype Corsiva"/>
              </a:rPr>
              <a:t>Bush.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Monotype Corsiva"/>
              </a:rPr>
              <a:t>Because_______________________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58720" y="4221000"/>
            <a:ext cx="90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 Black"/>
              </a:rPr>
              <a:t>Bu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1042920" y="0"/>
            <a:ext cx="3456000" cy="374508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-476280" y="4003560"/>
            <a:ext cx="623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Monotype Corsiva"/>
              </a:rPr>
              <a:t>-Whose red bicycle is this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620360" y="4457880"/>
            <a:ext cx="115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 Narrow"/>
              </a:rPr>
              <a:t>can’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920960" y="5013360"/>
            <a:ext cx="2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cc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561760" y="5157720"/>
            <a:ext cx="479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 Narrow"/>
              </a:rPr>
              <a:t>his bike is white and blu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1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6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1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6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1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2195640" cy="309564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500720" y="2205000"/>
            <a:ext cx="3533760" cy="41641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0" y="3716280"/>
            <a:ext cx="3311640" cy="2232000"/>
          </a:xfrm>
          <a:prstGeom prst="wedgeEllipseCallout">
            <a:avLst>
              <a:gd name="adj1" fmla="val -17208"/>
              <a:gd name="adj2" fmla="val -85847"/>
            </a:avLst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华文中宋"/>
              </a:rPr>
              <a:t>Can this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华文中宋"/>
              </a:rPr>
              <a:t>T-shirt b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华文中宋"/>
              </a:rPr>
              <a:t>John’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95640" y="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It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can’t</a:t>
            </a: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 be John’s.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924360" y="765000"/>
            <a:ext cx="4824360" cy="18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ecause it’s much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oo small for hi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012360" y="6278400"/>
            <a:ext cx="115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Joh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79280" y="1685880"/>
            <a:ext cx="3529080" cy="517212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3998880" y="2349360"/>
            <a:ext cx="4830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hose dog is thi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763640" y="2708280"/>
            <a:ext cx="863640" cy="7938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08880" y="3500280"/>
            <a:ext cx="523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t might/ could be____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334520" y="260280"/>
            <a:ext cx="5715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He is a singer and actor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he is known by everyon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023840" y="4370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88720" y="3429000"/>
            <a:ext cx="47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-- </a:t>
            </a:r>
            <a:r>
              <a:rPr b="0" lang="en-US" sz="2800" spc="-1" strike="noStrike">
                <a:solidFill>
                  <a:srgbClr val="000000"/>
                </a:solidFill>
                <a:latin typeface="Britannic Bold"/>
              </a:rPr>
              <a:t>What </a:t>
            </a:r>
            <a:r>
              <a:rPr b="0" lang="en-US" sz="2800" spc="-1" strike="noStrike">
                <a:solidFill>
                  <a:srgbClr val="ff0000"/>
                </a:solidFill>
                <a:latin typeface="Britannic Bold"/>
              </a:rPr>
              <a:t>happened to</a:t>
            </a:r>
            <a:r>
              <a:rPr b="0" lang="en-US" sz="2800" spc="-1" strike="noStrike">
                <a:solidFill>
                  <a:srgbClr val="000000"/>
                </a:solidFill>
                <a:latin typeface="Britannic Bold"/>
              </a:rPr>
              <a:t> the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80880" y="4114800"/>
            <a:ext cx="844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-- </a:t>
            </a:r>
            <a:r>
              <a:rPr b="1" lang="en-US" sz="2400" spc="-1" strike="noStrike">
                <a:solidFill>
                  <a:srgbClr val="000000"/>
                </a:solidFill>
                <a:latin typeface="Gungsuh"/>
                <a:ea typeface="Gungsuh"/>
              </a:rPr>
              <a:t>It ______ be a good thing. Because they look sad.</a:t>
            </a: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80880" y="4724280"/>
            <a:ext cx="830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-- </a:t>
            </a:r>
            <a:r>
              <a:rPr b="1" lang="en-US" sz="2400" spc="-1" strike="noStrike">
                <a:solidFill>
                  <a:srgbClr val="000000"/>
                </a:solidFill>
                <a:latin typeface="Gungsuh"/>
                <a:ea typeface="Gungsuh"/>
              </a:rPr>
              <a:t>It ________________ be  an accident. Because th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ungsuh"/>
                <a:ea typeface="Gungsuh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Gungsuh"/>
                <a:ea typeface="Gungsuh"/>
              </a:rPr>
              <a:t>are crying.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80880" y="5638680"/>
            <a:ext cx="8367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-- </a:t>
            </a:r>
            <a:r>
              <a:rPr b="1" lang="en-US" sz="2400" spc="-1" strike="noStrike">
                <a:solidFill>
                  <a:srgbClr val="000000"/>
                </a:solidFill>
                <a:latin typeface="Gungsuh"/>
                <a:ea typeface="Gungsuh"/>
              </a:rPr>
              <a:t>I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</a:t>
            </a:r>
            <a:r>
              <a:rPr b="1" lang="en-US" sz="2400" spc="-1" strike="noStrike">
                <a:solidFill>
                  <a:srgbClr val="000000"/>
                </a:solidFill>
                <a:latin typeface="Gungsuh"/>
                <a:ea typeface="Gungsuh"/>
              </a:rPr>
              <a:t> be a traffic accident.  Because we c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ungsuh"/>
                <a:ea typeface="Gungsuh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Gungsuh"/>
                <a:ea typeface="Gungsuh"/>
              </a:rPr>
              <a:t>see some traffic policemen.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4648320" y="228600"/>
            <a:ext cx="4032000" cy="312408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1143000" y="464832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 Black"/>
              </a:rPr>
              <a:t>might/could</a:t>
            </a:r>
            <a:r>
              <a:rPr b="1" lang="en-US" sz="2800" spc="-1" strike="noStrike">
                <a:solidFill>
                  <a:srgbClr val="990000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161000" y="4038480"/>
            <a:ext cx="96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 Black"/>
              </a:rPr>
              <a:t>can’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202760" y="5562720"/>
            <a:ext cx="103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 Black"/>
              </a:rPr>
              <a:t>mu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3"/>
          <a:stretch/>
        </p:blipFill>
        <p:spPr>
          <a:xfrm>
            <a:off x="380880" y="228600"/>
            <a:ext cx="4267440" cy="3124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6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7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8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3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5867640" y="2349360"/>
            <a:ext cx="315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Comic Sans MS"/>
              </a:rPr>
              <a:t>hair band </a:t>
            </a:r>
            <a:r>
              <a:rPr b="1" lang="zh-CN" sz="3600" spc="-1" strike="noStrike">
                <a:solidFill>
                  <a:srgbClr val="3333ff"/>
                </a:solidFill>
                <a:latin typeface="Comic Sans MS"/>
              </a:rPr>
              <a:t>发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960" y="0"/>
            <a:ext cx="5052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hose hair band is i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-814320" y="647640"/>
            <a:ext cx="7572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Monotype Corsiva"/>
              </a:rPr>
              <a:t>It </a:t>
            </a:r>
            <a:r>
              <a:rPr b="1" lang="en-US" sz="3600" spc="-1" strike="noStrike">
                <a:solidFill>
                  <a:srgbClr val="ff0000"/>
                </a:solidFill>
                <a:latin typeface="Monotype Corsiva"/>
              </a:rPr>
              <a:t>might / could / must  be</a:t>
            </a:r>
            <a:r>
              <a:rPr b="1" lang="en-US" sz="3600" spc="-1" strike="noStrike">
                <a:solidFill>
                  <a:srgbClr val="000000"/>
                </a:solidFill>
                <a:latin typeface="Monotype Corsiva"/>
              </a:rPr>
              <a:t> ____’s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Monotype Corsiva"/>
              </a:rPr>
              <a:t>Because ___________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Monotype Corsiva"/>
              </a:rPr>
              <a:t>It </a:t>
            </a:r>
            <a:r>
              <a:rPr b="1" lang="en-US" sz="3600" spc="-1" strike="noStrike">
                <a:solidFill>
                  <a:srgbClr val="ff0000"/>
                </a:solidFill>
                <a:latin typeface="Monotype Corsiva"/>
              </a:rPr>
              <a:t>can’t be/ belong to</a:t>
            </a:r>
            <a:r>
              <a:rPr b="1" lang="en-US" sz="3600" spc="-1" strike="noStrike">
                <a:solidFill>
                  <a:srgbClr val="000000"/>
                </a:solidFill>
                <a:latin typeface="Monotype Corsiva"/>
              </a:rPr>
              <a:t> _________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Monotype Corsiva"/>
              </a:rPr>
              <a:t>Because __________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286680" y="0"/>
            <a:ext cx="2857320" cy="2421000"/>
          </a:xfrm>
          <a:prstGeom prst="rect">
            <a:avLst/>
          </a:prstGeom>
          <a:ln w="0">
            <a:noFill/>
          </a:ln>
        </p:spPr>
      </p:pic>
      <p:grpSp>
        <p:nvGrpSpPr>
          <p:cNvPr id="202" name=""/>
          <p:cNvGrpSpPr/>
          <p:nvPr/>
        </p:nvGrpSpPr>
        <p:grpSpPr>
          <a:xfrm>
            <a:off x="0" y="3059280"/>
            <a:ext cx="9144000" cy="3798720"/>
            <a:chOff x="0" y="3059280"/>
            <a:chExt cx="9144000" cy="3798720"/>
          </a:xfrm>
        </p:grpSpPr>
        <p:pic>
          <p:nvPicPr>
            <p:cNvPr id="203" name="" descr=""/>
            <p:cNvPicPr/>
            <p:nvPr/>
          </p:nvPicPr>
          <p:blipFill>
            <a:blip r:embed="rId4"/>
            <a:stretch/>
          </p:blipFill>
          <p:spPr>
            <a:xfrm>
              <a:off x="4500720" y="3059280"/>
              <a:ext cx="2447640" cy="3798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4" name="" descr=""/>
            <p:cNvPicPr/>
            <p:nvPr/>
          </p:nvPicPr>
          <p:blipFill>
            <a:blip r:embed="rId5"/>
            <a:stretch/>
          </p:blipFill>
          <p:spPr>
            <a:xfrm>
              <a:off x="2195640" y="3213360"/>
              <a:ext cx="2520720" cy="364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5" name="" descr="">
              <a:hlinkClick r:id="rId6"/>
            </p:cNvPr>
            <p:cNvPicPr/>
            <p:nvPr/>
          </p:nvPicPr>
          <p:blipFill>
            <a:blip r:embed="rId7"/>
            <a:stretch/>
          </p:blipFill>
          <p:spPr>
            <a:xfrm>
              <a:off x="0" y="3213360"/>
              <a:ext cx="2305080" cy="364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6" name="" descr=""/>
            <p:cNvPicPr/>
            <p:nvPr/>
          </p:nvPicPr>
          <p:blipFill>
            <a:blip r:embed="rId8"/>
            <a:stretch/>
          </p:blipFill>
          <p:spPr>
            <a:xfrm>
              <a:off x="6877080" y="3141720"/>
              <a:ext cx="2266920" cy="37162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6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1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6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1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0" y="259920"/>
            <a:ext cx="9756720" cy="50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-260640">
              <a:spcBef>
                <a:spcPts val="10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能用来表示推测的情态动词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must,   might,   could,   may,    can’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确信程度大小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ff"/>
                </a:solidFill>
                <a:latin typeface="Times New Roman"/>
              </a:rPr>
              <a:t> 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must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〉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may &gt; migh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肯定和否定的推测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must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（肯定）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an’t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，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ouldn’t (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否定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ff"/>
                </a:solidFill>
                <a:latin typeface="Times New Roman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8" dur="1000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3" dur="500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8" dur="500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3" dur="500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2000" fill="hold"/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2000" fill="hold"/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2000" fill="hold"/>
                                        <p:tgtEl>
                                          <p:spTgt spid="2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2000" fill="hold"/>
                                        <p:tgtEl>
                                          <p:spTgt spid="2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1000" fill="hold"/>
                                        <p:tgtEl>
                                          <p:spTgt spid="2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1000" fill="hold"/>
                                        <p:tgtEl>
                                          <p:spTgt spid="2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2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2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8" dur="500"/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3" dur="500"/>
                                        <p:tgtEl>
                                          <p:spTgt spid="2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2050920" y="333360"/>
            <a:ext cx="504036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500"/>
                <a:gd name="adj2" fmla="val -209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grammar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09" name=""/>
          <p:cNvSpPr/>
          <p:nvPr/>
        </p:nvSpPr>
        <p:spPr>
          <a:xfrm>
            <a:off x="1116000" y="1628640"/>
            <a:ext cx="7632720" cy="4268520"/>
          </a:xfrm>
          <a:prstGeom prst="rect">
            <a:avLst/>
          </a:prstGeom>
          <a:solidFill>
            <a:srgbClr val="ffffcc"/>
          </a:solidFill>
          <a:ln w="76320">
            <a:solidFill>
              <a:srgbClr val="808080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Use “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ust</a:t>
            </a: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” to show that you think something is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probably tru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Use “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ight</a:t>
            </a: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” or “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uld</a:t>
            </a: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” to show that you think something is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possibly tru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Use “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n’t </a:t>
            </a: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” to show that you are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almost sure something is not tru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26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152280" y="152280"/>
            <a:ext cx="914400" cy="762120"/>
          </a:xfrm>
          <a:prstGeom prst="irregularSeal2">
            <a:avLst/>
          </a:prstGeom>
          <a:noFill/>
          <a:ln w="763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25000" y="30492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2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581280" y="152280"/>
            <a:ext cx="2210040" cy="2057400"/>
          </a:xfrm>
          <a:prstGeom prst="ellipse">
            <a:avLst/>
          </a:prstGeom>
          <a:solidFill>
            <a:srgbClr val="f27a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mu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733920" y="4572000"/>
            <a:ext cx="2209680" cy="20574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can’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2286000" y="1066680"/>
            <a:ext cx="5257800" cy="4660920"/>
            <a:chOff x="2286000" y="1066680"/>
            <a:chExt cx="5257800" cy="4660920"/>
          </a:xfrm>
        </p:grpSpPr>
        <p:pic>
          <p:nvPicPr>
            <p:cNvPr id="215" name="" descr=""/>
            <p:cNvPicPr/>
            <p:nvPr/>
          </p:nvPicPr>
          <p:blipFill>
            <a:blip r:embed="rId2"/>
            <a:stretch/>
          </p:blipFill>
          <p:spPr>
            <a:xfrm>
              <a:off x="2286000" y="1066680"/>
              <a:ext cx="5257800" cy="466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6" name=""/>
            <p:cNvSpPr/>
            <p:nvPr/>
          </p:nvSpPr>
          <p:spPr>
            <a:xfrm>
              <a:off x="3963960" y="2606400"/>
              <a:ext cx="151740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400" spc="-1" strike="noStrike">
                  <a:solidFill>
                    <a:srgbClr val="000000"/>
                  </a:solidFill>
                  <a:latin typeface="Times New Roman"/>
                </a:rPr>
                <a:t>could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400" spc="-1" strike="noStrike">
                  <a:solidFill>
                    <a:srgbClr val="000000"/>
                  </a:solidFill>
                  <a:latin typeface="Times New Roman"/>
                </a:rPr>
                <a:t>might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7" name=""/>
          <p:cNvSpPr/>
          <p:nvPr/>
        </p:nvSpPr>
        <p:spPr>
          <a:xfrm>
            <a:off x="5879520" y="795240"/>
            <a:ext cx="3111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100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probably tr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003720" y="2776680"/>
            <a:ext cx="294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20%-80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possibly tr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633280" y="4724280"/>
            <a:ext cx="3498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almost not tr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3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8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3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447840" y="33804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771640" y="0"/>
            <a:ext cx="5486400" cy="272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A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: Whose …is thi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B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: It </a:t>
            </a:r>
            <a:r>
              <a:rPr b="1" lang="en-US" sz="3600" spc="-1" strike="noStrike">
                <a:solidFill>
                  <a:srgbClr val="990033"/>
                </a:solidFill>
                <a:latin typeface="Times New Roman"/>
                <a:ea typeface="华文中宋"/>
              </a:rPr>
              <a:t>must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belong to</a:t>
            </a:r>
            <a:r>
              <a:rPr b="1" lang="en-US" sz="3600" spc="-1" strike="noStrike">
                <a:solidFill>
                  <a:srgbClr val="990033"/>
                </a:solidFill>
                <a:latin typeface="Times New Roman"/>
                <a:ea typeface="华文中宋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xx</a:t>
            </a:r>
            <a:r>
              <a:rPr b="1" lang="en-US" sz="3600" spc="-1" strike="noStrike">
                <a:solidFill>
                  <a:srgbClr val="990033"/>
                </a:solidFill>
                <a:latin typeface="Times New Roman"/>
                <a:ea typeface="华文中宋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Because 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05360" y="1371600"/>
            <a:ext cx="2209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be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xx</a:t>
            </a: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’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829040" y="990720"/>
            <a:ext cx="76320" cy="838080"/>
          </a:xfrm>
          <a:custGeom>
            <a:avLst/>
            <a:gdLst>
              <a:gd name="textAreaLeft" fmla="*/ 48960 w 76320"/>
              <a:gd name="textAreaRight" fmla="*/ 76320 w 7632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199280" y="4913280"/>
            <a:ext cx="1944720" cy="194472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0" y="0"/>
            <a:ext cx="2340000" cy="371628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0" y="3789360"/>
            <a:ext cx="2987640" cy="306864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7056360" y="2708280"/>
            <a:ext cx="2087640" cy="2030400"/>
          </a:xfrm>
          <a:prstGeom prst="rect">
            <a:avLst/>
          </a:prstGeom>
          <a:ln w="0">
            <a:noFill/>
          </a:ln>
        </p:spPr>
      </p:pic>
      <p:grpSp>
        <p:nvGrpSpPr>
          <p:cNvPr id="228" name=""/>
          <p:cNvGrpSpPr/>
          <p:nvPr/>
        </p:nvGrpSpPr>
        <p:grpSpPr>
          <a:xfrm>
            <a:off x="2987640" y="3762360"/>
            <a:ext cx="4103640" cy="3095640"/>
            <a:chOff x="2987640" y="3762360"/>
            <a:chExt cx="4103640" cy="3095640"/>
          </a:xfrm>
        </p:grpSpPr>
        <p:pic>
          <p:nvPicPr>
            <p:cNvPr id="229" name="" descr="">
              <a:hlinkClick r:id="rId10"/>
            </p:cNvPr>
            <p:cNvPicPr/>
            <p:nvPr/>
          </p:nvPicPr>
          <p:blipFill>
            <a:blip r:embed="rId11"/>
            <a:stretch/>
          </p:blipFill>
          <p:spPr>
            <a:xfrm>
              <a:off x="2987640" y="3762360"/>
              <a:ext cx="4103640" cy="309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" name=""/>
            <p:cNvSpPr/>
            <p:nvPr/>
          </p:nvSpPr>
          <p:spPr>
            <a:xfrm>
              <a:off x="3170160" y="4311000"/>
              <a:ext cx="143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</a:rPr>
                <a:t>Cat Lif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0" y="1700280"/>
            <a:ext cx="4897440" cy="4042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A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: Look! Whos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book is thi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2b2b2"/>
                </a:solidFill>
                <a:latin typeface="Times New Roman"/>
                <a:ea typeface="华文中宋"/>
              </a:rPr>
              <a:t>B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: It </a:t>
            </a:r>
            <a:r>
              <a:rPr b="1" lang="en-US" sz="3600" spc="-1" strike="noStrike">
                <a:solidFill>
                  <a:srgbClr val="990033"/>
                </a:solidFill>
                <a:latin typeface="Times New Roman"/>
                <a:ea typeface="华文中宋"/>
              </a:rPr>
              <a:t>must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 be Mary’s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Because Hemingway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is her favorit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autho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39640" y="0"/>
            <a:ext cx="77756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Arial"/>
                <a:ea typeface="华文中宋"/>
              </a:rPr>
              <a:t>Practise making convers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932360" y="819000"/>
            <a:ext cx="4211640" cy="6039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562" dur="indefinite" restart="never" nodeType="tmRoot">
          <p:childTnLst>
            <p:seq>
              <p:cTn id="563" dur="indefinite" nodeType="mainSeq">
                <p:childTnLst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611280" y="3645000"/>
            <a:ext cx="8532720" cy="272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A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: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Look! Whose toy car is thi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B: It </a:t>
            </a:r>
            <a:r>
              <a:rPr b="1" lang="en-US" sz="3600" spc="-1" strike="noStrike">
                <a:solidFill>
                  <a:srgbClr val="990033"/>
                </a:solidFill>
                <a:latin typeface="Times New Roman"/>
                <a:ea typeface="华文中宋"/>
              </a:rPr>
              <a:t>must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 be Jane’s little brother’s. Because he was the only little ki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in the picnic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547640" y="189000"/>
            <a:ext cx="5759640" cy="35272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570" dur="indefinite" restart="never" nodeType="tmRoot">
          <p:childTnLst>
            <p:seq>
              <p:cTn id="571" dur="indefinite" nodeType="mainSeq">
                <p:childTnLst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304920" y="1981080"/>
            <a:ext cx="7772400" cy="4042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A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: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Look! Whose C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is thi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B: It </a:t>
            </a:r>
            <a:r>
              <a:rPr b="1" lang="en-US" sz="3600" spc="-1" strike="noStrike">
                <a:solidFill>
                  <a:srgbClr val="990033"/>
                </a:solidFill>
                <a:latin typeface="Times New Roman"/>
                <a:ea typeface="华文中宋"/>
              </a:rPr>
              <a:t>must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 belong to Grace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Because she always listens to classical music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867280" y="260280"/>
            <a:ext cx="302436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8" dur="indefinite" restart="never" nodeType="tmRoot">
          <p:childTnLst>
            <p:seq>
              <p:cTn id="579" dur="indefinite" nodeType="mainSeq">
                <p:childTnLst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684360" y="549360"/>
            <a:ext cx="10744200" cy="2068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A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: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Look! Whose volleyball is thi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B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: It </a:t>
            </a:r>
            <a:r>
              <a:rPr b="1" lang="en-US" sz="3600" spc="-1" strike="noStrike">
                <a:solidFill>
                  <a:srgbClr val="990033"/>
                </a:solidFill>
                <a:latin typeface="Times New Roman"/>
                <a:ea typeface="华文中宋"/>
              </a:rPr>
              <a:t>must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 be Carla’s. Because sh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loves volleyball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067280" y="342900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6" dur="indefinite" restart="never" nodeType="tmRoot">
          <p:childTnLst>
            <p:seq>
              <p:cTn id="587" dur="indefinite" nodeType="mainSeq">
                <p:childTnLst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79280" y="1685880"/>
            <a:ext cx="3529080" cy="51721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3854520" y="2276640"/>
            <a:ext cx="4830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hose dog is thi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959640" y="4508640"/>
            <a:ext cx="5180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t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must be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Liu Dehua’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908880" y="3355920"/>
            <a:ext cx="523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t 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might/ could be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____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334520" y="260280"/>
            <a:ext cx="5715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He is a singer and actor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he is known by everyon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" dur="80"/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" dur="80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" dur="80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468360" y="4221000"/>
            <a:ext cx="8424720" cy="2068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A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: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Look! Whose magazine  is thi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B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: It </a:t>
            </a:r>
            <a:r>
              <a:rPr b="1" lang="en-US" sz="3600" spc="-1" strike="noStrike">
                <a:solidFill>
                  <a:srgbClr val="990033"/>
                </a:solidFill>
                <a:latin typeface="Times New Roman"/>
                <a:ea typeface="华文中宋"/>
              </a:rPr>
              <a:t>must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 belong to Deng Wen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Because he loves cat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1332000" y="260280"/>
            <a:ext cx="6551640" cy="3600360"/>
            <a:chOff x="1332000" y="260280"/>
            <a:chExt cx="6551640" cy="3600360"/>
          </a:xfrm>
        </p:grpSpPr>
        <p:pic>
          <p:nvPicPr>
            <p:cNvPr id="242" name="" descr="">
              <a:hlinkClick r:id="rId2"/>
            </p:cNvPr>
            <p:cNvPicPr/>
            <p:nvPr/>
          </p:nvPicPr>
          <p:blipFill>
            <a:blip r:embed="rId3"/>
            <a:stretch/>
          </p:blipFill>
          <p:spPr>
            <a:xfrm>
              <a:off x="1332000" y="260280"/>
              <a:ext cx="6551640" cy="360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3" name=""/>
            <p:cNvSpPr/>
            <p:nvPr/>
          </p:nvSpPr>
          <p:spPr>
            <a:xfrm>
              <a:off x="1620360" y="476280"/>
              <a:ext cx="23310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fffff"/>
                  </a:solidFill>
                  <a:latin typeface="Times New Roman"/>
                </a:rPr>
                <a:t>Cat Life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4" dur="indefinite" restart="never" nodeType="tmRoot">
          <p:childTnLst>
            <p:seq>
              <p:cTn id="595" dur="indefinite" nodeType="mainSeq">
                <p:childTnLst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8893080" cy="1143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a Bob and Anna found a backpack in front of their school. Listen and write down the things in the backpac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26920" y="1557360"/>
            <a:ext cx="1635120" cy="138744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4067280" y="1989000"/>
            <a:ext cx="4681440" cy="352908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211640" y="2060640"/>
            <a:ext cx="4392720" cy="331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067280" y="2133720"/>
            <a:ext cx="468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Things in the backp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427640" y="2708280"/>
            <a:ext cx="396072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1.T-shi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.____________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.____________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859280" y="3500280"/>
            <a:ext cx="28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hair b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4932360" y="429264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tennis bal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84360" y="2924280"/>
            <a:ext cx="194472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2" dur="indefinite" restart="never" nodeType="tmRoot">
          <p:childTnLst>
            <p:seq>
              <p:cTn id="603" dur="indefinite" nodeType="mainSeq">
                <p:childTnLst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8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91440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2b Listen again and fill in the blank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-360" y="1989000"/>
            <a:ext cx="990108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1. The person ______ go to our school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240120" indent="-24012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2. The person ______ be a boy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240120" indent="-24012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3. It ______ be Mei’s hair band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240120" indent="-24012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4. The hair band ______ belong to Linda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240120" indent="-24012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5. It ______ be Linda’s backpack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419640" y="1916280"/>
            <a:ext cx="172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mu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19640" y="2565360"/>
            <a:ext cx="151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can’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476360" y="3284640"/>
            <a:ext cx="165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cou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067280" y="4005360"/>
            <a:ext cx="151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migh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547640" y="4724280"/>
            <a:ext cx="151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mu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1" dur="indefinite" restart="never" nodeType="tmRoot">
          <p:childTnLst>
            <p:seq>
              <p:cTn id="632" dur="indefinite" nodeType="mainSeq">
                <p:childTnLst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7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2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7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2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7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0" y="76320"/>
            <a:ext cx="8972640" cy="155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2c  Fill in the blanks with the words from the unit. Then tell your partner why you choose the wor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52280" y="1676520"/>
            <a:ext cx="8839440" cy="47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The notebook </a:t>
            </a:r>
            <a:r>
              <a:rPr b="1" lang="en-US" sz="3200" spc="-1" strike="noStrike" u="sng">
                <a:solidFill>
                  <a:srgbClr val="0000cc"/>
                </a:solidFill>
                <a:uFillTx/>
                <a:latin typeface="Times New Roman"/>
              </a:rPr>
              <a:t>                        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 be Ming’s. It was on her des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The homework </a:t>
            </a:r>
            <a:r>
              <a:rPr b="1" lang="en-US" sz="3200" spc="-1" strike="noStrike" u="sng">
                <a:solidFill>
                  <a:srgbClr val="0000cc"/>
                </a:solidFill>
                <a:uFillTx/>
                <a:latin typeface="Times New Roman"/>
              </a:rPr>
              <a:t>                 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 be Carol’s. She wasn’t at school to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The soccer ball </a:t>
            </a:r>
            <a:r>
              <a:rPr b="1" lang="en-US" sz="3200" spc="-1" strike="noStrike" u="sng">
                <a:solidFill>
                  <a:srgbClr val="0000cc"/>
                </a:solidFill>
                <a:uFillTx/>
                <a:latin typeface="Times New Roman"/>
              </a:rPr>
              <a:t>                    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 be John’s or Tony’s. They both play soccer, don’t the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The French book </a:t>
            </a:r>
            <a:r>
              <a:rPr b="1" lang="en-US" sz="3200" spc="-1" strike="noStrike" u="sng">
                <a:solidFill>
                  <a:srgbClr val="0000cc"/>
                </a:solidFill>
                <a:uFillTx/>
                <a:latin typeface="Times New Roman"/>
              </a:rPr>
              <a:t>                         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 be Li Ying’s.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She’s the only one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who’s studying Frenc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819520" y="1600200"/>
            <a:ext cx="24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must/m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276720" y="284940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can’t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276720" y="4038480"/>
            <a:ext cx="24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might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886200" y="528804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mus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658" dur="indefinite" restart="never" nodeType="tmRoot">
          <p:childTnLst>
            <p:seq>
              <p:cTn id="659" dur="indefinite" nodeType="mainSeq">
                <p:childTnLst>
                  <p:par>
                    <p:cTn id="660" fill="hold">
                      <p:stCondLst>
                        <p:cond delay="0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70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5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0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85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0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152280" y="1371600"/>
            <a:ext cx="8839440" cy="42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I can’t find my backpack. It </a:t>
            </a:r>
            <a:r>
              <a:rPr b="1" lang="en-US" sz="3200" spc="-1" strike="noStrike" u="sng">
                <a:solidFill>
                  <a:srgbClr val="0000cc"/>
                </a:solidFill>
                <a:uFillTx/>
                <a:latin typeface="Times New Roman"/>
              </a:rPr>
              <a:t>                       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 be still at schoo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The photo </a:t>
            </a:r>
            <a:r>
              <a:rPr b="1" lang="en-US" sz="3200" spc="-1" strike="noStrike" u="sng">
                <a:solidFill>
                  <a:srgbClr val="0000cc"/>
                </a:solidFill>
                <a:uFillTx/>
                <a:latin typeface="Times New Roman"/>
              </a:rPr>
              <a:t>            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 be Lu’s. Those are his par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The red bicycle </a:t>
            </a:r>
            <a:r>
              <a:rPr b="1" lang="en-US" sz="3200" spc="-1" strike="noStrike" u="sng">
                <a:solidFill>
                  <a:srgbClr val="0000cc"/>
                </a:solidFill>
                <a:uFillTx/>
                <a:latin typeface="Times New Roman"/>
              </a:rPr>
              <a:t>                 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 be Hu’s. She has a blue bicyc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This ticket </a:t>
            </a:r>
            <a:r>
              <a:rPr b="1" lang="en-US" sz="3200" spc="-1" strike="noStrike" u="sng">
                <a:solidFill>
                  <a:srgbClr val="0000cc"/>
                </a:solidFill>
                <a:uFillTx/>
                <a:latin typeface="Times New Roman"/>
              </a:rPr>
              <a:t>                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 be my aunt’s or uncle’s. They’re both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oing to the conce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5181480" y="1371600"/>
            <a:ext cx="243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must/m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276720" y="330660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can’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2286000" y="449568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m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209680" y="259092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mus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691" dur="indefinite" restart="never" nodeType="tmRoot">
          <p:childTnLst>
            <p:seq>
              <p:cTn id="692" dur="indefinite" nodeType="mainSeq">
                <p:childTnLst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7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3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9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14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826920" y="549360"/>
            <a:ext cx="3313440" cy="792000"/>
          </a:xfrm>
          <a:prstGeom prst="roundRect">
            <a:avLst>
              <a:gd name="adj" fmla="val 16667"/>
            </a:avLst>
          </a:prstGeom>
          <a:solidFill>
            <a:srgbClr val="ff0066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826920" y="549360"/>
            <a:ext cx="33847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Listening tex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828720" y="1533600"/>
            <a:ext cx="7272360" cy="47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Bob: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 Oh, look! Whose backpack do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   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you think this i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Anna: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 I don’t know. Look, here’s a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     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school T-shir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Bob: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 Well then, the person must go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  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to our school. Oh! Here is a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  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hair band, so the person can’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715" dur="indefinite" restart="never" nodeType="tmRoot">
          <p:childTnLst>
            <p:seq>
              <p:cTn id="716" dur="indefinite" nodeType="mainSeq">
                <p:childTnLst>
                  <p:par>
                    <p:cTn id="717" fill="hold">
                      <p:stCondLst>
                        <p:cond delay="0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1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3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6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8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33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/>
          </p:nvPr>
        </p:nvSpPr>
        <p:spPr>
          <a:xfrm>
            <a:off x="824040" y="1198080"/>
            <a:ext cx="7493040" cy="482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e a boy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Anna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: It could be Mei’s hair band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he has long hai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Bob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: Or the hair band might belong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o Linda. She was at the picnic,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asn’t she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edge/>
  </p:transition>
  <p:timing>
    <p:tnLst>
      <p:par>
        <p:cTn id="734" dur="indefinite" restart="never" nodeType="tmRoot">
          <p:childTnLst>
            <p:seq>
              <p:cTn id="735" dur="indefinite" nodeType="mainSeq">
                <p:childTnLst>
                  <p:par>
                    <p:cTn id="736" fill="hold">
                      <p:stCondLst>
                        <p:cond delay="0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40" dur="1000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1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43" dur="1000"/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4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46" dur="1000"/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7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49" dur="1000"/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0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52" dur="1000"/>
                                        <p:tgtEl>
                                          <p:spTgt spid="2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3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55" dur="1000"/>
                                        <p:tgtEl>
                                          <p:spTgt spid="2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/>
          </p:nvPr>
        </p:nvSpPr>
        <p:spPr>
          <a:xfrm>
            <a:off x="828720" y="980640"/>
            <a:ext cx="770400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Anna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: Yes, she was. But then th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ackpack could belong to Rita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he’s always forgetting thing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Bob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: Oh, look! Tennis ball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Anna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: Then it must be Linda’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ackpack. She has long hair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nd she’s on the tennis team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Bob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: You’re right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edge/>
  </p:transition>
  <p:timing>
    <p:tnLst>
      <p:par>
        <p:cTn id="756" dur="indefinite" restart="never" nodeType="tmRoot">
          <p:childTnLst>
            <p:seq>
              <p:cTn id="757" dur="indefinite" nodeType="mainSeq">
                <p:childTnLst>
                  <p:par>
                    <p:cTn id="758" fill="hold">
                      <p:stCondLst>
                        <p:cond delay="0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62" dur="1000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65" dur="1000"/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6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68" dur="1000"/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71" dur="1000"/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2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74" dur="1000"/>
                                        <p:tgtEl>
                                          <p:spTgt spid="2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5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77" dur="1000"/>
                                        <p:tgtEl>
                                          <p:spTgt spid="2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8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80" dur="1000"/>
                                        <p:tgtEl>
                                          <p:spTgt spid="2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1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83" dur="1000"/>
                                        <p:tgtEl>
                                          <p:spTgt spid="2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" descr=""/>
          <p:cNvPicPr/>
          <p:nvPr/>
        </p:nvPicPr>
        <p:blipFill>
          <a:blip r:embed="rId2"/>
          <a:stretch/>
        </p:blipFill>
        <p:spPr>
          <a:xfrm>
            <a:off x="4343400" y="228600"/>
            <a:ext cx="1517760" cy="160020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/>
          <p:nvPr/>
        </p:nvSpPr>
        <p:spPr>
          <a:xfrm>
            <a:off x="609480" y="2132640"/>
            <a:ext cx="769644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华文中宋"/>
                <a:ea typeface="华文中宋"/>
              </a:rPr>
              <a:t>   </a:t>
            </a:r>
            <a:r>
              <a:rPr b="1" lang="zh-CN" sz="2400" spc="-1" strike="noStrike">
                <a:solidFill>
                  <a:srgbClr val="000099"/>
                </a:solidFill>
                <a:latin typeface="华文中宋"/>
                <a:ea typeface="华文中宋"/>
              </a:rPr>
              <a:t>情态动词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must, might, could, can’t</a:t>
            </a:r>
            <a:r>
              <a:rPr b="1" lang="en-US" sz="2000" spc="-1" strike="noStrike">
                <a:solidFill>
                  <a:srgbClr val="000099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000099"/>
                </a:solidFill>
                <a:latin typeface="华文中宋"/>
                <a:ea typeface="华文中宋"/>
              </a:rPr>
              <a:t>后接动词</a:t>
            </a:r>
            <a:r>
              <a:rPr b="1" lang="zh-CN" sz="2400" spc="-1" strike="noStrike">
                <a:solidFill>
                  <a:srgbClr val="ff0000"/>
                </a:solidFill>
                <a:latin typeface="华文中宋"/>
                <a:ea typeface="华文中宋"/>
              </a:rPr>
              <a:t>原形</a:t>
            </a:r>
            <a:r>
              <a:rPr b="1" lang="en-US" sz="2400" spc="-1" strike="noStrike">
                <a:solidFill>
                  <a:srgbClr val="000099"/>
                </a:solidFill>
                <a:latin typeface="黑体"/>
                <a:ea typeface="黑体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宋体"/>
                <a:ea typeface="Times New Roman"/>
              </a:rPr>
              <a:t>可以表示对现在的情况的</a:t>
            </a:r>
            <a:r>
              <a:rPr b="1" lang="en-US" sz="2400" spc="-1" strike="noStrike" u="sng">
                <a:solidFill>
                  <a:srgbClr val="000099"/>
                </a:solidFill>
                <a:uFillTx/>
                <a:latin typeface="宋体"/>
                <a:ea typeface="Times New Roman"/>
              </a:rPr>
              <a:t>      </a:t>
            </a:r>
            <a:r>
              <a:rPr b="1" lang="en-US" sz="2400" spc="-1" strike="noStrike">
                <a:solidFill>
                  <a:srgbClr val="000099"/>
                </a:solidFill>
                <a:latin typeface="宋体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533520" y="3338280"/>
            <a:ext cx="7827120" cy="1373760"/>
            <a:chOff x="533520" y="3338280"/>
            <a:chExt cx="7827120" cy="1373760"/>
          </a:xfrm>
        </p:grpSpPr>
        <p:sp>
          <p:nvSpPr>
            <p:cNvPr id="279" name=""/>
            <p:cNvSpPr/>
            <p:nvPr/>
          </p:nvSpPr>
          <p:spPr>
            <a:xfrm>
              <a:off x="4565880" y="3492000"/>
              <a:ext cx="360360" cy="1102320"/>
            </a:xfrm>
            <a:custGeom>
              <a:avLst/>
              <a:gdLst>
                <a:gd name="textAreaLeft" fmla="*/ 0 w 360360"/>
                <a:gd name="textAreaRight" fmla="*/ 129960 w 360360"/>
                <a:gd name="textAreaTop" fmla="*/ 28440 h 1102320"/>
                <a:gd name="textAreaBottom" fmla="*/ 1073880 h 1102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54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533520" y="3338280"/>
              <a:ext cx="504180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It </a:t>
              </a: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can’t</a:t>
              </a:r>
              <a:r>
                <a:rPr b="1" lang="en-US" sz="2400" spc="-1" strike="noStrike">
                  <a:solidFill>
                    <a:srgbClr val="ff0000"/>
                  </a:solidFill>
                  <a:latin typeface="Arial Black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 Black"/>
                </a:rPr>
                <a:t>(          )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It </a:t>
              </a:r>
              <a:r>
                <a:rPr b="1" lang="en-US" sz="2800" spc="-1" strike="noStrike">
                  <a:solidFill>
                    <a:srgbClr val="ff0066"/>
                  </a:solidFill>
                  <a:latin typeface="Times New Roman"/>
                </a:rPr>
                <a:t>may/</a:t>
              </a: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might/could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 Black"/>
                </a:rPr>
                <a:t> (          )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t </a:t>
              </a: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must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 Black"/>
                  <a:ea typeface="Times New Roman"/>
                </a:rPr>
                <a:t>  (         )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953600" y="3788280"/>
              <a:ext cx="3407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Black"/>
                </a:rPr>
                <a:t>+ </a:t>
              </a: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be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(cold/a CD/ sb’s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2" name=""/>
          <p:cNvSpPr txBox="1"/>
          <p:nvPr/>
        </p:nvSpPr>
        <p:spPr>
          <a:xfrm>
            <a:off x="1143000" y="152280"/>
            <a:ext cx="2486160" cy="154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2075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Arial Black"/>
              </a:rPr>
              <a:t>Summary:</a:t>
            </a:r>
            <a:endParaRPr b="0" lang="en-US" sz="18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83" name=""/>
          <p:cNvSpPr/>
          <p:nvPr/>
        </p:nvSpPr>
        <p:spPr>
          <a:xfrm>
            <a:off x="169920" y="3276720"/>
            <a:ext cx="45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69920" y="5257800"/>
            <a:ext cx="45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85800" y="4944960"/>
            <a:ext cx="52578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                    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be Tony’s</a:t>
            </a:r>
            <a:r>
              <a:rPr b="1" lang="en-US" sz="2400" spc="-1" strike="noStrike">
                <a:solidFill>
                  <a:srgbClr val="ff99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ff99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99"/>
                </a:solidFill>
                <a:latin typeface="Times New Roman"/>
              </a:rPr>
              <a:t>是…的</a:t>
            </a:r>
            <a:r>
              <a:rPr b="1" lang="zh-CN" sz="2400" spc="-1" strike="noStrike">
                <a:solidFill>
                  <a:srgbClr val="ff99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t mu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 Black"/>
              </a:rPr>
              <a:t>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5257800"/>
            <a:ext cx="228600" cy="685800"/>
          </a:xfrm>
          <a:custGeom>
            <a:avLst/>
            <a:gdLst>
              <a:gd name="textAreaLeft" fmla="*/ 146160 w 228600"/>
              <a:gd name="textAreaRight" fmla="*/ 228960 w 22860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47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314600" y="25909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cc"/>
                </a:solidFill>
                <a:latin typeface="Arial"/>
                <a:ea typeface="华文中宋"/>
              </a:rPr>
              <a:t>推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981080" y="33526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cc"/>
                </a:solidFill>
                <a:latin typeface="Arial"/>
                <a:ea typeface="华文中宋"/>
              </a:rPr>
              <a:t>不可能</a:t>
            </a:r>
            <a:r>
              <a:rPr b="1" lang="en-US" sz="2400" spc="-1" strike="noStrike">
                <a:solidFill>
                  <a:srgbClr val="9900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708360" y="378936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cc"/>
                </a:solidFill>
                <a:latin typeface="Arial"/>
                <a:ea typeface="华文中宋"/>
              </a:rPr>
              <a:t>有可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057400" y="42670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cc"/>
                </a:solidFill>
                <a:latin typeface="Arial"/>
                <a:ea typeface="华文中宋"/>
              </a:rPr>
              <a:t>肯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588400" y="5715000"/>
            <a:ext cx="325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belong to</a:t>
            </a:r>
            <a:r>
              <a:rPr b="1" lang="en-US" sz="2400" spc="-1" strike="noStrike">
                <a:solidFill>
                  <a:srgbClr val="ff99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ny.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(</a:t>
            </a:r>
            <a:r>
              <a:rPr b="1" lang="zh-CN" sz="2400" spc="-1" strike="noStrike">
                <a:solidFill>
                  <a:srgbClr val="b2b2b2"/>
                </a:solidFill>
                <a:latin typeface="Times New Roman"/>
              </a:rPr>
              <a:t>属于…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4878360" y="12952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6172200" y="304920"/>
            <a:ext cx="1523880" cy="1295280"/>
          </a:xfrm>
          <a:prstGeom prst="cloudCallout">
            <a:avLst>
              <a:gd name="adj1" fmla="val -87916"/>
              <a:gd name="adj2" fmla="val -24263"/>
            </a:avLst>
          </a:prstGeom>
          <a:solidFill>
            <a:srgbClr val="ffeb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324480" y="380880"/>
            <a:ext cx="1295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66"/>
                </a:solidFill>
                <a:latin typeface="Arial"/>
              </a:rPr>
              <a:t>及时小结才能巩固所学知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84" dur="indefinite" restart="never" nodeType="tmRoot">
          <p:childTnLst>
            <p:seq>
              <p:cTn id="785" dur="indefinite" nodeType="mainSeq">
                <p:childTnLst>
                  <p:par>
                    <p:cTn id="786" fill="hold">
                      <p:stCondLst>
                        <p:cond delay="0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withEffect" fill="hold" presetClass="emph" presetID="3" presetSubtype="10" repeatCount="indefinite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animClr clrSpc="rgb">
                                      <p:cBhvr>
                                        <p:cTn id="789" dur="2000" fill="hold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5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800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805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810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/>
          </p:nvPr>
        </p:nvSpPr>
        <p:spPr>
          <a:xfrm>
            <a:off x="685800" y="189000"/>
            <a:ext cx="777240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根据句子意思，把下列句子中所缺的词或词组补充完整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. This photo   b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o  my little brothe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. In the picture, Tom and Lucy are at the 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 p             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3.The football is  m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e Jim’s. He likes playing football.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284720" y="1219320"/>
            <a:ext cx="124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imes New Roman"/>
              </a:rPr>
              <a:t>elo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2268360" y="3048120"/>
            <a:ext cx="145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imes New Roman"/>
              </a:rPr>
              <a:t>icn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4643280" y="3716280"/>
            <a:ext cx="107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imes New Roman"/>
              </a:rPr>
              <a:t>u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33" dur="2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8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9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4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9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1171440"/>
            <a:ext cx="4286160" cy="568656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293040" y="259560"/>
            <a:ext cx="832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Times New Roman"/>
              </a:rPr>
              <a:t>A Korean(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  <a:ea typeface="华文中宋"/>
              </a:rPr>
              <a:t>韩国的</a:t>
            </a:r>
            <a:r>
              <a:rPr b="1" lang="en-US" sz="3200" spc="-1" strike="noStrike">
                <a:solidFill>
                  <a:srgbClr val="3333ff"/>
                </a:solidFill>
                <a:latin typeface="Times New Roman"/>
              </a:rPr>
              <a:t>) actor, he is cool and popula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692360" y="1773360"/>
            <a:ext cx="1439640" cy="1368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574880" y="1484280"/>
            <a:ext cx="4204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Whose dog is thi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429080" y="2637000"/>
            <a:ext cx="456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t might / could be___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Choose the right answer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85800" y="907560"/>
            <a:ext cx="830592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--whose book is this ? (           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-It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 Lucy’s. Look, Her name is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on the  co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. can      B. must        C. may        D. coul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—It took me nearly forty minutes to walk he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-Have a drink, please. You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 thirsty.(       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. will      B. must       C. should       D. c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 When you cross the road, you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be very careful.(          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. must      B. should       C. can        D. m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335920" y="914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7453440" y="29242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558160" y="4437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0" dur="indefinite" restart="never" nodeType="tmRoot">
          <p:childTnLst>
            <p:seq>
              <p:cTn id="851" dur="indefinite" nodeType="mainSeq">
                <p:childTnLst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7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fill="hold">
                      <p:stCondLst>
                        <p:cond delay="indefinite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62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67" dur="2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29800" y="609480"/>
            <a:ext cx="7556760" cy="717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1. Choose the best answ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407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2720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 I don’t know him. He ___ a new come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72720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. must be  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. ma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72720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. can be           D. mayb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72720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②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 Mary ____ be in Paris. I saw her in town only a few minutes ago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72720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. mustn’t         B. shouldn’t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72720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. can’t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      D. may no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029600" y="2133720"/>
            <a:ext cx="29638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A. must b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1106280" y="5410080"/>
            <a:ext cx="24166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C. can’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868" dur="indefinite" restart="never" nodeType="tmRoot">
          <p:childTnLst>
            <p:seq>
              <p:cTn id="869" dur="indefinite" nodeType="mainSeq">
                <p:childTnLst>
                  <p:par>
                    <p:cTn id="870" fill="hold">
                      <p:stCondLst>
                        <p:cond delay="0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74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79" dur="1000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82" dur="1000"/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85" dur="1000"/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95" dur="1000"/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98" dur="1000"/>
                                        <p:tgtEl>
                                          <p:spTgt spid="3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01" dur="1000"/>
                                        <p:tgtEl>
                                          <p:spTgt spid="3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6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/>
          </p:nvPr>
        </p:nvSpPr>
        <p:spPr>
          <a:xfrm>
            <a:off x="304560" y="837720"/>
            <a:ext cx="8305560" cy="536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③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 Peter ____ come with us tonight, bu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he isn’t very sure ye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. must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. may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C. can   D. wil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④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 I thought you ____ like something 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read,   so  I  have  brought  you  som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ook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. may       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. might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. could            D. mus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971800" y="2209680"/>
            <a:ext cx="15559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B. m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772800" y="5562720"/>
            <a:ext cx="23925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D. mu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u"/>
  </p:transition>
  <p:timing>
    <p:tnLst>
      <p:par>
        <p:cTn id="907" dur="indefinite" restart="never" nodeType="tmRoot">
          <p:childTnLst>
            <p:seq>
              <p:cTn id="908" dur="indefinite" nodeType="mainSeq">
                <p:childTnLst>
                  <p:par>
                    <p:cTn id="909" fill="hold">
                      <p:stCondLst>
                        <p:cond delay="0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13" dur="1000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16" dur="1000"/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19" dur="1000"/>
                                        <p:tgtEl>
                                          <p:spTgt spid="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4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29" dur="1000"/>
                                        <p:tgtEl>
                                          <p:spTgt spid="3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32" dur="1000"/>
                                        <p:tgtEl>
                                          <p:spTgt spid="3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35" dur="1000"/>
                                        <p:tgtEl>
                                          <p:spTgt spid="3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38" dur="1000"/>
                                        <p:tgtEl>
                                          <p:spTgt spid="3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41" dur="1000"/>
                                        <p:tgtEl>
                                          <p:spTgt spid="3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2" fill="hold">
                      <p:stCondLst>
                        <p:cond delay="indefinite"/>
                      </p:stCondLst>
                      <p:childTnLst>
                        <p:par>
                          <p:cTn id="943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6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380520" y="6854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Times New Roman"/>
              </a:rPr>
              <a:t>2. Fill in the blanks with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 must, might /</a:t>
            </a:r>
            <a:br>
              <a:rPr sz="3600"/>
            </a:b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    could, can’t, belong to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533520" y="2209320"/>
            <a:ext cx="8229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ose earrings are these? They __________ be Mary’s. she never wears earring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telephone is ringing, but nobody answers it.        He _______________ be  ou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－ “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ose is this book?  Oh,  it_________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ary</a:t>
            </a:r>
            <a:r>
              <a:rPr b="1" lang="en-US" sz="2800" spc="-1" strike="noStrike">
                <a:solidFill>
                  <a:srgbClr val="0000d2"/>
                </a:solidFill>
                <a:latin typeface="Times New Roman"/>
              </a:rPr>
              <a:t>’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 Her name is on the back.”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－ “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, it _________________ me,  she gave it 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e yesterday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477120" y="2133720"/>
            <a:ext cx="106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can’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057400" y="3505320"/>
            <a:ext cx="2055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may/m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6400800" y="4038480"/>
            <a:ext cx="16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must 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122280" y="5029200"/>
            <a:ext cx="239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belong      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4419720" y="4952880"/>
            <a:ext cx="838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Times New Roman"/>
              </a:rPr>
              <a:t>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947" dur="indefinite" restart="never" nodeType="tmRoot">
          <p:childTnLst>
            <p:seq>
              <p:cTn id="948" dur="indefinite" nodeType="mainSeq">
                <p:childTnLst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4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5" fill="hold">
                      <p:stCondLst>
                        <p:cond delay="indefinite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9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0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1" fill="hold">
                      <p:stCondLst>
                        <p:cond delay="indefinite"/>
                      </p:stCondLst>
                      <p:childTnLst>
                        <p:par>
                          <p:cTn id="962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5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6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1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2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3" fill="hold">
                      <p:stCondLst>
                        <p:cond delay="indefinite"/>
                      </p:stCondLst>
                      <p:childTnLst>
                        <p:par>
                          <p:cTn id="974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7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8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" descr=""/>
          <p:cNvPicPr/>
          <p:nvPr/>
        </p:nvPicPr>
        <p:blipFill>
          <a:blip r:embed="rId2"/>
          <a:stretch/>
        </p:blipFill>
        <p:spPr>
          <a:xfrm>
            <a:off x="0" y="2276640"/>
            <a:ext cx="9144000" cy="4581360"/>
          </a:xfrm>
          <a:prstGeom prst="rect">
            <a:avLst/>
          </a:prstGeom>
          <a:ln w="0">
            <a:noFill/>
          </a:ln>
        </p:spPr>
      </p:pic>
      <p:sp>
        <p:nvSpPr>
          <p:cNvPr id="319" name=""/>
          <p:cNvSpPr txBox="1"/>
          <p:nvPr/>
        </p:nvSpPr>
        <p:spPr>
          <a:xfrm>
            <a:off x="2340000" y="476280"/>
            <a:ext cx="4608360" cy="1630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See you !</a:t>
            </a:r>
            <a:endParaRPr b="1" lang="en-US" sz="18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p:transition spd="slow">
    <p:comb dir="horz"/>
    <p:sndAc>
      <p:stSnd>
        <p:snd r:embed="rId3" name="applause.wav"/>
      </p:stSnd>
    </p:sndAc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/>
          <p:nvPr/>
        </p:nvSpPr>
        <p:spPr>
          <a:xfrm>
            <a:off x="0" y="189000"/>
            <a:ext cx="9144000" cy="74286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Dear John,                                                              I need my </a:t>
            </a:r>
            <a:r>
              <a:rPr b="1" lang="en-US" sz="3600" spc="-1" strike="noStrike">
                <a:solidFill>
                  <a:srgbClr val="0000ff"/>
                </a:solidFill>
                <a:latin typeface="Verdana"/>
              </a:rPr>
              <a:t>dictionary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1" lang="en-US" sz="3600" spc="-1" strike="noStrike">
                <a:solidFill>
                  <a:srgbClr val="0000ff"/>
                </a:solidFill>
                <a:latin typeface="Verdana"/>
              </a:rPr>
              <a:t>sun glasses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1" lang="en-US" sz="3600" spc="-1" strike="noStrike">
                <a:solidFill>
                  <a:srgbClr val="0000ff"/>
                </a:solidFill>
                <a:latin typeface="Verdana"/>
              </a:rPr>
              <a:t>cap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,  </a:t>
            </a:r>
            <a:r>
              <a:rPr b="1" lang="en-US" sz="3600" spc="-1" strike="noStrike">
                <a:solidFill>
                  <a:srgbClr val="0000ff"/>
                </a:solidFill>
                <a:latin typeface="Verdana"/>
              </a:rPr>
              <a:t>purse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1" lang="en-US" sz="3600" spc="-1" strike="noStrike">
                <a:solidFill>
                  <a:srgbClr val="0000ff"/>
                </a:solidFill>
                <a:latin typeface="Verdana"/>
              </a:rPr>
              <a:t>watch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1" lang="en-US" sz="3600" spc="-1" strike="noStrike">
                <a:solidFill>
                  <a:srgbClr val="0000ff"/>
                </a:solidFill>
                <a:latin typeface="Verdana"/>
              </a:rPr>
              <a:t>soccer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,     </a:t>
            </a:r>
            <a:r>
              <a:rPr b="1" lang="en-US" sz="3600" spc="-1" strike="noStrike">
                <a:solidFill>
                  <a:srgbClr val="0000ff"/>
                </a:solidFill>
                <a:latin typeface="Verdana"/>
              </a:rPr>
              <a:t>umbrella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 and  </a:t>
            </a:r>
            <a:r>
              <a:rPr b="1" lang="en-US" sz="3600" spc="-1" strike="noStrike">
                <a:solidFill>
                  <a:srgbClr val="0000ff"/>
                </a:solidFill>
                <a:latin typeface="Verdana"/>
              </a:rPr>
              <a:t>keys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to my bike.   And I’d like </a:t>
            </a:r>
            <a:r>
              <a:rPr b="1" lang="en-US" sz="3600" spc="-1" strike="noStrike">
                <a:solidFill>
                  <a:srgbClr val="0000ff"/>
                </a:solidFill>
                <a:latin typeface="Verdana"/>
              </a:rPr>
              <a:t>something to drink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.                                                                 But sorry, I am not sure where  they are. Could you bring them to me?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            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You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             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ony  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/>
          <p:nvPr/>
        </p:nvSpPr>
        <p:spPr>
          <a:xfrm>
            <a:off x="2627280" y="2205000"/>
            <a:ext cx="4680000" cy="2226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0" spc="-1" strike="noStrike">
                <a:solidFill>
                  <a:srgbClr val="ffffff"/>
                </a:solidFill>
                <a:latin typeface="Times New Roman"/>
              </a:rPr>
              <a:t>Thank you for listening 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1171440"/>
            <a:ext cx="4286160" cy="56865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293040" y="259560"/>
            <a:ext cx="832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Times New Roman"/>
              </a:rPr>
              <a:t>A Korean(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  <a:ea typeface="华文中宋"/>
              </a:rPr>
              <a:t>韩国的</a:t>
            </a:r>
            <a:r>
              <a:rPr b="1" lang="en-US" sz="3200" spc="-1" strike="noStrike">
                <a:solidFill>
                  <a:srgbClr val="3333ff"/>
                </a:solidFill>
                <a:latin typeface="Times New Roman"/>
              </a:rPr>
              <a:t>) actor, he is cool and popula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30520" y="1557360"/>
            <a:ext cx="4204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Whose dog is thi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579920" y="2781360"/>
            <a:ext cx="456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t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might / could be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___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407120" y="4067280"/>
            <a:ext cx="4440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t 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must be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Rain’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" dur="8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" dur="8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" dur="8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1557360"/>
            <a:ext cx="4140360" cy="530064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1263240" y="330120"/>
            <a:ext cx="6218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Arial"/>
              </a:rPr>
              <a:t>He is a basketball player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763640" y="1773360"/>
            <a:ext cx="792360" cy="720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215600" y="1557360"/>
            <a:ext cx="4664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hose car is thi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290480" y="2565360"/>
            <a:ext cx="48488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t might / could be __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t can’t be _____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t must be_____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1557360"/>
            <a:ext cx="4140360" cy="530064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1263240" y="330120"/>
            <a:ext cx="6218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Arial"/>
              </a:rPr>
              <a:t>He is a basketball player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215600" y="1557360"/>
            <a:ext cx="4664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hose car is thi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286880" y="2565360"/>
            <a:ext cx="48564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t might / could be __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t can’t be _________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t must be_________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397200" y="3645000"/>
            <a:ext cx="2747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Wang Zhizhi’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445080" y="4437000"/>
            <a:ext cx="245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Yao Ming’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" dur="8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" dur="8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" dur="8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7" dur="8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" dur="8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" dur="8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-250920" y="1052640"/>
            <a:ext cx="7234200" cy="39337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372360" y="1052640"/>
            <a:ext cx="2771640" cy="39607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7451640" y="2133720"/>
            <a:ext cx="1224000" cy="1871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126160" y="260280"/>
            <a:ext cx="443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He is rich but helpful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126880" y="5013360"/>
            <a:ext cx="411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Whose car is thi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-11520" y="5877000"/>
            <a:ext cx="9370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t might/ could be __. It can’t be __. It must be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-250920" y="1052640"/>
            <a:ext cx="7234200" cy="39337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372360" y="1052640"/>
            <a:ext cx="2771640" cy="396072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2126160" y="260280"/>
            <a:ext cx="443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He is rich but helpful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126880" y="5013360"/>
            <a:ext cx="411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Whose car is thi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-11160" y="5877000"/>
            <a:ext cx="923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t might/ could be __. It can’t be __. I must be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13T22:58:49Z</dcterms:created>
  <dc:creator> </dc:creator>
  <dc:description> </dc:description>
  <dc:language>en-US</dc:language>
  <cp:lastModifiedBy>微软用户</cp:lastModifiedBy>
  <dcterms:modified xsi:type="dcterms:W3CDTF">2014-03-13T15:38:15Z</dcterms:modified>
  <cp:revision>0</cp:revision>
  <dc:subject> </dc:subject>
  <dc:title>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89</vt:lpwstr>
  </property>
</Properties>
</file>