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2.png" ContentType="image/png"/>
  <Override PartName="/ppt/media/image11.png" ContentType="image/png"/>
  <Override PartName="/ppt/media/image10.gif" ContentType="image/gif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13.gif" ContentType="image/gif"/>
  <Override PartName="/ppt/media/image16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gif" ContentType="image/gif"/>
  <Override PartName="/ppt/media/image5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EE94-29CF-4D0D-8010-CF59C393B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83D2-E5D3-4ABA-852F-72C681D2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6767-C001-4285-B2CD-357308C2E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52A7-DD02-44D2-A644-564863986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07FE-CB3A-4096-91C0-02EE57619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C108-8F2B-4165-A9E7-14C61A8A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8F33-F3E4-4009-A794-075B6671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8EDF-2633-4B96-86CD-5D706F11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CBD2-D63A-437E-8418-90F17A2A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F0EE-DFBA-485E-8C39-ED0E6B7E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1B22-1CEE-4FFD-A49B-E06F143C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DCD0-7DA7-4A07-9987-B0614564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586B-6C2A-4F8E-96A4-BF1FC853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9BBF-90E8-4387-808D-F46ED8CB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7197-72D1-41E1-954E-188DEB8B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723A-FD01-4FEB-BDCB-CDFB0F7A2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6444-4DC8-49F3-B52E-6FD6EB179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9FE2D-C977-48F4-B099-88474E7F7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8BEAD-234D-447D-BFCB-3E012212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9079A-5155-4BCC-AD2E-D063ACB2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F446D-0382-4B93-B97F-65B10163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74BA5-6D26-4E3F-9B0E-FDBBA2AF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75CB-3DC8-423F-8278-442AA899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7A485-6921-4691-A803-994FA5A2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71CE8-7E6B-43D1-9FB2-0279518D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2253C-2524-45C4-9BB6-C4CFC6EB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BAF5A-1E35-4C6E-804C-F7001BEB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DDAEB-CE05-41B5-B6CB-3A9DE25A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563BB-6BE1-4C47-85BD-ECF207BAC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A0B39-F61C-45F0-A6AF-3D81E9681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C20B-9F6A-45EE-A010-73D2E0C4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558F-FE2E-412D-A830-4780214F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9F4B-BDB7-4FB6-BE06-7563E341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D31C-59E1-4355-82B1-499BA74D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F21B-8C48-4664-81D2-50AE116A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9422-6CA9-4AA6-80CD-82427EAA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3C8D-2A6D-4A91-A91E-1338A96E78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7612-92AB-4966-8FB5-DE4111AADDD7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1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1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C060-238A-450C-8DD1-40C93C40A4EB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ShockwaveFlash1"/>
          <p:cNvGraphicFramePr/>
          <p:nvPr/>
        </p:nvGraphicFramePr>
        <p:xfrm>
          <a:off x="324000" y="0"/>
          <a:ext cx="86407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0"/>
                    <a:ext cx="864072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93" name=""/>
          <p:cNvSpPr/>
          <p:nvPr/>
        </p:nvSpPr>
        <p:spPr>
          <a:xfrm>
            <a:off x="2050920" y="0"/>
            <a:ext cx="73090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enagers should be allowed to choose their own clothes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0920" y="0"/>
            <a:ext cx="1979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Unit 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422520" y="3716280"/>
            <a:ext cx="294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tion B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2"/>
          <p:cNvSpPr/>
          <p:nvPr/>
        </p:nvSpPr>
        <p:spPr>
          <a:xfrm>
            <a:off x="179280" y="0"/>
            <a:ext cx="266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Monotype Corsiva"/>
              </a:rPr>
              <a:t>Discu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179280" y="1052640"/>
            <a:ext cx="8425080" cy="53586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opic 1.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Pete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should be allowed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ake the test later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opic 2.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Student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need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trict rules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opic 3.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Parent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should not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e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 too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trict with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0" y="-2286000"/>
            <a:ext cx="9524880" cy="1158228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7164360" y="5270400"/>
            <a:ext cx="2232000" cy="191304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5"/>
          <p:cNvSpPr/>
          <p:nvPr/>
        </p:nvSpPr>
        <p:spPr>
          <a:xfrm>
            <a:off x="395280" y="1413000"/>
            <a:ext cx="8353440" cy="50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: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I think Peter should be allowed to take the test later.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B: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I don’t agree, because he got to class late.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: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I think  he should talk to  the teacher and explain  what happened.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95280" y="26028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Monotype Corsiva"/>
              </a:rPr>
              <a:t>Mode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0" y="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Task3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:1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）他上课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从来不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迟到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）你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曾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担心考试不通过吗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）昨天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他没被允许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参加考试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82680" y="838080"/>
            <a:ext cx="844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He never gets to class lat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17520" y="2787480"/>
            <a:ext cx="8707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Do you ever worry that you’ll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fail a test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06720" y="4708440"/>
            <a:ext cx="903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He wasn’t allowed to tak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the test yesterda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76320" y="304920"/>
            <a:ext cx="88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）他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几乎不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锻炼身体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）父母不应该对青少年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太严格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06360" y="1422360"/>
            <a:ext cx="841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He hardly ever exercis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17520" y="4430880"/>
            <a:ext cx="802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arents shouldn’t be stric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with teenager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0" y="0"/>
            <a:ext cx="8991720" cy="66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7.Tom didn’t finish____ (do) his homework yesterda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8.He failed _______(catch) the early bu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9.Have you ever______ (study) with a group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0.We won’t allow__________ (smoke) in the cinema. But you are allowed__________ (smoke) in the restroo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700960" y="60480"/>
            <a:ext cx="155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o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352680" y="121932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to cat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866480" y="2484360"/>
            <a:ext cx="234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studi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624280" y="3784680"/>
            <a:ext cx="300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mok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862520" y="5079960"/>
            <a:ext cx="319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to smo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 Black"/>
              </a:rPr>
              <a:t>Thanks for listening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Learning aims</a:t>
            </a: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.Go on talking about what you are allowed to do or no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.Agree and disagre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3.Listening practic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被允许做某事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允许某人做某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允许做某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和朋友一起出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有兼职工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4.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穿耳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5.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不足够严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6.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停止带那愚蠢的耳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47800" y="-50760"/>
            <a:ext cx="3126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7.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代替；而不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8.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在那个年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9.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我们也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10.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在上学的晚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11.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在周五晚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181080" y="0"/>
            <a:ext cx="9144000" cy="79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Review: Translate the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我们也是这样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我不得不呆在家里在上学的晚上。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周末呢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周五晚上允许我和朋友去看电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我不得不在十点前到家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我还不被允许打耳眼。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179280" y="2276640"/>
            <a:ext cx="120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D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yo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476360" y="260280"/>
            <a:ext cx="439272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get to class l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476360" y="1989000"/>
            <a:ext cx="468144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study with frie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476360" y="378936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ish a test ear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479240" y="5229360"/>
            <a:ext cx="424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orry that you’l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fail a 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87280" y="620640"/>
            <a:ext cx="289080" cy="5184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135000 h 5184720"/>
              <a:gd name="textAreaBottom" fmla="*/ 5049720 h 51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6372360" y="0"/>
            <a:ext cx="2447640" cy="148428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3"/>
          <a:stretch/>
        </p:blipFill>
        <p:spPr>
          <a:xfrm>
            <a:off x="6372360" y="1628640"/>
            <a:ext cx="2447640" cy="15130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4"/>
          <a:stretch/>
        </p:blipFill>
        <p:spPr>
          <a:xfrm>
            <a:off x="6372360" y="3357720"/>
            <a:ext cx="2449440" cy="151128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5"/>
          <a:stretch/>
        </p:blipFill>
        <p:spPr>
          <a:xfrm>
            <a:off x="6372360" y="5157720"/>
            <a:ext cx="2520720" cy="17002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5435640" y="40464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940360" y="206064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796000" y="386064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67280" y="595008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080" y="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3960720" cy="8204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826920" y="765000"/>
            <a:ext cx="27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ff"/>
                </a:solidFill>
                <a:latin typeface="Arial Black"/>
              </a:rPr>
              <a:t>Pair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916280"/>
            <a:ext cx="849780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Times New Roman"/>
              </a:rPr>
              <a:t>A: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Do you ever </a:t>
            </a:r>
            <a:r>
              <a:rPr b="1" i="1" lang="en-US" sz="4400" spc="-1" strike="noStrike">
                <a:solidFill>
                  <a:srgbClr val="ff0066"/>
                </a:solidFill>
                <a:latin typeface="Times New Roman"/>
              </a:rPr>
              <a:t>study with friends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Times New Roman"/>
              </a:rPr>
              <a:t>B: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Yes, I </a:t>
            </a:r>
            <a:r>
              <a:rPr b="1" i="1" lang="en-US" sz="4400" spc="-1" strike="noStrike">
                <a:solidFill>
                  <a:srgbClr val="ff0066"/>
                </a:solidFill>
                <a:latin typeface="Times New Roman"/>
              </a:rPr>
              <a:t>sometime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tudy with my        friends .What about you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Times New Roman"/>
              </a:rPr>
              <a:t>A: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i="1" lang="en-US" sz="4400" spc="-1" strike="noStrike">
                <a:solidFill>
                  <a:srgbClr val="ff0066"/>
                </a:solidFill>
                <a:latin typeface="Times New Roman"/>
              </a:rPr>
              <a:t>often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study with my friends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51840" y="157320"/>
            <a:ext cx="478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Monotype Corsiva"/>
              </a:rPr>
              <a:t>2a</a:t>
            </a:r>
            <a:r>
              <a:rPr b="1" lang="en-US" sz="4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Listen and circle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7380360" y="6095880"/>
            <a:ext cx="1533600" cy="7621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539640" y="1268280"/>
            <a:ext cx="50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Do you ever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79280" y="2133720"/>
            <a:ext cx="8282160" cy="35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t to class l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study wit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frien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nish a test earl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orry that you’ll </a:t>
            </a: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fail a tes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802800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79280" y="2421000"/>
            <a:ext cx="505080" cy="5763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79280" y="5013360"/>
            <a:ext cx="433440" cy="647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179280" y="18900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Monotype Corsiva"/>
              </a:rPr>
              <a:t>2b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 Listen ,fill in the blank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7380360" y="5877000"/>
            <a:ext cx="1533600" cy="76176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179280" y="1268280"/>
            <a:ext cx="87138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 Peter 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is going to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__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 He 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isn’t allowed to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__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. Peter 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wasn’t allowed to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. He could 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. He 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should be allowed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500720" y="1413000"/>
            <a:ext cx="37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fail a math 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859280" y="213372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get to class l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940360" y="299736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take the 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916360" y="378936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pass the 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708360" y="537372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take the test l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802800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4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38740" fill="hold"/>
                                        <p:tgtEl>
                                          <p:spTgt spid="4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2040" cy="731376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-181080" y="5516640"/>
            <a:ext cx="1239840" cy="159228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1187280" y="0"/>
            <a:ext cx="619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95280" y="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er could 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700360" y="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ass the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700360" y="692280"/>
            <a:ext cx="36036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24000" y="981000"/>
            <a:ext cx="90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ut he_____________and had to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547640" y="98100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issed the 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335640" y="981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alk to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700360" y="1557360"/>
            <a:ext cx="36036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68360" y="177336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he got 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56000" y="177336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o class l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700360" y="2421000"/>
            <a:ext cx="36036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95280" y="27082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acher didn’t allow him to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012000" y="270828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ake the t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700360" y="3284640"/>
            <a:ext cx="36036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-73080" y="3645000"/>
            <a:ext cx="9217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er thought he should be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e will explain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859280" y="371628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llowed to take the test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284720" y="429264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at happen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835280" y="5445000"/>
            <a:ext cx="46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fair or unfair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4T13:09:01Z</dcterms:created>
  <dc:creator>yczx</dc:creator>
  <dc:description/>
  <dc:language>en-US</dc:language>
  <cp:lastModifiedBy>yczx</cp:lastModifiedBy>
  <dcterms:modified xsi:type="dcterms:W3CDTF">2013-10-07T14:37:48Z</dcterms:modified>
  <cp:revision>5</cp:revision>
  <dc:subject/>
  <dc:title>幻灯片 1</dc:title>
</cp:coreProperties>
</file>