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himes.wav" ContentType="audio/x-wav"/>
  <Override PartName="/ppt/media/image1.png" ContentType="image/png"/>
  <Override PartName="/ppt/media/projctor.wav" ContentType="audio/x-wav"/>
  <Override PartName="/ppt/media/camera.wav" ContentType="audio/x-wav"/>
  <Override PartName="/ppt/media/cashreg.wav" ContentType="audio/x-wav"/>
  <Override PartName="/ppt/media/laser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B03-7A21-4488-AA88-30BCEC43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CC6-296C-4ED9-885F-2C3D8D09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40E-446B-4306-BEC5-C2624AF1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186-09D8-4874-AEF8-691A344B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BC6-A99D-4ACC-901B-B62A60E6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616-56DB-43E2-A1DE-CDD4BCCB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6B8-55C7-44AC-B496-F2C9512C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9AE-B3D9-4E04-B976-AF2A26D0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B29-8AF0-4F01-9E51-351A1B3B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E5F-C841-4E35-A60C-209ED82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879-5DB4-4F8F-8EA8-A5F1E8FD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492-18CF-4FC0-809C-8C8065D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FA46-4CC7-47D3-A96F-451709183F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80880" y="914400"/>
            <a:ext cx="833436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1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How do you study for a test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learn English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by listen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cassett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by ask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he teacher for help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20720" y="2357280"/>
            <a:ext cx="84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rea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magazines and newspaper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28760" y="3643200"/>
            <a:ext cx="8062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tak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art in English classes after school 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get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 English tuto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572320" cy="26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learn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by study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ith a group.  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By watch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nglish programs on TV.  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By enjoy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nglish song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85840" y="3071880"/>
            <a:ext cx="81532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surf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interne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网上冲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mak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flashcards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制作单词认读卡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39560" y="489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22120" y="476244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read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textbook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读教科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54291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mak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vocabulary lists.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列单词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28760" y="97632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6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"/>
              </a:rPr>
              <a:t>Make flash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"/>
              </a:rPr>
              <a:t>Mak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"/>
              </a:rPr>
              <a:t>Listen to cassett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946240" y="2286000"/>
            <a:ext cx="59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BatangChe"/>
              </a:rPr>
              <a:t>vocabulary li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52280" y="763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a  Check (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the ways you study for an English test. Then add other ways you sometimes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55640" y="1155600"/>
            <a:ext cx="74106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 working with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 making </a:t>
            </a:r>
            <a:r>
              <a:rPr b="1" i="1" lang="zh-CN" sz="3200" spc="-1" strike="noStrike">
                <a:solidFill>
                  <a:srgbClr val="006600"/>
                </a:solidFill>
                <a:latin typeface="Times New Roman"/>
              </a:rPr>
              <a:t>flash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 reading the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 making vocabulary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 listening to casse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 asking the teacher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Times New Roman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029200" y="190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教学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抽认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9"/>
          <p:cNvSpPr/>
          <p:nvPr/>
        </p:nvSpPr>
        <p:spPr>
          <a:xfrm>
            <a:off x="142920" y="260280"/>
            <a:ext cx="611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42920" y="260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b  Listen. How do these students study for a test? Write letters from the picture ab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42920" y="17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Mei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2. Pierre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3. Ant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93840" y="1628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162840" y="17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038400" y="17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5" descr="01.gif"/>
          <p:cNvPicPr/>
          <p:nvPr/>
        </p:nvPicPr>
        <p:blipFill>
          <a:blip r:embed="rId1"/>
          <a:stretch/>
        </p:blipFill>
        <p:spPr>
          <a:xfrm>
            <a:off x="1285920" y="2714760"/>
            <a:ext cx="59292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214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y, gang. There’s a big test on Tuesday. I really need some help. Can you tell me how you study for a big test?                                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ice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re! Yes. Sure we will.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did really well on the last English test, didn’t you, Mei?                               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rl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eah. I did OK.              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ell, how did you study? 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rl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y making flashcards.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aybe I’ll try that. How did you study, Pierre?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y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y asking the teacher for help. She was really happy I asked.                              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’s interesting. How do you study, Antonio?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y 3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 like to study by listening to cassettes. But some times my mother thinks I’m listening to music. And then she gets mad.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h, we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9200" y="35712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Tape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0"/>
          <p:cNvSpPr/>
          <p:nvPr/>
        </p:nvSpPr>
        <p:spPr>
          <a:xfrm>
            <a:off x="642960" y="1143000"/>
            <a:ext cx="611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14240" y="1071720"/>
            <a:ext cx="66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c  Pairwor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Ask your partner how he or she studies for a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714240" y="2714760"/>
            <a:ext cx="5214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How do you study for a 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study by working with a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85840" y="2000160"/>
            <a:ext cx="8143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 How do you study for tests ?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是怎样准备考试的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Well , I study by working with my classmates. 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哦，我和同学们一起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 Have you ever studied with a group ?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曾经参加过学习小组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Yes , I have . I’ve learned a lot that way . 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是的，参加过。通过这种方式我学了许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763920" y="785880"/>
            <a:ext cx="658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目标语言（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Target Language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285840" y="178596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 I don’t have a partner to practice English with .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没有同伴可以练习英语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Maybe you should join an English club. 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或许，你应该参加一个英语俱乐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 What about reading aloud to practice pronunciation ?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声朗读来练习发音怎么样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Why don’t you join an English language club ? 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你为什么不参加一个英语俱乐部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763920" y="785880"/>
            <a:ext cx="658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目标语言（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Target Language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.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介词，表示“通过…方法或途径”的意思，译成“靠、通过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面可以加名词或动名词短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 eg.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 house was destroyed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 fire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房屋被火烧毁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0920" y="2786040"/>
            <a:ext cx="8893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 air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and , se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航空（陆路、航海）旅行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o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 train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oat , bu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乘火车（船，公共汽车）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ake sb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 the han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某人握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 study Englis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by watching English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vi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通过看英文电影学英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62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8920" y="14842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 句型导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 学英语的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 学英语的困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 综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2602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另外，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做为介词的含义有很多，我们也已经学习过一些用法，总结如下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  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在…旁边、靠近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re is a power station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the river.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河边有一个电厂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  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沿着、经由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me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the highway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由公路来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  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由于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mistake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由于差错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  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被、由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some articles written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Luxun.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些由鲁迅写的文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  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（表示面积）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 room 5m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m 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间长五米宽四米的房间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  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逐批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one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one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个接一个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  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表示方法、途径  如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333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a  Listen and check(</a:t>
            </a:r>
            <a:r>
              <a:rPr b="1" lang="zh-CN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the questions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111924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Ques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o you learn English by watching English-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de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o You ever practice conversations with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at about listening to cassettes?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bout reading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lou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practic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nunc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ve you ever studied with a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57200" y="1828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3048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57200" y="4357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5043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0" y="5546880"/>
            <a:ext cx="44658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alou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出声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声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声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72000" y="5715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pronunciati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76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b  Listen again and match each question above with an answer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14200" y="13572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s                                                             Answ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1. Do you learn English by watching                            English-language videos?                                                                   2. Do You ever practice conversations                                         with friends?                                                                                            3. What about listening to cassettes?                                        4. What about reading aloud to practice           pronunciation?                                                                                  5. Have you ever studied with a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429680" y="1928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7429680" y="27669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429680" y="4214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429680" y="47480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8"/>
          <p:cNvSpPr/>
          <p:nvPr/>
        </p:nvSpPr>
        <p:spPr>
          <a:xfrm>
            <a:off x="7358040" y="2428920"/>
            <a:ext cx="571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0"/>
          <p:cNvSpPr/>
          <p:nvPr/>
        </p:nvSpPr>
        <p:spPr>
          <a:xfrm>
            <a:off x="7358040" y="32860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2"/>
          <p:cNvSpPr/>
          <p:nvPr/>
        </p:nvSpPr>
        <p:spPr>
          <a:xfrm>
            <a:off x="7358040" y="46432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4"/>
          <p:cNvSpPr/>
          <p:nvPr/>
        </p:nvSpPr>
        <p:spPr>
          <a:xfrm>
            <a:off x="7358040" y="5214960"/>
            <a:ext cx="571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571680" y="1000080"/>
            <a:ext cx="75722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Yes, I have. I’ve learned a lot that way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Oh, yes. It improves my speaking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k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 do that sometimes. I think it helps.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No. it’s too hard to understand th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v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786720" y="2214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技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928800" y="41432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话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14200" y="1011240"/>
            <a:ext cx="876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lcome to the English club. Today we’re going to talk   about the best ways to learn English. Who has an idea?                   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you learn English by watching English-language videos?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. It’s too hard to understand the voices.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 about keeping a diary in English? Do you learn  English that way?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think so. It helps to write English every day.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you ever studied with a group?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, I have! I’ve learned a lot that way.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you ever practice conversations with friends?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h, yes. It improves my speaking skills.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y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 about reading aloud to practice pronunciation?    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do that sometimes. I think it helps.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y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do too. And I always look up new words in a dictionary.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l 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’s a great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9200" y="35712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Tape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57120" y="642960"/>
            <a:ext cx="546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2c  PAIRWOR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Make conversations using the information from activities 2a and 2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28760" y="2928960"/>
            <a:ext cx="4857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: Have you ever studied with a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B: Yes, I have. I’ve learned a lot that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705720" y="152280"/>
            <a:ext cx="2181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Grammar Focus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2120" y="152280"/>
            <a:ext cx="64767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 you study for a t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study by listening to cass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 you  learn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earn by studying with a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learn English by reading alou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396252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y doing sth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你询问怎样做某事或告诉别人怎样做某事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用此形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“通过…方式、方法”或“借助某种手段”。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How does he make a living?  He lives by writing.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他怎样谋生呢？他以写作为生。                               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By working hard I made great progress this term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通过刻苦努力，我在本学期取得了巨大的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42876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请诵读下面的目标句型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ow do you study English ?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运用特殊疑问句）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 study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by listening to cassett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听录音带）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 study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by studying with a grou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和小组一起学习）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 study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by watching English programs on TV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看英语电视节目）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 study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by enjoying English songs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听英文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57120" y="371484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 study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by finishing my homework seriously .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认真完成作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357120" y="47149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 study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by taking part in English classes after 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school .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上课外英语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2920" y="426960"/>
            <a:ext cx="8429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 getting an English tutor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（请英语家教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 reading English magazines and newspaper . 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读英文杂志、报纸）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 surfing the internet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（网上冲浪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 making flashcards.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制作单词认读卡片）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 reading the textbook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（读教科书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 asking the teacher for help.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请教老师）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 making vocabulary lists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（列单词表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 taking notes carefully .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认真记笔记）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by having the English class carefully .         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（认真上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295200" y="21420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 stud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7"/>
          <p:cNvSpPr/>
          <p:nvPr/>
        </p:nvSpPr>
        <p:spPr>
          <a:xfrm>
            <a:off x="395280" y="0"/>
            <a:ext cx="647640" cy="549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9528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a  Read the article and complete the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333360"/>
            <a:ext cx="9144000" cy="51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ow do you learn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 week we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sk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students at New Star High School about the best ways to learn more English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an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id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y learnt by using Engli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Some students had more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specifi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ggestions. Lillian Li, for example, said the best way to learn new words wa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 reading English magazi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She said that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memoriz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the words of pop song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lso helped a little. When we asked about studying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gramma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she said, “I never study grammar. It’s too bor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58920" y="53737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specifi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明确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详细而精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908000" y="580536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memorize(memorizing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记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背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276720" y="62784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gramma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法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3203640" y="162864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0" y="2565360"/>
            <a:ext cx="10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5200" y="2400120"/>
            <a:ext cx="7743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Ways of learning Englis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2602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i Ming feels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differentl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He’s been learning English for six years and really loves it. He think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tudying gramma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a great way to learn a language. He also thinks that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atching English movi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n’t a bad way because he can watch the actors say the words. Sometimes, however, he finds watching movies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frustra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because the people speak too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42210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differentl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同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区别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4797360"/>
            <a:ext cx="81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frustr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失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沮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厌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frustra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令人沮丧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令人失望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609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快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迅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2340000" y="76500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u Chang said that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joining the English clu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t school was the best way to improve her English. Students get lots of practice and they also have fun. She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ad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 that having conversations with friends was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helpful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at 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“We get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bout something and then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end u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speaking in Chinese,” s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4508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add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又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继续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00720" y="3500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not at 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根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;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全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1280" y="5373720"/>
            <a:ext cx="907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激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兴奋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get excited about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…感到兴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076720" y="5157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end up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结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告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971640" y="249228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2843280" y="249228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4932360" y="256536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3708360" y="314172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26028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疑难解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  He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sk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his mother to buy him a new bicycle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请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母亲给他买一辆新自行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0" y="184464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an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said they learnt by using English .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许多（学生）说他们通过使用英语来学习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an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这里是代词，而不是形容词，意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any students.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ny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s a large number of something.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 can put away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n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of these plates . We don’t need this many.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把许多盘子收起来，用不着这么多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785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   I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el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frustrated at that time.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时，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觉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沮丧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类似的还有请同学们在学习中注意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95280" y="2708280"/>
            <a:ext cx="83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. not at all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根本不，全然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. My brother did not like the scarf at all.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no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常可以和助动词结合在一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at all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放在句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0" y="1071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5. get excited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变得兴奋起来   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get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是系动词，有“逐渐变得”的含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 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adj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get mad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气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 clea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变得清楚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 long journey got the children all tired.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途旅行使得孩子们疲惫不堪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0" y="26028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6. end up doing sth   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终止做某事，结束做某事  后面加动名词短语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相当于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finish doing sth . </a:t>
            </a:r>
            <a:br>
              <a:rPr sz="3600"/>
            </a:b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但要注意与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stop doing sth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的区别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eg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We had to stop singing because somebody knocked at the door.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另外，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end up with … 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以…结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 party ended up with her singing.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会以她的歌唱而告终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607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azines, the best 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Memorizing the words of pop songs, help a 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Never study grammar, too b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Lillian 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Lillian L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认为学英语的最好方法是用英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记住单词的最好方法是阅读英文报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记住流行歌曲的歌词也是有一些帮助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我从来不学语法。太烦人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movies_collection-20021213-1101-14"/>
          <p:cNvPicPr/>
          <p:nvPr/>
        </p:nvPicPr>
        <p:blipFill>
          <a:blip r:embed="rId1"/>
          <a:stretch/>
        </p:blipFill>
        <p:spPr>
          <a:xfrm>
            <a:off x="6262560" y="2205000"/>
            <a:ext cx="2881440" cy="4362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Wei M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192320"/>
            <a:ext cx="83912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Studying grammar, a great w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atching Englis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es, not a bad w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ometimes, find 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ustrating, the peop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 too quickl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movies_collection-20021213-1101-14"/>
          <p:cNvPicPr/>
          <p:nvPr/>
        </p:nvPicPr>
        <p:blipFill>
          <a:blip r:embed="rId1"/>
          <a:stretch/>
        </p:blipFill>
        <p:spPr>
          <a:xfrm>
            <a:off x="6262560" y="2349360"/>
            <a:ext cx="2881440" cy="4362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Wei M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90360"/>
            <a:ext cx="86076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学习英语有六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认为学习英语的最好方法是学习语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英文电影也不是坏方法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我可以看见演员说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，有时候我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电影也挺让人沮丧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人们讲话太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384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How do you study Chinese and Engl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00080" y="3500280"/>
            <a:ext cx="2071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 skills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000680" y="2928960"/>
            <a:ext cx="25002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Writing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左大括号 11"/>
          <p:cNvSpPr/>
          <p:nvPr/>
        </p:nvSpPr>
        <p:spPr>
          <a:xfrm>
            <a:off x="3143160" y="3143160"/>
            <a:ext cx="357120" cy="19288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928880"/>
              <a:gd name="textAreaBottom" fmla="*/ 19198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57360" y="237600"/>
            <a:ext cx="50371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u Ch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1080" y="100476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the English club, the best way to improv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 lots of practice and have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Having conversations with friends, not helpful, at all. End up speaking in Chine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Wei M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5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入英语俱乐部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高英语的最好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生们得到很多训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很有乐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朋友们练习对话根本没有帮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特别兴奋，然后就以讲汉语结束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28600" y="912960"/>
          <a:ext cx="8610480" cy="5640120"/>
        </p:xfrm>
        <a:graphic>
          <a:graphicData uri="http://schemas.openxmlformats.org/drawingml/2006/table">
            <a:tbl>
              <a:tblPr/>
              <a:tblGrid>
                <a:gridCol w="1905120"/>
                <a:gridCol w="2400120"/>
                <a:gridCol w="2152800"/>
                <a:gridCol w="2152440"/>
              </a:tblGrid>
              <a:tr h="560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s of learning 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ccess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llian 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 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u Ch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31"/>
          <p:cNvSpPr/>
          <p:nvPr/>
        </p:nvSpPr>
        <p:spPr>
          <a:xfrm>
            <a:off x="2438280" y="22543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udying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4572000" y="2055960"/>
            <a:ext cx="213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emorizing the words of pop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6934320" y="2057400"/>
            <a:ext cx="190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ading English magaz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4"/>
          <p:cNvSpPr/>
          <p:nvPr/>
        </p:nvSpPr>
        <p:spPr>
          <a:xfrm>
            <a:off x="2209680" y="357984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metimes the people speak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4876920" y="3579840"/>
            <a:ext cx="167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tching English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6934320" y="3778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udying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7"/>
          <p:cNvSpPr/>
          <p:nvPr/>
        </p:nvSpPr>
        <p:spPr>
          <a:xfrm>
            <a:off x="2286000" y="51037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ving conversations with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6781680" y="5302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ining the English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9"/>
          <p:cNvSpPr/>
          <p:nvPr/>
        </p:nvSpPr>
        <p:spPr>
          <a:xfrm>
            <a:off x="380880" y="228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ete the ch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参考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think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arn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ing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English by memoriz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ing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the words of pop song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great/good wa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not a bad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helpful/ isn’t helpful at al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s a lot/ helps a litt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7632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根据课文内容判断下列句子的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F):                                (    )1. Many students thought the best way to learn English is to use it.                                                                                            (    )2. Lilian Li thought the best way to learn new words was by memorizing them.                                                                     (    )3. Lilian Li never studied grammar.                                           (    )4. Wei Ming has learned English for seventy-two months.                                                                                                             (    )5. Wei Ming thought watching English movies and studying grammar are great ways to learn a language. (    )6. Joining the English club at school was Liu Chang’s best way to improve her English.                                                       (    )7. The students in the club could get lots of practice.              (    )8. Liu Chang thought having conversations with friends was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280" y="53352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222408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52280" y="266688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12760" y="43434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12760" y="518148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12760" y="13860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28600" y="350532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28600" y="565308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80880" y="3049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  PAIRWORK  Role play. Student A, pretend to be one of the people in 3a. Student B, interview Student A about learning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24000" y="1484280"/>
            <a:ext cx="83595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: I’m doing a survey about learning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an I ask you some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B: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: Great! What’s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B: Wei 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: And how do you learn English, 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B: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04840" y="77760"/>
            <a:ext cx="85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PAIRWORK  Check(</a:t>
            </a: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what you do to learn English. Then interview your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8240" y="914400"/>
          <a:ext cx="8791560" cy="5484960"/>
        </p:xfrm>
        <a:graphic>
          <a:graphicData uri="http://schemas.openxmlformats.org/drawingml/2006/table">
            <a:tbl>
              <a:tblPr/>
              <a:tblGrid>
                <a:gridCol w="2098440"/>
                <a:gridCol w="838440"/>
                <a:gridCol w="1396800"/>
                <a:gridCol w="1047960"/>
                <a:gridCol w="836640"/>
                <a:gridCol w="1466640"/>
                <a:gridCol w="1106640"/>
              </a:tblGrid>
              <a:tr h="463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 thi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partner does thi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vocabulary l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English books/magaz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gram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an English not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to casset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k the teacher ques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 English-language T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42960" y="2357280"/>
            <a:ext cx="7572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: Do you write vocabulary l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: Oh, yes. I do it of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"/>
          <p:cNvSpPr/>
          <p:nvPr/>
        </p:nvSpPr>
        <p:spPr>
          <a:xfrm>
            <a:off x="627840" y="642960"/>
            <a:ext cx="366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AIR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Arial"/>
              </a:rPr>
              <a:t>How do you learn Chinese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？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857240"/>
            <a:ext cx="763092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learn Chinese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by using it.</a:t>
            </a:r>
            <a:r>
              <a:rPr b="1" lang="zh-CN" sz="3600" spc="-1" strike="noStrike" u="sng">
                <a:solidFill>
                  <a:srgbClr val="339966"/>
                </a:solidFill>
                <a:uFillTx/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857160" y="257184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you use Chine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4280" y="3643200"/>
            <a:ext cx="381024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 learn Chinese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 Black"/>
              </a:rPr>
              <a:t>by listening  to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714320"/>
            <a:ext cx="5500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sset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radi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rents spea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riends speaki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13880" y="428400"/>
            <a:ext cx="5775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都讲中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By speak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it every day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42960" y="2071800"/>
            <a:ext cx="77724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天都读中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read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t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text books, newspapers, magazines, story books …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watching TV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By watching mov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记住流行歌曲歌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83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y memorizing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the words of pop song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e don’t learn Chinese by joining Chinese clubs/studying gramm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500040" y="314316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Arial"/>
              </a:rPr>
              <a:t>How do you learn Englis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00040" y="4214880"/>
            <a:ext cx="5818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I learn English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y using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Specific suggestions: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I learn English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73800" cy="33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by hav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English class carefully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by tak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otes carefully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by finish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y homework seriously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4-03-01T00:53:39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