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12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003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003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1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1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1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2212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003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003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221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221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2212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0032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712600"/>
            <a:ext cx="77724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ad2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8fad2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8fad2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3084480" y="1557360"/>
            <a:ext cx="2927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BD-AD=32 km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AD-CD=27 km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d4d4d"/>
                </a:solidFill>
                <a:uFillTx/>
                <a:latin typeface="微软雅黑"/>
              </a:rPr>
              <a:t>路程差：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微软雅黑"/>
              </a:rPr>
              <a:t>BD-CD=59 km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BD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：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CD=5:4 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（路程比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=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速度比）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BC=59÷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（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5-4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）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（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5+4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）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=531 km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AB=AC+BC=27+531=</a:t>
            </a:r>
            <a:r>
              <a:rPr b="0" lang="zh-CN" sz="2400" spc="-1" strike="noStrike">
                <a:solidFill>
                  <a:srgbClr val="8fad2f"/>
                </a:solidFill>
                <a:latin typeface="微软雅黑"/>
              </a:rPr>
              <a:t> </a:t>
            </a: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558 km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067280" y="919080"/>
            <a:ext cx="504720" cy="1881360"/>
            <a:chOff x="4067280" y="919080"/>
            <a:chExt cx="504720" cy="1881360"/>
          </a:xfrm>
        </p:grpSpPr>
        <p:sp>
          <p:nvSpPr>
            <p:cNvPr id="196" name=""/>
            <p:cNvSpPr/>
            <p:nvPr/>
          </p:nvSpPr>
          <p:spPr>
            <a:xfrm>
              <a:off x="4067280" y="919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D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69080" y="928440"/>
              <a:ext cx="360" cy="187200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692360" y="1197000"/>
            <a:ext cx="5616000" cy="460080"/>
            <a:chOff x="1692360" y="1197000"/>
            <a:chExt cx="5616000" cy="460080"/>
          </a:xfrm>
        </p:grpSpPr>
        <p:cxnSp>
          <p:nvCxnSpPr>
            <p:cNvPr id="199" name=""/>
            <p:cNvCxnSpPr/>
            <p:nvPr/>
          </p:nvCxnSpPr>
          <p:spPr>
            <a:xfrm>
              <a:off x="2082240" y="141300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200" name=""/>
            <p:cNvSpPr/>
            <p:nvPr/>
          </p:nvSpPr>
          <p:spPr>
            <a:xfrm>
              <a:off x="2084040" y="1341360"/>
              <a:ext cx="1080" cy="14472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2880" y="1341360"/>
              <a:ext cx="360" cy="14472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2360" y="119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32880" y="1197000"/>
              <a:ext cx="3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060720" y="1855800"/>
            <a:ext cx="3809520" cy="503280"/>
            <a:chOff x="3060720" y="1855800"/>
            <a:chExt cx="3809520" cy="503280"/>
          </a:xfrm>
        </p:grpSpPr>
        <p:sp>
          <p:nvSpPr>
            <p:cNvPr id="205" name="箭头 712"/>
            <p:cNvSpPr/>
            <p:nvPr/>
          </p:nvSpPr>
          <p:spPr>
            <a:xfrm flipH="1">
              <a:off x="4138920" y="2347920"/>
              <a:ext cx="273132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" name="箭头 712"/>
            <p:cNvSpPr/>
            <p:nvPr/>
          </p:nvSpPr>
          <p:spPr>
            <a:xfrm>
              <a:off x="3060720" y="1855800"/>
              <a:ext cx="100656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57480" y="905040"/>
            <a:ext cx="504720" cy="1881000"/>
            <a:chOff x="3057480" y="905040"/>
            <a:chExt cx="504720" cy="1881000"/>
          </a:xfrm>
        </p:grpSpPr>
        <p:sp>
          <p:nvSpPr>
            <p:cNvPr id="208" name=""/>
            <p:cNvSpPr/>
            <p:nvPr/>
          </p:nvSpPr>
          <p:spPr>
            <a:xfrm>
              <a:off x="3059280" y="914400"/>
              <a:ext cx="360" cy="187164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57480" y="9050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C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124000" y="992160"/>
            <a:ext cx="1008000" cy="852480"/>
            <a:chOff x="2124000" y="992160"/>
            <a:chExt cx="1008000" cy="852480"/>
          </a:xfrm>
        </p:grpSpPr>
        <p:sp>
          <p:nvSpPr>
            <p:cNvPr id="211" name="箭头 712"/>
            <p:cNvSpPr/>
            <p:nvPr/>
          </p:nvSpPr>
          <p:spPr>
            <a:xfrm>
              <a:off x="2124000" y="1837800"/>
              <a:ext cx="935640" cy="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24360" y="99216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27km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692360" y="1639800"/>
            <a:ext cx="5622840" cy="948960"/>
            <a:chOff x="1692360" y="1639800"/>
            <a:chExt cx="5622840" cy="948960"/>
          </a:xfrm>
        </p:grpSpPr>
        <p:sp>
          <p:nvSpPr>
            <p:cNvPr id="214" name=""/>
            <p:cNvSpPr/>
            <p:nvPr/>
          </p:nvSpPr>
          <p:spPr>
            <a:xfrm>
              <a:off x="1692360" y="163980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慢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71240" y="212904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快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例题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fad2f"/>
                </a:solidFill>
                <a:latin typeface="微软雅黑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甲、乙二人练习跑步，若乙先跑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10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米，则甲跑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5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秒钟可追上乙；若乙先跑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2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秒钟，则甲跑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4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秒钟就能追上乙。问甲、乙的速度？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35280" y="4221000"/>
            <a:ext cx="5616000" cy="457200"/>
            <a:chOff x="1835280" y="4221000"/>
            <a:chExt cx="5616000" cy="457200"/>
          </a:xfrm>
        </p:grpSpPr>
        <p:cxnSp>
          <p:nvCxnSpPr>
            <p:cNvPr id="219" name=""/>
            <p:cNvCxnSpPr/>
            <p:nvPr/>
          </p:nvCxnSpPr>
          <p:spPr>
            <a:xfrm>
              <a:off x="2225160" y="443628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2226960" y="4365000"/>
              <a:ext cx="108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75800" y="4365000"/>
              <a:ext cx="36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5280" y="4221360"/>
              <a:ext cx="43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75800" y="4221000"/>
              <a:ext cx="37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68360" y="3357720"/>
            <a:ext cx="3384720" cy="569520"/>
            <a:chOff x="2268360" y="3357720"/>
            <a:chExt cx="3384720" cy="569520"/>
          </a:xfrm>
        </p:grpSpPr>
        <p:sp>
          <p:nvSpPr>
            <p:cNvPr id="225" name="箭头 712"/>
            <p:cNvSpPr/>
            <p:nvPr/>
          </p:nvSpPr>
          <p:spPr>
            <a:xfrm>
              <a:off x="2268360" y="3926160"/>
              <a:ext cx="338112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箭头 712"/>
            <p:cNvSpPr/>
            <p:nvPr/>
          </p:nvSpPr>
          <p:spPr>
            <a:xfrm>
              <a:off x="3601080" y="3357720"/>
              <a:ext cx="20520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3070080"/>
            <a:ext cx="576360" cy="1021320"/>
            <a:chOff x="1619280" y="3070080"/>
            <a:chExt cx="576360" cy="1021320"/>
          </a:xfrm>
        </p:grpSpPr>
        <p:sp>
          <p:nvSpPr>
            <p:cNvPr id="228" name=""/>
            <p:cNvSpPr/>
            <p:nvPr/>
          </p:nvSpPr>
          <p:spPr>
            <a:xfrm>
              <a:off x="1651680" y="30700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19280" y="36316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0" name="箭头 712"/>
          <p:cNvSpPr/>
          <p:nvPr/>
        </p:nvSpPr>
        <p:spPr>
          <a:xfrm>
            <a:off x="2268360" y="3357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292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10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5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68360" y="5013360"/>
            <a:ext cx="2519640" cy="569520"/>
            <a:chOff x="2268360" y="5013360"/>
            <a:chExt cx="2519640" cy="569520"/>
          </a:xfrm>
        </p:grpSpPr>
        <p:sp>
          <p:nvSpPr>
            <p:cNvPr id="234" name="箭头 712"/>
            <p:cNvSpPr/>
            <p:nvPr/>
          </p:nvSpPr>
          <p:spPr>
            <a:xfrm>
              <a:off x="2268360" y="5581800"/>
              <a:ext cx="251676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" name="箭头 712"/>
            <p:cNvSpPr/>
            <p:nvPr/>
          </p:nvSpPr>
          <p:spPr>
            <a:xfrm>
              <a:off x="3260520" y="5013360"/>
              <a:ext cx="15274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692360" y="4726080"/>
            <a:ext cx="574200" cy="1021320"/>
            <a:chOff x="1692360" y="4726080"/>
            <a:chExt cx="574200" cy="1021320"/>
          </a:xfrm>
        </p:grpSpPr>
        <p:sp>
          <p:nvSpPr>
            <p:cNvPr id="237" name=""/>
            <p:cNvSpPr/>
            <p:nvPr/>
          </p:nvSpPr>
          <p:spPr>
            <a:xfrm>
              <a:off x="1724400" y="4726080"/>
              <a:ext cx="5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92360" y="5287680"/>
              <a:ext cx="5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9" name="箭头 712"/>
          <p:cNvSpPr/>
          <p:nvPr/>
        </p:nvSpPr>
        <p:spPr>
          <a:xfrm>
            <a:off x="2268360" y="501336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45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2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5280" y="5157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4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68360" y="3286080"/>
            <a:ext cx="217800" cy="2374920"/>
            <a:chOff x="2268360" y="3286080"/>
            <a:chExt cx="217800" cy="2374920"/>
          </a:xfrm>
        </p:grpSpPr>
        <p:sp>
          <p:nvSpPr>
            <p:cNvPr id="243" name=""/>
            <p:cNvSpPr/>
            <p:nvPr/>
          </p:nvSpPr>
          <p:spPr>
            <a:xfrm>
              <a:off x="2269080" y="3297960"/>
              <a:ext cx="0" cy="236304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8360" y="3286080"/>
              <a:ext cx="21780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093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解：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5s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追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10m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，速度差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路程差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÷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时间：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10÷5=2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（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m/s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）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跑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2s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，甲需要追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4s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，也就是追了：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4×2=8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（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m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）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的速度：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8÷2=4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（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m/s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） 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甲的速度：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4+2=6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（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m/s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）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63640" y="2205000"/>
            <a:ext cx="5616360" cy="457200"/>
            <a:chOff x="1763640" y="2205000"/>
            <a:chExt cx="5616360" cy="457200"/>
          </a:xfrm>
        </p:grpSpPr>
        <p:cxnSp>
          <p:nvCxnSpPr>
            <p:cNvPr id="248" name=""/>
            <p:cNvCxnSpPr/>
            <p:nvPr/>
          </p:nvCxnSpPr>
          <p:spPr>
            <a:xfrm>
              <a:off x="2153520" y="242028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2155320" y="2349000"/>
              <a:ext cx="108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04520" y="2349000"/>
              <a:ext cx="36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640" y="2205360"/>
              <a:ext cx="43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4520" y="2205000"/>
              <a:ext cx="37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195640" y="1341360"/>
            <a:ext cx="3384000" cy="569520"/>
            <a:chOff x="2195640" y="1341360"/>
            <a:chExt cx="3384000" cy="569520"/>
          </a:xfrm>
        </p:grpSpPr>
        <p:sp>
          <p:nvSpPr>
            <p:cNvPr id="254" name="箭头 712"/>
            <p:cNvSpPr/>
            <p:nvPr/>
          </p:nvSpPr>
          <p:spPr>
            <a:xfrm>
              <a:off x="2195640" y="1909800"/>
              <a:ext cx="338076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5" name="箭头 712"/>
            <p:cNvSpPr/>
            <p:nvPr/>
          </p:nvSpPr>
          <p:spPr>
            <a:xfrm>
              <a:off x="3528000" y="1341360"/>
              <a:ext cx="205164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47640" y="1052640"/>
            <a:ext cx="576360" cy="1021320"/>
            <a:chOff x="1547640" y="1052640"/>
            <a:chExt cx="576360" cy="1021320"/>
          </a:xfrm>
        </p:grpSpPr>
        <p:sp>
          <p:nvSpPr>
            <p:cNvPr id="257" name=""/>
            <p:cNvSpPr/>
            <p:nvPr/>
          </p:nvSpPr>
          <p:spPr>
            <a:xfrm>
              <a:off x="1580040" y="105264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47640" y="161424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9" name="箭头 712"/>
          <p:cNvSpPr/>
          <p:nvPr/>
        </p:nvSpPr>
        <p:spPr>
          <a:xfrm>
            <a:off x="2195640" y="1339920"/>
            <a:ext cx="12967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9079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10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0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5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95640" y="2997360"/>
            <a:ext cx="2518920" cy="569520"/>
            <a:chOff x="2195640" y="2997360"/>
            <a:chExt cx="2518920" cy="569520"/>
          </a:xfrm>
        </p:grpSpPr>
        <p:sp>
          <p:nvSpPr>
            <p:cNvPr id="263" name="箭头 712"/>
            <p:cNvSpPr/>
            <p:nvPr/>
          </p:nvSpPr>
          <p:spPr>
            <a:xfrm>
              <a:off x="2195640" y="3565800"/>
              <a:ext cx="2516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4" name="箭头 712"/>
            <p:cNvSpPr/>
            <p:nvPr/>
          </p:nvSpPr>
          <p:spPr>
            <a:xfrm>
              <a:off x="3187440" y="2997360"/>
              <a:ext cx="152712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19280" y="2708280"/>
            <a:ext cx="576360" cy="1021320"/>
            <a:chOff x="1619280" y="2708280"/>
            <a:chExt cx="576360" cy="1021320"/>
          </a:xfrm>
        </p:grpSpPr>
        <p:sp>
          <p:nvSpPr>
            <p:cNvPr id="266" name=""/>
            <p:cNvSpPr/>
            <p:nvPr/>
          </p:nvSpPr>
          <p:spPr>
            <a:xfrm>
              <a:off x="1651680" y="27082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32698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8" name="箭头 712"/>
          <p:cNvSpPr/>
          <p:nvPr/>
        </p:nvSpPr>
        <p:spPr>
          <a:xfrm>
            <a:off x="2195640" y="299736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2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64000" y="3139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4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195640" y="1268280"/>
            <a:ext cx="217440" cy="2376720"/>
            <a:chOff x="2195640" y="1268280"/>
            <a:chExt cx="217440" cy="2376720"/>
          </a:xfrm>
        </p:grpSpPr>
        <p:sp>
          <p:nvSpPr>
            <p:cNvPr id="272" name=""/>
            <p:cNvSpPr/>
            <p:nvPr/>
          </p:nvSpPr>
          <p:spPr>
            <a:xfrm>
              <a:off x="2196360" y="1280160"/>
              <a:ext cx="0" cy="236484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95640" y="1268280"/>
              <a:ext cx="21744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单相遇追及问题知识点总结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在研究相遇和追及问题时，一般都隐含以下两种条件：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(1)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在整个被研究的运动过程中，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2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个物体所运行的时间相同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(2)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在整个运行过程中，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2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个物体所走的是同一路径。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763640" y="3213000"/>
            <a:ext cx="54500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Verdana"/>
              </a:rPr>
              <a:t>同学们加油啦！</a:t>
            </a:r>
            <a:endParaRPr b="0" lang="en-US" sz="4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Verdana"/>
              </a:rPr>
              <a:t>谢谢大家！</a:t>
            </a:r>
            <a:endParaRPr b="0" lang="en-US" sz="4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12600"/>
            <a:ext cx="77724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行程专题（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1" lang="en-US" sz="4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050920" y="393372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ff"/>
                </a:solidFill>
                <a:uFillTx/>
                <a:latin typeface="微软雅黑"/>
              </a:rPr>
              <a:t>简单相遇追及问题</a:t>
            </a:r>
            <a:endParaRPr b="0" lang="en-US" sz="44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d4d4d"/>
                </a:solidFill>
                <a:latin typeface="Verdana"/>
              </a:rPr>
              <a:t>行程问题的基本公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Verdana"/>
              </a:rPr>
              <a:t>关于路程，速度，时间三者的基本关系：</a:t>
            </a:r>
            <a:endParaRPr b="0" lang="en-US" sz="32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路程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速度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×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时间    可简记为：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s = v×t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时间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路程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÷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速度    可简记为：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t = s÷v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速度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路程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÷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时间    可简记为：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v = s÷t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f1b39"/>
                </a:solidFill>
                <a:latin typeface="Verdana"/>
              </a:rPr>
              <a:t>相同时间内，</a:t>
            </a:r>
            <a:r>
              <a:rPr b="0" lang="zh-CN" sz="2800" spc="-1" strike="noStrike" u="sng">
                <a:solidFill>
                  <a:srgbClr val="ef1b39"/>
                </a:solidFill>
                <a:uFillTx/>
                <a:latin typeface="Verdana"/>
              </a:rPr>
              <a:t>路程比</a:t>
            </a:r>
            <a:r>
              <a:rPr b="0" lang="zh-CN" sz="2800" spc="-1" strike="noStrike" u="sng">
                <a:solidFill>
                  <a:srgbClr val="ef1b39"/>
                </a:solidFill>
                <a:uFillTx/>
                <a:latin typeface="Verdana"/>
              </a:rPr>
              <a:t>=</a:t>
            </a:r>
            <a:r>
              <a:rPr b="0" lang="zh-CN" sz="2800" spc="-1" strike="noStrike" u="sng">
                <a:solidFill>
                  <a:srgbClr val="ef1b39"/>
                </a:solidFill>
                <a:uFillTx/>
                <a:latin typeface="Verdana"/>
              </a:rPr>
              <a:t>速度比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d4d4d"/>
                </a:solidFill>
                <a:latin typeface="Verdana"/>
              </a:rPr>
              <a:t>行程问题的基本公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Verdana"/>
              </a:rPr>
              <a:t>平均速度的基本关系式为：</a:t>
            </a:r>
            <a:endParaRPr b="0" lang="en-US" sz="32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平均速度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全部路程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÷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全部时间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全部时间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全部路程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÷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平均速度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全部路程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平均速度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×</a:t>
            </a:r>
            <a:r>
              <a:rPr b="0" lang="zh-CN" sz="2800" spc="-1" strike="noStrike">
                <a:solidFill>
                  <a:srgbClr val="4d4d4d"/>
                </a:solidFill>
                <a:latin typeface="Verdana"/>
              </a:rPr>
              <a:t>全部时间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相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甲乙从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AB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两地同时出发，两人在途中相遇，实际上是甲和乙一起行了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A,B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之间这段路程，如果两人同时出发，那么 ：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相遇总路程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甲走的路程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+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走的路程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甲的速度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相遇时间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+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的速度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相遇时间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（甲的速度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+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的速度）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相遇时间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速度和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相遇时间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1896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一般地，相遇问题的关系式为：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1896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路程和</a:t>
            </a: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=</a:t>
            </a: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速度和</a:t>
            </a: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×</a:t>
            </a: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相遇时间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相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82880" y="1413000"/>
            <a:ext cx="5616000" cy="460080"/>
            <a:chOff x="1982880" y="1413000"/>
            <a:chExt cx="5616000" cy="460080"/>
          </a:xfrm>
        </p:grpSpPr>
        <p:cxnSp>
          <p:nvCxnSpPr>
            <p:cNvPr id="90" name=""/>
            <p:cNvCxnSpPr/>
            <p:nvPr/>
          </p:nvCxnSpPr>
          <p:spPr>
            <a:xfrm>
              <a:off x="2372760" y="161712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2374560" y="1549440"/>
              <a:ext cx="1080" cy="13680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23400" y="1549440"/>
              <a:ext cx="360" cy="13680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2880" y="14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23400" y="1413000"/>
              <a:ext cx="3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11280" y="2060640"/>
            <a:ext cx="4749840" cy="433440"/>
            <a:chOff x="2411280" y="2060640"/>
            <a:chExt cx="4749840" cy="433440"/>
          </a:xfrm>
        </p:grpSpPr>
        <p:sp>
          <p:nvSpPr>
            <p:cNvPr id="96" name="箭头 712"/>
            <p:cNvSpPr/>
            <p:nvPr/>
          </p:nvSpPr>
          <p:spPr>
            <a:xfrm>
              <a:off x="2411280" y="2060640"/>
              <a:ext cx="23752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箭头 712"/>
            <p:cNvSpPr/>
            <p:nvPr/>
          </p:nvSpPr>
          <p:spPr>
            <a:xfrm flipH="1">
              <a:off x="4785120" y="2493000"/>
              <a:ext cx="23760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79640" y="1773360"/>
            <a:ext cx="5622840" cy="948960"/>
            <a:chOff x="1979640" y="1773360"/>
            <a:chExt cx="5622840" cy="948960"/>
          </a:xfrm>
        </p:grpSpPr>
        <p:sp>
          <p:nvSpPr>
            <p:cNvPr id="99" name=""/>
            <p:cNvSpPr/>
            <p:nvPr/>
          </p:nvSpPr>
          <p:spPr>
            <a:xfrm>
              <a:off x="1979640" y="177336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58520" y="226260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908000" y="292572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注：相遇时间相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79640" y="4006800"/>
            <a:ext cx="5616360" cy="460080"/>
            <a:chOff x="1979640" y="4006800"/>
            <a:chExt cx="5616360" cy="460080"/>
          </a:xfrm>
        </p:grpSpPr>
        <p:cxnSp>
          <p:nvCxnSpPr>
            <p:cNvPr id="103" name=""/>
            <p:cNvCxnSpPr/>
            <p:nvPr/>
          </p:nvCxnSpPr>
          <p:spPr>
            <a:xfrm>
              <a:off x="2369520" y="422280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2371320" y="4151160"/>
              <a:ext cx="1080" cy="14508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20520" y="4151160"/>
              <a:ext cx="360" cy="14508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79640" y="40071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20520" y="4006800"/>
              <a:ext cx="3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48000" y="4660920"/>
            <a:ext cx="3814920" cy="498240"/>
            <a:chOff x="3348000" y="4660920"/>
            <a:chExt cx="3814920" cy="498240"/>
          </a:xfrm>
        </p:grpSpPr>
        <p:sp>
          <p:nvSpPr>
            <p:cNvPr id="109" name="箭头 712"/>
            <p:cNvSpPr/>
            <p:nvPr/>
          </p:nvSpPr>
          <p:spPr>
            <a:xfrm flipH="1">
              <a:off x="4786200" y="5158080"/>
              <a:ext cx="237672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箭头 712"/>
            <p:cNvSpPr/>
            <p:nvPr/>
          </p:nvSpPr>
          <p:spPr>
            <a:xfrm>
              <a:off x="3348000" y="4660920"/>
              <a:ext cx="14400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13080" y="3714840"/>
            <a:ext cx="1437840" cy="1881000"/>
            <a:chOff x="2413080" y="3714840"/>
            <a:chExt cx="1437840" cy="1881000"/>
          </a:xfrm>
        </p:grpSpPr>
        <p:sp>
          <p:nvSpPr>
            <p:cNvPr id="112" name="箭头 712"/>
            <p:cNvSpPr/>
            <p:nvPr/>
          </p:nvSpPr>
          <p:spPr>
            <a:xfrm>
              <a:off x="2413080" y="4654440"/>
              <a:ext cx="934560" cy="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7640" y="3724200"/>
              <a:ext cx="360" cy="187164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45840" y="371484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D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788000" y="981000"/>
            <a:ext cx="506160" cy="1881360"/>
            <a:chOff x="4788000" y="981000"/>
            <a:chExt cx="506160" cy="1881360"/>
          </a:xfrm>
        </p:grpSpPr>
        <p:sp>
          <p:nvSpPr>
            <p:cNvPr id="116" name=""/>
            <p:cNvSpPr/>
            <p:nvPr/>
          </p:nvSpPr>
          <p:spPr>
            <a:xfrm>
              <a:off x="4789800" y="990360"/>
              <a:ext cx="720" cy="187200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88000" y="981000"/>
              <a:ext cx="5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C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788000" y="3718080"/>
            <a:ext cx="506160" cy="1881000"/>
            <a:chOff x="4788000" y="3718080"/>
            <a:chExt cx="506160" cy="1881000"/>
          </a:xfrm>
        </p:grpSpPr>
        <p:sp>
          <p:nvSpPr>
            <p:cNvPr id="119" name=""/>
            <p:cNvSpPr/>
            <p:nvPr/>
          </p:nvSpPr>
          <p:spPr>
            <a:xfrm>
              <a:off x="4788000" y="3718080"/>
              <a:ext cx="5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C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9800" y="3727440"/>
              <a:ext cx="720" cy="187164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236000" y="3789360"/>
            <a:ext cx="1440" cy="1871640"/>
          </a:xfrm>
          <a:prstGeom prst="line">
            <a:avLst/>
          </a:prstGeom>
          <a:ln w="284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013120" y="4451400"/>
            <a:ext cx="5622840" cy="949680"/>
            <a:chOff x="2013120" y="4451400"/>
            <a:chExt cx="5622840" cy="949680"/>
          </a:xfrm>
        </p:grpSpPr>
        <p:sp>
          <p:nvSpPr>
            <p:cNvPr id="123" name=""/>
            <p:cNvSpPr/>
            <p:nvPr/>
          </p:nvSpPr>
          <p:spPr>
            <a:xfrm>
              <a:off x="2013120" y="445140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2000" y="494136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908000" y="5589720"/>
            <a:ext cx="49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注：总时间不同，相遇时间相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追及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如果设甲走得快，乙走得慢，相同的时间（追及时间）内：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2580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追及路程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2580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甲走的路程</a:t>
            </a: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-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走的路程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2580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甲的速度</a:t>
            </a: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追及时间</a:t>
            </a: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-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的速度</a:t>
            </a: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追及时间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2580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（甲的速度</a:t>
            </a: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-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乙的速度）</a:t>
            </a: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追及时间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2580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＝速度差</a:t>
            </a: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追及时间</a:t>
            </a:r>
            <a:endParaRPr b="0" lang="en-US" sz="2000" spc="-1" strike="noStrike">
              <a:solidFill>
                <a:srgbClr val="8fad2f"/>
              </a:solidFill>
              <a:latin typeface="Verdana"/>
            </a:endParaRPr>
          </a:p>
          <a:p>
            <a:pPr marL="32580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微软雅黑"/>
              </a:rPr>
              <a:t>一般地，追击问题有这样的数量关系：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25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追及路程</a:t>
            </a:r>
            <a:r>
              <a:rPr b="1" lang="en-US" sz="2800" spc="-1" strike="noStrike" u="sng">
                <a:solidFill>
                  <a:srgbClr val="ef1b39"/>
                </a:solidFill>
                <a:uFillTx/>
                <a:latin typeface="微软雅黑"/>
              </a:rPr>
              <a:t>=</a:t>
            </a: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速度差</a:t>
            </a:r>
            <a:r>
              <a:rPr b="1" lang="en-US" sz="2800" spc="-1" strike="noStrike" u="sng">
                <a:solidFill>
                  <a:srgbClr val="ef1b39"/>
                </a:solidFill>
                <a:uFillTx/>
                <a:latin typeface="微软雅黑"/>
              </a:rPr>
              <a:t>×</a:t>
            </a:r>
            <a:r>
              <a:rPr b="1" lang="zh-CN" sz="2800" spc="-1" strike="noStrike" u="sng">
                <a:solidFill>
                  <a:srgbClr val="ef1b39"/>
                </a:solidFill>
                <a:uFillTx/>
                <a:latin typeface="微软雅黑"/>
              </a:rPr>
              <a:t>追及时间</a:t>
            </a: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追及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79640" y="1125360"/>
            <a:ext cx="5616360" cy="460080"/>
            <a:chOff x="1979640" y="1125360"/>
            <a:chExt cx="5616360" cy="460080"/>
          </a:xfrm>
        </p:grpSpPr>
        <p:cxnSp>
          <p:nvCxnSpPr>
            <p:cNvPr id="131" name=""/>
            <p:cNvCxnSpPr/>
            <p:nvPr/>
          </p:nvCxnSpPr>
          <p:spPr>
            <a:xfrm>
              <a:off x="2369520" y="134064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132" name=""/>
            <p:cNvSpPr/>
            <p:nvPr/>
          </p:nvSpPr>
          <p:spPr>
            <a:xfrm>
              <a:off x="2371320" y="1269360"/>
              <a:ext cx="108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20520" y="1269360"/>
              <a:ext cx="36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9640" y="1125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20520" y="1125360"/>
              <a:ext cx="3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413080" y="1846440"/>
            <a:ext cx="2374920" cy="504360"/>
            <a:chOff x="2413080" y="1846440"/>
            <a:chExt cx="2374920" cy="504360"/>
          </a:xfrm>
        </p:grpSpPr>
        <p:sp>
          <p:nvSpPr>
            <p:cNvPr id="137" name="箭头 712"/>
            <p:cNvSpPr/>
            <p:nvPr/>
          </p:nvSpPr>
          <p:spPr>
            <a:xfrm>
              <a:off x="2413080" y="1846440"/>
              <a:ext cx="237492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" name="箭头 712"/>
            <p:cNvSpPr/>
            <p:nvPr/>
          </p:nvSpPr>
          <p:spPr>
            <a:xfrm>
              <a:off x="2413080" y="2349720"/>
              <a:ext cx="107676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81080" y="1644480"/>
            <a:ext cx="574560" cy="876240"/>
            <a:chOff x="1981080" y="1644480"/>
            <a:chExt cx="574560" cy="876240"/>
          </a:xfrm>
        </p:grpSpPr>
        <p:sp>
          <p:nvSpPr>
            <p:cNvPr id="140" name=""/>
            <p:cNvSpPr/>
            <p:nvPr/>
          </p:nvSpPr>
          <p:spPr>
            <a:xfrm>
              <a:off x="2012400" y="1644480"/>
              <a:ext cx="5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2061000"/>
              <a:ext cx="5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92360" y="836640"/>
            <a:ext cx="1800000" cy="1944720"/>
            <a:chOff x="3492360" y="836640"/>
            <a:chExt cx="1800000" cy="1944720"/>
          </a:xfrm>
        </p:grpSpPr>
        <p:grpSp>
          <p:nvGrpSpPr>
            <p:cNvPr id="143" name=""/>
            <p:cNvGrpSpPr/>
            <p:nvPr/>
          </p:nvGrpSpPr>
          <p:grpSpPr>
            <a:xfrm>
              <a:off x="4786920" y="900000"/>
              <a:ext cx="505440" cy="1881360"/>
              <a:chOff x="4786920" y="900000"/>
              <a:chExt cx="505440" cy="1881360"/>
            </a:xfrm>
          </p:grpSpPr>
          <p:sp>
            <p:nvSpPr>
              <p:cNvPr id="144" name=""/>
              <p:cNvSpPr/>
              <p:nvPr/>
            </p:nvSpPr>
            <p:spPr>
              <a:xfrm>
                <a:off x="4788720" y="909360"/>
                <a:ext cx="360" cy="1872000"/>
              </a:xfrm>
              <a:prstGeom prst="line">
                <a:avLst/>
              </a:prstGeom>
              <a:ln w="28440">
                <a:solidFill>
                  <a:srgbClr val="4d4d4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86920" y="90000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C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492360" y="836640"/>
              <a:ext cx="505440" cy="1881360"/>
              <a:chOff x="3492360" y="836640"/>
              <a:chExt cx="505440" cy="1881360"/>
            </a:xfrm>
          </p:grpSpPr>
          <p:sp>
            <p:nvSpPr>
              <p:cNvPr id="147" name=""/>
              <p:cNvSpPr/>
              <p:nvPr/>
            </p:nvSpPr>
            <p:spPr>
              <a:xfrm>
                <a:off x="3494160" y="846000"/>
                <a:ext cx="360" cy="1872000"/>
              </a:xfrm>
              <a:prstGeom prst="line">
                <a:avLst/>
              </a:prstGeom>
              <a:ln w="28440">
                <a:solidFill>
                  <a:srgbClr val="4d4d4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92360" y="83664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D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1835280" y="285444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注：追及时间相同，总路程不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48000" y="3718080"/>
            <a:ext cx="1946160" cy="1887120"/>
            <a:chOff x="3348000" y="3718080"/>
            <a:chExt cx="1946160" cy="1887120"/>
          </a:xfrm>
        </p:grpSpPr>
        <p:grpSp>
          <p:nvGrpSpPr>
            <p:cNvPr id="151" name=""/>
            <p:cNvGrpSpPr/>
            <p:nvPr/>
          </p:nvGrpSpPr>
          <p:grpSpPr>
            <a:xfrm>
              <a:off x="4788720" y="3718080"/>
              <a:ext cx="505440" cy="1881360"/>
              <a:chOff x="4788720" y="3718080"/>
              <a:chExt cx="505440" cy="1881360"/>
            </a:xfrm>
          </p:grpSpPr>
          <p:sp>
            <p:nvSpPr>
              <p:cNvPr id="152" name=""/>
              <p:cNvSpPr/>
              <p:nvPr/>
            </p:nvSpPr>
            <p:spPr>
              <a:xfrm>
                <a:off x="4788720" y="371808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C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90520" y="3727440"/>
                <a:ext cx="360" cy="1872000"/>
              </a:xfrm>
              <a:prstGeom prst="line">
                <a:avLst/>
              </a:prstGeom>
              <a:ln w="28440">
                <a:solidFill>
                  <a:srgbClr val="4d4d4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349800" y="3733560"/>
              <a:ext cx="720" cy="187164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8000" y="3724200"/>
              <a:ext cx="5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D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79640" y="4006800"/>
            <a:ext cx="5616360" cy="460080"/>
            <a:chOff x="1979640" y="4006800"/>
            <a:chExt cx="5616360" cy="460080"/>
          </a:xfrm>
        </p:grpSpPr>
        <p:cxnSp>
          <p:nvCxnSpPr>
            <p:cNvPr id="157" name=""/>
            <p:cNvCxnSpPr/>
            <p:nvPr/>
          </p:nvCxnSpPr>
          <p:spPr>
            <a:xfrm>
              <a:off x="2369520" y="422280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158" name=""/>
            <p:cNvSpPr/>
            <p:nvPr/>
          </p:nvSpPr>
          <p:spPr>
            <a:xfrm>
              <a:off x="2371320" y="4151160"/>
              <a:ext cx="1080" cy="14508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20520" y="4151160"/>
              <a:ext cx="360" cy="14508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9640" y="40071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0520" y="4006800"/>
              <a:ext cx="3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413080" y="4660920"/>
            <a:ext cx="2374560" cy="569520"/>
            <a:chOff x="2413080" y="4660920"/>
            <a:chExt cx="2374560" cy="569520"/>
          </a:xfrm>
        </p:grpSpPr>
        <p:sp>
          <p:nvSpPr>
            <p:cNvPr id="163" name="箭头 712"/>
            <p:cNvSpPr/>
            <p:nvPr/>
          </p:nvSpPr>
          <p:spPr>
            <a:xfrm>
              <a:off x="2413080" y="5229360"/>
              <a:ext cx="2372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箭头 712"/>
            <p:cNvSpPr/>
            <p:nvPr/>
          </p:nvSpPr>
          <p:spPr>
            <a:xfrm>
              <a:off x="3348000" y="4660920"/>
              <a:ext cx="143964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5" name="箭头 712"/>
          <p:cNvSpPr/>
          <p:nvPr/>
        </p:nvSpPr>
        <p:spPr>
          <a:xfrm>
            <a:off x="2413080" y="4654440"/>
            <a:ext cx="934920" cy="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79640" y="4451400"/>
            <a:ext cx="576360" cy="1021320"/>
            <a:chOff x="1979640" y="4451400"/>
            <a:chExt cx="576360" cy="1021320"/>
          </a:xfrm>
        </p:grpSpPr>
        <p:sp>
          <p:nvSpPr>
            <p:cNvPr id="167" name=""/>
            <p:cNvSpPr/>
            <p:nvPr/>
          </p:nvSpPr>
          <p:spPr>
            <a:xfrm>
              <a:off x="2012040" y="445140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甲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79640" y="501300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乙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5589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注：总时间不同，两端总路程相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例题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】（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fad2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一列慢车和一列快车分别从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、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两站相对开出，快车和慢车速度的比是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，慢车先从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站开出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27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千米，快车才从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站开出。相遇时快车和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站的距离比慢车和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站的距离多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32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千米，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、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两站相距多少千米？</a:t>
            </a: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ad2f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211640" y="3571920"/>
            <a:ext cx="504720" cy="1882800"/>
            <a:chOff x="4211640" y="3571920"/>
            <a:chExt cx="504720" cy="1882800"/>
          </a:xfrm>
        </p:grpSpPr>
        <p:sp>
          <p:nvSpPr>
            <p:cNvPr id="173" name=""/>
            <p:cNvSpPr/>
            <p:nvPr/>
          </p:nvSpPr>
          <p:spPr>
            <a:xfrm>
              <a:off x="4211640" y="35719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D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3440" y="3581280"/>
              <a:ext cx="360" cy="187344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835280" y="3851280"/>
            <a:ext cx="5616000" cy="460080"/>
            <a:chOff x="1835280" y="3851280"/>
            <a:chExt cx="5616000" cy="460080"/>
          </a:xfrm>
        </p:grpSpPr>
        <p:cxnSp>
          <p:nvCxnSpPr>
            <p:cNvPr id="176" name=""/>
            <p:cNvCxnSpPr/>
            <p:nvPr/>
          </p:nvCxnSpPr>
          <p:spPr>
            <a:xfrm>
              <a:off x="2225160" y="4066560"/>
              <a:ext cx="4851000" cy="1080"/>
            </a:xfrm>
            <a:prstGeom prst="straightConnector1">
              <a:avLst/>
            </a:prstGeom>
            <a:ln w="50760">
              <a:solidFill>
                <a:srgbClr val="bad16f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2226960" y="3995280"/>
              <a:ext cx="108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75800" y="3995280"/>
              <a:ext cx="360" cy="144360"/>
            </a:xfrm>
            <a:prstGeom prst="line">
              <a:avLst/>
            </a:prstGeom>
            <a:ln w="50760">
              <a:solidFill>
                <a:srgbClr val="bad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35280" y="3851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5800" y="3851280"/>
              <a:ext cx="3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203640" y="4508640"/>
            <a:ext cx="3811320" cy="504360"/>
            <a:chOff x="3203640" y="4508640"/>
            <a:chExt cx="3811320" cy="504360"/>
          </a:xfrm>
        </p:grpSpPr>
        <p:sp>
          <p:nvSpPr>
            <p:cNvPr id="182" name="箭头 712"/>
            <p:cNvSpPr/>
            <p:nvPr/>
          </p:nvSpPr>
          <p:spPr>
            <a:xfrm flipH="1">
              <a:off x="4282560" y="5001840"/>
              <a:ext cx="273240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箭头 712"/>
            <p:cNvSpPr/>
            <p:nvPr/>
          </p:nvSpPr>
          <p:spPr>
            <a:xfrm>
              <a:off x="3203640" y="4508640"/>
              <a:ext cx="10072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201840" y="3559320"/>
            <a:ext cx="505080" cy="1879560"/>
            <a:chOff x="3201840" y="3559320"/>
            <a:chExt cx="505080" cy="1879560"/>
          </a:xfrm>
        </p:grpSpPr>
        <p:sp>
          <p:nvSpPr>
            <p:cNvPr id="185" name=""/>
            <p:cNvSpPr/>
            <p:nvPr/>
          </p:nvSpPr>
          <p:spPr>
            <a:xfrm>
              <a:off x="3203640" y="3568680"/>
              <a:ext cx="360" cy="1870200"/>
            </a:xfrm>
            <a:prstGeom prst="line">
              <a:avLst/>
            </a:prstGeom>
            <a:ln w="284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01840" y="35593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C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268360" y="3645000"/>
            <a:ext cx="1008000" cy="853560"/>
            <a:chOff x="2268360" y="3645000"/>
            <a:chExt cx="1008000" cy="853560"/>
          </a:xfrm>
        </p:grpSpPr>
        <p:sp>
          <p:nvSpPr>
            <p:cNvPr id="188" name="箭头 712"/>
            <p:cNvSpPr/>
            <p:nvPr/>
          </p:nvSpPr>
          <p:spPr>
            <a:xfrm>
              <a:off x="2268360" y="4491720"/>
              <a:ext cx="936000" cy="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68720" y="36450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27km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36720" y="4292640"/>
            <a:ext cx="5622840" cy="948960"/>
            <a:chOff x="1836720" y="4292640"/>
            <a:chExt cx="5622840" cy="948960"/>
          </a:xfrm>
        </p:grpSpPr>
        <p:sp>
          <p:nvSpPr>
            <p:cNvPr id="191" name=""/>
            <p:cNvSpPr/>
            <p:nvPr/>
          </p:nvSpPr>
          <p:spPr>
            <a:xfrm>
              <a:off x="1836720" y="429264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慢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15600" y="47818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快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张少华</dc:creator>
  <dc:description/>
  <dc:language>en-US</dc:language>
  <cp:lastModifiedBy/>
  <dcterms:modified xsi:type="dcterms:W3CDTF">2014-05-14T09:57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19</vt:lpwstr>
  </property>
</Properties>
</file>