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B03-8A76-448D-9C66-B21B26F6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C79-2C73-4DB4-822B-49710FF1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F58-DF48-4D50-AE12-9D1F6BB9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FF6-9F27-4C41-A3C7-25FD9C8D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3307-7C50-4869-B201-1FEAC19E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85CA-9815-41BB-AF96-7545E24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BE95-4E3B-43C3-87E2-CB0FB32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DD80-9018-422C-9E2C-CA6B531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4CC5-95C7-4C73-BA33-44CC6954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BF3B-EFBD-4267-8C63-2E0B72C5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FC1B-E7B2-43A2-B3B0-52C85CE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B0E-854A-4DAF-B50C-8F388D83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995-0876-4AD6-9087-5FCF15A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894E-99B2-4494-8498-275CF18E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EFFA-ED18-47EB-9FCF-0D236565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13E0-7BA0-4947-9C04-F9671100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22F1-53C2-42E7-9EBA-7600C9FD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BDE-A9A3-4410-8A2A-B79149EF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A2AF-8FB0-4A19-86EA-97B09D9F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5064-734A-4D19-87E5-8FB4FDB9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8A7F-CD4E-4523-AF3B-6343D2EE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D18-6DBB-4484-9BCA-3DC32572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5A8-C9FB-4109-AC88-1E1CEE2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88E-B3D2-412C-85E1-147E6806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5BFD-E939-4C39-B668-0EF2FC17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19C6-C33B-4367-BF7D-EAB7B87A0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084480" y="1557360"/>
            <a:ext cx="2927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总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块一：火车过桥（隧道、树）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块二：火车与人的相遇与追及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块三：火车与火车的相遇与追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注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、在分析题目的时候一定得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微软雅黑"/>
              </a:rPr>
              <a:t>结合着图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来进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、转化成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微软雅黑"/>
              </a:rPr>
              <a:t>简单相遇追及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</a:rPr>
              <a:t>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行程专题（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ff"/>
                </a:solidFill>
                <a:uFillTx/>
                <a:latin typeface="Arial"/>
              </a:rPr>
              <a:t>火车过桥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火车过桥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大模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一：火车过桥（隧道、树）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二：火车与人的相遇与追及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三：火车与火车的相遇与追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一：火车过桥（隧道、树）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、火车过桥（隧道）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一个有长度、有速度，一个有长度、但没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总路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车长＋桥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隧道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长度＝火车速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通过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、火车＋树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电线杆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一个有长度、有速度，一个没长度、没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总路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车长＝火车速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通过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已知一列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米火车，穿过一座桥，测得火车从开始进入这座桥到完全出来共用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秒，整列火车完全在这座桥上的时间为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4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秒，求火车的速度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设车速为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米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过桥行驶路程：桥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+200=60×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桥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60×a-20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完全在桥上行驶路程：桥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-200=40×a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桥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40×a+20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60×a-200=40×a+20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出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a=20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14800" y="3321000"/>
            <a:ext cx="91440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二：火车与人的相遇与追及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8720" y="1558440"/>
            <a:ext cx="78595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＋人：一个有长度、有速度，一个没长度、但有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、火车＋迎面行走的人：相当于相遇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总路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车长 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速度＋人的速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迎面错过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、火车＋同向行走的人：相当于追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追及路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车长 ＝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速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人的速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 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追及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小明沿着一条与铁路平行的小路由西向东行走，这时一列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82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米的火车从他背后开来，火车从他身边通过的时间是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秒，这段时间，他行走了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7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米，求这列火车的速度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与小明的路程差就是火车车长；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路程差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速度差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×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时间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火车的速度与小明的速度之差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825÷30=27.5m/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小明的速度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75÷30=2.5m/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的速度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7.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.5=30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：火车走的路程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82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75=900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的速度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900÷30=30m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模块三：火车与火车的相遇与追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火车＋火车：两个都有长度、有速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、错车问题：相当于相遇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路程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快车车长＋慢车车长＝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快车速度＋慢车速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 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错车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、超车问题：相当于追及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路程差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快车车长＋慢车车长＝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快车速度—慢车速度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 ×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超车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例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快车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0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米，慢车长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7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米，两车同向而行，快车追上慢车后，又经过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6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秒才超过慢车；如果相向而行，车头相接后经过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秒两车完全离开。求两列火车的速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</a:rPr>
              <a:t>同向路程差，相向路程和都是两列火车的长度之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两列火车的长度之和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0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74=180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同向，快车与慢车的速度之差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80÷60= 3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相向，快车与慢车的速度之和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180÷12=15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快车的速度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3)÷2= 9m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慢车的速度：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(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3)÷2= 6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张少华</dc:creator>
  <dc:description/>
  <dc:language>en-US</dc:language>
  <cp:lastModifiedBy/>
  <dcterms:modified xsi:type="dcterms:W3CDTF">2014-05-27T06:08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