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693-073C-4CBB-B312-EA7FB346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28E-81A5-442A-9384-F029959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BF7-6358-478B-AB52-73C45F6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FA0-7297-4906-97F3-FB8F454D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C22-011A-4BAC-8C52-F7F038F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598-2C56-4BB1-BBB1-86E1FF83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0C7-9C6B-4C4A-BF28-6C2B14C6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6B7-FC06-4180-A844-D30CEC5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C23-5514-4D15-A906-439E016C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F48-2931-4A79-B225-9029F83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000-4C6E-4940-AC9B-C178327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FA3-7BE4-4ABD-939D-70FB26E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E5F-FEEB-4905-A560-70EB26587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413000"/>
            <a:ext cx="7543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</a:t>
            </a:r>
            <a:r>
              <a:rPr b="0" lang="zh-CN" sz="18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195640" y="981000"/>
            <a:ext cx="4752720" cy="4754520"/>
            <a:chOff x="2195640" y="981000"/>
            <a:chExt cx="4752720" cy="4754520"/>
          </a:xfrm>
        </p:grpSpPr>
        <p:sp>
          <p:nvSpPr>
            <p:cNvPr id="112" name=""/>
            <p:cNvSpPr/>
            <p:nvPr/>
          </p:nvSpPr>
          <p:spPr>
            <a:xfrm>
              <a:off x="2195640" y="981000"/>
              <a:ext cx="475272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3355560"/>
              <a:ext cx="47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98100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916360" y="126828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齐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8600"/>
            <a:ext cx="883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泉   柳    百    春    歌   争   齐   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天   树    水    花   鸣    舞   冬   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1440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9144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99072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4920" y="914400"/>
            <a:ext cx="35049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14400"/>
            <a:ext cx="9903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952880" y="685800"/>
            <a:ext cx="10670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9907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162560" y="9907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65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28526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来了，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</a:t>
            </a:r>
            <a:r>
              <a:rPr b="0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4936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说：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79200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回大地    万物复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绿花红    莺歌燕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冰雪融化    泉水丁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花齐放    百鸟争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5800" y="-12600"/>
            <a:ext cx="8603640" cy="6897600"/>
            <a:chOff x="145800" y="-12600"/>
            <a:chExt cx="8603640" cy="6897600"/>
          </a:xfrm>
        </p:grpSpPr>
        <p:grpSp>
          <p:nvGrpSpPr>
            <p:cNvPr id="48" name=""/>
            <p:cNvGrpSpPr/>
            <p:nvPr/>
          </p:nvGrpSpPr>
          <p:grpSpPr>
            <a:xfrm>
              <a:off x="145800" y="14400"/>
              <a:ext cx="8603640" cy="6870600"/>
              <a:chOff x="145800" y="14400"/>
              <a:chExt cx="8603640" cy="6870600"/>
            </a:xfrm>
          </p:grpSpPr>
          <p:sp>
            <p:nvSpPr>
              <p:cNvPr id="49" name=""/>
              <p:cNvSpPr/>
              <p:nvPr/>
            </p:nvSpPr>
            <p:spPr>
              <a:xfrm>
                <a:off x="4417920" y="4149720"/>
                <a:ext cx="0" cy="1152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45800" y="14400"/>
                <a:ext cx="8603640" cy="6858000"/>
                <a:chOff x="145800" y="14400"/>
                <a:chExt cx="8603640" cy="68580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4357440" y="2001960"/>
                  <a:ext cx="0" cy="1079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" name=""/>
                <p:cNvGrpSpPr/>
                <p:nvPr/>
              </p:nvGrpSpPr>
              <p:grpSpPr>
                <a:xfrm>
                  <a:off x="145800" y="14400"/>
                  <a:ext cx="8603640" cy="6858000"/>
                  <a:chOff x="145800" y="14400"/>
                  <a:chExt cx="8603640" cy="685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57080" y="14400"/>
                    <a:ext cx="0" cy="299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38160" y="14400"/>
                    <a:ext cx="0" cy="1989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H="1">
                    <a:off x="756720" y="3011760"/>
                    <a:ext cx="2520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>
                    <a:off x="1837800" y="2003400"/>
                    <a:ext cx="2520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277800" y="3011760"/>
                    <a:ext cx="0" cy="1152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flipH="1">
                    <a:off x="1261440" y="4164120"/>
                    <a:ext cx="20156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357440" y="14400"/>
                    <a:ext cx="0" cy="1989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062160" y="851040"/>
                    <a:ext cx="0" cy="1152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flipH="1">
                    <a:off x="4430520" y="5315040"/>
                    <a:ext cx="30952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145800" y="5315040"/>
                    <a:ext cx="31316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277800" y="5315040"/>
                    <a:ext cx="0" cy="155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430520" y="5315040"/>
                    <a:ext cx="0" cy="1557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941800" y="5315040"/>
                    <a:ext cx="0" cy="11527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4417560" y="4164120"/>
                    <a:ext cx="31078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526160" y="4164120"/>
                    <a:ext cx="0" cy="2519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4357080" y="1067040"/>
                    <a:ext cx="4392360" cy="5545080"/>
                    <a:chOff x="4357080" y="1067040"/>
                    <a:chExt cx="4392360" cy="554508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5641200" y="1079640"/>
                      <a:ext cx="129528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>
                      <a:off x="4357080" y="3083040"/>
                      <a:ext cx="313164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5654160" y="1079640"/>
                      <a:ext cx="0" cy="198900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7467120" y="1930680"/>
                      <a:ext cx="0" cy="115236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6949440" y="1067040"/>
                      <a:ext cx="0" cy="115236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flipH="1">
                      <a:off x="7454160" y="1930680"/>
                      <a:ext cx="129528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8736840" y="1930680"/>
                      <a:ext cx="12600" cy="46814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6" name=""/>
              <p:cNvSpPr/>
              <p:nvPr/>
            </p:nvSpPr>
            <p:spPr>
              <a:xfrm>
                <a:off x="7958160" y="6524640"/>
                <a:ext cx="502560" cy="3603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33200" y="-12600"/>
              <a:ext cx="502920" cy="345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73080" y="1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82440" y="1052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552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788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199080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4788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75160" y="3214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6240" y="306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35520" y="306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40720" y="314172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407664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23160" y="5229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195640" y="981000"/>
            <a:ext cx="4752720" cy="4754520"/>
            <a:chOff x="2195640" y="981000"/>
            <a:chExt cx="4752720" cy="4754520"/>
          </a:xfrm>
        </p:grpSpPr>
        <p:sp>
          <p:nvSpPr>
            <p:cNvPr id="92" name=""/>
            <p:cNvSpPr/>
            <p:nvPr/>
          </p:nvSpPr>
          <p:spPr>
            <a:xfrm>
              <a:off x="2195640" y="981000"/>
              <a:ext cx="475272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5640" y="3355560"/>
              <a:ext cx="47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98100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941560" y="13273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万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195640" y="981000"/>
            <a:ext cx="4752720" cy="4754520"/>
            <a:chOff x="2195640" y="981000"/>
            <a:chExt cx="4752720" cy="4754520"/>
          </a:xfrm>
        </p:grpSpPr>
        <p:sp>
          <p:nvSpPr>
            <p:cNvPr id="97" name=""/>
            <p:cNvSpPr/>
            <p:nvPr/>
          </p:nvSpPr>
          <p:spPr>
            <a:xfrm>
              <a:off x="2195640" y="981000"/>
              <a:ext cx="475272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5640" y="3355560"/>
              <a:ext cx="47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98100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843280" y="132732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丁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195640" y="981000"/>
            <a:ext cx="4752720" cy="4754520"/>
            <a:chOff x="2195640" y="981000"/>
            <a:chExt cx="4752720" cy="4754520"/>
          </a:xfrm>
        </p:grpSpPr>
        <p:sp>
          <p:nvSpPr>
            <p:cNvPr id="102" name=""/>
            <p:cNvSpPr/>
            <p:nvPr/>
          </p:nvSpPr>
          <p:spPr>
            <a:xfrm>
              <a:off x="2195640" y="981000"/>
              <a:ext cx="475272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5640" y="3355560"/>
              <a:ext cx="47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98100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987640" y="139860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冬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195640" y="981000"/>
            <a:ext cx="4752720" cy="4754520"/>
            <a:chOff x="2195640" y="981000"/>
            <a:chExt cx="4752720" cy="4754520"/>
          </a:xfrm>
        </p:grpSpPr>
        <p:sp>
          <p:nvSpPr>
            <p:cNvPr id="107" name=""/>
            <p:cNvSpPr/>
            <p:nvPr/>
          </p:nvSpPr>
          <p:spPr>
            <a:xfrm>
              <a:off x="2195640" y="981000"/>
              <a:ext cx="4752720" cy="4754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95640" y="3355560"/>
              <a:ext cx="47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981000"/>
              <a:ext cx="0" cy="4751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132000" y="1398600"/>
            <a:ext cx="335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66"/>
                </a:solidFill>
                <a:latin typeface="Arial"/>
                <a:ea typeface="楷体_GB2312"/>
              </a:rPr>
              <a:t>百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5:32:46Z</dcterms:created>
  <dc:creator/>
  <dc:description/>
  <dc:language>en-US</dc:language>
  <cp:lastModifiedBy>微软用户</cp:lastModifiedBy>
  <dcterms:modified xsi:type="dcterms:W3CDTF">2009-02-14T03:05:30Z</dcterms:modified>
  <cp:revision>10</cp:revision>
  <dc:subject/>
  <dc:title>幻灯片 1</dc:title>
</cp:coreProperties>
</file>