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9219-E0D8-417C-AF6C-AE3A1063C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C976-66E4-4146-A70E-615FC7DE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B883-F017-4D72-960A-141625438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2684-EA8A-407D-9A60-F32154068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7C09-773B-4C7A-BF30-5347FB47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7143-C58F-4E21-98BC-3DD84C3F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E19F-0B04-4E7F-BF61-92A21563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E326-0C32-4575-AA80-856822E0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C5B2-EA41-4AEE-9556-4D613DE0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096C-0B55-4150-A9F4-D65F5860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4158-2A5B-4C83-A9A3-DFF7EE20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3F43-AA09-4905-B235-000EF0E0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864D-D32A-454A-8DB5-6231107A74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755640" y="765000"/>
            <a:ext cx="1800360" cy="525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12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cc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楷体_GB2312"/>
              </a:rPr>
              <a:t>柳</a:t>
            </a:r>
            <a:endParaRPr b="1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ffcc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cc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楷体_GB2312"/>
              </a:rPr>
              <a:t>树</a:t>
            </a:r>
            <a:endParaRPr b="1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ffcc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cc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楷体_GB2312"/>
              </a:rPr>
              <a:t>醒</a:t>
            </a:r>
            <a:endParaRPr b="1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ffcc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cc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楷体_GB2312"/>
              </a:rPr>
              <a:t>了</a:t>
            </a:r>
            <a:endParaRPr b="1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ffcc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3" name="">
            <a:hlinkClick r:id="rId2" action="ppaction://hlinksldjump"/>
          </p:cNvPr>
          <p:cNvSpPr/>
          <p:nvPr/>
        </p:nvSpPr>
        <p:spPr>
          <a:xfrm>
            <a:off x="250920" y="6280200"/>
            <a:ext cx="1584360" cy="577800"/>
          </a:xfrm>
          <a:prstGeom prst="ellipse">
            <a:avLst/>
          </a:prstGeom>
          <a:solidFill>
            <a:srgbClr val="ff00ff">
              <a:alpha val="20000"/>
            </a:srgbClr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隶书"/>
              </a:rPr>
              <a:t>春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2050920" y="6280200"/>
            <a:ext cx="1584360" cy="577800"/>
          </a:xfrm>
          <a:prstGeom prst="ellipse">
            <a:avLst/>
          </a:prstGeom>
          <a:solidFill>
            <a:srgbClr val="ff00ff">
              <a:alpha val="20000"/>
            </a:srgbClr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隶书"/>
              </a:rPr>
              <a:t>春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51640" y="6280200"/>
            <a:ext cx="1584360" cy="577800"/>
          </a:xfrm>
          <a:prstGeom prst="ellipse">
            <a:avLst/>
          </a:prstGeom>
          <a:solidFill>
            <a:srgbClr val="ff00ff">
              <a:alpha val="20000"/>
            </a:srgbClr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隶书"/>
              </a:rPr>
              <a:t>春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24720" y="6280200"/>
            <a:ext cx="1584360" cy="577800"/>
          </a:xfrm>
          <a:prstGeom prst="ellipse">
            <a:avLst/>
          </a:prstGeom>
          <a:solidFill>
            <a:srgbClr val="ff00ff">
              <a:alpha val="20000"/>
            </a:srgbClr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隶书"/>
              </a:rPr>
              <a:t>孩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6280200"/>
            <a:ext cx="1584360" cy="577800"/>
          </a:xfrm>
          <a:prstGeom prst="ellipse">
            <a:avLst/>
          </a:prstGeom>
          <a:solidFill>
            <a:srgbClr val="ff00ff">
              <a:alpha val="20000"/>
            </a:srgbClr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隶书"/>
              </a:rPr>
              <a:t>春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60600" y="260280"/>
            <a:ext cx="5901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xǐnɡ   léi    zǎ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苏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醒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春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雷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洗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澡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zhī  ruǎn   shū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柳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枝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软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梳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shāo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lǜ      shu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柳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梢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绿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玩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耍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391480" y="752400"/>
            <a:ext cx="5545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醒  雷  澡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枝  软  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梢  绿  </a:t>
            </a:r>
            <a:r>
              <a:rPr b="1" lang="zh-CN" sz="8800" spc="-1" strike="noStrike">
                <a:solidFill>
                  <a:srgbClr val="ff0066"/>
                </a:solidFill>
                <a:latin typeface="Arial"/>
              </a:rPr>
              <a:t>耍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01400" y="44280"/>
            <a:ext cx="511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春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雷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跟柳树说话了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说着说着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小柳树呀，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醒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了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236000" y="6165720"/>
            <a:ext cx="1584000" cy="578160"/>
          </a:xfrm>
          <a:prstGeom prst="ellipse">
            <a:avLst/>
          </a:prstGeom>
          <a:solidFill>
            <a:srgbClr val="ff00ff">
              <a:alpha val="20000"/>
            </a:srgbClr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隶书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346120" y="1414440"/>
            <a:ext cx="511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春雨给柳树洗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澡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了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洗着洗着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小柳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枝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哟，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软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了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08720" y="6165720"/>
            <a:ext cx="1584360" cy="578160"/>
          </a:xfrm>
          <a:prstGeom prst="ellipse">
            <a:avLst/>
          </a:prstGeom>
          <a:solidFill>
            <a:srgbClr val="ff00ff">
              <a:alpha val="20000"/>
            </a:srgbClr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隶书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920680" y="333360"/>
            <a:ext cx="511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春风给柳树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梳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头了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梳着梳着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小柳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梢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啊，绿了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80360" y="6093000"/>
            <a:ext cx="1584360" cy="577800"/>
          </a:xfrm>
          <a:prstGeom prst="ellipse">
            <a:avLst/>
          </a:prstGeom>
          <a:solidFill>
            <a:srgbClr val="ff00ff">
              <a:alpha val="20000"/>
            </a:srgbClr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隶书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809800" y="260280"/>
            <a:ext cx="52099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Arial"/>
                <a:ea typeface="楷体_GB2312"/>
              </a:rPr>
              <a:t>春燕跟柳树捉迷藏了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Arial"/>
                <a:ea typeface="楷体_GB2312"/>
              </a:rPr>
              <a:t>藏着藏着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Arial"/>
                <a:ea typeface="楷体_GB2312"/>
              </a:rPr>
              <a:t>小柳絮呀，飞了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80360" y="6165720"/>
            <a:ext cx="1584360" cy="578160"/>
          </a:xfrm>
          <a:prstGeom prst="ellipse">
            <a:avLst/>
          </a:prstGeom>
          <a:solidFill>
            <a:srgbClr val="ff00ff">
              <a:alpha val="20000"/>
            </a:srgbClr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隶书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84520" y="687240"/>
            <a:ext cx="429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柳树跟孩子们玩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耍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了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玩着玩着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小朋友们，长高了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36000" y="6165720"/>
            <a:ext cx="1584000" cy="578160"/>
          </a:xfrm>
          <a:prstGeom prst="ellipse">
            <a:avLst/>
          </a:prstGeom>
          <a:solidFill>
            <a:srgbClr val="ff00ff">
              <a:alpha val="20000"/>
            </a:srgbClr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隶书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13:35:54Z</dcterms:created>
  <dc:creator>微软用户</dc:creator>
  <dc:description/>
  <dc:language>en-US</dc:language>
  <cp:lastModifiedBy>微软用户</cp:lastModifiedBy>
  <dcterms:modified xsi:type="dcterms:W3CDTF">2009-02-10T14:30:15Z</dcterms:modified>
  <cp:revision>10</cp:revision>
  <dc:subject/>
  <dc:title>幻灯片 1</dc:title>
</cp:coreProperties>
</file>