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C17-034D-4D5B-888A-95DA6F81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C15-3155-40B5-BF79-3CE20E1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E30-38BA-47E5-9CAE-F5A34C3A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E16-45A9-412B-9F33-942D0A67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6B8-753A-4DFC-904C-613B698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C02-3670-4B4E-BE4B-22E88567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3C8-AD69-4ACF-AEA2-F15F622C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9C3-EAF0-43D3-9C4E-407C6AA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307-FBF9-4024-9947-409840DB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001-FFC5-4CB4-92B4-7254B8D7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91D-6781-42AD-94E6-015930F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A75-6EF4-4971-B442-B84B1FD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AD63-F595-4FA3-94D9-101FAC0D2D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3984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24560" y="-74160"/>
            <a:ext cx="1857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中华人民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国的主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领导人之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中国社会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义改革开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现代化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设的总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师，邓小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理论的创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6346800"/>
            <a:ext cx="8353440" cy="466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91720" y="1197000"/>
            <a:ext cx="7129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邓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平  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经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休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站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  不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扶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栽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  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44280"/>
            <a:ext cx="244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我会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6346800"/>
            <a:ext cx="8353440" cy="46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1658880"/>
            <a:ext cx="9072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邓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 龄                已 经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息 站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扶 亲 栽 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60280"/>
            <a:ext cx="25196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我会认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9444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0:50:04Z</dcterms:created>
  <dc:creator>sss</dc:creator>
  <dc:description/>
  <dc:language>en-US</dc:language>
  <cp:lastModifiedBy>sss</cp:lastModifiedBy>
  <dcterms:modified xsi:type="dcterms:W3CDTF">2007-03-14T14:15:30Z</dcterms:modified>
  <cp:revision>7</cp:revision>
  <dc:subject/>
  <dc:title>幻灯片 1</dc:title>
</cp:coreProperties>
</file>