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46F1-F9F5-4E29-8836-5EB64628C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1E99-36C0-49A1-AB39-E6B78026E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CE80-7D78-4520-8E0C-02ED14FF9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1E29-FCDE-4683-8063-77B0C5A5A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60A7-00E7-4D29-B449-28BD84AC6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F799-5826-474A-9A03-4259A88ED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ACA5-D20D-4187-8D85-5A08ED8D1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5051-5ED2-4879-A624-CB861CC80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7B2E-2208-4F64-98B5-D3CC90C45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9CBA-3A30-45F3-B6B4-9A1D1086B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719C-0213-4020-9012-D53F4C50D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1D7A-130F-4A8F-81F1-6B5F3EF73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ADEEE-E328-4C51-8C5D-0205C3E1983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.xml"/><Relationship Id="rId3" Type="http://schemas.openxmlformats.org/officeDocument/2006/relationships/image" Target="../media/image2.png"/><Relationship Id="rId4" Type="http://schemas.openxmlformats.org/officeDocument/2006/relationships/slide" Target="slide20.xml"/><Relationship Id="rId5" Type="http://schemas.openxmlformats.org/officeDocument/2006/relationships/image" Target="../media/image3.png"/><Relationship Id="rId6" Type="http://schemas.openxmlformats.org/officeDocument/2006/relationships/slide" Target="slide27.xml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" Target="slide2.xml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" Target="slide2.xml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0.xml"/><Relationship Id="rId3" Type="http://schemas.openxmlformats.org/officeDocument/2006/relationships/slide" Target="slide5.xml"/><Relationship Id="rId4" Type="http://schemas.openxmlformats.org/officeDocument/2006/relationships/slide" Target="slide4.xml"/><Relationship Id="rId5" Type="http://schemas.openxmlformats.org/officeDocument/2006/relationships/slide" Target="slide17.xml"/><Relationship Id="rId6" Type="http://schemas.openxmlformats.org/officeDocument/2006/relationships/slide" Target="slide20.xml"/><Relationship Id="rId7" Type="http://schemas.openxmlformats.org/officeDocument/2006/relationships/slide" Target="slide7.xml"/><Relationship Id="rId8" Type="http://schemas.openxmlformats.org/officeDocument/2006/relationships/slide" Target="slide21.xml"/><Relationship Id="rId9" Type="http://schemas.openxmlformats.org/officeDocument/2006/relationships/slide" Target="slide8.xml"/><Relationship Id="rId10" Type="http://schemas.openxmlformats.org/officeDocument/2006/relationships/slide" Target="slide26.xml"/><Relationship Id="rId11" Type="http://schemas.openxmlformats.org/officeDocument/2006/relationships/slide" Target="slide16.xml"/><Relationship Id="rId12" Type="http://schemas.openxmlformats.org/officeDocument/2006/relationships/slide" Target="slide27.xml"/><Relationship Id="rId13" Type="http://schemas.openxmlformats.org/officeDocument/2006/relationships/slide" Target="slide15.xml"/><Relationship Id="rId14" Type="http://schemas.openxmlformats.org/officeDocument/2006/relationships/slide" Target="slide22.xml"/><Relationship Id="rId15" Type="http://schemas.openxmlformats.org/officeDocument/2006/relationships/slide" Target="slide6.xml"/><Relationship Id="rId16" Type="http://schemas.openxmlformats.org/officeDocument/2006/relationships/slide" Target="slide4.xml"/><Relationship Id="rId17" Type="http://schemas.openxmlformats.org/officeDocument/2006/relationships/slide" Target="slide12.xml"/><Relationship Id="rId18" Type="http://schemas.openxmlformats.org/officeDocument/2006/relationships/slide" Target="slide5.xml"/><Relationship Id="rId19" Type="http://schemas.openxmlformats.org/officeDocument/2006/relationships/slide" Target="slide13.xml"/><Relationship Id="rId20" Type="http://schemas.openxmlformats.org/officeDocument/2006/relationships/slide" Target="slide13.xml"/><Relationship Id="rId21" Type="http://schemas.openxmlformats.org/officeDocument/2006/relationships/slide" Target="slide14.xml"/><Relationship Id="rId22" Type="http://schemas.openxmlformats.org/officeDocument/2006/relationships/slide" Target="slide7.xml"/><Relationship Id="rId23" Type="http://schemas.openxmlformats.org/officeDocument/2006/relationships/slide" Target="slide10.xml"/><Relationship Id="rId24" Type="http://schemas.openxmlformats.org/officeDocument/2006/relationships/slide" Target="slide8.xml"/><Relationship Id="rId25" Type="http://schemas.openxmlformats.org/officeDocument/2006/relationships/slide" Target="slide11.xml"/><Relationship Id="rId26" Type="http://schemas.openxmlformats.org/officeDocument/2006/relationships/slide" Target="slide16.xml"/><Relationship Id="rId27" Type="http://schemas.openxmlformats.org/officeDocument/2006/relationships/slide" Target="slide9.xml"/><Relationship Id="rId2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81280" y="2156760"/>
            <a:ext cx="358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7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棉鞋里的阳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030480" y="1535040"/>
            <a:ext cx="3146400" cy="32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ff"/>
                </a:solidFill>
                <a:latin typeface="Times New Roman"/>
              </a:rPr>
              <a:t>眼睛  眼光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ff"/>
                </a:solidFill>
                <a:latin typeface="Times New Roman"/>
              </a:rPr>
              <a:t>字眼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001000" y="56386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8502" y="10800"/>
                </a:moveTo>
                <a:lnTo>
                  <a:pt x="19008" y="3794"/>
                </a:lnTo>
                <a:lnTo>
                  <a:pt x="19008" y="17806"/>
                </a:lnTo>
                <a:close/>
              </a:path>
              <a:path fill="darken" w="24003" h="21600">
                <a:moveTo>
                  <a:pt x="4995" y="3794"/>
                </a:moveTo>
                <a:lnTo>
                  <a:pt x="6657" y="3794"/>
                </a:lnTo>
                <a:lnTo>
                  <a:pt x="6657" y="17806"/>
                </a:lnTo>
                <a:lnTo>
                  <a:pt x="4995" y="17806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606400" y="1600200"/>
            <a:ext cx="4365720" cy="16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66"/>
                </a:solidFill>
                <a:latin typeface="Times New Roman"/>
              </a:rPr>
              <a:t>眼睛  目不转睛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01000" y="56386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8502" y="10800"/>
                </a:moveTo>
                <a:lnTo>
                  <a:pt x="19008" y="3794"/>
                </a:lnTo>
                <a:lnTo>
                  <a:pt x="19008" y="17806"/>
                </a:lnTo>
                <a:close/>
              </a:path>
              <a:path fill="darken" w="24003" h="21600">
                <a:moveTo>
                  <a:pt x="4995" y="3794"/>
                </a:moveTo>
                <a:lnTo>
                  <a:pt x="6657" y="3794"/>
                </a:lnTo>
                <a:lnTo>
                  <a:pt x="6657" y="17806"/>
                </a:lnTo>
                <a:lnTo>
                  <a:pt x="4995" y="17806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3030480" y="1828800"/>
            <a:ext cx="3146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ff"/>
                </a:solidFill>
                <a:latin typeface="Times New Roman"/>
              </a:rPr>
              <a:t>脱下  脱去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ff"/>
                </a:solidFill>
                <a:latin typeface="Times New Roman"/>
              </a:rPr>
              <a:t>脱帽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001000" y="56386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8502" y="10800"/>
                </a:moveTo>
                <a:lnTo>
                  <a:pt x="19008" y="3794"/>
                </a:lnTo>
                <a:lnTo>
                  <a:pt x="19008" y="17806"/>
                </a:lnTo>
                <a:close/>
              </a:path>
              <a:path fill="darken" w="24003" h="21600">
                <a:moveTo>
                  <a:pt x="4995" y="3794"/>
                </a:moveTo>
                <a:lnTo>
                  <a:pt x="6657" y="3794"/>
                </a:lnTo>
                <a:lnTo>
                  <a:pt x="6657" y="17806"/>
                </a:lnTo>
                <a:lnTo>
                  <a:pt x="4995" y="17806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030480" y="1828800"/>
            <a:ext cx="3146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66"/>
                </a:solidFill>
                <a:latin typeface="Times New Roman"/>
              </a:rPr>
              <a:t>躺下  躺着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001000" y="56386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8502" y="10800"/>
                </a:moveTo>
                <a:lnTo>
                  <a:pt x="19008" y="3794"/>
                </a:lnTo>
                <a:lnTo>
                  <a:pt x="19008" y="17806"/>
                </a:lnTo>
                <a:close/>
              </a:path>
              <a:path fill="darken" w="24003" h="21600">
                <a:moveTo>
                  <a:pt x="4995" y="3794"/>
                </a:moveTo>
                <a:lnTo>
                  <a:pt x="6657" y="3794"/>
                </a:lnTo>
                <a:lnTo>
                  <a:pt x="6657" y="17806"/>
                </a:lnTo>
                <a:lnTo>
                  <a:pt x="4995" y="17806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411360" y="1566720"/>
            <a:ext cx="3146400" cy="32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ff"/>
                </a:solidFill>
                <a:latin typeface="Times New Roman"/>
              </a:rPr>
              <a:t>合作  合上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ff"/>
                </a:solidFill>
                <a:latin typeface="Times New Roman"/>
              </a:rPr>
              <a:t>合眼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8001000" y="56386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8502" y="10800"/>
                </a:moveTo>
                <a:lnTo>
                  <a:pt x="19008" y="3794"/>
                </a:lnTo>
                <a:lnTo>
                  <a:pt x="19008" y="17806"/>
                </a:lnTo>
                <a:close/>
              </a:path>
              <a:path fill="darken" w="24003" h="21600">
                <a:moveTo>
                  <a:pt x="4995" y="3794"/>
                </a:moveTo>
                <a:lnTo>
                  <a:pt x="6657" y="3794"/>
                </a:lnTo>
                <a:lnTo>
                  <a:pt x="6657" y="17806"/>
                </a:lnTo>
                <a:lnTo>
                  <a:pt x="4995" y="17806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030480" y="1828800"/>
            <a:ext cx="3146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ff"/>
                </a:solidFill>
                <a:latin typeface="Times New Roman"/>
              </a:rPr>
              <a:t>中午  午饭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ff"/>
                </a:solidFill>
                <a:latin typeface="Times New Roman"/>
              </a:rPr>
              <a:t>午休  午睡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001000" y="56386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8502" y="10800"/>
                </a:moveTo>
                <a:lnTo>
                  <a:pt x="19008" y="3794"/>
                </a:lnTo>
                <a:lnTo>
                  <a:pt x="19008" y="17806"/>
                </a:lnTo>
                <a:close/>
              </a:path>
              <a:path fill="darken" w="24003" h="21600">
                <a:moveTo>
                  <a:pt x="4995" y="3794"/>
                </a:moveTo>
                <a:lnTo>
                  <a:pt x="6657" y="3794"/>
                </a:lnTo>
                <a:lnTo>
                  <a:pt x="6657" y="17806"/>
                </a:lnTo>
                <a:lnTo>
                  <a:pt x="4995" y="17806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030480" y="1828800"/>
            <a:ext cx="3146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ff"/>
                </a:solidFill>
                <a:latin typeface="Times New Roman"/>
              </a:rPr>
              <a:t>盖紧  盖章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ff"/>
                </a:solidFill>
                <a:latin typeface="Times New Roman"/>
              </a:rPr>
              <a:t>盖子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8001000" y="56386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8502" y="10800"/>
                </a:moveTo>
                <a:lnTo>
                  <a:pt x="19008" y="3794"/>
                </a:lnTo>
                <a:lnTo>
                  <a:pt x="19008" y="17806"/>
                </a:lnTo>
                <a:close/>
              </a:path>
              <a:path fill="darken" w="24003" h="21600">
                <a:moveTo>
                  <a:pt x="4995" y="3794"/>
                </a:moveTo>
                <a:lnTo>
                  <a:pt x="6657" y="3794"/>
                </a:lnTo>
                <a:lnTo>
                  <a:pt x="6657" y="17806"/>
                </a:lnTo>
                <a:lnTo>
                  <a:pt x="4995" y="17806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86000" y="1828800"/>
            <a:ext cx="50292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66"/>
                </a:solidFill>
                <a:latin typeface="Times New Roman"/>
              </a:rPr>
              <a:t>照射  照顾 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66"/>
                </a:solidFill>
                <a:latin typeface="Times New Roman"/>
              </a:rPr>
              <a:t>对照  关照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1000" y="56386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8502" y="10800"/>
                </a:moveTo>
                <a:lnTo>
                  <a:pt x="19008" y="3794"/>
                </a:lnTo>
                <a:lnTo>
                  <a:pt x="19008" y="17806"/>
                </a:lnTo>
                <a:close/>
              </a:path>
              <a:path fill="darken" w="24003" h="21600">
                <a:moveTo>
                  <a:pt x="4995" y="3794"/>
                </a:moveTo>
                <a:lnTo>
                  <a:pt x="6657" y="3794"/>
                </a:lnTo>
                <a:lnTo>
                  <a:pt x="6657" y="17806"/>
                </a:lnTo>
                <a:lnTo>
                  <a:pt x="4995" y="17806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"/>
          <p:cNvGraphicFramePr/>
          <p:nvPr/>
        </p:nvGraphicFramePr>
        <p:xfrm>
          <a:off x="1333440" y="2181240"/>
          <a:ext cx="6910560" cy="2639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33440" y="2181240"/>
                    <a:ext cx="6910560" cy="263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330200" y="1197000"/>
            <a:ext cx="626616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给生字找词语朋友。先说说再连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789600" y="5424480"/>
            <a:ext cx="1670040" cy="5256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539640" y="2205000"/>
            <a:ext cx="8280360" cy="42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晒           盖          收          脱          睡          合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棉衣      午觉      眼睛      棉鞋      棉被      棉花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00000" y="2892600"/>
            <a:ext cx="3983040" cy="1560240"/>
          </a:xfrm>
          <a:prstGeom prst="line">
            <a:avLst/>
          </a:prstGeom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340000" y="2968560"/>
            <a:ext cx="3983040" cy="1560600"/>
          </a:xfrm>
          <a:prstGeom prst="line">
            <a:avLst/>
          </a:prstGeom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635280" y="2884320"/>
            <a:ext cx="3983040" cy="1560600"/>
          </a:xfrm>
          <a:prstGeom prst="line">
            <a:avLst/>
          </a:prstGeom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949320" y="2884320"/>
            <a:ext cx="3983040" cy="1560600"/>
          </a:xfrm>
          <a:prstGeom prst="line">
            <a:avLst/>
          </a:prstGeom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2340000" y="2884320"/>
            <a:ext cx="3983040" cy="1560600"/>
          </a:xfrm>
          <a:prstGeom prst="line">
            <a:avLst/>
          </a:prstGeom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3635280" y="2884320"/>
            <a:ext cx="3983040" cy="1560600"/>
          </a:xfrm>
          <a:prstGeom prst="line">
            <a:avLst/>
          </a:prstGeom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700200" y="1052640"/>
            <a:ext cx="557280" cy="13096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137280" y="333360"/>
            <a:ext cx="2244600" cy="7761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137280" y="1328760"/>
            <a:ext cx="2244600" cy="6573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6137280" y="2205000"/>
            <a:ext cx="2251080" cy="8002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rcRect l="1042" t="0" r="5809" b="0"/>
          <a:stretch/>
        </p:blipFill>
        <p:spPr>
          <a:xfrm>
            <a:off x="0" y="4095720"/>
            <a:ext cx="9072720" cy="27892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39640" y="2133720"/>
            <a:ext cx="828216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早晨，阳光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照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到了阳台上，妈妈在给奶奶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晒棉被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小峰问妈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: 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奶奶的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棉被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点儿也没湿，干吗要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晒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呢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?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2"/>
          <a:srcRect l="2724" t="0" r="5809" b="0"/>
          <a:stretch/>
        </p:blipFill>
        <p:spPr>
          <a:xfrm>
            <a:off x="-15840" y="3814920"/>
            <a:ext cx="9088560" cy="30985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861840" y="2276640"/>
            <a:ext cx="828216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“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棉被晒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过了，奶奶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盖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上会更暖和。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为什么呢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?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           “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棉被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里有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花，让阳光钻进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花里，你说暖和不暖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?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619280" y="3716280"/>
            <a:ext cx="19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妈妈说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380360" y="2492280"/>
            <a:ext cx="19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妈妈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08360" y="3068640"/>
            <a:ext cx="265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小峰又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539640" y="1844640"/>
            <a:ext cx="828216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吃过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饭，奶奶要睡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觉，妈妈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收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了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棉被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铺到床上。奶奶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下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鞋，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进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被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窝，说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她舒服地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上了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眼睛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755040" y="2708280"/>
            <a:ext cx="175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这被子真暖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1280" y="3284640"/>
            <a:ext cx="15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和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79280" y="1989000"/>
            <a:ext cx="482436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奶奶睡着了。小峰想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奶奶的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鞋里也有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·····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于是，他轻轻地把奶奶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鞋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在阳光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晒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到的地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643280" y="1341360"/>
            <a:ext cx="3961080" cy="32562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504720" y="1197000"/>
            <a:ext cx="849312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奶奶醒了，小峰把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鞋放回床前。奶奶起床了，把脚伸进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鞋里，奇怪地问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小峰笑了笑，说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-2116800" y="1830240"/>
            <a:ext cx="1328112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                                       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咦，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鞋怎么这么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?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04720" y="3133800"/>
            <a:ext cx="471492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                           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奶，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鞋里有好多阳光呢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!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rcRect l="0" t="0" r="8165" b="0"/>
          <a:stretch/>
        </p:blipFill>
        <p:spPr>
          <a:xfrm>
            <a:off x="4859280" y="2852640"/>
            <a:ext cx="3624480" cy="29592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877080" y="5950080"/>
            <a:ext cx="1670040" cy="5252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187280" y="1197000"/>
            <a:ext cx="7550280" cy="25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填空，再读一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因为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________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所以妈妈要给奶奶晒棉被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因为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________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所以小峰要给奶奶晒棉鞋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700200" y="1052640"/>
            <a:ext cx="557280" cy="13096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542880" y="1355760"/>
            <a:ext cx="7124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小峰这样做，妈妈会说什么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?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奶奶会说什么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2050920" y="2421000"/>
            <a:ext cx="3961080" cy="32558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789600" y="4991040"/>
            <a:ext cx="1670040" cy="5256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468360" y="1265400"/>
            <a:ext cx="8493120" cy="22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回到家里，请你仔细观察爸爸、妈妈、爷爷、奶奶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等长辈的身体健康和工作情况，想想他们需要哪方面的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帮助，做个孝敬长辈的小帮手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789600" y="4991040"/>
            <a:ext cx="1670040" cy="5256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24000" y="2217240"/>
            <a:ext cx="856908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000000"/>
                </a:solidFill>
                <a:latin typeface="Arial"/>
                <a:ea typeface="楷体_GB2312"/>
              </a:rPr>
              <a:t>棉　照　晒　被　盖　午　收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000000"/>
                </a:solidFill>
                <a:latin typeface="Arial"/>
                <a:ea typeface="楷体_GB2312"/>
              </a:rPr>
              <a:t>脱　躺　合　眼　睛　摆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2560" y="1795320"/>
            <a:ext cx="88048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Comic Sans MS"/>
                <a:ea typeface="zypyyb"/>
              </a:rPr>
              <a:t>mián  zhào   shài    bèi     gài      wǔ    shōu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43880" y="3308400"/>
            <a:ext cx="69688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黑体"/>
                <a:ea typeface="黑体"/>
              </a:rPr>
              <a:t>t</a:t>
            </a:r>
            <a:r>
              <a:rPr b="0" lang="zh-CN" sz="3500" spc="-1" strike="noStrike">
                <a:solidFill>
                  <a:srgbClr val="000000"/>
                </a:solidFill>
                <a:latin typeface="Comic Sans MS"/>
                <a:ea typeface="zypyyb"/>
              </a:rPr>
              <a:t>uō    </a:t>
            </a:r>
            <a:r>
              <a:rPr b="0" lang="zh-CN" sz="3500" spc="-1" strike="noStrike">
                <a:solidFill>
                  <a:srgbClr val="000000"/>
                </a:solidFill>
                <a:latin typeface="黑体"/>
                <a:ea typeface="黑体"/>
              </a:rPr>
              <a:t>t</a:t>
            </a:r>
            <a:r>
              <a:rPr b="0" lang="zh-CN" sz="3500" spc="-1" strike="noStrike">
                <a:solidFill>
                  <a:srgbClr val="000000"/>
                </a:solidFill>
                <a:latin typeface="Comic Sans MS"/>
                <a:ea typeface="zypyyb"/>
              </a:rPr>
              <a:t>ǎng    hé     yǎn    jīng    bǎi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>
            <a:hlinkClick r:id="rId2" action="ppaction://hlinksldjump"/>
          </p:cNvPr>
          <p:cNvSpPr/>
          <p:nvPr/>
        </p:nvSpPr>
        <p:spPr>
          <a:xfrm>
            <a:off x="1371600" y="1066680"/>
            <a:ext cx="1219320" cy="1219320"/>
          </a:xfrm>
          <a:custGeom>
            <a:avLst/>
            <a:gdLst>
              <a:gd name="textAreaLeft" fmla="*/ 95040 w 1219320"/>
              <a:gd name="textAreaRight" fmla="*/ 1124280 w 1219320"/>
              <a:gd name="textAreaTop" fmla="*/ 95040 h 1219320"/>
              <a:gd name="textAreaBottom" fmla="*/ 112428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9912" y="1688"/>
                </a:lnTo>
                <a:lnTo>
                  <a:pt x="1688" y="1688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9912" y="19912"/>
                </a:lnTo>
                <a:lnTo>
                  <a:pt x="19912" y="1688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688" y="19912"/>
                </a:lnTo>
                <a:lnTo>
                  <a:pt x="19912" y="19912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688" y="1688"/>
                </a:lnTo>
                <a:lnTo>
                  <a:pt x="1688" y="19912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 u="sng">
                <a:solidFill>
                  <a:srgbClr val="009999"/>
                </a:solidFill>
                <a:uFillTx/>
                <a:latin typeface="Times New Roman"/>
                <a:ea typeface="楷体"/>
                <a:hlinkClick r:id="rId3" action="ppaction://hlinksldjump"/>
              </a:rPr>
              <a:t>棉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>
            <a:hlinkClick r:id="rId4" action="ppaction://hlinksldjump"/>
          </p:cNvPr>
          <p:cNvSpPr/>
          <p:nvPr/>
        </p:nvSpPr>
        <p:spPr>
          <a:xfrm>
            <a:off x="6588000" y="4437000"/>
            <a:ext cx="1219320" cy="1219320"/>
          </a:xfrm>
          <a:custGeom>
            <a:avLst/>
            <a:gdLst>
              <a:gd name="textAreaLeft" fmla="*/ 95040 w 1219320"/>
              <a:gd name="textAreaRight" fmla="*/ 1124280 w 1219320"/>
              <a:gd name="textAreaTop" fmla="*/ 95040 h 1219320"/>
              <a:gd name="textAreaBottom" fmla="*/ 112428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9912" y="1688"/>
                </a:lnTo>
                <a:lnTo>
                  <a:pt x="1688" y="1688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9912" y="19912"/>
                </a:lnTo>
                <a:lnTo>
                  <a:pt x="19912" y="1688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688" y="19912"/>
                </a:lnTo>
                <a:lnTo>
                  <a:pt x="19912" y="19912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688" y="1688"/>
                </a:lnTo>
                <a:lnTo>
                  <a:pt x="1688" y="19912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 u="sng">
                <a:solidFill>
                  <a:srgbClr val="009999"/>
                </a:solidFill>
                <a:uFillTx/>
                <a:latin typeface="Times New Roman"/>
                <a:ea typeface="楷体"/>
                <a:hlinkClick r:id="rId5" action="ppaction://hlinksldjump"/>
              </a:rPr>
              <a:t>照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>
            <a:hlinkClick r:id="rId6" action="ppaction://hlinksldjump"/>
          </p:cNvPr>
          <p:cNvSpPr/>
          <p:nvPr/>
        </p:nvSpPr>
        <p:spPr>
          <a:xfrm>
            <a:off x="4343400" y="1066680"/>
            <a:ext cx="1219320" cy="1219320"/>
          </a:xfrm>
          <a:custGeom>
            <a:avLst/>
            <a:gdLst>
              <a:gd name="textAreaLeft" fmla="*/ 95040 w 1219320"/>
              <a:gd name="textAreaRight" fmla="*/ 1124280 w 1219320"/>
              <a:gd name="textAreaTop" fmla="*/ 95040 h 1219320"/>
              <a:gd name="textAreaBottom" fmla="*/ 112428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9912" y="1688"/>
                </a:lnTo>
                <a:lnTo>
                  <a:pt x="1688" y="1688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9912" y="19912"/>
                </a:lnTo>
                <a:lnTo>
                  <a:pt x="19912" y="1688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688" y="19912"/>
                </a:lnTo>
                <a:lnTo>
                  <a:pt x="19912" y="19912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688" y="1688"/>
                </a:lnTo>
                <a:lnTo>
                  <a:pt x="1688" y="19912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 u="sng">
                <a:solidFill>
                  <a:srgbClr val="009999"/>
                </a:solidFill>
                <a:uFillTx/>
                <a:latin typeface="Times New Roman"/>
                <a:ea typeface="楷体"/>
                <a:hlinkClick r:id="rId7" action="ppaction://hlinksldjump"/>
              </a:rPr>
              <a:t>晒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>
            <a:hlinkClick r:id="rId8" action="ppaction://hlinksldjump"/>
          </p:cNvPr>
          <p:cNvSpPr/>
          <p:nvPr/>
        </p:nvSpPr>
        <p:spPr>
          <a:xfrm>
            <a:off x="5867280" y="1066680"/>
            <a:ext cx="1219320" cy="1219320"/>
          </a:xfrm>
          <a:custGeom>
            <a:avLst/>
            <a:gdLst>
              <a:gd name="textAreaLeft" fmla="*/ 95040 w 1219320"/>
              <a:gd name="textAreaRight" fmla="*/ 1124280 w 1219320"/>
              <a:gd name="textAreaTop" fmla="*/ 95040 h 1219320"/>
              <a:gd name="textAreaBottom" fmla="*/ 112428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9912" y="1688"/>
                </a:lnTo>
                <a:lnTo>
                  <a:pt x="1688" y="1688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9912" y="19912"/>
                </a:lnTo>
                <a:lnTo>
                  <a:pt x="19912" y="1688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688" y="19912"/>
                </a:lnTo>
                <a:lnTo>
                  <a:pt x="19912" y="19912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688" y="1688"/>
                </a:lnTo>
                <a:lnTo>
                  <a:pt x="1688" y="19912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 u="sng">
                <a:solidFill>
                  <a:srgbClr val="009999"/>
                </a:solidFill>
                <a:uFillTx/>
                <a:latin typeface="Times New Roman"/>
                <a:ea typeface="楷体"/>
                <a:hlinkClick r:id="rId9" action="ppaction://hlinksldjump"/>
              </a:rPr>
              <a:t>被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0" action="ppaction://hlinksldjump"/>
          </p:cNvPr>
          <p:cNvSpPr/>
          <p:nvPr/>
        </p:nvSpPr>
        <p:spPr>
          <a:xfrm>
            <a:off x="5003640" y="4437000"/>
            <a:ext cx="1219320" cy="1219320"/>
          </a:xfrm>
          <a:custGeom>
            <a:avLst/>
            <a:gdLst>
              <a:gd name="textAreaLeft" fmla="*/ 95040 w 1219320"/>
              <a:gd name="textAreaRight" fmla="*/ 1124280 w 1219320"/>
              <a:gd name="textAreaTop" fmla="*/ 95040 h 1219320"/>
              <a:gd name="textAreaBottom" fmla="*/ 112428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9912" y="1688"/>
                </a:lnTo>
                <a:lnTo>
                  <a:pt x="1688" y="1688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9912" y="19912"/>
                </a:lnTo>
                <a:lnTo>
                  <a:pt x="19912" y="1688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688" y="19912"/>
                </a:lnTo>
                <a:lnTo>
                  <a:pt x="19912" y="19912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688" y="1688"/>
                </a:lnTo>
                <a:lnTo>
                  <a:pt x="1688" y="19912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 u="sng">
                <a:solidFill>
                  <a:srgbClr val="009999"/>
                </a:solidFill>
                <a:uFillTx/>
                <a:latin typeface="Times New Roman"/>
                <a:ea typeface="楷体"/>
                <a:hlinkClick r:id="rId11" action="ppaction://hlinksldjump"/>
              </a:rPr>
              <a:t>盖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>
            <a:hlinkClick r:id="rId12" action="ppaction://hlinksldjump"/>
          </p:cNvPr>
          <p:cNvSpPr/>
          <p:nvPr/>
        </p:nvSpPr>
        <p:spPr>
          <a:xfrm>
            <a:off x="3348000" y="4437000"/>
            <a:ext cx="1219320" cy="1219320"/>
          </a:xfrm>
          <a:custGeom>
            <a:avLst/>
            <a:gdLst>
              <a:gd name="textAreaLeft" fmla="*/ 95040 w 1219320"/>
              <a:gd name="textAreaRight" fmla="*/ 1124280 w 1219320"/>
              <a:gd name="textAreaTop" fmla="*/ 95040 h 1219320"/>
              <a:gd name="textAreaBottom" fmla="*/ 112428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9912" y="1688"/>
                </a:lnTo>
                <a:lnTo>
                  <a:pt x="1688" y="1688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9912" y="19912"/>
                </a:lnTo>
                <a:lnTo>
                  <a:pt x="19912" y="1688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688" y="19912"/>
                </a:lnTo>
                <a:lnTo>
                  <a:pt x="19912" y="19912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688" y="1688"/>
                </a:lnTo>
                <a:lnTo>
                  <a:pt x="1688" y="19912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 u="sng">
                <a:solidFill>
                  <a:srgbClr val="009999"/>
                </a:solidFill>
                <a:uFillTx/>
                <a:latin typeface="Times New Roman"/>
                <a:ea typeface="楷体"/>
                <a:hlinkClick r:id="rId13" action="ppaction://hlinksldjump"/>
              </a:rPr>
              <a:t>午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>
            <a:hlinkClick r:id="rId14" action="ppaction://hlinksldjump"/>
          </p:cNvPr>
          <p:cNvSpPr/>
          <p:nvPr/>
        </p:nvSpPr>
        <p:spPr>
          <a:xfrm>
            <a:off x="2916360" y="1052640"/>
            <a:ext cx="1218960" cy="1218960"/>
          </a:xfrm>
          <a:custGeom>
            <a:avLst/>
            <a:gdLst>
              <a:gd name="textAreaLeft" fmla="*/ 95040 w 1218960"/>
              <a:gd name="textAreaRight" fmla="*/ 1123920 w 1218960"/>
              <a:gd name="textAreaTop" fmla="*/ 95040 h 1218960"/>
              <a:gd name="textAreaBottom" fmla="*/ 112392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9912" y="1688"/>
                </a:lnTo>
                <a:lnTo>
                  <a:pt x="1688" y="1688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9912" y="19912"/>
                </a:lnTo>
                <a:lnTo>
                  <a:pt x="19912" y="1688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688" y="19912"/>
                </a:lnTo>
                <a:lnTo>
                  <a:pt x="19912" y="19912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688" y="1688"/>
                </a:lnTo>
                <a:lnTo>
                  <a:pt x="1688" y="19912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 u="sng">
                <a:solidFill>
                  <a:srgbClr val="009999"/>
                </a:solidFill>
                <a:uFillTx/>
                <a:latin typeface="Times New Roman"/>
                <a:ea typeface="楷体"/>
                <a:hlinkClick r:id="rId15" action="ppaction://hlinksldjump"/>
              </a:rPr>
              <a:t>收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>
            <a:hlinkClick r:id="rId16" action="ppaction://hlinksldjump"/>
          </p:cNvPr>
          <p:cNvSpPr/>
          <p:nvPr/>
        </p:nvSpPr>
        <p:spPr>
          <a:xfrm>
            <a:off x="4932360" y="2924280"/>
            <a:ext cx="1219320" cy="1218960"/>
          </a:xfrm>
          <a:custGeom>
            <a:avLst/>
            <a:gdLst>
              <a:gd name="textAreaLeft" fmla="*/ 95040 w 1219320"/>
              <a:gd name="textAreaRight" fmla="*/ 1124280 w 1219320"/>
              <a:gd name="textAreaTop" fmla="*/ 95040 h 1218960"/>
              <a:gd name="textAreaBottom" fmla="*/ 1123920 h 1218960"/>
            </a:gdLst>
            <a:ahLst/>
            <a:rect l="textAreaLeft" t="textAreaTop" r="textAreaRight" b="textAreaBottom"/>
            <a:pathLst>
              <a:path w="21606" h="21600">
                <a:moveTo>
                  <a:pt x="0" y="0"/>
                </a:moveTo>
                <a:lnTo>
                  <a:pt x="21606" y="0"/>
                </a:lnTo>
                <a:lnTo>
                  <a:pt x="21606" y="21600"/>
                </a:lnTo>
                <a:lnTo>
                  <a:pt x="0" y="21600"/>
                </a:lnTo>
                <a:close/>
              </a:path>
              <a:path fill="lightenLess" w="21606" h="21600">
                <a:moveTo>
                  <a:pt x="0" y="0"/>
                </a:moveTo>
                <a:lnTo>
                  <a:pt x="21606" y="0"/>
                </a:lnTo>
                <a:lnTo>
                  <a:pt x="19918" y="1688"/>
                </a:lnTo>
                <a:lnTo>
                  <a:pt x="1688" y="1688"/>
                </a:lnTo>
                <a:close/>
              </a:path>
              <a:path fill="darken" w="21606" h="21600">
                <a:moveTo>
                  <a:pt x="21606" y="0"/>
                </a:moveTo>
                <a:lnTo>
                  <a:pt x="21606" y="21600"/>
                </a:lnTo>
                <a:lnTo>
                  <a:pt x="19918" y="19912"/>
                </a:lnTo>
                <a:lnTo>
                  <a:pt x="19918" y="1688"/>
                </a:lnTo>
                <a:close/>
              </a:path>
              <a:path fill="darkenLess" w="21606" h="21600">
                <a:moveTo>
                  <a:pt x="21606" y="21600"/>
                </a:moveTo>
                <a:lnTo>
                  <a:pt x="0" y="21600"/>
                </a:lnTo>
                <a:lnTo>
                  <a:pt x="1688" y="19912"/>
                </a:lnTo>
                <a:lnTo>
                  <a:pt x="19918" y="19912"/>
                </a:lnTo>
                <a:close/>
              </a:path>
              <a:path fill="lighten" w="21606" h="21600">
                <a:moveTo>
                  <a:pt x="0" y="21600"/>
                </a:moveTo>
                <a:lnTo>
                  <a:pt x="0" y="0"/>
                </a:lnTo>
                <a:lnTo>
                  <a:pt x="1688" y="1688"/>
                </a:lnTo>
                <a:lnTo>
                  <a:pt x="1688" y="19912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 u="sng">
                <a:solidFill>
                  <a:srgbClr val="009999"/>
                </a:solidFill>
                <a:uFillTx/>
                <a:latin typeface="Times New Roman"/>
                <a:ea typeface="楷体"/>
                <a:hlinkClick r:id="rId17" action="ppaction://hlinksldjump"/>
              </a:rPr>
              <a:t>脱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>
            <a:hlinkClick r:id="rId18" action="ppaction://hlinksldjump"/>
          </p:cNvPr>
          <p:cNvSpPr/>
          <p:nvPr/>
        </p:nvSpPr>
        <p:spPr>
          <a:xfrm>
            <a:off x="6588000" y="2997360"/>
            <a:ext cx="1219320" cy="1218960"/>
          </a:xfrm>
          <a:custGeom>
            <a:avLst/>
            <a:gdLst>
              <a:gd name="textAreaLeft" fmla="*/ 95040 w 1219320"/>
              <a:gd name="textAreaRight" fmla="*/ 1124280 w 1219320"/>
              <a:gd name="textAreaTop" fmla="*/ 95040 h 1218960"/>
              <a:gd name="textAreaBottom" fmla="*/ 1123920 h 1218960"/>
            </a:gdLst>
            <a:ahLst/>
            <a:rect l="textAreaLeft" t="textAreaTop" r="textAreaRight" b="textAreaBottom"/>
            <a:pathLst>
              <a:path w="21606" h="21600">
                <a:moveTo>
                  <a:pt x="0" y="0"/>
                </a:moveTo>
                <a:lnTo>
                  <a:pt x="21606" y="0"/>
                </a:lnTo>
                <a:lnTo>
                  <a:pt x="21606" y="21600"/>
                </a:lnTo>
                <a:lnTo>
                  <a:pt x="0" y="21600"/>
                </a:lnTo>
                <a:close/>
              </a:path>
              <a:path fill="lightenLess" w="21606" h="21600">
                <a:moveTo>
                  <a:pt x="0" y="0"/>
                </a:moveTo>
                <a:lnTo>
                  <a:pt x="21606" y="0"/>
                </a:lnTo>
                <a:lnTo>
                  <a:pt x="19918" y="1688"/>
                </a:lnTo>
                <a:lnTo>
                  <a:pt x="1688" y="1688"/>
                </a:lnTo>
                <a:close/>
              </a:path>
              <a:path fill="darken" w="21606" h="21600">
                <a:moveTo>
                  <a:pt x="21606" y="0"/>
                </a:moveTo>
                <a:lnTo>
                  <a:pt x="21606" y="21600"/>
                </a:lnTo>
                <a:lnTo>
                  <a:pt x="19918" y="19912"/>
                </a:lnTo>
                <a:lnTo>
                  <a:pt x="19918" y="1688"/>
                </a:lnTo>
                <a:close/>
              </a:path>
              <a:path fill="darkenLess" w="21606" h="21600">
                <a:moveTo>
                  <a:pt x="21606" y="21600"/>
                </a:moveTo>
                <a:lnTo>
                  <a:pt x="0" y="21600"/>
                </a:lnTo>
                <a:lnTo>
                  <a:pt x="1688" y="19912"/>
                </a:lnTo>
                <a:lnTo>
                  <a:pt x="19918" y="19912"/>
                </a:lnTo>
                <a:close/>
              </a:path>
              <a:path fill="lighten" w="21606" h="21600">
                <a:moveTo>
                  <a:pt x="0" y="21600"/>
                </a:moveTo>
                <a:lnTo>
                  <a:pt x="0" y="0"/>
                </a:lnTo>
                <a:lnTo>
                  <a:pt x="1688" y="1688"/>
                </a:lnTo>
                <a:lnTo>
                  <a:pt x="1688" y="19912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 u="sng">
                <a:solidFill>
                  <a:srgbClr val="009999"/>
                </a:solidFill>
                <a:uFillTx/>
                <a:latin typeface="Times New Roman"/>
                <a:ea typeface="楷体"/>
                <a:hlinkClick r:id="rId19" action="ppaction://hlinksldjump"/>
              </a:rPr>
              <a:t>躺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>
            <a:hlinkClick r:id="rId20" action="ppaction://hlinksldjump"/>
          </p:cNvPr>
          <p:cNvSpPr/>
          <p:nvPr/>
        </p:nvSpPr>
        <p:spPr>
          <a:xfrm>
            <a:off x="1752480" y="4419720"/>
            <a:ext cx="1219320" cy="1218960"/>
          </a:xfrm>
          <a:custGeom>
            <a:avLst/>
            <a:gdLst>
              <a:gd name="textAreaLeft" fmla="*/ 95040 w 1219320"/>
              <a:gd name="textAreaRight" fmla="*/ 1124280 w 1219320"/>
              <a:gd name="textAreaTop" fmla="*/ 95040 h 1218960"/>
              <a:gd name="textAreaBottom" fmla="*/ 1123920 h 1218960"/>
            </a:gdLst>
            <a:ahLst/>
            <a:rect l="textAreaLeft" t="textAreaTop" r="textAreaRight" b="textAreaBottom"/>
            <a:pathLst>
              <a:path w="21606" h="21600">
                <a:moveTo>
                  <a:pt x="0" y="0"/>
                </a:moveTo>
                <a:lnTo>
                  <a:pt x="21606" y="0"/>
                </a:lnTo>
                <a:lnTo>
                  <a:pt x="21606" y="21600"/>
                </a:lnTo>
                <a:lnTo>
                  <a:pt x="0" y="21600"/>
                </a:lnTo>
                <a:close/>
              </a:path>
              <a:path fill="lightenLess" w="21606" h="21600">
                <a:moveTo>
                  <a:pt x="0" y="0"/>
                </a:moveTo>
                <a:lnTo>
                  <a:pt x="21606" y="0"/>
                </a:lnTo>
                <a:lnTo>
                  <a:pt x="19918" y="1688"/>
                </a:lnTo>
                <a:lnTo>
                  <a:pt x="1688" y="1688"/>
                </a:lnTo>
                <a:close/>
              </a:path>
              <a:path fill="darken" w="21606" h="21600">
                <a:moveTo>
                  <a:pt x="21606" y="0"/>
                </a:moveTo>
                <a:lnTo>
                  <a:pt x="21606" y="21600"/>
                </a:lnTo>
                <a:lnTo>
                  <a:pt x="19918" y="19912"/>
                </a:lnTo>
                <a:lnTo>
                  <a:pt x="19918" y="1688"/>
                </a:lnTo>
                <a:close/>
              </a:path>
              <a:path fill="darkenLess" w="21606" h="21600">
                <a:moveTo>
                  <a:pt x="21606" y="21600"/>
                </a:moveTo>
                <a:lnTo>
                  <a:pt x="0" y="21600"/>
                </a:lnTo>
                <a:lnTo>
                  <a:pt x="1688" y="19912"/>
                </a:lnTo>
                <a:lnTo>
                  <a:pt x="19918" y="19912"/>
                </a:lnTo>
                <a:close/>
              </a:path>
              <a:path fill="lighten" w="21606" h="21600">
                <a:moveTo>
                  <a:pt x="0" y="21600"/>
                </a:moveTo>
                <a:lnTo>
                  <a:pt x="0" y="0"/>
                </a:lnTo>
                <a:lnTo>
                  <a:pt x="1688" y="1688"/>
                </a:lnTo>
                <a:lnTo>
                  <a:pt x="1688" y="19912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 u="sng">
                <a:solidFill>
                  <a:srgbClr val="009999"/>
                </a:solidFill>
                <a:uFillTx/>
                <a:latin typeface="Times New Roman"/>
                <a:ea typeface="楷体"/>
                <a:hlinkClick r:id="rId21" action="ppaction://hlinksldjump"/>
              </a:rPr>
              <a:t>合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>
            <a:hlinkClick r:id="rId22" action="ppaction://hlinksldjump"/>
          </p:cNvPr>
          <p:cNvSpPr/>
          <p:nvPr/>
        </p:nvSpPr>
        <p:spPr>
          <a:xfrm>
            <a:off x="1836720" y="2924280"/>
            <a:ext cx="1219320" cy="1218960"/>
          </a:xfrm>
          <a:custGeom>
            <a:avLst/>
            <a:gdLst>
              <a:gd name="textAreaLeft" fmla="*/ 95040 w 1219320"/>
              <a:gd name="textAreaRight" fmla="*/ 1124280 w 1219320"/>
              <a:gd name="textAreaTop" fmla="*/ 95040 h 1218960"/>
              <a:gd name="textAreaBottom" fmla="*/ 1123920 h 1218960"/>
            </a:gdLst>
            <a:ahLst/>
            <a:rect l="textAreaLeft" t="textAreaTop" r="textAreaRight" b="textAreaBottom"/>
            <a:pathLst>
              <a:path w="21606" h="21600">
                <a:moveTo>
                  <a:pt x="0" y="0"/>
                </a:moveTo>
                <a:lnTo>
                  <a:pt x="21606" y="0"/>
                </a:lnTo>
                <a:lnTo>
                  <a:pt x="21606" y="21600"/>
                </a:lnTo>
                <a:lnTo>
                  <a:pt x="0" y="21600"/>
                </a:lnTo>
                <a:close/>
              </a:path>
              <a:path fill="lightenLess" w="21606" h="21600">
                <a:moveTo>
                  <a:pt x="0" y="0"/>
                </a:moveTo>
                <a:lnTo>
                  <a:pt x="21606" y="0"/>
                </a:lnTo>
                <a:lnTo>
                  <a:pt x="19918" y="1688"/>
                </a:lnTo>
                <a:lnTo>
                  <a:pt x="1688" y="1688"/>
                </a:lnTo>
                <a:close/>
              </a:path>
              <a:path fill="darken" w="21606" h="21600">
                <a:moveTo>
                  <a:pt x="21606" y="0"/>
                </a:moveTo>
                <a:lnTo>
                  <a:pt x="21606" y="21600"/>
                </a:lnTo>
                <a:lnTo>
                  <a:pt x="19918" y="19912"/>
                </a:lnTo>
                <a:lnTo>
                  <a:pt x="19918" y="1688"/>
                </a:lnTo>
                <a:close/>
              </a:path>
              <a:path fill="darkenLess" w="21606" h="21600">
                <a:moveTo>
                  <a:pt x="21606" y="21600"/>
                </a:moveTo>
                <a:lnTo>
                  <a:pt x="0" y="21600"/>
                </a:lnTo>
                <a:lnTo>
                  <a:pt x="1688" y="19912"/>
                </a:lnTo>
                <a:lnTo>
                  <a:pt x="19918" y="19912"/>
                </a:lnTo>
                <a:close/>
              </a:path>
              <a:path fill="lighten" w="21606" h="21600">
                <a:moveTo>
                  <a:pt x="0" y="21600"/>
                </a:moveTo>
                <a:lnTo>
                  <a:pt x="0" y="0"/>
                </a:lnTo>
                <a:lnTo>
                  <a:pt x="1688" y="1688"/>
                </a:lnTo>
                <a:lnTo>
                  <a:pt x="1688" y="19912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 u="sng">
                <a:solidFill>
                  <a:srgbClr val="009999"/>
                </a:solidFill>
                <a:uFillTx/>
                <a:latin typeface="Times New Roman"/>
                <a:ea typeface="楷体"/>
                <a:hlinkClick r:id="rId23" action="ppaction://hlinksldjump"/>
              </a:rPr>
              <a:t>眼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>
            <a:hlinkClick r:id="rId24" action="ppaction://hlinksldjump"/>
          </p:cNvPr>
          <p:cNvSpPr/>
          <p:nvPr/>
        </p:nvSpPr>
        <p:spPr>
          <a:xfrm>
            <a:off x="3348000" y="2924280"/>
            <a:ext cx="1219320" cy="1218960"/>
          </a:xfrm>
          <a:custGeom>
            <a:avLst/>
            <a:gdLst>
              <a:gd name="textAreaLeft" fmla="*/ 95040 w 1219320"/>
              <a:gd name="textAreaRight" fmla="*/ 1124280 w 1219320"/>
              <a:gd name="textAreaTop" fmla="*/ 95040 h 1218960"/>
              <a:gd name="textAreaBottom" fmla="*/ 1123920 h 1218960"/>
            </a:gdLst>
            <a:ahLst/>
            <a:rect l="textAreaLeft" t="textAreaTop" r="textAreaRight" b="textAreaBottom"/>
            <a:pathLst>
              <a:path w="21606" h="21600">
                <a:moveTo>
                  <a:pt x="0" y="0"/>
                </a:moveTo>
                <a:lnTo>
                  <a:pt x="21606" y="0"/>
                </a:lnTo>
                <a:lnTo>
                  <a:pt x="21606" y="21600"/>
                </a:lnTo>
                <a:lnTo>
                  <a:pt x="0" y="21600"/>
                </a:lnTo>
                <a:close/>
              </a:path>
              <a:path fill="lightenLess" w="21606" h="21600">
                <a:moveTo>
                  <a:pt x="0" y="0"/>
                </a:moveTo>
                <a:lnTo>
                  <a:pt x="21606" y="0"/>
                </a:lnTo>
                <a:lnTo>
                  <a:pt x="19918" y="1688"/>
                </a:lnTo>
                <a:lnTo>
                  <a:pt x="1688" y="1688"/>
                </a:lnTo>
                <a:close/>
              </a:path>
              <a:path fill="darken" w="21606" h="21600">
                <a:moveTo>
                  <a:pt x="21606" y="0"/>
                </a:moveTo>
                <a:lnTo>
                  <a:pt x="21606" y="21600"/>
                </a:lnTo>
                <a:lnTo>
                  <a:pt x="19918" y="19912"/>
                </a:lnTo>
                <a:lnTo>
                  <a:pt x="19918" y="1688"/>
                </a:lnTo>
                <a:close/>
              </a:path>
              <a:path fill="darkenLess" w="21606" h="21600">
                <a:moveTo>
                  <a:pt x="21606" y="21600"/>
                </a:moveTo>
                <a:lnTo>
                  <a:pt x="0" y="21600"/>
                </a:lnTo>
                <a:lnTo>
                  <a:pt x="1688" y="19912"/>
                </a:lnTo>
                <a:lnTo>
                  <a:pt x="19918" y="19912"/>
                </a:lnTo>
                <a:close/>
              </a:path>
              <a:path fill="lighten" w="21606" h="21600">
                <a:moveTo>
                  <a:pt x="0" y="21600"/>
                </a:moveTo>
                <a:lnTo>
                  <a:pt x="0" y="0"/>
                </a:lnTo>
                <a:lnTo>
                  <a:pt x="1688" y="1688"/>
                </a:lnTo>
                <a:lnTo>
                  <a:pt x="1688" y="19912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 u="sng">
                <a:solidFill>
                  <a:srgbClr val="009999"/>
                </a:solidFill>
                <a:uFillTx/>
                <a:latin typeface="Times New Roman"/>
                <a:ea typeface="楷体"/>
                <a:hlinkClick r:id="rId25" action="ppaction://hlinksldjump"/>
              </a:rPr>
              <a:t>睛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>
            <a:hlinkClick r:id="rId26" action="ppaction://hlinksldjump"/>
          </p:cNvPr>
          <p:cNvSpPr/>
          <p:nvPr/>
        </p:nvSpPr>
        <p:spPr>
          <a:xfrm>
            <a:off x="7453440" y="1052640"/>
            <a:ext cx="1218960" cy="1218960"/>
          </a:xfrm>
          <a:custGeom>
            <a:avLst/>
            <a:gdLst>
              <a:gd name="textAreaLeft" fmla="*/ 95040 w 1218960"/>
              <a:gd name="textAreaRight" fmla="*/ 1123920 w 1218960"/>
              <a:gd name="textAreaTop" fmla="*/ 95040 h 1218960"/>
              <a:gd name="textAreaBottom" fmla="*/ 112392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9912" y="1688"/>
                </a:lnTo>
                <a:lnTo>
                  <a:pt x="1688" y="1688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9912" y="19912"/>
                </a:lnTo>
                <a:lnTo>
                  <a:pt x="19912" y="1688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688" y="19912"/>
                </a:lnTo>
                <a:lnTo>
                  <a:pt x="19912" y="19912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688" y="1688"/>
                </a:lnTo>
                <a:lnTo>
                  <a:pt x="1688" y="19912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 u="sng">
                <a:solidFill>
                  <a:srgbClr val="009999"/>
                </a:solidFill>
                <a:uFillTx/>
                <a:latin typeface="Times New Roman"/>
                <a:ea typeface="楷体"/>
                <a:hlinkClick r:id="rId27" action="ppaction://hlinksldjump"/>
              </a:rPr>
              <a:t>摆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305920" y="5943600"/>
            <a:ext cx="533160" cy="53352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  <a:path fill="darken" w="21600" h="21615">
                <a:moveTo>
                  <a:pt x="7301" y="10807"/>
                </a:moveTo>
                <a:lnTo>
                  <a:pt x="17806" y="3801"/>
                </a:lnTo>
                <a:lnTo>
                  <a:pt x="17806" y="17814"/>
                </a:lnTo>
                <a:close/>
              </a:path>
              <a:path fill="darken" w="21600" h="21615">
                <a:moveTo>
                  <a:pt x="3794" y="3801"/>
                </a:moveTo>
                <a:lnTo>
                  <a:pt x="5456" y="3801"/>
                </a:lnTo>
                <a:lnTo>
                  <a:pt x="5456" y="17814"/>
                </a:lnTo>
                <a:lnTo>
                  <a:pt x="3794" y="17814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>
            <a:hlinkClick r:id="rId2" action="ppaction://hlinksldjump"/>
          </p:cNvPr>
          <p:cNvSpPr/>
          <p:nvPr/>
        </p:nvSpPr>
        <p:spPr>
          <a:xfrm>
            <a:off x="8001000" y="56386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8502" y="10800"/>
                </a:moveTo>
                <a:lnTo>
                  <a:pt x="19008" y="3794"/>
                </a:lnTo>
                <a:lnTo>
                  <a:pt x="19008" y="17806"/>
                </a:lnTo>
                <a:close/>
              </a:path>
              <a:path fill="darken" w="24003" h="21600">
                <a:moveTo>
                  <a:pt x="4995" y="3794"/>
                </a:moveTo>
                <a:lnTo>
                  <a:pt x="6657" y="3794"/>
                </a:lnTo>
                <a:lnTo>
                  <a:pt x="6657" y="17806"/>
                </a:lnTo>
                <a:lnTo>
                  <a:pt x="4995" y="17806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25800" y="1828800"/>
            <a:ext cx="34099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ff"/>
                </a:solidFill>
                <a:latin typeface="Times New Roman"/>
              </a:rPr>
              <a:t>棉鞋  棉花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ff"/>
                </a:solidFill>
                <a:latin typeface="Times New Roman"/>
              </a:rPr>
              <a:t>棉衣  棉线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030480" y="1828800"/>
            <a:ext cx="3146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66"/>
                </a:solidFill>
                <a:latin typeface="Times New Roman"/>
              </a:rPr>
              <a:t>收获  丰收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66"/>
                </a:solidFill>
                <a:latin typeface="Times New Roman"/>
              </a:rPr>
              <a:t>收齐  收藏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812000" y="501336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8502" y="10800"/>
                </a:moveTo>
                <a:lnTo>
                  <a:pt x="19008" y="3794"/>
                </a:lnTo>
                <a:lnTo>
                  <a:pt x="19008" y="17806"/>
                </a:lnTo>
                <a:close/>
              </a:path>
              <a:path fill="darken" w="24003" h="21600">
                <a:moveTo>
                  <a:pt x="4995" y="3794"/>
                </a:moveTo>
                <a:lnTo>
                  <a:pt x="6657" y="3794"/>
                </a:lnTo>
                <a:lnTo>
                  <a:pt x="6657" y="17806"/>
                </a:lnTo>
                <a:lnTo>
                  <a:pt x="4995" y="17806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694600" y="1752480"/>
            <a:ext cx="42832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ff"/>
                </a:solidFill>
                <a:latin typeface="Times New Roman"/>
              </a:rPr>
              <a:t>晒干  晒衣服 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ff"/>
                </a:solidFill>
                <a:latin typeface="Times New Roman"/>
              </a:rPr>
              <a:t>晒太阳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001000" y="56386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8502" y="10800"/>
                </a:moveTo>
                <a:lnTo>
                  <a:pt x="19008" y="3794"/>
                </a:lnTo>
                <a:lnTo>
                  <a:pt x="19008" y="17806"/>
                </a:lnTo>
                <a:close/>
              </a:path>
              <a:path fill="darken" w="24003" h="21600">
                <a:moveTo>
                  <a:pt x="4995" y="3794"/>
                </a:moveTo>
                <a:lnTo>
                  <a:pt x="6657" y="3794"/>
                </a:lnTo>
                <a:lnTo>
                  <a:pt x="6657" y="17806"/>
                </a:lnTo>
                <a:lnTo>
                  <a:pt x="4995" y="17806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030480" y="1828800"/>
            <a:ext cx="3146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66"/>
                </a:solidFill>
                <a:latin typeface="Times New Roman"/>
              </a:rPr>
              <a:t>棉被  被单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66"/>
                </a:solidFill>
                <a:latin typeface="Times New Roman"/>
              </a:rPr>
              <a:t>羊毛被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8001000" y="56386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8502" y="10800"/>
                </a:moveTo>
                <a:lnTo>
                  <a:pt x="19008" y="3794"/>
                </a:lnTo>
                <a:lnTo>
                  <a:pt x="19008" y="17806"/>
                </a:lnTo>
                <a:close/>
              </a:path>
              <a:path fill="darken" w="24003" h="21600">
                <a:moveTo>
                  <a:pt x="4995" y="3794"/>
                </a:moveTo>
                <a:lnTo>
                  <a:pt x="6657" y="3794"/>
                </a:lnTo>
                <a:lnTo>
                  <a:pt x="6657" y="17806"/>
                </a:lnTo>
                <a:lnTo>
                  <a:pt x="4995" y="17806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3030480" y="1828800"/>
            <a:ext cx="3146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ff"/>
                </a:solidFill>
                <a:latin typeface="Times New Roman"/>
              </a:rPr>
              <a:t>摆动  摆放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ff"/>
                </a:solidFill>
                <a:latin typeface="Times New Roman"/>
              </a:rPr>
              <a:t>摆脱  摆布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001000" y="56386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8502" y="10800"/>
                </a:moveTo>
                <a:lnTo>
                  <a:pt x="19008" y="3794"/>
                </a:lnTo>
                <a:lnTo>
                  <a:pt x="19008" y="17806"/>
                </a:lnTo>
                <a:close/>
              </a:path>
              <a:path fill="darken" w="24003" h="21600">
                <a:moveTo>
                  <a:pt x="4995" y="3794"/>
                </a:moveTo>
                <a:lnTo>
                  <a:pt x="6657" y="3794"/>
                </a:lnTo>
                <a:lnTo>
                  <a:pt x="6657" y="17806"/>
                </a:lnTo>
                <a:lnTo>
                  <a:pt x="4995" y="17806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1T02:42:20Z</dcterms:created>
  <dc:creator>zhangshufang</dc:creator>
  <dc:description/>
  <dc:language>en-US</dc:language>
  <cp:lastModifiedBy>微软用户</cp:lastModifiedBy>
  <dcterms:modified xsi:type="dcterms:W3CDTF">2011-03-13T12:52:29Z</dcterms:modified>
  <cp:revision>91</cp:revision>
  <dc:subject/>
  <dc:title>幻灯片 1</dc:title>
</cp:coreProperties>
</file>