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20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  <p:custShowLst>
    <p:custShow name="自定义放映 1" id="0">
      <p:sldLst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052-C487-4CB1-8DBD-8541F653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98A-D07D-4D49-8B6A-27D08EFB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23C-D384-4D20-9B28-BD983CC1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ACA-CA76-4C08-B24B-18241D5F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2F2C-D6C1-4846-B0DD-1EAA5477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33D9-9D95-4737-AC59-CFE9A691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5B95-23CD-41A4-956A-F20E717B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1667-5DA9-442D-9982-92A1C38F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C9E8-03AE-4DF5-B1B4-5C429F51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3E7E-5C6B-499E-A04A-5534D690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17DB-B40C-4A57-9005-F6A12D40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D95-29DD-4E71-8E1C-CF2AE104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DA0C-7DE9-4C4C-8946-A8F632DA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13E7-25E6-443E-8B92-5FF73C57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86F8-D989-441A-9AD5-2962A79A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F73D-0A7B-4364-A8AF-6A102071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32BA-205C-45F7-A9A9-572033DE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DE8EF-3B75-43B3-8E7C-A560ADAB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59D89-5535-485E-B277-8A29E268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AD0C-8E47-4711-8EFA-C182B51A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D96B-7C40-4055-B918-B8335FDD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9F48-AD16-474B-9C2D-D883D19E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826-D82B-4BC9-8AA6-F3466693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FEB1-B9AA-4011-8D76-1B794F31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161E-E3F9-470B-B2E7-A214EF23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EC99-C646-4E9F-889D-28D45FAA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63C6-9B9A-45BB-8078-94C29313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0DE38-4CD5-4833-B62F-E94A991A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D9F4-3B1B-4859-B2AC-4568B1E8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08CF1-D495-4160-971B-23C3BEEA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F5360-52CA-47B3-8904-BB216115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4FC79-EEBE-424A-B298-563688B3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DEEED-54EA-4697-9506-F6AB6D33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E1F-325A-4BC2-8378-02584CA2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69206-5972-428C-8FB1-6A8193C5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EC842-53FB-4D30-AA4B-400B9EEA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CF366-E521-4A4B-ADBC-2FE7E90F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AA9BC-1325-4094-8178-A34CA9F8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CBFDD-E708-42C3-8392-AB62A1D2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4BF58-CA07-4F83-A9D0-0338AFF5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3DD60-C0FD-4778-B3FE-E6B8FB09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B7C52-2609-4B5C-82DF-32BCB46A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3FED-95AF-46DF-A93D-D7DE7853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F93D5-12F3-4A82-805C-DB604B40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8A5-B837-4B8B-886C-30E9B508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1ACA4-5335-4954-908D-7145D0AC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87C41-588C-4269-8920-FCEA1564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C2B5F-EDF6-4162-B3F3-2574BEA2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B96DB-4259-4240-905A-F8FADAA8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4E4A1-517F-4E58-98E2-472BC241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482A7-F249-4003-A590-06FEA850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7DEA6-7217-4DB3-A959-2FC19889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CEBCE-FC3D-4345-99B0-13E038EC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6A596-6235-4C83-AC6D-FD65302F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F63BB-4EBC-49C6-AA9D-9D790FA1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45C-322C-452E-9AB3-DE145916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894C6-FFFC-4D9D-8EB1-C249CD4F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DE15A-4528-40F8-B33A-9DAD08FE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C7EAC-50EE-425E-B461-5BDD6093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E744E-95EB-4639-8423-A2D5AF67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72A3D-591D-4462-94D9-6F4FE32E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3657E-5BD4-47D9-BE61-E0084302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EE5F4-A228-4024-A5C6-A9787604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7514B-1094-4A85-BCF4-39B635A0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51BB6-BE0E-4D5B-A6AF-5C47AE55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D2189-9F24-4430-BCA7-E722E291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F2A-E077-4F93-8624-902D3628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1BD6A-41A8-4EC1-BB83-57B3806F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DD82E-72F4-48DF-A030-F88C5FB8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61F52-5C68-45D0-96CA-A43D6719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393-60C3-4151-9E1E-D0607979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F2C-CA24-4A8E-95EB-7A437851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0C0D-8256-4BE2-B89E-56302F896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EA61-732A-40F5-A17F-C02A787C2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B668-CF5D-4F39-8CE2-188AF081D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563A-B7F3-4C21-9017-EFA662814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C063-04AC-4DBD-BB22-9658A5EC9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17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7347-8713-4B33-9056-8670ADC721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57400" y="907920"/>
            <a:ext cx="200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识字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17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1619280" y="1844640"/>
            <a:ext cx="5616360" cy="1800360"/>
            <a:chOff x="1619280" y="1844640"/>
            <a:chExt cx="5616360" cy="1800360"/>
          </a:xfrm>
        </p:grpSpPr>
        <p:grpSp>
          <p:nvGrpSpPr>
            <p:cNvPr id="298" name=""/>
            <p:cNvGrpSpPr/>
            <p:nvPr/>
          </p:nvGrpSpPr>
          <p:grpSpPr>
            <a:xfrm>
              <a:off x="1619280" y="1844640"/>
              <a:ext cx="1873080" cy="1800360"/>
              <a:chOff x="1619280" y="1844640"/>
              <a:chExt cx="1873080" cy="1800360"/>
            </a:xfrm>
          </p:grpSpPr>
          <p:sp>
            <p:nvSpPr>
              <p:cNvPr id="299" name=""/>
              <p:cNvSpPr/>
              <p:nvPr/>
            </p:nvSpPr>
            <p:spPr>
              <a:xfrm>
                <a:off x="1619280" y="1844640"/>
                <a:ext cx="1873080" cy="1800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619280" y="2708280"/>
                <a:ext cx="187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54200" y="1844640"/>
                <a:ext cx="0" cy="18003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3490920" y="1844640"/>
              <a:ext cx="1873080" cy="1800360"/>
              <a:chOff x="3490920" y="1844640"/>
              <a:chExt cx="1873080" cy="1800360"/>
            </a:xfrm>
          </p:grpSpPr>
          <p:sp>
            <p:nvSpPr>
              <p:cNvPr id="303" name=""/>
              <p:cNvSpPr/>
              <p:nvPr/>
            </p:nvSpPr>
            <p:spPr>
              <a:xfrm>
                <a:off x="3490920" y="1844640"/>
                <a:ext cx="1873080" cy="1800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90920" y="2708280"/>
                <a:ext cx="187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25840" y="1844640"/>
                <a:ext cx="0" cy="18003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362560" y="1844640"/>
              <a:ext cx="1873080" cy="1800360"/>
              <a:chOff x="5362560" y="1844640"/>
              <a:chExt cx="1873080" cy="1800360"/>
            </a:xfrm>
          </p:grpSpPr>
          <p:sp>
            <p:nvSpPr>
              <p:cNvPr id="307" name=""/>
              <p:cNvSpPr/>
              <p:nvPr/>
            </p:nvSpPr>
            <p:spPr>
              <a:xfrm>
                <a:off x="5362560" y="1844640"/>
                <a:ext cx="1873080" cy="1800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362560" y="2708280"/>
                <a:ext cx="187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297480" y="1844640"/>
                <a:ext cx="0" cy="18003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1619280" y="4005360"/>
            <a:ext cx="5616360" cy="1800000"/>
            <a:chOff x="1619280" y="4005360"/>
            <a:chExt cx="5616360" cy="1800000"/>
          </a:xfrm>
        </p:grpSpPr>
        <p:grpSp>
          <p:nvGrpSpPr>
            <p:cNvPr id="311" name=""/>
            <p:cNvGrpSpPr/>
            <p:nvPr/>
          </p:nvGrpSpPr>
          <p:grpSpPr>
            <a:xfrm>
              <a:off x="1619280" y="4005360"/>
              <a:ext cx="1873080" cy="1800000"/>
              <a:chOff x="1619280" y="4005360"/>
              <a:chExt cx="1873080" cy="1800000"/>
            </a:xfrm>
          </p:grpSpPr>
          <p:sp>
            <p:nvSpPr>
              <p:cNvPr id="312" name=""/>
              <p:cNvSpPr/>
              <p:nvPr/>
            </p:nvSpPr>
            <p:spPr>
              <a:xfrm>
                <a:off x="1619280" y="4005360"/>
                <a:ext cx="1873080" cy="1800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19280" y="4868640"/>
                <a:ext cx="187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54200" y="4005360"/>
                <a:ext cx="0" cy="180000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490920" y="4005360"/>
              <a:ext cx="1873080" cy="1800000"/>
              <a:chOff x="3490920" y="4005360"/>
              <a:chExt cx="1873080" cy="1800000"/>
            </a:xfrm>
          </p:grpSpPr>
          <p:sp>
            <p:nvSpPr>
              <p:cNvPr id="316" name=""/>
              <p:cNvSpPr/>
              <p:nvPr/>
            </p:nvSpPr>
            <p:spPr>
              <a:xfrm>
                <a:off x="3490920" y="4005360"/>
                <a:ext cx="1873080" cy="1800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490920" y="4868640"/>
                <a:ext cx="187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425840" y="4005360"/>
                <a:ext cx="0" cy="180000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362560" y="4005360"/>
              <a:ext cx="1873080" cy="1800000"/>
              <a:chOff x="5362560" y="4005360"/>
              <a:chExt cx="1873080" cy="1800000"/>
            </a:xfrm>
          </p:grpSpPr>
          <p:sp>
            <p:nvSpPr>
              <p:cNvPr id="320" name=""/>
              <p:cNvSpPr/>
              <p:nvPr/>
            </p:nvSpPr>
            <p:spPr>
              <a:xfrm>
                <a:off x="5362560" y="4005360"/>
                <a:ext cx="1873080" cy="1800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62560" y="4868640"/>
                <a:ext cx="187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97480" y="4005360"/>
                <a:ext cx="0" cy="180000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"/>
          <p:cNvSpPr/>
          <p:nvPr/>
        </p:nvSpPr>
        <p:spPr>
          <a:xfrm>
            <a:off x="3870000" y="15876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00"/>
                </a:solidFill>
                <a:latin typeface="Arial"/>
                <a:ea typeface="楷体"/>
              </a:rPr>
              <a:t>秀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91600" y="15876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00"/>
                </a:solidFill>
                <a:latin typeface="Arial"/>
                <a:ea typeface="楷体"/>
              </a:rPr>
              <a:t>香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020680" y="17316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00"/>
                </a:solidFill>
                <a:latin typeface="Arial"/>
                <a:ea typeface="华文楷体"/>
              </a:rPr>
              <a:t>李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6360" y="-54000"/>
            <a:ext cx="900144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4920" y="-311040"/>
            <a:ext cx="9648720" cy="77119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539000" y="3067920"/>
            <a:ext cx="2527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自己读课文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注意读准字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把课文读通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332000" y="1268280"/>
            <a:ext cx="518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云对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雾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雪对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霜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24320" y="116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08320" y="278136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2cdc"/>
                </a:solidFill>
                <a:latin typeface="Arial"/>
              </a:rPr>
              <a:t>shuā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5200560"/>
            <a:ext cx="2079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58920" y="3684600"/>
            <a:ext cx="56894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11640" y="5200560"/>
            <a:ext cx="2079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4360" y="5661000"/>
            <a:ext cx="432000" cy="289080"/>
          </a:xfrm>
          <a:custGeom>
            <a:avLst/>
            <a:gdLst>
              <a:gd name="textAreaLeft" fmla="*/ 18000 w 432000"/>
              <a:gd name="textAreaRight" fmla="*/ 414000 w 432000"/>
              <a:gd name="textAreaTop" fmla="*/ 18000 h 289080"/>
              <a:gd name="textAreaBottom" fmla="*/ 27108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916" y="1350"/>
                </a:lnTo>
                <a:lnTo>
                  <a:pt x="1350" y="135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916" y="20250"/>
                </a:lnTo>
                <a:lnTo>
                  <a:pt x="30916" y="135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916" y="2025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266" h="21600">
                <a:moveTo>
                  <a:pt x="9089" y="3756"/>
                </a:moveTo>
                <a:lnTo>
                  <a:pt x="23177" y="10800"/>
                </a:lnTo>
                <a:lnTo>
                  <a:pt x="9089" y="1784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114200" y="1413000"/>
            <a:ext cx="2452680" cy="4648320"/>
            <a:chOff x="1114200" y="1413000"/>
            <a:chExt cx="2452680" cy="4648320"/>
          </a:xfrm>
        </p:grpSpPr>
        <p:sp>
          <p:nvSpPr>
            <p:cNvPr id="339" name=""/>
            <p:cNvSpPr/>
            <p:nvPr/>
          </p:nvSpPr>
          <p:spPr>
            <a:xfrm>
              <a:off x="1117440" y="1532160"/>
              <a:ext cx="2449440" cy="45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</a:rPr>
                <a:t>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</a:rPr>
                <a:t>霜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114200" y="1413000"/>
              <a:ext cx="1086120" cy="3648600"/>
              <a:chOff x="1114200" y="1413000"/>
              <a:chExt cx="1086120" cy="3648600"/>
            </a:xfrm>
          </p:grpSpPr>
          <p:sp>
            <p:nvSpPr>
              <p:cNvPr id="341" name=""/>
              <p:cNvSpPr/>
              <p:nvPr/>
            </p:nvSpPr>
            <p:spPr>
              <a:xfrm>
                <a:off x="1334880" y="141300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Arial"/>
                  </a:rPr>
                  <a:t>w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14200" y="4662720"/>
                <a:ext cx="108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c2cdc"/>
                    </a:solidFill>
                    <a:latin typeface="Arial"/>
                  </a:rPr>
                  <a:t>shuā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98600" y="3430440"/>
            <a:ext cx="5038920" cy="31276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2298600" y="189000"/>
            <a:ext cx="5038920" cy="30956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85080" y="6013440"/>
            <a:ext cx="503280" cy="368280"/>
          </a:xfrm>
          <a:custGeom>
            <a:avLst/>
            <a:gdLst>
              <a:gd name="textAreaLeft" fmla="*/ 23040 w 503280"/>
              <a:gd name="textAreaRight" fmla="*/ 480600 w 503280"/>
              <a:gd name="textAreaTop" fmla="*/ 23040 h 368280"/>
              <a:gd name="textAreaBottom" fmla="*/ 345600 h 368280"/>
            </a:gdLst>
            <a:ahLst/>
            <a:rect l="textAreaLeft" t="textAreaTop" r="textAreaRight" b="textAreaBottom"/>
            <a:pathLst>
              <a:path w="29510" h="21600">
                <a:moveTo>
                  <a:pt x="0" y="0"/>
                </a:moveTo>
                <a:lnTo>
                  <a:pt x="29510" y="0"/>
                </a:lnTo>
                <a:lnTo>
                  <a:pt x="29510" y="21600"/>
                </a:lnTo>
                <a:lnTo>
                  <a:pt x="0" y="21600"/>
                </a:lnTo>
                <a:close/>
              </a:path>
              <a:path fill="lightenLess" w="29510" h="21600">
                <a:moveTo>
                  <a:pt x="0" y="0"/>
                </a:moveTo>
                <a:lnTo>
                  <a:pt x="29510" y="0"/>
                </a:lnTo>
                <a:lnTo>
                  <a:pt x="28160" y="1350"/>
                </a:lnTo>
                <a:lnTo>
                  <a:pt x="1350" y="1350"/>
                </a:lnTo>
                <a:close/>
              </a:path>
              <a:path fill="darken" w="29510" h="21600">
                <a:moveTo>
                  <a:pt x="29510" y="0"/>
                </a:moveTo>
                <a:lnTo>
                  <a:pt x="29510" y="21600"/>
                </a:lnTo>
                <a:lnTo>
                  <a:pt x="28160" y="20250"/>
                </a:lnTo>
                <a:lnTo>
                  <a:pt x="28160" y="1350"/>
                </a:lnTo>
                <a:close/>
              </a:path>
              <a:path fill="darkenLess" w="29510" h="21600">
                <a:moveTo>
                  <a:pt x="295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160" y="20250"/>
                </a:lnTo>
                <a:close/>
              </a:path>
              <a:path fill="lighten" w="295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9510" h="21600">
                <a:moveTo>
                  <a:pt x="7711" y="10800"/>
                </a:moveTo>
                <a:lnTo>
                  <a:pt x="21799" y="3756"/>
                </a:lnTo>
                <a:lnTo>
                  <a:pt x="21799" y="1784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956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498920" y="3587760"/>
            <a:ext cx="4321080" cy="3067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395280" y="3587760"/>
            <a:ext cx="4103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和风对细雨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朝霞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夕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阳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4720" y="3270240"/>
            <a:ext cx="34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dc"/>
                </a:solidFill>
                <a:latin typeface="Arial"/>
              </a:rPr>
              <a:t>zhāo xi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08360" y="32702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dc"/>
                </a:solidFill>
                <a:latin typeface="Arial"/>
              </a:rPr>
              <a:t>x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321080" cy="30672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179280" y="326880"/>
            <a:ext cx="4176720" cy="29671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4572000" y="326880"/>
            <a:ext cx="4321080" cy="29671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179280" y="3429000"/>
            <a:ext cx="41767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和风对细雨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朝霞对夕阳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687840" y="40053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19080" y="1378080"/>
            <a:ext cx="500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花对草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蝶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蜂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63640" y="306864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2cdc"/>
                </a:solidFill>
                <a:latin typeface="Arial"/>
              </a:rPr>
              <a:t>d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19640" y="303228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2cdc"/>
                </a:solidFill>
                <a:latin typeface="Arial"/>
              </a:rPr>
              <a:t>fē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3429000"/>
            <a:ext cx="676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948360" y="5877000"/>
            <a:ext cx="505080" cy="288720"/>
          </a:xfrm>
          <a:custGeom>
            <a:avLst/>
            <a:gdLst>
              <a:gd name="textAreaLeft" fmla="*/ 18000 w 505080"/>
              <a:gd name="textAreaRight" fmla="*/ 487080 w 505080"/>
              <a:gd name="textAreaTop" fmla="*/ 18000 h 288720"/>
              <a:gd name="textAreaBottom" fmla="*/ 27072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416" y="1350"/>
                </a:lnTo>
                <a:lnTo>
                  <a:pt x="1350" y="135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416" y="20250"/>
                </a:lnTo>
                <a:lnTo>
                  <a:pt x="36416" y="135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16" y="2025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66" h="21600">
                <a:moveTo>
                  <a:pt x="11839" y="3756"/>
                </a:moveTo>
                <a:lnTo>
                  <a:pt x="25927" y="10800"/>
                </a:lnTo>
                <a:lnTo>
                  <a:pt x="11839" y="1784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住读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课文，圈出来的生字拼读三遍，遇到不会读的生字，请你多拼读几遍，读完了举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蓝天对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碧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野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万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紫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对千红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27640" y="1125360"/>
            <a:ext cx="151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dc"/>
                </a:solidFill>
                <a:latin typeface="Arial"/>
              </a:rPr>
              <a:t>b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56000" y="3933720"/>
            <a:ext cx="93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27280" y="3789360"/>
            <a:ext cx="93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dc"/>
                </a:solidFill>
                <a:latin typeface="Arial"/>
              </a:rPr>
              <a:t>z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0" y="-162000"/>
            <a:ext cx="9648720" cy="80535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67560" y="56689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ffff"/>
                </a:solidFill>
                <a:latin typeface="Arial"/>
              </a:rPr>
              <a:t>碧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-703440"/>
            <a:ext cx="9612360" cy="8272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364000" y="-49320"/>
            <a:ext cx="37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</a:rPr>
              <a:t>蓝天碧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92160" y="1330200"/>
            <a:ext cx="50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桃对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李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柳对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杨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113184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2cdc"/>
                </a:solidFill>
                <a:latin typeface="Arial"/>
              </a:rPr>
              <a:t>l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92360" y="2960640"/>
            <a:ext cx="15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2cdc"/>
                </a:solidFill>
                <a:latin typeface="Arial"/>
              </a:rPr>
              <a:t>yá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03280" y="3429000"/>
            <a:ext cx="676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16000" y="3219480"/>
            <a:ext cx="6337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415120" y="3021120"/>
            <a:ext cx="347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山清对水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秀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鸟语对花香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88000" y="1268280"/>
            <a:ext cx="1079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dc"/>
                </a:solidFill>
                <a:latin typeface="Arial"/>
              </a:rPr>
              <a:t>x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424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44226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c2cdc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2c2cdc"/>
                </a:solidFill>
                <a:latin typeface="Arial"/>
              </a:rPr>
              <a:t>雾  霜  霞  朝 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c2cdc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2c2cdc"/>
                </a:solidFill>
                <a:latin typeface="Arial"/>
              </a:rPr>
              <a:t>蝶  蜂  李  杨 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c2cdc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2c2cdc"/>
                </a:solidFill>
                <a:latin typeface="Arial"/>
              </a:rPr>
              <a:t>紫  千  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790560" y="4762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42920" y="223992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42920" y="4076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41760" y="530280"/>
            <a:ext cx="38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Arial"/>
              </a:rPr>
              <a:t>雾 霜 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87640" y="23144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Arial"/>
              </a:rPr>
              <a:t>蝶 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32000" y="411156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Arial"/>
              </a:rPr>
              <a:t>李 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82920" y="11253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513160" y="2827440"/>
            <a:ext cx="411768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9643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c2cdc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c2cdc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2c2cdc"/>
                </a:solidFill>
                <a:latin typeface="楷体"/>
                <a:ea typeface="楷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雾 霞 夕 蝶 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碧 秀 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霜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蜂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6600" spc="-1" strike="noStrike">
                <a:solidFill>
                  <a:srgbClr val="333399"/>
                </a:solidFill>
                <a:latin typeface="楷体"/>
                <a:ea typeface="楷体"/>
              </a:rPr>
              <a:t>紫 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35120" y="-162000"/>
            <a:ext cx="8229600" cy="68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dc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dc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2c2cdc"/>
                </a:solidFill>
                <a:latin typeface="Arial"/>
              </a:rPr>
              <a:t>鸡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95640" y="1209600"/>
            <a:ext cx="28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c2cdc"/>
                </a:solidFill>
                <a:latin typeface="Arial"/>
              </a:rPr>
              <a:t>牛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2400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2cdc"/>
                </a:solidFill>
                <a:latin typeface="Arial"/>
              </a:rPr>
              <a:t>黄狗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050920" y="3141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2cdc"/>
                </a:solidFill>
                <a:latin typeface="Arial"/>
              </a:rPr>
              <a:t>xī  shuài </a:t>
            </a:r>
            <a:r>
              <a:rPr b="1" lang="zh-CN" sz="3600" spc="-1" strike="noStrike">
                <a:solidFill>
                  <a:srgbClr val="2c2cdc"/>
                </a:solidFill>
                <a:latin typeface="Arial"/>
              </a:rPr>
              <a:t>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79640" y="3860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zh-CN" sz="3600" spc="-1" strike="noStrike">
                <a:solidFill>
                  <a:srgbClr val="2c2cdc"/>
                </a:solidFill>
                <a:latin typeface="Arial"/>
              </a:rPr>
              <a:t>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63640" y="4653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2cdc"/>
                </a:solidFill>
                <a:latin typeface="Arial"/>
              </a:rPr>
              <a:t>熊猫不是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2cdc"/>
                </a:solidFill>
                <a:latin typeface="Arial"/>
              </a:rPr>
              <a:t>龙虾也是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9643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c2cdc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c2cdc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2c2cdc"/>
                </a:solidFill>
                <a:latin typeface="楷体"/>
                <a:ea typeface="楷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雾  霜  霞</a:t>
            </a:r>
            <a:r>
              <a:rPr b="1" lang="en-US" sz="6600" spc="-1" strike="noStrike">
                <a:solidFill>
                  <a:srgbClr val="2c2cdc"/>
                </a:solidFill>
                <a:latin typeface="楷体"/>
                <a:ea typeface="楷体"/>
              </a:rPr>
              <a:t>  朝 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c2cdc"/>
                </a:solidFill>
                <a:latin typeface="楷体"/>
                <a:ea typeface="楷体"/>
              </a:rPr>
              <a:t>  </a:t>
            </a:r>
            <a:r>
              <a:rPr b="1" lang="zh-CN" sz="6600" spc="-1" strike="noStrike">
                <a:solidFill>
                  <a:srgbClr val="cc3300"/>
                </a:solidFill>
                <a:latin typeface="楷体"/>
                <a:ea typeface="楷体"/>
              </a:rPr>
              <a:t>蝶  蜂</a:t>
            </a:r>
            <a:r>
              <a:rPr b="1" lang="en-US" sz="6600" spc="-1" strike="noStrike">
                <a:solidFill>
                  <a:srgbClr val="2c2cdc"/>
                </a:solidFill>
                <a:latin typeface="楷体"/>
                <a:ea typeface="楷体"/>
              </a:rPr>
              <a:t>  </a:t>
            </a:r>
            <a:r>
              <a:rPr b="1" lang="zh-CN" sz="6600" spc="-1" strike="noStrike">
                <a:solidFill>
                  <a:srgbClr val="cc0066"/>
                </a:solidFill>
                <a:latin typeface="楷体"/>
                <a:ea typeface="楷体"/>
              </a:rPr>
              <a:t>李  杨</a:t>
            </a:r>
            <a:r>
              <a:rPr b="1" lang="en-US" sz="6600" spc="-1" strike="noStrike">
                <a:solidFill>
                  <a:srgbClr val="2c2cdc"/>
                </a:solidFill>
                <a:latin typeface="楷体"/>
                <a:ea typeface="楷体"/>
              </a:rPr>
              <a:t> 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c2cdc"/>
                </a:solidFill>
                <a:latin typeface="楷体"/>
                <a:ea typeface="楷体"/>
              </a:rPr>
              <a:t>  </a:t>
            </a:r>
            <a:r>
              <a:rPr b="1" lang="zh-CN" sz="6600" spc="-1" strike="noStrike">
                <a:solidFill>
                  <a:srgbClr val="2c2cdc"/>
                </a:solidFill>
                <a:latin typeface="楷体"/>
                <a:ea typeface="楷体"/>
              </a:rPr>
              <a:t>紫  千  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和同桌讨论你是用什么好办法记住这些字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只能和你的同桌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讨论的内容是记这些生字的方法，不能说别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如果你发现同桌有很巧妙的方法，可以举手邀请老师和你们一起讨论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讨论完了举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0560" y="4762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223992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4076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1760" y="530280"/>
            <a:ext cx="38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楷体"/>
                <a:ea typeface="楷体"/>
              </a:rPr>
              <a:t>雾 霜 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87640" y="23144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楷体"/>
                <a:ea typeface="楷体"/>
              </a:rPr>
              <a:t>蝶 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32000" y="411156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楷体"/>
                <a:ea typeface="楷体"/>
              </a:rPr>
              <a:t>李 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2920" y="11253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13160" y="2827440"/>
            <a:ext cx="4117680" cy="1203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294160" y="3502080"/>
            <a:ext cx="38721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-824040" y="-352440"/>
            <a:ext cx="10379160" cy="7454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304440" y="2309040"/>
            <a:ext cx="38764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朝阳  晚霞  晨雾   秋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山清水秀    万紫千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和风细雨    鸟语花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11240" y="0"/>
            <a:ext cx="10005840" cy="7245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21360000">
            <a:off x="1692000" y="1217520"/>
            <a:ext cx="5162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"/>
              </a:rPr>
              <a:t>学写汉字的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、看清楚汉字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结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、写对汉字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笔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、要特别注意它在田字格里的位置。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注意占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17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1619280" y="1844640"/>
            <a:ext cx="5616360" cy="1800360"/>
            <a:chOff x="1619280" y="1844640"/>
            <a:chExt cx="5616360" cy="1800360"/>
          </a:xfrm>
        </p:grpSpPr>
        <p:grpSp>
          <p:nvGrpSpPr>
            <p:cNvPr id="269" name=""/>
            <p:cNvGrpSpPr/>
            <p:nvPr/>
          </p:nvGrpSpPr>
          <p:grpSpPr>
            <a:xfrm>
              <a:off x="1619280" y="1844640"/>
              <a:ext cx="1873080" cy="1800360"/>
              <a:chOff x="1619280" y="1844640"/>
              <a:chExt cx="1873080" cy="1800360"/>
            </a:xfrm>
          </p:grpSpPr>
          <p:sp>
            <p:nvSpPr>
              <p:cNvPr id="270" name=""/>
              <p:cNvSpPr/>
              <p:nvPr/>
            </p:nvSpPr>
            <p:spPr>
              <a:xfrm>
                <a:off x="1619280" y="1844640"/>
                <a:ext cx="1873080" cy="1800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619280" y="2708280"/>
                <a:ext cx="187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554200" y="1844640"/>
                <a:ext cx="0" cy="18003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490920" y="1844640"/>
              <a:ext cx="1873080" cy="1800360"/>
              <a:chOff x="3490920" y="1844640"/>
              <a:chExt cx="1873080" cy="1800360"/>
            </a:xfrm>
          </p:grpSpPr>
          <p:sp>
            <p:nvSpPr>
              <p:cNvPr id="274" name=""/>
              <p:cNvSpPr/>
              <p:nvPr/>
            </p:nvSpPr>
            <p:spPr>
              <a:xfrm>
                <a:off x="3490920" y="1844640"/>
                <a:ext cx="1873080" cy="1800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90920" y="2708280"/>
                <a:ext cx="187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25840" y="1844640"/>
                <a:ext cx="0" cy="18003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362560" y="1844640"/>
              <a:ext cx="1873080" cy="1800360"/>
              <a:chOff x="5362560" y="1844640"/>
              <a:chExt cx="1873080" cy="1800360"/>
            </a:xfrm>
          </p:grpSpPr>
          <p:sp>
            <p:nvSpPr>
              <p:cNvPr id="278" name=""/>
              <p:cNvSpPr/>
              <p:nvPr/>
            </p:nvSpPr>
            <p:spPr>
              <a:xfrm>
                <a:off x="5362560" y="1844640"/>
                <a:ext cx="1873080" cy="1800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362560" y="2708280"/>
                <a:ext cx="187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97480" y="1844640"/>
                <a:ext cx="0" cy="180036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619280" y="4005360"/>
            <a:ext cx="5616360" cy="1800000"/>
            <a:chOff x="1619280" y="4005360"/>
            <a:chExt cx="5616360" cy="1800000"/>
          </a:xfrm>
        </p:grpSpPr>
        <p:grpSp>
          <p:nvGrpSpPr>
            <p:cNvPr id="282" name=""/>
            <p:cNvGrpSpPr/>
            <p:nvPr/>
          </p:nvGrpSpPr>
          <p:grpSpPr>
            <a:xfrm>
              <a:off x="1619280" y="4005360"/>
              <a:ext cx="1873080" cy="1800000"/>
              <a:chOff x="1619280" y="4005360"/>
              <a:chExt cx="1873080" cy="1800000"/>
            </a:xfrm>
          </p:grpSpPr>
          <p:sp>
            <p:nvSpPr>
              <p:cNvPr id="283" name=""/>
              <p:cNvSpPr/>
              <p:nvPr/>
            </p:nvSpPr>
            <p:spPr>
              <a:xfrm>
                <a:off x="1619280" y="4005360"/>
                <a:ext cx="1873080" cy="1800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19280" y="4868640"/>
                <a:ext cx="187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54200" y="4005360"/>
                <a:ext cx="0" cy="180000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3490920" y="4005360"/>
              <a:ext cx="1873080" cy="1800000"/>
              <a:chOff x="3490920" y="4005360"/>
              <a:chExt cx="1873080" cy="1800000"/>
            </a:xfrm>
          </p:grpSpPr>
          <p:sp>
            <p:nvSpPr>
              <p:cNvPr id="287" name=""/>
              <p:cNvSpPr/>
              <p:nvPr/>
            </p:nvSpPr>
            <p:spPr>
              <a:xfrm>
                <a:off x="3490920" y="4005360"/>
                <a:ext cx="1873080" cy="1800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90920" y="4868640"/>
                <a:ext cx="187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25840" y="4005360"/>
                <a:ext cx="0" cy="180000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362560" y="4005360"/>
              <a:ext cx="1873080" cy="1800000"/>
              <a:chOff x="5362560" y="4005360"/>
              <a:chExt cx="1873080" cy="1800000"/>
            </a:xfrm>
          </p:grpSpPr>
          <p:sp>
            <p:nvSpPr>
              <p:cNvPr id="291" name=""/>
              <p:cNvSpPr/>
              <p:nvPr/>
            </p:nvSpPr>
            <p:spPr>
              <a:xfrm>
                <a:off x="5362560" y="4005360"/>
                <a:ext cx="1873080" cy="1800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362560" y="4868640"/>
                <a:ext cx="187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97480" y="4005360"/>
                <a:ext cx="0" cy="180000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"/>
          <p:cNvSpPr/>
          <p:nvPr/>
        </p:nvSpPr>
        <p:spPr>
          <a:xfrm>
            <a:off x="3870000" y="15876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00"/>
                </a:solidFill>
                <a:latin typeface="Arial"/>
                <a:ea typeface="楷体"/>
              </a:rPr>
              <a:t>语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43440" y="17334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00"/>
                </a:solidFill>
                <a:latin typeface="Arial"/>
                <a:ea typeface="华文楷体"/>
              </a:rPr>
              <a:t>千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20680" y="17316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00"/>
                </a:solidFill>
                <a:latin typeface="Arial"/>
                <a:ea typeface="华文楷体"/>
              </a:rPr>
              <a:t>和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2:39:15Z</dcterms:created>
  <dc:creator>fxh</dc:creator>
  <dc:description/>
  <dc:language>en-US</dc:language>
  <cp:lastModifiedBy>fxh</cp:lastModifiedBy>
  <cp:lastPrinted>1899-12-30T00:00:00Z</cp:lastPrinted>
  <dcterms:modified xsi:type="dcterms:W3CDTF">2006-03-01T14:27:00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