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1.jpeg" ContentType="image/jpeg"/>
  <Override PartName="/ppt/media/image6.gif" ContentType="image/gif"/>
  <Override PartName="/ppt/media/image20.jpeg" ContentType="image/jpeg"/>
  <Override PartName="/ppt/media/image19.jpeg" ContentType="image/jpeg"/>
  <Override PartName="/ppt/media/image32.gif" ContentType="image/gif"/>
  <Override PartName="/ppt/media/image18.png" ContentType="image/png"/>
  <Override PartName="/ppt/media/image17.png" ContentType="image/png"/>
  <Override PartName="/ppt/media/image16.jpeg" ContentType="image/jpeg"/>
  <Override PartName="/ppt/media/NATURE.WAV" ContentType="audio/x-wav"/>
  <Override PartName="/ppt/media/image9.gif" ContentType="image/gif"/>
  <Override PartName="/ppt/media/image39.gif" ContentType="image/gif"/>
  <Override PartName="/ppt/media/image15.jpeg" ContentType="image/jpeg"/>
  <Override PartName="/ppt/media/applause.wav" ContentType="audio/x-wav"/>
  <Override PartName="/ppt/media/image27.jpeg" ContentType="image/jpeg"/>
  <Override PartName="/ppt/media/image8.jpeg" ContentType="image/jpeg"/>
  <Override PartName="/ppt/media/image7.gif" ContentType="image/gif"/>
  <Override PartName="/ppt/media/image29.jpeg" ContentType="image/jpeg"/>
  <Override PartName="/ppt/media/image35.jpeg" ContentType="image/jpeg"/>
  <Override PartName="/ppt/media/image3.gif" ContentType="image/gif"/>
  <Override PartName="/ppt/media/image33.gif" ContentType="image/gif"/>
  <Override PartName="/ppt/media/image26.jpeg" ContentType="image/jpeg"/>
  <Override PartName="/ppt/media/%E9%B8%9F30.WAV" ContentType="audio/x-wav"/>
  <Override PartName="/ppt/media/image31.jpeg" ContentType="image/jpeg"/>
  <Override PartName="/ppt/media/image28.jpeg" ContentType="image/jpeg"/>
  <Override PartName="/ppt/media/image30.jpeg" ContentType="image/jpeg"/>
  <Override PartName="/ppt/media/MTC_018.WAV" ContentType="audio/x-wav"/>
  <Override PartName="/ppt/media/image10.gif" ContentType="image/gif"/>
  <Override PartName="/ppt/media/image12.jpeg" ContentType="image/jpeg"/>
  <Override PartName="/ppt/media/%E9%9F%B3%E4%B9%9014.WAV" ContentType="audio/x-wav"/>
  <Override PartName="/ppt/media/image37.jpeg" ContentType="image/jpeg"/>
  <Override PartName="/ppt/media/image38.jpeg" ContentType="image/jpeg"/>
  <Override PartName="/ppt/media/image5.gif" ContentType="image/gif"/>
  <Override PartName="/ppt/media/image14.jpeg" ContentType="image/jpeg"/>
  <Override PartName="/ppt/media/image11.jpeg" ContentType="image/jpeg"/>
  <Override PartName="/ppt/media/image34.gif" ContentType="image/gif"/>
  <Override PartName="/ppt/media/image4.gif" ContentType="image/gif"/>
  <Override PartName="/ppt/media/image22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B0BFA-8D18-44D4-AF0A-CFF2B3C05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51EA-58E6-4997-B585-DBAD45F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272-DFE6-4C30-881A-26192BB98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C7B5-5312-4F35-B0FC-8EEF9D0D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1CC3-658A-44B6-9299-A33D08C5A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7206-2F61-4E40-B057-82226871A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5EAD-0C8D-47B5-9A5B-846CAAAB6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29B0-30E6-4D4B-A9B8-00656A08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60C-9B5B-4480-8D27-B2B0765E7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29A5-9E84-4978-9A2E-518764C21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0E87-B7C5-4FEE-B3AF-B3E89CBE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E67-F6BC-43E5-8C42-4800AEA3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24324-1443-4E50-9DF0-768648F09E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5.gif"/><Relationship Id="rId13" Type="http://schemas.openxmlformats.org/officeDocument/2006/relationships/image" Target="../media/image5.gif"/><Relationship Id="rId14" Type="http://schemas.openxmlformats.org/officeDocument/2006/relationships/image" Target="../media/image5.gif"/><Relationship Id="rId15" Type="http://schemas.openxmlformats.org/officeDocument/2006/relationships/image" Target="../media/image6.gif"/><Relationship Id="rId16" Type="http://schemas.openxmlformats.org/officeDocument/2006/relationships/image" Target="../media/image7.gif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slideLayout" Target="../slideLayouts/slideLayout1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20.jpeg"/><Relationship Id="rId6" Type="http://schemas.openxmlformats.org/officeDocument/2006/relationships/image" Target="../media/image18.png"/><Relationship Id="rId7" Type="http://schemas.openxmlformats.org/officeDocument/2006/relationships/image" Target="../media/image21.jpeg"/><Relationship Id="rId8" Type="http://schemas.openxmlformats.org/officeDocument/2006/relationships/image" Target="../media/image18.png"/><Relationship Id="rId9" Type="http://schemas.openxmlformats.org/officeDocument/2006/relationships/image" Target="../media/image22.jpeg"/><Relationship Id="rId10" Type="http://schemas.openxmlformats.org/officeDocument/2006/relationships/image" Target="../media/image18.png"/><Relationship Id="rId11" Type="http://schemas.openxmlformats.org/officeDocument/2006/relationships/image" Target="../media/image23.jpeg"/><Relationship Id="rId12" Type="http://schemas.openxmlformats.org/officeDocument/2006/relationships/image" Target="../media/image18.png"/><Relationship Id="rId13" Type="http://schemas.openxmlformats.org/officeDocument/2006/relationships/image" Target="../media/image24.jpeg"/><Relationship Id="rId14" Type="http://schemas.openxmlformats.org/officeDocument/2006/relationships/image" Target="../media/image18.png"/><Relationship Id="rId15" Type="http://schemas.openxmlformats.org/officeDocument/2006/relationships/image" Target="../media/image25.jpeg"/><Relationship Id="rId16" Type="http://schemas.openxmlformats.org/officeDocument/2006/relationships/image" Target="../media/image18.png"/><Relationship Id="rId17" Type="http://schemas.openxmlformats.org/officeDocument/2006/relationships/image" Target="../media/image26.jpeg"/><Relationship Id="rId18" Type="http://schemas.openxmlformats.org/officeDocument/2006/relationships/image" Target="../media/image18.png"/><Relationship Id="rId19" Type="http://schemas.openxmlformats.org/officeDocument/2006/relationships/image" Target="../media/image27.jpeg"/><Relationship Id="rId20" Type="http://schemas.openxmlformats.org/officeDocument/2006/relationships/image" Target="../media/image18.png"/><Relationship Id="rId21" Type="http://schemas.openxmlformats.org/officeDocument/2006/relationships/image" Target="../media/image28.jpeg"/><Relationship Id="rId22" Type="http://schemas.openxmlformats.org/officeDocument/2006/relationships/audio" Target="../media/&#40479;30.WAV"/><Relationship Id="rId2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file:///tmp/home/.config/libreoffice/4/user/gallery/Bird1.wav" TargetMode="External"/><Relationship Id="rId3" Type="http://schemas.openxmlformats.org/officeDocument/2006/relationships/image" Target="../media/image3.gif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jpeg"/><Relationship Id="rId3" Type="http://schemas.openxmlformats.org/officeDocument/2006/relationships/image" Target="../media/image32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2.gif"/><Relationship Id="rId8" Type="http://schemas.openxmlformats.org/officeDocument/2006/relationships/image" Target="../media/image33.gif"/><Relationship Id="rId9" Type="http://schemas.openxmlformats.org/officeDocument/2006/relationships/image" Target="../media/image34.gif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6.xml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7.gif"/><Relationship Id="rId1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audio" Target="../media/&#38899;&#20048;14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18.xml"/><Relationship Id="rId3" Type="http://schemas.openxmlformats.org/officeDocument/2006/relationships/image" Target="../media/image36.jpeg"/><Relationship Id="rId4" Type="http://schemas.openxmlformats.org/officeDocument/2006/relationships/audio" Target="../media/&#40479;30.WAV"/><Relationship Id="rId5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17.png"/><Relationship Id="rId3" Type="http://schemas.openxmlformats.org/officeDocument/2006/relationships/image" Target="../media/image39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audio" Target="../media/NATUR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MTC_018.WAV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&#38899;&#20048;14.WAV"/><Relationship Id="rId3" Type="http://schemas.openxmlformats.org/officeDocument/2006/relationships/audio" Target="../media/&#38899;&#20048;14.WAV"/><Relationship Id="rId4" Type="http://schemas.openxmlformats.org/officeDocument/2006/relationships/audio" Target="../media/&#38899;&#20048;14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324160" y="25401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515280" y="25401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324160" y="4879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2987640" y="198900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9 </a:t>
            </a: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两只鸟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8900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义务教育课程标准实验教科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116000" y="119700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372360" y="90792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1763640" y="530064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>
            <a:off x="3995640" y="515772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5292720" y="472428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8532720" y="515772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2916360" y="6499080"/>
            <a:ext cx="250560" cy="3589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2"/>
          <a:stretch/>
        </p:blipFill>
        <p:spPr>
          <a:xfrm>
            <a:off x="684360" y="4869000"/>
            <a:ext cx="250560" cy="358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3"/>
          <a:stretch/>
        </p:blipFill>
        <p:spPr>
          <a:xfrm>
            <a:off x="5435640" y="616572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4"/>
          <a:stretch/>
        </p:blipFill>
        <p:spPr>
          <a:xfrm>
            <a:off x="5796000" y="530064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5"/>
          <a:stretch/>
        </p:blipFill>
        <p:spPr>
          <a:xfrm>
            <a:off x="2050920" y="4653000"/>
            <a:ext cx="960480" cy="10080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6"/>
          <a:stretch/>
        </p:blipFill>
        <p:spPr>
          <a:xfrm>
            <a:off x="7812000" y="189000"/>
            <a:ext cx="1114560" cy="879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7"/>
          <a:stretch/>
        </p:blipFill>
        <p:spPr>
          <a:xfrm>
            <a:off x="6516720" y="-3049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8"/>
          <a:stretch/>
        </p:blipFill>
        <p:spPr>
          <a:xfrm>
            <a:off x="4500720" y="-60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15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401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971640" y="1916280"/>
            <a:ext cx="727236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187280" y="1916280"/>
            <a:ext cx="6624720" cy="4572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105200" y="40464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小鸟出生啦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3895560" y="2511360"/>
            <a:ext cx="2561040" cy="1624320"/>
            <a:chOff x="3895560" y="2511360"/>
            <a:chExt cx="2561040" cy="1624320"/>
          </a:xfrm>
        </p:grpSpPr>
        <p:sp>
          <p:nvSpPr>
            <p:cNvPr id="125" name=""/>
            <p:cNvSpPr/>
            <p:nvPr/>
          </p:nvSpPr>
          <p:spPr>
            <a:xfrm rot="14280600">
              <a:off x="4014720" y="2906280"/>
              <a:ext cx="1195200" cy="9442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5076360" y="2852640"/>
              <a:ext cx="574920" cy="360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849280" y="25113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弟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30000" y="3325320"/>
            <a:ext cx="3096720" cy="1828440"/>
            <a:chOff x="3330000" y="3325320"/>
            <a:chExt cx="3096720" cy="1828440"/>
          </a:xfrm>
        </p:grpSpPr>
        <p:sp>
          <p:nvSpPr>
            <p:cNvPr id="129" name=""/>
            <p:cNvSpPr/>
            <p:nvPr/>
          </p:nvSpPr>
          <p:spPr>
            <a:xfrm rot="2070000">
              <a:off x="4816440" y="3600360"/>
              <a:ext cx="1368360" cy="127800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995640" y="4508280"/>
              <a:ext cx="863640" cy="21564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30000" y="43848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</a:rPr>
                <a:t>哥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9144000" y="6705720"/>
            <a:ext cx="304920" cy="304560"/>
          </a:xfrm>
          <a:prstGeom prst="rect">
            <a:avLst/>
          </a:prstGeom>
          <a:ln w="0">
            <a:noFill/>
          </a:ln>
        </p:spPr>
      </p:pic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4" name="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" descr=""/>
            <p:cNvPicPr/>
            <p:nvPr/>
          </p:nvPicPr>
          <p:blipFill>
            <a:blip r:embed="rId5"/>
            <a:stretch/>
          </p:blipFill>
          <p:spPr>
            <a:xfrm>
              <a:off x="1042920" y="1916280"/>
              <a:ext cx="720108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37" name="" descr="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7"/>
            <a:stretch/>
          </p:blipFill>
          <p:spPr>
            <a:xfrm>
              <a:off x="1116000" y="1916280"/>
              <a:ext cx="705636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726120" y="247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两天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1" name="" descr=""/>
            <p:cNvPicPr/>
            <p:nvPr/>
          </p:nvPicPr>
          <p:blipFill>
            <a:blip r:embed="rId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26120" y="2476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Arial"/>
                </a:rPr>
                <a:t>九天了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9"/>
            <a:stretch/>
          </p:blipFill>
          <p:spPr>
            <a:xfrm>
              <a:off x="1042920" y="1844640"/>
              <a:ext cx="720108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5" name="" descr=""/>
            <p:cNvPicPr/>
            <p:nvPr/>
          </p:nvPicPr>
          <p:blipFill>
            <a:blip r:embed="rId1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1789560" y="1890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鸟妈妈和鸟宝宝在一起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" descr=""/>
            <p:cNvPicPr/>
            <p:nvPr/>
          </p:nvPicPr>
          <p:blipFill>
            <a:blip r:embed="rId11"/>
            <a:stretch/>
          </p:blipFill>
          <p:spPr>
            <a:xfrm>
              <a:off x="1116000" y="1844640"/>
              <a:ext cx="7056360" cy="4608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49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1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1" name="" descr=""/>
            <p:cNvPicPr/>
            <p:nvPr/>
          </p:nvPicPr>
          <p:blipFill>
            <a:blip r:embed="rId13"/>
            <a:stretch/>
          </p:blipFill>
          <p:spPr>
            <a:xfrm>
              <a:off x="1042920" y="1916280"/>
              <a:ext cx="720108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3" name="" descr="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1014120" y="260280"/>
              <a:ext cx="1155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半个月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5"/>
            <a:stretch/>
          </p:blipFill>
          <p:spPr>
            <a:xfrm>
              <a:off x="1116000" y="1916280"/>
              <a:ext cx="7128000" cy="457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7" name="" descr="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21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17"/>
            <a:stretch/>
          </p:blipFill>
          <p:spPr>
            <a:xfrm>
              <a:off x="1042920" y="1844640"/>
              <a:ext cx="720108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1" name="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801360" y="284040"/>
              <a:ext cx="1216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zh-CN" sz="3200" spc="-1" strike="noStrike">
                  <a:solidFill>
                    <a:srgbClr val="ff0000"/>
                  </a:solidFill>
                  <a:latin typeface="Arial"/>
                </a:rPr>
                <a:t>天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" descr=""/>
            <p:cNvPicPr/>
            <p:nvPr/>
          </p:nvPicPr>
          <p:blipFill>
            <a:blip r:embed="rId19"/>
            <a:stretch/>
          </p:blipFill>
          <p:spPr>
            <a:xfrm>
              <a:off x="971640" y="1844640"/>
              <a:ext cx="7272360" cy="468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5" name="" descr=""/>
            <p:cNvPicPr/>
            <p:nvPr/>
          </p:nvPicPr>
          <p:blipFill>
            <a:blip r:embed="rId20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1767960" y="18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个月啦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长成一只漂亮的小鸟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7" name="" descr=""/>
            <p:cNvPicPr/>
            <p:nvPr/>
          </p:nvPicPr>
          <p:blipFill>
            <a:blip r:embed="rId21"/>
            <a:stretch/>
          </p:blipFill>
          <p:spPr>
            <a:xfrm>
              <a:off x="971640" y="1844640"/>
              <a:ext cx="7345440" cy="468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3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10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3" presetSubtype="16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59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5" presetSubtype="10">
                                  <p:stCondLst>
                                    <p:cond delay="19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1" presetSubtype="4">
                                  <p:stCondLst>
                                    <p:cond delay="23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8" presetSubtype="12">
                                  <p:stCondLst>
                                    <p:cond delay="285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8" presetSubtype="16">
                                  <p:stCondLst>
                                    <p:cond delay="325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3" presetSubtype="16">
                                  <p:stCondLst>
                                    <p:cond delay="365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6" presetSubtype="16">
                                  <p:stCondLst>
                                    <p:cond delay="405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4">
                                  <p:stCondLst>
                                    <p:cond delay="44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%E9%B8%9F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7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767960" y="189000"/>
              <a:ext cx="103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一个月啦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!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长成一只漂亮的小鸟了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3" name="" descr=""/>
            <p:cNvPicPr/>
            <p:nvPr/>
          </p:nvPicPr>
          <p:blipFill>
            <a:blip r:embed="rId2"/>
            <a:stretch/>
          </p:blipFill>
          <p:spPr>
            <a:xfrm>
              <a:off x="971640" y="1844640"/>
              <a:ext cx="7345440" cy="4680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124000" y="2349360"/>
            <a:ext cx="58327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两只鸟蛋就是两只小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9144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 rot="747000">
            <a:off x="6516720" y="1197000"/>
            <a:ext cx="1387440" cy="12603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 rot="20740800">
            <a:off x="4716360" y="907560"/>
            <a:ext cx="1152720" cy="104796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89917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963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963"/>
                            </p:stCondLst>
                            <p:childTnLst>
                              <p:par>
                                <p:cTn id="1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" dur="2058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50000">
              <a:srgbClr val="ffffff"/>
            </a:gs>
            <a:gs pos="100000">
              <a:srgbClr val="66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1008252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 flipH="1">
            <a:off x="3347640" y="1662120"/>
            <a:ext cx="1871640" cy="993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942120" y="177408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焦急不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4"/>
          <a:stretch/>
        </p:blipFill>
        <p:spPr>
          <a:xfrm>
            <a:off x="914400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" dur="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1116000" y="2944800"/>
            <a:ext cx="6264360" cy="4013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0"/>
            <a:ext cx="8388360" cy="3049200"/>
          </a:xfrm>
          <a:prstGeom prst="rect">
            <a:avLst/>
          </a:prstGeom>
          <a:solidFill>
            <a:srgbClr val="cc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妈妈看见了，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两只鸟蛋就是两只小鸟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鸟妈妈这会儿一定焦急不安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908000" y="3008160"/>
            <a:ext cx="5832720" cy="42195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3222720" y="233280"/>
            <a:ext cx="4295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我小心地捧着鸟蛋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连忙走到树边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楷体_GB2312"/>
              </a:rPr>
              <a:t>轻轻地把鸟蛋送还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2916360" y="1125360"/>
            <a:ext cx="1799280" cy="215640"/>
            <a:chOff x="2916360" y="1125360"/>
            <a:chExt cx="1799280" cy="215640"/>
          </a:xfrm>
        </p:grpSpPr>
        <p:sp>
          <p:nvSpPr>
            <p:cNvPr id="190" name=""/>
            <p:cNvSpPr/>
            <p:nvPr/>
          </p:nvSpPr>
          <p:spPr>
            <a:xfrm>
              <a:off x="2916360" y="1125360"/>
              <a:ext cx="36108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7800" y="1125360"/>
              <a:ext cx="36036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355280" y="1125360"/>
              <a:ext cx="36036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2195640" y="2924280"/>
            <a:ext cx="1797840" cy="215280"/>
            <a:chOff x="2195640" y="2924280"/>
            <a:chExt cx="1797840" cy="215280"/>
          </a:xfrm>
        </p:grpSpPr>
        <p:sp>
          <p:nvSpPr>
            <p:cNvPr id="194" name=""/>
            <p:cNvSpPr/>
            <p:nvPr/>
          </p:nvSpPr>
          <p:spPr>
            <a:xfrm>
              <a:off x="2195640" y="2924280"/>
              <a:ext cx="360720" cy="215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16720" y="2924280"/>
              <a:ext cx="360000" cy="215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33480" y="2924280"/>
              <a:ext cx="360000" cy="2152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5149800" y="1125360"/>
            <a:ext cx="1150200" cy="214200"/>
            <a:chOff x="5149800" y="1125360"/>
            <a:chExt cx="1150200" cy="214200"/>
          </a:xfrm>
        </p:grpSpPr>
        <p:sp>
          <p:nvSpPr>
            <p:cNvPr id="198" name=""/>
            <p:cNvSpPr/>
            <p:nvPr/>
          </p:nvSpPr>
          <p:spPr>
            <a:xfrm>
              <a:off x="5149800" y="1125360"/>
              <a:ext cx="383040" cy="214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16960" y="1125360"/>
              <a:ext cx="383040" cy="214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2124000" y="2060640"/>
            <a:ext cx="1151640" cy="215640"/>
            <a:chOff x="2124000" y="2060640"/>
            <a:chExt cx="1151640" cy="215640"/>
          </a:xfrm>
        </p:grpSpPr>
        <p:sp>
          <p:nvSpPr>
            <p:cNvPr id="201" name=""/>
            <p:cNvSpPr/>
            <p:nvPr/>
          </p:nvSpPr>
          <p:spPr>
            <a:xfrm>
              <a:off x="2124000" y="2060640"/>
              <a:ext cx="3834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92240" y="2060640"/>
              <a:ext cx="383400" cy="2156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2771640" y="-30492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204" name=""/>
          <p:cNvGrpSpPr/>
          <p:nvPr/>
        </p:nvGrpSpPr>
        <p:grpSpPr>
          <a:xfrm>
            <a:off x="0" y="2565360"/>
            <a:ext cx="5724360" cy="4292640"/>
            <a:chOff x="0" y="2565360"/>
            <a:chExt cx="5724360" cy="4292640"/>
          </a:xfrm>
        </p:grpSpPr>
        <p:pic>
          <p:nvPicPr>
            <p:cNvPr id="205" name="" descr=""/>
            <p:cNvPicPr/>
            <p:nvPr/>
          </p:nvPicPr>
          <p:blipFill>
            <a:blip r:embed="rId2"/>
            <a:stretch/>
          </p:blipFill>
          <p:spPr>
            <a:xfrm>
              <a:off x="0" y="2565360"/>
              <a:ext cx="5724360" cy="429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" descr=""/>
            <p:cNvPicPr/>
            <p:nvPr/>
          </p:nvPicPr>
          <p:blipFill>
            <a:blip r:embed="rId3"/>
            <a:stretch/>
          </p:blipFill>
          <p:spPr>
            <a:xfrm>
              <a:off x="2636640" y="4277160"/>
              <a:ext cx="586080" cy="40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" descr=""/>
            <p:cNvPicPr/>
            <p:nvPr/>
          </p:nvPicPr>
          <p:blipFill>
            <a:blip r:embed="rId4"/>
            <a:stretch/>
          </p:blipFill>
          <p:spPr>
            <a:xfrm>
              <a:off x="473040" y="2683440"/>
              <a:ext cx="95400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" descr=""/>
            <p:cNvPicPr/>
            <p:nvPr/>
          </p:nvPicPr>
          <p:blipFill>
            <a:blip r:embed="rId5"/>
            <a:stretch/>
          </p:blipFill>
          <p:spPr>
            <a:xfrm flipH="1">
              <a:off x="2051280" y="2565360"/>
              <a:ext cx="95400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9" name="" descr=""/>
            <p:cNvPicPr/>
            <p:nvPr/>
          </p:nvPicPr>
          <p:blipFill>
            <a:blip r:embed="rId6"/>
            <a:stretch/>
          </p:blipFill>
          <p:spPr>
            <a:xfrm flipH="1">
              <a:off x="3989160" y="3494160"/>
              <a:ext cx="95400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7"/>
            <a:stretch/>
          </p:blipFill>
          <p:spPr>
            <a:xfrm>
              <a:off x="3628440" y="3015360"/>
              <a:ext cx="495720" cy="3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8"/>
            <a:stretch/>
          </p:blipFill>
          <p:spPr>
            <a:xfrm rot="694800">
              <a:off x="1825560" y="2953800"/>
              <a:ext cx="450000" cy="28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9"/>
            <a:stretch/>
          </p:blipFill>
          <p:spPr>
            <a:xfrm>
              <a:off x="4664880" y="2818440"/>
              <a:ext cx="596160" cy="441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3" name=""/>
          <p:cNvSpPr/>
          <p:nvPr/>
        </p:nvSpPr>
        <p:spPr>
          <a:xfrm>
            <a:off x="2770200" y="189000"/>
            <a:ext cx="648180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仿佛听见鸟儿的欢唱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抬起头来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目光投向高远的蓝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6516720" y="-304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" dur="4011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">
                                      <p:cBhvr>
                                        <p:cTn id="25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7029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2771640" y="234936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看见了，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只鸟蛋就是两只小鸟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鸟妈妈这会儿一定焦急不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700360" y="981000"/>
            <a:ext cx="53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树杈上取下两只鸟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的鸟蛋凉凉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在手上真好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00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仿佛听见鸟儿的欢唱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抬起头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目光投向高远的蓝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771640" y="36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小心地捧着鸟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忙走到树边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地把鸟蛋送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557880" y="33336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只鸟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48360" y="4724280"/>
            <a:ext cx="1244880" cy="10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1981080" y="914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1219320"/>
            <a:ext cx="914400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凉凉的           </a:t>
            </a:r>
            <a:r>
              <a:rPr b="0" lang="zh-CN" sz="5400" spc="-1" strike="noStrike">
                <a:solidFill>
                  <a:srgbClr val="ff33cc"/>
                </a:solidFill>
                <a:latin typeface="Times New Roman"/>
              </a:rPr>
              <a:t>凉凉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9718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-380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00"/>
                </a:solidFill>
                <a:latin typeface="Times New Roman"/>
                <a:ea typeface="隶书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2987640" y="1989000"/>
            <a:ext cx="316872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9 </a:t>
            </a: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两只鸟蛋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64" name=""/>
          <p:cNvSpPr/>
          <p:nvPr/>
        </p:nvSpPr>
        <p:spPr>
          <a:xfrm>
            <a:off x="0" y="189000"/>
            <a:ext cx="56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义务教育课程标准实验教科书语文一年级下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116000" y="1197000"/>
            <a:ext cx="1828800" cy="971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6372360" y="907920"/>
            <a:ext cx="1047600" cy="9525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1763640" y="530064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3995640" y="515772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6"/>
          <a:stretch/>
        </p:blipFill>
        <p:spPr>
          <a:xfrm>
            <a:off x="5292720" y="472428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7"/>
          <a:stretch/>
        </p:blipFill>
        <p:spPr>
          <a:xfrm>
            <a:off x="8532720" y="515772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8"/>
          <a:stretch/>
        </p:blipFill>
        <p:spPr>
          <a:xfrm>
            <a:off x="2916360" y="6499080"/>
            <a:ext cx="250560" cy="358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9"/>
          <a:stretch/>
        </p:blipFill>
        <p:spPr>
          <a:xfrm>
            <a:off x="684360" y="4869000"/>
            <a:ext cx="250560" cy="35856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0"/>
          <a:stretch/>
        </p:blipFill>
        <p:spPr>
          <a:xfrm>
            <a:off x="5435640" y="616572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1"/>
          <a:stretch/>
        </p:blipFill>
        <p:spPr>
          <a:xfrm>
            <a:off x="5796000" y="5300640"/>
            <a:ext cx="250920" cy="3589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2"/>
          <a:stretch/>
        </p:blipFill>
        <p:spPr>
          <a:xfrm>
            <a:off x="2050920" y="4653000"/>
            <a:ext cx="960480" cy="10080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3"/>
          <a:stretch/>
        </p:blipFill>
        <p:spPr>
          <a:xfrm>
            <a:off x="7812000" y="189000"/>
            <a:ext cx="111456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981080" y="914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0" y="1219320"/>
            <a:ext cx="9144000" cy="58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凉凉的           </a:t>
            </a:r>
            <a:r>
              <a:rPr b="0" lang="zh-CN" sz="5400" spc="-1" strike="noStrike">
                <a:solidFill>
                  <a:srgbClr val="ff33cc"/>
                </a:solidFill>
                <a:latin typeface="Times New Roman"/>
              </a:rPr>
              <a:t>凉凉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小小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小路长长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苹果圆圆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国旗红红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29718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971800" y="-380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00"/>
                </a:solidFill>
                <a:latin typeface="Times New Roman"/>
                <a:ea typeface="隶书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48640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410080" y="50292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410080" y="5867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6576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6576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6576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6576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486400" y="297180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0" y="1219320"/>
            <a:ext cx="914400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凉凉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小小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小路长长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苹果圆圆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国旗红红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29718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971800" y="-38088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00"/>
                </a:solidFill>
                <a:latin typeface="Times New Roman"/>
                <a:ea typeface="隶书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48640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410080" y="50292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410080" y="5867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6576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6576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86400" y="2971800"/>
            <a:ext cx="3352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95960" y="109224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Times New Roman"/>
              </a:rPr>
              <a:t>凉凉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18280" y="213372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ff"/>
                </a:solidFill>
                <a:latin typeface="Times New Roman"/>
              </a:rPr>
              <a:t>小小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1981080" y="914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380880"/>
            <a:ext cx="9144000" cy="68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凉凉的           </a:t>
            </a: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凉凉的鸟蛋</a:t>
            </a: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小小的           </a:t>
            </a:r>
            <a:r>
              <a:rPr b="0" lang="zh-CN" sz="5400" spc="-1" strike="noStrike">
                <a:solidFill>
                  <a:srgbClr val="ff66ff"/>
                </a:solidFill>
                <a:latin typeface="Times New Roman"/>
              </a:rPr>
              <a:t>小小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小路长长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苹果圆圆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国旗红红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9718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95480" y="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00"/>
                </a:solidFill>
                <a:latin typeface="Times New Roman"/>
                <a:ea typeface="隶书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10080" y="50292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5867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6576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6576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6576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576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2004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长长的小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32004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1981080" y="914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80880"/>
            <a:ext cx="9144000" cy="68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凉凉的           </a:t>
            </a: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凉凉的鸟蛋</a:t>
            </a: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小小的           </a:t>
            </a:r>
            <a:r>
              <a:rPr b="0" lang="zh-CN" sz="5400" spc="-1" strike="noStrike">
                <a:solidFill>
                  <a:srgbClr val="ff66ff"/>
                </a:solidFill>
                <a:latin typeface="Times New Roman"/>
              </a:rPr>
              <a:t>小小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小路长长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苹果圆圆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国旗红红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29718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95480" y="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00"/>
                </a:solidFill>
                <a:latin typeface="Times New Roman"/>
                <a:ea typeface="隶书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48640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50292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10080" y="5867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576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6576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257800" y="3276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长长的小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334120" y="4191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圆圆的苹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86400" y="312408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1981080" y="9144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80880"/>
            <a:ext cx="9144000" cy="688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凉凉的           </a:t>
            </a: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凉凉的鸟蛋</a:t>
            </a: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鸟蛋小小的           </a:t>
            </a:r>
            <a:r>
              <a:rPr b="0" lang="zh-CN" sz="5400" spc="-1" strike="noStrike">
                <a:solidFill>
                  <a:srgbClr val="ff66ff"/>
                </a:solidFill>
                <a:latin typeface="Times New Roman"/>
              </a:rPr>
              <a:t>小小的鸟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小路长长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苹果圆圆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99"/>
                </a:solidFill>
                <a:latin typeface="Times New Roman"/>
              </a:rPr>
              <a:t>国旗红红的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971800"/>
            <a:ext cx="8763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2895480" y="0"/>
            <a:ext cx="4114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9900"/>
                </a:solidFill>
                <a:latin typeface="Times New Roman"/>
                <a:ea typeface="隶书"/>
              </a:rPr>
              <a:t>说一说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4114800"/>
            <a:ext cx="335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029200"/>
            <a:ext cx="3353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10080" y="58672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733920" y="182880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657600" y="281952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657600" y="3809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657600" y="48769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657600" y="58672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3276720"/>
            <a:ext cx="388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长长的小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334120" y="419112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圆圆的苹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334120" y="5029200"/>
            <a:ext cx="3809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ff"/>
                </a:solidFill>
                <a:latin typeface="Times New Roman"/>
              </a:rPr>
              <a:t>红红的国旗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2004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85440" cy="711828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 txBox="1"/>
          <p:nvPr/>
        </p:nvSpPr>
        <p:spPr>
          <a:xfrm>
            <a:off x="250920" y="1844640"/>
            <a:ext cx="252072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 </a:t>
            </a:r>
            <a:r>
              <a:rPr b="0" lang="zh-CN" sz="1800" spc="1" strike="noStrike">
                <a:ln w="12600">
                  <a:solidFill>
                    <a:srgbClr val="ffff66"/>
                  </a:solidFill>
                  <a:miter/>
                </a:ln>
                <a:solidFill>
                  <a:srgbClr val="ff66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我会写</a:t>
            </a:r>
            <a:endParaRPr b="0" lang="en-US" sz="1800" spc="1" strike="noStrike">
              <a:ln w="12600">
                <a:solidFill>
                  <a:srgbClr val="ffff66"/>
                </a:solidFill>
                <a:miter/>
              </a:ln>
              <a:solidFill>
                <a:srgbClr val="ff66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39640" y="3573360"/>
            <a:ext cx="2303640" cy="2232000"/>
            <a:chOff x="539640" y="3573360"/>
            <a:chExt cx="2303640" cy="2232000"/>
          </a:xfrm>
        </p:grpSpPr>
        <p:sp>
          <p:nvSpPr>
            <p:cNvPr id="302" name=""/>
            <p:cNvSpPr/>
            <p:nvPr/>
          </p:nvSpPr>
          <p:spPr>
            <a:xfrm>
              <a:off x="539640" y="5805360"/>
              <a:ext cx="2303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39640" y="3573360"/>
              <a:ext cx="0" cy="223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539640" y="3573360"/>
              <a:ext cx="2303640" cy="2232000"/>
              <a:chOff x="539640" y="3573360"/>
              <a:chExt cx="2303640" cy="2232000"/>
            </a:xfrm>
          </p:grpSpPr>
          <p:sp>
            <p:nvSpPr>
              <p:cNvPr id="305" name=""/>
              <p:cNvSpPr/>
              <p:nvPr/>
            </p:nvSpPr>
            <p:spPr>
              <a:xfrm>
                <a:off x="539640" y="4626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692000" y="3573360"/>
                <a:ext cx="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" name=""/>
            <p:cNvSpPr/>
            <p:nvPr/>
          </p:nvSpPr>
          <p:spPr>
            <a:xfrm>
              <a:off x="2843280" y="3573360"/>
              <a:ext cx="0" cy="223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39640" y="3573360"/>
              <a:ext cx="2303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"/>
          <p:cNvGrpSpPr/>
          <p:nvPr/>
        </p:nvGrpSpPr>
        <p:grpSpPr>
          <a:xfrm>
            <a:off x="3348000" y="3573360"/>
            <a:ext cx="2303640" cy="2232000"/>
            <a:chOff x="3348000" y="3573360"/>
            <a:chExt cx="2303640" cy="2232000"/>
          </a:xfrm>
        </p:grpSpPr>
        <p:sp>
          <p:nvSpPr>
            <p:cNvPr id="310" name=""/>
            <p:cNvSpPr/>
            <p:nvPr/>
          </p:nvSpPr>
          <p:spPr>
            <a:xfrm>
              <a:off x="3348000" y="5805360"/>
              <a:ext cx="2303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48000" y="3573360"/>
              <a:ext cx="0" cy="223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3348000" y="3573360"/>
              <a:ext cx="2303640" cy="2232000"/>
              <a:chOff x="3348000" y="3573360"/>
              <a:chExt cx="2303640" cy="2232000"/>
            </a:xfrm>
          </p:grpSpPr>
          <p:sp>
            <p:nvSpPr>
              <p:cNvPr id="313" name=""/>
              <p:cNvSpPr/>
              <p:nvPr/>
            </p:nvSpPr>
            <p:spPr>
              <a:xfrm>
                <a:off x="3348000" y="4626360"/>
                <a:ext cx="2303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500360" y="3573360"/>
                <a:ext cx="0" cy="2232000"/>
              </a:xfrm>
              <a:prstGeom prst="line">
                <a:avLst/>
              </a:prstGeom>
              <a:ln cap="rnd" w="381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5651640" y="3573360"/>
              <a:ext cx="0" cy="223200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48000" y="3573360"/>
              <a:ext cx="23036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606600" y="2421000"/>
            <a:ext cx="2035440" cy="3168720"/>
            <a:chOff x="606600" y="2421000"/>
            <a:chExt cx="2035440" cy="3168720"/>
          </a:xfrm>
        </p:grpSpPr>
        <p:sp>
          <p:nvSpPr>
            <p:cNvPr id="318" name=""/>
            <p:cNvSpPr txBox="1"/>
            <p:nvPr/>
          </p:nvSpPr>
          <p:spPr>
            <a:xfrm>
              <a:off x="971640" y="3860640"/>
              <a:ext cx="1512720" cy="1729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听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06600" y="2421000"/>
              <a:ext cx="2035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宋体"/>
                </a:rPr>
                <a:t>tīnɡ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"/>
          <p:cNvGrpSpPr/>
          <p:nvPr/>
        </p:nvGrpSpPr>
        <p:grpSpPr>
          <a:xfrm>
            <a:off x="3028680" y="2349360"/>
            <a:ext cx="2981880" cy="3167280"/>
            <a:chOff x="3028680" y="2349360"/>
            <a:chExt cx="2981880" cy="3167280"/>
          </a:xfrm>
        </p:grpSpPr>
        <p:sp>
          <p:nvSpPr>
            <p:cNvPr id="321" name=""/>
            <p:cNvSpPr txBox="1"/>
            <p:nvPr/>
          </p:nvSpPr>
          <p:spPr>
            <a:xfrm>
              <a:off x="3708360" y="3860640"/>
              <a:ext cx="1440000" cy="165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0000"/>
                  </a:solidFill>
                  <a:latin typeface="楷体_GB2312"/>
                </a:rPr>
                <a:t>唱</a:t>
              </a:r>
              <a:endPara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楷体_GB2312"/>
                <a:ea typeface="楷体_GB2312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028680" y="2349360"/>
              <a:ext cx="29818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7200" spc="-1" strike="noStrike">
                  <a:solidFill>
                    <a:srgbClr val="0000ff"/>
                  </a:solidFill>
                  <a:latin typeface="宋体"/>
                </a:rPr>
                <a:t>chànɡ</a:t>
              </a:r>
              <a:endParaRPr b="0" lang="en-US" sz="7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F%B3%E4%B9%9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500"/>
                            </p:stCondLst>
                            <p:childTnLst>
                              <p:par>
                                <p:cTn id="27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2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648720" cy="70293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2771640" y="2349360"/>
            <a:ext cx="531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妈妈（　　　），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两只鸟蛋（　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鸟妈妈这会儿（　　　　　）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700360" y="981000"/>
            <a:ext cx="531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从树杈上（     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小的（               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拿在手上（          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501336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仿佛（　　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抬起头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把目光（　　　　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71640" y="364500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（　　　　　）鸟蛋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连忙（　　　　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轻轻地（　　　　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57880" y="333360"/>
            <a:ext cx="15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9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两只鸟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48360" y="4724280"/>
            <a:ext cx="1244880" cy="105408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 rot="5400000">
            <a:off x="503280" y="1807560"/>
            <a:ext cx="215892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隶书"/>
              </a:rPr>
              <a:t>我会背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隶书"/>
              <a:ea typeface="隶书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B8%9F30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03640" y="1557360"/>
            <a:ext cx="4321080" cy="12952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5950080"/>
            <a:ext cx="626436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8991720" y="6553080"/>
            <a:ext cx="304560" cy="304920"/>
          </a:xfrm>
          <a:prstGeom prst="rect">
            <a:avLst/>
          </a:prstGeom>
          <a:ln w="0">
            <a:noFill/>
          </a:ln>
        </p:spPr>
      </p:pic>
      <p:grpSp>
        <p:nvGrpSpPr>
          <p:cNvPr id="335" name=""/>
          <p:cNvGrpSpPr/>
          <p:nvPr/>
        </p:nvGrpSpPr>
        <p:grpSpPr>
          <a:xfrm>
            <a:off x="3780000" y="1197000"/>
            <a:ext cx="4824360" cy="1368360"/>
            <a:chOff x="3780000" y="1197000"/>
            <a:chExt cx="4824360" cy="1368360"/>
          </a:xfrm>
        </p:grpSpPr>
        <p:sp>
          <p:nvSpPr>
            <p:cNvPr id="336" name=""/>
            <p:cNvSpPr txBox="1"/>
            <p:nvPr/>
          </p:nvSpPr>
          <p:spPr>
            <a:xfrm>
              <a:off x="3780000" y="1989000"/>
              <a:ext cx="337788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小朋友们再见</a:t>
              </a:r>
              <a:endParaRPr b="0" lang="en-US" sz="3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337" name="" descr=""/>
            <p:cNvPicPr/>
            <p:nvPr/>
          </p:nvPicPr>
          <p:blipFill>
            <a:blip r:embed="rId3"/>
            <a:stretch/>
          </p:blipFill>
          <p:spPr>
            <a:xfrm>
              <a:off x="7380360" y="1197000"/>
              <a:ext cx="1224000" cy="1123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8" dur="31703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1440"/>
              <a:ext cx="9144000" cy="685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7315200" y="0"/>
              <a:ext cx="1828800" cy="53352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 txBox="1"/>
            <p:nvPr/>
          </p:nvSpPr>
          <p:spPr>
            <a:xfrm>
              <a:off x="3851280" y="549360"/>
              <a:ext cx="237636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ff0000"/>
                  </a:soli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我会读</a:t>
              </a:r>
              <a:endParaRPr b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  <p:pic>
          <p:nvPicPr>
            <p:cNvPr id="81" name="" descr=""/>
            <p:cNvPicPr/>
            <p:nvPr/>
          </p:nvPicPr>
          <p:blipFill>
            <a:blip r:embed="rId2"/>
            <a:stretch/>
          </p:blipFill>
          <p:spPr>
            <a:xfrm>
              <a:off x="380880" y="6126120"/>
              <a:ext cx="8458200" cy="731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948360" y="4508640"/>
            <a:ext cx="1524240" cy="14508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294080" y="17002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取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06800" y="162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凉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766600" y="26370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94080" y="2637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捧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78080" y="2637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连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11160" y="357336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轻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222440" y="364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仿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06800" y="364500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抬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11160" y="4508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投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411280" y="1700280"/>
            <a:ext cx="144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NATUR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-609480" y="-1828800"/>
            <a:ext cx="10134360" cy="101156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80880" y="1676520"/>
            <a:ext cx="9982440" cy="55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捧着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小心地捧着鸟蛋。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轻轻地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轻轻地把鸟蛋送还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仿佛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仿佛听见鸟儿的欢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</a:rPr>
              <a:t>投向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我把目光投向高远的蓝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0"/>
            <a:ext cx="5029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9900"/>
                </a:solidFill>
                <a:latin typeface="Times New Roman"/>
              </a:rPr>
              <a:t>我会读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3635280" y="1484280"/>
            <a:ext cx="244800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边听边想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0" name=""/>
          <p:cNvSpPr/>
          <p:nvPr/>
        </p:nvSpPr>
        <p:spPr>
          <a:xfrm>
            <a:off x="2216520" y="2492280"/>
            <a:ext cx="484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　鸟蛋本来好好地躺在鸟窝里的，后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呢？最后又回到哪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 rot="861000">
            <a:off x="6876720" y="3715920"/>
            <a:ext cx="433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  <p:sp>
        <p:nvSpPr>
          <p:cNvPr id="102" name=""/>
          <p:cNvSpPr txBox="1"/>
          <p:nvPr/>
        </p:nvSpPr>
        <p:spPr>
          <a:xfrm rot="20812800">
            <a:off x="7907400" y="4209840"/>
            <a:ext cx="43344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方正姚体"/>
              </a:rPr>
              <a:t>？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方正姚体"/>
              <a:ea typeface="方正姚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MTC_018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539640" y="333360"/>
            <a:ext cx="860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</a:rPr>
              <a:t>小小的鸟蛋凉凉的，拿在手上真好玩。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124000" y="2852640"/>
            <a:ext cx="4824360" cy="36194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10600" y="333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小小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719320" y="33336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凉凉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48000" y="1413000"/>
            <a:ext cx="50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真好玩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%E9%9F%B3%E4%B9%9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%E9%9F%B3%E4%B9%9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%E9%9F%B3%E4%B9%9014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50000">
              <a:srgbClr val="ffffff"/>
            </a:gs>
            <a:gs pos="100000">
              <a:srgbClr val="99ff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5580000" cy="3789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763640" y="6815160"/>
            <a:ext cx="57247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358720" y="476280"/>
            <a:ext cx="51184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我从树杈上取下两只鸟蛋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小小的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鸟蛋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凉凉的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拿在手上</a:t>
            </a: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真好玩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755640" y="3070080"/>
            <a:ext cx="6481800" cy="3787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189000"/>
            <a:ext cx="10656720" cy="3420360"/>
          </a:xfrm>
          <a:prstGeom prst="rect">
            <a:avLst/>
          </a:prstGeom>
          <a:solidFill>
            <a:srgbClr val="fffff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妈妈看见了，说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两只鸟蛋就是两只小鸟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ff"/>
                </a:solidFill>
                <a:latin typeface="Arial"/>
              </a:rPr>
              <a:t>鸟妈妈这会儿一定焦急不安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124000" y="2349360"/>
            <a:ext cx="5832720" cy="116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两只鸟蛋就是两只小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9144000" y="587700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 rot="747000">
            <a:off x="6516720" y="1197000"/>
            <a:ext cx="1387440" cy="1260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 rot="20740800">
            <a:off x="4716360" y="907560"/>
            <a:ext cx="1152720" cy="10479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8991720" y="638172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96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963"/>
                            </p:stCondLst>
                            <p:childTnLst>
                              <p:par>
                                <p:cTn id="1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" dur="2058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1T08:44:46Z</dcterms:created>
  <dc:creator>FtpDown</dc:creator>
  <dc:description/>
  <dc:language>en-US</dc:language>
  <cp:lastModifiedBy>dell</cp:lastModifiedBy>
  <dcterms:modified xsi:type="dcterms:W3CDTF">2009-03-09T04:22:11Z</dcterms:modified>
  <cp:revision>33</cp:revision>
  <dc:subject/>
  <dc:title>幻灯片 1</dc:title>
</cp:coreProperties>
</file>